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D88-BCBE-45CF-98A9-65B8213B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0DD-83DA-4042-88E4-177BEAC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23B-14F9-4B75-8003-8D409985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B97-CB0D-49C6-A687-BC91ED2F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0F4-F75B-4FD2-8A5D-A74FEA0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D8C-DF2F-4419-9539-C731E31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5AA-0B16-4EE1-B55C-9BEBF16D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155-07CF-4EAA-AD7F-FFE22F1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3E2-2D15-4B36-8A85-30C1B9C2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B4A-82CA-4C04-AF93-5E6FC36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35D-EFC6-488E-9F24-CC223DB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99A-4B42-46CE-842C-84FFD5D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A76E-875D-4FCB-BB72-88F7E85EFD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785880"/>
            <a:ext cx="8358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oreceptors are stimulated by mechanical compression or stretch at the receptor or surrounding t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kin for sensing contac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bladder, blood vessels, heart, digestive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s, and teeth to sense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oreceptors are innervated by myelineated ax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6429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eceptors can be classified according to the type of stimulus i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ocu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recep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kin which are stimulated by light mechanical stimu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recep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ubcutaneous tissues which are stimulated 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ep mechanical stimu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tretch recep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keletal muscles, lungs, right atrium, urin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dder, stomach, intestine and rect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Joint recep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send information about the position and m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of the j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Auditory recep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stimulated by sound w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chanorece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pes of Mechanorecep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642960"/>
          <a:ext cx="9144000" cy="6276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42884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apta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rve fib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ation en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cutane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 , pressu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hairy 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 , light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–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ment of hai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is(hairy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ament, ten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tch,joint r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iderm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tou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tou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128592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328608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0" y="414324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0" y="507204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0" y="6072120"/>
            <a:ext cx="17859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 B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had Tami Alzahr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3010254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39:45Z</dcterms:created>
  <dc:creator>win-vista</dc:creator>
  <dc:description/>
  <dc:language>en-US</dc:language>
  <cp:lastModifiedBy>User</cp:lastModifiedBy>
  <dcterms:modified xsi:type="dcterms:W3CDTF">2012-02-20T06:43:31Z</dcterms:modified>
  <cp:revision>30</cp:revision>
  <dc:subject/>
  <dc:title>mechanoreceptors</dc:title>
</cp:coreProperties>
</file>