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1B5D-10E8-4D51-8415-93D39D90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CA15-80FA-4B1C-BAAF-3DF8B069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C55-C828-45F5-9DDA-B7DFD58C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E4E-562E-415A-A973-6BF4C5B1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EB9-1D2A-4962-90E3-E587F927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324-56C0-46E9-9A67-50F0741B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D8C2-F4B6-4E32-99B8-333482C5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B75D-D55E-462F-8A65-62E84248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9BE-D8EE-4664-A417-814BDD5D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41D-D84D-41F3-93B5-A6164282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B2F1-F674-48B2-8D4D-16F253B0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B01-75F8-4282-86D2-F4357974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5B1A-EEE9-428F-8532-2C286F49CD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chanorece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chanoreceptor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9680" y="785880"/>
            <a:ext cx="83581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oreceptors are stimulated by mechanical compression or stretch at the receptor or surrounding tissu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skin for sensing contac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worl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nd in bladder, blood vessels, heart, digestive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s, and teeth to sense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oreceptors are innervated by myelineated ax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chanorecep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3840" y="64296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Receptors can be classified according to the type of stimulus i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Tocu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recep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skin which are stimulated by light mechanical stimul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Pres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recep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subcutaneous tissues which are stimulated b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ep mechanical stimul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Stretch recep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skeletal muscles, lungs, right atrium, urina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adder, stomach, intestine and rect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Joint receptor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ch send information about the position and m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of the jo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Auditory recepto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are stimulated by sound w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Mechanorecep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ypes of Mechanorecep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642960"/>
          <a:ext cx="9144000" cy="6276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428840"/>
                <a:gridCol w="222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aptatio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catio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rve fiber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nsation enco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rapid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cutaneo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 , pressur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id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m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hairy  sk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bration , light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9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id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ry sk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–del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ement of hai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w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mis(hairy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ament, tend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tch,joint ro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8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w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idermi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hairy sk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 tou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9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wl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ry sk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-de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ht tou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128592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328608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4"/>
          <a:stretch/>
        </p:blipFill>
        <p:spPr>
          <a:xfrm>
            <a:off x="0" y="414324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5"/>
          <a:stretch/>
        </p:blipFill>
        <p:spPr>
          <a:xfrm>
            <a:off x="0" y="5072040"/>
            <a:ext cx="1785960" cy="9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6"/>
          <a:stretch/>
        </p:blipFill>
        <p:spPr>
          <a:xfrm>
            <a:off x="0" y="6072120"/>
            <a:ext cx="17859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E B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had Tami Alzahr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3010254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5:39:45Z</dcterms:created>
  <dc:creator>win-vista</dc:creator>
  <dc:description/>
  <dc:language>en-US</dc:language>
  <cp:lastModifiedBy>User</cp:lastModifiedBy>
  <dcterms:modified xsi:type="dcterms:W3CDTF">2012-02-20T06:43:31Z</dcterms:modified>
  <cp:revision>30</cp:revision>
  <dc:subject/>
  <dc:title>mechanoreceptors</dc:title>
</cp:coreProperties>
</file>