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B05-3D7C-40D9-8E69-273C1C8A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6BF-9DD0-45D3-8E20-AA7C1008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E7F-A3AF-469C-A8B0-0C43336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81A-1D41-41FC-9980-AC9DB7C6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A93A-E725-46C5-BA3C-9665848A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E911-EB7C-4258-AC34-836B56BE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835C-B858-4272-94E2-B7ADE234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8752-203A-43CC-BC7C-7F0D1457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63E7-855D-4EEE-AECD-B668E9FA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6C7-DE9C-41BA-9838-667D874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AD7D-462A-4247-A4A1-42EAE40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3C00-4B1D-4C33-90F0-6308F5D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83F3-04C1-48B8-B00C-609F46F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CA32-0AFE-4211-8F68-D1BE75B9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54BC-F0BE-4143-985D-C207C1BE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BCB4-8444-456F-B1FF-82F33337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691-08CA-4AA5-BC11-EC1B5939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F59-2989-4326-BEE9-1F67D26E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3A9-C1A7-4BED-A04F-3A67507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1C8-6B40-4741-B7A1-C38B3D8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E1A7-5D12-419A-A73E-252B7B3D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1C9-13AC-40E0-9E34-CBD6B76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D36-C254-45C5-82B7-A501EB5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07B-BC78-41D1-B49E-29CF020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BBA4-4F75-47F4-828C-10D949D12B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42C-532B-4866-B88D-C2F0175D7E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xqFQoTCOKGqdOo3scCFUc5FAodXOkPzA&amp;url=https%3A%2F%2Fen.wikipedia.org%2Fwiki%2FMacConkey_agar&amp;psig=AFQjCNHCdPDZ05tgGRw2uYcb_C-82jQBHw&amp;ust=1441488186616776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2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3" Type="http://schemas.openxmlformats.org/officeDocument/2006/relationships/hyperlink" Target="https://www.google.com.sa/url?sa=i&amp;rct=j&amp;q=&amp;esrc=s&amp;source=images&amp;cd=&amp;cad=rja&amp;uact=8&amp;ved=0CAcQjRxqFQoTCPqqysip3scCFYG_FAodmnsC2A&amp;url=https%3A%2F%2Fen.wikipedia.org%2Fwiki%2FGrowth_medium&amp;psig=AFQjCNEt6_D7tpug4vXo0t8rNFSY_Xn9mA&amp;ust=1441488566308447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Comic Sans MS"/>
              </a:rPr>
              <a:t>Culture Media 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9" name="Picture 4" descr="C:\Users\ihab moussa\Pictures\Laboratory safety\media 1.png"/>
          <p:cNvPicPr/>
          <p:nvPr/>
        </p:nvPicPr>
        <p:blipFill>
          <a:blip r:embed="rId1"/>
          <a:stretch/>
        </p:blipFill>
        <p:spPr>
          <a:xfrm>
            <a:off x="1219320" y="2895480"/>
            <a:ext cx="7238880" cy="3800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559640" y="0"/>
            <a:ext cx="1584360" cy="14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2050920" cy="1484280"/>
          </a:xfrm>
          <a:prstGeom prst="rect">
            <a:avLst/>
          </a:prstGeom>
          <a:ln w="0">
            <a:noFill/>
          </a:ln>
        </p:spPr>
      </p:pic>
      <p:sp>
        <p:nvSpPr>
          <p:cNvPr id="92" name="Rounded Rectangle 5"/>
          <p:cNvSpPr/>
          <p:nvPr/>
        </p:nvSpPr>
        <p:spPr>
          <a:xfrm>
            <a:off x="1523880" y="1828800"/>
            <a:ext cx="6096240" cy="99072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Times New Roman"/>
              </a:rPr>
              <a:t>Prof. Dr. Ihab Mous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Selective Media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bstances added to a solid media to favour the growth of wanted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MacConkey agar med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8" descr="https://upload.wikimedia.org/wikipedia/commons/e/e7/MacConkey_agar_with_LF_and_LF_coloni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3429000"/>
            <a:ext cx="65530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image.slidesharecdn.com/bacterialculturemedia-141201084912-conversion-gate01/95/bacterial-culture-media-34-638.jpg?cb=1417424220"/>
          <p:cNvPicPr/>
          <p:nvPr/>
        </p:nvPicPr>
        <p:blipFill>
          <a:blip r:embed="rId1"/>
          <a:stretch/>
        </p:blipFill>
        <p:spPr>
          <a:xfrm>
            <a:off x="228600" y="1295280"/>
            <a:ext cx="8534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Indicator Media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ange in the colour of indicator with the growth of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Sulphite in Wilson Blair media               for Salmonella typh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tellurite agar"/>
          <p:cNvPicPr/>
          <p:nvPr/>
        </p:nvPicPr>
        <p:blipFill>
          <a:blip r:embed="rId1"/>
          <a:stretch/>
        </p:blipFill>
        <p:spPr>
          <a:xfrm>
            <a:off x="2057400" y="3962520"/>
            <a:ext cx="4876920" cy="259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C:\Users\ihab moussa\Pictures\untitled KSU.bmp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Differential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bring out differing characteristics of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MacConkey’s ag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8" descr="https://upload.wikimedia.org/wikipedia/commons/e/e7/MacConkey_agar_with_LF_and_LF_colonies.jpg"/>
          <p:cNvPicPr/>
          <p:nvPr/>
        </p:nvPicPr>
        <p:blipFill>
          <a:blip r:embed="rId1"/>
          <a:stretch/>
        </p:blipFill>
        <p:spPr>
          <a:xfrm>
            <a:off x="1371600" y="3124080"/>
            <a:ext cx="655308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ihab moussa\Pictures\untitled KSU.bmp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ct 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r Ekta, Microbiology, GM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Composite 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identification of isol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 Triple Sugar I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Comic Sans MS"/>
              </a:rPr>
              <a:t>Transport 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delicate org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lay in tran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 Stuart’s transport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4952880" y="2057400"/>
          <a:ext cx="38102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2057400"/>
                    <a:ext cx="38102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ulture  Medi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dications/ Need for cultur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solate bacteria in pure cult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monstrate their proper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btain sufficient growth for preparation of antigens &amp; for other te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yping bacterial isol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ntibiotic sensitiv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stimate viable cou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 stock cult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05092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lassification of Me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Based on the consistenc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l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sol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iquid 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6" descr="C:\Users\ihab moussa\Pictures\Laboratory safety\media 3.png"/>
          <p:cNvPicPr/>
          <p:nvPr/>
        </p:nvPicPr>
        <p:blipFill>
          <a:blip r:embed="rId1"/>
          <a:stretch/>
        </p:blipFill>
        <p:spPr>
          <a:xfrm>
            <a:off x="152280" y="4495680"/>
            <a:ext cx="2895840" cy="2362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:\Users\ihab moussa\Pictures\Laboratory safety\media 4.jpg"/>
          <p:cNvPicPr/>
          <p:nvPr/>
        </p:nvPicPr>
        <p:blipFill>
          <a:blip r:embed="rId2"/>
          <a:stretch/>
        </p:blipFill>
        <p:spPr>
          <a:xfrm>
            <a:off x="6781680" y="46483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lassificatio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Based on the function or property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Simpl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nriched media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Enrichment br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Selectiv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Indicator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Differential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Composite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Transport 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Comic Sans MS"/>
              </a:rPr>
              <a:t>Constituents Of Me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ar or agar- a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ptone - mixture of partially digested prote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east or meat ex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lting point : 98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lidifying point : 42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% of agar : Solid media (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Simple Media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so called Basal med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commonly used in routine lab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Nutrient broth, 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29" descr="Nutrient%20Agar"/>
          <p:cNvPicPr/>
          <p:nvPr/>
        </p:nvPicPr>
        <p:blipFill>
          <a:blip r:embed="rId1"/>
          <a:stretch/>
        </p:blipFill>
        <p:spPr>
          <a:xfrm>
            <a:off x="0" y="4475160"/>
            <a:ext cx="3124080" cy="238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31" descr="Escherichia%20coli"/>
          <p:cNvPicPr/>
          <p:nvPr/>
        </p:nvPicPr>
        <p:blipFill>
          <a:blip r:embed="rId2"/>
          <a:stretch/>
        </p:blipFill>
        <p:spPr>
          <a:xfrm>
            <a:off x="6095880" y="4543560"/>
            <a:ext cx="3048120" cy="2314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Comic Sans MS"/>
              </a:rPr>
              <a:t>Enriched Med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lood, serum or egg added to the basal med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grow bacteria which are more exacting in nutritional requirem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Blood Agar, Chocolate A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6" descr="5% Sheep's Blood Agar"/>
          <p:cNvPicPr/>
          <p:nvPr/>
        </p:nvPicPr>
        <p:blipFill>
          <a:blip r:embed="rId1"/>
          <a:stretch/>
        </p:blipFill>
        <p:spPr>
          <a:xfrm>
            <a:off x="0" y="5105520"/>
            <a:ext cx="259092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hocolate Agar"/>
          <p:cNvPicPr/>
          <p:nvPr/>
        </p:nvPicPr>
        <p:blipFill>
          <a:blip r:embed="rId2"/>
          <a:stretch/>
        </p:blipFill>
        <p:spPr>
          <a:xfrm>
            <a:off x="6324480" y="510552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ihab moussa\Pictures\untitled KSU.bmp"/>
          <p:cNvPicPr/>
          <p:nvPr/>
        </p:nvPicPr>
        <p:blipFill>
          <a:blip r:embed="rId4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>
            <a:hlinkClick r:id="rId1"/>
          </p:cNvPr>
          <p:cNvSpPr/>
          <p:nvPr/>
        </p:nvSpPr>
        <p:spPr>
          <a:xfrm>
            <a:off x="54000" y="-2019240"/>
            <a:ext cx="66387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4">
            <a:hlinkClick r:id="rId2"/>
          </p:cNvPr>
          <p:cNvSpPr/>
          <p:nvPr/>
        </p:nvSpPr>
        <p:spPr>
          <a:xfrm>
            <a:off x="54000" y="-2019240"/>
            <a:ext cx="663876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https://upload.wikimedia.org/wikipedia/commons/5/56/Agarplate_redbloodcells_ed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219320"/>
            <a:ext cx="807732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Blood Agar Med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Enrichment Broth (media)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mixed cultures or materials containing more than one bacter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ains substances which  stimulates wanted bacteria &amp; inhibits unwanted bacter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 Tetrathionate br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Users\ihab moussa\Pictures\untitled KSU.bmp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52:22Z</dcterms:created>
  <dc:creator>micro</dc:creator>
  <dc:description/>
  <dc:language>en-US</dc:language>
  <cp:lastModifiedBy>ihab moussa</cp:lastModifiedBy>
  <dcterms:modified xsi:type="dcterms:W3CDTF">2016-03-02T18:29:39Z</dcterms:modified>
  <cp:revision>25</cp:revision>
  <dc:subject/>
  <dc:title>Culture Media  &amp;  Culture Techniques</dc:title>
</cp:coreProperties>
</file>