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F46-7F78-4D0A-93C8-C4540B9F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9D4-7516-4DBE-B4A3-3FC97CC8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6E5-C815-4837-8E85-AD969A35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F54-7E12-445B-92B0-A313D51D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4D61-CFD0-4F99-89E9-8AAD1EDB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3B07-BCF5-40D3-9685-22F15030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B310-8733-4646-B0E6-A6B596A6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154A-741B-4390-86D7-685DA98E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49C4-AB7D-4078-B5C9-86B05D49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E62A-700E-4547-81F3-6B239B51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DAD3-D129-4D83-9907-70702A40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742A-5AE4-41FB-BEDA-30F39068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5B0D-75B3-42C2-B1D1-7212651D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C12A-FF5A-4185-9882-F309F47A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C265-2574-4CD0-A04E-2D7B6D7B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5EA6-961D-4F13-9A96-3686F0F6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AB2D-9919-4D3A-BB7B-B270B726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FB3-8ED3-42D1-92C7-2BF2BD29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C5EB-807B-4EFA-8ACF-9E45AB21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203-463D-4CEE-80B1-80C39418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019-9FA3-4FE5-A11A-D857AC9E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9ED-3D85-461A-9423-1F4A5397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0E0-0DEA-47D8-BDD8-C1F56729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374-7FAD-45E6-9D91-145D1468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 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 Ekta, Microbiology, GM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75CC-DE31-44F2-807A-911F44C819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 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 Ekta, Microbiology, GM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741F-577C-4568-9E6D-5F8E1694E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google.com.sa/url?sa=i&amp;rct=j&amp;q=&amp;esrc=s&amp;source=images&amp;cd=&amp;cad=rja&amp;uact=8&amp;ved=0CAcQjRxqFQoTCOKGqdOo3scCFUc5FAodXOkPzA&amp;url=https%3A%2F%2Fen.wikipedia.org%2Fwiki%2FMacConkey_agar&amp;psig=AFQjCNHCdPDZ05tgGRw2uYcb_C-82jQBHw&amp;ust=1441488186616776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google.com.sa/url?sa=i&amp;rct=j&amp;q=&amp;esrc=s&amp;source=images&amp;cd=&amp;cad=rja&amp;uact=8&amp;ved=0CAcQjRxqFQoTCPqqysip3scCFYG_FAodmnsC2A&amp;url=https%3A%2F%2Fen.wikipedia.org%2Fwiki%2FGrowth_medium&amp;psig=AFQjCNEt6_D7tpug4vXo0t8rNFSY_Xn9mA&amp;ust=1441488566308447" TargetMode="External"/><Relationship Id="rId2" Type="http://schemas.openxmlformats.org/officeDocument/2006/relationships/hyperlink" Target="https://www.google.com.sa/url?sa=i&amp;rct=j&amp;q=&amp;esrc=s&amp;source=images&amp;cd=&amp;cad=rja&amp;uact=8&amp;ved=0CAcQjRxqFQoTCPqqysip3scCFYG_FAodmnsC2A&amp;url=https%3A%2F%2Fen.wikipedia.org%2Fwiki%2FGrowth_medium&amp;psig=AFQjCNEt6_D7tpug4vXo0t8rNFSY_Xn9mA&amp;ust=1441488566308447" TargetMode="External"/><Relationship Id="rId3" Type="http://schemas.openxmlformats.org/officeDocument/2006/relationships/hyperlink" Target="https://www.google.com.sa/url?sa=i&amp;rct=j&amp;q=&amp;esrc=s&amp;source=images&amp;cd=&amp;cad=rja&amp;uact=8&amp;ved=0CAcQjRxqFQoTCPqqysip3scCFYG_FAodmnsC2A&amp;url=https%3A%2F%2Fen.wikipedia.org%2Fwiki%2FGrowth_medium&amp;psig=AFQjCNEt6_D7tpug4vXo0t8rNFSY_Xn9mA&amp;ust=1441488566308447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Comic Sans MS"/>
              </a:rPr>
              <a:t>Culture Media 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9" name="Picture 4" descr="C:\Users\ihab moussa\Pictures\Laboratory safety\media 1.png"/>
          <p:cNvPicPr/>
          <p:nvPr/>
        </p:nvPicPr>
        <p:blipFill>
          <a:blip r:embed="rId1"/>
          <a:stretch/>
        </p:blipFill>
        <p:spPr>
          <a:xfrm>
            <a:off x="1219320" y="2895480"/>
            <a:ext cx="7238880" cy="3800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ihab moussa\Pictures\untitled KSU.bmp"/>
          <p:cNvPicPr/>
          <p:nvPr/>
        </p:nvPicPr>
        <p:blipFill>
          <a:blip r:embed="rId2"/>
          <a:stretch/>
        </p:blipFill>
        <p:spPr>
          <a:xfrm>
            <a:off x="7559640" y="0"/>
            <a:ext cx="1584360" cy="141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2050920" cy="1484280"/>
          </a:xfrm>
          <a:prstGeom prst="rect">
            <a:avLst/>
          </a:prstGeom>
          <a:ln w="0">
            <a:noFill/>
          </a:ln>
        </p:spPr>
      </p:pic>
      <p:sp>
        <p:nvSpPr>
          <p:cNvPr id="92" name="Rounded Rectangle 5"/>
          <p:cNvSpPr/>
          <p:nvPr/>
        </p:nvSpPr>
        <p:spPr>
          <a:xfrm>
            <a:off x="1523880" y="1828800"/>
            <a:ext cx="6096240" cy="990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imes New Roman"/>
              </a:rPr>
              <a:t>Prof. Dr. Ihab Mouss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Selective Media 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bstances added to a solid media to favour the growth of wanted bac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 MacConkey agar med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8" descr="https://upload.wikimedia.org/wikipedia/commons/e/e7/MacConkey_agar_with_LF_and_LF_coloni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3429000"/>
            <a:ext cx="655308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:\Users\ihab moussa\Pictures\untitled KSU.bmp"/>
          <p:cNvPicPr/>
          <p:nvPr/>
        </p:nvPicPr>
        <p:blipFill>
          <a:blip r:embed="rId4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image.slidesharecdn.com/bacterialculturemedia-141201084912-conversion-gate01/95/bacterial-culture-media-34-638.jpg?cb=1417424220"/>
          <p:cNvPicPr/>
          <p:nvPr/>
        </p:nvPicPr>
        <p:blipFill>
          <a:blip r:embed="rId1"/>
          <a:stretch/>
        </p:blipFill>
        <p:spPr>
          <a:xfrm>
            <a:off x="228600" y="1295280"/>
            <a:ext cx="8534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Indicator Media 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ange in the colour of indicator with the growth of bac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 Sulphite in Wilson Blair media               for Salmonella typh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5" descr="tellurite agar"/>
          <p:cNvPicPr/>
          <p:nvPr/>
        </p:nvPicPr>
        <p:blipFill>
          <a:blip r:embed="rId1"/>
          <a:stretch/>
        </p:blipFill>
        <p:spPr>
          <a:xfrm>
            <a:off x="2057400" y="3962520"/>
            <a:ext cx="4876920" cy="2590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C:\Users\ihab moussa\Pictures\untitled KSU.bmp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Differential Media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bring out differing characteristics of bac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 MacConkey’s ag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8" descr="https://upload.wikimedia.org/wikipedia/commons/e/e7/MacConkey_agar_with_LF_and_LF_colonies.jpg"/>
          <p:cNvPicPr/>
          <p:nvPr/>
        </p:nvPicPr>
        <p:blipFill>
          <a:blip r:embed="rId1"/>
          <a:stretch/>
        </p:blipFill>
        <p:spPr>
          <a:xfrm>
            <a:off x="1371600" y="3124080"/>
            <a:ext cx="6553080" cy="3429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C:\Users\ihab moussa\Pictures\untitled KSU.bmp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 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 Ekta, Microbiology, GM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Composite  Media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identification of isol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 Triple Sugar I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Comic Sans MS"/>
              </a:rPr>
              <a:t>Transport  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delicate organis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lay in trans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 Stuart’s transport 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2"/>
          <p:cNvGraphicFramePr/>
          <p:nvPr/>
        </p:nvGraphicFramePr>
        <p:xfrm>
          <a:off x="4952880" y="2057400"/>
          <a:ext cx="38102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057400"/>
                    <a:ext cx="38102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C:\Users\ihab moussa\Pictures\untitled KSU.bmp"/>
          <p:cNvPicPr/>
          <p:nvPr/>
        </p:nvPicPr>
        <p:blipFill>
          <a:blip r:embed="rId4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Comic Sans MS"/>
              </a:rPr>
              <a:t>Culture  Medi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dications/ Need for culture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solate bacteria in pure cult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monstrate their proper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btain sufficient growth for preparation of antigens &amp; for other te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yping bacterial isola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tibiotic sensitiv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timate viable cou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intain stock cult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05092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C:\Users\ihab moussa\Pictures\untitled KSU.bmp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Comic Sans MS"/>
              </a:rPr>
              <a:t>Classification of Med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Based on the consistenc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olid me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solid me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quid me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6" descr="C:\Users\ihab moussa\Pictures\Laboratory safety\media 3.png"/>
          <p:cNvPicPr/>
          <p:nvPr/>
        </p:nvPicPr>
        <p:blipFill>
          <a:blip r:embed="rId1"/>
          <a:stretch/>
        </p:blipFill>
        <p:spPr>
          <a:xfrm>
            <a:off x="152280" y="4495680"/>
            <a:ext cx="2895840" cy="2362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:\Users\ihab moussa\Pictures\Laboratory safety\media 4.jpg"/>
          <p:cNvPicPr/>
          <p:nvPr/>
        </p:nvPicPr>
        <p:blipFill>
          <a:blip r:embed="rId2"/>
          <a:stretch/>
        </p:blipFill>
        <p:spPr>
          <a:xfrm>
            <a:off x="6781680" y="46483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C:\Users\ihab moussa\Pictures\untitled KSU.bmp"/>
          <p:cNvPicPr/>
          <p:nvPr/>
        </p:nvPicPr>
        <p:blipFill>
          <a:blip r:embed="rId4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Comic Sans MS"/>
              </a:rPr>
              <a:t>Classificatio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Based on the function or property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Simple me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Enriched media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Enrichment br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Selective me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Indicator me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Differential me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Composite me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Transport me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C:\Users\ihab moussa\Pictures\untitled KSU.bmp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Comic Sans MS"/>
              </a:rPr>
              <a:t>Constituents Of Med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gar or agar- a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eptone - mixture of partially digested prote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east or meat ex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elting point : 98°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olidifying point : 42°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% of agar : Solid media (2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:\Users\ihab moussa\Pictures\untitled KSU.bmp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Simple Media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so called Basal mediu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st commonly used in routine la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 Nutrient broth, 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1029" descr="Nutrient%20Agar"/>
          <p:cNvPicPr/>
          <p:nvPr/>
        </p:nvPicPr>
        <p:blipFill>
          <a:blip r:embed="rId1"/>
          <a:stretch/>
        </p:blipFill>
        <p:spPr>
          <a:xfrm>
            <a:off x="0" y="4475160"/>
            <a:ext cx="3124080" cy="2382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31" descr="Escherichia%20coli"/>
          <p:cNvPicPr/>
          <p:nvPr/>
        </p:nvPicPr>
        <p:blipFill>
          <a:blip r:embed="rId2"/>
          <a:stretch/>
        </p:blipFill>
        <p:spPr>
          <a:xfrm>
            <a:off x="6095880" y="4543560"/>
            <a:ext cx="3048120" cy="2314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C:\Users\ihab moussa\Pictures\untitled KSU.bmp"/>
          <p:cNvPicPr/>
          <p:nvPr/>
        </p:nvPicPr>
        <p:blipFill>
          <a:blip r:embed="rId4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Comic Sans MS"/>
              </a:rPr>
              <a:t>Enriched Medi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lood, serum or egg added to the basal medi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grow bacteria which are more exacting in nutritional require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 Blood Agar, Chocolate A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6" descr="5% Sheep's Blood Agar"/>
          <p:cNvPicPr/>
          <p:nvPr/>
        </p:nvPicPr>
        <p:blipFill>
          <a:blip r:embed="rId1"/>
          <a:stretch/>
        </p:blipFill>
        <p:spPr>
          <a:xfrm>
            <a:off x="0" y="5105520"/>
            <a:ext cx="259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hocolate Agar"/>
          <p:cNvPicPr/>
          <p:nvPr/>
        </p:nvPicPr>
        <p:blipFill>
          <a:blip r:embed="rId2"/>
          <a:stretch/>
        </p:blipFill>
        <p:spPr>
          <a:xfrm>
            <a:off x="6324480" y="5105520"/>
            <a:ext cx="2819520" cy="1752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C:\Users\ihab moussa\Pictures\untitled KSU.bmp"/>
          <p:cNvPicPr/>
          <p:nvPr/>
        </p:nvPicPr>
        <p:blipFill>
          <a:blip r:embed="rId4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>
            <a:hlinkClick r:id="rId1"/>
          </p:cNvPr>
          <p:cNvSpPr/>
          <p:nvPr/>
        </p:nvSpPr>
        <p:spPr>
          <a:xfrm>
            <a:off x="54000" y="-2019240"/>
            <a:ext cx="66387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4">
            <a:hlinkClick r:id="rId2"/>
          </p:cNvPr>
          <p:cNvSpPr/>
          <p:nvPr/>
        </p:nvSpPr>
        <p:spPr>
          <a:xfrm>
            <a:off x="54000" y="-2019240"/>
            <a:ext cx="66387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https://upload.wikimedia.org/wikipedia/commons/5/56/Agarplate_redbloodcells_edi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219320"/>
            <a:ext cx="8077320" cy="51814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Blood Agar Medi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Enrichment Broth (media)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mixed cultures or materials containing more than one bacteri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tains substances which  stimulates wanted bacteria &amp; inhibits unwanted bac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 Tetrathionate br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C:\Users\ihab moussa\Pictures\untitled KSU.bmp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52:22Z</dcterms:created>
  <dc:creator>micro</dc:creator>
  <dc:description/>
  <dc:language>en-US</dc:language>
  <cp:lastModifiedBy>ihab moussa</cp:lastModifiedBy>
  <dcterms:modified xsi:type="dcterms:W3CDTF">2016-03-02T18:29:39Z</dcterms:modified>
  <cp:revision>25</cp:revision>
  <dc:subject/>
  <dc:title>Culture Media  &amp;  Culture Techniques</dc:title>
</cp:coreProperties>
</file>