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65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24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6.jpeg" ContentType="image/jpeg"/>
  <Override PartName="/ppt/media/image9.jpeg" ContentType="image/jpeg"/>
  <Override PartName="/ppt/media/image22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7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1.png" ContentType="image/png"/>
  <Override PartName="/ppt/media/image52.jpeg" ContentType="image/jpeg"/>
  <Override PartName="/ppt/media/image5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1F34-7E8E-4674-A25A-F6C6C82AC5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BECF-A0D9-45B5-A339-978543E50CA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C4D8-64E3-41B0-8CCC-83BA0CEE4CD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E483-72A9-4D3B-8D8D-C4A1D3521E1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F0D9-2E8C-4315-B61B-4F4BA7FA077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AB15-4394-4B77-90A0-054285514E3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C83D-FE11-4B0D-84AB-AEDEC738CDF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D68A-C211-4779-BAF4-B4668273DB1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EB29-8B89-4444-BAA5-9E02269D190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E870-4FFD-4726-8A9E-8042594D56B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B908-F25B-4CF2-BE75-4A9E6340227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A309-2F9D-4E01-923A-581F075F357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64F0-5916-448E-BB55-399DCBBD169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6C03-595D-4613-996B-F99B6D00877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5FFF-6C06-4EF8-BE27-4604CD06DC0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5856-1E41-4FD6-8C9E-164411873B1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445B-D7B3-412E-A099-FBB425051ED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BC14-13C1-48B1-8BB4-D48DB5EEEB2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0F5C-F74E-4712-A432-51E9B95BD0C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4E01-28B1-4016-B803-3A0D41CC90D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F34B-2007-4133-98BB-34E7BA658EB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19AF-1D96-416C-84A1-65738A17622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D236-0455-423C-B10E-BB2C4F3DBD8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B924-15EA-4DD9-99C5-AD82BA963D5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46B2-7C15-4424-8E6E-0491DCD790E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F1B-1505-4F41-95D6-E5F3412A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DE5-F277-4962-9568-568696BD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7F1-77B6-4EA1-95D3-78862BF8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F05-B50F-43E7-A03C-EC0E4461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DBEA-ACF7-46F4-84B7-AF96144C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F98F-4F0B-4676-8747-3AB630DE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07FE-25F3-4E6C-82E1-8C964BD3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5D4C-D9AC-4406-85AB-F4E938CD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BBFC-1B7F-4A49-AB46-FD4D5C5A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BA76-25B7-4855-8CF6-F5F699E3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689D-B337-4316-93DC-4E673443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77B-F2C1-44CF-B196-18ADDF6A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3B12-B0E8-47DF-95A3-B224D4E7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2518-C130-4F52-8D2D-60F6262B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658F-D5CE-4B33-A6E2-31ABD19E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5C3D-7580-45D8-A75C-8CFA9B55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EF35-59F8-4307-97B7-8F762363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AA1-9497-4A51-8A1B-0C1B05AB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FE4-70ED-45BF-8840-1DEE1681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6624-6062-48EC-AEB3-0EB8BFD9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6FC-85FA-4701-9006-38ABC828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010-C7D4-4D77-9CC8-0C2213DC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447-A21E-4703-94B7-C5681220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F194-6238-46C7-A02C-8E062310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F53E-2910-4542-8162-0CBE525507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7002-64A2-48DA-82EB-0FF3AD16820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provlab.ab.ca/mycol/image/derm/tcapitis9.jpg&amp;imgrefurl=http://www.provlab.ab.ca/mycol/tutorials/derm/3case.htm&amp;usg=__P6eKddgAyZj4ijUwi5inh-HDNes=&amp;h=256&amp;w=256&amp;sz=8&amp;hl=en&amp;start=3&amp;itbs=1&amp;tbnid=7dKxte4QlGcnEM:&amp;tbnh=111&amp;tbnw=111&amp;prev=/images%3Fq%3Dtinea%2Bcapitis%26hl%3Den%26safe%3Dactive%26sa%3DX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.uk/imgres?imgurl=http://www.doctorfungus.org/mycoses/images/197MIKE.JPG&amp;imgrefurl=http://www.doctorfungus.org/mycoses/human/other/Tinea_capitis_favosa.htm&amp;usg=__KyIY2zpP6vd0lJ67mfp4eKcnK4s=&amp;h=410&amp;w=617&amp;sz=206&amp;hl=en&amp;start=4&amp;itbs=1&amp;tbnid=cW9VuIu_DVqjMM:&amp;tbnh=90&amp;tbnw=136&amp;prev=/images%3Fq%3Dtinea%2Bcapitis%26hl%3Den%26safe%3Dactive%26sa%3DX%26gbv%3D2%26tbs%3Disch:1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co.uk/imgres?imgurl=http://www.doctorfungus.org/Mycoses/images/273MIKE.JPG&amp;imgrefurl=http://www.doctorfungus.org/Mycoses/human/other/TineaCorporis_Cruris_Pedis.htm&amp;usg=__tsFLHndTnJt38YSnyRfowevlMpU=&amp;h=410&amp;w=617&amp;sz=228&amp;hl=en&amp;start=8&amp;itbs=1&amp;tbnid=mm7urbVMEwDTjM:&amp;tbnh=90&amp;tbnw=136&amp;prev=/images%3Fq%3Dtinea%2Bcapitis%26hl%3Den%26safe%3Dactive%26sa%3DX%26gbv%3D2%26tbs%3Disch:1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.uk/imgres?imgurl=http://www.ourhealthnetwork.com/UserFiles/Image/Athletes_foot_Pict_Plantar_2(1).jpg&amp;imgrefurl=http://www.ourhealthnetwork.com/conditions/FootandAnkle/AthletesFoot.asp&amp;usg=__jXJKTqwsRGmdoPCB9YoR0cgpmH4=&amp;h=300&amp;w=328&amp;sz=77&amp;hl=en&amp;start=9&amp;itbs=1&amp;tbnid=x52elEBSFmEOOM:&amp;tbnh=108&amp;tbnw=118&amp;prev=/images%3Fq%3Dtinea%2Bpedis%26hl%3Den%26safe%3Dactive%26gbv%3D2%26tbs%3Disch:1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images.google.co.uk/imgres?imgurl=http://www.lib.uiowa.edu/Hardin/MD/pictures22/cdc/PHIL_579_lores.jpg&amp;imgrefurl=http://www.lib.uiowa.edu/Hardin/MD/cdc/579.html&amp;usg=__TGpXxLXdeWJxim9HCBxiP4a26tM=&amp;h=452&amp;w=700&amp;sz=85&amp;hl=en&amp;start=1&amp;itbs=1&amp;tbnid=V7RefkhNqwLrhM:&amp;tbnh=90&amp;tbnw=140&amp;prev=/images%3Fq%3Dtinea%2Bunguium%26hl%3Den%26safe%3Dactive%26gbv%3D2%26tbs%3Disch:1" TargetMode="External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18920" y="98064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dical Mycology Lecture Slid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340000" y="5084640"/>
            <a:ext cx="51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547640" y="350028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2050920" y="18900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perficial Myco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66560" y="1557360"/>
            <a:ext cx="8282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affect the uppermost dead layers of skin or hair shaf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painless and usually do not provoke the immune system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primarily include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-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inea versicolor (= Pityriasis versicolor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rown or discolored or white patches on the sk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-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inea nigra (T.n. palmar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ark brown or grey macular lesions – usually on palm of hand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ut can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e on sole of foot or oth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3-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ie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Nodules of the etiologic fungus on hair shaf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.  Black pie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b.  White pied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403280" y="-10008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perficial Mycos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466560" y="549360"/>
            <a:ext cx="8426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tyriasis Versicolor (= Tinea versicolor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 or discolored, or white patches on sk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ect the stratum corneu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white lesions do not tan in the s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genous source of inf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iology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ssezia furfur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a Yeast (= Pityrosporum orbicular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stomycetidae, bipolar budding, Skin flo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pophilic: oleic acid  Or Mineral oi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 is skin scraping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 Or 20% KOH  will show short hyphal segments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nd yeast cells (spaghetti &amp; meat ball appearance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and Mycobiotic medium (=SDA+ Chloramphenicol+ Cycloheximide = Actidione) with oily substa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738036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332000" y="4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perficial Mycos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419640" y="907920"/>
            <a:ext cx="26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tyriasis Versi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Picture 5" descr="Figure-11"/>
          <p:cNvPicPr/>
          <p:nvPr/>
        </p:nvPicPr>
        <p:blipFill>
          <a:blip r:embed="rId1"/>
          <a:stretch/>
        </p:blipFill>
        <p:spPr>
          <a:xfrm>
            <a:off x="1692360" y="1400040"/>
            <a:ext cx="6335640" cy="476568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6"/>
          <p:cNvSpPr/>
          <p:nvPr/>
        </p:nvSpPr>
        <p:spPr>
          <a:xfrm>
            <a:off x="4284720" y="5684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ultu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4500720" y="48927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rf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213080" y="14130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ce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6229440" y="141300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hal seg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0" descr="Figure-19"/>
          <p:cNvPicPr/>
          <p:nvPr/>
        </p:nvPicPr>
        <p:blipFill>
          <a:blip r:embed="rId2"/>
          <a:stretch/>
        </p:blipFill>
        <p:spPr>
          <a:xfrm>
            <a:off x="2050920" y="4218120"/>
            <a:ext cx="397080" cy="14364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11"/>
          <p:cNvSpPr/>
          <p:nvPr/>
        </p:nvSpPr>
        <p:spPr>
          <a:xfrm>
            <a:off x="4789440" y="3573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ping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K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1332000" y="1951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perficial Mycos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79280" y="1197000"/>
            <a:ext cx="885672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ea nigra (= T.n. palmar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ular brown lesions or black stripes on palm of hand or sole of foo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quired by Piercing of skin with plant material in Agricultural soi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iolog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atiaceous imperfect mold fungus; </a:t>
            </a:r>
            <a:r>
              <a:rPr b="0" i="1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aeoannellomyces wernecki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=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ophiala wernecki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egetation debr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ulture it produces annellospores from annellids, unicellular or two cell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 scraping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In 10% or 20% KOH will show brown septate hypha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&amp; Mycobiotic.  Will grow the dematiaceous fungu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Lactophenol teased mount (LTM) &amp; LPCB (Lactophenol cotton blue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dentific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1332000" y="1951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uperficial Mycos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2916360" y="1052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inea nig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3419640" y="5510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xophial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rnecki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3059280" y="514980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haeoannellomyc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werneck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7" descr="Figure-12"/>
          <p:cNvPicPr/>
          <p:nvPr/>
        </p:nvPicPr>
        <p:blipFill>
          <a:blip r:embed="rId1"/>
          <a:stretch/>
        </p:blipFill>
        <p:spPr>
          <a:xfrm>
            <a:off x="1692360" y="1557360"/>
            <a:ext cx="568800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4" name="Text Box 8"/>
          <p:cNvSpPr/>
          <p:nvPr/>
        </p:nvSpPr>
        <p:spPr>
          <a:xfrm>
            <a:off x="3348000" y="458136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3132000" y="458136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4140360" y="47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2362320" y="2757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K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12"/>
          <p:cNvSpPr/>
          <p:nvPr/>
        </p:nvSpPr>
        <p:spPr>
          <a:xfrm>
            <a:off x="3995640" y="2133720"/>
            <a:ext cx="2016360" cy="1655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4140360" y="314172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wk old colo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14"/>
          <p:cNvSpPr/>
          <p:nvPr/>
        </p:nvSpPr>
        <p:spPr>
          <a:xfrm flipH="1">
            <a:off x="5148000" y="292572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5940360" y="1557360"/>
            <a:ext cx="115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ri pl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16"/>
          <p:cNvSpPr/>
          <p:nvPr/>
        </p:nvSpPr>
        <p:spPr>
          <a:xfrm flipH="1">
            <a:off x="5219640" y="177336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17"/>
          <p:cNvSpPr/>
          <p:nvPr/>
        </p:nvSpPr>
        <p:spPr>
          <a:xfrm>
            <a:off x="4641840" y="2637000"/>
            <a:ext cx="506520" cy="401400"/>
          </a:xfrm>
          <a:custGeom>
            <a:avLst/>
            <a:gdLst>
              <a:gd name="textAreaLeft" fmla="*/ 0 w 506520"/>
              <a:gd name="textAreaRight" fmla="*/ 506880 w 506520"/>
              <a:gd name="textAreaTop" fmla="*/ 0 h 401400"/>
              <a:gd name="textAreaBottom" fmla="*/ 401760 h 401400"/>
            </a:gdLst>
            <a:ahLst/>
            <a:rect l="textAreaLeft" t="textAreaTop" r="textAreaRight" b="textAreaBottom"/>
            <a:pathLst>
              <a:path w="319" h="253">
                <a:moveTo>
                  <a:pt x="145" y="60"/>
                </a:moveTo>
                <a:cubicBezTo>
                  <a:pt x="167" y="126"/>
                  <a:pt x="163" y="74"/>
                  <a:pt x="121" y="108"/>
                </a:cubicBezTo>
                <a:cubicBezTo>
                  <a:pt x="110" y="117"/>
                  <a:pt x="105" y="132"/>
                  <a:pt x="97" y="144"/>
                </a:cubicBezTo>
                <a:cubicBezTo>
                  <a:pt x="125" y="152"/>
                  <a:pt x="157" y="152"/>
                  <a:pt x="181" y="168"/>
                </a:cubicBezTo>
                <a:cubicBezTo>
                  <a:pt x="238" y="206"/>
                  <a:pt x="168" y="253"/>
                  <a:pt x="241" y="180"/>
                </a:cubicBezTo>
                <a:cubicBezTo>
                  <a:pt x="237" y="168"/>
                  <a:pt x="240" y="150"/>
                  <a:pt x="229" y="144"/>
                </a:cubicBezTo>
                <a:cubicBezTo>
                  <a:pt x="218" y="138"/>
                  <a:pt x="200" y="167"/>
                  <a:pt x="193" y="156"/>
                </a:cubicBezTo>
                <a:cubicBezTo>
                  <a:pt x="184" y="142"/>
                  <a:pt x="217" y="120"/>
                  <a:pt x="205" y="108"/>
                </a:cubicBezTo>
                <a:cubicBezTo>
                  <a:pt x="195" y="98"/>
                  <a:pt x="182" y="126"/>
                  <a:pt x="169" y="132"/>
                </a:cubicBezTo>
                <a:cubicBezTo>
                  <a:pt x="158" y="138"/>
                  <a:pt x="145" y="140"/>
                  <a:pt x="133" y="144"/>
                </a:cubicBezTo>
                <a:cubicBezTo>
                  <a:pt x="76" y="59"/>
                  <a:pt x="140" y="135"/>
                  <a:pt x="97" y="156"/>
                </a:cubicBezTo>
                <a:cubicBezTo>
                  <a:pt x="84" y="162"/>
                  <a:pt x="73" y="140"/>
                  <a:pt x="61" y="132"/>
                </a:cubicBezTo>
                <a:cubicBezTo>
                  <a:pt x="44" y="149"/>
                  <a:pt x="0" y="214"/>
                  <a:pt x="13" y="120"/>
                </a:cubicBezTo>
                <a:cubicBezTo>
                  <a:pt x="16" y="101"/>
                  <a:pt x="63" y="58"/>
                  <a:pt x="73" y="48"/>
                </a:cubicBezTo>
                <a:cubicBezTo>
                  <a:pt x="159" y="77"/>
                  <a:pt x="131" y="93"/>
                  <a:pt x="169" y="36"/>
                </a:cubicBezTo>
                <a:cubicBezTo>
                  <a:pt x="172" y="45"/>
                  <a:pt x="189" y="108"/>
                  <a:pt x="205" y="108"/>
                </a:cubicBezTo>
                <a:cubicBezTo>
                  <a:pt x="219" y="108"/>
                  <a:pt x="221" y="84"/>
                  <a:pt x="229" y="72"/>
                </a:cubicBezTo>
                <a:cubicBezTo>
                  <a:pt x="233" y="88"/>
                  <a:pt x="226" y="113"/>
                  <a:pt x="241" y="120"/>
                </a:cubicBezTo>
                <a:cubicBezTo>
                  <a:pt x="252" y="126"/>
                  <a:pt x="240" y="84"/>
                  <a:pt x="253" y="84"/>
                </a:cubicBezTo>
                <a:cubicBezTo>
                  <a:pt x="266" y="84"/>
                  <a:pt x="260" y="108"/>
                  <a:pt x="265" y="120"/>
                </a:cubicBezTo>
                <a:cubicBezTo>
                  <a:pt x="272" y="136"/>
                  <a:pt x="302" y="181"/>
                  <a:pt x="289" y="168"/>
                </a:cubicBezTo>
                <a:cubicBezTo>
                  <a:pt x="173" y="52"/>
                  <a:pt x="303" y="127"/>
                  <a:pt x="193" y="72"/>
                </a:cubicBezTo>
                <a:cubicBezTo>
                  <a:pt x="173" y="84"/>
                  <a:pt x="156" y="108"/>
                  <a:pt x="133" y="108"/>
                </a:cubicBezTo>
                <a:cubicBezTo>
                  <a:pt x="119" y="108"/>
                  <a:pt x="106" y="86"/>
                  <a:pt x="109" y="72"/>
                </a:cubicBezTo>
                <a:cubicBezTo>
                  <a:pt x="112" y="58"/>
                  <a:pt x="135" y="58"/>
                  <a:pt x="145" y="48"/>
                </a:cubicBezTo>
                <a:cubicBezTo>
                  <a:pt x="159" y="34"/>
                  <a:pt x="169" y="16"/>
                  <a:pt x="181" y="0"/>
                </a:cubicBezTo>
                <a:cubicBezTo>
                  <a:pt x="189" y="12"/>
                  <a:pt x="194" y="27"/>
                  <a:pt x="205" y="36"/>
                </a:cubicBezTo>
                <a:cubicBezTo>
                  <a:pt x="215" y="44"/>
                  <a:pt x="232" y="39"/>
                  <a:pt x="241" y="48"/>
                </a:cubicBezTo>
                <a:cubicBezTo>
                  <a:pt x="247" y="54"/>
                  <a:pt x="265" y="132"/>
                  <a:pt x="265" y="132"/>
                </a:cubicBezTo>
                <a:cubicBezTo>
                  <a:pt x="269" y="112"/>
                  <a:pt x="263" y="86"/>
                  <a:pt x="277" y="72"/>
                </a:cubicBezTo>
                <a:cubicBezTo>
                  <a:pt x="286" y="63"/>
                  <a:pt x="309" y="72"/>
                  <a:pt x="313" y="84"/>
                </a:cubicBezTo>
                <a:cubicBezTo>
                  <a:pt x="319" y="103"/>
                  <a:pt x="310" y="126"/>
                  <a:pt x="301" y="144"/>
                </a:cubicBezTo>
                <a:cubicBezTo>
                  <a:pt x="278" y="190"/>
                  <a:pt x="223" y="190"/>
                  <a:pt x="181" y="204"/>
                </a:cubicBezTo>
                <a:cubicBezTo>
                  <a:pt x="177" y="192"/>
                  <a:pt x="182" y="166"/>
                  <a:pt x="169" y="168"/>
                </a:cubicBezTo>
                <a:cubicBezTo>
                  <a:pt x="140" y="172"/>
                  <a:pt x="97" y="216"/>
                  <a:pt x="97" y="216"/>
                </a:cubicBezTo>
                <a:cubicBezTo>
                  <a:pt x="43" y="180"/>
                  <a:pt x="38" y="160"/>
                  <a:pt x="25" y="96"/>
                </a:cubicBezTo>
                <a:cubicBezTo>
                  <a:pt x="64" y="57"/>
                  <a:pt x="70" y="29"/>
                  <a:pt x="121" y="12"/>
                </a:cubicBezTo>
                <a:cubicBezTo>
                  <a:pt x="109" y="28"/>
                  <a:pt x="104" y="55"/>
                  <a:pt x="85" y="60"/>
                </a:cubicBezTo>
                <a:cubicBezTo>
                  <a:pt x="73" y="63"/>
                  <a:pt x="84" y="18"/>
                  <a:pt x="73" y="24"/>
                </a:cubicBezTo>
                <a:cubicBezTo>
                  <a:pt x="58" y="31"/>
                  <a:pt x="68" y="57"/>
                  <a:pt x="61" y="72"/>
                </a:cubicBezTo>
                <a:cubicBezTo>
                  <a:pt x="52" y="90"/>
                  <a:pt x="37" y="104"/>
                  <a:pt x="25" y="120"/>
                </a:cubicBezTo>
                <a:cubicBezTo>
                  <a:pt x="29" y="104"/>
                  <a:pt x="33" y="88"/>
                  <a:pt x="37" y="72"/>
                </a:cubicBezTo>
                <a:cubicBezTo>
                  <a:pt x="40" y="60"/>
                  <a:pt x="37" y="40"/>
                  <a:pt x="49" y="36"/>
                </a:cubicBezTo>
                <a:cubicBezTo>
                  <a:pt x="99" y="19"/>
                  <a:pt x="74" y="31"/>
                  <a:pt x="121" y="0"/>
                </a:cubicBezTo>
                <a:cubicBezTo>
                  <a:pt x="141" y="4"/>
                  <a:pt x="163" y="2"/>
                  <a:pt x="181" y="12"/>
                </a:cubicBezTo>
                <a:cubicBezTo>
                  <a:pt x="221" y="35"/>
                  <a:pt x="194" y="93"/>
                  <a:pt x="217" y="0"/>
                </a:cubicBezTo>
                <a:cubicBezTo>
                  <a:pt x="238" y="62"/>
                  <a:pt x="289" y="123"/>
                  <a:pt x="289" y="192"/>
                </a:cubicBezTo>
                <a:cubicBezTo>
                  <a:pt x="289" y="205"/>
                  <a:pt x="286" y="165"/>
                  <a:pt x="277" y="156"/>
                </a:cubicBezTo>
                <a:cubicBezTo>
                  <a:pt x="268" y="147"/>
                  <a:pt x="253" y="148"/>
                  <a:pt x="241" y="144"/>
                </a:cubicBezTo>
                <a:cubicBezTo>
                  <a:pt x="229" y="156"/>
                  <a:pt x="216" y="167"/>
                  <a:pt x="205" y="180"/>
                </a:cubicBezTo>
                <a:cubicBezTo>
                  <a:pt x="192" y="195"/>
                  <a:pt x="189" y="224"/>
                  <a:pt x="169" y="228"/>
                </a:cubicBezTo>
                <a:cubicBezTo>
                  <a:pt x="155" y="231"/>
                  <a:pt x="151" y="205"/>
                  <a:pt x="145" y="192"/>
                </a:cubicBezTo>
                <a:cubicBezTo>
                  <a:pt x="99" y="100"/>
                  <a:pt x="184" y="224"/>
                  <a:pt x="97" y="108"/>
                </a:cubicBezTo>
                <a:cubicBezTo>
                  <a:pt x="67" y="226"/>
                  <a:pt x="103" y="118"/>
                  <a:pt x="73" y="108"/>
                </a:cubicBezTo>
                <a:cubicBezTo>
                  <a:pt x="59" y="103"/>
                  <a:pt x="57" y="132"/>
                  <a:pt x="49" y="144"/>
                </a:cubicBezTo>
                <a:cubicBezTo>
                  <a:pt x="41" y="132"/>
                  <a:pt x="25" y="108"/>
                  <a:pt x="25" y="108"/>
                </a:cubicBezTo>
                <a:cubicBezTo>
                  <a:pt x="97" y="132"/>
                  <a:pt x="32" y="124"/>
                  <a:pt x="73" y="72"/>
                </a:cubicBezTo>
                <a:cubicBezTo>
                  <a:pt x="81" y="62"/>
                  <a:pt x="97" y="65"/>
                  <a:pt x="109" y="60"/>
                </a:cubicBezTo>
                <a:cubicBezTo>
                  <a:pt x="125" y="53"/>
                  <a:pt x="141" y="44"/>
                  <a:pt x="157" y="36"/>
                </a:cubicBezTo>
                <a:cubicBezTo>
                  <a:pt x="169" y="52"/>
                  <a:pt x="178" y="71"/>
                  <a:pt x="193" y="84"/>
                </a:cubicBezTo>
                <a:cubicBezTo>
                  <a:pt x="203" y="92"/>
                  <a:pt x="220" y="105"/>
                  <a:pt x="229" y="96"/>
                </a:cubicBezTo>
                <a:cubicBezTo>
                  <a:pt x="247" y="78"/>
                  <a:pt x="253" y="24"/>
                  <a:pt x="253" y="24"/>
                </a:cubicBezTo>
                <a:cubicBezTo>
                  <a:pt x="269" y="88"/>
                  <a:pt x="265" y="56"/>
                  <a:pt x="265" y="12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Freeform 18"/>
          <p:cNvSpPr/>
          <p:nvPr/>
        </p:nvSpPr>
        <p:spPr>
          <a:xfrm>
            <a:off x="2771640" y="4516560"/>
            <a:ext cx="319320" cy="136440"/>
          </a:xfrm>
          <a:custGeom>
            <a:avLst/>
            <a:gdLst>
              <a:gd name="textAreaLeft" fmla="*/ 0 w 319320"/>
              <a:gd name="textAreaRight" fmla="*/ 319680 w 3193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156" h="131">
                <a:moveTo>
                  <a:pt x="36" y="3"/>
                </a:moveTo>
                <a:cubicBezTo>
                  <a:pt x="102" y="14"/>
                  <a:pt x="135" y="0"/>
                  <a:pt x="156" y="63"/>
                </a:cubicBezTo>
                <a:cubicBezTo>
                  <a:pt x="133" y="131"/>
                  <a:pt x="154" y="107"/>
                  <a:pt x="36" y="87"/>
                </a:cubicBezTo>
                <a:cubicBezTo>
                  <a:pt x="24" y="85"/>
                  <a:pt x="0" y="75"/>
                  <a:pt x="0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9" descr="Figure-20"/>
          <p:cNvPicPr/>
          <p:nvPr/>
        </p:nvPicPr>
        <p:blipFill>
          <a:blip r:embed="rId2"/>
          <a:stretch/>
        </p:blipFill>
        <p:spPr>
          <a:xfrm>
            <a:off x="3490920" y="3714840"/>
            <a:ext cx="576360" cy="4381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20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3274920" y="-2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iedr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539640" y="692280"/>
            <a:ext cx="748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dules or Encrustations on hair shaf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539640" y="1628640"/>
            <a:ext cx="489600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scalp hair / -  </a:t>
            </a: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ustache, bear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539640" y="2421000"/>
            <a:ext cx="208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lack piedr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216000" y="2930400"/>
            <a:ext cx="421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m, hard, dark brown nodules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539640" y="3429000"/>
            <a:ext cx="431964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edraia horta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etiology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omycete – Loculoascomycetida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ebriform colon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9"/>
          <p:cNvSpPr/>
          <p:nvPr/>
        </p:nvSpPr>
        <p:spPr>
          <a:xfrm>
            <a:off x="179280" y="4581360"/>
            <a:ext cx="42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ostroma, Asci, ascosp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539640" y="5146560"/>
            <a:ext cx="583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r with nodul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% -20% KOH – culture 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biotic &amp; S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5724360" y="220500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2"/>
          <p:cNvSpPr/>
          <p:nvPr/>
        </p:nvSpPr>
        <p:spPr>
          <a:xfrm>
            <a:off x="5867280" y="220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8" name="Picture 13" descr="Figure-13"/>
          <p:cNvPicPr/>
          <p:nvPr/>
        </p:nvPicPr>
        <p:blipFill>
          <a:blip r:embed="rId1"/>
          <a:stretch/>
        </p:blipFill>
        <p:spPr>
          <a:xfrm>
            <a:off x="4140360" y="4578480"/>
            <a:ext cx="502920" cy="503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4"/>
          <p:cNvSpPr/>
          <p:nvPr/>
        </p:nvSpPr>
        <p:spPr>
          <a:xfrm>
            <a:off x="4211640" y="26956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ostroma with asci &amp; ascosp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6661080" y="27813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hal strand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179280" y="2060640"/>
            <a:ext cx="5329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in Tropics &amp; subtropic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7"/>
          <p:cNvSpPr/>
          <p:nvPr/>
        </p:nvSpPr>
        <p:spPr>
          <a:xfrm>
            <a:off x="179280" y="1136520"/>
            <a:ext cx="6264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odules are composed of fungal element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18" descr="Figure-16"/>
          <p:cNvPicPr/>
          <p:nvPr/>
        </p:nvPicPr>
        <p:blipFill>
          <a:blip r:embed="rId2"/>
          <a:stretch/>
        </p:blipFill>
        <p:spPr>
          <a:xfrm>
            <a:off x="4932360" y="3284640"/>
            <a:ext cx="4211640" cy="2808360"/>
          </a:xfrm>
          <a:prstGeom prst="rect">
            <a:avLst/>
          </a:prstGeom>
          <a:ln w="0">
            <a:noFill/>
          </a:ln>
        </p:spPr>
      </p:pic>
      <p:sp>
        <p:nvSpPr>
          <p:cNvPr id="444" name="Line 19"/>
          <p:cNvSpPr/>
          <p:nvPr/>
        </p:nvSpPr>
        <p:spPr>
          <a:xfrm>
            <a:off x="5651640" y="2997360"/>
            <a:ext cx="576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20"/>
          <p:cNvSpPr/>
          <p:nvPr/>
        </p:nvSpPr>
        <p:spPr>
          <a:xfrm flipH="1">
            <a:off x="6372000" y="306864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1"/>
          <p:cNvSpPr/>
          <p:nvPr/>
        </p:nvSpPr>
        <p:spPr>
          <a:xfrm>
            <a:off x="7524720" y="350028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Line 22"/>
          <p:cNvSpPr/>
          <p:nvPr/>
        </p:nvSpPr>
        <p:spPr>
          <a:xfrm flipH="1" flipV="1">
            <a:off x="7235640" y="3573000"/>
            <a:ext cx="360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Oval 23"/>
          <p:cNvSpPr/>
          <p:nvPr/>
        </p:nvSpPr>
        <p:spPr>
          <a:xfrm>
            <a:off x="7381800" y="4437000"/>
            <a:ext cx="172728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5076720" y="522432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ny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draia horta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ultu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25"/>
          <p:cNvSpPr/>
          <p:nvPr/>
        </p:nvSpPr>
        <p:spPr>
          <a:xfrm flipV="1">
            <a:off x="6588000" y="5300280"/>
            <a:ext cx="1440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6"/>
          <p:cNvSpPr/>
          <p:nvPr/>
        </p:nvSpPr>
        <p:spPr>
          <a:xfrm>
            <a:off x="5003640" y="443700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lack piedra nodule on hair shaf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7"/>
          <p:cNvSpPr/>
          <p:nvPr/>
        </p:nvSpPr>
        <p:spPr>
          <a:xfrm>
            <a:off x="5867280" y="47242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Freeform 28"/>
          <p:cNvSpPr/>
          <p:nvPr/>
        </p:nvSpPr>
        <p:spPr>
          <a:xfrm>
            <a:off x="8028000" y="5013360"/>
            <a:ext cx="506520" cy="401760"/>
          </a:xfrm>
          <a:custGeom>
            <a:avLst/>
            <a:gdLst>
              <a:gd name="textAreaLeft" fmla="*/ 0 w 506520"/>
              <a:gd name="textAreaRight" fmla="*/ 506880 w 506520"/>
              <a:gd name="textAreaTop" fmla="*/ 0 h 401760"/>
              <a:gd name="textAreaBottom" fmla="*/ 402120 h 401760"/>
            </a:gdLst>
            <a:ahLst/>
            <a:rect l="textAreaLeft" t="textAreaTop" r="textAreaRight" b="textAreaBottom"/>
            <a:pathLst>
              <a:path w="319" h="253">
                <a:moveTo>
                  <a:pt x="145" y="60"/>
                </a:moveTo>
                <a:cubicBezTo>
                  <a:pt x="167" y="126"/>
                  <a:pt x="163" y="74"/>
                  <a:pt x="121" y="108"/>
                </a:cubicBezTo>
                <a:cubicBezTo>
                  <a:pt x="110" y="117"/>
                  <a:pt x="105" y="132"/>
                  <a:pt x="97" y="144"/>
                </a:cubicBezTo>
                <a:cubicBezTo>
                  <a:pt x="125" y="152"/>
                  <a:pt x="157" y="152"/>
                  <a:pt x="181" y="168"/>
                </a:cubicBezTo>
                <a:cubicBezTo>
                  <a:pt x="238" y="206"/>
                  <a:pt x="168" y="253"/>
                  <a:pt x="241" y="180"/>
                </a:cubicBezTo>
                <a:cubicBezTo>
                  <a:pt x="237" y="168"/>
                  <a:pt x="240" y="150"/>
                  <a:pt x="229" y="144"/>
                </a:cubicBezTo>
                <a:cubicBezTo>
                  <a:pt x="218" y="138"/>
                  <a:pt x="200" y="167"/>
                  <a:pt x="193" y="156"/>
                </a:cubicBezTo>
                <a:cubicBezTo>
                  <a:pt x="184" y="142"/>
                  <a:pt x="217" y="120"/>
                  <a:pt x="205" y="108"/>
                </a:cubicBezTo>
                <a:cubicBezTo>
                  <a:pt x="195" y="98"/>
                  <a:pt x="182" y="126"/>
                  <a:pt x="169" y="132"/>
                </a:cubicBezTo>
                <a:cubicBezTo>
                  <a:pt x="158" y="138"/>
                  <a:pt x="145" y="140"/>
                  <a:pt x="133" y="144"/>
                </a:cubicBezTo>
                <a:cubicBezTo>
                  <a:pt x="76" y="59"/>
                  <a:pt x="140" y="135"/>
                  <a:pt x="97" y="156"/>
                </a:cubicBezTo>
                <a:cubicBezTo>
                  <a:pt x="84" y="162"/>
                  <a:pt x="73" y="140"/>
                  <a:pt x="61" y="132"/>
                </a:cubicBezTo>
                <a:cubicBezTo>
                  <a:pt x="44" y="149"/>
                  <a:pt x="0" y="214"/>
                  <a:pt x="13" y="120"/>
                </a:cubicBezTo>
                <a:cubicBezTo>
                  <a:pt x="16" y="101"/>
                  <a:pt x="63" y="58"/>
                  <a:pt x="73" y="48"/>
                </a:cubicBezTo>
                <a:cubicBezTo>
                  <a:pt x="159" y="77"/>
                  <a:pt x="131" y="93"/>
                  <a:pt x="169" y="36"/>
                </a:cubicBezTo>
                <a:cubicBezTo>
                  <a:pt x="172" y="45"/>
                  <a:pt x="189" y="108"/>
                  <a:pt x="205" y="108"/>
                </a:cubicBezTo>
                <a:cubicBezTo>
                  <a:pt x="219" y="108"/>
                  <a:pt x="221" y="84"/>
                  <a:pt x="229" y="72"/>
                </a:cubicBezTo>
                <a:cubicBezTo>
                  <a:pt x="233" y="88"/>
                  <a:pt x="226" y="113"/>
                  <a:pt x="241" y="120"/>
                </a:cubicBezTo>
                <a:cubicBezTo>
                  <a:pt x="252" y="126"/>
                  <a:pt x="240" y="84"/>
                  <a:pt x="253" y="84"/>
                </a:cubicBezTo>
                <a:cubicBezTo>
                  <a:pt x="266" y="84"/>
                  <a:pt x="260" y="108"/>
                  <a:pt x="265" y="120"/>
                </a:cubicBezTo>
                <a:cubicBezTo>
                  <a:pt x="272" y="136"/>
                  <a:pt x="302" y="181"/>
                  <a:pt x="289" y="168"/>
                </a:cubicBezTo>
                <a:cubicBezTo>
                  <a:pt x="173" y="52"/>
                  <a:pt x="303" y="127"/>
                  <a:pt x="193" y="72"/>
                </a:cubicBezTo>
                <a:cubicBezTo>
                  <a:pt x="173" y="84"/>
                  <a:pt x="156" y="108"/>
                  <a:pt x="133" y="108"/>
                </a:cubicBezTo>
                <a:cubicBezTo>
                  <a:pt x="119" y="108"/>
                  <a:pt x="106" y="86"/>
                  <a:pt x="109" y="72"/>
                </a:cubicBezTo>
                <a:cubicBezTo>
                  <a:pt x="112" y="58"/>
                  <a:pt x="135" y="58"/>
                  <a:pt x="145" y="48"/>
                </a:cubicBezTo>
                <a:cubicBezTo>
                  <a:pt x="159" y="34"/>
                  <a:pt x="169" y="16"/>
                  <a:pt x="181" y="0"/>
                </a:cubicBezTo>
                <a:cubicBezTo>
                  <a:pt x="189" y="12"/>
                  <a:pt x="194" y="27"/>
                  <a:pt x="205" y="36"/>
                </a:cubicBezTo>
                <a:cubicBezTo>
                  <a:pt x="215" y="44"/>
                  <a:pt x="232" y="39"/>
                  <a:pt x="241" y="48"/>
                </a:cubicBezTo>
                <a:cubicBezTo>
                  <a:pt x="247" y="54"/>
                  <a:pt x="265" y="132"/>
                  <a:pt x="265" y="132"/>
                </a:cubicBezTo>
                <a:cubicBezTo>
                  <a:pt x="269" y="112"/>
                  <a:pt x="263" y="86"/>
                  <a:pt x="277" y="72"/>
                </a:cubicBezTo>
                <a:cubicBezTo>
                  <a:pt x="286" y="63"/>
                  <a:pt x="309" y="72"/>
                  <a:pt x="313" y="84"/>
                </a:cubicBezTo>
                <a:cubicBezTo>
                  <a:pt x="319" y="103"/>
                  <a:pt x="310" y="126"/>
                  <a:pt x="301" y="144"/>
                </a:cubicBezTo>
                <a:cubicBezTo>
                  <a:pt x="278" y="190"/>
                  <a:pt x="223" y="190"/>
                  <a:pt x="181" y="204"/>
                </a:cubicBezTo>
                <a:cubicBezTo>
                  <a:pt x="177" y="192"/>
                  <a:pt x="182" y="166"/>
                  <a:pt x="169" y="168"/>
                </a:cubicBezTo>
                <a:cubicBezTo>
                  <a:pt x="140" y="172"/>
                  <a:pt x="97" y="216"/>
                  <a:pt x="97" y="216"/>
                </a:cubicBezTo>
                <a:cubicBezTo>
                  <a:pt x="43" y="180"/>
                  <a:pt x="38" y="160"/>
                  <a:pt x="25" y="96"/>
                </a:cubicBezTo>
                <a:cubicBezTo>
                  <a:pt x="64" y="57"/>
                  <a:pt x="70" y="29"/>
                  <a:pt x="121" y="12"/>
                </a:cubicBezTo>
                <a:cubicBezTo>
                  <a:pt x="109" y="28"/>
                  <a:pt x="104" y="55"/>
                  <a:pt x="85" y="60"/>
                </a:cubicBezTo>
                <a:cubicBezTo>
                  <a:pt x="73" y="63"/>
                  <a:pt x="84" y="18"/>
                  <a:pt x="73" y="24"/>
                </a:cubicBezTo>
                <a:cubicBezTo>
                  <a:pt x="58" y="31"/>
                  <a:pt x="68" y="57"/>
                  <a:pt x="61" y="72"/>
                </a:cubicBezTo>
                <a:cubicBezTo>
                  <a:pt x="52" y="90"/>
                  <a:pt x="37" y="104"/>
                  <a:pt x="25" y="120"/>
                </a:cubicBezTo>
                <a:cubicBezTo>
                  <a:pt x="29" y="104"/>
                  <a:pt x="33" y="88"/>
                  <a:pt x="37" y="72"/>
                </a:cubicBezTo>
                <a:cubicBezTo>
                  <a:pt x="40" y="60"/>
                  <a:pt x="37" y="40"/>
                  <a:pt x="49" y="36"/>
                </a:cubicBezTo>
                <a:cubicBezTo>
                  <a:pt x="99" y="19"/>
                  <a:pt x="74" y="31"/>
                  <a:pt x="121" y="0"/>
                </a:cubicBezTo>
                <a:cubicBezTo>
                  <a:pt x="141" y="4"/>
                  <a:pt x="163" y="2"/>
                  <a:pt x="181" y="12"/>
                </a:cubicBezTo>
                <a:cubicBezTo>
                  <a:pt x="221" y="35"/>
                  <a:pt x="194" y="93"/>
                  <a:pt x="217" y="0"/>
                </a:cubicBezTo>
                <a:cubicBezTo>
                  <a:pt x="238" y="62"/>
                  <a:pt x="289" y="123"/>
                  <a:pt x="289" y="192"/>
                </a:cubicBezTo>
                <a:cubicBezTo>
                  <a:pt x="289" y="205"/>
                  <a:pt x="286" y="165"/>
                  <a:pt x="277" y="156"/>
                </a:cubicBezTo>
                <a:cubicBezTo>
                  <a:pt x="268" y="147"/>
                  <a:pt x="253" y="148"/>
                  <a:pt x="241" y="144"/>
                </a:cubicBezTo>
                <a:cubicBezTo>
                  <a:pt x="229" y="156"/>
                  <a:pt x="216" y="167"/>
                  <a:pt x="205" y="180"/>
                </a:cubicBezTo>
                <a:cubicBezTo>
                  <a:pt x="192" y="195"/>
                  <a:pt x="189" y="224"/>
                  <a:pt x="169" y="228"/>
                </a:cubicBezTo>
                <a:cubicBezTo>
                  <a:pt x="155" y="231"/>
                  <a:pt x="151" y="205"/>
                  <a:pt x="145" y="192"/>
                </a:cubicBezTo>
                <a:cubicBezTo>
                  <a:pt x="99" y="100"/>
                  <a:pt x="184" y="224"/>
                  <a:pt x="97" y="108"/>
                </a:cubicBezTo>
                <a:cubicBezTo>
                  <a:pt x="67" y="226"/>
                  <a:pt x="103" y="118"/>
                  <a:pt x="73" y="108"/>
                </a:cubicBezTo>
                <a:cubicBezTo>
                  <a:pt x="59" y="103"/>
                  <a:pt x="57" y="132"/>
                  <a:pt x="49" y="144"/>
                </a:cubicBezTo>
                <a:cubicBezTo>
                  <a:pt x="41" y="132"/>
                  <a:pt x="25" y="108"/>
                  <a:pt x="25" y="108"/>
                </a:cubicBezTo>
                <a:cubicBezTo>
                  <a:pt x="97" y="132"/>
                  <a:pt x="32" y="124"/>
                  <a:pt x="73" y="72"/>
                </a:cubicBezTo>
                <a:cubicBezTo>
                  <a:pt x="81" y="62"/>
                  <a:pt x="97" y="65"/>
                  <a:pt x="109" y="60"/>
                </a:cubicBezTo>
                <a:cubicBezTo>
                  <a:pt x="125" y="53"/>
                  <a:pt x="141" y="44"/>
                  <a:pt x="157" y="36"/>
                </a:cubicBezTo>
                <a:cubicBezTo>
                  <a:pt x="169" y="52"/>
                  <a:pt x="178" y="71"/>
                  <a:pt x="193" y="84"/>
                </a:cubicBezTo>
                <a:cubicBezTo>
                  <a:pt x="203" y="92"/>
                  <a:pt x="220" y="105"/>
                  <a:pt x="229" y="96"/>
                </a:cubicBezTo>
                <a:cubicBezTo>
                  <a:pt x="247" y="78"/>
                  <a:pt x="253" y="24"/>
                  <a:pt x="253" y="24"/>
                </a:cubicBezTo>
                <a:cubicBezTo>
                  <a:pt x="269" y="88"/>
                  <a:pt x="265" y="56"/>
                  <a:pt x="265" y="120"/>
                </a:cubicBezTo>
              </a:path>
            </a:pathLst>
          </a:custGeom>
          <a:solidFill>
            <a:srgbClr val="ff0000"/>
          </a:solidFill>
          <a:ln w="7632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9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3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2340000" y="84312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iedra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324000" y="1484280"/>
            <a:ext cx="20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White piedra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108000" y="1989000"/>
            <a:ext cx="38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, brown, cream less fir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24000" y="2852640"/>
            <a:ext cx="5400360" cy="27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sporon beigeli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fect yeas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iable nodu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hyphae, blastospores, arthrosp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no cycloheximid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m – beig Yeast with wrinkled surfac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5724360" y="2205000"/>
            <a:ext cx="25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5867280" y="220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6300720" y="134136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es  &amp; ce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324000" y="2354400"/>
            <a:ext cx="129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1" descr="Figure-18a"/>
          <p:cNvPicPr/>
          <p:nvPr/>
        </p:nvPicPr>
        <p:blipFill>
          <a:blip r:embed="rId1"/>
          <a:stretch/>
        </p:blipFill>
        <p:spPr>
          <a:xfrm>
            <a:off x="5148360" y="1773360"/>
            <a:ext cx="3995640" cy="148248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2" descr="Figure-18"/>
          <p:cNvPicPr/>
          <p:nvPr/>
        </p:nvPicPr>
        <p:blipFill>
          <a:blip r:embed="rId2"/>
          <a:stretch/>
        </p:blipFill>
        <p:spPr>
          <a:xfrm>
            <a:off x="5148360" y="3213000"/>
            <a:ext cx="3995640" cy="17287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3"/>
          <p:cNvSpPr/>
          <p:nvPr/>
        </p:nvSpPr>
        <p:spPr>
          <a:xfrm>
            <a:off x="5364000" y="306864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ite piedra nodule on hair shaf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6443640" y="3284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15"/>
          <p:cNvSpPr/>
          <p:nvPr/>
        </p:nvSpPr>
        <p:spPr>
          <a:xfrm flipH="1">
            <a:off x="6227640" y="162864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6"/>
          <p:cNvSpPr/>
          <p:nvPr/>
        </p:nvSpPr>
        <p:spPr>
          <a:xfrm>
            <a:off x="7020000" y="20606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7"/>
          <p:cNvSpPr/>
          <p:nvPr/>
        </p:nvSpPr>
        <p:spPr>
          <a:xfrm flipV="1">
            <a:off x="6732720" y="2204640"/>
            <a:ext cx="2872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6445080" y="3716280"/>
            <a:ext cx="11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st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>
            <a:off x="7020000" y="400536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0"/>
          <p:cNvSpPr/>
          <p:nvPr/>
        </p:nvSpPr>
        <p:spPr>
          <a:xfrm>
            <a:off x="7381800" y="335772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r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21"/>
          <p:cNvSpPr/>
          <p:nvPr/>
        </p:nvSpPr>
        <p:spPr>
          <a:xfrm>
            <a:off x="7667640" y="3645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2"/>
          <p:cNvSpPr/>
          <p:nvPr/>
        </p:nvSpPr>
        <p:spPr>
          <a:xfrm>
            <a:off x="7669080" y="5300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hyph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23"/>
          <p:cNvSpPr/>
          <p:nvPr/>
        </p:nvSpPr>
        <p:spPr>
          <a:xfrm>
            <a:off x="817236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24"/>
          <p:cNvSpPr/>
          <p:nvPr/>
        </p:nvSpPr>
        <p:spPr>
          <a:xfrm>
            <a:off x="8172360" y="3716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st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5"/>
          <p:cNvSpPr/>
          <p:nvPr/>
        </p:nvSpPr>
        <p:spPr>
          <a:xfrm flipH="1">
            <a:off x="8314920" y="400536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6"/>
          <p:cNvSpPr/>
          <p:nvPr/>
        </p:nvSpPr>
        <p:spPr>
          <a:xfrm>
            <a:off x="6804000" y="551664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7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908000" y="257040"/>
            <a:ext cx="48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reatment of Superficia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466560" y="1557360"/>
            <a:ext cx="8282160" cy="36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% salicylic acid, 3% sulfur ointments, whitfield’s ointment Ketoconazo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 or shave hair for Piedra &amp; clean with mild fungicide 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e.g. 1:2000 bichloride of mercu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Or apply 2% salicyl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Or 3% sulfur oin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w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zoral shampoo for Pied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zoral = Ketoconazole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6372360" y="184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Benzoic ac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2"/>
          <p:cNvSpPr/>
          <p:nvPr/>
        </p:nvSpPr>
        <p:spPr>
          <a:xfrm>
            <a:off x="2197080" y="2667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phyto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395280" y="1268280"/>
            <a:ext cx="8748720" cy="16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are fungal infections of the Keratinized tissues of the body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3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Stratum corneum, Hair, nail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2771640" y="2492280"/>
            <a:ext cx="432000" cy="214560"/>
          </a:xfrm>
          <a:prstGeom prst="rightArrow">
            <a:avLst>
              <a:gd name="adj1" fmla="val 50000"/>
              <a:gd name="adj2" fmla="val 5033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0" name="Picture 6" descr="Figure-22"/>
          <p:cNvPicPr/>
          <p:nvPr/>
        </p:nvPicPr>
        <p:blipFill>
          <a:blip r:embed="rId1"/>
          <a:stretch/>
        </p:blipFill>
        <p:spPr>
          <a:xfrm>
            <a:off x="6012000" y="2116080"/>
            <a:ext cx="1295280" cy="109692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7"/>
          <p:cNvSpPr/>
          <p:nvPr/>
        </p:nvSpPr>
        <p:spPr>
          <a:xfrm>
            <a:off x="7308720" y="20541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crotic scaley cent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7451640" y="2643120"/>
            <a:ext cx="1619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fungus in margin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9"/>
          <p:cNvSpPr/>
          <p:nvPr/>
        </p:nvSpPr>
        <p:spPr>
          <a:xfrm flipV="1">
            <a:off x="7093080" y="2349360"/>
            <a:ext cx="28728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10"/>
          <p:cNvSpPr/>
          <p:nvPr/>
        </p:nvSpPr>
        <p:spPr>
          <a:xfrm>
            <a:off x="7020000" y="2852640"/>
            <a:ext cx="43164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826920" y="3284640"/>
            <a:ext cx="7777440" cy="14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capitis        in the scalp, barber’s itch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kin, hair folicles, and hair are infected.  Infected hair fall-of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thrix hair infection and Ectothri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corporis : In glabrous sk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12"/>
          <p:cNvSpPr/>
          <p:nvPr/>
        </p:nvSpPr>
        <p:spPr>
          <a:xfrm>
            <a:off x="2124000" y="335772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1116000" y="4657680"/>
            <a:ext cx="446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. circinata, t.imbric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14"/>
          <p:cNvSpPr/>
          <p:nvPr/>
        </p:nvSpPr>
        <p:spPr>
          <a:xfrm>
            <a:off x="826920" y="51325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cruris: In groin = jock itch = Dhobie it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1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826920" y="5627520"/>
            <a:ext cx="244980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unguium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nail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barbae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bear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manuum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han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7"/>
          <p:cNvSpPr/>
          <p:nvPr/>
        </p:nvSpPr>
        <p:spPr>
          <a:xfrm>
            <a:off x="395280" y="2349360"/>
            <a:ext cx="5256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/S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 lesion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ea(=Ringworm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18"/>
          <p:cNvSpPr/>
          <p:nvPr/>
        </p:nvSpPr>
        <p:spPr>
          <a:xfrm>
            <a:off x="5581800" y="249228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9"/>
          <p:cNvSpPr/>
          <p:nvPr/>
        </p:nvSpPr>
        <p:spPr>
          <a:xfrm>
            <a:off x="395280" y="2781360"/>
            <a:ext cx="583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s itching – present anywhere in bod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0"/>
          <p:cNvSpPr/>
          <p:nvPr/>
        </p:nvSpPr>
        <p:spPr>
          <a:xfrm>
            <a:off x="826920" y="1773360"/>
            <a:ext cx="259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geou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21"/>
          <p:cNvSpPr/>
          <p:nvPr/>
        </p:nvSpPr>
        <p:spPr>
          <a:xfrm>
            <a:off x="826920" y="48434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pedis (=Athlete’s foot) = swimming pool it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2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5" descr="tcapitis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0"/>
            <a:ext cx="2881440" cy="2349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7" descr="197MIK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0"/>
            <a:ext cx="3527280" cy="25653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9" descr="273MIK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3213000"/>
            <a:ext cx="2520720" cy="1440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1" descr="Athletes_foot_Pict_Plantar_2(1)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03640" y="3141720"/>
            <a:ext cx="3024000" cy="1531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3" descr="PHIL_579_lore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920" y="3284640"/>
            <a:ext cx="2374920" cy="16491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5" descr="nobl_f2"/>
          <p:cNvPicPr/>
          <p:nvPr/>
        </p:nvPicPr>
        <p:blipFill>
          <a:blip r:embed="rId11"/>
          <a:stretch/>
        </p:blipFill>
        <p:spPr>
          <a:xfrm>
            <a:off x="250920" y="5013360"/>
            <a:ext cx="2663640" cy="1573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7" descr="DIS120"/>
          <p:cNvPicPr/>
          <p:nvPr/>
        </p:nvPicPr>
        <p:blipFill>
          <a:blip r:embed="rId12"/>
          <a:stretch/>
        </p:blipFill>
        <p:spPr>
          <a:xfrm>
            <a:off x="3708360" y="4869000"/>
            <a:ext cx="287964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24000" y="670320"/>
            <a:ext cx="4176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ficial Mycos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tyriasis versicolo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ea Nig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edr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ophytos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etoma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sporidiosis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                             Lobomyc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eohyph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moblast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otrich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yg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rgill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cystosis (PCP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ia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yptococcosis,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sporonosis, Geotrichos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08000" y="414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ist of 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500720" y="-457200"/>
            <a:ext cx="41767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8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Systemic Mycose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st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plasm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ccidioid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coccidioid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osis and Oropharyngeal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sis (For Dental Stud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al Eye Infec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2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ed referenc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4284720" y="981000"/>
            <a:ext cx="0" cy="50403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8244000" y="640548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332000" y="4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phytos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468360" y="90792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advanced lesions in scal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468360" y="16765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vu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=t.favos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scutulum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yellow crusts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unpleasant sm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68360" y="2924280"/>
            <a:ext cx="43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mi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7"/>
          <p:cNvSpPr/>
          <p:nvPr/>
        </p:nvSpPr>
        <p:spPr>
          <a:xfrm>
            <a:off x="468360" y="2136600"/>
            <a:ext cx="82803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od’s lam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its filtered U.V. light, infected 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uoresce especiall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porum sp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le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2484360" y="2205000"/>
            <a:ext cx="719280" cy="216000"/>
          </a:xfrm>
          <a:prstGeom prst="rightArrow">
            <a:avLst>
              <a:gd name="adj1" fmla="val 50000"/>
              <a:gd name="adj2" fmla="val 832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468360" y="43401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quired: from infected persons and Pe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0"/>
          <p:cNvSpPr/>
          <p:nvPr/>
        </p:nvSpPr>
        <p:spPr>
          <a:xfrm>
            <a:off x="5508720" y="4119480"/>
            <a:ext cx="9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t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g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Line 11"/>
          <p:cNvSpPr/>
          <p:nvPr/>
        </p:nvSpPr>
        <p:spPr>
          <a:xfrm flipH="1">
            <a:off x="5219280" y="4365720"/>
            <a:ext cx="360360" cy="21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Line 12"/>
          <p:cNvSpPr/>
          <p:nvPr/>
        </p:nvSpPr>
        <p:spPr>
          <a:xfrm>
            <a:off x="5219640" y="4581360"/>
            <a:ext cx="360360" cy="7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13"/>
          <p:cNvSpPr/>
          <p:nvPr/>
        </p:nvSpPr>
        <p:spPr>
          <a:xfrm>
            <a:off x="609480" y="477216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And Livestock Animals (goats, sheep, camel, cows, hor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4"/>
          <p:cNvSpPr/>
          <p:nvPr/>
        </p:nvSpPr>
        <p:spPr>
          <a:xfrm>
            <a:off x="468360" y="12430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ion (pustul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468360" y="3284640"/>
            <a:ext cx="8675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ect children + adults + males and females.  More seen in school-age childr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433440" y="361944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und everywhere in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684360" y="52038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Familial cross infection occ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682560" y="400536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Contageous – caused by primary patho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19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2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332000" y="4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phytos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324000" y="83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324000" y="1341360"/>
            <a:ext cx="8424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ophytes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Imperfect moniliaceous mold fungi,Primary pathoge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utoShape 6"/>
          <p:cNvSpPr/>
          <p:nvPr/>
        </p:nvSpPr>
        <p:spPr>
          <a:xfrm>
            <a:off x="2195640" y="1484280"/>
            <a:ext cx="360360" cy="216000"/>
          </a:xfrm>
          <a:prstGeom prst="rightArrow">
            <a:avLst>
              <a:gd name="adj1" fmla="val 50000"/>
              <a:gd name="adj2" fmla="val 4170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325440" y="1844640"/>
            <a:ext cx="395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dermato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539640" y="239544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 Produce alkaline substa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539640" y="2852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nsitive to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&lt;20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ml griseofulv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0"/>
          <p:cNvSpPr/>
          <p:nvPr/>
        </p:nvSpPr>
        <p:spPr>
          <a:xfrm>
            <a:off x="539640" y="335772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sistant to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0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ml cyclohexim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539640" y="3860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 Have peculiar Hyphal structures li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969840" y="4292640"/>
            <a:ext cx="58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aquet hyphae, nodular bodies, pectinate hyphae, hyphal coils (=spirals), favic chandel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468360" y="5013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 Habitat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re Keratinophilic fung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2556000" y="515772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684360" y="5445000"/>
            <a:ext cx="51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Anthropophilic, Zoophilic, Geophil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1332000" y="4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phytos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68360" y="981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rmatophytes are in 3 gen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08000" y="1587600"/>
            <a:ext cx="9036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ichophyton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en-US" sz="19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T.mentagrophytes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rodents,dogs,livestocks.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.violaceum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human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08000" y="1916280"/>
            <a:ext cx="266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ect skin + hair + na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2556000" y="1879560"/>
            <a:ext cx="5400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.verrucosum</a:t>
            </a: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n cows. </a:t>
            </a: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i="1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.rubrum </a:t>
            </a:r>
            <a:r>
              <a:rPr b="0" lang="en-US" sz="19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n hum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108000" y="2421000"/>
            <a:ext cx="8496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icrosporum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M. canis in cats. M.audouinii in human, M. gypseum in soil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108000" y="2781360"/>
            <a:ext cx="2735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ect skin + hair, but not nai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108000" y="328464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rmophyton floccosum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hum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108000" y="3684600"/>
            <a:ext cx="280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ect skin + nail, but not hai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108000" y="4416480"/>
            <a:ext cx="431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fect stage: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gymnoascaceae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3995640" y="4437000"/>
            <a:ext cx="4608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ectomycetidae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ascomycet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5797440" y="457992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108000" y="4869000"/>
            <a:ext cx="684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phyton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hroderma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AutoShape 16"/>
          <p:cNvSpPr/>
          <p:nvPr/>
        </p:nvSpPr>
        <p:spPr>
          <a:xfrm>
            <a:off x="1908000" y="5013360"/>
            <a:ext cx="721080" cy="216000"/>
          </a:xfrm>
          <a:prstGeom prst="rightArrow">
            <a:avLst>
              <a:gd name="adj1" fmla="val 50000"/>
              <a:gd name="adj2" fmla="val 834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108000" y="5229360"/>
            <a:ext cx="684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porum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</a:t>
            </a:r>
            <a:r>
              <a:rPr b="0" i="1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nnizzia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AutoShape 18"/>
          <p:cNvSpPr/>
          <p:nvPr/>
        </p:nvSpPr>
        <p:spPr>
          <a:xfrm>
            <a:off x="1908000" y="5373720"/>
            <a:ext cx="721080" cy="216000"/>
          </a:xfrm>
          <a:prstGeom prst="rightArrow">
            <a:avLst>
              <a:gd name="adj1" fmla="val 50000"/>
              <a:gd name="adj2" fmla="val 834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108000" y="3984480"/>
            <a:ext cx="6985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reproduce asexually forming conidia by which can be identified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20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3" descr="Figure-23"/>
          <p:cNvPicPr/>
          <p:nvPr/>
        </p:nvPicPr>
        <p:blipFill>
          <a:blip r:embed="rId1"/>
          <a:stretch/>
        </p:blipFill>
        <p:spPr>
          <a:xfrm>
            <a:off x="1619280" y="836640"/>
            <a:ext cx="2236680" cy="3213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Figure-24"/>
          <p:cNvPicPr/>
          <p:nvPr/>
        </p:nvPicPr>
        <p:blipFill>
          <a:blip r:embed="rId2"/>
          <a:stretch/>
        </p:blipFill>
        <p:spPr>
          <a:xfrm>
            <a:off x="6588000" y="1268280"/>
            <a:ext cx="2138400" cy="21862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Figure-25"/>
          <p:cNvPicPr/>
          <p:nvPr/>
        </p:nvPicPr>
        <p:blipFill>
          <a:blip r:embed="rId3"/>
          <a:stretch/>
        </p:blipFill>
        <p:spPr>
          <a:xfrm>
            <a:off x="2987640" y="4869000"/>
            <a:ext cx="4038480" cy="10810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6"/>
          <p:cNvSpPr/>
          <p:nvPr/>
        </p:nvSpPr>
        <p:spPr>
          <a:xfrm>
            <a:off x="1690560" y="1125360"/>
            <a:ext cx="1225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ng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mooth wa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ound t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6802560" y="1477800"/>
            <a:ext cx="86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oug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in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4284720" y="220500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roaleuriospore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macroconidiu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9"/>
          <p:cNvSpPr/>
          <p:nvPr/>
        </p:nvSpPr>
        <p:spPr>
          <a:xfrm flipV="1">
            <a:off x="6012000" y="2205000"/>
            <a:ext cx="18730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10"/>
          <p:cNvSpPr/>
          <p:nvPr/>
        </p:nvSpPr>
        <p:spPr>
          <a:xfrm flipH="1" flipV="1">
            <a:off x="3132000" y="1773360"/>
            <a:ext cx="1224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4140360" y="320832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aleuriospore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Microconidiu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Line 12"/>
          <p:cNvSpPr/>
          <p:nvPr/>
        </p:nvSpPr>
        <p:spPr>
          <a:xfrm flipH="1">
            <a:off x="3276360" y="3357720"/>
            <a:ext cx="934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2050920" y="407664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phy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4211640" y="6093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rmophyt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7020000" y="3645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po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6"/>
          <p:cNvSpPr/>
          <p:nvPr/>
        </p:nvSpPr>
        <p:spPr>
          <a:xfrm>
            <a:off x="7164360" y="4941720"/>
            <a:ext cx="1225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ound t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lub shape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mooth wa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Line 17"/>
          <p:cNvSpPr/>
          <p:nvPr/>
        </p:nvSpPr>
        <p:spPr>
          <a:xfrm flipV="1">
            <a:off x="5867280" y="3213000"/>
            <a:ext cx="9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8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19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332000" y="4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phytos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324000" y="3289320"/>
            <a:ext cx="37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cation Test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468360" y="3936960"/>
            <a:ext cx="7920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thrix &amp; Ectothrix hair inf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ir perforation 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ease 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gment production in PDA &amp; CMA med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trient requirement such as –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phyto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ies Agar 1-7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324000" y="1057320"/>
            <a:ext cx="424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matophyte test medium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DTM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755640" y="2421000"/>
            <a:ext cx="73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cidic pH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yellow,  in alkalin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re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60360" y="1994040"/>
            <a:ext cx="88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pH 5.6, Antibacterial, Antifungal, and Phenol red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Amphoteric dye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9"/>
          <p:cNvSpPr/>
          <p:nvPr/>
        </p:nvSpPr>
        <p:spPr>
          <a:xfrm>
            <a:off x="2484360" y="2565360"/>
            <a:ext cx="647640" cy="216000"/>
          </a:xfrm>
          <a:prstGeom prst="rightArrow">
            <a:avLst>
              <a:gd name="adj1" fmla="val 50000"/>
              <a:gd name="adj2" fmla="val 7495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AutoShape 10"/>
          <p:cNvSpPr/>
          <p:nvPr/>
        </p:nvSpPr>
        <p:spPr>
          <a:xfrm>
            <a:off x="5364000" y="256536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4427640" y="105264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is is a special medium for the identification of dematophyt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755640" y="2786040"/>
            <a:ext cx="838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ve DTM test is growth of the fungus and red color.  It is 98% accurat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332000" y="4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phytos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179280" y="1052640"/>
            <a:ext cx="38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611280" y="2060640"/>
            <a:ext cx="4249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kin scraping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air, Nai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395280" y="2637000"/>
            <a:ext cx="828036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% or 10% KOH will show hyaline Septate hyphae, or spores or both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and Mycobiotic medium. Identif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395280" y="1557360"/>
            <a:ext cx="22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250920" y="3506760"/>
            <a:ext cx="226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538200" y="401004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iseofulvi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Topical or systemic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10"/>
          <p:cNvSpPr/>
          <p:nvPr/>
        </p:nvSpPr>
        <p:spPr>
          <a:xfrm>
            <a:off x="2268360" y="4149720"/>
            <a:ext cx="790920" cy="216000"/>
          </a:xfrm>
          <a:prstGeom prst="rightArrow">
            <a:avLst>
              <a:gd name="adj1" fmla="val 50000"/>
              <a:gd name="adj2" fmla="val 9154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>
            <a:off x="539640" y="444168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oles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a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1619280" y="458136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13"/>
          <p:cNvSpPr/>
          <p:nvPr/>
        </p:nvSpPr>
        <p:spPr>
          <a:xfrm>
            <a:off x="825480" y="4802040"/>
            <a:ext cx="831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iconazole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aktrin)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Clotrimazole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anesten),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Econazo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539640" y="5162400"/>
            <a:ext cx="619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oles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c:  Itraconazole - oth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AutoShape 15"/>
          <p:cNvSpPr/>
          <p:nvPr/>
        </p:nvSpPr>
        <p:spPr>
          <a:xfrm>
            <a:off x="1690560" y="530064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16"/>
          <p:cNvSpPr/>
          <p:nvPr/>
        </p:nvSpPr>
        <p:spPr>
          <a:xfrm>
            <a:off x="539640" y="552276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ylamine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pical, Terbinafine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Lamisil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AutoShape 17"/>
          <p:cNvSpPr/>
          <p:nvPr/>
        </p:nvSpPr>
        <p:spPr>
          <a:xfrm>
            <a:off x="2411280" y="566100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18"/>
          <p:cNvSpPr/>
          <p:nvPr/>
        </p:nvSpPr>
        <p:spPr>
          <a:xfrm>
            <a:off x="539640" y="595008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lnaftat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1% solution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=Tinactin = Tinaderm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AutoShape 19"/>
          <p:cNvSpPr/>
          <p:nvPr/>
        </p:nvSpPr>
        <p:spPr>
          <a:xfrm>
            <a:off x="2050920" y="6093000"/>
            <a:ext cx="720720" cy="215640"/>
          </a:xfrm>
          <a:prstGeom prst="rightArrow">
            <a:avLst>
              <a:gd name="adj1" fmla="val 50000"/>
              <a:gd name="adj2" fmla="val 8355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20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2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1332000" y="4111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rmatomycos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250920" y="1773360"/>
            <a:ext cx="33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 and Onychomycos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5"/>
          <p:cNvSpPr/>
          <p:nvPr/>
        </p:nvSpPr>
        <p:spPr>
          <a:xfrm>
            <a:off x="250920" y="2349360"/>
            <a:ext cx="30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tomycos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6"/>
          <p:cNvSpPr/>
          <p:nvPr/>
        </p:nvSpPr>
        <p:spPr>
          <a:xfrm>
            <a:off x="539640" y="3357720"/>
            <a:ext cx="230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Mycotic keratit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250920" y="2924280"/>
            <a:ext cx="28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ye 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culomycosi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395280" y="3716280"/>
            <a:ext cx="41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rneal  ulcer,corneal absc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539640" y="4076640"/>
            <a:ext cx="453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Endophthalmit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0"/>
          <p:cNvSpPr/>
          <p:nvPr/>
        </p:nvSpPr>
        <p:spPr>
          <a:xfrm>
            <a:off x="4645080" y="1916280"/>
            <a:ext cx="41036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are caused b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albicans, Scytalidium, Scopulariopsis,Fusarium,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remonium,Aspergillus,and others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1"/>
          <p:cNvSpPr/>
          <p:nvPr/>
        </p:nvSpPr>
        <p:spPr>
          <a:xfrm>
            <a:off x="1258920" y="119700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non-dermatophyte skin inf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AutoShape 12"/>
          <p:cNvSpPr/>
          <p:nvPr/>
        </p:nvSpPr>
        <p:spPr>
          <a:xfrm>
            <a:off x="4284720" y="1916280"/>
            <a:ext cx="287280" cy="2592360"/>
          </a:xfrm>
          <a:custGeom>
            <a:avLst/>
            <a:gdLst>
              <a:gd name="textAreaLeft" fmla="*/ 0 w 287280"/>
              <a:gd name="textAreaRight" fmla="*/ 103680 w 2872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13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1692360" y="2667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395280" y="1268280"/>
            <a:ext cx="835344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ic localized subcutaneous infection that involve underlying bone later in the disease cours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lesions are multiple abscess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in symptoms/signes are cold swelling of the affected site (tumefaction), formation of sinuses that drain pus to the surface of the skin, and presence of grai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rains are granules (small colonies), about 1-2 mm diameter, of the etiologic agent with different colo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commonly affected site is the foot, however, it can be in leg, thigh, hand, arm, shoulder, or hea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5" descr="distortion of the foot"/>
          <p:cNvPicPr/>
          <p:nvPr/>
        </p:nvPicPr>
        <p:blipFill>
          <a:blip r:embed="rId1"/>
          <a:stretch/>
        </p:blipFill>
        <p:spPr>
          <a:xfrm>
            <a:off x="2050920" y="333360"/>
            <a:ext cx="4897440" cy="30956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Excised mycetoma showing a draining sinus"/>
          <p:cNvPicPr/>
          <p:nvPr/>
        </p:nvPicPr>
        <p:blipFill>
          <a:blip r:embed="rId2"/>
          <a:stretch/>
        </p:blipFill>
        <p:spPr>
          <a:xfrm>
            <a:off x="1979640" y="3645000"/>
            <a:ext cx="4803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2"/>
          <p:cNvSpPr/>
          <p:nvPr/>
        </p:nvSpPr>
        <p:spPr>
          <a:xfrm>
            <a:off x="1692360" y="2667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3"/>
          <p:cNvSpPr/>
          <p:nvPr/>
        </p:nvSpPr>
        <p:spPr>
          <a:xfrm>
            <a:off x="395280" y="1658880"/>
            <a:ext cx="83534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ection is acquired following trauma to the skin by plant material from trees, shrubs, or  vegetation debris.  Thus more seen in rural areas (in farmers, Sheppards, walking bare-foot in agricultural land or city  park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375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“</a:t>
            </a:r>
            <a:r>
              <a:rPr b="0" lang="en-US" sz="2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adura foot” referring to the first case seen in “Madura” region of India which was in the foot of that pati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ection is very chronic takes months to be fully established and years to deal with.  It is not contagious.  More seen in tropics and subtropic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tiologies are fungi which cause eumycotic mycetoma (Eumycetoma) or actinomycetes which cause actinomycotic mycetoma (actinomycetoma).  Their natural habitats are plant materi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560" y="431280"/>
            <a:ext cx="8569080" cy="602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log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kes = Mushroom = Fun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s  = Study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Study of fung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gdom myceteae (= K. fungi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Characteristics</a:t>
            </a:r>
            <a:r>
              <a:rPr b="1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distinguishing featur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Eukaryotic organis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terotrophic – do not have chlorophyll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chlorophyllou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ell is surrounded by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rigid cell wal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de up of chitin &amp; complex carbohydates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hitosan,Mannan,glucan,galactomann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simple structure – most of them microscop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oduce by spore formation sexually or asexu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1403280" y="3500280"/>
            <a:ext cx="47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>
            <a:off x="6156360" y="3500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1403280" y="3500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1908000" y="3211560"/>
            <a:ext cx="0" cy="288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68360" y="-10008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asic Myc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5651640" y="38354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arasi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276720" y="3860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ymbio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682560" y="38354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aprob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851280" y="350208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8317080" y="640548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3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4"/>
          <p:cNvSpPr/>
          <p:nvPr/>
        </p:nvSpPr>
        <p:spPr>
          <a:xfrm>
            <a:off x="466560" y="836640"/>
            <a:ext cx="8498160" cy="38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umycetoma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:  caused by several mold fungi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The color of grains in this type of mycetoma is black or wh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Fungi include: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adurella, Pseudallescheria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(</a:t>
            </a:r>
            <a:r>
              <a:rPr b="0" i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Scedosporium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),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Pyrenochaeta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(Pycnidia producer), </a:t>
            </a:r>
            <a:r>
              <a:rPr b="0" i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cremonium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and the ascomycetes  </a:t>
            </a:r>
            <a:r>
              <a:rPr b="0" i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Leptosphaeria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Neotestudina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, oth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188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The common etiologies in Saudi Arabia and neighboring countries are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durella mycetomat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auses the majority of the cases with black grains.  It is imperfect dematiaceous mold with brown colonies and diffused honey – colored pigment.  Produces phialoconidia from phialides, and chlamydosp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5"/>
          <p:cNvSpPr/>
          <p:nvPr/>
        </p:nvSpPr>
        <p:spPr>
          <a:xfrm>
            <a:off x="1547640" y="-10008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Picture 6" descr="Fig-1"/>
          <p:cNvPicPr/>
          <p:nvPr/>
        </p:nvPicPr>
        <p:blipFill>
          <a:blip r:embed="rId1"/>
          <a:stretch/>
        </p:blipFill>
        <p:spPr>
          <a:xfrm>
            <a:off x="5867280" y="4797360"/>
            <a:ext cx="3168720" cy="172728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7"/>
          <p:cNvSpPr/>
          <p:nvPr/>
        </p:nvSpPr>
        <p:spPr>
          <a:xfrm>
            <a:off x="7164360" y="472428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yd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8"/>
          <p:cNvSpPr/>
          <p:nvPr/>
        </p:nvSpPr>
        <p:spPr>
          <a:xfrm>
            <a:off x="7524720" y="4941720"/>
            <a:ext cx="360360" cy="142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8064360" y="5068800"/>
            <a:ext cx="14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aloconi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10"/>
          <p:cNvSpPr/>
          <p:nvPr/>
        </p:nvSpPr>
        <p:spPr>
          <a:xfrm flipH="1">
            <a:off x="8243640" y="530208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11"/>
          <p:cNvSpPr/>
          <p:nvPr/>
        </p:nvSpPr>
        <p:spPr>
          <a:xfrm>
            <a:off x="7129440" y="5500800"/>
            <a:ext cx="8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alid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12"/>
          <p:cNvSpPr/>
          <p:nvPr/>
        </p:nvSpPr>
        <p:spPr>
          <a:xfrm>
            <a:off x="7813800" y="566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6659640" y="6508800"/>
            <a:ext cx="24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urella mycetomat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14"/>
          <p:cNvSpPr/>
          <p:nvPr/>
        </p:nvSpPr>
        <p:spPr>
          <a:xfrm>
            <a:off x="468360" y="4827600"/>
            <a:ext cx="532764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durella gris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other species of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durell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 similar to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.mycet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but with grey colon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1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3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466560" y="1854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seudallescheria boydii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– causes white grain mycetoma.          It is Ascomycete mold forming cleistothecia and ascospores.  The imperfect of it is the moniliaceous mold: Scedosporium apiospermum which forms annelloconidia from annell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1547640" y="1159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Fig-2"/>
          <p:cNvPicPr/>
          <p:nvPr/>
        </p:nvPicPr>
        <p:blipFill>
          <a:blip r:embed="rId1"/>
          <a:stretch/>
        </p:blipFill>
        <p:spPr>
          <a:xfrm>
            <a:off x="3635280" y="3616200"/>
            <a:ext cx="4465800" cy="222912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6264360" y="386064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elloconi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8"/>
          <p:cNvSpPr/>
          <p:nvPr/>
        </p:nvSpPr>
        <p:spPr>
          <a:xfrm>
            <a:off x="5724360" y="3933720"/>
            <a:ext cx="576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6156360" y="414972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ell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0"/>
          <p:cNvSpPr/>
          <p:nvPr/>
        </p:nvSpPr>
        <p:spPr>
          <a:xfrm>
            <a:off x="6877080" y="4363920"/>
            <a:ext cx="43164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4789440" y="558972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edosporium apiosperm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3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466560" y="1197000"/>
            <a:ext cx="8353440" cy="54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9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tinomycetoma:  Caused by about 10 species of aerobic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actinomyce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Color of grains yellow, white, yellowish-brown, pinkish – 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Actinomycetes are filamentous higher bacteria.  The filaments (very thin about 1.0 </a:t>
            </a:r>
            <a:r>
              <a:rPr b="0" lang="el-GR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 wide) appear as long branching, beaded, or as long rods.  They are Gram-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ain etiolog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treptomyces somaliensi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- causes the majority of the cases – color of grains yellow to yellow-brow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ctinomadura madurae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white or yellow grai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ctinomadura pelletieri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pinkish-red grai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ocardia brasiliensi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white grai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.asteroide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. caviae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.coeliac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– white or yellow grai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atter species of </a:t>
            </a: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ocardia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usually cause Nocardiosis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which is subcutaneous, pulmonary, or brain abscess infection)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1547640" y="1159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466560" y="1197000"/>
            <a:ext cx="835344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dddddd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Nocardia is acid-fast to partially acid fast when stained by Ziehl-Nelsen stain (ZN) while </a:t>
            </a: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treptomyces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ctinomadura </a:t>
            </a:r>
            <a:r>
              <a:rPr b="0" lang="en-US" sz="20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re nonacid-fas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se actinomycetes are differentiated by their decomposition pattern of casien, tyrosine, xanthine, hypoxanthine, urea, and gelatin.  Also by few other biochemical tests and colony morphology</a:t>
            </a:r>
            <a:r>
              <a:rPr b="0" lang="en-US" sz="22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They have adherent dry colonies). 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e Table of characteristic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naerobic actinomycete; </a:t>
            </a:r>
            <a:r>
              <a:rPr b="0" i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tinomyces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sraelii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auses the infection: “Actinomycosis” which is subcutaneous, cervicofacial, pulmonary, abdominal, uterine, or brain abscess infection.  It also causes dental caries.  The organism is filamentous and will have yellow grains (sulfer granule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1547640" y="11592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3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79280" y="90792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haracteristics of the main species of the above Actinomyce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395280" y="422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composition of Ca= Casien, Ty = Tyrosine, Xa = Xanthine, Hx = Hypoxant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468360" y="1557360"/>
          <a:ext cx="7931160" cy="2565360"/>
        </p:xfrm>
        <a:graphic>
          <a:graphicData uri="http://schemas.openxmlformats.org/drawingml/2006/table">
            <a:tbl>
              <a:tblPr/>
              <a:tblGrid>
                <a:gridCol w="1868400"/>
                <a:gridCol w="646200"/>
                <a:gridCol w="644400"/>
                <a:gridCol w="482760"/>
                <a:gridCol w="644400"/>
                <a:gridCol w="644400"/>
                <a:gridCol w="1236960"/>
                <a:gridCol w="880920"/>
                <a:gridCol w="88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X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H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U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Growth in 0.4X sa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Gelat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Colon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. somaliens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1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.madura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.pelletier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.Brasiliens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.asteroi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hit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Text Box 6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6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250920" y="585720"/>
            <a:ext cx="8569080" cy="63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ecimen: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Visible grains, Biopsy tissue (not skin pinch),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curettings of sinuses, pus, blood for serolog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irst determine color of the grains – it helps identify etiology and initiate treat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ake histologic sections, or grinde tissue and crush grains and make smears – stain by: Hematoxylin-Eosin, Gram, ZN; if fungi do       20% KOH or Periodic acid schiff st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xtract serum for ser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ll reveal grains in tissu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omogenous texture     actinomyce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eterogenous  texture     fungi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tinomycete grain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ll not reveal filaments easi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ungal grain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will contain easily seen hyphae and chlamydosp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rains will have different morphology and color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white, black, yellow, pink, …. etc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depending on etiolo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1547640" y="-27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AutoShape 6"/>
          <p:cNvSpPr/>
          <p:nvPr/>
        </p:nvSpPr>
        <p:spPr>
          <a:xfrm>
            <a:off x="4211640" y="4581360"/>
            <a:ext cx="216000" cy="144720"/>
          </a:xfrm>
          <a:prstGeom prst="rightArrow">
            <a:avLst>
              <a:gd name="adj1" fmla="val 50000"/>
              <a:gd name="adj2" fmla="val 3731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AutoShape 7"/>
          <p:cNvSpPr/>
          <p:nvPr/>
        </p:nvSpPr>
        <p:spPr>
          <a:xfrm>
            <a:off x="4356000" y="4941720"/>
            <a:ext cx="216000" cy="144720"/>
          </a:xfrm>
          <a:prstGeom prst="rightArrow">
            <a:avLst>
              <a:gd name="adj1" fmla="val 50000"/>
              <a:gd name="adj2" fmla="val 3731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5" name="Picture 8" descr="Fig-4"/>
          <p:cNvPicPr/>
          <p:nvPr/>
        </p:nvPicPr>
        <p:blipFill>
          <a:blip r:embed="rId1"/>
          <a:stretch/>
        </p:blipFill>
        <p:spPr>
          <a:xfrm>
            <a:off x="6012000" y="3429000"/>
            <a:ext cx="3024000" cy="145080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9"/>
          <p:cNvSpPr/>
          <p:nvPr/>
        </p:nvSpPr>
        <p:spPr>
          <a:xfrm>
            <a:off x="6877080" y="299736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cope field (10X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7380360" y="3429000"/>
            <a:ext cx="431640" cy="51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1"/>
          <p:cNvSpPr/>
          <p:nvPr/>
        </p:nvSpPr>
        <p:spPr>
          <a:xfrm>
            <a:off x="6013440" y="46530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nomycotic gr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12"/>
          <p:cNvSpPr/>
          <p:nvPr/>
        </p:nvSpPr>
        <p:spPr>
          <a:xfrm>
            <a:off x="8136000" y="4437000"/>
            <a:ext cx="106200" cy="398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3"/>
          <p:cNvSpPr/>
          <p:nvPr/>
        </p:nvSpPr>
        <p:spPr>
          <a:xfrm>
            <a:off x="6518160" y="486900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issue 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14"/>
          <p:cNvSpPr/>
          <p:nvPr/>
        </p:nvSpPr>
        <p:spPr>
          <a:xfrm flipH="1">
            <a:off x="7164000" y="3429000"/>
            <a:ext cx="142920" cy="360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5"/>
          <p:cNvSpPr/>
          <p:nvPr/>
        </p:nvSpPr>
        <p:spPr>
          <a:xfrm>
            <a:off x="7740720" y="4653000"/>
            <a:ext cx="14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mycotic gr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16"/>
          <p:cNvSpPr/>
          <p:nvPr/>
        </p:nvSpPr>
        <p:spPr>
          <a:xfrm>
            <a:off x="6588000" y="4292640"/>
            <a:ext cx="216000" cy="504720"/>
          </a:xfrm>
          <a:prstGeom prst="line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AutoShape 17"/>
          <p:cNvSpPr/>
          <p:nvPr/>
        </p:nvSpPr>
        <p:spPr>
          <a:xfrm>
            <a:off x="3780000" y="5372280"/>
            <a:ext cx="215640" cy="144360"/>
          </a:xfrm>
          <a:prstGeom prst="rightArrow">
            <a:avLst>
              <a:gd name="adj1" fmla="val 50000"/>
              <a:gd name="adj2" fmla="val 3734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18"/>
          <p:cNvSpPr/>
          <p:nvPr/>
        </p:nvSpPr>
        <p:spPr>
          <a:xfrm>
            <a:off x="3060720" y="5734080"/>
            <a:ext cx="216000" cy="144360"/>
          </a:xfrm>
          <a:prstGeom prst="rightArrow">
            <a:avLst>
              <a:gd name="adj1" fmla="val 50000"/>
              <a:gd name="adj2" fmla="val 3740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19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324000" y="2468520"/>
            <a:ext cx="8353440" cy="45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SDA, Neutral – SDA, BHI-A, Blood agar and incubate at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and at 25 -30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aerob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or actinomycosis also cult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cooked meat mediu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d incubate anaerobically at 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organisms will grow slowl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d may be  contaminated with skin flora – purify – identif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st for Antibody using known antigen from each etiologic ag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thods used immunodiffusion (I.D), and /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unterimmunoelectrophoresis (C.I.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 is good for Dx and monitoring treat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547640" y="-27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971640" y="83664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7"/>
          <p:cNvSpPr/>
          <p:nvPr/>
        </p:nvSpPr>
        <p:spPr>
          <a:xfrm>
            <a:off x="755640" y="692280"/>
            <a:ext cx="439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8"/>
          <p:cNvSpPr/>
          <p:nvPr/>
        </p:nvSpPr>
        <p:spPr>
          <a:xfrm>
            <a:off x="755640" y="907920"/>
            <a:ext cx="52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9"/>
          <p:cNvSpPr/>
          <p:nvPr/>
        </p:nvSpPr>
        <p:spPr>
          <a:xfrm>
            <a:off x="468360" y="961920"/>
            <a:ext cx="43909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 of specimen from Nocardiosis and actinomycosis will show branching thin filaments by silver s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10" descr="Fig-5"/>
          <p:cNvPicPr/>
          <p:nvPr/>
        </p:nvPicPr>
        <p:blipFill>
          <a:blip r:embed="rId1"/>
          <a:stretch/>
        </p:blipFill>
        <p:spPr>
          <a:xfrm>
            <a:off x="6804000" y="2781360"/>
            <a:ext cx="2016000" cy="1235160"/>
          </a:xfrm>
          <a:prstGeom prst="rect">
            <a:avLst/>
          </a:prstGeom>
          <a:ln w="0">
            <a:noFill/>
          </a:ln>
        </p:spPr>
      </p:pic>
      <p:sp>
        <p:nvSpPr>
          <p:cNvPr id="706" name="Text Box 11"/>
          <p:cNvSpPr/>
          <p:nvPr/>
        </p:nvSpPr>
        <p:spPr>
          <a:xfrm>
            <a:off x="6516720" y="3789360"/>
            <a:ext cx="215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nomycete filaments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(Gram +v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Picture 12" descr="Fig-3"/>
          <p:cNvPicPr/>
          <p:nvPr/>
        </p:nvPicPr>
        <p:blipFill>
          <a:blip r:embed="rId2"/>
          <a:stretch/>
        </p:blipFill>
        <p:spPr>
          <a:xfrm>
            <a:off x="5867280" y="836640"/>
            <a:ext cx="2816280" cy="121932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13"/>
          <p:cNvSpPr/>
          <p:nvPr/>
        </p:nvSpPr>
        <p:spPr>
          <a:xfrm>
            <a:off x="5867280" y="907920"/>
            <a:ext cx="15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ded filam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14"/>
          <p:cNvSpPr/>
          <p:nvPr/>
        </p:nvSpPr>
        <p:spPr>
          <a:xfrm>
            <a:off x="6985080" y="1974960"/>
            <a:ext cx="19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nomycete filaments (Silver stai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Line 15"/>
          <p:cNvSpPr/>
          <p:nvPr/>
        </p:nvSpPr>
        <p:spPr>
          <a:xfrm>
            <a:off x="6084720" y="1052640"/>
            <a:ext cx="71640" cy="36036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 Box 16"/>
          <p:cNvSpPr/>
          <p:nvPr/>
        </p:nvSpPr>
        <p:spPr>
          <a:xfrm>
            <a:off x="5796000" y="1628640"/>
            <a:ext cx="12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ardia (Gram +v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7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1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466560" y="620640"/>
            <a:ext cx="8353440" cy="64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sually actinomycetoma respond better to treatment than eumyceto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enerally if bone is infected the response to treatment is po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ctinomycetoma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Trimethoprim – Sulfamethoxazole (Cotrimoxazole/ Septrin)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      + Streptomycin sulf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Or: Dapsone + Streptomycin sulf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Or: Doxycycline + Cefach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For Actinomycosis: Penicillin 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umycetom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etoconazole (Nizoral) tablets 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raconazole or voriconaz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drugs not effective and bone is infected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putate the limb or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bride tissue and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tinue R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eatment duration is long – up to yea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1547640" y="-27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ycetoma (=Madura Foot)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AutoShape 6"/>
          <p:cNvSpPr/>
          <p:nvPr/>
        </p:nvSpPr>
        <p:spPr>
          <a:xfrm>
            <a:off x="5724360" y="5443560"/>
            <a:ext cx="287640" cy="217440"/>
          </a:xfrm>
          <a:prstGeom prst="rightArrow">
            <a:avLst>
              <a:gd name="adj1" fmla="val 50000"/>
              <a:gd name="adj2" fmla="val 3307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2341440" y="-10008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hinosporidi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3"/>
          <p:cNvSpPr/>
          <p:nvPr/>
        </p:nvSpPr>
        <p:spPr>
          <a:xfrm>
            <a:off x="611280" y="757080"/>
            <a:ext cx="684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ocutaneous fungal infection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826920" y="46944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611280" y="1177920"/>
            <a:ext cx="60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es: Nasal, Oral </a:t>
            </a: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Palate, epiglottis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onjunctiva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7"/>
          <p:cNvSpPr/>
          <p:nvPr/>
        </p:nvSpPr>
        <p:spPr>
          <a:xfrm>
            <a:off x="611280" y="1549440"/>
            <a:ext cx="56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ion: Polyps, Papillomas, wart-like les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8"/>
          <p:cNvSpPr/>
          <p:nvPr/>
        </p:nvSpPr>
        <p:spPr>
          <a:xfrm>
            <a:off x="250920" y="227016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i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9"/>
          <p:cNvSpPr/>
          <p:nvPr/>
        </p:nvSpPr>
        <p:spPr>
          <a:xfrm>
            <a:off x="468360" y="2701800"/>
            <a:ext cx="41749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hinosporidium seeberi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0"/>
          <p:cNvSpPr/>
          <p:nvPr/>
        </p:nvSpPr>
        <p:spPr>
          <a:xfrm>
            <a:off x="684360" y="3062160"/>
            <a:ext cx="36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tely parasitic fungu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324000" y="3494160"/>
            <a:ext cx="88200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lieved to be hyphochytridiomycetes, does not grow on artificial media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e.g. SDA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12"/>
          <p:cNvSpPr/>
          <p:nvPr/>
        </p:nvSpPr>
        <p:spPr>
          <a:xfrm>
            <a:off x="324000" y="3860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has been grown in tissue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250920" y="599616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yosurgical excision of lesion-relapse comm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14"/>
          <p:cNvSpPr/>
          <p:nvPr/>
        </p:nvSpPr>
        <p:spPr>
          <a:xfrm>
            <a:off x="250920" y="4724280"/>
            <a:ext cx="705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: Stained sections or smears or KOH, will show spherules with endosp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5"/>
          <p:cNvSpPr/>
          <p:nvPr/>
        </p:nvSpPr>
        <p:spPr>
          <a:xfrm>
            <a:off x="252360" y="398520"/>
            <a:ext cx="403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16"/>
          <p:cNvSpPr/>
          <p:nvPr/>
        </p:nvSpPr>
        <p:spPr>
          <a:xfrm>
            <a:off x="611280" y="1909800"/>
            <a:ext cx="561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een in communities near swam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17"/>
          <p:cNvSpPr/>
          <p:nvPr/>
        </p:nvSpPr>
        <p:spPr>
          <a:xfrm>
            <a:off x="252360" y="4292640"/>
            <a:ext cx="74152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men: Biopsy tissue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18"/>
          <p:cNvSpPr/>
          <p:nvPr/>
        </p:nvSpPr>
        <p:spPr>
          <a:xfrm>
            <a:off x="250920" y="566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19"/>
          <p:cNvSpPr/>
          <p:nvPr/>
        </p:nvSpPr>
        <p:spPr>
          <a:xfrm>
            <a:off x="7596360" y="4292640"/>
            <a:ext cx="12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20"/>
          <p:cNvSpPr/>
          <p:nvPr/>
        </p:nvSpPr>
        <p:spPr>
          <a:xfrm>
            <a:off x="8172360" y="422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sp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21"/>
          <p:cNvSpPr/>
          <p:nvPr/>
        </p:nvSpPr>
        <p:spPr>
          <a:xfrm>
            <a:off x="6588000" y="544500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heru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2"/>
          <p:cNvSpPr/>
          <p:nvPr/>
        </p:nvSpPr>
        <p:spPr>
          <a:xfrm>
            <a:off x="250920" y="537372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a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AutoShape 23"/>
          <p:cNvSpPr/>
          <p:nvPr/>
        </p:nvSpPr>
        <p:spPr>
          <a:xfrm>
            <a:off x="2700360" y="5516640"/>
            <a:ext cx="287280" cy="217440"/>
          </a:xfrm>
          <a:prstGeom prst="rightArrow">
            <a:avLst>
              <a:gd name="adj1" fmla="val 50000"/>
              <a:gd name="adj2" fmla="val 3303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24" descr="Fig-42"/>
          <p:cNvPicPr/>
          <p:nvPr/>
        </p:nvPicPr>
        <p:blipFill>
          <a:blip r:embed="rId1"/>
          <a:stretch/>
        </p:blipFill>
        <p:spPr>
          <a:xfrm>
            <a:off x="7380360" y="4581360"/>
            <a:ext cx="1763640" cy="1086120"/>
          </a:xfrm>
          <a:prstGeom prst="rect">
            <a:avLst/>
          </a:prstGeom>
          <a:ln w="0">
            <a:noFill/>
          </a:ln>
        </p:spPr>
      </p:pic>
      <p:sp>
        <p:nvSpPr>
          <p:cNvPr id="742" name="Line 25"/>
          <p:cNvSpPr/>
          <p:nvPr/>
        </p:nvSpPr>
        <p:spPr>
          <a:xfrm flipH="1">
            <a:off x="7811640" y="4437000"/>
            <a:ext cx="505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Line 26"/>
          <p:cNvSpPr/>
          <p:nvPr/>
        </p:nvSpPr>
        <p:spPr>
          <a:xfrm flipV="1">
            <a:off x="7237440" y="5229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7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2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Text Box 2"/>
          <p:cNvSpPr/>
          <p:nvPr/>
        </p:nvSpPr>
        <p:spPr>
          <a:xfrm>
            <a:off x="2629080" y="-100080"/>
            <a:ext cx="35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Lobomy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611280" y="963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aneous – subcutaneous fungal infec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826920" y="49100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6"/>
          <p:cNvSpPr/>
          <p:nvPr/>
        </p:nvSpPr>
        <p:spPr>
          <a:xfrm>
            <a:off x="611280" y="1406520"/>
            <a:ext cx="4824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ion: Keloidal – verrucoid - nodula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7"/>
          <p:cNvSpPr/>
          <p:nvPr/>
        </p:nvSpPr>
        <p:spPr>
          <a:xfrm>
            <a:off x="611280" y="1909800"/>
            <a:ext cx="4681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e: face, ear, arms, leg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8"/>
          <p:cNvSpPr/>
          <p:nvPr/>
        </p:nvSpPr>
        <p:spPr>
          <a:xfrm>
            <a:off x="324000" y="2852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9"/>
          <p:cNvSpPr/>
          <p:nvPr/>
        </p:nvSpPr>
        <p:spPr>
          <a:xfrm>
            <a:off x="611280" y="2332080"/>
            <a:ext cx="4681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ic – localiz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10"/>
          <p:cNvSpPr/>
          <p:nvPr/>
        </p:nvSpPr>
        <p:spPr>
          <a:xfrm>
            <a:off x="2771640" y="2765520"/>
            <a:ext cx="25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azia lobo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11"/>
          <p:cNvSpPr/>
          <p:nvPr/>
        </p:nvSpPr>
        <p:spPr>
          <a:xfrm>
            <a:off x="2771640" y="3130560"/>
            <a:ext cx="2090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=</a:t>
            </a:r>
            <a:r>
              <a:rPr b="0" i="1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boa loboi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684360" y="3500280"/>
            <a:ext cx="3671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gately parasitic fungu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3"/>
          <p:cNvSpPr/>
          <p:nvPr/>
        </p:nvSpPr>
        <p:spPr>
          <a:xfrm>
            <a:off x="684360" y="3933720"/>
            <a:ext cx="7056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grow in culture like SDA media or tissue cultur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14"/>
          <p:cNvSpPr/>
          <p:nvPr/>
        </p:nvSpPr>
        <p:spPr>
          <a:xfrm>
            <a:off x="395280" y="5433840"/>
            <a:ext cx="5616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: Surgical excision of lesion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5"/>
          <p:cNvSpPr/>
          <p:nvPr/>
        </p:nvSpPr>
        <p:spPr>
          <a:xfrm>
            <a:off x="250920" y="54144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395280" y="4481640"/>
            <a:ext cx="8569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pecimen is Biopsy tissue – Direct Microscopy will show chains of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17"/>
          <p:cNvSpPr/>
          <p:nvPr/>
        </p:nvSpPr>
        <p:spPr>
          <a:xfrm>
            <a:off x="755640" y="5073480"/>
            <a:ext cx="496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f specimen will be negativ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1" name="Picture 18" descr="Fig-43"/>
          <p:cNvPicPr/>
          <p:nvPr/>
        </p:nvPicPr>
        <p:blipFill>
          <a:blip r:embed="rId1"/>
          <a:stretch/>
        </p:blipFill>
        <p:spPr>
          <a:xfrm>
            <a:off x="6084720" y="4797360"/>
            <a:ext cx="1800360" cy="1373400"/>
          </a:xfrm>
          <a:prstGeom prst="rect">
            <a:avLst/>
          </a:prstGeom>
          <a:ln w="0">
            <a:noFill/>
          </a:ln>
        </p:spPr>
      </p:pic>
      <p:sp>
        <p:nvSpPr>
          <p:cNvPr id="762" name="Text Box 19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2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867564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ellular – Yeast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charomyces cerevisia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e yeast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albica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s retain individualit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s attach to each othe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 - by – side forming Pseudohyph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amentous – molds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xamples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rgillus, Penicilium Rhizopus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ha - Hyphae - Septum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403280" y="1126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tructure of Fun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2987640" y="1268280"/>
            <a:ext cx="0" cy="43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 flipH="1">
            <a:off x="2410920" y="1700280"/>
            <a:ext cx="57636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6"/>
          <p:cNvSpPr/>
          <p:nvPr/>
        </p:nvSpPr>
        <p:spPr>
          <a:xfrm>
            <a:off x="2987640" y="1700280"/>
            <a:ext cx="1584360" cy="433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1476360" y="2565360"/>
            <a:ext cx="216000" cy="14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1476360" y="2781360"/>
            <a:ext cx="216000" cy="14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9"/>
          <p:cNvSpPr/>
          <p:nvPr/>
        </p:nvSpPr>
        <p:spPr>
          <a:xfrm>
            <a:off x="1258920" y="2637000"/>
            <a:ext cx="216000" cy="1425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10"/>
          <p:cNvSpPr/>
          <p:nvPr/>
        </p:nvSpPr>
        <p:spPr>
          <a:xfrm>
            <a:off x="1258920" y="2852640"/>
            <a:ext cx="216000" cy="14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11"/>
          <p:cNvSpPr/>
          <p:nvPr/>
        </p:nvSpPr>
        <p:spPr>
          <a:xfrm>
            <a:off x="1692360" y="2637000"/>
            <a:ext cx="215640" cy="1425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12"/>
          <p:cNvSpPr/>
          <p:nvPr/>
        </p:nvSpPr>
        <p:spPr>
          <a:xfrm>
            <a:off x="1619280" y="2924280"/>
            <a:ext cx="216000" cy="14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13"/>
          <p:cNvSpPr/>
          <p:nvPr/>
        </p:nvSpPr>
        <p:spPr>
          <a:xfrm>
            <a:off x="1403280" y="2997360"/>
            <a:ext cx="216000" cy="1425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14"/>
          <p:cNvSpPr/>
          <p:nvPr/>
        </p:nvSpPr>
        <p:spPr>
          <a:xfrm>
            <a:off x="1547640" y="3141720"/>
            <a:ext cx="216000" cy="14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Oval 15"/>
          <p:cNvSpPr/>
          <p:nvPr/>
        </p:nvSpPr>
        <p:spPr>
          <a:xfrm>
            <a:off x="1835280" y="2781360"/>
            <a:ext cx="215640" cy="14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16"/>
          <p:cNvSpPr/>
          <p:nvPr/>
        </p:nvSpPr>
        <p:spPr>
          <a:xfrm>
            <a:off x="1835280" y="2997360"/>
            <a:ext cx="215640" cy="1425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17"/>
          <p:cNvSpPr/>
          <p:nvPr/>
        </p:nvSpPr>
        <p:spPr>
          <a:xfrm>
            <a:off x="838080" y="4581360"/>
            <a:ext cx="3302280" cy="719280"/>
          </a:xfrm>
          <a:custGeom>
            <a:avLst/>
            <a:gdLst>
              <a:gd name="textAreaLeft" fmla="*/ 0 w 3302280"/>
              <a:gd name="textAreaRight" fmla="*/ 3302640 w 330228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040" h="389">
                <a:moveTo>
                  <a:pt x="0" y="312"/>
                </a:moveTo>
                <a:cubicBezTo>
                  <a:pt x="115" y="389"/>
                  <a:pt x="347" y="340"/>
                  <a:pt x="444" y="336"/>
                </a:cubicBezTo>
                <a:cubicBezTo>
                  <a:pt x="661" y="300"/>
                  <a:pt x="395" y="341"/>
                  <a:pt x="900" y="312"/>
                </a:cubicBezTo>
                <a:cubicBezTo>
                  <a:pt x="950" y="309"/>
                  <a:pt x="1018" y="283"/>
                  <a:pt x="1068" y="276"/>
                </a:cubicBezTo>
                <a:cubicBezTo>
                  <a:pt x="1274" y="138"/>
                  <a:pt x="1434" y="199"/>
                  <a:pt x="1728" y="192"/>
                </a:cubicBezTo>
                <a:cubicBezTo>
                  <a:pt x="1771" y="178"/>
                  <a:pt x="1819" y="176"/>
                  <a:pt x="1860" y="156"/>
                </a:cubicBezTo>
                <a:cubicBezTo>
                  <a:pt x="1953" y="109"/>
                  <a:pt x="1842" y="150"/>
                  <a:pt x="1932" y="120"/>
                </a:cubicBezTo>
                <a:cubicBezTo>
                  <a:pt x="1955" y="50"/>
                  <a:pt x="1926" y="114"/>
                  <a:pt x="1980" y="60"/>
                </a:cubicBezTo>
                <a:cubicBezTo>
                  <a:pt x="1990" y="50"/>
                  <a:pt x="1994" y="34"/>
                  <a:pt x="2004" y="24"/>
                </a:cubicBezTo>
                <a:cubicBezTo>
                  <a:pt x="2014" y="14"/>
                  <a:pt x="2040" y="0"/>
                  <a:pt x="204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Freeform 18"/>
          <p:cNvSpPr/>
          <p:nvPr/>
        </p:nvSpPr>
        <p:spPr>
          <a:xfrm>
            <a:off x="819000" y="4724280"/>
            <a:ext cx="3392640" cy="709560"/>
          </a:xfrm>
          <a:custGeom>
            <a:avLst/>
            <a:gdLst>
              <a:gd name="textAreaLeft" fmla="*/ 0 w 3392640"/>
              <a:gd name="textAreaRight" fmla="*/ 3393000 w 3392640"/>
              <a:gd name="textAreaTop" fmla="*/ 0 h 709560"/>
              <a:gd name="textAreaBottom" fmla="*/ 709920 h 709560"/>
            </a:gdLst>
            <a:ahLst/>
            <a:rect l="textAreaLeft" t="textAreaTop" r="textAreaRight" b="textAreaBottom"/>
            <a:pathLst>
              <a:path w="2088" h="417">
                <a:moveTo>
                  <a:pt x="0" y="372"/>
                </a:moveTo>
                <a:cubicBezTo>
                  <a:pt x="136" y="417"/>
                  <a:pt x="283" y="382"/>
                  <a:pt x="420" y="360"/>
                </a:cubicBezTo>
                <a:cubicBezTo>
                  <a:pt x="484" y="350"/>
                  <a:pt x="612" y="336"/>
                  <a:pt x="612" y="336"/>
                </a:cubicBezTo>
                <a:cubicBezTo>
                  <a:pt x="791" y="276"/>
                  <a:pt x="561" y="349"/>
                  <a:pt x="1080" y="312"/>
                </a:cubicBezTo>
                <a:cubicBezTo>
                  <a:pt x="1179" y="305"/>
                  <a:pt x="1274" y="228"/>
                  <a:pt x="1368" y="204"/>
                </a:cubicBezTo>
                <a:cubicBezTo>
                  <a:pt x="1529" y="164"/>
                  <a:pt x="1400" y="193"/>
                  <a:pt x="1764" y="180"/>
                </a:cubicBezTo>
                <a:cubicBezTo>
                  <a:pt x="1851" y="170"/>
                  <a:pt x="1931" y="169"/>
                  <a:pt x="2004" y="120"/>
                </a:cubicBezTo>
                <a:cubicBezTo>
                  <a:pt x="2038" y="69"/>
                  <a:pt x="2018" y="55"/>
                  <a:pt x="2076" y="36"/>
                </a:cubicBezTo>
                <a:cubicBezTo>
                  <a:pt x="2080" y="24"/>
                  <a:pt x="2088" y="0"/>
                  <a:pt x="2088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>
            <a:off x="1763640" y="51577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2700360" y="5013360"/>
            <a:ext cx="7128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21"/>
          <p:cNvSpPr/>
          <p:nvPr/>
        </p:nvSpPr>
        <p:spPr>
          <a:xfrm>
            <a:off x="3348000" y="4941720"/>
            <a:ext cx="71640" cy="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>
            <a:off x="3924360" y="4941720"/>
            <a:ext cx="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>
            <a:off x="1763640" y="4869000"/>
            <a:ext cx="14292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4"/>
          <p:cNvSpPr/>
          <p:nvPr/>
        </p:nvSpPr>
        <p:spPr>
          <a:xfrm>
            <a:off x="826920" y="4292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ate hyp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771640" y="522936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woven hyphae = Myceliu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324000" y="5605560"/>
            <a:ext cx="87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orphic: Have two forms depending on change in the environmental factor like 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emp., 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Medium and culture Vs Hos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27"/>
          <p:cNvSpPr/>
          <p:nvPr/>
        </p:nvSpPr>
        <p:spPr>
          <a:xfrm>
            <a:off x="4838760" y="5013360"/>
            <a:ext cx="3467160" cy="20952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2184" h="132">
                <a:moveTo>
                  <a:pt x="0" y="132"/>
                </a:moveTo>
                <a:cubicBezTo>
                  <a:pt x="269" y="125"/>
                  <a:pt x="497" y="116"/>
                  <a:pt x="756" y="84"/>
                </a:cubicBezTo>
                <a:cubicBezTo>
                  <a:pt x="925" y="92"/>
                  <a:pt x="1092" y="101"/>
                  <a:pt x="1260" y="120"/>
                </a:cubicBezTo>
                <a:cubicBezTo>
                  <a:pt x="1561" y="113"/>
                  <a:pt x="1705" y="109"/>
                  <a:pt x="1956" y="84"/>
                </a:cubicBezTo>
                <a:cubicBezTo>
                  <a:pt x="2029" y="60"/>
                  <a:pt x="2104" y="0"/>
                  <a:pt x="2184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Freeform 28"/>
          <p:cNvSpPr/>
          <p:nvPr/>
        </p:nvSpPr>
        <p:spPr>
          <a:xfrm>
            <a:off x="4857840" y="4830840"/>
            <a:ext cx="3409920" cy="253800"/>
          </a:xfrm>
          <a:custGeom>
            <a:avLst/>
            <a:gdLst>
              <a:gd name="textAreaLeft" fmla="*/ 0 w 3409920"/>
              <a:gd name="textAreaRight" fmla="*/ 3410280 w 34099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48" h="160">
                <a:moveTo>
                  <a:pt x="0" y="120"/>
                </a:moveTo>
                <a:cubicBezTo>
                  <a:pt x="60" y="160"/>
                  <a:pt x="92" y="123"/>
                  <a:pt x="156" y="120"/>
                </a:cubicBezTo>
                <a:cubicBezTo>
                  <a:pt x="316" y="113"/>
                  <a:pt x="476" y="112"/>
                  <a:pt x="636" y="108"/>
                </a:cubicBezTo>
                <a:cubicBezTo>
                  <a:pt x="819" y="47"/>
                  <a:pt x="1320" y="94"/>
                  <a:pt x="1428" y="96"/>
                </a:cubicBezTo>
                <a:cubicBezTo>
                  <a:pt x="1631" y="121"/>
                  <a:pt x="1591" y="121"/>
                  <a:pt x="1920" y="96"/>
                </a:cubicBezTo>
                <a:cubicBezTo>
                  <a:pt x="1976" y="92"/>
                  <a:pt x="2020" y="53"/>
                  <a:pt x="2064" y="24"/>
                </a:cubicBezTo>
                <a:cubicBezTo>
                  <a:pt x="2088" y="8"/>
                  <a:pt x="2122" y="13"/>
                  <a:pt x="2148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5003640" y="522936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30"/>
          <p:cNvSpPr/>
          <p:nvPr/>
        </p:nvSpPr>
        <p:spPr>
          <a:xfrm>
            <a:off x="4952880" y="5005440"/>
            <a:ext cx="3124440" cy="15228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968" h="96">
                <a:moveTo>
                  <a:pt x="0" y="96"/>
                </a:moveTo>
                <a:cubicBezTo>
                  <a:pt x="170" y="39"/>
                  <a:pt x="378" y="56"/>
                  <a:pt x="552" y="48"/>
                </a:cubicBezTo>
                <a:cubicBezTo>
                  <a:pt x="620" y="37"/>
                  <a:pt x="690" y="34"/>
                  <a:pt x="756" y="12"/>
                </a:cubicBezTo>
                <a:cubicBezTo>
                  <a:pt x="836" y="16"/>
                  <a:pt x="916" y="18"/>
                  <a:pt x="996" y="24"/>
                </a:cubicBezTo>
                <a:cubicBezTo>
                  <a:pt x="1045" y="28"/>
                  <a:pt x="1091" y="56"/>
                  <a:pt x="1140" y="60"/>
                </a:cubicBezTo>
                <a:cubicBezTo>
                  <a:pt x="1196" y="64"/>
                  <a:pt x="1252" y="68"/>
                  <a:pt x="1308" y="72"/>
                </a:cubicBezTo>
                <a:cubicBezTo>
                  <a:pt x="1489" y="62"/>
                  <a:pt x="1666" y="45"/>
                  <a:pt x="1848" y="36"/>
                </a:cubicBezTo>
                <a:cubicBezTo>
                  <a:pt x="1872" y="28"/>
                  <a:pt x="1896" y="20"/>
                  <a:pt x="1920" y="12"/>
                </a:cubicBezTo>
                <a:cubicBezTo>
                  <a:pt x="1936" y="7"/>
                  <a:pt x="1968" y="0"/>
                  <a:pt x="1968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659640" y="33336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4643280" y="19890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ast-lik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2195640" y="24210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35"/>
          <p:cNvSpPr/>
          <p:nvPr/>
        </p:nvSpPr>
        <p:spPr>
          <a:xfrm rot="2513400">
            <a:off x="3565080" y="2060640"/>
            <a:ext cx="142920" cy="647640"/>
          </a:xfrm>
          <a:prstGeom prst="flowChartTerminator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36"/>
          <p:cNvSpPr/>
          <p:nvPr/>
        </p:nvSpPr>
        <p:spPr>
          <a:xfrm rot="2513400">
            <a:off x="3131640" y="2565360"/>
            <a:ext cx="142920" cy="647640"/>
          </a:xfrm>
          <a:prstGeom prst="flowChartTerminator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7"/>
          <p:cNvSpPr/>
          <p:nvPr/>
        </p:nvSpPr>
        <p:spPr>
          <a:xfrm rot="2513400">
            <a:off x="2700000" y="3068640"/>
            <a:ext cx="142920" cy="647640"/>
          </a:xfrm>
          <a:prstGeom prst="flowChartTerminator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38"/>
          <p:cNvSpPr/>
          <p:nvPr/>
        </p:nvSpPr>
        <p:spPr>
          <a:xfrm>
            <a:off x="5796000" y="4726080"/>
            <a:ext cx="0" cy="21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39"/>
          <p:cNvSpPr/>
          <p:nvPr/>
        </p:nvSpPr>
        <p:spPr>
          <a:xfrm>
            <a:off x="324000" y="6308640"/>
            <a:ext cx="8748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morphic: Only one form regardless of environment.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0"/>
          <p:cNvSpPr/>
          <p:nvPr/>
        </p:nvSpPr>
        <p:spPr>
          <a:xfrm>
            <a:off x="4716360" y="4292640"/>
            <a:ext cx="42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septate hypha (coenocytic hyph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41"/>
          <p:cNvSpPr/>
          <p:nvPr/>
        </p:nvSpPr>
        <p:spPr>
          <a:xfrm>
            <a:off x="2556000" y="4365720"/>
            <a:ext cx="2232000" cy="142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2"/>
          <p:cNvSpPr/>
          <p:nvPr/>
        </p:nvSpPr>
        <p:spPr>
          <a:xfrm flipH="1">
            <a:off x="2340000" y="4363920"/>
            <a:ext cx="216000" cy="14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3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4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2197080" y="-1000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haeohyphomy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3"/>
          <p:cNvSpPr/>
          <p:nvPr/>
        </p:nvSpPr>
        <p:spPr>
          <a:xfrm>
            <a:off x="395280" y="62064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395280" y="234792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matiaceous imperfect mold fungi. Mainly: </a:t>
            </a:r>
            <a:r>
              <a:rPr b="0" i="1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ladosporium, Exophiala, Wangiella, Cladophialophora bantiana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dosporium bantianum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                          </a:t>
            </a:r>
            <a:r>
              <a:rPr b="0" i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amichloridium (Rhinocladiella) mackenziei, Bipolaris, Drechslera, Rhinocladiel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7" descr="Fig-30"/>
          <p:cNvPicPr/>
          <p:nvPr/>
        </p:nvPicPr>
        <p:blipFill>
          <a:blip r:embed="rId1"/>
          <a:stretch/>
        </p:blipFill>
        <p:spPr>
          <a:xfrm>
            <a:off x="7453440" y="3714840"/>
            <a:ext cx="1476360" cy="752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8"/>
          <p:cNvSpPr/>
          <p:nvPr/>
        </p:nvSpPr>
        <p:spPr>
          <a:xfrm rot="19232400">
            <a:off x="8269920" y="35539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9"/>
          <p:cNvSpPr/>
          <p:nvPr/>
        </p:nvSpPr>
        <p:spPr>
          <a:xfrm>
            <a:off x="395280" y="3357720"/>
            <a:ext cx="6840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cladosporoides, E.jeanselmei, W.dermatitidi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10"/>
          <p:cNvSpPr/>
          <p:nvPr/>
        </p:nvSpPr>
        <p:spPr>
          <a:xfrm>
            <a:off x="755640" y="1195560"/>
            <a:ext cx="8137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ubcutaneous or brain Abscess caused by dematiaceous fung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 Box 11"/>
          <p:cNvSpPr/>
          <p:nvPr/>
        </p:nvSpPr>
        <p:spPr>
          <a:xfrm>
            <a:off x="755640" y="1555920"/>
            <a:ext cx="8137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ected site:  Thigh, legs, feet, arms, ….etc, brain (cerebral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12"/>
          <p:cNvSpPr/>
          <p:nvPr/>
        </p:nvSpPr>
        <p:spPr>
          <a:xfrm>
            <a:off x="395280" y="191628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3"/>
          <p:cNvSpPr/>
          <p:nvPr/>
        </p:nvSpPr>
        <p:spPr>
          <a:xfrm>
            <a:off x="395280" y="3789360"/>
            <a:ext cx="820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tropic fungi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ebral PHM as R.mack, C.ban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14"/>
          <p:cNvSpPr/>
          <p:nvPr/>
        </p:nvSpPr>
        <p:spPr>
          <a:xfrm>
            <a:off x="395280" y="4221000"/>
            <a:ext cx="8209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ally in woody plants, woods, agricultural soil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15"/>
          <p:cNvSpPr/>
          <p:nvPr/>
        </p:nvSpPr>
        <p:spPr>
          <a:xfrm>
            <a:off x="468360" y="4581360"/>
            <a:ext cx="6840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16"/>
          <p:cNvSpPr/>
          <p:nvPr/>
        </p:nvSpPr>
        <p:spPr>
          <a:xfrm>
            <a:off x="611280" y="4941720"/>
            <a:ext cx="820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s:  Pus, biopsy tissu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17"/>
          <p:cNvSpPr/>
          <p:nvPr/>
        </p:nvSpPr>
        <p:spPr>
          <a:xfrm>
            <a:off x="611280" y="5300640"/>
            <a:ext cx="8281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:  KOH &amp; smears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n septate hypha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AutoShape 18"/>
          <p:cNvSpPr/>
          <p:nvPr/>
        </p:nvSpPr>
        <p:spPr>
          <a:xfrm>
            <a:off x="5435640" y="5445000"/>
            <a:ext cx="649080" cy="21600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19"/>
          <p:cNvSpPr/>
          <p:nvPr/>
        </p:nvSpPr>
        <p:spPr>
          <a:xfrm>
            <a:off x="611280" y="5661000"/>
            <a:ext cx="7129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: On SDA &amp; Mycobiotic – very slow growing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black or grey coloni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20"/>
          <p:cNvSpPr/>
          <p:nvPr/>
        </p:nvSpPr>
        <p:spPr>
          <a:xfrm rot="21465600">
            <a:off x="7667280" y="4022640"/>
            <a:ext cx="114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 specimen in KO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AutoShape 21"/>
          <p:cNvSpPr/>
          <p:nvPr/>
        </p:nvSpPr>
        <p:spPr>
          <a:xfrm>
            <a:off x="2987640" y="3933720"/>
            <a:ext cx="216000" cy="21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22"/>
          <p:cNvSpPr/>
          <p:nvPr/>
        </p:nvSpPr>
        <p:spPr>
          <a:xfrm>
            <a:off x="8532720" y="6308640"/>
            <a:ext cx="8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2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1116000" y="2462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moblastomycosis (=Chromomyc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755640" y="1341360"/>
            <a:ext cx="79930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lesions are Hyperkeratotic, Verrucous, Pedenculus, Violaceous, Cauliflower, Initially Ulcerative, Autochthonous spread 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5"/>
          <p:cNvSpPr/>
          <p:nvPr/>
        </p:nvSpPr>
        <p:spPr>
          <a:xfrm>
            <a:off x="826920" y="462924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6"/>
          <p:cNvSpPr/>
          <p:nvPr/>
        </p:nvSpPr>
        <p:spPr>
          <a:xfrm>
            <a:off x="755640" y="3573360"/>
            <a:ext cx="7272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hialophora verrucosa, Fonsecaea pedrosoi, Exophiala, Cladosporium</a:t>
            </a:r>
            <a:r>
              <a:rPr b="0" i="1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7"/>
          <p:cNvSpPr/>
          <p:nvPr/>
        </p:nvSpPr>
        <p:spPr>
          <a:xfrm>
            <a:off x="395280" y="909720"/>
            <a:ext cx="8353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Text Box 8"/>
          <p:cNvSpPr/>
          <p:nvPr/>
        </p:nvSpPr>
        <p:spPr>
          <a:xfrm>
            <a:off x="755640" y="2482920"/>
            <a:ext cx="6337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ected sites: extremitees, mainly feet &amp; leg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395280" y="2770200"/>
            <a:ext cx="8353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10"/>
          <p:cNvSpPr/>
          <p:nvPr/>
        </p:nvSpPr>
        <p:spPr>
          <a:xfrm>
            <a:off x="755640" y="3214800"/>
            <a:ext cx="8353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matiaceous imperfect mold fungi in woods and woody plants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395280" y="4282920"/>
            <a:ext cx="8353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men, Biopsy tissue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12"/>
          <p:cNvSpPr/>
          <p:nvPr/>
        </p:nvSpPr>
        <p:spPr>
          <a:xfrm>
            <a:off x="754200" y="4654440"/>
            <a:ext cx="792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  KOH &amp; smears      brown cells with septa,  Brown Muriform cell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=sclerotic bodies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AutoShape 13"/>
          <p:cNvSpPr/>
          <p:nvPr/>
        </p:nvSpPr>
        <p:spPr>
          <a:xfrm>
            <a:off x="5508720" y="472608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754200" y="5364000"/>
            <a:ext cx="7921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  On SDA and Mycobiotic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116000" y="5722920"/>
            <a:ext cx="244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ery slow growing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3419640" y="5734080"/>
            <a:ext cx="3024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matiaceous fung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Oval 17"/>
          <p:cNvSpPr/>
          <p:nvPr/>
        </p:nvSpPr>
        <p:spPr>
          <a:xfrm>
            <a:off x="6084720" y="5445000"/>
            <a:ext cx="648000" cy="5065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Oval 18"/>
          <p:cNvSpPr/>
          <p:nvPr/>
        </p:nvSpPr>
        <p:spPr>
          <a:xfrm>
            <a:off x="6948360" y="5446800"/>
            <a:ext cx="360360" cy="287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Oval 19"/>
          <p:cNvSpPr/>
          <p:nvPr/>
        </p:nvSpPr>
        <p:spPr>
          <a:xfrm>
            <a:off x="5940360" y="6021360"/>
            <a:ext cx="360360" cy="287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Oval 20"/>
          <p:cNvSpPr/>
          <p:nvPr/>
        </p:nvSpPr>
        <p:spPr>
          <a:xfrm>
            <a:off x="6732720" y="5878440"/>
            <a:ext cx="360360" cy="28728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Freeform 21"/>
          <p:cNvSpPr/>
          <p:nvPr/>
        </p:nvSpPr>
        <p:spPr>
          <a:xfrm>
            <a:off x="6095880" y="5516640"/>
            <a:ext cx="492120" cy="180720"/>
          </a:xfrm>
          <a:custGeom>
            <a:avLst/>
            <a:gdLst>
              <a:gd name="textAreaLeft" fmla="*/ 0 w 492120"/>
              <a:gd name="textAreaRight" fmla="*/ 492480 w 4921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396" h="204">
                <a:moveTo>
                  <a:pt x="0" y="120"/>
                </a:moveTo>
                <a:cubicBezTo>
                  <a:pt x="125" y="204"/>
                  <a:pt x="43" y="170"/>
                  <a:pt x="264" y="156"/>
                </a:cubicBezTo>
                <a:cubicBezTo>
                  <a:pt x="267" y="155"/>
                  <a:pt x="340" y="138"/>
                  <a:pt x="348" y="132"/>
                </a:cubicBezTo>
                <a:cubicBezTo>
                  <a:pt x="384" y="103"/>
                  <a:pt x="396" y="44"/>
                  <a:pt x="396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Freeform 22"/>
          <p:cNvSpPr/>
          <p:nvPr/>
        </p:nvSpPr>
        <p:spPr>
          <a:xfrm>
            <a:off x="6372360" y="5661000"/>
            <a:ext cx="228600" cy="216000"/>
          </a:xfrm>
          <a:custGeom>
            <a:avLst/>
            <a:gdLst>
              <a:gd name="textAreaLeft" fmla="*/ 0 w 228600"/>
              <a:gd name="textAreaRight" fmla="*/ 228960 w 2286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44" h="108">
                <a:moveTo>
                  <a:pt x="0" y="0"/>
                </a:moveTo>
                <a:cubicBezTo>
                  <a:pt x="29" y="10"/>
                  <a:pt x="49" y="13"/>
                  <a:pt x="72" y="36"/>
                </a:cubicBezTo>
                <a:cubicBezTo>
                  <a:pt x="82" y="46"/>
                  <a:pt x="86" y="62"/>
                  <a:pt x="96" y="72"/>
                </a:cubicBezTo>
                <a:cubicBezTo>
                  <a:pt x="110" y="86"/>
                  <a:pt x="130" y="94"/>
                  <a:pt x="144" y="1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Freeform 23"/>
          <p:cNvSpPr/>
          <p:nvPr/>
        </p:nvSpPr>
        <p:spPr>
          <a:xfrm>
            <a:off x="7086600" y="5508720"/>
            <a:ext cx="196920" cy="196920"/>
          </a:xfrm>
          <a:custGeom>
            <a:avLst/>
            <a:gdLst>
              <a:gd name="textAreaLeft" fmla="*/ 0 w 196920"/>
              <a:gd name="textAreaRight" fmla="*/ 197280 w 19692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24" h="124">
                <a:moveTo>
                  <a:pt x="108" y="16"/>
                </a:moveTo>
                <a:cubicBezTo>
                  <a:pt x="76" y="112"/>
                  <a:pt x="124" y="0"/>
                  <a:pt x="60" y="64"/>
                </a:cubicBezTo>
                <a:cubicBezTo>
                  <a:pt x="51" y="73"/>
                  <a:pt x="57" y="91"/>
                  <a:pt x="48" y="100"/>
                </a:cubicBezTo>
                <a:cubicBezTo>
                  <a:pt x="44" y="104"/>
                  <a:pt x="11" y="113"/>
                  <a:pt x="0" y="1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Freeform 24"/>
          <p:cNvSpPr/>
          <p:nvPr/>
        </p:nvSpPr>
        <p:spPr>
          <a:xfrm>
            <a:off x="6800760" y="5950080"/>
            <a:ext cx="292320" cy="19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52" h="140">
                <a:moveTo>
                  <a:pt x="132" y="20"/>
                </a:moveTo>
                <a:cubicBezTo>
                  <a:pt x="68" y="116"/>
                  <a:pt x="152" y="0"/>
                  <a:pt x="72" y="80"/>
                </a:cubicBezTo>
                <a:cubicBezTo>
                  <a:pt x="62" y="90"/>
                  <a:pt x="59" y="107"/>
                  <a:pt x="48" y="116"/>
                </a:cubicBezTo>
                <a:cubicBezTo>
                  <a:pt x="38" y="124"/>
                  <a:pt x="23" y="122"/>
                  <a:pt x="12" y="128"/>
                </a:cubicBezTo>
                <a:cubicBezTo>
                  <a:pt x="7" y="131"/>
                  <a:pt x="4" y="136"/>
                  <a:pt x="0" y="14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Text Box 25"/>
          <p:cNvSpPr/>
          <p:nvPr/>
        </p:nvSpPr>
        <p:spPr>
          <a:xfrm>
            <a:off x="6227640" y="62373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KO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2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 Box 2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3"/>
          <p:cNvSpPr/>
          <p:nvPr/>
        </p:nvSpPr>
        <p:spPr>
          <a:xfrm>
            <a:off x="2340000" y="463716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st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5651640" y="4941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echsl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4427640" y="4076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J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3" name="Picture 6" descr="Fig-33"/>
          <p:cNvPicPr/>
          <p:nvPr/>
        </p:nvPicPr>
        <p:blipFill>
          <a:blip r:embed="rId1"/>
          <a:stretch/>
        </p:blipFill>
        <p:spPr>
          <a:xfrm>
            <a:off x="1042920" y="700200"/>
            <a:ext cx="7274160" cy="481464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7"/>
          <p:cNvSpPr/>
          <p:nvPr/>
        </p:nvSpPr>
        <p:spPr>
          <a:xfrm>
            <a:off x="1763640" y="1989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ichloridum mackenzie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804000" y="197172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dospor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4788000" y="2997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alopho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6877080" y="35560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pola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1906560" y="501336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secaea pedroso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5508720" y="50846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phia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468360" y="476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Management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haeophypho. &amp; Chromoblas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 Box 3"/>
          <p:cNvSpPr/>
          <p:nvPr/>
        </p:nvSpPr>
        <p:spPr>
          <a:xfrm>
            <a:off x="755640" y="1762200"/>
            <a:ext cx="640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n surgical excision of the lesion + Antifung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6"/>
          <p:cNvSpPr/>
          <p:nvPr/>
        </p:nvSpPr>
        <p:spPr>
          <a:xfrm>
            <a:off x="468360" y="3611520"/>
            <a:ext cx="828036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zoles </a:t>
            </a:r>
            <a:r>
              <a:rPr b="0" lang="en-US" sz="23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e.g. Voriconazole, Posaconazole)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spofungin 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 Box 7"/>
          <p:cNvSpPr/>
          <p:nvPr/>
        </p:nvSpPr>
        <p:spPr>
          <a:xfrm>
            <a:off x="395280" y="1341360"/>
            <a:ext cx="5832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utaneous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 Box 8"/>
          <p:cNvSpPr/>
          <p:nvPr/>
        </p:nvSpPr>
        <p:spPr>
          <a:xfrm>
            <a:off x="468360" y="2338560"/>
            <a:ext cx="748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ebral phaeohypho:  Aspiration of Pus - Antifungal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9"/>
          <p:cNvSpPr/>
          <p:nvPr/>
        </p:nvSpPr>
        <p:spPr>
          <a:xfrm>
            <a:off x="900000" y="2986200"/>
            <a:ext cx="640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photericin B, 5-Fluorocytosine (5-FC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10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Text Box 1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2627280" y="-17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orotrich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34920" y="105264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ymphocutaneous and subcutaneous granulomatous lesions -  suppurate, ulcerate.  The lesions are nodules or ulcers in local lympha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5"/>
          <p:cNvSpPr/>
          <p:nvPr/>
        </p:nvSpPr>
        <p:spPr>
          <a:xfrm>
            <a:off x="826920" y="4844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539640" y="2133720"/>
            <a:ext cx="4824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ected sites: extremities, joints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Text Box 7"/>
          <p:cNvSpPr/>
          <p:nvPr/>
        </p:nvSpPr>
        <p:spPr>
          <a:xfrm>
            <a:off x="900000" y="3224160"/>
            <a:ext cx="79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morphic, imperfect fungus  in trees, shrubs, plant debr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8"/>
          <p:cNvSpPr/>
          <p:nvPr/>
        </p:nvSpPr>
        <p:spPr>
          <a:xfrm>
            <a:off x="468360" y="4641840"/>
            <a:ext cx="8496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1" lang="en-US" sz="23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:Biopsy tissue,ulcerative materia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9"/>
          <p:cNvSpPr/>
          <p:nvPr/>
        </p:nvSpPr>
        <p:spPr>
          <a:xfrm>
            <a:off x="395280" y="620640"/>
            <a:ext cx="316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10"/>
          <p:cNvSpPr/>
          <p:nvPr/>
        </p:nvSpPr>
        <p:spPr>
          <a:xfrm>
            <a:off x="898560" y="2503440"/>
            <a:ext cx="37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agricultural commun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Text Box 11"/>
          <p:cNvSpPr/>
          <p:nvPr/>
        </p:nvSpPr>
        <p:spPr>
          <a:xfrm>
            <a:off x="468360" y="2863800"/>
            <a:ext cx="194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2"/>
          <p:cNvSpPr/>
          <p:nvPr/>
        </p:nvSpPr>
        <p:spPr>
          <a:xfrm>
            <a:off x="539640" y="3645000"/>
            <a:ext cx="828036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othrix schenckii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ast in human tissue &amp; at 37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in culture.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old in culture at room temperature with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flowerettes of conid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13"/>
          <p:cNvSpPr/>
          <p:nvPr/>
        </p:nvSpPr>
        <p:spPr>
          <a:xfrm>
            <a:off x="900000" y="5024520"/>
            <a:ext cx="8244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: smear      Finger-like yeast cells or Cigar      Some are oval.  Also asteroid bodies may be seen.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AutoShape 14"/>
          <p:cNvSpPr/>
          <p:nvPr/>
        </p:nvSpPr>
        <p:spPr>
          <a:xfrm>
            <a:off x="4141800" y="5157720"/>
            <a:ext cx="287280" cy="227160"/>
          </a:xfrm>
          <a:prstGeom prst="rightArrow">
            <a:avLst>
              <a:gd name="adj1" fmla="val 50000"/>
              <a:gd name="adj2" fmla="val 3161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15"/>
          <p:cNvSpPr/>
          <p:nvPr/>
        </p:nvSpPr>
        <p:spPr>
          <a:xfrm>
            <a:off x="900000" y="5578560"/>
            <a:ext cx="7775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:  On SDA at room temperature to grow mold, and on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blood agar at 37</a:t>
            </a:r>
            <a:r>
              <a:rPr b="0" lang="en-US" sz="23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to grow ye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16"/>
          <p:cNvSpPr/>
          <p:nvPr/>
        </p:nvSpPr>
        <p:spPr>
          <a:xfrm>
            <a:off x="539640" y="6226200"/>
            <a:ext cx="2089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17"/>
          <p:cNvSpPr/>
          <p:nvPr/>
        </p:nvSpPr>
        <p:spPr>
          <a:xfrm>
            <a:off x="2124000" y="6226200"/>
            <a:ext cx="223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rin, KI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18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 Box 19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3"/>
          <p:cNvSpPr/>
          <p:nvPr/>
        </p:nvSpPr>
        <p:spPr>
          <a:xfrm>
            <a:off x="755640" y="50846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Picture 4" descr="Fig-40"/>
          <p:cNvPicPr/>
          <p:nvPr/>
        </p:nvPicPr>
        <p:blipFill>
          <a:blip r:embed="rId1"/>
          <a:stretch/>
        </p:blipFill>
        <p:spPr>
          <a:xfrm>
            <a:off x="4789440" y="2276640"/>
            <a:ext cx="2303640" cy="163008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5" descr="Fig-41"/>
          <p:cNvPicPr/>
          <p:nvPr/>
        </p:nvPicPr>
        <p:blipFill>
          <a:blip r:embed="rId2"/>
          <a:stretch/>
        </p:blipFill>
        <p:spPr>
          <a:xfrm>
            <a:off x="1619280" y="2546280"/>
            <a:ext cx="2663640" cy="1247760"/>
          </a:xfrm>
          <a:prstGeom prst="rect">
            <a:avLst/>
          </a:prstGeom>
          <a:ln w="0">
            <a:noFill/>
          </a:ln>
        </p:spPr>
      </p:pic>
      <p:sp>
        <p:nvSpPr>
          <p:cNvPr id="851" name="Text Box 6"/>
          <p:cNvSpPr/>
          <p:nvPr/>
        </p:nvSpPr>
        <p:spPr>
          <a:xfrm>
            <a:off x="1762200" y="34844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st cel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7"/>
          <p:cNvSpPr/>
          <p:nvPr/>
        </p:nvSpPr>
        <p:spPr>
          <a:xfrm>
            <a:off x="3060720" y="3500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eroid bod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8"/>
          <p:cNvSpPr/>
          <p:nvPr/>
        </p:nvSpPr>
        <p:spPr>
          <a:xfrm>
            <a:off x="4859280" y="2421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Line 9"/>
          <p:cNvSpPr/>
          <p:nvPr/>
        </p:nvSpPr>
        <p:spPr>
          <a:xfrm flipV="1">
            <a:off x="5724360" y="2565000"/>
            <a:ext cx="4302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10"/>
          <p:cNvSpPr/>
          <p:nvPr/>
        </p:nvSpPr>
        <p:spPr>
          <a:xfrm>
            <a:off x="1692360" y="3933720"/>
            <a:ext cx="27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linical specimen and in culture at 3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1"/>
          <p:cNvSpPr/>
          <p:nvPr/>
        </p:nvSpPr>
        <p:spPr>
          <a:xfrm>
            <a:off x="4716360" y="393372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ld in culture at room tempera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12"/>
          <p:cNvSpPr/>
          <p:nvPr/>
        </p:nvSpPr>
        <p:spPr>
          <a:xfrm>
            <a:off x="2843280" y="4869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othrix schenck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Text Box 13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Text Box 1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Text Box 2"/>
          <p:cNvSpPr/>
          <p:nvPr/>
        </p:nvSpPr>
        <p:spPr>
          <a:xfrm>
            <a:off x="2268360" y="-171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Zygomy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Text Box 3"/>
          <p:cNvSpPr/>
          <p:nvPr/>
        </p:nvSpPr>
        <p:spPr>
          <a:xfrm>
            <a:off x="1114560" y="1273320"/>
            <a:ext cx="770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Fast growing, moniliaceous molds, nonseptate hyphae, perf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5"/>
          <p:cNvSpPr/>
          <p:nvPr/>
        </p:nvSpPr>
        <p:spPr>
          <a:xfrm>
            <a:off x="684360" y="755640"/>
            <a:ext cx="748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ions caused by Zygomycete fungi of the orders Mucorales &amp; Entomophthorales.  Zygomycetes ar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Text Box 6"/>
          <p:cNvSpPr/>
          <p:nvPr/>
        </p:nvSpPr>
        <p:spPr>
          <a:xfrm>
            <a:off x="1332000" y="31104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(= Phycomycosis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2340000" y="1557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- Subcutaneous zygomyc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8"/>
          <p:cNvSpPr/>
          <p:nvPr/>
        </p:nvSpPr>
        <p:spPr>
          <a:xfrm>
            <a:off x="2627280" y="1700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= Entomophthoromyco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9"/>
          <p:cNvSpPr/>
          <p:nvPr/>
        </p:nvSpPr>
        <p:spPr>
          <a:xfrm>
            <a:off x="1114560" y="2276640"/>
            <a:ext cx="64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ic localized. Subcutaneous masses, cellulit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10"/>
          <p:cNvSpPr/>
          <p:nvPr/>
        </p:nvSpPr>
        <p:spPr>
          <a:xfrm>
            <a:off x="755640" y="2565360"/>
            <a:ext cx="8137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facial or other like Hand,Arm,Leg, thigh. Firm swelling of site with intact skin-Distor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 Box 11"/>
          <p:cNvSpPr/>
          <p:nvPr/>
        </p:nvSpPr>
        <p:spPr>
          <a:xfrm>
            <a:off x="1116000" y="321300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quired via nasal mucosa or insect bite, Cont. debr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9" name="Picture 12" descr="Fig-31"/>
          <p:cNvPicPr/>
          <p:nvPr/>
        </p:nvPicPr>
        <p:blipFill>
          <a:blip r:embed="rId1"/>
          <a:stretch/>
        </p:blipFill>
        <p:spPr>
          <a:xfrm>
            <a:off x="7667640" y="5445000"/>
            <a:ext cx="1152360" cy="635040"/>
          </a:xfrm>
          <a:prstGeom prst="rect">
            <a:avLst/>
          </a:prstGeom>
          <a:ln w="0">
            <a:noFill/>
          </a:ln>
        </p:spPr>
      </p:pic>
      <p:sp>
        <p:nvSpPr>
          <p:cNvPr id="870" name="Text Box 13"/>
          <p:cNvSpPr/>
          <p:nvPr/>
        </p:nvSpPr>
        <p:spPr>
          <a:xfrm>
            <a:off x="755640" y="386064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idiobolus coronatus, Basidiobolus ranarum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few mucorales. These are perfect fungi that form Sporangia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conidia)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Zygospor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Text Box 14"/>
          <p:cNvSpPr/>
          <p:nvPr/>
        </p:nvSpPr>
        <p:spPr>
          <a:xfrm>
            <a:off x="1116000" y="4941720"/>
            <a:ext cx="525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: Biopsy tiss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15"/>
          <p:cNvSpPr/>
          <p:nvPr/>
        </p:nvSpPr>
        <p:spPr>
          <a:xfrm>
            <a:off x="755640" y="198900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16"/>
          <p:cNvSpPr/>
          <p:nvPr/>
        </p:nvSpPr>
        <p:spPr>
          <a:xfrm>
            <a:off x="7740720" y="602136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specim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 Box 17"/>
          <p:cNvSpPr/>
          <p:nvPr/>
        </p:nvSpPr>
        <p:spPr>
          <a:xfrm>
            <a:off x="755640" y="357336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Text Box 18"/>
          <p:cNvSpPr/>
          <p:nvPr/>
        </p:nvSpPr>
        <p:spPr>
          <a:xfrm>
            <a:off x="755640" y="458136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Text Box 19"/>
          <p:cNvSpPr/>
          <p:nvPr/>
        </p:nvSpPr>
        <p:spPr>
          <a:xfrm>
            <a:off x="755640" y="5300640"/>
            <a:ext cx="6985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: stained sections or smears will show  broad non-septate hyphae with eosinophi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20"/>
          <p:cNvSpPr/>
          <p:nvPr/>
        </p:nvSpPr>
        <p:spPr>
          <a:xfrm>
            <a:off x="755640" y="581040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no antifungals), fungi will grow fast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21"/>
          <p:cNvSpPr/>
          <p:nvPr/>
        </p:nvSpPr>
        <p:spPr>
          <a:xfrm>
            <a:off x="1116000" y="6097680"/>
            <a:ext cx="56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ygomycetes are inhibited by Cyclohexim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Text Box 22"/>
          <p:cNvSpPr/>
          <p:nvPr/>
        </p:nvSpPr>
        <p:spPr>
          <a:xfrm>
            <a:off x="755640" y="644220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 Box 23"/>
          <p:cNvSpPr/>
          <p:nvPr/>
        </p:nvSpPr>
        <p:spPr>
          <a:xfrm>
            <a:off x="2556000" y="6442200"/>
            <a:ext cx="468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 orally or KI + Ampho B or Septri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4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Text Box 25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5" descr="basidi4"/>
          <p:cNvPicPr/>
          <p:nvPr/>
        </p:nvPicPr>
        <p:blipFill>
          <a:blip r:embed="rId1"/>
          <a:stretch/>
        </p:blipFill>
        <p:spPr>
          <a:xfrm>
            <a:off x="1908000" y="189000"/>
            <a:ext cx="5256360" cy="314172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7" descr="mucormycosis1"/>
          <p:cNvPicPr/>
          <p:nvPr/>
        </p:nvPicPr>
        <p:blipFill>
          <a:blip r:embed="rId2"/>
          <a:stretch/>
        </p:blipFill>
        <p:spPr>
          <a:xfrm>
            <a:off x="1763640" y="3402000"/>
            <a:ext cx="547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2"/>
          <p:cNvSpPr/>
          <p:nvPr/>
        </p:nvSpPr>
        <p:spPr>
          <a:xfrm>
            <a:off x="2556000" y="260280"/>
            <a:ext cx="35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Zygomy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Text Box 4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7" name="Picture 5" descr="Fig-38"/>
          <p:cNvPicPr/>
          <p:nvPr/>
        </p:nvPicPr>
        <p:blipFill>
          <a:blip r:embed="rId1"/>
          <a:stretch/>
        </p:blipFill>
        <p:spPr>
          <a:xfrm>
            <a:off x="324000" y="1197000"/>
            <a:ext cx="8532720" cy="4448160"/>
          </a:xfrm>
          <a:prstGeom prst="rect">
            <a:avLst/>
          </a:prstGeom>
          <a:ln w="0">
            <a:noFill/>
          </a:ln>
        </p:spPr>
      </p:pic>
      <p:sp>
        <p:nvSpPr>
          <p:cNvPr id="888" name="Text Box 6"/>
          <p:cNvSpPr/>
          <p:nvPr/>
        </p:nvSpPr>
        <p:spPr>
          <a:xfrm>
            <a:off x="5435640" y="2349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ang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Line 7"/>
          <p:cNvSpPr/>
          <p:nvPr/>
        </p:nvSpPr>
        <p:spPr>
          <a:xfrm>
            <a:off x="6156360" y="2637000"/>
            <a:ext cx="1008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Line 8"/>
          <p:cNvSpPr/>
          <p:nvPr/>
        </p:nvSpPr>
        <p:spPr>
          <a:xfrm>
            <a:off x="5076720" y="2205000"/>
            <a:ext cx="64764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 Box 9"/>
          <p:cNvSpPr/>
          <p:nvPr/>
        </p:nvSpPr>
        <p:spPr>
          <a:xfrm>
            <a:off x="3492360" y="4005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g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Line 10"/>
          <p:cNvSpPr/>
          <p:nvPr/>
        </p:nvSpPr>
        <p:spPr>
          <a:xfrm>
            <a:off x="4427640" y="4221000"/>
            <a:ext cx="21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Line 11"/>
          <p:cNvSpPr/>
          <p:nvPr/>
        </p:nvSpPr>
        <p:spPr>
          <a:xfrm>
            <a:off x="3203640" y="386064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900000" y="436572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obolus coronat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Text Box 13"/>
          <p:cNvSpPr/>
          <p:nvPr/>
        </p:nvSpPr>
        <p:spPr>
          <a:xfrm>
            <a:off x="4211640" y="521172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diobolus ranar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 Box 14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15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Text Box 2"/>
          <p:cNvSpPr/>
          <p:nvPr/>
        </p:nvSpPr>
        <p:spPr>
          <a:xfrm>
            <a:off x="2050920" y="-8748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Zygomycosi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Text Box 4"/>
          <p:cNvSpPr/>
          <p:nvPr/>
        </p:nvSpPr>
        <p:spPr>
          <a:xfrm>
            <a:off x="2193840" y="403200"/>
            <a:ext cx="48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- Rhinocerebral zygomyc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 Box 5"/>
          <p:cNvSpPr/>
          <p:nvPr/>
        </p:nvSpPr>
        <p:spPr>
          <a:xfrm>
            <a:off x="3132000" y="765000"/>
            <a:ext cx="244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=Mucoromycosis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6"/>
          <p:cNvSpPr/>
          <p:nvPr/>
        </p:nvSpPr>
        <p:spPr>
          <a:xfrm>
            <a:off x="684360" y="2138400"/>
            <a:ext cx="80992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acute, affects compromised host especially Diabetics with acidosis.  Opportunist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1044720" y="1778040"/>
            <a:ext cx="64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facial – orbital – crane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8"/>
          <p:cNvSpPr/>
          <p:nvPr/>
        </p:nvSpPr>
        <p:spPr>
          <a:xfrm>
            <a:off x="1042920" y="3208320"/>
            <a:ext cx="5327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ERY SERIOUS – ACUTE - FATA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9"/>
          <p:cNvSpPr/>
          <p:nvPr/>
        </p:nvSpPr>
        <p:spPr>
          <a:xfrm>
            <a:off x="684360" y="3927600"/>
            <a:ext cx="6624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growing Zygomycetes have Nonseptate hyphae of the Mucorales order maily;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10"/>
          <p:cNvSpPr/>
          <p:nvPr/>
        </p:nvSpPr>
        <p:spPr>
          <a:xfrm>
            <a:off x="1042920" y="2852640"/>
            <a:ext cx="46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quired Via nasal mucos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1044720" y="4592520"/>
            <a:ext cx="78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zopus, Mucor,Absidia,Rhizomucor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others.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zopus arrhiz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Text Box 12"/>
          <p:cNvSpPr/>
          <p:nvPr/>
        </p:nvSpPr>
        <p:spPr>
          <a:xfrm>
            <a:off x="684360" y="5019840"/>
            <a:ext cx="7850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oduce sexually and asexually forming Sporangia with sporangiospores &amp; Zygosp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684360" y="1052640"/>
            <a:ext cx="648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14"/>
          <p:cNvSpPr/>
          <p:nvPr/>
        </p:nvSpPr>
        <p:spPr>
          <a:xfrm>
            <a:off x="1044720" y="1419120"/>
            <a:ext cx="446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nasal sinusitis, orbital cellulit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Text Box 15"/>
          <p:cNvSpPr/>
          <p:nvPr/>
        </p:nvSpPr>
        <p:spPr>
          <a:xfrm>
            <a:off x="684360" y="3568680"/>
            <a:ext cx="648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Text Box 1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1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Image -1"/>
          <p:cNvPicPr/>
          <p:nvPr/>
        </p:nvPicPr>
        <p:blipFill>
          <a:blip r:embed="rId1"/>
          <a:stretch/>
        </p:blipFill>
        <p:spPr>
          <a:xfrm>
            <a:off x="684360" y="4649760"/>
            <a:ext cx="938160" cy="7873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Image-2"/>
          <p:cNvPicPr/>
          <p:nvPr/>
        </p:nvPicPr>
        <p:blipFill>
          <a:blip r:embed="rId2"/>
          <a:stretch/>
        </p:blipFill>
        <p:spPr>
          <a:xfrm>
            <a:off x="2987640" y="4649760"/>
            <a:ext cx="1152720" cy="720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Image-3"/>
          <p:cNvPicPr/>
          <p:nvPr/>
        </p:nvPicPr>
        <p:blipFill>
          <a:blip r:embed="rId3"/>
          <a:stretch/>
        </p:blipFill>
        <p:spPr>
          <a:xfrm>
            <a:off x="5651640" y="4649760"/>
            <a:ext cx="3035160" cy="6462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5"/>
          <p:cNvSpPr/>
          <p:nvPr/>
        </p:nvSpPr>
        <p:spPr>
          <a:xfrm>
            <a:off x="468360" y="476280"/>
            <a:ext cx="7704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xu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Only mitotic cell divis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ati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Yeasts by budd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olds by hyphal fragmentation 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e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)   Sporangiospores in sporan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b)   Chlamydospores in or on hypha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)   Conidia (conidium) on hypha or on conidiophores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38200" y="533700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ycnid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2987640" y="530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n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5580000" y="5300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odoch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7597800" y="530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ervul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 flipH="1">
            <a:off x="2626920" y="1268280"/>
            <a:ext cx="576360" cy="144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2627280" y="1413000"/>
            <a:ext cx="64944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1403280" y="-2700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production in Fun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1332000" y="3357720"/>
            <a:ext cx="42465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types of conidia like: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1332000" y="3716280"/>
            <a:ext cx="748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stospore, arthrospore, aleuriospore, sympodulospore…et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1332000" y="4024440"/>
            <a:ext cx="3887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xual reproductive structure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1692360" y="4637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idioph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 flipV="1">
            <a:off x="1187280" y="4941360"/>
            <a:ext cx="79236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2484360" y="4941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0"/>
          <p:cNvSpPr/>
          <p:nvPr/>
        </p:nvSpPr>
        <p:spPr>
          <a:xfrm>
            <a:off x="4356000" y="5084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id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21"/>
          <p:cNvSpPr/>
          <p:nvPr/>
        </p:nvSpPr>
        <p:spPr>
          <a:xfrm flipH="1">
            <a:off x="4962600" y="4893840"/>
            <a:ext cx="861840" cy="28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22"/>
          <p:cNvSpPr/>
          <p:nvPr/>
        </p:nvSpPr>
        <p:spPr>
          <a:xfrm>
            <a:off x="3924360" y="4869000"/>
            <a:ext cx="7189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23"/>
          <p:cNvSpPr/>
          <p:nvPr/>
        </p:nvSpPr>
        <p:spPr>
          <a:xfrm>
            <a:off x="611280" y="5734080"/>
            <a:ext cx="8137440" cy="9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fect fungi = Deuteromycetes: Do not reproduce sexually or their  sexual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reproduction not know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19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spergillus, Fusarium, Candida</a:t>
            </a:r>
            <a:r>
              <a:rPr b="0" lang="en-US" sz="19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4"/>
          <p:cNvSpPr/>
          <p:nvPr/>
        </p:nvSpPr>
        <p:spPr>
          <a:xfrm>
            <a:off x="6804000" y="220500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5" descr="Image-10"/>
          <p:cNvPicPr/>
          <p:nvPr/>
        </p:nvPicPr>
        <p:blipFill>
          <a:blip r:embed="rId4"/>
          <a:stretch/>
        </p:blipFill>
        <p:spPr>
          <a:xfrm>
            <a:off x="4932360" y="3355920"/>
            <a:ext cx="2090880" cy="3589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2050920" y="-1713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Zygomycosi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Text Box 4"/>
          <p:cNvSpPr/>
          <p:nvPr/>
        </p:nvSpPr>
        <p:spPr>
          <a:xfrm>
            <a:off x="2193840" y="260280"/>
            <a:ext cx="655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- Rhinocerebral zygomycosis 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=Mucoromycosi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Text Box 5"/>
          <p:cNvSpPr/>
          <p:nvPr/>
        </p:nvSpPr>
        <p:spPr>
          <a:xfrm>
            <a:off x="611280" y="1703520"/>
            <a:ext cx="67690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on SDA </a:t>
            </a: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no antifungal “Cycloheximide”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The   fungi will grow fast within 2-3 day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6"/>
          <p:cNvSpPr/>
          <p:nvPr/>
        </p:nvSpPr>
        <p:spPr>
          <a:xfrm>
            <a:off x="395280" y="469800"/>
            <a:ext cx="68407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88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1" lang="en-US" sz="19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7"/>
          <p:cNvSpPr/>
          <p:nvPr/>
        </p:nvSpPr>
        <p:spPr>
          <a:xfrm>
            <a:off x="971640" y="768240"/>
            <a:ext cx="525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: Biopsy tissu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Picture 8" descr="Fig-32"/>
          <p:cNvPicPr/>
          <p:nvPr/>
        </p:nvPicPr>
        <p:blipFill>
          <a:blip r:embed="rId1"/>
          <a:stretch/>
        </p:blipFill>
        <p:spPr>
          <a:xfrm>
            <a:off x="7272360" y="696960"/>
            <a:ext cx="1763640" cy="877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9"/>
          <p:cNvSpPr/>
          <p:nvPr/>
        </p:nvSpPr>
        <p:spPr>
          <a:xfrm>
            <a:off x="7020000" y="1560600"/>
            <a:ext cx="1873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septate hyphae In clinical specimen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0"/>
          <p:cNvSpPr/>
          <p:nvPr/>
        </p:nvSpPr>
        <p:spPr>
          <a:xfrm>
            <a:off x="611280" y="1136520"/>
            <a:ext cx="6480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: Stained sections or smears will show broad nonseptate hypha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11"/>
          <p:cNvSpPr/>
          <p:nvPr/>
        </p:nvSpPr>
        <p:spPr>
          <a:xfrm>
            <a:off x="395280" y="255888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Text Box 12"/>
          <p:cNvSpPr/>
          <p:nvPr/>
        </p:nvSpPr>
        <p:spPr>
          <a:xfrm>
            <a:off x="395280" y="2862360"/>
            <a:ext cx="87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ssive surgical debridement + Amphotericin B – other antifung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Text Box 13"/>
          <p:cNvSpPr/>
          <p:nvPr/>
        </p:nvSpPr>
        <p:spPr>
          <a:xfrm>
            <a:off x="2050920" y="32180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- Gastrointestinal (GI) Zygomyc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14"/>
          <p:cNvSpPr/>
          <p:nvPr/>
        </p:nvSpPr>
        <p:spPr>
          <a:xfrm>
            <a:off x="395280" y="3668760"/>
            <a:ext cx="8748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 chronic zygomycete infection affecting the GI., mainly liver and intestine.  The lesions are masses or abscesses in these si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15"/>
          <p:cNvSpPr/>
          <p:nvPr/>
        </p:nvSpPr>
        <p:spPr>
          <a:xfrm>
            <a:off x="395280" y="457524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d by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diobolus ranarum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rimaril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16"/>
          <p:cNvSpPr/>
          <p:nvPr/>
        </p:nvSpPr>
        <p:spPr>
          <a:xfrm>
            <a:off x="395280" y="5032440"/>
            <a:ext cx="874872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: fine needle biopsy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  will show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septate hyphae &amp; culture will grow the fungu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AutoShape 17"/>
          <p:cNvSpPr/>
          <p:nvPr/>
        </p:nvSpPr>
        <p:spPr>
          <a:xfrm>
            <a:off x="4356000" y="5089680"/>
            <a:ext cx="576360" cy="215640"/>
          </a:xfrm>
          <a:prstGeom prst="rightArrow">
            <a:avLst>
              <a:gd name="adj1" fmla="val 50000"/>
              <a:gd name="adj2" fmla="val 6682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18"/>
          <p:cNvSpPr/>
          <p:nvPr/>
        </p:nvSpPr>
        <p:spPr>
          <a:xfrm>
            <a:off x="395280" y="5578560"/>
            <a:ext cx="8497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  Medical with Itraconazole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nosis is goo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AutoShape 19"/>
          <p:cNvSpPr/>
          <p:nvPr/>
        </p:nvSpPr>
        <p:spPr>
          <a:xfrm>
            <a:off x="5364000" y="5734080"/>
            <a:ext cx="576360" cy="216000"/>
          </a:xfrm>
          <a:prstGeom prst="rightArrow">
            <a:avLst>
              <a:gd name="adj1" fmla="val 50000"/>
              <a:gd name="adj2" fmla="val 6670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20"/>
          <p:cNvSpPr/>
          <p:nvPr/>
        </p:nvSpPr>
        <p:spPr>
          <a:xfrm>
            <a:off x="2124000" y="61405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- Pulmonary Zygomyc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Text Box 21"/>
          <p:cNvSpPr/>
          <p:nvPr/>
        </p:nvSpPr>
        <p:spPr>
          <a:xfrm>
            <a:off x="395280" y="6442200"/>
            <a:ext cx="8424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chronic or acute.  Other aspects similar to mucoromycosi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Text Box 22"/>
          <p:cNvSpPr/>
          <p:nvPr/>
        </p:nvSpPr>
        <p:spPr>
          <a:xfrm>
            <a:off x="971640" y="2281320"/>
            <a:ext cx="640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pt Dx &amp; action are essential to save life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23"/>
          <p:cNvSpPr/>
          <p:nvPr/>
        </p:nvSpPr>
        <p:spPr>
          <a:xfrm>
            <a:off x="395280" y="5877000"/>
            <a:ext cx="7921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mucorales G.I. Zygo which acute &amp; Fatal. It is rar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Text Box 24"/>
          <p:cNvSpPr/>
          <p:nvPr/>
        </p:nvSpPr>
        <p:spPr>
          <a:xfrm>
            <a:off x="395280" y="4221000"/>
            <a:ext cx="54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n in children 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6 -12 -Year old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te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Text Box 25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2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Text Box 2"/>
          <p:cNvSpPr/>
          <p:nvPr/>
        </p:nvSpPr>
        <p:spPr>
          <a:xfrm>
            <a:off x="2556000" y="260280"/>
            <a:ext cx="35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Zygomy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4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9" name="Picture 5" descr="Fig-39"/>
          <p:cNvPicPr/>
          <p:nvPr/>
        </p:nvPicPr>
        <p:blipFill>
          <a:blip r:embed="rId1"/>
          <a:stretch/>
        </p:blipFill>
        <p:spPr>
          <a:xfrm>
            <a:off x="108000" y="83664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940" name="Text Box 6"/>
          <p:cNvSpPr/>
          <p:nvPr/>
        </p:nvSpPr>
        <p:spPr>
          <a:xfrm>
            <a:off x="34920" y="892080"/>
            <a:ext cx="11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ang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7"/>
          <p:cNvSpPr/>
          <p:nvPr/>
        </p:nvSpPr>
        <p:spPr>
          <a:xfrm>
            <a:off x="5796000" y="1413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angi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Line 8"/>
          <p:cNvSpPr/>
          <p:nvPr/>
        </p:nvSpPr>
        <p:spPr>
          <a:xfrm flipV="1">
            <a:off x="4643280" y="155736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Text Box 9"/>
          <p:cNvSpPr/>
          <p:nvPr/>
        </p:nvSpPr>
        <p:spPr>
          <a:xfrm>
            <a:off x="2268360" y="17002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tol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Line 10"/>
          <p:cNvSpPr/>
          <p:nvPr/>
        </p:nvSpPr>
        <p:spPr>
          <a:xfrm flipH="1">
            <a:off x="2050920" y="198900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2484360" y="1989000"/>
            <a:ext cx="863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12"/>
          <p:cNvSpPr/>
          <p:nvPr/>
        </p:nvSpPr>
        <p:spPr>
          <a:xfrm>
            <a:off x="324000" y="190008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p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13"/>
          <p:cNvSpPr/>
          <p:nvPr/>
        </p:nvSpPr>
        <p:spPr>
          <a:xfrm>
            <a:off x="179280" y="27813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Line 14"/>
          <p:cNvSpPr/>
          <p:nvPr/>
        </p:nvSpPr>
        <p:spPr>
          <a:xfrm>
            <a:off x="900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15"/>
          <p:cNvSpPr/>
          <p:nvPr/>
        </p:nvSpPr>
        <p:spPr>
          <a:xfrm>
            <a:off x="4643280" y="2924280"/>
            <a:ext cx="8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i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Text Box 16"/>
          <p:cNvSpPr/>
          <p:nvPr/>
        </p:nvSpPr>
        <p:spPr>
          <a:xfrm>
            <a:off x="2987640" y="616572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zomuc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Text Box 17"/>
          <p:cNvSpPr/>
          <p:nvPr/>
        </p:nvSpPr>
        <p:spPr>
          <a:xfrm>
            <a:off x="4932360" y="602136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g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18"/>
          <p:cNvSpPr/>
          <p:nvPr/>
        </p:nvSpPr>
        <p:spPr>
          <a:xfrm>
            <a:off x="7524720" y="56610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Line 19"/>
          <p:cNvSpPr/>
          <p:nvPr/>
        </p:nvSpPr>
        <p:spPr>
          <a:xfrm>
            <a:off x="611280" y="119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Text Box 20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Text Box 2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22"/>
          <p:cNvSpPr/>
          <p:nvPr/>
        </p:nvSpPr>
        <p:spPr>
          <a:xfrm>
            <a:off x="1857240" y="143820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Nonseptate hyph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Box 23"/>
          <p:cNvSpPr/>
          <p:nvPr/>
        </p:nvSpPr>
        <p:spPr>
          <a:xfrm>
            <a:off x="4500720" y="242892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2060"/>
                </a:solidFill>
                <a:latin typeface="Arial"/>
              </a:rPr>
              <a:t>Sporangioph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3"/>
          <p:cNvSpPr/>
          <p:nvPr/>
        </p:nvSpPr>
        <p:spPr>
          <a:xfrm>
            <a:off x="289080" y="719280"/>
            <a:ext cx="8820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y infection caused by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rgill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Affecting compromised individual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12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stemic forms of this infection are opportunistic infectio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4"/>
          <p:cNvSpPr/>
          <p:nvPr/>
        </p:nvSpPr>
        <p:spPr>
          <a:xfrm>
            <a:off x="755640" y="1522440"/>
            <a:ext cx="79200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12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few occasions it is non opportunis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12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clinical manifestations vary from allergy to skin to systemic for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5"/>
          <p:cNvSpPr/>
          <p:nvPr/>
        </p:nvSpPr>
        <p:spPr>
          <a:xfrm>
            <a:off x="1763640" y="-205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spergil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6"/>
          <p:cNvSpPr/>
          <p:nvPr/>
        </p:nvSpPr>
        <p:spPr>
          <a:xfrm>
            <a:off x="1044720" y="2421000"/>
            <a:ext cx="7920000" cy="10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llergic Aspergillosi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6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sth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6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llergic Bronchopulmonary Aspergillosis (ABPA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 Box 7"/>
          <p:cNvSpPr/>
          <p:nvPr/>
        </p:nvSpPr>
        <p:spPr>
          <a:xfrm>
            <a:off x="179280" y="1986120"/>
            <a:ext cx="26654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inical Types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Text Box 8"/>
          <p:cNvSpPr/>
          <p:nvPr/>
        </p:nvSpPr>
        <p:spPr>
          <a:xfrm>
            <a:off x="1403280" y="3500280"/>
            <a:ext cx="583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5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gE antibodies present. In ABPA also Ig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9"/>
          <p:cNvSpPr/>
          <p:nvPr/>
        </p:nvSpPr>
        <p:spPr>
          <a:xfrm>
            <a:off x="1042920" y="3825720"/>
            <a:ext cx="7920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lonizing aspergillosi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=Aspergilloma = Aspergillus fungus b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ulmonary aspergilloma signs include:Cough,hemoptysis, variable f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10"/>
          <p:cNvSpPr/>
          <p:nvPr/>
        </p:nvSpPr>
        <p:spPr>
          <a:xfrm>
            <a:off x="1405080" y="4867200"/>
            <a:ext cx="7414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5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XR will show coin – like mass in the lu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11"/>
          <p:cNvSpPr/>
          <p:nvPr/>
        </p:nvSpPr>
        <p:spPr>
          <a:xfrm>
            <a:off x="1403280" y="5172120"/>
            <a:ext cx="741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5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will be a radiolucent crescent (=Monod’s sign = Grelot) over the 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12"/>
          <p:cNvSpPr/>
          <p:nvPr/>
        </p:nvSpPr>
        <p:spPr>
          <a:xfrm>
            <a:off x="1042920" y="5634000"/>
            <a:ext cx="7920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vasive Aspergillosis - pulmonar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Text Box 13"/>
          <p:cNvSpPr/>
          <p:nvPr/>
        </p:nvSpPr>
        <p:spPr>
          <a:xfrm>
            <a:off x="1403280" y="5932440"/>
            <a:ext cx="748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igns: Cough , hemoptysis, Fever, Pneumonia, Leukocyt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14"/>
          <p:cNvSpPr/>
          <p:nvPr/>
        </p:nvSpPr>
        <p:spPr>
          <a:xfrm>
            <a:off x="1042920" y="6275520"/>
            <a:ext cx="802980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b investigation  (direct microscopy and culture) may be nega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specially if specimen is noninvasive like sput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1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 Box 1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3"/>
          <p:cNvSpPr/>
          <p:nvPr/>
        </p:nvSpPr>
        <p:spPr>
          <a:xfrm>
            <a:off x="1692360" y="-1000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spergillosi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4"/>
          <p:cNvSpPr/>
          <p:nvPr/>
        </p:nvSpPr>
        <p:spPr>
          <a:xfrm>
            <a:off x="1042920" y="692280"/>
            <a:ext cx="792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pergillus sinusitis (= Nasal-orbital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sal polyps – sinusitis – eye – craneum (Rhinocerebr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5"/>
          <p:cNvSpPr/>
          <p:nvPr/>
        </p:nvSpPr>
        <p:spPr>
          <a:xfrm>
            <a:off x="1042920" y="1413000"/>
            <a:ext cx="720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st common cause is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pergillus flavu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also other fungi can cause sinusit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6"/>
          <p:cNvSpPr/>
          <p:nvPr/>
        </p:nvSpPr>
        <p:spPr>
          <a:xfrm>
            <a:off x="1042920" y="1992240"/>
            <a:ext cx="792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ye infection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rneal ulcer – endophthalmiti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7"/>
          <p:cNvSpPr/>
          <p:nvPr/>
        </p:nvSpPr>
        <p:spPr>
          <a:xfrm>
            <a:off x="1042920" y="2349360"/>
            <a:ext cx="792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6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ar infection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titis externa – otitis media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8"/>
          <p:cNvSpPr/>
          <p:nvPr/>
        </p:nvSpPr>
        <p:spPr>
          <a:xfrm>
            <a:off x="1042920" y="2784600"/>
            <a:ext cx="792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7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il &amp; skin infec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9"/>
          <p:cNvSpPr/>
          <p:nvPr/>
        </p:nvSpPr>
        <p:spPr>
          <a:xfrm>
            <a:off x="1042920" y="3144960"/>
            <a:ext cx="792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8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xicosis due to ingestion of aflatoxin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 Box 10"/>
          <p:cNvSpPr/>
          <p:nvPr/>
        </p:nvSpPr>
        <p:spPr>
          <a:xfrm>
            <a:off x="1042920" y="3505320"/>
            <a:ext cx="7920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9-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sseminated form – rare, in debilitated patien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11"/>
          <p:cNvSpPr/>
          <p:nvPr/>
        </p:nvSpPr>
        <p:spPr>
          <a:xfrm>
            <a:off x="395280" y="378936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12"/>
          <p:cNvSpPr/>
          <p:nvPr/>
        </p:nvSpPr>
        <p:spPr>
          <a:xfrm>
            <a:off x="826920" y="422100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y species of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pergillu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 It is a moniliaceous imperfect mold – Ubiquitous in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826920" y="479736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has hyaline septate hyphae, conidiospores with chains of unicellular coni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4"/>
          <p:cNvSpPr/>
          <p:nvPr/>
        </p:nvSpPr>
        <p:spPr>
          <a:xfrm>
            <a:off x="826920" y="536904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common species are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spergillus fumigatu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flavus, A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iger, A.terreu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and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AutoShape 15"/>
          <p:cNvSpPr/>
          <p:nvPr/>
        </p:nvSpPr>
        <p:spPr>
          <a:xfrm>
            <a:off x="3059280" y="198900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AutoShape 16"/>
          <p:cNvSpPr/>
          <p:nvPr/>
        </p:nvSpPr>
        <p:spPr>
          <a:xfrm>
            <a:off x="3059280" y="234936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17"/>
          <p:cNvSpPr/>
          <p:nvPr/>
        </p:nvSpPr>
        <p:spPr>
          <a:xfrm>
            <a:off x="1189080" y="6033960"/>
            <a:ext cx="7920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perfect stage is: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urotiu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species an Ascomycete fung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7" name="Picture 18" descr="Fig-52"/>
          <p:cNvPicPr/>
          <p:nvPr/>
        </p:nvPicPr>
        <p:blipFill>
          <a:blip r:embed="rId1"/>
          <a:stretch/>
        </p:blipFill>
        <p:spPr>
          <a:xfrm>
            <a:off x="6732720" y="3781440"/>
            <a:ext cx="2016000" cy="1461960"/>
          </a:xfrm>
          <a:prstGeom prst="rect">
            <a:avLst/>
          </a:prstGeom>
          <a:ln w="0">
            <a:noFill/>
          </a:ln>
        </p:spPr>
      </p:pic>
      <p:sp>
        <p:nvSpPr>
          <p:cNvPr id="988" name="Text Box 19"/>
          <p:cNvSpPr/>
          <p:nvPr/>
        </p:nvSpPr>
        <p:spPr>
          <a:xfrm>
            <a:off x="6659640" y="3860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20"/>
          <p:cNvSpPr/>
          <p:nvPr/>
        </p:nvSpPr>
        <p:spPr>
          <a:xfrm>
            <a:off x="7380360" y="501336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rgillu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Line 21"/>
          <p:cNvSpPr/>
          <p:nvPr/>
        </p:nvSpPr>
        <p:spPr>
          <a:xfrm>
            <a:off x="7236000" y="400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Text Box 22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2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Box 23"/>
          <p:cNvSpPr/>
          <p:nvPr/>
        </p:nvSpPr>
        <p:spPr>
          <a:xfrm>
            <a:off x="7786800" y="4367160"/>
            <a:ext cx="157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002060"/>
                </a:solidFill>
                <a:latin typeface="Arial"/>
              </a:rPr>
              <a:t>Conidiophor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3"/>
          <p:cNvSpPr/>
          <p:nvPr/>
        </p:nvSpPr>
        <p:spPr>
          <a:xfrm>
            <a:off x="1476360" y="-17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Aspergillosi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4"/>
          <p:cNvSpPr/>
          <p:nvPr/>
        </p:nvSpPr>
        <p:spPr>
          <a:xfrm>
            <a:off x="395280" y="33804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 Box 5"/>
          <p:cNvSpPr/>
          <p:nvPr/>
        </p:nvSpPr>
        <p:spPr>
          <a:xfrm>
            <a:off x="826920" y="68724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ecimen: Respiratory specimens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Sputum, bronchoscopic, Lung biopsy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Surgically removed Aspergilloma, Mass, Scrapings, Bloo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Text Box 6"/>
          <p:cNvSpPr/>
          <p:nvPr/>
        </p:nvSpPr>
        <p:spPr>
          <a:xfrm>
            <a:off x="1187280" y="1268280"/>
            <a:ext cx="6840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b. Investigations: Direct miroscopy – culture - se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7"/>
          <p:cNvSpPr/>
          <p:nvPr/>
        </p:nvSpPr>
        <p:spPr>
          <a:xfrm>
            <a:off x="826920" y="1833480"/>
            <a:ext cx="6337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H, Giemsa, Grecott methenamine silver stain (G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Text Box 8"/>
          <p:cNvSpPr/>
          <p:nvPr/>
        </p:nvSpPr>
        <p:spPr>
          <a:xfrm>
            <a:off x="826920" y="213372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riodic Acid Schiff (P.A.S); will show Septate hyphae with Dichotomous bran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Text Box 9"/>
          <p:cNvSpPr/>
          <p:nvPr/>
        </p:nvSpPr>
        <p:spPr>
          <a:xfrm>
            <a:off x="826920" y="2774880"/>
            <a:ext cx="806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 on SDA (no cycloheximide) fast growing – If nonsterile specimen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e.g. sputum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ule-out contaminant possibility by repeat specim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Text Box 10"/>
          <p:cNvSpPr/>
          <p:nvPr/>
        </p:nvSpPr>
        <p:spPr>
          <a:xfrm>
            <a:off x="826920" y="33559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 Primarily test for Antibody using Aspergillus polyvalent Ag, Aspergillys terreus Ag, Aspergillus nidulans 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>
            <a:off x="826920" y="3860640"/>
            <a:ext cx="56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sing I.D (Immunodiffusion)and/or C.I.E (Counterimmunoelectrophoresis).SP-RIA (Solid phase radioimmunoassay) more sen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>
            <a:off x="826920" y="5037120"/>
            <a:ext cx="5185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.I.A. test for Antigen is avail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826920" y="5373720"/>
            <a:ext cx="68407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is latex agglutination test availabl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468360" y="5589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971640" y="5950080"/>
            <a:ext cx="6840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urgical + Medical – Or Medical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971640" y="62611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rugs Used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mphotericin B, Liposomal Ampho. B, Itraconazole,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Voriconazole, Caspofun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8" name="Picture 17" descr="Fig-53"/>
          <p:cNvPicPr/>
          <p:nvPr/>
        </p:nvPicPr>
        <p:blipFill>
          <a:blip r:embed="rId1"/>
          <a:stretch/>
        </p:blipFill>
        <p:spPr>
          <a:xfrm>
            <a:off x="7093080" y="1628640"/>
            <a:ext cx="1776240" cy="885960"/>
          </a:xfrm>
          <a:prstGeom prst="rect">
            <a:avLst/>
          </a:prstGeom>
          <a:ln w="0">
            <a:noFill/>
          </a:ln>
        </p:spPr>
      </p:pic>
      <p:sp>
        <p:nvSpPr>
          <p:cNvPr id="1009" name="Text Box 18"/>
          <p:cNvSpPr/>
          <p:nvPr/>
        </p:nvSpPr>
        <p:spPr>
          <a:xfrm>
            <a:off x="7236000" y="2421000"/>
            <a:ext cx="1871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ate hyphae with Dichotomous branch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0" name="Picture 19" descr="Fig-54"/>
          <p:cNvPicPr/>
          <p:nvPr/>
        </p:nvPicPr>
        <p:blipFill>
          <a:blip r:embed="rId2"/>
          <a:stretch/>
        </p:blipFill>
        <p:spPr>
          <a:xfrm>
            <a:off x="6875640" y="3860640"/>
            <a:ext cx="1368360" cy="118296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20"/>
          <p:cNvSpPr/>
          <p:nvPr/>
        </p:nvSpPr>
        <p:spPr>
          <a:xfrm>
            <a:off x="6877080" y="50846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.D. Pl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21"/>
          <p:cNvSpPr/>
          <p:nvPr/>
        </p:nvSpPr>
        <p:spPr>
          <a:xfrm>
            <a:off x="8136000" y="393372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band identity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Line 22"/>
          <p:cNvSpPr/>
          <p:nvPr/>
        </p:nvSpPr>
        <p:spPr>
          <a:xfrm flipV="1">
            <a:off x="7236000" y="429228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23"/>
          <p:cNvSpPr/>
          <p:nvPr/>
        </p:nvSpPr>
        <p:spPr>
          <a:xfrm>
            <a:off x="826920" y="1557360"/>
            <a:ext cx="6337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24"/>
          <p:cNvSpPr/>
          <p:nvPr/>
        </p:nvSpPr>
        <p:spPr>
          <a:xfrm>
            <a:off x="826920" y="4748040"/>
            <a:ext cx="6121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ltiband identity lines will be seen in aspergillo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2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2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 Box 2"/>
          <p:cNvSpPr/>
          <p:nvPr/>
        </p:nvSpPr>
        <p:spPr>
          <a:xfrm>
            <a:off x="1763640" y="3697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neumocystosi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4"/>
          <p:cNvSpPr/>
          <p:nvPr/>
        </p:nvSpPr>
        <p:spPr>
          <a:xfrm>
            <a:off x="1114560" y="1925640"/>
            <a:ext cx="756108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interstitial pneumonia of the alveolar are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igns include; Dyspnea. Cyano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ffect compromised ho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specially common in AIDS patie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fection commonly known as PCP (should be PJP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5"/>
          <p:cNvSpPr/>
          <p:nvPr/>
        </p:nvSpPr>
        <p:spPr>
          <a:xfrm>
            <a:off x="755640" y="133020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stic fungal pneumoni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6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Text Box 3"/>
          <p:cNvSpPr/>
          <p:nvPr/>
        </p:nvSpPr>
        <p:spPr>
          <a:xfrm>
            <a:off x="324000" y="6253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4"/>
          <p:cNvSpPr/>
          <p:nvPr/>
        </p:nvSpPr>
        <p:spPr>
          <a:xfrm>
            <a:off x="755640" y="1289160"/>
            <a:ext cx="7920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65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viously thought to be a protozoan parasite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5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has been proven to be a fungus based on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5"/>
          <p:cNvSpPr/>
          <p:nvPr/>
        </p:nvSpPr>
        <p:spPr>
          <a:xfrm>
            <a:off x="971640" y="1895400"/>
            <a:ext cx="4680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1-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RNA studies – similar to fung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6"/>
          <p:cNvSpPr/>
          <p:nvPr/>
        </p:nvSpPr>
        <p:spPr>
          <a:xfrm>
            <a:off x="1547640" y="-921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neumocystosi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Text Box 7"/>
          <p:cNvSpPr/>
          <p:nvPr/>
        </p:nvSpPr>
        <p:spPr>
          <a:xfrm>
            <a:off x="1692360" y="692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cystis jirovec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Text Box 8"/>
          <p:cNvSpPr/>
          <p:nvPr/>
        </p:nvSpPr>
        <p:spPr>
          <a:xfrm>
            <a:off x="971640" y="2205000"/>
            <a:ext cx="7777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2-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hitinase enzyme attacks the cell wall of the cyst  so it  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has chitin like fungi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828720" y="2781360"/>
            <a:ext cx="7920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es not grow in media like SDA, other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10"/>
          <p:cNvSpPr/>
          <p:nvPr/>
        </p:nvSpPr>
        <p:spPr>
          <a:xfrm>
            <a:off x="828720" y="3191040"/>
            <a:ext cx="7991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ther species naturally found in rodents and other mammals. </a:t>
            </a:r>
            <a:r>
              <a:rPr b="0" lang="en-US" sz="1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P. cariniii in rats.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Humans contract it during childhoo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11"/>
          <p:cNvSpPr/>
          <p:nvPr/>
        </p:nvSpPr>
        <p:spPr>
          <a:xfrm>
            <a:off x="395280" y="4005360"/>
            <a:ext cx="83534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atient specimen: Bronchoscopic specimens </a:t>
            </a:r>
            <a:r>
              <a:rPr b="0" lang="en-US" sz="2200" spc="-1" strike="noStrike">
                <a:solidFill>
                  <a:srgbClr val="ccffff"/>
                </a:solidFill>
                <a:latin typeface="Times New Roman"/>
                <a:ea typeface="Times New Roman"/>
              </a:rPr>
              <a:t>(B.A.L.)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utum, Lung biopsy tissu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logic sections or smears stained b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12"/>
          <p:cNvSpPr/>
          <p:nvPr/>
        </p:nvSpPr>
        <p:spPr>
          <a:xfrm>
            <a:off x="395280" y="5064120"/>
            <a:ext cx="64818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lver stain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GMS).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f (+) there will be cysts of hat-shape, cup shape, crescent, parentheses, comm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13"/>
          <p:cNvSpPr/>
          <p:nvPr/>
        </p:nvSpPr>
        <p:spPr>
          <a:xfrm>
            <a:off x="826920" y="5850000"/>
            <a:ext cx="79203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 be detected by specific antibod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4"/>
          <p:cNvSpPr/>
          <p:nvPr/>
        </p:nvSpPr>
        <p:spPr>
          <a:xfrm>
            <a:off x="468360" y="61657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 Trimethoprim – sulfamethoxazole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septri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15"/>
          <p:cNvSpPr/>
          <p:nvPr/>
        </p:nvSpPr>
        <p:spPr>
          <a:xfrm>
            <a:off x="7130880" y="5356080"/>
            <a:ext cx="14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ysts (4-5 </a:t>
            </a:r>
            <a:r>
              <a:rPr b="0" lang="el-GR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16" descr="Fig-51"/>
          <p:cNvPicPr/>
          <p:nvPr/>
        </p:nvPicPr>
        <p:blipFill>
          <a:blip r:embed="rId1"/>
          <a:stretch/>
        </p:blipFill>
        <p:spPr>
          <a:xfrm>
            <a:off x="7236000" y="4365720"/>
            <a:ext cx="909360" cy="106992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17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8"/>
          <p:cNvSpPr/>
          <p:nvPr/>
        </p:nvSpPr>
        <p:spPr>
          <a:xfrm>
            <a:off x="745164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Text Box 2"/>
          <p:cNvSpPr/>
          <p:nvPr/>
        </p:nvSpPr>
        <p:spPr>
          <a:xfrm>
            <a:off x="1835280" y="-17136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 (=Candidosi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4"/>
          <p:cNvSpPr/>
          <p:nvPr/>
        </p:nvSpPr>
        <p:spPr>
          <a:xfrm>
            <a:off x="1114560" y="1174680"/>
            <a:ext cx="75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is is any infection caused by any species of the yeast fungus </a:t>
            </a:r>
            <a:r>
              <a:rPr b="0" i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few other yeas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5"/>
          <p:cNvSpPr/>
          <p:nvPr/>
        </p:nvSpPr>
        <p:spPr>
          <a:xfrm>
            <a:off x="755640" y="73656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Text Box 6"/>
          <p:cNvSpPr/>
          <p:nvPr/>
        </p:nvSpPr>
        <p:spPr>
          <a:xfrm>
            <a:off x="1116000" y="1889280"/>
            <a:ext cx="763272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considered opportunistic infection affecting compromised individu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 Box 7"/>
          <p:cNvSpPr/>
          <p:nvPr/>
        </p:nvSpPr>
        <p:spPr>
          <a:xfrm>
            <a:off x="1116000" y="2970360"/>
            <a:ext cx="770400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375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Young age and elderly, Cancer patients (Malignancies, Lymphoma, Leukemia), Broadspectrum antibacterial antibiotics, Altered immunity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IDS, Inheret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8"/>
          <p:cNvSpPr/>
          <p:nvPr/>
        </p:nvSpPr>
        <p:spPr>
          <a:xfrm>
            <a:off x="1116000" y="2492280"/>
            <a:ext cx="64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edisposing factor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9"/>
          <p:cNvSpPr/>
          <p:nvPr/>
        </p:nvSpPr>
        <p:spPr>
          <a:xfrm>
            <a:off x="1835280" y="233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(Old name Moniliasi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10"/>
          <p:cNvSpPr/>
          <p:nvPr/>
        </p:nvSpPr>
        <p:spPr>
          <a:xfrm>
            <a:off x="1116000" y="3789360"/>
            <a:ext cx="770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ertain drugs (steroids, immunosupressives, cytotoxi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1"/>
          <p:cNvSpPr/>
          <p:nvPr/>
        </p:nvSpPr>
        <p:spPr>
          <a:xfrm>
            <a:off x="1547640" y="415440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For Vaginitis, Pregnancy – B.C.P. – IUCD – Adult fem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2"/>
          <p:cNvSpPr/>
          <p:nvPr/>
        </p:nvSpPr>
        <p:spPr>
          <a:xfrm>
            <a:off x="1547640" y="4619520"/>
            <a:ext cx="74883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99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alnutrition &amp; Iron deficiencies, Diabetes, Dentures, Xerostomia, Intensive care patients &amp; other hospitalized pati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3"/>
          <p:cNvSpPr/>
          <p:nvPr/>
        </p:nvSpPr>
        <p:spPr>
          <a:xfrm>
            <a:off x="1116000" y="54450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ource of infection is Endogenous because Candida species are normal flora of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14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15"/>
          <p:cNvSpPr/>
          <p:nvPr/>
        </p:nvSpPr>
        <p:spPr>
          <a:xfrm>
            <a:off x="7451640" y="684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 Box 2"/>
          <p:cNvSpPr/>
          <p:nvPr/>
        </p:nvSpPr>
        <p:spPr>
          <a:xfrm>
            <a:off x="971640" y="-302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4"/>
          <p:cNvSpPr/>
          <p:nvPr/>
        </p:nvSpPr>
        <p:spPr>
          <a:xfrm>
            <a:off x="1116000" y="97776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Mucocutaneous &amp; Cutaneou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755640" y="53964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 types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1258920" y="1484280"/>
            <a:ext cx="76327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al thrush: White or grey Pseudomembranous patches on oral surfaces especially tongue with underlying erythema.  Common in neonates, infants, children, elderly, compromised host, AID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1260360" y="2421000"/>
            <a:ext cx="7632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aper (Napkin) rash: Rash on groin of diapeer wearers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1258920" y="2863800"/>
            <a:ext cx="763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ycotic vaginitis (vulvovaginitis) = vaginal thrush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1258920" y="3284640"/>
            <a:ext cx="7561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6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Whitish or erythematous patches on vaginal mucosa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1403280" y="4559400"/>
            <a:ext cx="7632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rtrigneous candidiasis: erythematous lesions on body skin folds. More seen in over weight individual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1403280" y="5208480"/>
            <a:ext cx="76327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aronychea – Infection of tissue distal to nai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1403280" y="5589720"/>
            <a:ext cx="76327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ychomycosis:  Nail infection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1258920" y="3649680"/>
            <a:ext cx="7561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6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Signes:  vaginal discharge (whitish-yellow) &amp; pruritu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1258920" y="3933720"/>
            <a:ext cx="756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dult ladies especially pregnant, contraceptive users (B.C.P., IUCD), even virgin girls, Husbands may develop balaniti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2"/>
          <p:cNvSpPr/>
          <p:nvPr/>
        </p:nvSpPr>
        <p:spPr>
          <a:xfrm>
            <a:off x="971640" y="-1522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4"/>
          <p:cNvSpPr/>
          <p:nvPr/>
        </p:nvSpPr>
        <p:spPr>
          <a:xfrm>
            <a:off x="1116000" y="97776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opulmonary candidiasis: Bronchitis/Pneumonia in compromised host – Diagnosis difficu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5"/>
          <p:cNvSpPr/>
          <p:nvPr/>
        </p:nvSpPr>
        <p:spPr>
          <a:xfrm>
            <a:off x="1403280" y="2349360"/>
            <a:ext cx="763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rinary Tract Infection – 10</a:t>
            </a:r>
            <a:r>
              <a:rPr b="0" lang="en-US" sz="21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5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c.f.u./ml msu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6"/>
          <p:cNvSpPr/>
          <p:nvPr/>
        </p:nvSpPr>
        <p:spPr>
          <a:xfrm>
            <a:off x="1332000" y="3416400"/>
            <a:ext cx="7561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Transient candidemia (Yeast fungemia)-Only one (+) cul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7"/>
          <p:cNvSpPr/>
          <p:nvPr/>
        </p:nvSpPr>
        <p:spPr>
          <a:xfrm>
            <a:off x="1403280" y="3068640"/>
            <a:ext cx="763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pticaemia: - Blood infection – more than one (+) cultur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8"/>
          <p:cNvSpPr/>
          <p:nvPr/>
        </p:nvSpPr>
        <p:spPr>
          <a:xfrm>
            <a:off x="1403280" y="3871800"/>
            <a:ext cx="7632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ningitis in compromised host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9"/>
          <p:cNvSpPr/>
          <p:nvPr/>
        </p:nvSpPr>
        <p:spPr>
          <a:xfrm>
            <a:off x="1403280" y="4292640"/>
            <a:ext cx="763272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docarditis in compromised host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10"/>
          <p:cNvSpPr/>
          <p:nvPr/>
        </p:nvSpPr>
        <p:spPr>
          <a:xfrm>
            <a:off x="1116000" y="177336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- Other opportunistic systemic candidia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11"/>
          <p:cNvSpPr/>
          <p:nvPr/>
        </p:nvSpPr>
        <p:spPr>
          <a:xfrm>
            <a:off x="1763640" y="2708280"/>
            <a:ext cx="6408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ore seen in catheterized patien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12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1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324000" y="836640"/>
            <a:ext cx="882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usion, mitosis, meios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xual spore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ospore, Zygospore, Ascospore, Basidiospo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3" descr="Image-4"/>
          <p:cNvPicPr/>
          <p:nvPr/>
        </p:nvPicPr>
        <p:blipFill>
          <a:blip r:embed="rId1"/>
          <a:stretch/>
        </p:blipFill>
        <p:spPr>
          <a:xfrm>
            <a:off x="1158840" y="2276640"/>
            <a:ext cx="2633760" cy="6141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Image-6"/>
          <p:cNvPicPr/>
          <p:nvPr/>
        </p:nvPicPr>
        <p:blipFill>
          <a:blip r:embed="rId2"/>
          <a:stretch/>
        </p:blipFill>
        <p:spPr>
          <a:xfrm>
            <a:off x="5724360" y="2924280"/>
            <a:ext cx="2998800" cy="14382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Image-7"/>
          <p:cNvPicPr/>
          <p:nvPr/>
        </p:nvPicPr>
        <p:blipFill>
          <a:blip r:embed="rId3"/>
          <a:stretch/>
        </p:blipFill>
        <p:spPr>
          <a:xfrm>
            <a:off x="469800" y="4759200"/>
            <a:ext cx="3886200" cy="1185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mage-5"/>
          <p:cNvPicPr/>
          <p:nvPr/>
        </p:nvPicPr>
        <p:blipFill>
          <a:blip r:embed="rId4"/>
          <a:stretch/>
        </p:blipFill>
        <p:spPr>
          <a:xfrm>
            <a:off x="1187280" y="3282840"/>
            <a:ext cx="2664000" cy="71928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7"/>
          <p:cNvSpPr/>
          <p:nvPr/>
        </p:nvSpPr>
        <p:spPr>
          <a:xfrm>
            <a:off x="2411280" y="2924280"/>
            <a:ext cx="144720" cy="288720"/>
          </a:xfrm>
          <a:prstGeom prst="downArrow">
            <a:avLst>
              <a:gd name="adj1" fmla="val 50000"/>
              <a:gd name="adj2" fmla="val 4987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843280" y="2852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ygospor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5003640" y="4365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oc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6300720" y="4365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380360" y="44308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osp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2"/>
          <p:cNvSpPr/>
          <p:nvPr/>
        </p:nvSpPr>
        <p:spPr>
          <a:xfrm flipH="1">
            <a:off x="5579640" y="3860640"/>
            <a:ext cx="576360" cy="576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 flipH="1">
            <a:off x="6732720" y="3789360"/>
            <a:ext cx="503280" cy="647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1836720" y="39258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ygomyc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1116000" y="4653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ae8"/>
                </a:solidFill>
                <a:latin typeface="Times New Roman"/>
                <a:ea typeface="Times New Roman"/>
              </a:rPr>
              <a:t>Basidiocar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284472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ae8"/>
                </a:solidFill>
                <a:latin typeface="Times New Roman"/>
                <a:ea typeface="Times New Roman"/>
              </a:rPr>
              <a:t>Basidiosp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3203640" y="558324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ae8"/>
                </a:solidFill>
                <a:latin typeface="Times New Roman"/>
                <a:ea typeface="Times New Roman"/>
              </a:rPr>
              <a:t>Basid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1403280" y="5877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diomyc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97164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ae8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8ae8"/>
                </a:solidFill>
                <a:latin typeface="Times New Roman"/>
                <a:ea typeface="Times New Roman"/>
              </a:rPr>
              <a:t>Gill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5580000" y="5157720"/>
            <a:ext cx="3313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 Truffles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erfezia  &amp; Terman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2"/>
          <p:cNvSpPr/>
          <p:nvPr/>
        </p:nvSpPr>
        <p:spPr>
          <a:xfrm>
            <a:off x="6264360" y="464652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comyce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3"/>
          <p:cNvSpPr/>
          <p:nvPr/>
        </p:nvSpPr>
        <p:spPr>
          <a:xfrm>
            <a:off x="1836720" y="4221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zopus, Muc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24"/>
          <p:cNvSpPr/>
          <p:nvPr/>
        </p:nvSpPr>
        <p:spPr>
          <a:xfrm flipV="1">
            <a:off x="1187280" y="5013000"/>
            <a:ext cx="28908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5"/>
          <p:cNvSpPr/>
          <p:nvPr/>
        </p:nvSpPr>
        <p:spPr>
          <a:xfrm>
            <a:off x="3492360" y="5300640"/>
            <a:ext cx="432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26"/>
          <p:cNvSpPr/>
          <p:nvPr/>
        </p:nvSpPr>
        <p:spPr>
          <a:xfrm>
            <a:off x="2987640" y="573408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7"/>
          <p:cNvSpPr/>
          <p:nvPr/>
        </p:nvSpPr>
        <p:spPr>
          <a:xfrm>
            <a:off x="971640" y="6237360"/>
            <a:ext cx="52560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 Mushrooms                &amp; 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axis pistillar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garicus campestr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28"/>
          <p:cNvSpPr/>
          <p:nvPr/>
        </p:nvSpPr>
        <p:spPr>
          <a:xfrm flipV="1">
            <a:off x="1619280" y="5660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29"/>
          <p:cNvSpPr/>
          <p:nvPr/>
        </p:nvSpPr>
        <p:spPr>
          <a:xfrm flipH="1">
            <a:off x="327636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0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3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2"/>
          <p:cNvSpPr/>
          <p:nvPr/>
        </p:nvSpPr>
        <p:spPr>
          <a:xfrm>
            <a:off x="971640" y="3286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Text Box 4"/>
          <p:cNvSpPr/>
          <p:nvPr/>
        </p:nvSpPr>
        <p:spPr>
          <a:xfrm>
            <a:off x="324000" y="907920"/>
            <a:ext cx="777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684360" y="1390680"/>
            <a:ext cx="7920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ny species of the genus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. Candida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s a yeast  fungus.  It is imperfect, reproducing asexually by budd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6"/>
          <p:cNvSpPr/>
          <p:nvPr/>
        </p:nvSpPr>
        <p:spPr>
          <a:xfrm>
            <a:off x="971640" y="2133720"/>
            <a:ext cx="7272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It has cream moist colony, Fast growing on Sabouraud Dextrose agar (SDA) and Blood aga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7"/>
          <p:cNvSpPr/>
          <p:nvPr/>
        </p:nvSpPr>
        <p:spPr>
          <a:xfrm>
            <a:off x="971640" y="2852640"/>
            <a:ext cx="7416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Structure on Cornmeal agar (CMA):  Budding yeast cells Pseudohyphae, and blastospor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Picture 8" descr="Fig-47"/>
          <p:cNvPicPr/>
          <p:nvPr/>
        </p:nvPicPr>
        <p:blipFill>
          <a:blip r:embed="rId1"/>
          <a:stretch/>
        </p:blipFill>
        <p:spPr>
          <a:xfrm>
            <a:off x="5146560" y="3789360"/>
            <a:ext cx="2881440" cy="1314360"/>
          </a:xfrm>
          <a:prstGeom prst="rect">
            <a:avLst/>
          </a:prstGeom>
          <a:ln w="0">
            <a:noFill/>
          </a:ln>
        </p:spPr>
      </p:pic>
      <p:sp>
        <p:nvSpPr>
          <p:cNvPr id="1083" name="Text Box 9"/>
          <p:cNvSpPr/>
          <p:nvPr/>
        </p:nvSpPr>
        <p:spPr>
          <a:xfrm>
            <a:off x="6012000" y="334008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stospo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10"/>
          <p:cNvSpPr/>
          <p:nvPr/>
        </p:nvSpPr>
        <p:spPr>
          <a:xfrm>
            <a:off x="7091280" y="334008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hyph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11"/>
          <p:cNvSpPr/>
          <p:nvPr/>
        </p:nvSpPr>
        <p:spPr>
          <a:xfrm>
            <a:off x="5003640" y="371628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ding yeast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12"/>
          <p:cNvSpPr/>
          <p:nvPr/>
        </p:nvSpPr>
        <p:spPr>
          <a:xfrm>
            <a:off x="5940360" y="50133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MA me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13"/>
          <p:cNvSpPr/>
          <p:nvPr/>
        </p:nvSpPr>
        <p:spPr>
          <a:xfrm>
            <a:off x="5364000" y="393372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14"/>
          <p:cNvSpPr/>
          <p:nvPr/>
        </p:nvSpPr>
        <p:spPr>
          <a:xfrm>
            <a:off x="6877080" y="3645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15"/>
          <p:cNvSpPr/>
          <p:nvPr/>
        </p:nvSpPr>
        <p:spPr>
          <a:xfrm flipH="1">
            <a:off x="7453440" y="3645000"/>
            <a:ext cx="7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6"/>
          <p:cNvSpPr/>
          <p:nvPr/>
        </p:nvSpPr>
        <p:spPr>
          <a:xfrm>
            <a:off x="971640" y="3573360"/>
            <a:ext cx="3313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It is part of the body flora &amp; other habita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17"/>
          <p:cNvSpPr/>
          <p:nvPr/>
        </p:nvSpPr>
        <p:spPr>
          <a:xfrm>
            <a:off x="755640" y="4292640"/>
            <a:ext cx="43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are many species of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 The common ones to cause infection are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 albicans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glabrata, C.tropicalis, C.Krusei, C.parapsilosi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18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9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2"/>
          <p:cNvSpPr/>
          <p:nvPr/>
        </p:nvSpPr>
        <p:spPr>
          <a:xfrm>
            <a:off x="971640" y="-27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4"/>
          <p:cNvSpPr/>
          <p:nvPr/>
        </p:nvSpPr>
        <p:spPr>
          <a:xfrm>
            <a:off x="250920" y="663480"/>
            <a:ext cx="864216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albicans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s the most common species to cause infection among all yeasts (causes about 50% to 60% of the cases),  therefore there are short-cut tests to identify it which are: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5"/>
          <p:cNvSpPr/>
          <p:nvPr/>
        </p:nvSpPr>
        <p:spPr>
          <a:xfrm>
            <a:off x="611280" y="16938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erm tube test  in se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6"/>
          <p:cNvSpPr/>
          <p:nvPr/>
        </p:nvSpPr>
        <p:spPr>
          <a:xfrm>
            <a:off x="611280" y="27734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 Chlamydospore production in C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7"/>
          <p:cNvSpPr/>
          <p:nvPr/>
        </p:nvSpPr>
        <p:spPr>
          <a:xfrm>
            <a:off x="647640" y="364500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Resistance to 500 </a:t>
            </a:r>
            <a:r>
              <a:rPr b="0" lang="el-GR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/ml Cycloheximide 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will grow on Mycobiotic Mediu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8"/>
          <p:cNvSpPr/>
          <p:nvPr/>
        </p:nvSpPr>
        <p:spPr>
          <a:xfrm>
            <a:off x="395280" y="41497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these 3 are (+), yeast is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albican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 if not other yea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0" name="Picture 9" descr="Fig-50"/>
          <p:cNvPicPr/>
          <p:nvPr/>
        </p:nvPicPr>
        <p:blipFill>
          <a:blip r:embed="rId1"/>
          <a:stretch/>
        </p:blipFill>
        <p:spPr>
          <a:xfrm>
            <a:off x="5003640" y="1622520"/>
            <a:ext cx="1297080" cy="8222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0" descr="Fig-48"/>
          <p:cNvPicPr/>
          <p:nvPr/>
        </p:nvPicPr>
        <p:blipFill>
          <a:blip r:embed="rId2"/>
          <a:stretch/>
        </p:blipFill>
        <p:spPr>
          <a:xfrm>
            <a:off x="6443640" y="2486160"/>
            <a:ext cx="1657440" cy="874440"/>
          </a:xfrm>
          <a:prstGeom prst="rect">
            <a:avLst/>
          </a:prstGeom>
          <a:ln w="0">
            <a:noFill/>
          </a:ln>
        </p:spPr>
      </p:pic>
      <p:sp>
        <p:nvSpPr>
          <p:cNvPr id="1102" name="Text Box 11"/>
          <p:cNvSpPr/>
          <p:nvPr/>
        </p:nvSpPr>
        <p:spPr>
          <a:xfrm>
            <a:off x="395280" y="45291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test to identify any yeast in the clinical lab. is Carbohydrate assimilations. There are commercial kits available for this like: API 20C, ID3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13"/>
          <p:cNvSpPr/>
          <p:nvPr/>
        </p:nvSpPr>
        <p:spPr>
          <a:xfrm>
            <a:off x="431640" y="58053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easts other than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that may cause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ias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nclude: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accharomyces cerevisiae, Trichosporon beigelii, Rhodotorula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spe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14"/>
          <p:cNvSpPr/>
          <p:nvPr/>
        </p:nvSpPr>
        <p:spPr>
          <a:xfrm>
            <a:off x="6516720" y="20541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lamydospo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Line 15"/>
          <p:cNvSpPr/>
          <p:nvPr/>
        </p:nvSpPr>
        <p:spPr>
          <a:xfrm>
            <a:off x="7380360" y="2341440"/>
            <a:ext cx="504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16"/>
          <p:cNvSpPr/>
          <p:nvPr/>
        </p:nvSpPr>
        <p:spPr>
          <a:xfrm>
            <a:off x="6516720" y="334980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albicans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C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17"/>
          <p:cNvSpPr/>
          <p:nvPr/>
        </p:nvSpPr>
        <p:spPr>
          <a:xfrm>
            <a:off x="5508720" y="12621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.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Line 18"/>
          <p:cNvSpPr/>
          <p:nvPr/>
        </p:nvSpPr>
        <p:spPr>
          <a:xfrm>
            <a:off x="5724360" y="14778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19"/>
          <p:cNvSpPr/>
          <p:nvPr/>
        </p:nvSpPr>
        <p:spPr>
          <a:xfrm>
            <a:off x="5003640" y="2414520"/>
            <a:ext cx="15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m tube tes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20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2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2"/>
          <p:cNvSpPr/>
          <p:nvPr/>
        </p:nvSpPr>
        <p:spPr>
          <a:xfrm>
            <a:off x="971640" y="-270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Text Box 4"/>
          <p:cNvSpPr/>
          <p:nvPr/>
        </p:nvSpPr>
        <p:spPr>
          <a:xfrm>
            <a:off x="539640" y="55260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Text Box 5"/>
          <p:cNvSpPr/>
          <p:nvPr/>
        </p:nvSpPr>
        <p:spPr>
          <a:xfrm>
            <a:off x="900000" y="1128600"/>
            <a:ext cx="7920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ecimen obtained depend on site of infectio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6"/>
          <p:cNvSpPr/>
          <p:nvPr/>
        </p:nvSpPr>
        <p:spPr>
          <a:xfrm>
            <a:off x="1260360" y="1488960"/>
            <a:ext cx="6191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  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Swabs, Urine, Blood, Respiratory specimens, CSF, Blood for serology 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If available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7"/>
          <p:cNvSpPr/>
          <p:nvPr/>
        </p:nvSpPr>
        <p:spPr>
          <a:xfrm>
            <a:off x="900000" y="2259000"/>
            <a:ext cx="7920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the Lab. Direct microscopy (D.M.), culture &amp; Serology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8"/>
          <p:cNvSpPr/>
          <p:nvPr/>
        </p:nvSpPr>
        <p:spPr>
          <a:xfrm>
            <a:off x="900000" y="2641680"/>
            <a:ext cx="7920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. If (+) Pseudohyphae and budding yeast cells will be seen in stained smear or KOH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AutoShape 9"/>
          <p:cNvSpPr/>
          <p:nvPr/>
        </p:nvSpPr>
        <p:spPr>
          <a:xfrm>
            <a:off x="3852720" y="184932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0"/>
          <p:cNvSpPr/>
          <p:nvPr/>
        </p:nvSpPr>
        <p:spPr>
          <a:xfrm>
            <a:off x="900000" y="4491000"/>
            <a:ext cx="7920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  on SDA &amp; Blood agar at 37</a:t>
            </a:r>
            <a:r>
              <a:rPr b="0" lang="en-US" sz="21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, If (+) creamy moist colonies in 24 - 48 hour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1"/>
          <p:cNvSpPr/>
          <p:nvPr/>
        </p:nvSpPr>
        <p:spPr>
          <a:xfrm>
            <a:off x="900000" y="5140440"/>
            <a:ext cx="59770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dentify: GTT, Chlamydospore, Cycloheximide, Carbohydrate assimilation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Text Box 12"/>
          <p:cNvSpPr/>
          <p:nvPr/>
        </p:nvSpPr>
        <p:spPr>
          <a:xfrm>
            <a:off x="900000" y="5716440"/>
            <a:ext cx="80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 patient serum:  test for Ag (Mannan, enolase, proteinase) or Ab.Use Immunodiffusion (I.D) or  Counterimmunoelectrophoresis (C.I.E.).  Also latex agglutination t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2" name="Picture 13" descr="Fig-49"/>
          <p:cNvPicPr/>
          <p:nvPr/>
        </p:nvPicPr>
        <p:blipFill>
          <a:blip r:embed="rId1"/>
          <a:stretch/>
        </p:blipFill>
        <p:spPr>
          <a:xfrm>
            <a:off x="4572000" y="3218040"/>
            <a:ext cx="1584360" cy="863280"/>
          </a:xfrm>
          <a:prstGeom prst="rect">
            <a:avLst/>
          </a:prstGeom>
          <a:ln w="0">
            <a:noFill/>
          </a:ln>
        </p:spPr>
      </p:pic>
      <p:sp>
        <p:nvSpPr>
          <p:cNvPr id="1123" name="Text Box 14"/>
          <p:cNvSpPr/>
          <p:nvPr/>
        </p:nvSpPr>
        <p:spPr>
          <a:xfrm>
            <a:off x="5148360" y="29289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hypha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15"/>
          <p:cNvSpPr/>
          <p:nvPr/>
        </p:nvSpPr>
        <p:spPr>
          <a:xfrm>
            <a:off x="5508720" y="32180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6229440" y="35053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ing yeast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17"/>
          <p:cNvSpPr/>
          <p:nvPr/>
        </p:nvSpPr>
        <p:spPr>
          <a:xfrm flipV="1">
            <a:off x="5581800" y="3720960"/>
            <a:ext cx="93492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18"/>
          <p:cNvSpPr/>
          <p:nvPr/>
        </p:nvSpPr>
        <p:spPr>
          <a:xfrm>
            <a:off x="4572000" y="401004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linical specimen (Direct Microscop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9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Text Box 2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2"/>
          <p:cNvSpPr/>
          <p:nvPr/>
        </p:nvSpPr>
        <p:spPr>
          <a:xfrm>
            <a:off x="971640" y="32868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4"/>
          <p:cNvSpPr/>
          <p:nvPr/>
        </p:nvSpPr>
        <p:spPr>
          <a:xfrm>
            <a:off x="539640" y="985680"/>
            <a:ext cx="777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5"/>
          <p:cNvSpPr/>
          <p:nvPr/>
        </p:nvSpPr>
        <p:spPr>
          <a:xfrm>
            <a:off x="900000" y="1484280"/>
            <a:ext cx="8244000" cy="7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opharyngeal: Topical Nystatin suspension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lotrimazole troches (Lozenges),Miconazole, Fluconazole suspension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6"/>
          <p:cNvSpPr/>
          <p:nvPr/>
        </p:nvSpPr>
        <p:spPr>
          <a:xfrm>
            <a:off x="900000" y="2492280"/>
            <a:ext cx="7920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aginitis: Topical; Miconazole, Clotrimazole, Nystati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7"/>
          <p:cNvSpPr/>
          <p:nvPr/>
        </p:nvSpPr>
        <p:spPr>
          <a:xfrm>
            <a:off x="900000" y="2924280"/>
            <a:ext cx="7128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stemic Rx: Amphotericin B, Liposomal amphotericin B, Fluconazole, Caspofungin, Voriconazo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8"/>
          <p:cNvSpPr/>
          <p:nvPr/>
        </p:nvSpPr>
        <p:spPr>
          <a:xfrm>
            <a:off x="900000" y="3768840"/>
            <a:ext cx="79200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resistant to Rx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equest antifungal sensitivity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AutoShape 9"/>
          <p:cNvSpPr/>
          <p:nvPr/>
        </p:nvSpPr>
        <p:spPr>
          <a:xfrm>
            <a:off x="3276720" y="3789360"/>
            <a:ext cx="431640" cy="289080"/>
          </a:xfrm>
          <a:prstGeom prst="rightArrow">
            <a:avLst>
              <a:gd name="adj1" fmla="val 50000"/>
              <a:gd name="adj2" fmla="val 3732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10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1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Text Box 2"/>
          <p:cNvSpPr/>
          <p:nvPr/>
        </p:nvSpPr>
        <p:spPr>
          <a:xfrm>
            <a:off x="2268360" y="507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ryptococ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Text Box 4"/>
          <p:cNvSpPr/>
          <p:nvPr/>
        </p:nvSpPr>
        <p:spPr>
          <a:xfrm>
            <a:off x="1114560" y="1052640"/>
            <a:ext cx="777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stic Yeast infection, caused by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yptococcus neoforma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1116000" y="141300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ingeal (cryptococcal meningitis) and / or Pulmonar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6"/>
          <p:cNvSpPr/>
          <p:nvPr/>
        </p:nvSpPr>
        <p:spPr>
          <a:xfrm>
            <a:off x="755640" y="2852640"/>
            <a:ext cx="597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yptococcus neoforman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True Yeast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Text Box 7"/>
          <p:cNvSpPr/>
          <p:nvPr/>
        </p:nvSpPr>
        <p:spPr>
          <a:xfrm>
            <a:off x="755640" y="69228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Text Box 8"/>
          <p:cNvSpPr/>
          <p:nvPr/>
        </p:nvSpPr>
        <p:spPr>
          <a:xfrm>
            <a:off x="755640" y="255420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Text Box 9"/>
          <p:cNvSpPr/>
          <p:nvPr/>
        </p:nvSpPr>
        <p:spPr>
          <a:xfrm>
            <a:off x="1116000" y="177336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affects compromised ho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Text Box 10"/>
          <p:cNvSpPr/>
          <p:nvPr/>
        </p:nvSpPr>
        <p:spPr>
          <a:xfrm>
            <a:off x="1116000" y="2138400"/>
            <a:ext cx="763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in infection by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albid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Text Box 11"/>
          <p:cNvSpPr/>
          <p:nvPr/>
        </p:nvSpPr>
        <p:spPr>
          <a:xfrm>
            <a:off x="828720" y="5084640"/>
            <a:ext cx="792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ect stage is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obasidiella neoformans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ich is a Basidiomycet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Text Box 12"/>
          <p:cNvSpPr/>
          <p:nvPr/>
        </p:nvSpPr>
        <p:spPr>
          <a:xfrm>
            <a:off x="1187280" y="3716280"/>
            <a:ext cx="64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ue yeast with encapsulated yeast cel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 Box 13"/>
          <p:cNvSpPr/>
          <p:nvPr/>
        </p:nvSpPr>
        <p:spPr>
          <a:xfrm>
            <a:off x="1187280" y="3357720"/>
            <a:ext cx="64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coid yellowish colonies on S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 Box 14"/>
          <p:cNvSpPr/>
          <p:nvPr/>
        </p:nvSpPr>
        <p:spPr>
          <a:xfrm>
            <a:off x="1187280" y="4149720"/>
            <a:ext cx="7956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turally in Pigeon habitats-it is urease (+) has melanin pig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Text Box 15"/>
          <p:cNvSpPr/>
          <p:nvPr/>
        </p:nvSpPr>
        <p:spPr>
          <a:xfrm>
            <a:off x="1187280" y="4508640"/>
            <a:ext cx="770580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produces phenol oxidase / hence forms chocolate colonies on Caffeic acid / Bird seed agar med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2" name="Picture 16" descr="Fig-44"/>
          <p:cNvPicPr/>
          <p:nvPr/>
        </p:nvPicPr>
        <p:blipFill>
          <a:blip r:embed="rId1"/>
          <a:stretch/>
        </p:blipFill>
        <p:spPr>
          <a:xfrm>
            <a:off x="6300720" y="3500280"/>
            <a:ext cx="935280" cy="611280"/>
          </a:xfrm>
          <a:prstGeom prst="rect">
            <a:avLst/>
          </a:prstGeom>
          <a:ln w="0">
            <a:noFill/>
          </a:ln>
        </p:spPr>
      </p:pic>
      <p:sp>
        <p:nvSpPr>
          <p:cNvPr id="1153" name="Text Box 1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Text Box 3"/>
          <p:cNvSpPr/>
          <p:nvPr/>
        </p:nvSpPr>
        <p:spPr>
          <a:xfrm>
            <a:off x="1042920" y="1557360"/>
            <a:ext cx="777708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0000"/>
              </a:lnSpc>
              <a:spcBef>
                <a:spcPts val="15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 - India ink (Or Nigrosin negative stain) will show encapsulated budding yeast cel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- Or stained sm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- Lunar cells may be seen in tissue (=Crescent cel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Text Box 4"/>
          <p:cNvSpPr/>
          <p:nvPr/>
        </p:nvSpPr>
        <p:spPr>
          <a:xfrm>
            <a:off x="684360" y="1125360"/>
            <a:ext cx="820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pecimens: C.S.F. / Body fluids / tissu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Text Box 5"/>
          <p:cNvSpPr/>
          <p:nvPr/>
        </p:nvSpPr>
        <p:spPr>
          <a:xfrm>
            <a:off x="1547640" y="33336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ryptococcosis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Text Box 6"/>
          <p:cNvSpPr/>
          <p:nvPr/>
        </p:nvSpPr>
        <p:spPr>
          <a:xfrm>
            <a:off x="1044720" y="3073320"/>
            <a:ext cx="78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 on SDA – BHI-A at 37</a:t>
            </a:r>
            <a:r>
              <a:rPr b="0" lang="en-US" sz="22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will grow fast 1-2 day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Text Box 7"/>
          <p:cNvSpPr/>
          <p:nvPr/>
        </p:nvSpPr>
        <p:spPr>
          <a:xfrm>
            <a:off x="1042920" y="3433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  -  Latex agglutination – Rapi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 Box 8"/>
          <p:cNvSpPr/>
          <p:nvPr/>
        </p:nvSpPr>
        <p:spPr>
          <a:xfrm>
            <a:off x="1042920" y="37893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D. /C.I.E. tests for antibodies; Cross reactivity with Rhumatoid factor (RF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Text Box 9"/>
          <p:cNvSpPr/>
          <p:nvPr/>
        </p:nvSpPr>
        <p:spPr>
          <a:xfrm>
            <a:off x="684360" y="4498920"/>
            <a:ext cx="648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  Amphotericin B – and 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. Other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1" name="Picture 10" descr="Fig-45"/>
          <p:cNvPicPr/>
          <p:nvPr/>
        </p:nvPicPr>
        <p:blipFill>
          <a:blip r:embed="rId1"/>
          <a:stretch/>
        </p:blipFill>
        <p:spPr>
          <a:xfrm>
            <a:off x="5076720" y="2133720"/>
            <a:ext cx="1177920" cy="5220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1" descr="Fig-46"/>
          <p:cNvPicPr/>
          <p:nvPr/>
        </p:nvPicPr>
        <p:blipFill>
          <a:blip r:embed="rId2"/>
          <a:stretch/>
        </p:blipFill>
        <p:spPr>
          <a:xfrm>
            <a:off x="7812000" y="2421000"/>
            <a:ext cx="935280" cy="590400"/>
          </a:xfrm>
          <a:prstGeom prst="rect">
            <a:avLst/>
          </a:prstGeom>
          <a:ln w="0">
            <a:noFill/>
          </a:ln>
        </p:spPr>
      </p:pic>
      <p:sp>
        <p:nvSpPr>
          <p:cNvPr id="1163" name="Text Box 12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Text Box 1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3"/>
          <p:cNvSpPr/>
          <p:nvPr/>
        </p:nvSpPr>
        <p:spPr>
          <a:xfrm>
            <a:off x="684360" y="1203480"/>
            <a:ext cx="7848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stic Yeast infection usually pulmonar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Text Box 4"/>
          <p:cNvSpPr/>
          <p:nvPr/>
        </p:nvSpPr>
        <p:spPr>
          <a:xfrm>
            <a:off x="1476360" y="5540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richosporo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Text Box 5"/>
          <p:cNvSpPr/>
          <p:nvPr/>
        </p:nvSpPr>
        <p:spPr>
          <a:xfrm>
            <a:off x="684360" y="1635120"/>
            <a:ext cx="845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 is 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chosporon beigelii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Text Box 6"/>
          <p:cNvSpPr/>
          <p:nvPr/>
        </p:nvSpPr>
        <p:spPr>
          <a:xfrm>
            <a:off x="1116000" y="2066760"/>
            <a:ext cx="76327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culture: Yeast with Pseudohyphae, arthrospores and blastspores. It is urease (+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Text Box 7"/>
          <p:cNvSpPr/>
          <p:nvPr/>
        </p:nvSpPr>
        <p:spPr>
          <a:xfrm>
            <a:off x="684360" y="4011480"/>
            <a:ext cx="71294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stic yeast infection, usually pulmonary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Text Box 8"/>
          <p:cNvSpPr/>
          <p:nvPr/>
        </p:nvSpPr>
        <p:spPr>
          <a:xfrm>
            <a:off x="684360" y="444348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 is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trichum candidu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Text Box 9"/>
          <p:cNvSpPr/>
          <p:nvPr/>
        </p:nvSpPr>
        <p:spPr>
          <a:xfrm>
            <a:off x="1044720" y="4933800"/>
            <a:ext cx="7559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culture:   Pseudohyphae, hyphae &amp; arthrospores.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Text Box 10"/>
          <p:cNvSpPr/>
          <p:nvPr/>
        </p:nvSpPr>
        <p:spPr>
          <a:xfrm>
            <a:off x="684360" y="5656320"/>
            <a:ext cx="648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  Amphotericin B – others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Text Box 11"/>
          <p:cNvSpPr/>
          <p:nvPr/>
        </p:nvSpPr>
        <p:spPr>
          <a:xfrm>
            <a:off x="1116000" y="2787480"/>
            <a:ext cx="802800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clinical specimen:  budding yeast cells and Pseudohypha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Text Box 12"/>
          <p:cNvSpPr/>
          <p:nvPr/>
        </p:nvSpPr>
        <p:spPr>
          <a:xfrm>
            <a:off x="1042920" y="5307120"/>
            <a:ext cx="78501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clinical specimen: Pseudohyphae and budding yeast cell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Text Box 13"/>
          <p:cNvSpPr/>
          <p:nvPr/>
        </p:nvSpPr>
        <p:spPr>
          <a:xfrm>
            <a:off x="1403280" y="343548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Geotric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Text Box 14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Text Box 15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Text Box 2"/>
          <p:cNvSpPr/>
          <p:nvPr/>
        </p:nvSpPr>
        <p:spPr>
          <a:xfrm>
            <a:off x="1692360" y="2667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ry Systemic Myco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Text Box 3"/>
          <p:cNvSpPr/>
          <p:nvPr/>
        </p:nvSpPr>
        <p:spPr>
          <a:xfrm>
            <a:off x="395280" y="1268280"/>
            <a:ext cx="835344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se are primary fungal infections.  They do not require risk factors to occur.  They affect normal and compromised subjec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y start as respiratory diseases, and if not cured, they disseminate to other body sites like:  bone, skin and subcutaneous tissues, central nervous system, bone marrow, …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ntracted by inhalation of fungal elements in du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mptoms include flue signs initially, then fever, cough, chest pain, loss of weight, night sweats –other signs of sites they disseminate t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2"/>
          <p:cNvSpPr/>
          <p:nvPr/>
        </p:nvSpPr>
        <p:spPr>
          <a:xfrm>
            <a:off x="1692360" y="2667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ry Systemic Mycoses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Text Box 3"/>
          <p:cNvSpPr/>
          <p:nvPr/>
        </p:nvSpPr>
        <p:spPr>
          <a:xfrm>
            <a:off x="395280" y="1379520"/>
            <a:ext cx="8497800" cy="33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mmon in North America and to a lesser extent South America.  Not common in other parts of the World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tiologies are dimorphic fungi. In nature found in soil of restricted habita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rugs of choice for treatment:  Amphotericin B, Liposomal amphotericin B,Voriconazole, Caspofungin, other new antifunga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y include:  Blastomycosis, Histoplasmosi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ccidioidomycosis, and Paracoccidioidomycosi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2"/>
          <p:cNvSpPr/>
          <p:nvPr/>
        </p:nvSpPr>
        <p:spPr>
          <a:xfrm>
            <a:off x="1692360" y="-223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lastomyc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3"/>
          <p:cNvSpPr/>
          <p:nvPr/>
        </p:nvSpPr>
        <p:spPr>
          <a:xfrm>
            <a:off x="395280" y="836640"/>
            <a:ext cx="8353440" cy="20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eneral statements about the primary systemics apply to this infec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pulmonary form is progressive, and if not treated it disseminates to skin, subcutaneous tissue, bone, central nervous system (CNS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Text Box 6"/>
          <p:cNvSpPr/>
          <p:nvPr/>
        </p:nvSpPr>
        <p:spPr>
          <a:xfrm>
            <a:off x="466560" y="2997360"/>
            <a:ext cx="8353440" cy="40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stomyces dermatitidi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morphic, imperfect, moniliaceous fungu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437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mold in nature and in-culture at ≤30</a:t>
            </a:r>
            <a:r>
              <a:rPr b="0" lang="en-US" sz="23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  But yeast in human body and in-culture at 37</a:t>
            </a:r>
            <a:r>
              <a:rPr b="0" lang="en-US" sz="23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3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The mold is white wi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septate hyphae and lateral unicellular coni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The yeast cells are large 8-15</a:t>
            </a:r>
            <a:r>
              <a:rPr b="0" lang="el-GR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with broad-base attachment of bud to mother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In nature, it is present in soil rich in organic 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Text Box 7"/>
          <p:cNvSpPr/>
          <p:nvPr/>
        </p:nvSpPr>
        <p:spPr>
          <a:xfrm>
            <a:off x="7596360" y="609300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ast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3" name="Picture 8" descr="Fig (Yeast Phase)"/>
          <p:cNvPicPr/>
          <p:nvPr/>
        </p:nvPicPr>
        <p:blipFill>
          <a:blip r:embed="rId1"/>
          <a:stretch/>
        </p:blipFill>
        <p:spPr>
          <a:xfrm>
            <a:off x="7093080" y="5300640"/>
            <a:ext cx="1555560" cy="77616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9" descr="Fig (Mold Phase)"/>
          <p:cNvPicPr/>
          <p:nvPr/>
        </p:nvPicPr>
        <p:blipFill>
          <a:blip r:embed="rId2"/>
          <a:stretch/>
        </p:blipFill>
        <p:spPr>
          <a:xfrm>
            <a:off x="6443640" y="4292640"/>
            <a:ext cx="1655640" cy="789120"/>
          </a:xfrm>
          <a:prstGeom prst="rect">
            <a:avLst/>
          </a:prstGeom>
          <a:ln w="0">
            <a:noFill/>
          </a:ln>
        </p:spPr>
      </p:pic>
      <p:sp>
        <p:nvSpPr>
          <p:cNvPr id="1195" name="Text Box 10"/>
          <p:cNvSpPr/>
          <p:nvPr/>
        </p:nvSpPr>
        <p:spPr>
          <a:xfrm>
            <a:off x="7885080" y="429264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Line 11"/>
          <p:cNvSpPr/>
          <p:nvPr/>
        </p:nvSpPr>
        <p:spPr>
          <a:xfrm flipH="1">
            <a:off x="7667280" y="4508640"/>
            <a:ext cx="2890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Text Box 12"/>
          <p:cNvSpPr/>
          <p:nvPr/>
        </p:nvSpPr>
        <p:spPr>
          <a:xfrm>
            <a:off x="6948360" y="48690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d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Text Box 13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Text Box 1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96720" y="112536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Groups of Fungal Infec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466560" y="1557360"/>
            <a:ext cx="7201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ficial Myc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aneous Myc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utaneous Myc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c Myc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stic Myc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nomycetous Infection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 Box 2"/>
          <p:cNvSpPr/>
          <p:nvPr/>
        </p:nvSpPr>
        <p:spPr>
          <a:xfrm>
            <a:off x="1692360" y="-223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lastomycosis </a:t>
            </a:r>
            <a:r>
              <a:rPr b="1" lang="en-US" sz="3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Text Box 4"/>
          <p:cNvSpPr/>
          <p:nvPr/>
        </p:nvSpPr>
        <p:spPr>
          <a:xfrm>
            <a:off x="826920" y="49878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Text Box 5"/>
          <p:cNvSpPr/>
          <p:nvPr/>
        </p:nvSpPr>
        <p:spPr>
          <a:xfrm>
            <a:off x="466560" y="1141560"/>
            <a:ext cx="83534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erfect stage of the fungus has been discovered and it is an ascomycete reproduce sexually forming ascospores. Named, 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jellomyces dermatitidi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6"/>
          <p:cNvSpPr/>
          <p:nvPr/>
        </p:nvSpPr>
        <p:spPr>
          <a:xfrm>
            <a:off x="466560" y="2517840"/>
            <a:ext cx="8353440" cy="50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s: respiratory 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sputum, 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bronchoscopic)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biopsy tissue from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te, blood for serology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  Yeast cells with broad-base bud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SDA, blood agar, BHI-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t ≤30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ld; at 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Y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st for Ab using known Ag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lastomyc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ethods:  I.D, C.I.E, complement fixation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F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is cross-reactivity with oth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mentioned in the general statement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AutoShape 7"/>
          <p:cNvSpPr/>
          <p:nvPr/>
        </p:nvSpPr>
        <p:spPr>
          <a:xfrm>
            <a:off x="3492360" y="4724280"/>
            <a:ext cx="503280" cy="217440"/>
          </a:xfrm>
          <a:prstGeom prst="rightArrow">
            <a:avLst>
              <a:gd name="adj1" fmla="val 50000"/>
              <a:gd name="adj2" fmla="val 5786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AutoShape 8"/>
          <p:cNvSpPr/>
          <p:nvPr/>
        </p:nvSpPr>
        <p:spPr>
          <a:xfrm>
            <a:off x="5724360" y="4724280"/>
            <a:ext cx="503280" cy="217440"/>
          </a:xfrm>
          <a:prstGeom prst="rightArrow">
            <a:avLst>
              <a:gd name="adj1" fmla="val 50000"/>
              <a:gd name="adj2" fmla="val 5786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 Box 9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Text Box 1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Text Box 2"/>
          <p:cNvSpPr/>
          <p:nvPr/>
        </p:nvSpPr>
        <p:spPr>
          <a:xfrm>
            <a:off x="1476360" y="-936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istoplasmosis </a:t>
            </a: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Cave Disease)</a:t>
            </a:r>
            <a:r>
              <a:rPr b="1" lang="en-US" sz="36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Text Box 3"/>
          <p:cNvSpPr/>
          <p:nvPr/>
        </p:nvSpPr>
        <p:spPr>
          <a:xfrm>
            <a:off x="395280" y="620640"/>
            <a:ext cx="84978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an intracellular infection of the reticuloendothelial system (RES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tarts as respiratory- could be self-limiting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pulmonary form similar to tuberculosis – there is caseation and fibrosis.  Disseminates to RES (liver, spleen, bone marrow …. Macrophages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en more in U.S.A., reported from other parts of the World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plasma capsulatu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morphic, imperfect, moniliaceous fungu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Mold in nature and in culture at ≤30</a:t>
            </a:r>
            <a:r>
              <a:rPr b="0" lang="en-US" sz="2100" spc="-1" strike="noStrike" baseline="30000">
                <a:solidFill>
                  <a:srgbClr val="99ff99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Yeast in human body and in culture at 37</a:t>
            </a:r>
            <a:r>
              <a:rPr b="0" lang="en-US" sz="2100" spc="-1" strike="noStrike" baseline="30000">
                <a:solidFill>
                  <a:srgbClr val="99ff99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312"/>
              </a:spcBef>
              <a:buClr>
                <a:srgbClr val="99ff99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There are two varieties of the species, differing mainly in the yeast phase and having same mold phase.  These varieties are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1312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H.cap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. var. </a:t>
            </a:r>
            <a:r>
              <a:rPr b="0" i="1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capsulatum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; Has small (2-3 x 3-4 </a:t>
            </a:r>
            <a:r>
              <a:rPr b="0" lang="el-GR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μ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) oval yeast cells.  Causes the usual histoplasmosi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90000"/>
              </a:lnSpc>
              <a:spcBef>
                <a:spcPts val="1312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H.cap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. var. </a:t>
            </a:r>
            <a:r>
              <a:rPr b="0" i="1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duboisii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; Has large yeast cells (7-15</a:t>
            </a:r>
            <a:r>
              <a:rPr b="0" lang="el-GR" sz="2100" spc="-1" strike="noStrike">
                <a:solidFill>
                  <a:srgbClr val="ccffcc"/>
                </a:solidFill>
                <a:latin typeface="Arial"/>
                <a:ea typeface="Arial"/>
              </a:rPr>
              <a:t>μ</a:t>
            </a:r>
            <a:r>
              <a:rPr b="0" lang="en-US" sz="2100" spc="-1" strike="noStrike">
                <a:solidFill>
                  <a:srgbClr val="ccffcc"/>
                </a:solidFill>
                <a:latin typeface="Arial"/>
                <a:ea typeface="Arial"/>
              </a:rPr>
              <a:t>m), causes 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African histoplasmosi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Text Box 5"/>
          <p:cNvSpPr/>
          <p:nvPr/>
        </p:nvSpPr>
        <p:spPr>
          <a:xfrm>
            <a:off x="826920" y="491652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 Box 2"/>
          <p:cNvSpPr/>
          <p:nvPr/>
        </p:nvSpPr>
        <p:spPr>
          <a:xfrm>
            <a:off x="1476360" y="44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istoplasmosis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Cave Disease) (Continu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Text Box 3"/>
          <p:cNvSpPr/>
          <p:nvPr/>
        </p:nvSpPr>
        <p:spPr>
          <a:xfrm>
            <a:off x="395280" y="1012680"/>
            <a:ext cx="8497800" cy="14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ld phase has white colonies, septate hyphae, produces two types of conidia; Tuberculated macroconidia (8-14</a:t>
            </a:r>
            <a:r>
              <a:rPr b="0" lang="el-GR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μ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), and smooth microconidia (2-5 </a:t>
            </a:r>
            <a:r>
              <a:rPr b="0" lang="el-GR" sz="2100" spc="-1" strike="noStrike">
                <a:solidFill>
                  <a:srgbClr val="ffffcc"/>
                </a:solidFill>
                <a:latin typeface="Arial"/>
                <a:ea typeface="Arial"/>
              </a:rPr>
              <a:t>μ</a:t>
            </a:r>
            <a:r>
              <a:rPr b="0" lang="en-US" sz="2100" spc="-1" strike="noStrike">
                <a:solidFill>
                  <a:srgbClr val="ffffcc"/>
                </a:solidFill>
                <a:latin typeface="Arial"/>
                <a:ea typeface="Arial"/>
              </a:rPr>
              <a:t>m).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Text Box 5"/>
          <p:cNvSpPr/>
          <p:nvPr/>
        </p:nvSpPr>
        <p:spPr>
          <a:xfrm>
            <a:off x="826920" y="491652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Text Box 6"/>
          <p:cNvSpPr/>
          <p:nvPr/>
        </p:nvSpPr>
        <p:spPr>
          <a:xfrm>
            <a:off x="468360" y="4235400"/>
            <a:ext cx="849780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natural habitat of the fungus is specific soils rich in animal excreta especially bat guano and droppings of certain birds.  Because caves harbor bats – Thus called “Cave Disease”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perfect stage of the fungus has been known; it is ascomycete producing ascospores sexually called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jellomyces capsulatus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7" name="Picture 7" descr="Fig-58 (Coccidioides Immitis)"/>
          <p:cNvPicPr/>
          <p:nvPr/>
        </p:nvPicPr>
        <p:blipFill>
          <a:blip r:embed="rId1"/>
          <a:stretch/>
        </p:blipFill>
        <p:spPr>
          <a:xfrm>
            <a:off x="719280" y="2112840"/>
            <a:ext cx="7956360" cy="1892520"/>
          </a:xfrm>
          <a:prstGeom prst="rect">
            <a:avLst/>
          </a:prstGeom>
          <a:ln w="0">
            <a:noFill/>
          </a:ln>
        </p:spPr>
      </p:pic>
      <p:sp>
        <p:nvSpPr>
          <p:cNvPr id="1218" name="Text Box 8"/>
          <p:cNvSpPr/>
          <p:nvPr/>
        </p:nvSpPr>
        <p:spPr>
          <a:xfrm>
            <a:off x="4500720" y="2205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erculated macroconi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9"/>
          <p:cNvSpPr/>
          <p:nvPr/>
        </p:nvSpPr>
        <p:spPr>
          <a:xfrm>
            <a:off x="5724360" y="2563920"/>
            <a:ext cx="287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Text Box 10"/>
          <p:cNvSpPr/>
          <p:nvPr/>
        </p:nvSpPr>
        <p:spPr>
          <a:xfrm>
            <a:off x="7236000" y="3195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coni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Line 11"/>
          <p:cNvSpPr/>
          <p:nvPr/>
        </p:nvSpPr>
        <p:spPr>
          <a:xfrm>
            <a:off x="7451640" y="306864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Text Box 12"/>
          <p:cNvSpPr/>
          <p:nvPr/>
        </p:nvSpPr>
        <p:spPr>
          <a:xfrm>
            <a:off x="3419640" y="341640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ca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var.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b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east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Text Box 13"/>
          <p:cNvSpPr/>
          <p:nvPr/>
        </p:nvSpPr>
        <p:spPr>
          <a:xfrm>
            <a:off x="971640" y="341640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ca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va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ca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Yeast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Text Box 14"/>
          <p:cNvSpPr/>
          <p:nvPr/>
        </p:nvSpPr>
        <p:spPr>
          <a:xfrm>
            <a:off x="6084720" y="3559320"/>
            <a:ext cx="22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plasma capsulatu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Mold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 Box 1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 Box 16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Text Box 2"/>
          <p:cNvSpPr/>
          <p:nvPr/>
        </p:nvSpPr>
        <p:spPr>
          <a:xfrm>
            <a:off x="1476360" y="9216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istoplasmosis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Cave Disease) (Continu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Text Box 3"/>
          <p:cNvSpPr/>
          <p:nvPr/>
        </p:nvSpPr>
        <p:spPr>
          <a:xfrm>
            <a:off x="395280" y="1012680"/>
            <a:ext cx="84978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1" lang="en-US" sz="21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: Respiratory, biopsy tissue of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affected site, blood, bone marrow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Text Box 5"/>
          <p:cNvSpPr/>
          <p:nvPr/>
        </p:nvSpPr>
        <p:spPr>
          <a:xfrm>
            <a:off x="826920" y="491652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 Box 6"/>
          <p:cNvSpPr/>
          <p:nvPr/>
        </p:nvSpPr>
        <p:spPr>
          <a:xfrm>
            <a:off x="468360" y="1714680"/>
            <a:ext cx="849780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  Intracellular yeast cells in macrophages – small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for var.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psul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and large for var. </a:t>
            </a:r>
            <a:r>
              <a:rPr b="0" i="1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ouboisii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  On SDA, BHI-A, BHI-A-blood 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biphasic medium)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Incubate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t 30</a:t>
            </a:r>
            <a:r>
              <a:rPr b="0" lang="en-US" sz="21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and 37</a:t>
            </a:r>
            <a:r>
              <a:rPr b="0" lang="en-US" sz="21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  Slow growth for primary isolation- may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ake week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 Test for Ab in patient serum using known Ag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Histoplasmin Ag, H and M Ags.)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using I.D., C.I.E, C.F.  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is cross reactivit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mentioned in the general statement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Text Box 2"/>
          <p:cNvSpPr/>
          <p:nvPr/>
        </p:nvSpPr>
        <p:spPr>
          <a:xfrm>
            <a:off x="1403280" y="476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occidioidomycosis </a:t>
            </a:r>
            <a:r>
              <a:rPr b="1" lang="en-US" sz="3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Valley Feve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Text Box 3"/>
          <p:cNvSpPr/>
          <p:nvPr/>
        </p:nvSpPr>
        <p:spPr>
          <a:xfrm>
            <a:off x="395280" y="1496880"/>
            <a:ext cx="8497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 as respiratory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could be self limitin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Text Box 5"/>
          <p:cNvSpPr/>
          <p:nvPr/>
        </p:nvSpPr>
        <p:spPr>
          <a:xfrm>
            <a:off x="826920" y="558324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Text Box 6"/>
          <p:cNvSpPr/>
          <p:nvPr/>
        </p:nvSpPr>
        <p:spPr>
          <a:xfrm>
            <a:off x="468360" y="1857240"/>
            <a:ext cx="8497800" cy="1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pulmonary not cured – It may dissemi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ndemic in Southwestern U.S.A. (Southern California, and Arizona), where it is known as Valley fever, children summer sickness and      adults fl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arely seen out of Ame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Text Box 7"/>
          <p:cNvSpPr/>
          <p:nvPr/>
        </p:nvSpPr>
        <p:spPr>
          <a:xfrm>
            <a:off x="468360" y="3513240"/>
            <a:ext cx="8497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  </a:t>
            </a:r>
            <a:r>
              <a:rPr b="1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ccidioides immit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 Box 8"/>
          <p:cNvSpPr/>
          <p:nvPr/>
        </p:nvSpPr>
        <p:spPr>
          <a:xfrm>
            <a:off x="468360" y="4017960"/>
            <a:ext cx="849780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morphic, imperfect, moniliaceous fungu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12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old in nature and in culture at ≤30</a:t>
            </a:r>
            <a:r>
              <a:rPr b="0" lang="en-US" sz="2100" spc="-1" strike="noStrike" baseline="30000">
                <a:solidFill>
                  <a:srgbClr val="cc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C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12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The other phase is spherules with endospores in human body and in modified converse medium at 37</a:t>
            </a:r>
            <a:r>
              <a:rPr b="0" lang="en-US" sz="2100" spc="-1" strike="noStrike" baseline="30000">
                <a:solidFill>
                  <a:srgbClr val="cc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C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 Box 9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Text Box 10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Picture 2" descr="Fig-57 (Tuberculated)"/>
          <p:cNvPicPr/>
          <p:nvPr/>
        </p:nvPicPr>
        <p:blipFill>
          <a:blip r:embed="rId1"/>
          <a:stretch/>
        </p:blipFill>
        <p:spPr>
          <a:xfrm>
            <a:off x="684360" y="3016080"/>
            <a:ext cx="7632720" cy="2357640"/>
          </a:xfrm>
          <a:prstGeom prst="rect">
            <a:avLst/>
          </a:prstGeom>
          <a:ln w="0">
            <a:noFill/>
          </a:ln>
        </p:spPr>
      </p:pic>
      <p:sp>
        <p:nvSpPr>
          <p:cNvPr id="1242" name="Text Box 3"/>
          <p:cNvSpPr/>
          <p:nvPr/>
        </p:nvSpPr>
        <p:spPr>
          <a:xfrm>
            <a:off x="6659640" y="45813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e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Text Box 4"/>
          <p:cNvSpPr/>
          <p:nvPr/>
        </p:nvSpPr>
        <p:spPr>
          <a:xfrm>
            <a:off x="5724360" y="32781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s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"/>
          <p:cNvSpPr/>
          <p:nvPr/>
        </p:nvSpPr>
        <p:spPr>
          <a:xfrm>
            <a:off x="6588000" y="3645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6"/>
          <p:cNvSpPr/>
          <p:nvPr/>
        </p:nvSpPr>
        <p:spPr>
          <a:xfrm flipH="1">
            <a:off x="7164360" y="436572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Text Box 7"/>
          <p:cNvSpPr/>
          <p:nvPr/>
        </p:nvSpPr>
        <p:spPr>
          <a:xfrm>
            <a:off x="3132000" y="50068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d ph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Text Box 8"/>
          <p:cNvSpPr/>
          <p:nvPr/>
        </p:nvSpPr>
        <p:spPr>
          <a:xfrm>
            <a:off x="4140360" y="537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ccidioides immit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Text Box 9"/>
          <p:cNvSpPr/>
          <p:nvPr/>
        </p:nvSpPr>
        <p:spPr>
          <a:xfrm>
            <a:off x="2484360" y="3141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hrospo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Line 10"/>
          <p:cNvSpPr/>
          <p:nvPr/>
        </p:nvSpPr>
        <p:spPr>
          <a:xfrm flipH="1">
            <a:off x="2771280" y="3500280"/>
            <a:ext cx="7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11"/>
          <p:cNvSpPr/>
          <p:nvPr/>
        </p:nvSpPr>
        <p:spPr>
          <a:xfrm>
            <a:off x="2843280" y="3500280"/>
            <a:ext cx="216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Text Box 12"/>
          <p:cNvSpPr/>
          <p:nvPr/>
        </p:nvSpPr>
        <p:spPr>
          <a:xfrm>
            <a:off x="3851280" y="3925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junctor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Line 13"/>
          <p:cNvSpPr/>
          <p:nvPr/>
        </p:nvSpPr>
        <p:spPr>
          <a:xfrm>
            <a:off x="3851280" y="386064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Text Box 14"/>
          <p:cNvSpPr/>
          <p:nvPr/>
        </p:nvSpPr>
        <p:spPr>
          <a:xfrm>
            <a:off x="468360" y="790560"/>
            <a:ext cx="8497800" cy="21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natural habitat of the fungus is soil in rodent-burrows or around them in hot dry desert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The mold phase has white colonies with septate hyphae.  It produces berrel-shape arthrospores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2.5 - 4 x 3 - 6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)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 that alternate with disjunctor ce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The spherule phase will have large spherules (30-60 </a:t>
            </a:r>
            <a:r>
              <a:rPr b="0" lang="el-GR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) upon maturity with endosp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Text Box 15"/>
          <p:cNvSpPr/>
          <p:nvPr/>
        </p:nvSpPr>
        <p:spPr>
          <a:xfrm>
            <a:off x="1332000" y="1634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occidioidomycosis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Valley Fever) 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Text Box 1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Text Box 18"/>
          <p:cNvSpPr/>
          <p:nvPr/>
        </p:nvSpPr>
        <p:spPr>
          <a:xfrm>
            <a:off x="745164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Text Box 2"/>
          <p:cNvSpPr/>
          <p:nvPr/>
        </p:nvSpPr>
        <p:spPr>
          <a:xfrm>
            <a:off x="1258920" y="9216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occidioidomycosis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(Valley Fever)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Text Box 3"/>
          <p:cNvSpPr/>
          <p:nvPr/>
        </p:nvSpPr>
        <p:spPr>
          <a:xfrm>
            <a:off x="324000" y="803160"/>
            <a:ext cx="84978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s:  Respiratory (Sputum,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oscopic), biopsy  tissue from site of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ion, blood for serology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5"/>
          <p:cNvSpPr/>
          <p:nvPr/>
        </p:nvSpPr>
        <p:spPr>
          <a:xfrm>
            <a:off x="826920" y="470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Text Box 6"/>
          <p:cNvSpPr/>
          <p:nvPr/>
        </p:nvSpPr>
        <p:spPr>
          <a:xfrm>
            <a:off x="395280" y="1998720"/>
            <a:ext cx="874872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Presence of spherules, mature spherules with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endosp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rows readily on SDA at room-temperature or 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  On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dified converse medium at 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and reduced oxygen the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herules will be produced readi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st for Ab in patient serum using known Ag (Coccidioidin Ag)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Methods include C.F., Tube precipitin test, I.D, and C.I.E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Serology is good-rising titer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Infection. 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eclining titers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remis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general state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AutoShape 7"/>
          <p:cNvSpPr/>
          <p:nvPr/>
        </p:nvSpPr>
        <p:spPr>
          <a:xfrm>
            <a:off x="5508720" y="407664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AutoShape 8"/>
          <p:cNvSpPr/>
          <p:nvPr/>
        </p:nvSpPr>
        <p:spPr>
          <a:xfrm>
            <a:off x="3995640" y="436572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Text Box 9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 Box 10"/>
          <p:cNvSpPr/>
          <p:nvPr/>
        </p:nvSpPr>
        <p:spPr>
          <a:xfrm>
            <a:off x="752328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 Box 2"/>
          <p:cNvSpPr/>
          <p:nvPr/>
        </p:nvSpPr>
        <p:spPr>
          <a:xfrm>
            <a:off x="1403280" y="-17136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racoccidioidomycosis                 (South American Blastomyco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 Box 3"/>
          <p:cNvSpPr/>
          <p:nvPr/>
        </p:nvSpPr>
        <p:spPr>
          <a:xfrm>
            <a:off x="395280" y="765000"/>
            <a:ext cx="8497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Statements about primary systemic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826920" y="470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 Box 6"/>
          <p:cNvSpPr/>
          <p:nvPr/>
        </p:nvSpPr>
        <p:spPr>
          <a:xfrm>
            <a:off x="468360" y="1125360"/>
            <a:ext cx="849780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dditional symptoms:  Ulcers in buccal mucosa and lymphadenopath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infection is more seen in South American countries (Brazil, Venezuella, Argentina, Chile, …etc.)  It is rarely seen else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 Box 7"/>
          <p:cNvSpPr/>
          <p:nvPr/>
        </p:nvSpPr>
        <p:spPr>
          <a:xfrm>
            <a:off x="468360" y="2184480"/>
            <a:ext cx="84978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  </a:t>
            </a:r>
            <a:r>
              <a:rPr b="1" i="1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coccidioides brasiliens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 Box 8"/>
          <p:cNvSpPr/>
          <p:nvPr/>
        </p:nvSpPr>
        <p:spPr>
          <a:xfrm>
            <a:off x="468360" y="2598840"/>
            <a:ext cx="84978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morphic, imperfect, moniliaceous fungu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312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mold in nature and in culture at ≤30</a:t>
            </a:r>
            <a:r>
              <a:rPr b="0" lang="en-US" sz="21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, And large yeast in human body and in culture at 37</a:t>
            </a:r>
            <a:r>
              <a:rPr b="0" lang="en-US" sz="21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1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on blood aga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12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The mold grows as white colonies with septate hyphae having Chamydospores and lateral unicellular conidia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80000"/>
              </a:lnSpc>
              <a:spcBef>
                <a:spcPts val="1312"/>
              </a:spcBef>
              <a:buClr>
                <a:srgbClr val="ccffcc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The yeast phase has large yeast cells (some up to 30 </a:t>
            </a:r>
            <a:r>
              <a:rPr b="0" lang="el-GR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μ</a:t>
            </a:r>
            <a:r>
              <a:rPr b="0" lang="en-US" sz="21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m diam) with multiple nuclei and multiple buds; known as mariner’s wheele cell or micky mouse cell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1" name="Picture 9" descr="Fig- (Paracoccidioides)"/>
          <p:cNvPicPr/>
          <p:nvPr/>
        </p:nvPicPr>
        <p:blipFill>
          <a:blip r:embed="rId1"/>
          <a:stretch/>
        </p:blipFill>
        <p:spPr>
          <a:xfrm>
            <a:off x="1812960" y="5267160"/>
            <a:ext cx="6072120" cy="140184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10"/>
          <p:cNvSpPr/>
          <p:nvPr/>
        </p:nvSpPr>
        <p:spPr>
          <a:xfrm>
            <a:off x="250920" y="52293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key mouse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Text Box 11"/>
          <p:cNvSpPr/>
          <p:nvPr/>
        </p:nvSpPr>
        <p:spPr>
          <a:xfrm>
            <a:off x="3564000" y="550404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iner’s wheele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Text Box 12"/>
          <p:cNvSpPr/>
          <p:nvPr/>
        </p:nvSpPr>
        <p:spPr>
          <a:xfrm>
            <a:off x="1979640" y="63752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st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Text Box 13"/>
          <p:cNvSpPr/>
          <p:nvPr/>
        </p:nvSpPr>
        <p:spPr>
          <a:xfrm>
            <a:off x="6300720" y="515772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id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Text Box 14"/>
          <p:cNvSpPr/>
          <p:nvPr/>
        </p:nvSpPr>
        <p:spPr>
          <a:xfrm>
            <a:off x="6443640" y="586116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ydos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Text Box 15"/>
          <p:cNvSpPr/>
          <p:nvPr/>
        </p:nvSpPr>
        <p:spPr>
          <a:xfrm>
            <a:off x="6732720" y="63752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d ph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Text Box 16"/>
          <p:cNvSpPr/>
          <p:nvPr/>
        </p:nvSpPr>
        <p:spPr>
          <a:xfrm>
            <a:off x="3564000" y="63752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coccidioides brasilien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Line 17"/>
          <p:cNvSpPr/>
          <p:nvPr/>
        </p:nvSpPr>
        <p:spPr>
          <a:xfrm>
            <a:off x="1692360" y="5445000"/>
            <a:ext cx="1295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Line 18"/>
          <p:cNvSpPr/>
          <p:nvPr/>
        </p:nvSpPr>
        <p:spPr>
          <a:xfrm flipH="1">
            <a:off x="3203280" y="573408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Line 19"/>
          <p:cNvSpPr/>
          <p:nvPr/>
        </p:nvSpPr>
        <p:spPr>
          <a:xfrm>
            <a:off x="6948360" y="537372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Line 20"/>
          <p:cNvSpPr/>
          <p:nvPr/>
        </p:nvSpPr>
        <p:spPr>
          <a:xfrm>
            <a:off x="6732720" y="5805360"/>
            <a:ext cx="28728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Text Box 21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Text Box 22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Text Box 2"/>
          <p:cNvSpPr/>
          <p:nvPr/>
        </p:nvSpPr>
        <p:spPr>
          <a:xfrm>
            <a:off x="395280" y="1413000"/>
            <a:ext cx="849780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pecimens: Respiratory, Aspirates, ulcerative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aterial, biopsy  tissue from site of infection,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blood for serology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826920" y="4707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468360" y="2546280"/>
            <a:ext cx="8497800" cy="25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Presence of budding yeast cells some large with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multiple nuclei and buds; Marriner’s wheele cells/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Mickey mouse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SDA incubate at room temperature to grow mold phase, and on Blood agar at 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to grow the yeast ph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st for A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12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in general statement.  Mild cases can be treated with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lfonamides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Text Box 6"/>
          <p:cNvSpPr/>
          <p:nvPr/>
        </p:nvSpPr>
        <p:spPr>
          <a:xfrm>
            <a:off x="1260360" y="44280"/>
            <a:ext cx="63360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aracoccidioidomycosis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(South American Blastomycosis) </a:t>
            </a:r>
            <a:r>
              <a:rPr b="1" lang="en-US" sz="24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Continu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Text Box 2"/>
          <p:cNvSpPr/>
          <p:nvPr/>
        </p:nvSpPr>
        <p:spPr>
          <a:xfrm>
            <a:off x="395280" y="2247840"/>
            <a:ext cx="8353440" cy="37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: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infection caused by any species of the yeast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us </a:t>
            </a:r>
            <a:r>
              <a:rPr b="0" i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similar other yeasts.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considered opportunistic infection affecting compromised individual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isposing factors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25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oung age and elderly, Cancer patients (Malignancies, Lymphoma, Leukemia), Broad spectrum antibacterial antibiotics, Altered immunity (AIDS, genetic), Certain drugs (Steroids, immunosupressive, cytotoxic), Diabetes, Pregnancy – B.C.P. – IUCD, Malnutrition &amp; Iron deficiencies, Dentures, Xerostomia, Intensive care patients and other hospitalized pati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Text Box 4"/>
          <p:cNvSpPr/>
          <p:nvPr/>
        </p:nvSpPr>
        <p:spPr>
          <a:xfrm>
            <a:off x="826920" y="565452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didiasis (=Candidosis )                           (Old name Moniliasis)</a:t>
            </a:r>
            <a:br>
              <a:rPr sz="3200"/>
            </a:br>
            <a:r>
              <a:rPr b="1" lang="en-US" sz="3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For Dental Stud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3"/>
          <p:cNvSpPr/>
          <p:nvPr/>
        </p:nvSpPr>
        <p:spPr>
          <a:xfrm>
            <a:off x="1476360" y="44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lassification of Fung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539640" y="907920"/>
            <a:ext cx="81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xonom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sed on morphological, Physiological, Genetic &amp; Molecular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characteristic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539640" y="1557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x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=  Classification ran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539640" y="198900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ngdom:  Mycete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539640" y="2349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sion:  Amastigomyco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684360" y="26719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ubdiv:  Deuteromycot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539640" y="31417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uteromyce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684360" y="3500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ub. class:  Hyphomycetid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1"/>
          <p:cNvSpPr/>
          <p:nvPr/>
        </p:nvSpPr>
        <p:spPr>
          <a:xfrm>
            <a:off x="539640" y="39337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l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2"/>
          <p:cNvSpPr/>
          <p:nvPr/>
        </p:nvSpPr>
        <p:spPr>
          <a:xfrm>
            <a:off x="539640" y="4292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:  Moniliace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539640" y="4653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u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p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4"/>
          <p:cNvSpPr/>
          <p:nvPr/>
        </p:nvSpPr>
        <p:spPr>
          <a:xfrm>
            <a:off x="539640" y="501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e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539640" y="540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539640" y="5769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17"/>
          <p:cNvSpPr/>
          <p:nvPr/>
        </p:nvSpPr>
        <p:spPr>
          <a:xfrm>
            <a:off x="4643280" y="2205000"/>
            <a:ext cx="0" cy="41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5219640" y="2133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omi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9"/>
          <p:cNvSpPr/>
          <p:nvPr/>
        </p:nvSpPr>
        <p:spPr>
          <a:xfrm>
            <a:off x="5219640" y="31417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0"/>
          <p:cNvSpPr/>
          <p:nvPr/>
        </p:nvSpPr>
        <p:spPr>
          <a:xfrm>
            <a:off x="5219640" y="367992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.can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odin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1"/>
          <p:cNvSpPr/>
          <p:nvPr/>
        </p:nvSpPr>
        <p:spPr>
          <a:xfrm>
            <a:off x="5219640" y="4221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 Patho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22"/>
          <p:cNvSpPr/>
          <p:nvPr/>
        </p:nvSpPr>
        <p:spPr>
          <a:xfrm>
            <a:off x="5219640" y="4761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stic  Pathog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5219640" y="2565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25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34920" y="7398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linical Types (Featu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395280" y="2585880"/>
            <a:ext cx="8353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ucocutaneous and cutaneou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stemic Infe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first group include a common mucocutaneous infection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ropharyngeal Candidia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are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ections of mouth; tongue, throat, palate, pharynx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ccal mucosa, gingiva by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specie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re seen in malnorished children, Infants, AIDS patients, Hospitalized patients ….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Rectangle 6"/>
          <p:cNvSpPr/>
          <p:nvPr/>
        </p:nvSpPr>
        <p:spPr>
          <a:xfrm>
            <a:off x="468360" y="-17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ndidiasis (=Candidosis ) 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Text Box 7"/>
          <p:cNvSpPr/>
          <p:nvPr/>
        </p:nvSpPr>
        <p:spPr>
          <a:xfrm>
            <a:off x="395280" y="1397160"/>
            <a:ext cx="8353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re are many clinical types of Candidias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ource of infection is Endogenous because </a:t>
            </a:r>
            <a:r>
              <a:rPr b="0" i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 species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re normal flora of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Text Box 8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Text Box 9"/>
          <p:cNvSpPr/>
          <p:nvPr/>
        </p:nvSpPr>
        <p:spPr>
          <a:xfrm>
            <a:off x="7380360" y="-2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Text Box 2"/>
          <p:cNvSpPr/>
          <p:nvPr/>
        </p:nvSpPr>
        <p:spPr>
          <a:xfrm>
            <a:off x="1187280" y="-27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ropharyngeal Candidiasis (Continue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395280" y="692280"/>
            <a:ext cx="835344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3 Clinical types of Oropharyngeal Candidia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al thrush (=Pseudomembraneous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ppears as white-creamy plaques on the mucosa with underlying erythema when white patches wiped the erythematous (red) surface is exposed and may blee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trophic (erythematous) candidiasis:  Appears as red patches on palate or tongue more seen in denture wearers and xerostom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ukoplakia (chronic hyperplastic candidias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esions are whitish plaques but cannot be wiped off as in thrush.  Often involve tongue and inner commissures of lip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re seen in smokers and patients with secretor blood grou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AIDS patients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fferentiate from Hairy leukoplakia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hich is caused by Epstein Barr viru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Text Box 5"/>
          <p:cNvSpPr/>
          <p:nvPr/>
        </p:nvSpPr>
        <p:spPr>
          <a:xfrm>
            <a:off x="826920" y="5060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AutoShape 6"/>
          <p:cNvSpPr/>
          <p:nvPr/>
        </p:nvSpPr>
        <p:spPr>
          <a:xfrm>
            <a:off x="3780000" y="6021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Text Box 8"/>
          <p:cNvSpPr/>
          <p:nvPr/>
        </p:nvSpPr>
        <p:spPr>
          <a:xfrm>
            <a:off x="752472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 Box 2"/>
          <p:cNvSpPr/>
          <p:nvPr/>
        </p:nvSpPr>
        <p:spPr>
          <a:xfrm>
            <a:off x="1116000" y="1951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ropharyngeal Candidiasis 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395280" y="1171440"/>
            <a:ext cx="83534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andida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lso can infect the commissures of lips producing fissured red lesions that cause pain and burning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t is called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erleche or angular cheilitis (=stomatit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mplications of Oropharyngeal candidia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a)  esophagitis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b)  Septicaem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ther Infections by Candida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aper rash, Mycotic vaginitis </a:t>
            </a:r>
            <a:r>
              <a:rPr b="0" lang="en-US" sz="2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vaginal thrush),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tertrigeounus Candidiasis,Paronychia and onychomycosis, Systemic Infections  (In hospitalized patients), Bronchopulmonary, UTI, Septicaemia, Meningitis, Endocardit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AutoShape 6"/>
          <p:cNvSpPr/>
          <p:nvPr/>
        </p:nvSpPr>
        <p:spPr>
          <a:xfrm>
            <a:off x="5364000" y="155736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 Box 8"/>
          <p:cNvSpPr/>
          <p:nvPr/>
        </p:nvSpPr>
        <p:spPr>
          <a:xfrm>
            <a:off x="745164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Text Box 2"/>
          <p:cNvSpPr/>
          <p:nvPr/>
        </p:nvSpPr>
        <p:spPr>
          <a:xfrm>
            <a:off x="1116000" y="1951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ropharyngeal Candidiasis 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 Box 3"/>
          <p:cNvSpPr/>
          <p:nvPr/>
        </p:nvSpPr>
        <p:spPr>
          <a:xfrm>
            <a:off x="395280" y="765000"/>
            <a:ext cx="8497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iology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y species of the genus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. Candid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unicellular yeast fungus. It is imperfect reproducing by Asexual mea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bud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dding yeast cells, blastospores, and Pseudohypha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reamy colony,fast growing on Sabouraud Dextrose agar  (SDA), Blood agar, and on CMA (Cornmeal aga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AutoShape 6"/>
          <p:cNvSpPr/>
          <p:nvPr/>
        </p:nvSpPr>
        <p:spPr>
          <a:xfrm>
            <a:off x="7020000" y="1628640"/>
            <a:ext cx="288720" cy="216000"/>
          </a:xfrm>
          <a:prstGeom prst="rightArrow">
            <a:avLst>
              <a:gd name="adj1" fmla="val 50000"/>
              <a:gd name="adj2" fmla="val 3341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Text Box 7"/>
          <p:cNvSpPr/>
          <p:nvPr/>
        </p:nvSpPr>
        <p:spPr>
          <a:xfrm>
            <a:off x="395280" y="3357720"/>
            <a:ext cx="83534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part of the body flora in mucocutaneous tissue </a:t>
            </a:r>
            <a:r>
              <a:rPr b="0" lang="en-US" sz="2200" spc="-1" strike="noStrike">
                <a:solidFill>
                  <a:srgbClr val="ccffcc"/>
                </a:solidFill>
                <a:latin typeface="Times New Roman"/>
                <a:ea typeface="Times New Roman"/>
              </a:rPr>
              <a:t>(Mouth, Vagina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, GI, UT., Skin,  also other habitats 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many species of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mon species are: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albicans, C.glabrata, C.tropicali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Krusei, C.parapsilos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Text Box 8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Text Box 9"/>
          <p:cNvSpPr/>
          <p:nvPr/>
        </p:nvSpPr>
        <p:spPr>
          <a:xfrm>
            <a:off x="752328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Text Box 2"/>
          <p:cNvSpPr/>
          <p:nvPr/>
        </p:nvSpPr>
        <p:spPr>
          <a:xfrm>
            <a:off x="1116000" y="1951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Oropharyngeal Candidiasis  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Text Box 3"/>
          <p:cNvSpPr/>
          <p:nvPr/>
        </p:nvSpPr>
        <p:spPr>
          <a:xfrm>
            <a:off x="395280" y="765000"/>
            <a:ext cx="8353440" cy="59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albica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the most common species to cause infection among all yeasts (cause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~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% - 60% of the ca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fore there are short-cut tests to identify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m tub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Chlamydospore production in C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istance to 500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μ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/ml Cycloheximide (growth on Mycobioti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 algn="just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se 3 (+), yeast is C.alb. If not other yea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est to identify any yeast in the clinical lab. is by Carbohydrate assimilation tests. There are commercial kits for this; API 20C, ID 3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yeasts other than Candida that may cause Candidiasis, of thes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charomyces cerevisiae, Trichosporon beigelii, Rhodotorula sp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Text Box 5"/>
          <p:cNvSpPr/>
          <p:nvPr/>
        </p:nvSpPr>
        <p:spPr>
          <a:xfrm>
            <a:off x="826920" y="52768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5" name="Picture 6" descr="Fig-6"/>
          <p:cNvPicPr/>
          <p:nvPr/>
        </p:nvPicPr>
        <p:blipFill>
          <a:blip r:embed="rId1"/>
          <a:stretch/>
        </p:blipFill>
        <p:spPr>
          <a:xfrm>
            <a:off x="2050920" y="2389320"/>
            <a:ext cx="4249800" cy="1604880"/>
          </a:xfrm>
          <a:prstGeom prst="rect">
            <a:avLst/>
          </a:prstGeom>
          <a:ln w="0">
            <a:noFill/>
          </a:ln>
        </p:spPr>
      </p:pic>
      <p:sp>
        <p:nvSpPr>
          <p:cNvPr id="1326" name="Text Box 7"/>
          <p:cNvSpPr/>
          <p:nvPr/>
        </p:nvSpPr>
        <p:spPr>
          <a:xfrm>
            <a:off x="4210200" y="2421000"/>
            <a:ext cx="165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ydospo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Line 8"/>
          <p:cNvSpPr/>
          <p:nvPr/>
        </p:nvSpPr>
        <p:spPr>
          <a:xfrm>
            <a:off x="550872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Text Box 9"/>
          <p:cNvSpPr/>
          <p:nvPr/>
        </p:nvSpPr>
        <p:spPr>
          <a:xfrm>
            <a:off x="3708360" y="287640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st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Line 10"/>
          <p:cNvSpPr/>
          <p:nvPr/>
        </p:nvSpPr>
        <p:spPr>
          <a:xfrm>
            <a:off x="4572000" y="2997360"/>
            <a:ext cx="36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Text Box 11"/>
          <p:cNvSpPr/>
          <p:nvPr/>
        </p:nvSpPr>
        <p:spPr>
          <a:xfrm>
            <a:off x="4643280" y="3668760"/>
            <a:ext cx="165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hyph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Text Box 12"/>
          <p:cNvSpPr/>
          <p:nvPr/>
        </p:nvSpPr>
        <p:spPr>
          <a:xfrm>
            <a:off x="4786200" y="39258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albic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Line 13"/>
          <p:cNvSpPr/>
          <p:nvPr/>
        </p:nvSpPr>
        <p:spPr>
          <a:xfrm flipH="1" flipV="1">
            <a:off x="4571640" y="364464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Text Box 14"/>
          <p:cNvSpPr/>
          <p:nvPr/>
        </p:nvSpPr>
        <p:spPr>
          <a:xfrm>
            <a:off x="2050920" y="24922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ast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Line 15"/>
          <p:cNvSpPr/>
          <p:nvPr/>
        </p:nvSpPr>
        <p:spPr>
          <a:xfrm>
            <a:off x="2340000" y="2708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Text Box 16"/>
          <p:cNvSpPr/>
          <p:nvPr/>
        </p:nvSpPr>
        <p:spPr>
          <a:xfrm>
            <a:off x="2627280" y="273204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m tub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Line 17"/>
          <p:cNvSpPr/>
          <p:nvPr/>
        </p:nvSpPr>
        <p:spPr>
          <a:xfrm flipH="1">
            <a:off x="2771640" y="299736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Text Box 18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Text Box 19"/>
          <p:cNvSpPr/>
          <p:nvPr/>
        </p:nvSpPr>
        <p:spPr>
          <a:xfrm>
            <a:off x="7523280" y="-324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Text Box 3"/>
          <p:cNvSpPr/>
          <p:nvPr/>
        </p:nvSpPr>
        <p:spPr>
          <a:xfrm>
            <a:off x="826920" y="428616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Text Box 4"/>
          <p:cNvSpPr/>
          <p:nvPr/>
        </p:nvSpPr>
        <p:spPr>
          <a:xfrm>
            <a:off x="250920" y="299880"/>
            <a:ext cx="889308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375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pecimen: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Depend on site of Infection.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opharyngeal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wab from les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lood for serology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st. Inf.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ther systemic specimens (e.g. C.S.F. respiratory specimens,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SU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the Lab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icroscopy (D.M.), culture, and serolog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irect M. If (+) Pseudohyphae and budding yeast cells in stained smear or KO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ulture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n SDA and Blood agar at 37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 and at 25-30</a:t>
            </a:r>
            <a:r>
              <a:rPr b="0" lang="en-US" sz="2000" spc="-1" strike="noStrike" baseline="30000">
                <a:solidFill>
                  <a:srgbClr val="ffffcc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(+), creamy moist colonies will develop within 24  – 48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dentify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TT, Chlamydo, Cycloh., Carboh. assi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rology: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atient serum test for Mannan antigen (Ag) or antibody(Ab).  Use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mmunodiffusion  (I.D.) or (C.I.E.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ounterimmunoelectrophoresis.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g Serol. Good for D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Text Box 5"/>
          <p:cNvSpPr/>
          <p:nvPr/>
        </p:nvSpPr>
        <p:spPr>
          <a:xfrm>
            <a:off x="1547640" y="-171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AutoShape 6"/>
          <p:cNvSpPr/>
          <p:nvPr/>
        </p:nvSpPr>
        <p:spPr>
          <a:xfrm>
            <a:off x="5149800" y="1558800"/>
            <a:ext cx="574560" cy="217440"/>
          </a:xfrm>
          <a:prstGeom prst="rightArrow">
            <a:avLst>
              <a:gd name="adj1" fmla="val 50000"/>
              <a:gd name="adj2" fmla="val 6606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3" name="Picture 7" descr="Fig-7"/>
          <p:cNvPicPr/>
          <p:nvPr/>
        </p:nvPicPr>
        <p:blipFill>
          <a:blip r:embed="rId1"/>
          <a:stretch/>
        </p:blipFill>
        <p:spPr>
          <a:xfrm>
            <a:off x="1979640" y="3216240"/>
            <a:ext cx="3529080" cy="1357200"/>
          </a:xfrm>
          <a:prstGeom prst="rect">
            <a:avLst/>
          </a:prstGeom>
          <a:ln w="0">
            <a:noFill/>
          </a:ln>
        </p:spPr>
      </p:pic>
      <p:sp>
        <p:nvSpPr>
          <p:cNvPr id="1344" name="Text Box 8"/>
          <p:cNvSpPr/>
          <p:nvPr/>
        </p:nvSpPr>
        <p:spPr>
          <a:xfrm>
            <a:off x="2411280" y="33116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hyph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Line 9"/>
          <p:cNvSpPr/>
          <p:nvPr/>
        </p:nvSpPr>
        <p:spPr>
          <a:xfrm>
            <a:off x="3564000" y="3503520"/>
            <a:ext cx="504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Text Box 10"/>
          <p:cNvSpPr/>
          <p:nvPr/>
        </p:nvSpPr>
        <p:spPr>
          <a:xfrm>
            <a:off x="4427640" y="386388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ding Yeast ce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Line 11"/>
          <p:cNvSpPr/>
          <p:nvPr/>
        </p:nvSpPr>
        <p:spPr>
          <a:xfrm flipH="1">
            <a:off x="4140000" y="40086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Text Box 12"/>
          <p:cNvSpPr/>
          <p:nvPr/>
        </p:nvSpPr>
        <p:spPr>
          <a:xfrm>
            <a:off x="2556000" y="4511520"/>
            <a:ext cx="29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atient speci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Text Box 13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Text Box 1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Text Box 4"/>
          <p:cNvSpPr/>
          <p:nvPr/>
        </p:nvSpPr>
        <p:spPr>
          <a:xfrm>
            <a:off x="250920" y="1052640"/>
            <a:ext cx="8893080" cy="49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men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opharyngeal:</a:t>
            </a:r>
            <a:r>
              <a:rPr b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pcial Nystatin suspension, Clotrimazole troches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(Lozenges),Miconazole, or Fluconazole suspen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ystemic: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photericin B, Fluconazole, Caspofungin,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oriconazo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f resistant to Rx 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quest antifungal sensitiv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ctr"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Other Oral Fungal Infe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ast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yptococcus neoforma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ld infection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ergillosis, Zygomycosis Histoplasmosis,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astomycosis, Rhinosporidios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Text Box 5"/>
          <p:cNvSpPr/>
          <p:nvPr/>
        </p:nvSpPr>
        <p:spPr>
          <a:xfrm>
            <a:off x="1547640" y="-27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andidiasis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Continu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AutoShape 6"/>
          <p:cNvSpPr/>
          <p:nvPr/>
        </p:nvSpPr>
        <p:spPr>
          <a:xfrm>
            <a:off x="2771640" y="3068640"/>
            <a:ext cx="216000" cy="28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Text Box 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Text Box 2"/>
          <p:cNvSpPr/>
          <p:nvPr/>
        </p:nvSpPr>
        <p:spPr>
          <a:xfrm>
            <a:off x="828720" y="26028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Fungal Eye Infe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Text Box 3"/>
          <p:cNvSpPr/>
          <p:nvPr/>
        </p:nvSpPr>
        <p:spPr>
          <a:xfrm>
            <a:off x="468360" y="141300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REE  TYP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Text Box 4"/>
          <p:cNvSpPr/>
          <p:nvPr/>
        </p:nvSpPr>
        <p:spPr>
          <a:xfrm>
            <a:off x="250920" y="2060640"/>
            <a:ext cx="86421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-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tic Keratit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= keratomycosi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al infection of corn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neal ulcer, corneal absce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sk Factor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aliculitis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uma, Surgery, Corticosteroids, no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ion with hyphated margi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opyon usually present fungi usuall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Shaggy margin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ep in C.tissue not in surf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Text Box 5"/>
          <p:cNvSpPr/>
          <p:nvPr/>
        </p:nvSpPr>
        <p:spPr>
          <a:xfrm>
            <a:off x="2556000" y="83664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Oculomyc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Text Box 8"/>
          <p:cNvSpPr/>
          <p:nvPr/>
        </p:nvSpPr>
        <p:spPr>
          <a:xfrm>
            <a:off x="738036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Text Box 2"/>
          <p:cNvSpPr/>
          <p:nvPr/>
        </p:nvSpPr>
        <p:spPr>
          <a:xfrm>
            <a:off x="97164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Fungal Eye Infections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Text Box 3"/>
          <p:cNvSpPr/>
          <p:nvPr/>
        </p:nvSpPr>
        <p:spPr>
          <a:xfrm>
            <a:off x="611280" y="134136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tiolog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nvironmental fung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Text Box 4"/>
          <p:cNvSpPr/>
          <p:nvPr/>
        </p:nvSpPr>
        <p:spPr>
          <a:xfrm>
            <a:off x="611280" y="2060640"/>
            <a:ext cx="8208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ly, fast growing moniliaceous fungi viz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sarium solanii, F.oxysporum,  Aspergillus fumigatus, A. flavus, A.niger Candida albicans, Candida sp., Acremon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allescher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edospor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atiaceous fungi: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ytalidium, Curvularia, Exophial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sporidiosis –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sporidium seeb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Text Box 7"/>
          <p:cNvSpPr/>
          <p:nvPr/>
        </p:nvSpPr>
        <p:spPr>
          <a:xfrm>
            <a:off x="738036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Text Box 2"/>
          <p:cNvSpPr/>
          <p:nvPr/>
        </p:nvSpPr>
        <p:spPr>
          <a:xfrm>
            <a:off x="900000" y="4428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Fungal Eye Infections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Text Box 3"/>
          <p:cNvSpPr/>
          <p:nvPr/>
        </p:nvSpPr>
        <p:spPr>
          <a:xfrm>
            <a:off x="611280" y="90792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Laboratory Diagnosi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pecimens:  Corneal scrapings – swabs n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good, conjunctival scraping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Text Box 4"/>
          <p:cNvSpPr/>
          <p:nvPr/>
        </p:nvSpPr>
        <p:spPr>
          <a:xfrm>
            <a:off x="611280" y="2492280"/>
            <a:ext cx="8281800" cy="36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ears, 10%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H,  Calcoflu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m stain, Giemsa, Silver stain (G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positive 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ate hyphae, Hyphal fragments, Yeast cells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hyph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ultu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Sabouraud dextrose agar (SDA) with n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Cycloheximide, BHI, BA. C-cut inocul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 (+) &amp; culture (+) or (+) culture from repeated specimens, or (+) culture from multiple  sites of inoc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Text Box 6"/>
          <p:cNvSpPr/>
          <p:nvPr/>
        </p:nvSpPr>
        <p:spPr>
          <a:xfrm>
            <a:off x="611280" y="191628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microscopy Ex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Oval 7"/>
          <p:cNvSpPr/>
          <p:nvPr/>
        </p:nvSpPr>
        <p:spPr>
          <a:xfrm>
            <a:off x="7667640" y="4365720"/>
            <a:ext cx="936720" cy="8636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Freeform 8"/>
          <p:cNvSpPr/>
          <p:nvPr/>
        </p:nvSpPr>
        <p:spPr>
          <a:xfrm rot="1629600">
            <a:off x="7884720" y="4508640"/>
            <a:ext cx="95400" cy="266400"/>
          </a:xfrm>
          <a:custGeom>
            <a:avLst/>
            <a:gdLst>
              <a:gd name="textAreaLeft" fmla="*/ 0 w 95400"/>
              <a:gd name="textAreaRight" fmla="*/ 95760 w 95400"/>
              <a:gd name="textAreaTop" fmla="*/ 0 h 266400"/>
              <a:gd name="textAreaBottom" fmla="*/ 266760 h 266400"/>
            </a:gdLst>
            <a:ahLst/>
            <a:rect l="textAreaLeft" t="textAreaTop" r="textAreaRight" b="textAreaBottom"/>
            <a:pathLst>
              <a:path w="60" h="168">
                <a:moveTo>
                  <a:pt x="60" y="0"/>
                </a:moveTo>
                <a:cubicBezTo>
                  <a:pt x="48" y="8"/>
                  <a:pt x="32" y="12"/>
                  <a:pt x="24" y="24"/>
                </a:cubicBezTo>
                <a:cubicBezTo>
                  <a:pt x="11" y="45"/>
                  <a:pt x="0" y="96"/>
                  <a:pt x="0" y="96"/>
                </a:cubicBezTo>
                <a:cubicBezTo>
                  <a:pt x="4" y="116"/>
                  <a:pt x="1" y="139"/>
                  <a:pt x="12" y="156"/>
                </a:cubicBezTo>
                <a:cubicBezTo>
                  <a:pt x="19" y="167"/>
                  <a:pt x="48" y="168"/>
                  <a:pt x="48" y="168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Freeform 9"/>
          <p:cNvSpPr/>
          <p:nvPr/>
        </p:nvSpPr>
        <p:spPr>
          <a:xfrm>
            <a:off x="8172360" y="4510080"/>
            <a:ext cx="209520" cy="195120"/>
          </a:xfrm>
          <a:custGeom>
            <a:avLst/>
            <a:gdLst>
              <a:gd name="textAreaLeft" fmla="*/ 0 w 209520"/>
              <a:gd name="textAreaRight" fmla="*/ 209880 w 2095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32" h="123">
                <a:moveTo>
                  <a:pt x="0" y="39"/>
                </a:moveTo>
                <a:cubicBezTo>
                  <a:pt x="49" y="6"/>
                  <a:pt x="62" y="0"/>
                  <a:pt x="120" y="15"/>
                </a:cubicBezTo>
                <a:cubicBezTo>
                  <a:pt x="124" y="27"/>
                  <a:pt x="132" y="38"/>
                  <a:pt x="132" y="51"/>
                </a:cubicBezTo>
                <a:cubicBezTo>
                  <a:pt x="132" y="75"/>
                  <a:pt x="120" y="123"/>
                  <a:pt x="120" y="123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Freeform 10"/>
          <p:cNvSpPr/>
          <p:nvPr/>
        </p:nvSpPr>
        <p:spPr>
          <a:xfrm>
            <a:off x="8307360" y="4797360"/>
            <a:ext cx="225360" cy="174600"/>
          </a:xfrm>
          <a:custGeom>
            <a:avLst/>
            <a:gdLst>
              <a:gd name="textAreaLeft" fmla="*/ 0 w 225360"/>
              <a:gd name="textAreaRight" fmla="*/ 225720 w 2253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58" h="168">
                <a:moveTo>
                  <a:pt x="36" y="0"/>
                </a:moveTo>
                <a:cubicBezTo>
                  <a:pt x="23" y="155"/>
                  <a:pt x="58" y="110"/>
                  <a:pt x="0" y="168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Freeform 11"/>
          <p:cNvSpPr/>
          <p:nvPr/>
        </p:nvSpPr>
        <p:spPr>
          <a:xfrm>
            <a:off x="7829640" y="4876920"/>
            <a:ext cx="198360" cy="136440"/>
          </a:xfrm>
          <a:custGeom>
            <a:avLst/>
            <a:gdLst>
              <a:gd name="textAreaLeft" fmla="*/ 0 w 198360"/>
              <a:gd name="textAreaRight" fmla="*/ 198720 w 1983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96" h="144">
                <a:moveTo>
                  <a:pt x="36" y="0"/>
                </a:moveTo>
                <a:cubicBezTo>
                  <a:pt x="10" y="77"/>
                  <a:pt x="0" y="144"/>
                  <a:pt x="96" y="14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Freeform 12"/>
          <p:cNvSpPr/>
          <p:nvPr/>
        </p:nvSpPr>
        <p:spPr>
          <a:xfrm>
            <a:off x="8091360" y="5013360"/>
            <a:ext cx="152640" cy="1000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0080"/>
              <a:gd name="textAreaBottom" fmla="*/ 100440 h 100080"/>
            </a:gdLst>
            <a:ahLst/>
            <a:rect l="textAreaLeft" t="textAreaTop" r="textAreaRight" b="textAreaBottom"/>
            <a:pathLst>
              <a:path w="96" h="63">
                <a:moveTo>
                  <a:pt x="0" y="24"/>
                </a:moveTo>
                <a:cubicBezTo>
                  <a:pt x="29" y="43"/>
                  <a:pt x="38" y="63"/>
                  <a:pt x="72" y="36"/>
                </a:cubicBezTo>
                <a:cubicBezTo>
                  <a:pt x="83" y="27"/>
                  <a:pt x="96" y="0"/>
                  <a:pt x="96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Freeform 13"/>
          <p:cNvSpPr/>
          <p:nvPr/>
        </p:nvSpPr>
        <p:spPr>
          <a:xfrm>
            <a:off x="8039160" y="4724280"/>
            <a:ext cx="190440" cy="133560"/>
          </a:xfrm>
          <a:custGeom>
            <a:avLst/>
            <a:gdLst>
              <a:gd name="textAreaLeft" fmla="*/ 0 w 190440"/>
              <a:gd name="textAreaRight" fmla="*/ 190800 w 190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120" h="84">
                <a:moveTo>
                  <a:pt x="0" y="84"/>
                </a:moveTo>
                <a:cubicBezTo>
                  <a:pt x="17" y="32"/>
                  <a:pt x="18" y="18"/>
                  <a:pt x="72" y="0"/>
                </a:cubicBezTo>
                <a:cubicBezTo>
                  <a:pt x="84" y="8"/>
                  <a:pt x="99" y="13"/>
                  <a:pt x="108" y="24"/>
                </a:cubicBezTo>
                <a:cubicBezTo>
                  <a:pt x="116" y="34"/>
                  <a:pt x="120" y="60"/>
                  <a:pt x="120" y="6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Line 14"/>
          <p:cNvSpPr/>
          <p:nvPr/>
        </p:nvSpPr>
        <p:spPr>
          <a:xfrm>
            <a:off x="7308720" y="4724280"/>
            <a:ext cx="358920" cy="14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Text Box 1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Text Box 16"/>
          <p:cNvSpPr/>
          <p:nvPr/>
        </p:nvSpPr>
        <p:spPr>
          <a:xfrm>
            <a:off x="7307280" y="-324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1476360" y="123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Classification of Fung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539640" y="134136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. Gymnomycota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naked (No cell wall), phagotroph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1332000" y="17733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xamoeba, slime mo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1332000" y="213372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Acrasiomycetes, Cl. Protosteliomyc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2268360" y="6922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Kingdom Mycetea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Freeform 8"/>
          <p:cNvSpPr/>
          <p:nvPr/>
        </p:nvSpPr>
        <p:spPr>
          <a:xfrm>
            <a:off x="826920" y="1916280"/>
            <a:ext cx="432000" cy="144360"/>
          </a:xfrm>
          <a:custGeom>
            <a:avLst/>
            <a:gdLst>
              <a:gd name="textAreaLeft" fmla="*/ 0 w 432000"/>
              <a:gd name="textAreaRight" fmla="*/ 432360 w 43200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69" h="246">
                <a:moveTo>
                  <a:pt x="0" y="216"/>
                </a:moveTo>
                <a:cubicBezTo>
                  <a:pt x="89" y="238"/>
                  <a:pt x="192" y="246"/>
                  <a:pt x="276" y="204"/>
                </a:cubicBezTo>
                <a:cubicBezTo>
                  <a:pt x="369" y="157"/>
                  <a:pt x="258" y="198"/>
                  <a:pt x="348" y="168"/>
                </a:cubicBezTo>
                <a:cubicBezTo>
                  <a:pt x="373" y="68"/>
                  <a:pt x="337" y="155"/>
                  <a:pt x="396" y="108"/>
                </a:cubicBezTo>
                <a:cubicBezTo>
                  <a:pt x="407" y="99"/>
                  <a:pt x="410" y="82"/>
                  <a:pt x="420" y="72"/>
                </a:cubicBezTo>
                <a:cubicBezTo>
                  <a:pt x="430" y="62"/>
                  <a:pt x="444" y="56"/>
                  <a:pt x="456" y="48"/>
                </a:cubicBezTo>
                <a:cubicBezTo>
                  <a:pt x="469" y="8"/>
                  <a:pt x="468" y="25"/>
                  <a:pt x="468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Freeform 9"/>
          <p:cNvSpPr/>
          <p:nvPr/>
        </p:nvSpPr>
        <p:spPr>
          <a:xfrm>
            <a:off x="826920" y="1916280"/>
            <a:ext cx="414360" cy="14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468" h="195">
                <a:moveTo>
                  <a:pt x="0" y="195"/>
                </a:moveTo>
                <a:cubicBezTo>
                  <a:pt x="12" y="187"/>
                  <a:pt x="23" y="177"/>
                  <a:pt x="36" y="171"/>
                </a:cubicBezTo>
                <a:cubicBezTo>
                  <a:pt x="59" y="161"/>
                  <a:pt x="108" y="147"/>
                  <a:pt x="108" y="147"/>
                </a:cubicBezTo>
                <a:cubicBezTo>
                  <a:pt x="188" y="67"/>
                  <a:pt x="102" y="142"/>
                  <a:pt x="180" y="99"/>
                </a:cubicBezTo>
                <a:cubicBezTo>
                  <a:pt x="238" y="67"/>
                  <a:pt x="302" y="9"/>
                  <a:pt x="372" y="3"/>
                </a:cubicBezTo>
                <a:cubicBezTo>
                  <a:pt x="404" y="0"/>
                  <a:pt x="436" y="3"/>
                  <a:pt x="468" y="3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Freeform 10"/>
          <p:cNvSpPr/>
          <p:nvPr/>
        </p:nvSpPr>
        <p:spPr>
          <a:xfrm>
            <a:off x="1042920" y="1989000"/>
            <a:ext cx="57240" cy="19080"/>
          </a:xfrm>
          <a:custGeom>
            <a:avLst/>
            <a:gdLst>
              <a:gd name="textAreaLeft" fmla="*/ 0 w 57240"/>
              <a:gd name="textAreaRight" fmla="*/ 57600 w 572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6" h="12">
                <a:moveTo>
                  <a:pt x="0" y="0"/>
                </a:moveTo>
                <a:cubicBezTo>
                  <a:pt x="12" y="4"/>
                  <a:pt x="36" y="12"/>
                  <a:pt x="36" y="12"/>
                </a:cubicBezTo>
                <a:cubicBezTo>
                  <a:pt x="36" y="12"/>
                  <a:pt x="12" y="4"/>
                  <a:pt x="0" y="0"/>
                </a:cubicBezTo>
                <a:close/>
              </a:path>
            </a:pathLst>
          </a:custGeom>
          <a:solidFill>
            <a:srgbClr val="009999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1332000" y="249228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. Myxomycetes –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Dictyostel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539640" y="2924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  Div. Mastigomycota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lagillated, mot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1187280" y="335772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ll wall, absorptive nutrition, if mold nonseptate hyph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1187280" y="371628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ytridiomycetes, Hyphochytridiomycet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1189080" y="404028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odiophoromycetes, Oomycetes –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ythium, Phytophth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611280" y="450864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   Div. Amastigomycota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n flagellated, Non-mot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17"/>
          <p:cNvSpPr/>
          <p:nvPr/>
        </p:nvSpPr>
        <p:spPr>
          <a:xfrm>
            <a:off x="1332000" y="494172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asts &amp; molds:  Septate hyphae &amp; non-sept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1332000" y="522936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. Zygomycetes, Trichomycetes, Ascomycetes, Basidiomyce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9"/>
          <p:cNvSpPr/>
          <p:nvPr/>
        </p:nvSpPr>
        <p:spPr>
          <a:xfrm>
            <a:off x="1332000" y="5589720"/>
            <a:ext cx="71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uteromycetes (Fungi  Imperfecti = Imperfect fung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1620720" y="587700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.g.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spergillus, Penicillium, Fusarium, Candida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1258920" y="6416640"/>
            <a:ext cx="80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d terms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hycomycetes, Aquatic, Lower fungi, Higher fung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22"/>
          <p:cNvSpPr/>
          <p:nvPr/>
        </p:nvSpPr>
        <p:spPr>
          <a:xfrm>
            <a:off x="395280" y="6308640"/>
            <a:ext cx="874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8317080" y="6308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24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Text Box 2"/>
          <p:cNvSpPr/>
          <p:nvPr/>
        </p:nvSpPr>
        <p:spPr>
          <a:xfrm>
            <a:off x="97164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Fungal Eye Infections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Text Box 3"/>
          <p:cNvSpPr/>
          <p:nvPr/>
        </p:nvSpPr>
        <p:spPr>
          <a:xfrm>
            <a:off x="611280" y="1341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I- 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ndogenous Oculomycosi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Endophthalmiti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Text Box 4"/>
          <p:cNvSpPr/>
          <p:nvPr/>
        </p:nvSpPr>
        <p:spPr>
          <a:xfrm>
            <a:off x="611280" y="2060640"/>
            <a:ext cx="7921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cular infection by dissemination of systemic disease.  Dissemination usually hematogenous Affect any eye tissue; eye orbit, conjunctiva, Sclera, Iris,Lenz,retina, optic nerve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phthalmitis infection.  May occur with no systemic diseas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etiology;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ut also disseminated Histoplasmosis, Blastomycosis, Cryptococcosis &amp; others.  Fusariosis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ytalidiu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as caused endophthalmi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men for Lab.:  Aquous &amp; vitreous fluids Biopsy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Text Box 2"/>
          <p:cNvSpPr/>
          <p:nvPr/>
        </p:nvSpPr>
        <p:spPr>
          <a:xfrm>
            <a:off x="97164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Fungal Eye Infections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Text Box 3"/>
          <p:cNvSpPr/>
          <p:nvPr/>
        </p:nvSpPr>
        <p:spPr>
          <a:xfrm>
            <a:off x="611280" y="1341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II-  </a:t>
            </a: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Extension Oculomycosis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Text Box 4"/>
          <p:cNvSpPr/>
          <p:nvPr/>
        </p:nvSpPr>
        <p:spPr>
          <a:xfrm>
            <a:off x="611280" y="2060640"/>
            <a:ext cx="8281800" cy="47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of a fungal infecion in tissue adjacent to eye.  It extends to involve eye orb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mon type is rhinocerebral zygomycosis (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hinocerebral mucoromycos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caused by Zygomycete fungi very serious.  Have broad nonseptate hyphae in tiss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zop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utaneous zygomycosis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diobolus, Conidiobol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sal-orbital aspergillosis, Sinusitis           Brain involvement serio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 promptly – aggressive measu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AutoShape 5"/>
          <p:cNvSpPr/>
          <p:nvPr/>
        </p:nvSpPr>
        <p:spPr>
          <a:xfrm>
            <a:off x="5210280" y="5229360"/>
            <a:ext cx="647640" cy="217440"/>
          </a:xfrm>
          <a:prstGeom prst="rightArrow">
            <a:avLst>
              <a:gd name="adj1" fmla="val 50000"/>
              <a:gd name="adj2" fmla="val 7446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1" name="Picture 6" descr="Image-8"/>
          <p:cNvPicPr/>
          <p:nvPr/>
        </p:nvPicPr>
        <p:blipFill>
          <a:blip r:embed="rId1"/>
          <a:stretch/>
        </p:blipFill>
        <p:spPr>
          <a:xfrm>
            <a:off x="5075280" y="3786120"/>
            <a:ext cx="865080" cy="463680"/>
          </a:xfrm>
          <a:prstGeom prst="rect">
            <a:avLst/>
          </a:prstGeom>
          <a:ln w="0">
            <a:noFill/>
          </a:ln>
        </p:spPr>
      </p:pic>
      <p:sp>
        <p:nvSpPr>
          <p:cNvPr id="1392" name="Text Box 10"/>
          <p:cNvSpPr/>
          <p:nvPr/>
        </p:nvSpPr>
        <p:spPr>
          <a:xfrm>
            <a:off x="684360" y="4797360"/>
            <a:ext cx="143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Text Box 11"/>
          <p:cNvSpPr/>
          <p:nvPr/>
        </p:nvSpPr>
        <p:spPr>
          <a:xfrm>
            <a:off x="611280" y="4653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Text Box 12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 Box 13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Text Box 2"/>
          <p:cNvSpPr/>
          <p:nvPr/>
        </p:nvSpPr>
        <p:spPr>
          <a:xfrm>
            <a:off x="971640" y="260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Fungal Eye Infections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Continu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Text Box 3"/>
          <p:cNvSpPr/>
          <p:nvPr/>
        </p:nvSpPr>
        <p:spPr>
          <a:xfrm>
            <a:off x="611280" y="1341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Times New Roman"/>
                <a:ea typeface="Times New Roman"/>
              </a:rPr>
              <a:t>Treat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Text Box 4"/>
          <p:cNvSpPr/>
          <p:nvPr/>
        </p:nvSpPr>
        <p:spPr>
          <a:xfrm>
            <a:off x="611280" y="2060640"/>
            <a:ext cx="7921440" cy="41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maricin (natamycin) (5% solu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   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 baseline="30000">
                <a:solidFill>
                  <a:srgbClr val="99ff99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– 3</a:t>
            </a:r>
            <a:r>
              <a:rPr b="0" lang="en-US" sz="2400" spc="-1" strike="noStrike" baseline="30000">
                <a:solidFill>
                  <a:srgbClr val="99ff99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ystat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onazole (subconjunctival injects &amp; dro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photericin B (fungizone), Flucytosine or Ambis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Medical + surg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systemic antifungals: Itraconazole, Fluconaz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riconaz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spofun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Text Box 6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Text Box 7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Rectangle 4"/>
          <p:cNvSpPr/>
          <p:nvPr/>
        </p:nvSpPr>
        <p:spPr>
          <a:xfrm>
            <a:off x="611280" y="621720"/>
            <a:ext cx="828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won Chung, J.J. and Bennett, J.E. 1992.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Lea &amp; Febiger, Philadelph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ppon, J.W. 1988.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he pathogenic fungi and the pathogenic actinomycetes. 3rd ed. W.B. Saunders Co., Philadelph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issie, E., McGinnis, M., Pfaller, M.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3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Churchill Livingstone. Philadelphia, U.S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ns and Richardson. 1989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 practical approach. IRL Press, Oxfor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one, D. 2002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ly Important fung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 guide to identification.  American Society for Microbiology. Washington D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mpbell MC, Stewart JL. 1980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edical Mycology Handboo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John Wiley and Sons. New York, U.S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Text Box 5"/>
          <p:cNvSpPr/>
          <p:nvPr/>
        </p:nvSpPr>
        <p:spPr>
          <a:xfrm>
            <a:off x="2124000" y="18900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ELECTED 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Rectangle 6"/>
          <p:cNvSpPr/>
          <p:nvPr/>
        </p:nvSpPr>
        <p:spPr>
          <a:xfrm>
            <a:off x="611280" y="422100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ema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3rd ed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cal Laboratory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Williams and Wilkins. Baltimore, Lond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nett, H.L. and Hunter, B.B. 1972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lustrated genera of imperfect fung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3rd ed. Burgess Publishing Comp., Minneapol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cGinnis, M.R. 1980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y Handbook of Med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Academic Press, London, N.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Text Box 7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Text Box 8"/>
          <p:cNvSpPr/>
          <p:nvPr/>
        </p:nvSpPr>
        <p:spPr>
          <a:xfrm>
            <a:off x="7236000" y="4428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Text Box 3"/>
          <p:cNvSpPr/>
          <p:nvPr/>
        </p:nvSpPr>
        <p:spPr>
          <a:xfrm>
            <a:off x="826920" y="457200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Rectangle 4"/>
          <p:cNvSpPr/>
          <p:nvPr/>
        </p:nvSpPr>
        <p:spPr>
          <a:xfrm>
            <a:off x="611280" y="1800"/>
            <a:ext cx="8137440" cy="68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0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ke, E.S. and Rogers, A.L. 1980.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Mycology Manual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th ed. Burgess Publishing Comp., Minneapoli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1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dler, F., Kaplan,W., Ajello, L. 1980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 Atlas and Text  of  the Histopathology of Mycotic Diseas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Year Book Medical Publishers, Inc. Chicago, U.S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ore, G.S. and Jaciow, D.M. 1979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logy for the Clinical Laborator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Reston Publishing Comp., Inc. Reston, Virginia, U.S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3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-doory, Y. 1980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y Med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Lea &amp; Febiger. Philadelphia, U.S.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rray, P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t 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2003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ual of Clinical Microbi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8th ed. American Society for Microbiology. Washington D.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5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enberg, H.D. 2004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 Microbiology Procedures Handbook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Vol. I and II. 2nd ed. American Society for Microbiology. Washington, D.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6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xopoulos, C.W. and Mims, C.W. 1979.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ory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3rd ed. John Wiley &amp; Sons, N.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17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nsworth, G.C. 1983.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nsworth &amp; Bisby’s Dictionary of the fungi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7th ed.  Commonwealth Mycological Institute, Kew, Surre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ome Periodicals In Medical Myc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l Mycolog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Taylor &amp; Francis, Abingdon, Oxon. 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se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Blackwell Verlag, Berlin. Vienn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urnal d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cologie Medica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Par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Text Box 5"/>
          <p:cNvSpPr/>
          <p:nvPr/>
        </p:nvSpPr>
        <p:spPr>
          <a:xfrm>
            <a:off x="8353440" y="652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Text Box 6"/>
          <p:cNvSpPr/>
          <p:nvPr/>
        </p:nvSpPr>
        <p:spPr>
          <a:xfrm>
            <a:off x="7307280" y="-2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L-HEDAITH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09:24:06Z</dcterms:created>
  <dc:creator>KKUH</dc:creator>
  <dc:description/>
  <dc:language>en-US</dc:language>
  <cp:lastModifiedBy>Fadwa tulip</cp:lastModifiedBy>
  <dcterms:modified xsi:type="dcterms:W3CDTF">2013-12-26T11:18:55Z</dcterms:modified>
  <cp:revision>141</cp:revision>
  <dc:subject/>
  <dc:title>Mycetoma (=Madura Foot)</dc:title>
</cp:coreProperties>
</file>