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1AA7-E8B3-4E34-9F06-49ED340900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7B5E-7003-4FD5-9990-A96E73B1D17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414-38B6-4880-BBB6-733A7AB8DD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8452-449F-4033-BB05-6EC343E2FAE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7BB-3B04-4B10-AB98-126B8045103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EAC-6FD1-4AD8-84BA-57B38BEE0F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E460-F233-47A8-B98A-29179F1EB9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6F13-3DAE-4414-90D2-8BF17D186A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652-8E97-4DDF-BD7C-F9B5227E87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B3A-C8B7-4C8F-996E-24DD74487D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F09-4237-4D68-A5D9-3B56218E719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BDB-0C1F-4D44-BE69-4A3A973B0D0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2C9-9C9C-429E-AF5B-82DBED6DE87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B01D-C8E3-445D-B6DB-9F9D923D71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EDA-6EBC-44D4-80D8-4250DF9071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6A7-764F-4719-A089-3101770AD0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2E3-A60E-4613-B55C-63783337CF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BB0-F61B-40CF-9824-DBADBF49B2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D77E-1F18-4714-9BC2-194EF87E37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20D-21A0-4B4B-A8F8-2F0D6713A69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0439-B68F-470A-801B-F8AA3479D60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980C-545E-4EA5-AF74-E92EFABFC37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436-AF64-4584-AC73-E0259C33001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19C0-7927-450E-95BF-4F01CE8EF6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7023-C05C-4891-B8C7-8842BB1D71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284-C725-4382-AA24-A8513E20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9AA-7F50-4E17-B473-364D4992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0B7-06E4-40EC-8AA1-07F8B2C0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D17-4896-4032-B6A3-A5559C60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2D0-6FB9-4500-9EB1-D43ED140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606E-70E8-4981-A71C-782D51E7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573F-6511-480C-9ED2-FE56118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746-0861-4812-8487-5CA3867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EB8-78DA-4D6A-A91F-118F81BA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018A-2C9C-4466-AD77-D4BEF9DA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563-591C-4236-AE8A-89E05C0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1B3-77DA-4A51-88B4-7FA9815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5D56-521B-4598-B294-CDE79B1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CFD4-7BB2-4667-A3C8-6866A6E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7B36-3595-493A-A85B-6DCF9D55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9FF-4CD6-4E67-8F92-97CEA58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D46-AB17-42A2-9CB3-6AC9C588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94C-F95A-4AFD-8A90-C4A3F39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0C8-546A-4F86-950D-90C2C17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895-5C13-4AF1-B3CA-7A56016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E1B-9CE7-4382-9585-601B7289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3C6-4E2E-486E-A9E0-C192C0B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4BF-AE93-4557-9B0C-785934F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009-BEE5-4200-BB33-461FDD4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43A8-59D2-48CC-BE78-D5B6E4BFED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E44F-29E7-443C-9244-A09A7316DA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rovlab.ab.ca/mycol/image/derm/tcapitis9.jpg&amp;imgrefurl=http://www.provlab.ab.ca/mycol/tutorials/derm/3case.htm&amp;usg=__P6eKddgAyZj4ijUwi5inh-HDNes=&amp;h=256&amp;w=256&amp;sz=8&amp;hl=en&amp;start=3&amp;itbs=1&amp;tbnid=7dKxte4QlGcnEM:&amp;tbnh=111&amp;tbnw=111&amp;prev=/images%3Fq%3Dtinea%2Bcapitis%26hl%3Den%26safe%3Dactive%26sa%3DX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.uk/imgres?imgurl=http://www.doctorfungus.org/mycoses/images/197MIKE.JPG&amp;imgrefurl=http://www.doctorfungus.org/mycoses/human/other/Tinea_capitis_favosa.htm&amp;usg=__KyIY2zpP6vd0lJ67mfp4eKcnK4s=&amp;h=410&amp;w=617&amp;sz=206&amp;hl=en&amp;start=4&amp;itbs=1&amp;tbnid=cW9VuIu_DVqjMM:&amp;tbnh=90&amp;tbnw=136&amp;prev=/images%3Fq%3Dtinea%2Bcapitis%26hl%3Den%26safe%3Dactive%26sa%3DX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.uk/imgres?imgurl=http://www.doctorfungus.org/Mycoses/images/273MIKE.JPG&amp;imgrefurl=http://www.doctorfungus.org/Mycoses/human/other/TineaCorporis_Cruris_Pedis.htm&amp;usg=__tsFLHndTnJt38YSnyRfowevlMpU=&amp;h=410&amp;w=617&amp;sz=228&amp;hl=en&amp;start=8&amp;itbs=1&amp;tbnid=mm7urbVMEwDTjM:&amp;tbnh=90&amp;tbnw=136&amp;prev=/images%3Fq%3Dtinea%2Bcapitis%26hl%3Den%26safe%3Dactive%26sa%3DX%26gbv%3D2%26tbs%3Disch: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.uk/imgres?imgurl=http://www.ourhealthnetwork.com/UserFiles/Image/Athletes_foot_Pict_Plantar_2(1).jpg&amp;imgrefurl=http://www.ourhealthnetwork.com/conditions/FootandAnkle/AthletesFoot.asp&amp;usg=__jXJKTqwsRGmdoPCB9YoR0cgpmH4=&amp;h=300&amp;w=328&amp;sz=77&amp;hl=en&amp;start=9&amp;itbs=1&amp;tbnid=x52elEBSFmEOOM:&amp;tbnh=108&amp;tbnw=118&amp;prev=/images%3Fq%3Dtinea%2Bpedis%26hl%3Den%26safe%3Dactive%26gbv%3D2%26tbs%3Disch:1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.uk/imgres?imgurl=http://www.lib.uiowa.edu/Hardin/MD/pictures22/cdc/PHIL_579_lores.jpg&amp;imgrefurl=http://www.lib.uiowa.edu/Hardin/MD/cdc/579.html&amp;usg=__TGpXxLXdeWJxim9HCBxiP4a26tM=&amp;h=452&amp;w=700&amp;sz=85&amp;hl=en&amp;start=1&amp;itbs=1&amp;tbnid=V7RefkhNqwLrhM:&amp;tbnh=90&amp;tbnw=140&amp;prev=/images%3Fq%3Dtinea%2Bunguium%26hl%3Den%26safe%3Dactive%26gbv%3D2%26tbs%3Disch:1" TargetMode="External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1892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cal Mycology Lecture Slid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340000" y="508464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547640" y="350028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050920" y="18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66560" y="1557360"/>
            <a:ext cx="828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ffect the uppermost dead layers of skin or hair shaf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painless and usually do not provoke the immune system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primarily includ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inea versicolor (= Pityriasis versicolo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rown or discolored or white patches on the sk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inea nigra (T.n. palma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rk brown or grey macular lesions – usually on palm of hand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ut can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e on sole of foot or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ie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odules of the etiologic fungus on hair sha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.  Black pie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.  White pied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403280" y="-100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6560" y="549360"/>
            <a:ext cx="842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 (= Tinea versicolo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or discolored, or white patches on sk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 the stratum corne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hite lesions do not tan in the s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genous source of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ssezia furfu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Yeast (= Pityrosporum orbicula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etidae, bipolar budding, Skin fl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ophilic: oleic acid  Or Mineral o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 is skin scraping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Or 20% KOH  will show short hyphal segment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yeast cells (spaghetti &amp; meat ball appearance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and Mycobiotic medium (=SDA+ Chloramphenicol+ Cycloheximide = Actidione) with oily substa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419640" y="90792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Figure-11"/>
          <p:cNvPicPr/>
          <p:nvPr/>
        </p:nvPicPr>
        <p:blipFill>
          <a:blip r:embed="rId1"/>
          <a:stretch/>
        </p:blipFill>
        <p:spPr>
          <a:xfrm>
            <a:off x="1692360" y="1400040"/>
            <a:ext cx="6335640" cy="47656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6"/>
          <p:cNvSpPr/>
          <p:nvPr/>
        </p:nvSpPr>
        <p:spPr>
          <a:xfrm>
            <a:off x="4284720" y="5684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ul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4500720" y="489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rf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213080" y="1413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229440" y="141300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hal seg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0" descr="Figure-19"/>
          <p:cNvPicPr/>
          <p:nvPr/>
        </p:nvPicPr>
        <p:blipFill>
          <a:blip r:embed="rId2"/>
          <a:stretch/>
        </p:blipFill>
        <p:spPr>
          <a:xfrm>
            <a:off x="2050920" y="4218120"/>
            <a:ext cx="397080" cy="14364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1"/>
          <p:cNvSpPr/>
          <p:nvPr/>
        </p:nvSpPr>
        <p:spPr>
          <a:xfrm>
            <a:off x="4789440" y="3573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ping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332000" y="1951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79280" y="1197000"/>
            <a:ext cx="885672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 nigra (= T.n. palmar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ular brown lesions or black stripes on palm of hand or sole of fo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by Piercing of skin with plant material in Agricultural so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atiaceous imperfect mold fungus; </a:t>
            </a: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eoannellomyces werneck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=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phiala wernecki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egetation debr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ulture it produces annellospores from annellids, unicellular or two cell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scraping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In 10% or 20% KOH will show brown septate hypha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&amp; Mycobiotic.  Will grow the dematiaceous fung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Lactophenol teased mount (LTM) &amp; LPCB (Lactophenol cotton blue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dentific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332000" y="1951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291636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inea ni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3419640" y="5510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ophia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rneck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3059280" y="51498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eoannellomy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rneck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7" descr="Figure-12"/>
          <p:cNvPicPr/>
          <p:nvPr/>
        </p:nvPicPr>
        <p:blipFill>
          <a:blip r:embed="rId1"/>
          <a:stretch/>
        </p:blipFill>
        <p:spPr>
          <a:xfrm>
            <a:off x="1692360" y="1557360"/>
            <a:ext cx="56880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4" name="Text Box 8"/>
          <p:cNvSpPr/>
          <p:nvPr/>
        </p:nvSpPr>
        <p:spPr>
          <a:xfrm>
            <a:off x="3348000" y="4581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132000" y="458136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14036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2362320" y="2757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2"/>
          <p:cNvSpPr/>
          <p:nvPr/>
        </p:nvSpPr>
        <p:spPr>
          <a:xfrm>
            <a:off x="3995640" y="2133720"/>
            <a:ext cx="201636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4140360" y="31417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wk old colo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 flipH="1">
            <a:off x="5148000" y="2925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940360" y="155736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i p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6"/>
          <p:cNvSpPr/>
          <p:nvPr/>
        </p:nvSpPr>
        <p:spPr>
          <a:xfrm flipH="1">
            <a:off x="5219640" y="1773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7"/>
          <p:cNvSpPr/>
          <p:nvPr/>
        </p:nvSpPr>
        <p:spPr>
          <a:xfrm>
            <a:off x="4641840" y="2637000"/>
            <a:ext cx="506520" cy="401400"/>
          </a:xfrm>
          <a:custGeom>
            <a:avLst/>
            <a:gdLst>
              <a:gd name="textAreaLeft" fmla="*/ 0 w 506520"/>
              <a:gd name="textAreaRight" fmla="*/ 506880 w 5065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319" h="253">
                <a:moveTo>
                  <a:pt x="145" y="60"/>
                </a:moveTo>
                <a:cubicBezTo>
                  <a:pt x="167" y="126"/>
                  <a:pt x="163" y="74"/>
                  <a:pt x="121" y="108"/>
                </a:cubicBezTo>
                <a:cubicBezTo>
                  <a:pt x="110" y="117"/>
                  <a:pt x="105" y="132"/>
                  <a:pt x="97" y="144"/>
                </a:cubicBezTo>
                <a:cubicBezTo>
                  <a:pt x="125" y="152"/>
                  <a:pt x="157" y="152"/>
                  <a:pt x="181" y="168"/>
                </a:cubicBezTo>
                <a:cubicBezTo>
                  <a:pt x="238" y="206"/>
                  <a:pt x="168" y="253"/>
                  <a:pt x="241" y="180"/>
                </a:cubicBezTo>
                <a:cubicBezTo>
                  <a:pt x="237" y="168"/>
                  <a:pt x="240" y="150"/>
                  <a:pt x="229" y="144"/>
                </a:cubicBezTo>
                <a:cubicBezTo>
                  <a:pt x="218" y="138"/>
                  <a:pt x="200" y="167"/>
                  <a:pt x="193" y="156"/>
                </a:cubicBezTo>
                <a:cubicBezTo>
                  <a:pt x="184" y="142"/>
                  <a:pt x="217" y="120"/>
                  <a:pt x="205" y="108"/>
                </a:cubicBezTo>
                <a:cubicBezTo>
                  <a:pt x="195" y="98"/>
                  <a:pt x="182" y="126"/>
                  <a:pt x="169" y="132"/>
                </a:cubicBezTo>
                <a:cubicBezTo>
                  <a:pt x="158" y="138"/>
                  <a:pt x="145" y="140"/>
                  <a:pt x="133" y="144"/>
                </a:cubicBezTo>
                <a:cubicBezTo>
                  <a:pt x="76" y="59"/>
                  <a:pt x="140" y="135"/>
                  <a:pt x="97" y="156"/>
                </a:cubicBezTo>
                <a:cubicBezTo>
                  <a:pt x="84" y="162"/>
                  <a:pt x="73" y="140"/>
                  <a:pt x="61" y="132"/>
                </a:cubicBezTo>
                <a:cubicBezTo>
                  <a:pt x="44" y="149"/>
                  <a:pt x="0" y="214"/>
                  <a:pt x="13" y="120"/>
                </a:cubicBezTo>
                <a:cubicBezTo>
                  <a:pt x="16" y="101"/>
                  <a:pt x="63" y="58"/>
                  <a:pt x="73" y="48"/>
                </a:cubicBezTo>
                <a:cubicBezTo>
                  <a:pt x="159" y="77"/>
                  <a:pt x="131" y="93"/>
                  <a:pt x="169" y="36"/>
                </a:cubicBezTo>
                <a:cubicBezTo>
                  <a:pt x="172" y="45"/>
                  <a:pt x="189" y="108"/>
                  <a:pt x="205" y="108"/>
                </a:cubicBezTo>
                <a:cubicBezTo>
                  <a:pt x="219" y="108"/>
                  <a:pt x="221" y="84"/>
                  <a:pt x="229" y="72"/>
                </a:cubicBezTo>
                <a:cubicBezTo>
                  <a:pt x="233" y="88"/>
                  <a:pt x="226" y="113"/>
                  <a:pt x="241" y="120"/>
                </a:cubicBezTo>
                <a:cubicBezTo>
                  <a:pt x="252" y="126"/>
                  <a:pt x="240" y="84"/>
                  <a:pt x="253" y="84"/>
                </a:cubicBezTo>
                <a:cubicBezTo>
                  <a:pt x="266" y="84"/>
                  <a:pt x="260" y="108"/>
                  <a:pt x="265" y="120"/>
                </a:cubicBezTo>
                <a:cubicBezTo>
                  <a:pt x="272" y="136"/>
                  <a:pt x="302" y="181"/>
                  <a:pt x="289" y="168"/>
                </a:cubicBezTo>
                <a:cubicBezTo>
                  <a:pt x="173" y="52"/>
                  <a:pt x="303" y="127"/>
                  <a:pt x="193" y="72"/>
                </a:cubicBezTo>
                <a:cubicBezTo>
                  <a:pt x="173" y="84"/>
                  <a:pt x="156" y="108"/>
                  <a:pt x="133" y="108"/>
                </a:cubicBezTo>
                <a:cubicBezTo>
                  <a:pt x="119" y="108"/>
                  <a:pt x="106" y="86"/>
                  <a:pt x="109" y="72"/>
                </a:cubicBezTo>
                <a:cubicBezTo>
                  <a:pt x="112" y="58"/>
                  <a:pt x="135" y="58"/>
                  <a:pt x="145" y="48"/>
                </a:cubicBezTo>
                <a:cubicBezTo>
                  <a:pt x="159" y="34"/>
                  <a:pt x="169" y="16"/>
                  <a:pt x="181" y="0"/>
                </a:cubicBezTo>
                <a:cubicBezTo>
                  <a:pt x="189" y="12"/>
                  <a:pt x="194" y="27"/>
                  <a:pt x="205" y="36"/>
                </a:cubicBezTo>
                <a:cubicBezTo>
                  <a:pt x="215" y="44"/>
                  <a:pt x="232" y="39"/>
                  <a:pt x="241" y="48"/>
                </a:cubicBezTo>
                <a:cubicBezTo>
                  <a:pt x="247" y="54"/>
                  <a:pt x="265" y="132"/>
                  <a:pt x="265" y="132"/>
                </a:cubicBezTo>
                <a:cubicBezTo>
                  <a:pt x="269" y="112"/>
                  <a:pt x="263" y="86"/>
                  <a:pt x="277" y="72"/>
                </a:cubicBezTo>
                <a:cubicBezTo>
                  <a:pt x="286" y="63"/>
                  <a:pt x="309" y="72"/>
                  <a:pt x="313" y="84"/>
                </a:cubicBezTo>
                <a:cubicBezTo>
                  <a:pt x="319" y="103"/>
                  <a:pt x="310" y="126"/>
                  <a:pt x="301" y="144"/>
                </a:cubicBezTo>
                <a:cubicBezTo>
                  <a:pt x="278" y="190"/>
                  <a:pt x="223" y="190"/>
                  <a:pt x="181" y="204"/>
                </a:cubicBezTo>
                <a:cubicBezTo>
                  <a:pt x="177" y="192"/>
                  <a:pt x="182" y="166"/>
                  <a:pt x="169" y="168"/>
                </a:cubicBezTo>
                <a:cubicBezTo>
                  <a:pt x="140" y="172"/>
                  <a:pt x="97" y="216"/>
                  <a:pt x="97" y="216"/>
                </a:cubicBezTo>
                <a:cubicBezTo>
                  <a:pt x="43" y="180"/>
                  <a:pt x="38" y="160"/>
                  <a:pt x="25" y="96"/>
                </a:cubicBezTo>
                <a:cubicBezTo>
                  <a:pt x="64" y="57"/>
                  <a:pt x="70" y="29"/>
                  <a:pt x="121" y="12"/>
                </a:cubicBezTo>
                <a:cubicBezTo>
                  <a:pt x="109" y="28"/>
                  <a:pt x="104" y="55"/>
                  <a:pt x="85" y="60"/>
                </a:cubicBezTo>
                <a:cubicBezTo>
                  <a:pt x="73" y="63"/>
                  <a:pt x="84" y="18"/>
                  <a:pt x="73" y="24"/>
                </a:cubicBezTo>
                <a:cubicBezTo>
                  <a:pt x="58" y="31"/>
                  <a:pt x="68" y="57"/>
                  <a:pt x="61" y="72"/>
                </a:cubicBezTo>
                <a:cubicBezTo>
                  <a:pt x="52" y="90"/>
                  <a:pt x="37" y="104"/>
                  <a:pt x="25" y="120"/>
                </a:cubicBezTo>
                <a:cubicBezTo>
                  <a:pt x="29" y="104"/>
                  <a:pt x="33" y="88"/>
                  <a:pt x="37" y="72"/>
                </a:cubicBezTo>
                <a:cubicBezTo>
                  <a:pt x="40" y="60"/>
                  <a:pt x="37" y="40"/>
                  <a:pt x="49" y="36"/>
                </a:cubicBezTo>
                <a:cubicBezTo>
                  <a:pt x="99" y="19"/>
                  <a:pt x="74" y="31"/>
                  <a:pt x="121" y="0"/>
                </a:cubicBezTo>
                <a:cubicBezTo>
                  <a:pt x="141" y="4"/>
                  <a:pt x="163" y="2"/>
                  <a:pt x="181" y="12"/>
                </a:cubicBezTo>
                <a:cubicBezTo>
                  <a:pt x="221" y="35"/>
                  <a:pt x="194" y="93"/>
                  <a:pt x="217" y="0"/>
                </a:cubicBezTo>
                <a:cubicBezTo>
                  <a:pt x="238" y="62"/>
                  <a:pt x="289" y="123"/>
                  <a:pt x="289" y="192"/>
                </a:cubicBezTo>
                <a:cubicBezTo>
                  <a:pt x="289" y="205"/>
                  <a:pt x="286" y="165"/>
                  <a:pt x="277" y="156"/>
                </a:cubicBezTo>
                <a:cubicBezTo>
                  <a:pt x="268" y="147"/>
                  <a:pt x="253" y="148"/>
                  <a:pt x="241" y="144"/>
                </a:cubicBezTo>
                <a:cubicBezTo>
                  <a:pt x="229" y="156"/>
                  <a:pt x="216" y="167"/>
                  <a:pt x="205" y="180"/>
                </a:cubicBezTo>
                <a:cubicBezTo>
                  <a:pt x="192" y="195"/>
                  <a:pt x="189" y="224"/>
                  <a:pt x="169" y="228"/>
                </a:cubicBezTo>
                <a:cubicBezTo>
                  <a:pt x="155" y="231"/>
                  <a:pt x="151" y="205"/>
                  <a:pt x="145" y="192"/>
                </a:cubicBezTo>
                <a:cubicBezTo>
                  <a:pt x="99" y="100"/>
                  <a:pt x="184" y="224"/>
                  <a:pt x="97" y="108"/>
                </a:cubicBezTo>
                <a:cubicBezTo>
                  <a:pt x="67" y="226"/>
                  <a:pt x="103" y="118"/>
                  <a:pt x="73" y="108"/>
                </a:cubicBezTo>
                <a:cubicBezTo>
                  <a:pt x="59" y="103"/>
                  <a:pt x="57" y="132"/>
                  <a:pt x="49" y="144"/>
                </a:cubicBezTo>
                <a:cubicBezTo>
                  <a:pt x="41" y="132"/>
                  <a:pt x="25" y="108"/>
                  <a:pt x="25" y="108"/>
                </a:cubicBezTo>
                <a:cubicBezTo>
                  <a:pt x="97" y="132"/>
                  <a:pt x="32" y="124"/>
                  <a:pt x="73" y="72"/>
                </a:cubicBezTo>
                <a:cubicBezTo>
                  <a:pt x="81" y="62"/>
                  <a:pt x="97" y="65"/>
                  <a:pt x="109" y="60"/>
                </a:cubicBezTo>
                <a:cubicBezTo>
                  <a:pt x="125" y="53"/>
                  <a:pt x="141" y="44"/>
                  <a:pt x="157" y="36"/>
                </a:cubicBezTo>
                <a:cubicBezTo>
                  <a:pt x="169" y="52"/>
                  <a:pt x="178" y="71"/>
                  <a:pt x="193" y="84"/>
                </a:cubicBezTo>
                <a:cubicBezTo>
                  <a:pt x="203" y="92"/>
                  <a:pt x="220" y="105"/>
                  <a:pt x="229" y="96"/>
                </a:cubicBezTo>
                <a:cubicBezTo>
                  <a:pt x="247" y="78"/>
                  <a:pt x="253" y="24"/>
                  <a:pt x="253" y="24"/>
                </a:cubicBezTo>
                <a:cubicBezTo>
                  <a:pt x="269" y="88"/>
                  <a:pt x="265" y="56"/>
                  <a:pt x="265" y="12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18"/>
          <p:cNvSpPr/>
          <p:nvPr/>
        </p:nvSpPr>
        <p:spPr>
          <a:xfrm>
            <a:off x="2771640" y="4516560"/>
            <a:ext cx="319320" cy="136440"/>
          </a:xfrm>
          <a:custGeom>
            <a:avLst/>
            <a:gdLst>
              <a:gd name="textAreaLeft" fmla="*/ 0 w 319320"/>
              <a:gd name="textAreaRight" fmla="*/ 319680 w 319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56" h="131">
                <a:moveTo>
                  <a:pt x="36" y="3"/>
                </a:moveTo>
                <a:cubicBezTo>
                  <a:pt x="102" y="14"/>
                  <a:pt x="135" y="0"/>
                  <a:pt x="156" y="63"/>
                </a:cubicBezTo>
                <a:cubicBezTo>
                  <a:pt x="133" y="131"/>
                  <a:pt x="154" y="107"/>
                  <a:pt x="36" y="87"/>
                </a:cubicBezTo>
                <a:cubicBezTo>
                  <a:pt x="24" y="85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9" descr="Figure-20"/>
          <p:cNvPicPr/>
          <p:nvPr/>
        </p:nvPicPr>
        <p:blipFill>
          <a:blip r:embed="rId2"/>
          <a:stretch/>
        </p:blipFill>
        <p:spPr>
          <a:xfrm>
            <a:off x="3490920" y="3714840"/>
            <a:ext cx="576360" cy="4381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3274920" y="-2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ie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39640" y="692280"/>
            <a:ext cx="74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ules or Encrustations on hair sha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39640" y="1628640"/>
            <a:ext cx="4896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scalp hair / - 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ustache, bear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539640" y="2421000"/>
            <a:ext cx="20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lack pied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216000" y="2930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m, hard, dark brown nodule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39640" y="3429000"/>
            <a:ext cx="4319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edraia horta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etiolog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mycete – Loculoascomycetida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iform colo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179280" y="458136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stroma, Asci, asc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39640" y="5146560"/>
            <a:ext cx="58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with nod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-20% KOH – culture 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biotic &amp; S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5724360" y="2205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5867280" y="220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3" descr="Figure-13"/>
          <p:cNvPicPr/>
          <p:nvPr/>
        </p:nvPicPr>
        <p:blipFill>
          <a:blip r:embed="rId1"/>
          <a:stretch/>
        </p:blipFill>
        <p:spPr>
          <a:xfrm>
            <a:off x="4140360" y="457848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4"/>
          <p:cNvSpPr/>
          <p:nvPr/>
        </p:nvSpPr>
        <p:spPr>
          <a:xfrm>
            <a:off x="4211640" y="26956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stroma with asci &amp; asc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6661080" y="2781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hal strand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79280" y="2060640"/>
            <a:ext cx="5329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in Tropics &amp; subtrop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179280" y="1136520"/>
            <a:ext cx="6264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odules are composed of fungal elemen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18" descr="Figure-16"/>
          <p:cNvPicPr/>
          <p:nvPr/>
        </p:nvPicPr>
        <p:blipFill>
          <a:blip r:embed="rId2"/>
          <a:stretch/>
        </p:blipFill>
        <p:spPr>
          <a:xfrm>
            <a:off x="4932360" y="3284640"/>
            <a:ext cx="4211640" cy="2808360"/>
          </a:xfrm>
          <a:prstGeom prst="rect">
            <a:avLst/>
          </a:prstGeom>
          <a:ln w="0">
            <a:noFill/>
          </a:ln>
        </p:spPr>
      </p:pic>
      <p:sp>
        <p:nvSpPr>
          <p:cNvPr id="444" name="Line 19"/>
          <p:cNvSpPr/>
          <p:nvPr/>
        </p:nvSpPr>
        <p:spPr>
          <a:xfrm>
            <a:off x="5651640" y="299736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 flipH="1">
            <a:off x="6372000" y="3068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7524720" y="35002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22"/>
          <p:cNvSpPr/>
          <p:nvPr/>
        </p:nvSpPr>
        <p:spPr>
          <a:xfrm flipH="1" flipV="1">
            <a:off x="7235640" y="357300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23"/>
          <p:cNvSpPr/>
          <p:nvPr/>
        </p:nvSpPr>
        <p:spPr>
          <a:xfrm>
            <a:off x="7381800" y="4437000"/>
            <a:ext cx="1727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5076720" y="5224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draia horta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ultu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5"/>
          <p:cNvSpPr/>
          <p:nvPr/>
        </p:nvSpPr>
        <p:spPr>
          <a:xfrm flipV="1">
            <a:off x="6588000" y="5300280"/>
            <a:ext cx="144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5003640" y="4437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lack piedra nodule on hair shaf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5867280" y="4724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28"/>
          <p:cNvSpPr/>
          <p:nvPr/>
        </p:nvSpPr>
        <p:spPr>
          <a:xfrm>
            <a:off x="8028000" y="5013360"/>
            <a:ext cx="506520" cy="401760"/>
          </a:xfrm>
          <a:custGeom>
            <a:avLst/>
            <a:gdLst>
              <a:gd name="textAreaLeft" fmla="*/ 0 w 506520"/>
              <a:gd name="textAreaRight" fmla="*/ 506880 w 5065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319" h="253">
                <a:moveTo>
                  <a:pt x="145" y="60"/>
                </a:moveTo>
                <a:cubicBezTo>
                  <a:pt x="167" y="126"/>
                  <a:pt x="163" y="74"/>
                  <a:pt x="121" y="108"/>
                </a:cubicBezTo>
                <a:cubicBezTo>
                  <a:pt x="110" y="117"/>
                  <a:pt x="105" y="132"/>
                  <a:pt x="97" y="144"/>
                </a:cubicBezTo>
                <a:cubicBezTo>
                  <a:pt x="125" y="152"/>
                  <a:pt x="157" y="152"/>
                  <a:pt x="181" y="168"/>
                </a:cubicBezTo>
                <a:cubicBezTo>
                  <a:pt x="238" y="206"/>
                  <a:pt x="168" y="253"/>
                  <a:pt x="241" y="180"/>
                </a:cubicBezTo>
                <a:cubicBezTo>
                  <a:pt x="237" y="168"/>
                  <a:pt x="240" y="150"/>
                  <a:pt x="229" y="144"/>
                </a:cubicBezTo>
                <a:cubicBezTo>
                  <a:pt x="218" y="138"/>
                  <a:pt x="200" y="167"/>
                  <a:pt x="193" y="156"/>
                </a:cubicBezTo>
                <a:cubicBezTo>
                  <a:pt x="184" y="142"/>
                  <a:pt x="217" y="120"/>
                  <a:pt x="205" y="108"/>
                </a:cubicBezTo>
                <a:cubicBezTo>
                  <a:pt x="195" y="98"/>
                  <a:pt x="182" y="126"/>
                  <a:pt x="169" y="132"/>
                </a:cubicBezTo>
                <a:cubicBezTo>
                  <a:pt x="158" y="138"/>
                  <a:pt x="145" y="140"/>
                  <a:pt x="133" y="144"/>
                </a:cubicBezTo>
                <a:cubicBezTo>
                  <a:pt x="76" y="59"/>
                  <a:pt x="140" y="135"/>
                  <a:pt x="97" y="156"/>
                </a:cubicBezTo>
                <a:cubicBezTo>
                  <a:pt x="84" y="162"/>
                  <a:pt x="73" y="140"/>
                  <a:pt x="61" y="132"/>
                </a:cubicBezTo>
                <a:cubicBezTo>
                  <a:pt x="44" y="149"/>
                  <a:pt x="0" y="214"/>
                  <a:pt x="13" y="120"/>
                </a:cubicBezTo>
                <a:cubicBezTo>
                  <a:pt x="16" y="101"/>
                  <a:pt x="63" y="58"/>
                  <a:pt x="73" y="48"/>
                </a:cubicBezTo>
                <a:cubicBezTo>
                  <a:pt x="159" y="77"/>
                  <a:pt x="131" y="93"/>
                  <a:pt x="169" y="36"/>
                </a:cubicBezTo>
                <a:cubicBezTo>
                  <a:pt x="172" y="45"/>
                  <a:pt x="189" y="108"/>
                  <a:pt x="205" y="108"/>
                </a:cubicBezTo>
                <a:cubicBezTo>
                  <a:pt x="219" y="108"/>
                  <a:pt x="221" y="84"/>
                  <a:pt x="229" y="72"/>
                </a:cubicBezTo>
                <a:cubicBezTo>
                  <a:pt x="233" y="88"/>
                  <a:pt x="226" y="113"/>
                  <a:pt x="241" y="120"/>
                </a:cubicBezTo>
                <a:cubicBezTo>
                  <a:pt x="252" y="126"/>
                  <a:pt x="240" y="84"/>
                  <a:pt x="253" y="84"/>
                </a:cubicBezTo>
                <a:cubicBezTo>
                  <a:pt x="266" y="84"/>
                  <a:pt x="260" y="108"/>
                  <a:pt x="265" y="120"/>
                </a:cubicBezTo>
                <a:cubicBezTo>
                  <a:pt x="272" y="136"/>
                  <a:pt x="302" y="181"/>
                  <a:pt x="289" y="168"/>
                </a:cubicBezTo>
                <a:cubicBezTo>
                  <a:pt x="173" y="52"/>
                  <a:pt x="303" y="127"/>
                  <a:pt x="193" y="72"/>
                </a:cubicBezTo>
                <a:cubicBezTo>
                  <a:pt x="173" y="84"/>
                  <a:pt x="156" y="108"/>
                  <a:pt x="133" y="108"/>
                </a:cubicBezTo>
                <a:cubicBezTo>
                  <a:pt x="119" y="108"/>
                  <a:pt x="106" y="86"/>
                  <a:pt x="109" y="72"/>
                </a:cubicBezTo>
                <a:cubicBezTo>
                  <a:pt x="112" y="58"/>
                  <a:pt x="135" y="58"/>
                  <a:pt x="145" y="48"/>
                </a:cubicBezTo>
                <a:cubicBezTo>
                  <a:pt x="159" y="34"/>
                  <a:pt x="169" y="16"/>
                  <a:pt x="181" y="0"/>
                </a:cubicBezTo>
                <a:cubicBezTo>
                  <a:pt x="189" y="12"/>
                  <a:pt x="194" y="27"/>
                  <a:pt x="205" y="36"/>
                </a:cubicBezTo>
                <a:cubicBezTo>
                  <a:pt x="215" y="44"/>
                  <a:pt x="232" y="39"/>
                  <a:pt x="241" y="48"/>
                </a:cubicBezTo>
                <a:cubicBezTo>
                  <a:pt x="247" y="54"/>
                  <a:pt x="265" y="132"/>
                  <a:pt x="265" y="132"/>
                </a:cubicBezTo>
                <a:cubicBezTo>
                  <a:pt x="269" y="112"/>
                  <a:pt x="263" y="86"/>
                  <a:pt x="277" y="72"/>
                </a:cubicBezTo>
                <a:cubicBezTo>
                  <a:pt x="286" y="63"/>
                  <a:pt x="309" y="72"/>
                  <a:pt x="313" y="84"/>
                </a:cubicBezTo>
                <a:cubicBezTo>
                  <a:pt x="319" y="103"/>
                  <a:pt x="310" y="126"/>
                  <a:pt x="301" y="144"/>
                </a:cubicBezTo>
                <a:cubicBezTo>
                  <a:pt x="278" y="190"/>
                  <a:pt x="223" y="190"/>
                  <a:pt x="181" y="204"/>
                </a:cubicBezTo>
                <a:cubicBezTo>
                  <a:pt x="177" y="192"/>
                  <a:pt x="182" y="166"/>
                  <a:pt x="169" y="168"/>
                </a:cubicBezTo>
                <a:cubicBezTo>
                  <a:pt x="140" y="172"/>
                  <a:pt x="97" y="216"/>
                  <a:pt x="97" y="216"/>
                </a:cubicBezTo>
                <a:cubicBezTo>
                  <a:pt x="43" y="180"/>
                  <a:pt x="38" y="160"/>
                  <a:pt x="25" y="96"/>
                </a:cubicBezTo>
                <a:cubicBezTo>
                  <a:pt x="64" y="57"/>
                  <a:pt x="70" y="29"/>
                  <a:pt x="121" y="12"/>
                </a:cubicBezTo>
                <a:cubicBezTo>
                  <a:pt x="109" y="28"/>
                  <a:pt x="104" y="55"/>
                  <a:pt x="85" y="60"/>
                </a:cubicBezTo>
                <a:cubicBezTo>
                  <a:pt x="73" y="63"/>
                  <a:pt x="84" y="18"/>
                  <a:pt x="73" y="24"/>
                </a:cubicBezTo>
                <a:cubicBezTo>
                  <a:pt x="58" y="31"/>
                  <a:pt x="68" y="57"/>
                  <a:pt x="61" y="72"/>
                </a:cubicBezTo>
                <a:cubicBezTo>
                  <a:pt x="52" y="90"/>
                  <a:pt x="37" y="104"/>
                  <a:pt x="25" y="120"/>
                </a:cubicBezTo>
                <a:cubicBezTo>
                  <a:pt x="29" y="104"/>
                  <a:pt x="33" y="88"/>
                  <a:pt x="37" y="72"/>
                </a:cubicBezTo>
                <a:cubicBezTo>
                  <a:pt x="40" y="60"/>
                  <a:pt x="37" y="40"/>
                  <a:pt x="49" y="36"/>
                </a:cubicBezTo>
                <a:cubicBezTo>
                  <a:pt x="99" y="19"/>
                  <a:pt x="74" y="31"/>
                  <a:pt x="121" y="0"/>
                </a:cubicBezTo>
                <a:cubicBezTo>
                  <a:pt x="141" y="4"/>
                  <a:pt x="163" y="2"/>
                  <a:pt x="181" y="12"/>
                </a:cubicBezTo>
                <a:cubicBezTo>
                  <a:pt x="221" y="35"/>
                  <a:pt x="194" y="93"/>
                  <a:pt x="217" y="0"/>
                </a:cubicBezTo>
                <a:cubicBezTo>
                  <a:pt x="238" y="62"/>
                  <a:pt x="289" y="123"/>
                  <a:pt x="289" y="192"/>
                </a:cubicBezTo>
                <a:cubicBezTo>
                  <a:pt x="289" y="205"/>
                  <a:pt x="286" y="165"/>
                  <a:pt x="277" y="156"/>
                </a:cubicBezTo>
                <a:cubicBezTo>
                  <a:pt x="268" y="147"/>
                  <a:pt x="253" y="148"/>
                  <a:pt x="241" y="144"/>
                </a:cubicBezTo>
                <a:cubicBezTo>
                  <a:pt x="229" y="156"/>
                  <a:pt x="216" y="167"/>
                  <a:pt x="205" y="180"/>
                </a:cubicBezTo>
                <a:cubicBezTo>
                  <a:pt x="192" y="195"/>
                  <a:pt x="189" y="224"/>
                  <a:pt x="169" y="228"/>
                </a:cubicBezTo>
                <a:cubicBezTo>
                  <a:pt x="155" y="231"/>
                  <a:pt x="151" y="205"/>
                  <a:pt x="145" y="192"/>
                </a:cubicBezTo>
                <a:cubicBezTo>
                  <a:pt x="99" y="100"/>
                  <a:pt x="184" y="224"/>
                  <a:pt x="97" y="108"/>
                </a:cubicBezTo>
                <a:cubicBezTo>
                  <a:pt x="67" y="226"/>
                  <a:pt x="103" y="118"/>
                  <a:pt x="73" y="108"/>
                </a:cubicBezTo>
                <a:cubicBezTo>
                  <a:pt x="59" y="103"/>
                  <a:pt x="57" y="132"/>
                  <a:pt x="49" y="144"/>
                </a:cubicBezTo>
                <a:cubicBezTo>
                  <a:pt x="41" y="132"/>
                  <a:pt x="25" y="108"/>
                  <a:pt x="25" y="108"/>
                </a:cubicBezTo>
                <a:cubicBezTo>
                  <a:pt x="97" y="132"/>
                  <a:pt x="32" y="124"/>
                  <a:pt x="73" y="72"/>
                </a:cubicBezTo>
                <a:cubicBezTo>
                  <a:pt x="81" y="62"/>
                  <a:pt x="97" y="65"/>
                  <a:pt x="109" y="60"/>
                </a:cubicBezTo>
                <a:cubicBezTo>
                  <a:pt x="125" y="53"/>
                  <a:pt x="141" y="44"/>
                  <a:pt x="157" y="36"/>
                </a:cubicBezTo>
                <a:cubicBezTo>
                  <a:pt x="169" y="52"/>
                  <a:pt x="178" y="71"/>
                  <a:pt x="193" y="84"/>
                </a:cubicBezTo>
                <a:cubicBezTo>
                  <a:pt x="203" y="92"/>
                  <a:pt x="220" y="105"/>
                  <a:pt x="229" y="96"/>
                </a:cubicBezTo>
                <a:cubicBezTo>
                  <a:pt x="247" y="78"/>
                  <a:pt x="253" y="24"/>
                  <a:pt x="253" y="24"/>
                </a:cubicBezTo>
                <a:cubicBezTo>
                  <a:pt x="269" y="88"/>
                  <a:pt x="265" y="56"/>
                  <a:pt x="265" y="120"/>
                </a:cubicBezTo>
              </a:path>
            </a:pathLst>
          </a:custGeom>
          <a:solidFill>
            <a:srgbClr val="ff0000"/>
          </a:solidFill>
          <a:ln w="76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340000" y="843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iedra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24000" y="1484280"/>
            <a:ext cx="20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White piedra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08000" y="198900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, brown, cream less fir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24000" y="2852640"/>
            <a:ext cx="54003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 beigeli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fect ye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able nodu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, blastospores, arthr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no cycloheximi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m – beig Yeast with wrinkled surfa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5724360" y="2205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67280" y="220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6300720" y="1341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  &amp; 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324000" y="2354400"/>
            <a:ext cx="129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1" descr="Figure-18a"/>
          <p:cNvPicPr/>
          <p:nvPr/>
        </p:nvPicPr>
        <p:blipFill>
          <a:blip r:embed="rId1"/>
          <a:stretch/>
        </p:blipFill>
        <p:spPr>
          <a:xfrm>
            <a:off x="5148360" y="1773360"/>
            <a:ext cx="3995640" cy="1482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2" descr="Figure-18"/>
          <p:cNvPicPr/>
          <p:nvPr/>
        </p:nvPicPr>
        <p:blipFill>
          <a:blip r:embed="rId2"/>
          <a:stretch/>
        </p:blipFill>
        <p:spPr>
          <a:xfrm>
            <a:off x="5148360" y="3213000"/>
            <a:ext cx="3995640" cy="17287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3"/>
          <p:cNvSpPr/>
          <p:nvPr/>
        </p:nvSpPr>
        <p:spPr>
          <a:xfrm>
            <a:off x="5364000" y="306864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ite piedra nodule on hair shaf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44364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 flipH="1">
            <a:off x="6227640" y="1628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7020000" y="2060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732720" y="2204640"/>
            <a:ext cx="287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6445080" y="3716280"/>
            <a:ext cx="11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7020000" y="400536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7381800" y="3357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>
            <a:off x="7667640" y="3645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7669080" y="530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>
            <a:off x="817236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8172360" y="3716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H="1">
            <a:off x="8314920" y="400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804000" y="551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908000" y="25704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eatment of Superfici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466560" y="1557360"/>
            <a:ext cx="828216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salicylic acid, 3% sulfur ointments, whitfield’s ointment Ketoconaz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 or shave hair for Piedra &amp; clean with mild fungicide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e.g. 1:2000 bichloride of mercu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r apply 2% salicyl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r 3% sulfur oi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zoral shampoo for Pied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zoral = Ketoconazole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6372360" y="184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Benzo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2197080" y="2667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95280" y="1268280"/>
            <a:ext cx="874872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 fungal infections of the Keratinized tissues of the body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3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Stratum corneum, Hair, nail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771640" y="2492280"/>
            <a:ext cx="432000" cy="21456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6" descr="Figure-22"/>
          <p:cNvPicPr/>
          <p:nvPr/>
        </p:nvPicPr>
        <p:blipFill>
          <a:blip r:embed="rId1"/>
          <a:stretch/>
        </p:blipFill>
        <p:spPr>
          <a:xfrm>
            <a:off x="6012000" y="2116080"/>
            <a:ext cx="1295280" cy="109692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7"/>
          <p:cNvSpPr/>
          <p:nvPr/>
        </p:nvSpPr>
        <p:spPr>
          <a:xfrm>
            <a:off x="7308720" y="20541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rotic scaley cen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451640" y="2643120"/>
            <a:ext cx="1619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fungus in margi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 flipV="1">
            <a:off x="7093080" y="2349360"/>
            <a:ext cx="28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7020000" y="285264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826920" y="3284640"/>
            <a:ext cx="7777440" cy="14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apitis        in the scalp, barber’s itc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kin, hair folicles, and hair are infected.  Infected hair fall-of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thrix hair infection and Ectothri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orporis : In glabrous sk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2124000" y="335772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1116000" y="4657680"/>
            <a:ext cx="446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. circinata, t.imbr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826920" y="51325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ruris: In groin = jock itch = Dhobie it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826920" y="5627520"/>
            <a:ext cx="2449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unguium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nail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barbae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be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manuum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han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395280" y="2349360"/>
            <a:ext cx="525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/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lesion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(=Ringworm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8"/>
          <p:cNvSpPr/>
          <p:nvPr/>
        </p:nvSpPr>
        <p:spPr>
          <a:xfrm>
            <a:off x="5581800" y="249228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395280" y="2781360"/>
            <a:ext cx="58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itching – present anywhere in bod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826920" y="1773360"/>
            <a:ext cx="259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geou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826920" y="48434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pedis (=Athlete’s foot) = swimming pool 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tcapitis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2881440" cy="2349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197MIK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0"/>
            <a:ext cx="3527280" cy="2565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273MI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3213000"/>
            <a:ext cx="252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1" descr="Athletes_foot_Pict_Plantar_2(1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141720"/>
            <a:ext cx="3024000" cy="1531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PHIL_579_lor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3284640"/>
            <a:ext cx="2374920" cy="1649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nobl_f2"/>
          <p:cNvPicPr/>
          <p:nvPr/>
        </p:nvPicPr>
        <p:blipFill>
          <a:blip r:embed="rId11"/>
          <a:stretch/>
        </p:blipFill>
        <p:spPr>
          <a:xfrm>
            <a:off x="250920" y="5013360"/>
            <a:ext cx="2663640" cy="1573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7" descr="DIS120"/>
          <p:cNvPicPr/>
          <p:nvPr/>
        </p:nvPicPr>
        <p:blipFill>
          <a:blip r:embed="rId12"/>
          <a:stretch/>
        </p:blipFill>
        <p:spPr>
          <a:xfrm>
            <a:off x="3708360" y="4869000"/>
            <a:ext cx="28796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24000" y="670320"/>
            <a:ext cx="417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ficial Myc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 Nig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ed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etom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osis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                             Lobomyc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eohyph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oblas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rich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cystosis (PCP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ia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osis,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osis, Geotrich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08000" y="414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ist of 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00720" y="-457200"/>
            <a:ext cx="417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8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Systemic Mycose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plasm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coccidioid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osis and Oropharyngeal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sis (For Dental Stu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al Eye Inf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referen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4284720" y="981000"/>
            <a:ext cx="0" cy="504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244000" y="64054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46836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advanced lesions in scal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68360" y="16765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u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t.favos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scutulum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yellow crust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unpleasant sm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68360" y="292428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468360" y="2136600"/>
            <a:ext cx="828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od’s lam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its filtered U.V. light, infected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oresce especial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 sp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2484360" y="2205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468360" y="43401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quired: from infected persons and Pe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5508720" y="411948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1"/>
          <p:cNvSpPr/>
          <p:nvPr/>
        </p:nvSpPr>
        <p:spPr>
          <a:xfrm flipH="1">
            <a:off x="521928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5219640" y="4581360"/>
            <a:ext cx="360360" cy="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609480" y="47721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And Livestock Animals (goats, sheep, camel, cows, ho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468360" y="12430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ion (pustul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468360" y="3284640"/>
            <a:ext cx="867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 children + adults + males and females.  More seen in school-age child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433440" y="36194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und everywhere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84360" y="52038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Familial cross infection occ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682560" y="4005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Contageous – caused by primary patho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2400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24000" y="1341360"/>
            <a:ext cx="842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e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Imperfect moniliaceous mold fungi,Primary pathoge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2195640" y="14842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325440" y="1844640"/>
            <a:ext cx="39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dermat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39640" y="23954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Produce alkaline subst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539640" y="2852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nsitive to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&lt;2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griseofulv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39640" y="335772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sistant to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cyclohexi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39640" y="3860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 Have peculiar Hyphal structures 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69840" y="4292640"/>
            <a:ext cx="58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quet hyphae, nodular bodies, pectinate hyphae, hyphal coils (=spirals), favic chandel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468360" y="5013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Habitat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re Keratinophilic fung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2556000" y="515772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684360" y="5445000"/>
            <a:ext cx="51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Anthropophilic, Zoophilic, Geophi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68360" y="98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matophytes are in 3 gen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08000" y="1587600"/>
            <a:ext cx="903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ichophyton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T.mentagrophyte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odents,dogs,livestocks.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violace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human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08000" y="1916280"/>
            <a:ext cx="266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hair + na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556000" y="1879560"/>
            <a:ext cx="5400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.verrucosum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cows. 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.rubrum 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hum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08000" y="2421000"/>
            <a:ext cx="849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icrospor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M. canis in cats. M.audouinii in human, M. gypseum in soil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108000" y="2781360"/>
            <a:ext cx="273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hair, but not na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08000" y="328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rmophyton floccos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hum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08000" y="368460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nail, but not hai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108000" y="4416480"/>
            <a:ext cx="431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 stage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ymnoascacea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995640" y="4437000"/>
            <a:ext cx="4608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ectomycetidae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ascomycet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5797440" y="45799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108000" y="4869000"/>
            <a:ext cx="684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roderm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1908000" y="5013360"/>
            <a:ext cx="721080" cy="216000"/>
          </a:xfrm>
          <a:prstGeom prst="rightArrow">
            <a:avLst>
              <a:gd name="adj1" fmla="val 50000"/>
              <a:gd name="adj2" fmla="val 8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108000" y="5229360"/>
            <a:ext cx="684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nnizzi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1908000" y="5373720"/>
            <a:ext cx="721080" cy="216000"/>
          </a:xfrm>
          <a:prstGeom prst="rightArrow">
            <a:avLst>
              <a:gd name="adj1" fmla="val 50000"/>
              <a:gd name="adj2" fmla="val 8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108000" y="3984480"/>
            <a:ext cx="698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reproduce asexually forming conidia by which can be identifie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" descr="Figure-23"/>
          <p:cNvPicPr/>
          <p:nvPr/>
        </p:nvPicPr>
        <p:blipFill>
          <a:blip r:embed="rId1"/>
          <a:stretch/>
        </p:blipFill>
        <p:spPr>
          <a:xfrm>
            <a:off x="1619280" y="836640"/>
            <a:ext cx="2236680" cy="3213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Figure-24"/>
          <p:cNvPicPr/>
          <p:nvPr/>
        </p:nvPicPr>
        <p:blipFill>
          <a:blip r:embed="rId2"/>
          <a:stretch/>
        </p:blipFill>
        <p:spPr>
          <a:xfrm>
            <a:off x="6588000" y="1268280"/>
            <a:ext cx="2138400" cy="2186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Figure-25"/>
          <p:cNvPicPr/>
          <p:nvPr/>
        </p:nvPicPr>
        <p:blipFill>
          <a:blip r:embed="rId3"/>
          <a:stretch/>
        </p:blipFill>
        <p:spPr>
          <a:xfrm>
            <a:off x="2987640" y="4869000"/>
            <a:ext cx="4038480" cy="10810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1690560" y="1125360"/>
            <a:ext cx="122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ooth wa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ound 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6802560" y="1477800"/>
            <a:ext cx="86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in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4284720" y="2205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aleuriospore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macroconidi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9"/>
          <p:cNvSpPr/>
          <p:nvPr/>
        </p:nvSpPr>
        <p:spPr>
          <a:xfrm flipV="1">
            <a:off x="6012000" y="2205000"/>
            <a:ext cx="187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 flipH="1" flipV="1">
            <a:off x="3132000" y="1773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4140360" y="320832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aleuriospore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Microconidi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12"/>
          <p:cNvSpPr/>
          <p:nvPr/>
        </p:nvSpPr>
        <p:spPr>
          <a:xfrm flipH="1">
            <a:off x="3276360" y="3357720"/>
            <a:ext cx="93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2050920" y="407664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4211640" y="609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rmophy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7020000" y="3645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7164360" y="4941720"/>
            <a:ext cx="1225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ound 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lub shap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mooth wa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5867280" y="3213000"/>
            <a:ext cx="9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24000" y="3289320"/>
            <a:ext cx="37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Test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468360" y="3936960"/>
            <a:ext cx="7920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thrix &amp; Ectothrix hair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perforation 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ease 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gment production in PDA &amp; CMA 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 requirement such as –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ies Agar 1-7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24000" y="105732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e test medium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DTM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755640" y="2421000"/>
            <a:ext cx="73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cidic p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yellow,  in alkalin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r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60360" y="199404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pH 5.6, Antibacterial, Antifungal, and Phenol red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mphoteric dye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484360" y="256536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5364000" y="256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7640" y="10526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s is a special medium for the identification of dematophy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755640" y="2786040"/>
            <a:ext cx="838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DTM test is growth of the fungus and red color.  It is 98% accurat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79280" y="1052640"/>
            <a:ext cx="38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11280" y="2060640"/>
            <a:ext cx="424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kin scraping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ir, Nai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395280" y="2637000"/>
            <a:ext cx="828036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or 10% KOH will show hyaline Septate hyphae, or spores or bot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and Mycobiotic medium. Identif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395280" y="1557360"/>
            <a:ext cx="22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250920" y="3506760"/>
            <a:ext cx="22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538200" y="401004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seofulvi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Topical or systemic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2268360" y="4149720"/>
            <a:ext cx="790920" cy="216000"/>
          </a:xfrm>
          <a:prstGeom prst="rightArrow">
            <a:avLst>
              <a:gd name="adj1" fmla="val 50000"/>
              <a:gd name="adj2" fmla="val 9154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539640" y="44416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ole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1619280" y="45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825480" y="4802040"/>
            <a:ext cx="83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iconazol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aktrin)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Clotrimazol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anesten),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Econazo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539640" y="516240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ole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:  Itraconazole - 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15"/>
          <p:cNvSpPr/>
          <p:nvPr/>
        </p:nvSpPr>
        <p:spPr>
          <a:xfrm>
            <a:off x="1690560" y="530064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539640" y="552276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ylamin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al, Terbinafine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Lamisi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2411280" y="5661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539640" y="595008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naftat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1% solution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Tinactin = Tinader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050920" y="6093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332000" y="4111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mycos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250920" y="1773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and Onychomyco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50920" y="234936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tomyco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539640" y="335772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Mycotic kerat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250920" y="292428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y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culomycosi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395280" y="371628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neal  ulcer,corneal abs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539640" y="4076640"/>
            <a:ext cx="45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Endophthalmit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4645080" y="1916280"/>
            <a:ext cx="4103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 caused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, Scytalidium, Scopulariopsis,Fusarium,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emonium,Aspergillus,and others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1258920" y="119700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on-dermatophyte skin 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4284720" y="1916280"/>
            <a:ext cx="287280" cy="2592360"/>
          </a:xfrm>
          <a:custGeom>
            <a:avLst/>
            <a:gdLst>
              <a:gd name="textAreaLeft" fmla="*/ 0 w 287280"/>
              <a:gd name="textAreaRight" fmla="*/ 10368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692360" y="2667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95280" y="1268280"/>
            <a:ext cx="835344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localized subcutaneous infection that involve underlying bone later in the disease cour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lesions are multiple absces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in symptoms/signes are cold swelling of the affected site (tumefaction), formation of sinuses that drain pus to the surface of the skin, and presence of grai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ains are granules (small colonies), about 1-2 mm diameter, of the etiologic agent with different col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ommonly affected site is the foot, however, it can be in leg, thigh, hand, arm, shoulder, or he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5" descr="distortion of the foot"/>
          <p:cNvPicPr/>
          <p:nvPr/>
        </p:nvPicPr>
        <p:blipFill>
          <a:blip r:embed="rId1"/>
          <a:stretch/>
        </p:blipFill>
        <p:spPr>
          <a:xfrm>
            <a:off x="2050920" y="333360"/>
            <a:ext cx="4897440" cy="3095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Excised mycetoma showing a draining sinus"/>
          <p:cNvPicPr/>
          <p:nvPr/>
        </p:nvPicPr>
        <p:blipFill>
          <a:blip r:embed="rId2"/>
          <a:stretch/>
        </p:blipFill>
        <p:spPr>
          <a:xfrm>
            <a:off x="1979640" y="3645000"/>
            <a:ext cx="4803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692360" y="2667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395280" y="1658880"/>
            <a:ext cx="83534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is acquired following trauma to the skin by plant material from trees, shrubs, or  vegetation debris.  Thus more seen in rural areas (in farmers, Sheppards, walking bare-foot in agricultural land or city  park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“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adura foot” referring to the first case seen in “Madura” region of India which was in the foot of that pati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is very chronic takes months to be fully established and years to deal with.  It is not contagious.  More seen in tropics and subtrop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iologies are fungi which cause eumycotic mycetoma (Eumycetoma) or actinomycetes which cause actinomycotic mycetoma (actinomycetoma).  Their natural habitats are plant materi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431280"/>
            <a:ext cx="8569080" cy="60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kes = Mushroom = Fun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s  = Study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Study of fun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 myceteae (= K. fungi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Characteristic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istinguishing featur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ukaryotic organis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trophic – do not have chlorophyl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chlorophyllou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 is surrounded by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rigid cell wa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de up of chitin &amp; complex carbohydates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hitosan,Mannan,glucan,galactomann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simple structure – most of them microscop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e by spore formation sexually or asex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1403280" y="3500280"/>
            <a:ext cx="47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156360" y="3500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403280" y="3500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908000" y="321156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68360" y="-1000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sic My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651640" y="38354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arasi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76720" y="38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ymbi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682560" y="38354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aprob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851280" y="350208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8317080" y="64054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466560" y="836640"/>
            <a:ext cx="8498160" cy="38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mycetoma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  caused by several mold fung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color of grains in this type of mycetoma is black or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Fungi include: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adurella, Pseudallescheri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cedosporium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)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Pyrenochaet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Pycnidia producer),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cremonium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and the ascomycetes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Leptosphaeri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Neotestudin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,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188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common etiologies in Saudi Arabia and neighboring countries ar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 mycetomat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auses the majority of the cases with black grains.  It is imperfect dematiaceous mold with brown colonies and diffused honey – colored pigment.  Produces phialoconidia from phialides, and chlamydosp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547640" y="-1000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6" descr="Fig-1"/>
          <p:cNvPicPr/>
          <p:nvPr/>
        </p:nvPicPr>
        <p:blipFill>
          <a:blip r:embed="rId1"/>
          <a:stretch/>
        </p:blipFill>
        <p:spPr>
          <a:xfrm>
            <a:off x="5867280" y="4797360"/>
            <a:ext cx="3168720" cy="17272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7164360" y="47242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8"/>
          <p:cNvSpPr/>
          <p:nvPr/>
        </p:nvSpPr>
        <p:spPr>
          <a:xfrm>
            <a:off x="7524720" y="4941720"/>
            <a:ext cx="360360" cy="142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8064360" y="506880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ocon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 flipH="1">
            <a:off x="8243640" y="5302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7129440" y="550080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i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2"/>
          <p:cNvSpPr/>
          <p:nvPr/>
        </p:nvSpPr>
        <p:spPr>
          <a:xfrm>
            <a:off x="781380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6659640" y="65088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urella mycetoma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468360" y="4827600"/>
            <a:ext cx="5327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 gri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other species of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 similar to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.myce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but with grey colo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466560" y="1854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seudallescheria boydii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– causes white grain mycetoma.          It is Ascomycete mold forming cleistothecia and ascospores.  The imperfect of it is the moniliaceous mold: Scedosporium apiospermum which forms annelloconidia from annell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Fig-2"/>
          <p:cNvPicPr/>
          <p:nvPr/>
        </p:nvPicPr>
        <p:blipFill>
          <a:blip r:embed="rId1"/>
          <a:stretch/>
        </p:blipFill>
        <p:spPr>
          <a:xfrm>
            <a:off x="3635280" y="3616200"/>
            <a:ext cx="4465800" cy="22291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6264360" y="38606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llocon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8"/>
          <p:cNvSpPr/>
          <p:nvPr/>
        </p:nvSpPr>
        <p:spPr>
          <a:xfrm>
            <a:off x="5724360" y="393372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156360" y="4149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l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6877080" y="4363920"/>
            <a:ext cx="431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4789440" y="558972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dosporium apiosperm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466560" y="1197000"/>
            <a:ext cx="835344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oma:  Caused by about 10 species of aerobic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actinomyce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olor of grains yellow, white, yellowish-brown, pinkish –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Actinomycetes are filamentous higher bacteria.  The filaments (very thin about 1.0 </a:t>
            </a:r>
            <a:r>
              <a:rPr b="0" lang="el-GR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 wide) appear as long branching, beaded, or as long rods.  They are Gram-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ain etiolog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treptomyces somaliensi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causes the majority of the cases – color of grains yellow to yellow-br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madurae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or yellow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pelletieri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pinkish-red grai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 brasiliensi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asteroide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 caviae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coeliac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or yellow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tter species of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usually cause Nocardiosis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which is subcutaneous, pulmonary, or brain abscess infection)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466560" y="1197000"/>
            <a:ext cx="83534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 is acid-fast to partially acid fast when stained by Ziehl-Nelsen stain (ZN) while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re nonacid-fa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se actinomycetes are differentiated by their decomposition pattern of casien, tyrosine, xanthine, hypoxanthine, urea, and gelatin.  Also by few other biochemical tests and colony morphology</a:t>
            </a:r>
            <a:r>
              <a:rPr b="0" lang="en-US" sz="2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They have adherent dry colonies).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e Table of characteris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naerobic actinomycete;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sraelii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auses the infection: “Actinomycosis” which is subcutaneous, cervicofacial, pulmonary, abdominal, uterine, or brain abscess infection.  It also causes dental caries.  The organism is filamentous and will have yellow grains (sulfer granule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79280" y="9079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acteristics of the main species of the above Actinomyc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395280" y="422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omposition of Ca= Casien, Ty = Tyrosine, Xa = Xanthine, Hx = Hypoxant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68360" y="1557360"/>
          <a:ext cx="7931160" cy="2565360"/>
        </p:xfrm>
        <a:graphic>
          <a:graphicData uri="http://schemas.openxmlformats.org/drawingml/2006/table">
            <a:tbl>
              <a:tblPr/>
              <a:tblGrid>
                <a:gridCol w="1868400"/>
                <a:gridCol w="646200"/>
                <a:gridCol w="644400"/>
                <a:gridCol w="482760"/>
                <a:gridCol w="644400"/>
                <a:gridCol w="644400"/>
                <a:gridCol w="1236960"/>
                <a:gridCol w="880920"/>
                <a:gridCol w="88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X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H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Growth in 0.4X sa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Gel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Colo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. somalien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.madura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.pelletie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Brasilien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asteroi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6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6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250920" y="585720"/>
            <a:ext cx="856908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Visible grains, Biopsy tissue (not skin pinch)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curettings of sinuses, pus, blood for serolog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rst determine color of the grains – it helps identify etiology and initiate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ke histologic sections, or grinde tissue and crush grains and make smears – stain by: Hematoxylin-Eosin, Gram, ZN; if fungi do       20% KOH or Periodic acid schiff st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act serum for ser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ll reveal grains in tissu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ogenous texture     actinomyce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eterogenous  texture     fungi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e grain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ll not reveal filaments easi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gal grain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will contain easily seen hyphae and chlamy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ains will have different morphology and color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white, black, yellow, pink, …. etc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epending on et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6"/>
          <p:cNvSpPr/>
          <p:nvPr/>
        </p:nvSpPr>
        <p:spPr>
          <a:xfrm>
            <a:off x="4211640" y="4581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7"/>
          <p:cNvSpPr/>
          <p:nvPr/>
        </p:nvSpPr>
        <p:spPr>
          <a:xfrm>
            <a:off x="4356000" y="494172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8" descr="Fig-4"/>
          <p:cNvPicPr/>
          <p:nvPr/>
        </p:nvPicPr>
        <p:blipFill>
          <a:blip r:embed="rId1"/>
          <a:stretch/>
        </p:blipFill>
        <p:spPr>
          <a:xfrm>
            <a:off x="6012000" y="3429000"/>
            <a:ext cx="3024000" cy="14508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9"/>
          <p:cNvSpPr/>
          <p:nvPr/>
        </p:nvSpPr>
        <p:spPr>
          <a:xfrm>
            <a:off x="6877080" y="29973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cope field (10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7380360" y="3429000"/>
            <a:ext cx="43164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6013440" y="4653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omycotic gr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12"/>
          <p:cNvSpPr/>
          <p:nvPr/>
        </p:nvSpPr>
        <p:spPr>
          <a:xfrm>
            <a:off x="8136000" y="4437000"/>
            <a:ext cx="106200" cy="39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6518160" y="48690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issue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14"/>
          <p:cNvSpPr/>
          <p:nvPr/>
        </p:nvSpPr>
        <p:spPr>
          <a:xfrm flipH="1">
            <a:off x="7164000" y="3429000"/>
            <a:ext cx="14292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7740720" y="46530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ycotic gr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16"/>
          <p:cNvSpPr/>
          <p:nvPr/>
        </p:nvSpPr>
        <p:spPr>
          <a:xfrm>
            <a:off x="6588000" y="4292640"/>
            <a:ext cx="216000" cy="50472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17"/>
          <p:cNvSpPr/>
          <p:nvPr/>
        </p:nvSpPr>
        <p:spPr>
          <a:xfrm>
            <a:off x="3780000" y="537228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18"/>
          <p:cNvSpPr/>
          <p:nvPr/>
        </p:nvSpPr>
        <p:spPr>
          <a:xfrm>
            <a:off x="3060720" y="573408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324000" y="2468520"/>
            <a:ext cx="835344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, Neutral – SDA, BHI-A, Blood agar and incubate at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at 25 -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erob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actinomycosis also cul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cooked meat med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incubate anaerobically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organisms will grow slow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may be  contaminated with skin flora – purify – identif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ntibody using known antigen from each etiologic ag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hods used immunodiffusion (I.D), and 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erimmunoelectrophoresis (C.I.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 is good for Dx and monitoring trea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971640" y="83664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755640" y="69228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755640" y="90792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468360" y="961920"/>
            <a:ext cx="4390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 of specimen from Nocardiosis and actinomycosis will show branching thin filaments by silver s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10" descr="Fig-5"/>
          <p:cNvPicPr/>
          <p:nvPr/>
        </p:nvPicPr>
        <p:blipFill>
          <a:blip r:embed="rId1"/>
          <a:stretch/>
        </p:blipFill>
        <p:spPr>
          <a:xfrm>
            <a:off x="6804000" y="2781360"/>
            <a:ext cx="2016000" cy="12351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1"/>
          <p:cNvSpPr/>
          <p:nvPr/>
        </p:nvSpPr>
        <p:spPr>
          <a:xfrm>
            <a:off x="6516720" y="3789360"/>
            <a:ext cx="21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omycete filaments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(Gram +v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12" descr="Fig-3"/>
          <p:cNvPicPr/>
          <p:nvPr/>
        </p:nvPicPr>
        <p:blipFill>
          <a:blip r:embed="rId2"/>
          <a:stretch/>
        </p:blipFill>
        <p:spPr>
          <a:xfrm>
            <a:off x="5867280" y="836640"/>
            <a:ext cx="2816280" cy="12193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13"/>
          <p:cNvSpPr/>
          <p:nvPr/>
        </p:nvSpPr>
        <p:spPr>
          <a:xfrm>
            <a:off x="5867280" y="907920"/>
            <a:ext cx="15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ded fila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6985080" y="19749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nomycete filaments (Silver sta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6084720" y="1052640"/>
            <a:ext cx="7164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5796000" y="1628640"/>
            <a:ext cx="12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ardia (Gram +v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66560" y="620640"/>
            <a:ext cx="835344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ually actinomycetoma respond better to treatment than eumycet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nerally if bone is infected the response to treatment is po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oma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rimethoprim – Sulfamethoxazole (Cotrimoxazole/ Septrin)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     + Streptomycin sulf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Or: Dapsone + Streptomycin sulf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Or: Doxycycline + Cefach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For Actinomycosis: Penicillin 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mycet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etoconazole (Nizoral) tablets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raconazole or voriconaz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drugs not effective and bone is infecte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utate the limb or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bride tissue and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e R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eatment duration is long – up to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5724360" y="5443560"/>
            <a:ext cx="287640" cy="217440"/>
          </a:xfrm>
          <a:prstGeom prst="rightArrow">
            <a:avLst>
              <a:gd name="adj1" fmla="val 50000"/>
              <a:gd name="adj2" fmla="val 330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2341440" y="-10008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hinosporid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611280" y="757080"/>
            <a:ext cx="68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ocutaneous fungal infection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826920" y="46944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11280" y="117792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: Nasal, Oral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Palate, epiglottis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onjunctiva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611280" y="1549440"/>
            <a:ext cx="56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: Polyps, Papillomas, wart-like le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50920" y="22701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468360" y="2701800"/>
            <a:ext cx="4174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hinosporidium seeberi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684360" y="3062160"/>
            <a:ext cx="36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ly parasitic fungu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324000" y="3494160"/>
            <a:ext cx="88200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ieved to be hyphochytridiomycetes, does not grow on artificial media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e.g. SDA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324000" y="386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has been grown in tissue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250920" y="59961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osurgical excision of lesion-relapse comm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250920" y="4724280"/>
            <a:ext cx="705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or KOH, will show spherules with endosp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252360" y="398520"/>
            <a:ext cx="40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611280" y="1909800"/>
            <a:ext cx="56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een in communities near swam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7"/>
          <p:cNvSpPr/>
          <p:nvPr/>
        </p:nvSpPr>
        <p:spPr>
          <a:xfrm>
            <a:off x="252360" y="4292640"/>
            <a:ext cx="7415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: Biopsy tissu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18"/>
          <p:cNvSpPr/>
          <p:nvPr/>
        </p:nvSpPr>
        <p:spPr>
          <a:xfrm>
            <a:off x="25092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7596360" y="429264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8172360" y="422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6588000" y="54450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er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250920" y="537372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23"/>
          <p:cNvSpPr/>
          <p:nvPr/>
        </p:nvSpPr>
        <p:spPr>
          <a:xfrm>
            <a:off x="2700360" y="5516640"/>
            <a:ext cx="287280" cy="217440"/>
          </a:xfrm>
          <a:prstGeom prst="rightArrow">
            <a:avLst>
              <a:gd name="adj1" fmla="val 50000"/>
              <a:gd name="adj2" fmla="val 330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4" descr="Fig-42"/>
          <p:cNvPicPr/>
          <p:nvPr/>
        </p:nvPicPr>
        <p:blipFill>
          <a:blip r:embed="rId1"/>
          <a:stretch/>
        </p:blipFill>
        <p:spPr>
          <a:xfrm>
            <a:off x="7380360" y="4581360"/>
            <a:ext cx="1763640" cy="1086120"/>
          </a:xfrm>
          <a:prstGeom prst="rect">
            <a:avLst/>
          </a:prstGeom>
          <a:ln w="0">
            <a:noFill/>
          </a:ln>
        </p:spPr>
      </p:pic>
      <p:sp>
        <p:nvSpPr>
          <p:cNvPr id="742" name="Line 25"/>
          <p:cNvSpPr/>
          <p:nvPr/>
        </p:nvSpPr>
        <p:spPr>
          <a:xfrm flipH="1">
            <a:off x="7811640" y="443700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Line 26"/>
          <p:cNvSpPr/>
          <p:nvPr/>
        </p:nvSpPr>
        <p:spPr>
          <a:xfrm flipV="1">
            <a:off x="7237440" y="5229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2629080" y="-1000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ob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11280" y="963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– subcutaneous fungal inf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826920" y="49100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611280" y="1406520"/>
            <a:ext cx="482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: Keloidal – verrucoid - nodul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611280" y="1909800"/>
            <a:ext cx="468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: face, ear, arms, leg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324000" y="285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611280" y="2332080"/>
            <a:ext cx="468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– localiz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2771640" y="27655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azia lob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1"/>
          <p:cNvSpPr/>
          <p:nvPr/>
        </p:nvSpPr>
        <p:spPr>
          <a:xfrm>
            <a:off x="2771640" y="3130560"/>
            <a:ext cx="2090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boa loboi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684360" y="3500280"/>
            <a:ext cx="3671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ly parasitic fungu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684360" y="3933720"/>
            <a:ext cx="705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grow in culture like SDA media or tissue cultu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395280" y="5433840"/>
            <a:ext cx="561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 Surgical excision of lesio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250920" y="5414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395280" y="4481640"/>
            <a:ext cx="856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cimen is Biopsy tissue – Direct Microscopy will show chains of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7"/>
          <p:cNvSpPr/>
          <p:nvPr/>
        </p:nvSpPr>
        <p:spPr>
          <a:xfrm>
            <a:off x="755640" y="5073480"/>
            <a:ext cx="496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f specimen will be nega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18" descr="Fig-43"/>
          <p:cNvPicPr/>
          <p:nvPr/>
        </p:nvPicPr>
        <p:blipFill>
          <a:blip r:embed="rId1"/>
          <a:stretch/>
        </p:blipFill>
        <p:spPr>
          <a:xfrm>
            <a:off x="6084720" y="4797360"/>
            <a:ext cx="1800360" cy="137340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675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ellular – Yeas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yeas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retain individua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attach to each oth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 - by – side forming Pseudohyph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amentous – molds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us, Penicilium Rhizopu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ha - Hyphae - Septum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03280" y="1126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of Fun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2987640" y="126828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2410920" y="1700280"/>
            <a:ext cx="576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987640" y="1700280"/>
            <a:ext cx="158436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1476360" y="256536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1476360" y="278136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1258920" y="2637000"/>
            <a:ext cx="21600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1258920" y="285264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1692360" y="2637000"/>
            <a:ext cx="21564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1619280" y="292428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403280" y="2997360"/>
            <a:ext cx="21600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547640" y="314172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15"/>
          <p:cNvSpPr/>
          <p:nvPr/>
        </p:nvSpPr>
        <p:spPr>
          <a:xfrm>
            <a:off x="1835280" y="2781360"/>
            <a:ext cx="21564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6"/>
          <p:cNvSpPr/>
          <p:nvPr/>
        </p:nvSpPr>
        <p:spPr>
          <a:xfrm>
            <a:off x="1835280" y="2997360"/>
            <a:ext cx="21564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17"/>
          <p:cNvSpPr/>
          <p:nvPr/>
        </p:nvSpPr>
        <p:spPr>
          <a:xfrm>
            <a:off x="838080" y="4581360"/>
            <a:ext cx="3302280" cy="719280"/>
          </a:xfrm>
          <a:custGeom>
            <a:avLst/>
            <a:gdLst>
              <a:gd name="textAreaLeft" fmla="*/ 0 w 3302280"/>
              <a:gd name="textAreaRight" fmla="*/ 3302640 w 3302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040" h="389">
                <a:moveTo>
                  <a:pt x="0" y="312"/>
                </a:moveTo>
                <a:cubicBezTo>
                  <a:pt x="115" y="389"/>
                  <a:pt x="347" y="340"/>
                  <a:pt x="444" y="336"/>
                </a:cubicBezTo>
                <a:cubicBezTo>
                  <a:pt x="661" y="300"/>
                  <a:pt x="395" y="341"/>
                  <a:pt x="900" y="312"/>
                </a:cubicBezTo>
                <a:cubicBezTo>
                  <a:pt x="950" y="309"/>
                  <a:pt x="1018" y="283"/>
                  <a:pt x="1068" y="276"/>
                </a:cubicBezTo>
                <a:cubicBezTo>
                  <a:pt x="1274" y="138"/>
                  <a:pt x="1434" y="199"/>
                  <a:pt x="1728" y="192"/>
                </a:cubicBezTo>
                <a:cubicBezTo>
                  <a:pt x="1771" y="178"/>
                  <a:pt x="1819" y="176"/>
                  <a:pt x="1860" y="156"/>
                </a:cubicBezTo>
                <a:cubicBezTo>
                  <a:pt x="1953" y="109"/>
                  <a:pt x="1842" y="150"/>
                  <a:pt x="1932" y="120"/>
                </a:cubicBezTo>
                <a:cubicBezTo>
                  <a:pt x="1955" y="50"/>
                  <a:pt x="1926" y="114"/>
                  <a:pt x="1980" y="60"/>
                </a:cubicBezTo>
                <a:cubicBezTo>
                  <a:pt x="1990" y="50"/>
                  <a:pt x="1994" y="34"/>
                  <a:pt x="2004" y="24"/>
                </a:cubicBezTo>
                <a:cubicBezTo>
                  <a:pt x="2014" y="14"/>
                  <a:pt x="2040" y="0"/>
                  <a:pt x="204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18"/>
          <p:cNvSpPr/>
          <p:nvPr/>
        </p:nvSpPr>
        <p:spPr>
          <a:xfrm>
            <a:off x="819000" y="4724280"/>
            <a:ext cx="3392640" cy="709560"/>
          </a:xfrm>
          <a:custGeom>
            <a:avLst/>
            <a:gdLst>
              <a:gd name="textAreaLeft" fmla="*/ 0 w 3392640"/>
              <a:gd name="textAreaRight" fmla="*/ 3393000 w 339264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088" h="417">
                <a:moveTo>
                  <a:pt x="0" y="372"/>
                </a:moveTo>
                <a:cubicBezTo>
                  <a:pt x="136" y="417"/>
                  <a:pt x="283" y="382"/>
                  <a:pt x="420" y="360"/>
                </a:cubicBezTo>
                <a:cubicBezTo>
                  <a:pt x="484" y="350"/>
                  <a:pt x="612" y="336"/>
                  <a:pt x="612" y="336"/>
                </a:cubicBezTo>
                <a:cubicBezTo>
                  <a:pt x="791" y="276"/>
                  <a:pt x="561" y="349"/>
                  <a:pt x="1080" y="312"/>
                </a:cubicBezTo>
                <a:cubicBezTo>
                  <a:pt x="1179" y="305"/>
                  <a:pt x="1274" y="228"/>
                  <a:pt x="1368" y="204"/>
                </a:cubicBezTo>
                <a:cubicBezTo>
                  <a:pt x="1529" y="164"/>
                  <a:pt x="1400" y="193"/>
                  <a:pt x="1764" y="180"/>
                </a:cubicBezTo>
                <a:cubicBezTo>
                  <a:pt x="1851" y="170"/>
                  <a:pt x="1931" y="169"/>
                  <a:pt x="2004" y="120"/>
                </a:cubicBezTo>
                <a:cubicBezTo>
                  <a:pt x="2038" y="69"/>
                  <a:pt x="2018" y="55"/>
                  <a:pt x="2076" y="36"/>
                </a:cubicBezTo>
                <a:cubicBezTo>
                  <a:pt x="2080" y="24"/>
                  <a:pt x="2088" y="0"/>
                  <a:pt x="208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763640" y="51577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2700360" y="5013360"/>
            <a:ext cx="7128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348000" y="4941720"/>
            <a:ext cx="7164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3924360" y="49417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763640" y="4869000"/>
            <a:ext cx="14292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826920" y="429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771640" y="5229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woven hyphae = Mycel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324000" y="5605560"/>
            <a:ext cx="87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orphic: Have two forms depending on change in the environmental factor like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emp.,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Medium and culture Vs 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27"/>
          <p:cNvSpPr/>
          <p:nvPr/>
        </p:nvSpPr>
        <p:spPr>
          <a:xfrm>
            <a:off x="4838760" y="5013360"/>
            <a:ext cx="3467160" cy="2095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84" h="132">
                <a:moveTo>
                  <a:pt x="0" y="132"/>
                </a:moveTo>
                <a:cubicBezTo>
                  <a:pt x="269" y="125"/>
                  <a:pt x="497" y="116"/>
                  <a:pt x="756" y="84"/>
                </a:cubicBezTo>
                <a:cubicBezTo>
                  <a:pt x="925" y="92"/>
                  <a:pt x="1092" y="101"/>
                  <a:pt x="1260" y="120"/>
                </a:cubicBezTo>
                <a:cubicBezTo>
                  <a:pt x="1561" y="113"/>
                  <a:pt x="1705" y="109"/>
                  <a:pt x="1956" y="84"/>
                </a:cubicBezTo>
                <a:cubicBezTo>
                  <a:pt x="2029" y="60"/>
                  <a:pt x="2104" y="0"/>
                  <a:pt x="218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28"/>
          <p:cNvSpPr/>
          <p:nvPr/>
        </p:nvSpPr>
        <p:spPr>
          <a:xfrm>
            <a:off x="4857840" y="4830840"/>
            <a:ext cx="3409920" cy="25380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48" h="160">
                <a:moveTo>
                  <a:pt x="0" y="120"/>
                </a:moveTo>
                <a:cubicBezTo>
                  <a:pt x="60" y="160"/>
                  <a:pt x="92" y="123"/>
                  <a:pt x="156" y="120"/>
                </a:cubicBezTo>
                <a:cubicBezTo>
                  <a:pt x="316" y="113"/>
                  <a:pt x="476" y="112"/>
                  <a:pt x="636" y="108"/>
                </a:cubicBezTo>
                <a:cubicBezTo>
                  <a:pt x="819" y="47"/>
                  <a:pt x="1320" y="94"/>
                  <a:pt x="1428" y="96"/>
                </a:cubicBezTo>
                <a:cubicBezTo>
                  <a:pt x="1631" y="121"/>
                  <a:pt x="1591" y="121"/>
                  <a:pt x="1920" y="96"/>
                </a:cubicBezTo>
                <a:cubicBezTo>
                  <a:pt x="1976" y="92"/>
                  <a:pt x="2020" y="53"/>
                  <a:pt x="2064" y="24"/>
                </a:cubicBezTo>
                <a:cubicBezTo>
                  <a:pt x="2088" y="8"/>
                  <a:pt x="2122" y="13"/>
                  <a:pt x="214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5003640" y="5229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4952880" y="5005440"/>
            <a:ext cx="3124440" cy="15228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968" h="96">
                <a:moveTo>
                  <a:pt x="0" y="96"/>
                </a:moveTo>
                <a:cubicBezTo>
                  <a:pt x="170" y="39"/>
                  <a:pt x="378" y="56"/>
                  <a:pt x="552" y="48"/>
                </a:cubicBezTo>
                <a:cubicBezTo>
                  <a:pt x="620" y="37"/>
                  <a:pt x="690" y="34"/>
                  <a:pt x="756" y="12"/>
                </a:cubicBezTo>
                <a:cubicBezTo>
                  <a:pt x="836" y="16"/>
                  <a:pt x="916" y="18"/>
                  <a:pt x="996" y="24"/>
                </a:cubicBezTo>
                <a:cubicBezTo>
                  <a:pt x="1045" y="28"/>
                  <a:pt x="1091" y="56"/>
                  <a:pt x="1140" y="60"/>
                </a:cubicBezTo>
                <a:cubicBezTo>
                  <a:pt x="1196" y="64"/>
                  <a:pt x="1252" y="68"/>
                  <a:pt x="1308" y="72"/>
                </a:cubicBezTo>
                <a:cubicBezTo>
                  <a:pt x="1489" y="62"/>
                  <a:pt x="1666" y="45"/>
                  <a:pt x="1848" y="36"/>
                </a:cubicBezTo>
                <a:cubicBezTo>
                  <a:pt x="1872" y="28"/>
                  <a:pt x="1896" y="20"/>
                  <a:pt x="1920" y="12"/>
                </a:cubicBezTo>
                <a:cubicBezTo>
                  <a:pt x="1936" y="7"/>
                  <a:pt x="1968" y="0"/>
                  <a:pt x="1968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659640" y="333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4643280" y="1989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-li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2195640" y="2421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 rot="2513400">
            <a:off x="3565080" y="206064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2513400">
            <a:off x="3131640" y="256536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7"/>
          <p:cNvSpPr/>
          <p:nvPr/>
        </p:nvSpPr>
        <p:spPr>
          <a:xfrm rot="2513400">
            <a:off x="2700000" y="306864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38"/>
          <p:cNvSpPr/>
          <p:nvPr/>
        </p:nvSpPr>
        <p:spPr>
          <a:xfrm>
            <a:off x="5796000" y="472608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324000" y="6308640"/>
            <a:ext cx="8748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morphic: Only one form regardless of environment.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4716360" y="429264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 (coenocytic hyph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1"/>
          <p:cNvSpPr/>
          <p:nvPr/>
        </p:nvSpPr>
        <p:spPr>
          <a:xfrm>
            <a:off x="2556000" y="4365720"/>
            <a:ext cx="2232000" cy="1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2"/>
          <p:cNvSpPr/>
          <p:nvPr/>
        </p:nvSpPr>
        <p:spPr>
          <a:xfrm flipH="1">
            <a:off x="2340000" y="4363920"/>
            <a:ext cx="216000" cy="1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2197080" y="-1000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eohyph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95280" y="6206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395280" y="234792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imperfect mold fungi. Mainly: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adosporium, Exophiala, Wangiella, Cladophialophora bantian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dosporium bantianum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                         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michloridium (Rhinocladiella) mackenziei, Bipolaris, Drechslera, Rhinocladie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7" descr="Fig-30"/>
          <p:cNvPicPr/>
          <p:nvPr/>
        </p:nvPicPr>
        <p:blipFill>
          <a:blip r:embed="rId1"/>
          <a:stretch/>
        </p:blipFill>
        <p:spPr>
          <a:xfrm>
            <a:off x="7453440" y="3714840"/>
            <a:ext cx="1476360" cy="752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8"/>
          <p:cNvSpPr/>
          <p:nvPr/>
        </p:nvSpPr>
        <p:spPr>
          <a:xfrm rot="19232400">
            <a:off x="8269920" y="35539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395280" y="3357720"/>
            <a:ext cx="684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cladosporoides, E.jeanselmei, W.dermatitidi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755640" y="1195560"/>
            <a:ext cx="81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bcutaneous or brain Abscess caused by dematiaceous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755640" y="1555920"/>
            <a:ext cx="81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:  Thigh, legs, feet, arms, ….etc, brain (cerebra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395280" y="1916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395280" y="3789360"/>
            <a:ext cx="820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tropic fungi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al PHM as R.mack, C.ba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395280" y="4221000"/>
            <a:ext cx="820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ly in woody plants, woods, agricultural soi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5"/>
          <p:cNvSpPr/>
          <p:nvPr/>
        </p:nvSpPr>
        <p:spPr>
          <a:xfrm>
            <a:off x="468360" y="4581360"/>
            <a:ext cx="684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611280" y="4941720"/>
            <a:ext cx="82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 Pus, biopsy tissu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611280" y="5300640"/>
            <a:ext cx="828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 KOH &amp; smears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septate hypha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AutoShape 18"/>
          <p:cNvSpPr/>
          <p:nvPr/>
        </p:nvSpPr>
        <p:spPr>
          <a:xfrm>
            <a:off x="5435640" y="544500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611280" y="5661000"/>
            <a:ext cx="712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: On SDA &amp; Mycobiotic – very slow growing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black or grey colon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0"/>
          <p:cNvSpPr/>
          <p:nvPr/>
        </p:nvSpPr>
        <p:spPr>
          <a:xfrm rot="21465600">
            <a:off x="7667280" y="4022640"/>
            <a:ext cx="114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 specimen in KO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21"/>
          <p:cNvSpPr/>
          <p:nvPr/>
        </p:nvSpPr>
        <p:spPr>
          <a:xfrm>
            <a:off x="2987640" y="393372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2"/>
          <p:cNvSpPr/>
          <p:nvPr/>
        </p:nvSpPr>
        <p:spPr>
          <a:xfrm>
            <a:off x="8532720" y="6308640"/>
            <a:ext cx="8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1116000" y="246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oblastomycosis (=Chromomyc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755640" y="134136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lesions are Hyperkeratotic, Verrucous, Pedenculus, Violaceous, Cauliflower, Initially Ulcerative, Autochthonous spread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826920" y="46292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755640" y="3573360"/>
            <a:ext cx="7272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hialophora verrucosa, Fonsecaea pedrosoi, Exophiala, Cladosporium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395280" y="90972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755640" y="2482920"/>
            <a:ext cx="6337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s: extremitees, mainly feet &amp; leg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395280" y="277020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755640" y="3214800"/>
            <a:ext cx="83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imperfect mold fungi in woods and woody plant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395280" y="428292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, Biopsy tissue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754200" y="4654440"/>
            <a:ext cx="792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KOH &amp; smears      brown cells with septa,  Brown Muriform cel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=sclerotic bodie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508720" y="47260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754200" y="5364000"/>
            <a:ext cx="792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 and Mycobioti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116000" y="5722920"/>
            <a:ext cx="244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ery slow grow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3419640" y="5734080"/>
            <a:ext cx="302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fung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Oval 17"/>
          <p:cNvSpPr/>
          <p:nvPr/>
        </p:nvSpPr>
        <p:spPr>
          <a:xfrm>
            <a:off x="6084720" y="5445000"/>
            <a:ext cx="648000" cy="506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Oval 18"/>
          <p:cNvSpPr/>
          <p:nvPr/>
        </p:nvSpPr>
        <p:spPr>
          <a:xfrm>
            <a:off x="6948360" y="544680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19"/>
          <p:cNvSpPr/>
          <p:nvPr/>
        </p:nvSpPr>
        <p:spPr>
          <a:xfrm>
            <a:off x="5940360" y="602136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6732720" y="587844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21"/>
          <p:cNvSpPr/>
          <p:nvPr/>
        </p:nvSpPr>
        <p:spPr>
          <a:xfrm>
            <a:off x="6095880" y="5516640"/>
            <a:ext cx="492120" cy="180720"/>
          </a:xfrm>
          <a:custGeom>
            <a:avLst/>
            <a:gdLst>
              <a:gd name="textAreaLeft" fmla="*/ 0 w 492120"/>
              <a:gd name="textAreaRight" fmla="*/ 492480 w 4921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396" h="204">
                <a:moveTo>
                  <a:pt x="0" y="120"/>
                </a:moveTo>
                <a:cubicBezTo>
                  <a:pt x="125" y="204"/>
                  <a:pt x="43" y="170"/>
                  <a:pt x="264" y="156"/>
                </a:cubicBezTo>
                <a:cubicBezTo>
                  <a:pt x="267" y="155"/>
                  <a:pt x="340" y="138"/>
                  <a:pt x="348" y="132"/>
                </a:cubicBezTo>
                <a:cubicBezTo>
                  <a:pt x="384" y="103"/>
                  <a:pt x="396" y="44"/>
                  <a:pt x="39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22"/>
          <p:cNvSpPr/>
          <p:nvPr/>
        </p:nvSpPr>
        <p:spPr>
          <a:xfrm>
            <a:off x="6372360" y="56610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4" h="108">
                <a:moveTo>
                  <a:pt x="0" y="0"/>
                </a:moveTo>
                <a:cubicBezTo>
                  <a:pt x="29" y="10"/>
                  <a:pt x="49" y="13"/>
                  <a:pt x="72" y="36"/>
                </a:cubicBezTo>
                <a:cubicBezTo>
                  <a:pt x="82" y="46"/>
                  <a:pt x="86" y="62"/>
                  <a:pt x="96" y="72"/>
                </a:cubicBezTo>
                <a:cubicBezTo>
                  <a:pt x="110" y="86"/>
                  <a:pt x="130" y="94"/>
                  <a:pt x="144" y="1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23"/>
          <p:cNvSpPr/>
          <p:nvPr/>
        </p:nvSpPr>
        <p:spPr>
          <a:xfrm>
            <a:off x="7086600" y="5508720"/>
            <a:ext cx="196920" cy="196920"/>
          </a:xfrm>
          <a:custGeom>
            <a:avLst/>
            <a:gdLst>
              <a:gd name="textAreaLeft" fmla="*/ 0 w 196920"/>
              <a:gd name="textAreaRight" fmla="*/ 197280 w 196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24" h="124">
                <a:moveTo>
                  <a:pt x="108" y="16"/>
                </a:moveTo>
                <a:cubicBezTo>
                  <a:pt x="76" y="112"/>
                  <a:pt x="124" y="0"/>
                  <a:pt x="60" y="64"/>
                </a:cubicBezTo>
                <a:cubicBezTo>
                  <a:pt x="51" y="73"/>
                  <a:pt x="57" y="91"/>
                  <a:pt x="48" y="100"/>
                </a:cubicBezTo>
                <a:cubicBezTo>
                  <a:pt x="44" y="104"/>
                  <a:pt x="11" y="113"/>
                  <a:pt x="0" y="1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24"/>
          <p:cNvSpPr/>
          <p:nvPr/>
        </p:nvSpPr>
        <p:spPr>
          <a:xfrm>
            <a:off x="6800760" y="5950080"/>
            <a:ext cx="292320" cy="19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52" h="140">
                <a:moveTo>
                  <a:pt x="132" y="20"/>
                </a:moveTo>
                <a:cubicBezTo>
                  <a:pt x="68" y="116"/>
                  <a:pt x="152" y="0"/>
                  <a:pt x="72" y="80"/>
                </a:cubicBezTo>
                <a:cubicBezTo>
                  <a:pt x="62" y="90"/>
                  <a:pt x="59" y="107"/>
                  <a:pt x="48" y="116"/>
                </a:cubicBezTo>
                <a:cubicBezTo>
                  <a:pt x="38" y="124"/>
                  <a:pt x="23" y="122"/>
                  <a:pt x="12" y="128"/>
                </a:cubicBezTo>
                <a:cubicBezTo>
                  <a:pt x="7" y="131"/>
                  <a:pt x="4" y="136"/>
                  <a:pt x="0" y="14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6227640" y="6237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O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3"/>
          <p:cNvSpPr/>
          <p:nvPr/>
        </p:nvSpPr>
        <p:spPr>
          <a:xfrm>
            <a:off x="2340000" y="4637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5651640" y="4941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chsl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4427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J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6" descr="Fig-33"/>
          <p:cNvPicPr/>
          <p:nvPr/>
        </p:nvPicPr>
        <p:blipFill>
          <a:blip r:embed="rId1"/>
          <a:stretch/>
        </p:blipFill>
        <p:spPr>
          <a:xfrm>
            <a:off x="1042920" y="700200"/>
            <a:ext cx="7274160" cy="481464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7"/>
          <p:cNvSpPr/>
          <p:nvPr/>
        </p:nvSpPr>
        <p:spPr>
          <a:xfrm>
            <a:off x="1763640" y="1989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ichloridum mackenzi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804000" y="197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dospor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4788000" y="2997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oph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877080" y="3556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pol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1906560" y="5013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secaea pedroso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5508720" y="5084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phi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468360" y="476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nagement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haeophypho. &amp; Chromobla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755640" y="176220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 surgical excision of the lesion + Antifung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468360" y="3611520"/>
            <a:ext cx="828036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zoles </a:t>
            </a:r>
            <a:r>
              <a:rPr b="0" lang="en-US" sz="23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e.g. Voriconazole, Posaconazole)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spofungin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95280" y="1341360"/>
            <a:ext cx="58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468360" y="2338560"/>
            <a:ext cx="748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al phaeohypho:  Aspiration of Pus - Antifunga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900000" y="298620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hotericin B, 5-Fluorocytosine (5-FC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2627280" y="-17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orotrich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4920" y="1052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ymphocutaneous and subcutaneous granulomatous lesions -  suppurate, ulcerate.  The lesions are nodules or ulcers in local lympha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826920" y="4844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539640" y="2133720"/>
            <a:ext cx="482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s: extremities, joint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900000" y="322416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orphic, imperfect fungus  in trees, shrubs, plant deb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468360" y="4641840"/>
            <a:ext cx="849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3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Biopsy tissue,ulcerative materi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395280" y="620640"/>
            <a:ext cx="316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898560" y="250344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gricultural commun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468360" y="286380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539640" y="3645000"/>
            <a:ext cx="828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hrix schenckii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 in human tissue &amp; at 3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in culture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old in culture at room temperature with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lowerettes of conid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900000" y="5024520"/>
            <a:ext cx="82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mear      Finger-like yeast cells or Cigar      Some are oval.  Also asteroid bodies may be seen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4141800" y="5157720"/>
            <a:ext cx="287280" cy="227160"/>
          </a:xfrm>
          <a:prstGeom prst="rightArrow">
            <a:avLst>
              <a:gd name="adj1" fmla="val 50000"/>
              <a:gd name="adj2" fmla="val 3161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900000" y="5578560"/>
            <a:ext cx="7775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:  On SDA at room temperature to grow mold, and on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blood agar at 37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to grow y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539640" y="6226200"/>
            <a:ext cx="208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2124000" y="6226200"/>
            <a:ext cx="223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rin, K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755640" y="508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4" descr="Fig-40"/>
          <p:cNvPicPr/>
          <p:nvPr/>
        </p:nvPicPr>
        <p:blipFill>
          <a:blip r:embed="rId1"/>
          <a:stretch/>
        </p:blipFill>
        <p:spPr>
          <a:xfrm>
            <a:off x="4789440" y="2276640"/>
            <a:ext cx="2303640" cy="1630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5" descr="Fig-41"/>
          <p:cNvPicPr/>
          <p:nvPr/>
        </p:nvPicPr>
        <p:blipFill>
          <a:blip r:embed="rId2"/>
          <a:stretch/>
        </p:blipFill>
        <p:spPr>
          <a:xfrm>
            <a:off x="1619280" y="2546280"/>
            <a:ext cx="2663640" cy="124776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6"/>
          <p:cNvSpPr/>
          <p:nvPr/>
        </p:nvSpPr>
        <p:spPr>
          <a:xfrm>
            <a:off x="1762200" y="34844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3060720" y="3500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eroid b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4859280" y="242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9"/>
          <p:cNvSpPr/>
          <p:nvPr/>
        </p:nvSpPr>
        <p:spPr>
          <a:xfrm flipV="1">
            <a:off x="5724360" y="2565000"/>
            <a:ext cx="4302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1692360" y="3933720"/>
            <a:ext cx="27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linical specimen and in culture at 3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1"/>
          <p:cNvSpPr/>
          <p:nvPr/>
        </p:nvSpPr>
        <p:spPr>
          <a:xfrm>
            <a:off x="4716360" y="39337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d in culture at room temp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12"/>
          <p:cNvSpPr/>
          <p:nvPr/>
        </p:nvSpPr>
        <p:spPr>
          <a:xfrm>
            <a:off x="2843280" y="4869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hrix schenck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2268360" y="-171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1114560" y="1273320"/>
            <a:ext cx="77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ast growing, moniliaceous molds, nonseptate hyphae, per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684360" y="755640"/>
            <a:ext cx="748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caused by Zygomycete fungi of the orders Mucorales &amp; Entomophthorales.  Zygomycetes a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1332000" y="31104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= Phycomycos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2340000" y="1557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- Subcutaneous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2627280" y="170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 Entomophthoromyc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9"/>
          <p:cNvSpPr/>
          <p:nvPr/>
        </p:nvSpPr>
        <p:spPr>
          <a:xfrm>
            <a:off x="1114560" y="2276640"/>
            <a:ext cx="64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localized. Subcutaneous masses, cellul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10"/>
          <p:cNvSpPr/>
          <p:nvPr/>
        </p:nvSpPr>
        <p:spPr>
          <a:xfrm>
            <a:off x="755640" y="2565360"/>
            <a:ext cx="813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facial or other like Hand,Arm,Leg, thigh. Firm swelling of site with intact skin-Distor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11"/>
          <p:cNvSpPr/>
          <p:nvPr/>
        </p:nvSpPr>
        <p:spPr>
          <a:xfrm>
            <a:off x="1116000" y="3213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via nasal mucosa or insect bite, Cont. deb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12" descr="Fig-31"/>
          <p:cNvPicPr/>
          <p:nvPr/>
        </p:nvPicPr>
        <p:blipFill>
          <a:blip r:embed="rId1"/>
          <a:stretch/>
        </p:blipFill>
        <p:spPr>
          <a:xfrm>
            <a:off x="7667640" y="5445000"/>
            <a:ext cx="1152360" cy="63504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13"/>
          <p:cNvSpPr/>
          <p:nvPr/>
        </p:nvSpPr>
        <p:spPr>
          <a:xfrm>
            <a:off x="755640" y="3860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obolus coronatus, Basidiobolus ranarum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few mucorales. These are perfect fungi that form Sporangia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onidia)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Zygospor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14"/>
          <p:cNvSpPr/>
          <p:nvPr/>
        </p:nvSpPr>
        <p:spPr>
          <a:xfrm>
            <a:off x="1116000" y="494172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Biopsy tiss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15"/>
          <p:cNvSpPr/>
          <p:nvPr/>
        </p:nvSpPr>
        <p:spPr>
          <a:xfrm>
            <a:off x="755640" y="19890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7740720" y="602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755640" y="35733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18"/>
          <p:cNvSpPr/>
          <p:nvPr/>
        </p:nvSpPr>
        <p:spPr>
          <a:xfrm>
            <a:off x="755640" y="45813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755640" y="5300640"/>
            <a:ext cx="6985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will show  broad non-septate hyphae with eosinophi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0"/>
          <p:cNvSpPr/>
          <p:nvPr/>
        </p:nvSpPr>
        <p:spPr>
          <a:xfrm>
            <a:off x="755640" y="58104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o antifungals), fungi will grow fast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21"/>
          <p:cNvSpPr/>
          <p:nvPr/>
        </p:nvSpPr>
        <p:spPr>
          <a:xfrm>
            <a:off x="1116000" y="609768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etes are inhibited by Cyclohexim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22"/>
          <p:cNvSpPr/>
          <p:nvPr/>
        </p:nvSpPr>
        <p:spPr>
          <a:xfrm>
            <a:off x="755640" y="6442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23"/>
          <p:cNvSpPr/>
          <p:nvPr/>
        </p:nvSpPr>
        <p:spPr>
          <a:xfrm>
            <a:off x="2556000" y="6442200"/>
            <a:ext cx="46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 orally or KI + Ampho B or Septri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5" descr="basidi4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31417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7" descr="mucormycosis1"/>
          <p:cNvPicPr/>
          <p:nvPr/>
        </p:nvPicPr>
        <p:blipFill>
          <a:blip r:embed="rId2"/>
          <a:stretch/>
        </p:blipFill>
        <p:spPr>
          <a:xfrm>
            <a:off x="1763640" y="3402000"/>
            <a:ext cx="547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2556000" y="2602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7" name="Picture 5" descr="Fig-38"/>
          <p:cNvPicPr/>
          <p:nvPr/>
        </p:nvPicPr>
        <p:blipFill>
          <a:blip r:embed="rId1"/>
          <a:stretch/>
        </p:blipFill>
        <p:spPr>
          <a:xfrm>
            <a:off x="324000" y="1197000"/>
            <a:ext cx="8532720" cy="444816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6"/>
          <p:cNvSpPr/>
          <p:nvPr/>
        </p:nvSpPr>
        <p:spPr>
          <a:xfrm>
            <a:off x="5435640" y="2349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7"/>
          <p:cNvSpPr/>
          <p:nvPr/>
        </p:nvSpPr>
        <p:spPr>
          <a:xfrm>
            <a:off x="6156360" y="263700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5076720" y="2205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3492360" y="4005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427640" y="4221000"/>
            <a:ext cx="21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1"/>
          <p:cNvSpPr/>
          <p:nvPr/>
        </p:nvSpPr>
        <p:spPr>
          <a:xfrm>
            <a:off x="3203640" y="3860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900000" y="436572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obolus coron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13"/>
          <p:cNvSpPr/>
          <p:nvPr/>
        </p:nvSpPr>
        <p:spPr>
          <a:xfrm>
            <a:off x="4211640" y="521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diobolus ranar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2050920" y="-874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2193840" y="40320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- Rhinocerebral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3132000" y="765000"/>
            <a:ext cx="244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Mucoromycosi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684360" y="2138400"/>
            <a:ext cx="80992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acute, affects compromised host especially Diabetics with acidosis.  Opportunist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1044720" y="1778040"/>
            <a:ext cx="64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facial – orbital – crane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8"/>
          <p:cNvSpPr/>
          <p:nvPr/>
        </p:nvSpPr>
        <p:spPr>
          <a:xfrm>
            <a:off x="1042920" y="3208320"/>
            <a:ext cx="5327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ERY SERIOUS – ACUTE - FAT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684360" y="3927600"/>
            <a:ext cx="6624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growing Zygomycetes have Nonseptate hyphae of the Mucorales order maily;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0"/>
          <p:cNvSpPr/>
          <p:nvPr/>
        </p:nvSpPr>
        <p:spPr>
          <a:xfrm>
            <a:off x="1042920" y="285264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Via nasal mucos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1044720" y="459252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, Mucor,Absidia,Rhizomuco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thers.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 arrhiz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684360" y="5019840"/>
            <a:ext cx="785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e sexually and asexually forming Sporangia with sporangiospores &amp; Zyg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684360" y="105264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044720" y="141912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nasal sinusitis, orbital cellul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15"/>
          <p:cNvSpPr/>
          <p:nvPr/>
        </p:nvSpPr>
        <p:spPr>
          <a:xfrm>
            <a:off x="684360" y="356868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1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Image -1"/>
          <p:cNvPicPr/>
          <p:nvPr/>
        </p:nvPicPr>
        <p:blipFill>
          <a:blip r:embed="rId1"/>
          <a:stretch/>
        </p:blipFill>
        <p:spPr>
          <a:xfrm>
            <a:off x="684360" y="4649760"/>
            <a:ext cx="938160" cy="787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Image-2"/>
          <p:cNvPicPr/>
          <p:nvPr/>
        </p:nvPicPr>
        <p:blipFill>
          <a:blip r:embed="rId2"/>
          <a:stretch/>
        </p:blipFill>
        <p:spPr>
          <a:xfrm>
            <a:off x="2987640" y="464976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Image-3"/>
          <p:cNvPicPr/>
          <p:nvPr/>
        </p:nvPicPr>
        <p:blipFill>
          <a:blip r:embed="rId3"/>
          <a:stretch/>
        </p:blipFill>
        <p:spPr>
          <a:xfrm>
            <a:off x="5651640" y="4649760"/>
            <a:ext cx="3035160" cy="646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476280"/>
            <a:ext cx="770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x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Only mitotic cell divis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at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easts by bud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lds by hyphal fragmentation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)   Sporangiospores in sporan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)   Chlamydospores in or on hypha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)   Conidia (conidium) on hypha or on conidiophores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8200" y="5337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cni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987640" y="530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n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580000" y="530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doch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597800" y="530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vu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 flipH="1">
            <a:off x="2626920" y="1268280"/>
            <a:ext cx="576360" cy="14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2627280" y="1413000"/>
            <a:ext cx="64944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403280" y="-2700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production in Fun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332000" y="3357720"/>
            <a:ext cx="424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ypes of conidia like: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332000" y="3716280"/>
            <a:ext cx="748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spore, arthrospore, aleuriospore, sympodulospore…et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332000" y="4024440"/>
            <a:ext cx="388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xual reproductive structur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1692360" y="4637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oph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 flipV="1">
            <a:off x="1187280" y="494136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484360" y="4941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4356000" y="508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 flipH="1">
            <a:off x="4962600" y="4893840"/>
            <a:ext cx="861840" cy="28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3924360" y="4869000"/>
            <a:ext cx="7189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611280" y="5734080"/>
            <a:ext cx="813744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fect fungi = Deuteromycetes: Do not reproduce sexually or their  sexual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reproduction not know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ergillus, Fusarium, Candida</a:t>
            </a:r>
            <a:r>
              <a:rPr b="0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6804000" y="220500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5" descr="Image-10"/>
          <p:cNvPicPr/>
          <p:nvPr/>
        </p:nvPicPr>
        <p:blipFill>
          <a:blip r:embed="rId4"/>
          <a:stretch/>
        </p:blipFill>
        <p:spPr>
          <a:xfrm>
            <a:off x="4932360" y="3355920"/>
            <a:ext cx="2090880" cy="3589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2050920" y="-17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2193840" y="260280"/>
            <a:ext cx="65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- Rhinocerebral zygomycosis 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Mucoromycosi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611280" y="1703520"/>
            <a:ext cx="6769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no antifungal “Cycloheximide”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The   fungi will grow fast within 2-3 day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6"/>
          <p:cNvSpPr/>
          <p:nvPr/>
        </p:nvSpPr>
        <p:spPr>
          <a:xfrm>
            <a:off x="395280" y="469800"/>
            <a:ext cx="6840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88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971640" y="768240"/>
            <a:ext cx="52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Biopsy tiss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Picture 8" descr="Fig-32"/>
          <p:cNvPicPr/>
          <p:nvPr/>
        </p:nvPicPr>
        <p:blipFill>
          <a:blip r:embed="rId1"/>
          <a:stretch/>
        </p:blipFill>
        <p:spPr>
          <a:xfrm>
            <a:off x="7272360" y="696960"/>
            <a:ext cx="1763640" cy="877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9"/>
          <p:cNvSpPr/>
          <p:nvPr/>
        </p:nvSpPr>
        <p:spPr>
          <a:xfrm>
            <a:off x="7020000" y="1560600"/>
            <a:ext cx="187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e In clinical specime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611280" y="1136520"/>
            <a:ext cx="64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will show broad nonseptate hypha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1"/>
          <p:cNvSpPr/>
          <p:nvPr/>
        </p:nvSpPr>
        <p:spPr>
          <a:xfrm>
            <a:off x="395280" y="25588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12"/>
          <p:cNvSpPr/>
          <p:nvPr/>
        </p:nvSpPr>
        <p:spPr>
          <a:xfrm>
            <a:off x="395280" y="2862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ssive surgical debridement + Amphotericin B – other antifung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50920" y="32180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- Gastrointestinal (GI)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4"/>
          <p:cNvSpPr/>
          <p:nvPr/>
        </p:nvSpPr>
        <p:spPr>
          <a:xfrm>
            <a:off x="395280" y="3668760"/>
            <a:ext cx="87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chronic zygomycete infection affecting the GI., mainly liver and intestine.  The lesions are masses or abscesses in these si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5"/>
          <p:cNvSpPr/>
          <p:nvPr/>
        </p:nvSpPr>
        <p:spPr>
          <a:xfrm>
            <a:off x="395280" y="45752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bolus ranarum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maril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6"/>
          <p:cNvSpPr/>
          <p:nvPr/>
        </p:nvSpPr>
        <p:spPr>
          <a:xfrm>
            <a:off x="395280" y="5032440"/>
            <a:ext cx="8748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fine needle biops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 will show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e &amp; culture will grow the fung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AutoShape 17"/>
          <p:cNvSpPr/>
          <p:nvPr/>
        </p:nvSpPr>
        <p:spPr>
          <a:xfrm>
            <a:off x="4356000" y="508968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18"/>
          <p:cNvSpPr/>
          <p:nvPr/>
        </p:nvSpPr>
        <p:spPr>
          <a:xfrm>
            <a:off x="395280" y="5578560"/>
            <a:ext cx="8497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Medical with Itraconazole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sis is goo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19"/>
          <p:cNvSpPr/>
          <p:nvPr/>
        </p:nvSpPr>
        <p:spPr>
          <a:xfrm>
            <a:off x="5364000" y="57340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0"/>
          <p:cNvSpPr/>
          <p:nvPr/>
        </p:nvSpPr>
        <p:spPr>
          <a:xfrm>
            <a:off x="2124000" y="61405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- Pulmonary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21"/>
          <p:cNvSpPr/>
          <p:nvPr/>
        </p:nvSpPr>
        <p:spPr>
          <a:xfrm>
            <a:off x="395280" y="64422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chronic or acute.  Other aspects similar to mucoromycos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22"/>
          <p:cNvSpPr/>
          <p:nvPr/>
        </p:nvSpPr>
        <p:spPr>
          <a:xfrm>
            <a:off x="971640" y="228132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Dx &amp; action are essential to save life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23"/>
          <p:cNvSpPr/>
          <p:nvPr/>
        </p:nvSpPr>
        <p:spPr>
          <a:xfrm>
            <a:off x="395280" y="5877000"/>
            <a:ext cx="792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mucorales G.I. Zygo which acute &amp; Fatal. It is ra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24"/>
          <p:cNvSpPr/>
          <p:nvPr/>
        </p:nvSpPr>
        <p:spPr>
          <a:xfrm>
            <a:off x="395280" y="4221000"/>
            <a:ext cx="54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n in children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6 -12 -Year old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te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2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2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2556000" y="2602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5" descr="Fig-39"/>
          <p:cNvPicPr/>
          <p:nvPr/>
        </p:nvPicPr>
        <p:blipFill>
          <a:blip r:embed="rId1"/>
          <a:stretch/>
        </p:blipFill>
        <p:spPr>
          <a:xfrm>
            <a:off x="108000" y="836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6"/>
          <p:cNvSpPr/>
          <p:nvPr/>
        </p:nvSpPr>
        <p:spPr>
          <a:xfrm>
            <a:off x="34920" y="89208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5796000" y="1413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 flipV="1">
            <a:off x="4643280" y="155736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2268360" y="1700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ol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10"/>
          <p:cNvSpPr/>
          <p:nvPr/>
        </p:nvSpPr>
        <p:spPr>
          <a:xfrm flipH="1">
            <a:off x="2050920" y="198900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2484360" y="1989000"/>
            <a:ext cx="8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2"/>
          <p:cNvSpPr/>
          <p:nvPr/>
        </p:nvSpPr>
        <p:spPr>
          <a:xfrm>
            <a:off x="324000" y="19000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179280" y="27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Line 14"/>
          <p:cNvSpPr/>
          <p:nvPr/>
        </p:nvSpPr>
        <p:spPr>
          <a:xfrm>
            <a:off x="90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4643280" y="292428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16"/>
          <p:cNvSpPr/>
          <p:nvPr/>
        </p:nvSpPr>
        <p:spPr>
          <a:xfrm>
            <a:off x="2987640" y="6165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muc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17"/>
          <p:cNvSpPr/>
          <p:nvPr/>
        </p:nvSpPr>
        <p:spPr>
          <a:xfrm>
            <a:off x="4932360" y="6021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18"/>
          <p:cNvSpPr/>
          <p:nvPr/>
        </p:nvSpPr>
        <p:spPr>
          <a:xfrm>
            <a:off x="7524720" y="5661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Line 19"/>
          <p:cNvSpPr/>
          <p:nvPr/>
        </p:nvSpPr>
        <p:spPr>
          <a:xfrm>
            <a:off x="611280" y="119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2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22"/>
          <p:cNvSpPr/>
          <p:nvPr/>
        </p:nvSpPr>
        <p:spPr>
          <a:xfrm>
            <a:off x="1857240" y="14382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Nonseptate hyph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23"/>
          <p:cNvSpPr/>
          <p:nvPr/>
        </p:nvSpPr>
        <p:spPr>
          <a:xfrm>
            <a:off x="4500720" y="2428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porangioph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3"/>
          <p:cNvSpPr/>
          <p:nvPr/>
        </p:nvSpPr>
        <p:spPr>
          <a:xfrm>
            <a:off x="289080" y="719280"/>
            <a:ext cx="882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y infection caused b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Affecting compromised individual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stemic forms of this infection are opportunistic infe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755640" y="1522440"/>
            <a:ext cx="792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few occasions it is non opportun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linical manifestations vary from allergy to skin to systemic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1763640" y="-205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1044720" y="2421000"/>
            <a:ext cx="79200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lergic Aspergillos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6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6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llergic Bronchopulmonary Aspergillosis (ABPA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7"/>
          <p:cNvSpPr/>
          <p:nvPr/>
        </p:nvSpPr>
        <p:spPr>
          <a:xfrm>
            <a:off x="179280" y="1986120"/>
            <a:ext cx="2665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Type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1403280" y="3500280"/>
            <a:ext cx="583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gE antibodies present. In ABPA also I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9"/>
          <p:cNvSpPr/>
          <p:nvPr/>
        </p:nvSpPr>
        <p:spPr>
          <a:xfrm>
            <a:off x="1042920" y="3825720"/>
            <a:ext cx="792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lonizing aspergillos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=Aspergilloma = Aspergillus fungus 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ulmonary aspergilloma signs include:Cough,hemoptysis, variable f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0"/>
          <p:cNvSpPr/>
          <p:nvPr/>
        </p:nvSpPr>
        <p:spPr>
          <a:xfrm>
            <a:off x="1405080" y="4867200"/>
            <a:ext cx="7414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XR will show coin – like mass in the lu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1403280" y="5172120"/>
            <a:ext cx="741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will be a radiolucent crescent (=Monod’s sign = Grelot) over the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1042920" y="5634000"/>
            <a:ext cx="792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vasive Aspergillosis - pulmonar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1403280" y="5932440"/>
            <a:ext cx="74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s: Cough , hemoptysis, Fever, Pneumonia, Leukocyt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1042920" y="6275520"/>
            <a:ext cx="8029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b investigation  (direct microscopy and culture) may be nega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specially if specimen is noninvasive like spu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3"/>
          <p:cNvSpPr/>
          <p:nvPr/>
        </p:nvSpPr>
        <p:spPr>
          <a:xfrm>
            <a:off x="1692360" y="-1000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042920" y="692280"/>
            <a:ext cx="792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sinusitis (= Nasal-orbital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sal polyps – sinusitis – eye – craneum (Rhinocerebr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1042920" y="141300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st common cause is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flav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lso other fungi can cause sinusit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1042920" y="199224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ye infectio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neal ulcer – endophthalmit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1042920" y="23493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r infectio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itis externa – otitis media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1042920" y="278460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7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il &amp; skin infec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1042920" y="31449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8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xicosis due to ingestion of aflatoxi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1042920" y="350532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9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seminated form – rare, in debilitated pati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395280" y="3789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826920" y="422100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species of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It is a moniliaceous imperfect mold – Ubiquitous in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826920" y="4797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has hyaline septate hyphae, conidiospores with chains of unicellular coni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4"/>
          <p:cNvSpPr/>
          <p:nvPr/>
        </p:nvSpPr>
        <p:spPr>
          <a:xfrm>
            <a:off x="826920" y="53690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ommon species are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fumigat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flavus, A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iger, A.terre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AutoShape 15"/>
          <p:cNvSpPr/>
          <p:nvPr/>
        </p:nvSpPr>
        <p:spPr>
          <a:xfrm>
            <a:off x="3059280" y="1989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AutoShape 16"/>
          <p:cNvSpPr/>
          <p:nvPr/>
        </p:nvSpPr>
        <p:spPr>
          <a:xfrm>
            <a:off x="3059280" y="2349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7"/>
          <p:cNvSpPr/>
          <p:nvPr/>
        </p:nvSpPr>
        <p:spPr>
          <a:xfrm>
            <a:off x="1189080" y="6033960"/>
            <a:ext cx="792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erfect stage is: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tiu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pecies an Ascomycete fung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8" descr="Fig-52"/>
          <p:cNvPicPr/>
          <p:nvPr/>
        </p:nvPicPr>
        <p:blipFill>
          <a:blip r:embed="rId1"/>
          <a:stretch/>
        </p:blipFill>
        <p:spPr>
          <a:xfrm>
            <a:off x="6732720" y="3781440"/>
            <a:ext cx="2016000" cy="14619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19"/>
          <p:cNvSpPr/>
          <p:nvPr/>
        </p:nvSpPr>
        <p:spPr>
          <a:xfrm>
            <a:off x="6659640" y="3860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0"/>
          <p:cNvSpPr/>
          <p:nvPr/>
        </p:nvSpPr>
        <p:spPr>
          <a:xfrm>
            <a:off x="7380360" y="501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723600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Box 23"/>
          <p:cNvSpPr/>
          <p:nvPr/>
        </p:nvSpPr>
        <p:spPr>
          <a:xfrm>
            <a:off x="7786800" y="4367160"/>
            <a:ext cx="157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Conidiopho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3"/>
          <p:cNvSpPr/>
          <p:nvPr/>
        </p:nvSpPr>
        <p:spPr>
          <a:xfrm>
            <a:off x="1476360" y="-17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395280" y="3380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5"/>
          <p:cNvSpPr/>
          <p:nvPr/>
        </p:nvSpPr>
        <p:spPr>
          <a:xfrm>
            <a:off x="826920" y="6872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 Respiratory specimens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Sputum, bronchoscopic, Lung biopsy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Surgically removed Aspergilloma, Mass, Scrapings, Bloo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6"/>
          <p:cNvSpPr/>
          <p:nvPr/>
        </p:nvSpPr>
        <p:spPr>
          <a:xfrm>
            <a:off x="1187280" y="1268280"/>
            <a:ext cx="684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b. Investigations: Direct miroscopy – culture - se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826920" y="1833480"/>
            <a:ext cx="633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H, Giemsa, Grecott methenamine silver stain (G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8"/>
          <p:cNvSpPr/>
          <p:nvPr/>
        </p:nvSpPr>
        <p:spPr>
          <a:xfrm>
            <a:off x="826920" y="2133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iodic Acid Schiff (P.A.S); will show Septate hyphae with Dichotomous bran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9"/>
          <p:cNvSpPr/>
          <p:nvPr/>
        </p:nvSpPr>
        <p:spPr>
          <a:xfrm>
            <a:off x="826920" y="277488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 on SDA (no cycloheximide) fast growing – If nonsterile specimen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e.g. sputum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ule-out contaminant possibility by repeat spec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826920" y="3355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Primarily test for Antibody using Aspergillus polyvalent Ag, Aspergillys terreus Ag, Aspergillus nidulans 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826920" y="386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ing I.D (Immunodiffusion)and/or C.I.E (Counterimmunoelectrophoresis).SP-RIA (Solid phase radioimmunoassay) more sen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826920" y="5037120"/>
            <a:ext cx="5185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.I.A. test for Antigen is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826920" y="5373720"/>
            <a:ext cx="684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latex agglutination test availabl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468360" y="558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1640" y="5950080"/>
            <a:ext cx="684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rgical + Medical – Or Medical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971640" y="6261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ugs Used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mphotericin B, Liposomal Ampho. B, Itraconazole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Voriconazole, Caspofun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17" descr="Fig-53"/>
          <p:cNvPicPr/>
          <p:nvPr/>
        </p:nvPicPr>
        <p:blipFill>
          <a:blip r:embed="rId1"/>
          <a:stretch/>
        </p:blipFill>
        <p:spPr>
          <a:xfrm>
            <a:off x="7093080" y="1628640"/>
            <a:ext cx="1776240" cy="8859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18"/>
          <p:cNvSpPr/>
          <p:nvPr/>
        </p:nvSpPr>
        <p:spPr>
          <a:xfrm>
            <a:off x="7236000" y="2421000"/>
            <a:ext cx="1871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e with Dichotomous branc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0" name="Picture 19" descr="Fig-54"/>
          <p:cNvPicPr/>
          <p:nvPr/>
        </p:nvPicPr>
        <p:blipFill>
          <a:blip r:embed="rId2"/>
          <a:stretch/>
        </p:blipFill>
        <p:spPr>
          <a:xfrm>
            <a:off x="6875640" y="3860640"/>
            <a:ext cx="1368360" cy="118296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20"/>
          <p:cNvSpPr/>
          <p:nvPr/>
        </p:nvSpPr>
        <p:spPr>
          <a:xfrm>
            <a:off x="6877080" y="5084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D. Pl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21"/>
          <p:cNvSpPr/>
          <p:nvPr/>
        </p:nvSpPr>
        <p:spPr>
          <a:xfrm>
            <a:off x="8136000" y="3933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band identity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Line 22"/>
          <p:cNvSpPr/>
          <p:nvPr/>
        </p:nvSpPr>
        <p:spPr>
          <a:xfrm flipV="1">
            <a:off x="7236000" y="429228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23"/>
          <p:cNvSpPr/>
          <p:nvPr/>
        </p:nvSpPr>
        <p:spPr>
          <a:xfrm>
            <a:off x="826920" y="1557360"/>
            <a:ext cx="633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4"/>
          <p:cNvSpPr/>
          <p:nvPr/>
        </p:nvSpPr>
        <p:spPr>
          <a:xfrm>
            <a:off x="826920" y="4748040"/>
            <a:ext cx="6121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band identity lines will be seen in aspergill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2"/>
          <p:cNvSpPr/>
          <p:nvPr/>
        </p:nvSpPr>
        <p:spPr>
          <a:xfrm>
            <a:off x="1763640" y="369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neumocystos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4560" y="1925640"/>
            <a:ext cx="7561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interstitial pneumonia of the alveolar are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s include; Dyspnea. Cyan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 compromised h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specially common in AIDS pati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commonly known as PCP (should be P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5"/>
          <p:cNvSpPr/>
          <p:nvPr/>
        </p:nvSpPr>
        <p:spPr>
          <a:xfrm>
            <a:off x="755640" y="1330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fungal pneumoni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3"/>
          <p:cNvSpPr/>
          <p:nvPr/>
        </p:nvSpPr>
        <p:spPr>
          <a:xfrm>
            <a:off x="324000" y="6253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755640" y="1289160"/>
            <a:ext cx="7920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viously thought to be a protozoan parasit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5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has been proven to be a fungus based 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971640" y="1895400"/>
            <a:ext cx="468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1-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RNA studies – similar to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6"/>
          <p:cNvSpPr/>
          <p:nvPr/>
        </p:nvSpPr>
        <p:spPr>
          <a:xfrm>
            <a:off x="1547640" y="-921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neumocystos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1692360" y="692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cystis jirove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971640" y="2205000"/>
            <a:ext cx="777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2-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hitinase enzyme attacks the cell wall of the cyst  so it 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has chitin like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828720" y="278136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es not grow in media like SDA, othe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10"/>
          <p:cNvSpPr/>
          <p:nvPr/>
        </p:nvSpPr>
        <p:spPr>
          <a:xfrm>
            <a:off x="828720" y="3191040"/>
            <a:ext cx="7991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her species naturally found in rodents and other mammals.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. cariniii in rats.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umans contract it during childh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11"/>
          <p:cNvSpPr/>
          <p:nvPr/>
        </p:nvSpPr>
        <p:spPr>
          <a:xfrm>
            <a:off x="395280" y="4005360"/>
            <a:ext cx="83534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tient specimen: Bronchoscopic specimens </a:t>
            </a:r>
            <a:r>
              <a:rPr b="0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(B.A.L.)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utum, Lung biopsy tissu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logic sections or smears stained b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12"/>
          <p:cNvSpPr/>
          <p:nvPr/>
        </p:nvSpPr>
        <p:spPr>
          <a:xfrm>
            <a:off x="395280" y="5064120"/>
            <a:ext cx="6481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stai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GMS).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(+) there will be cysts of hat-shape, cup shape, crescent, parentheses, comm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3"/>
          <p:cNvSpPr/>
          <p:nvPr/>
        </p:nvSpPr>
        <p:spPr>
          <a:xfrm>
            <a:off x="826920" y="5850000"/>
            <a:ext cx="792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 be detected by specific antibod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4"/>
          <p:cNvSpPr/>
          <p:nvPr/>
        </p:nvSpPr>
        <p:spPr>
          <a:xfrm>
            <a:off x="468360" y="6165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Trimethoprim – sulfamethoxazole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septr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7130880" y="535608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ysts (4-5 </a:t>
            </a:r>
            <a:r>
              <a:rPr b="0" lang="el-GR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16" descr="Fig-51"/>
          <p:cNvPicPr/>
          <p:nvPr/>
        </p:nvPicPr>
        <p:blipFill>
          <a:blip r:embed="rId1"/>
          <a:stretch/>
        </p:blipFill>
        <p:spPr>
          <a:xfrm>
            <a:off x="7236000" y="4365720"/>
            <a:ext cx="909360" cy="106992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1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1835280" y="-17136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 (=Candidos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1114560" y="117468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s is any infection caused by any species of the yeast fungus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few other yeas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755640" y="7365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6"/>
          <p:cNvSpPr/>
          <p:nvPr/>
        </p:nvSpPr>
        <p:spPr>
          <a:xfrm>
            <a:off x="1116000" y="1889280"/>
            <a:ext cx="7632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onsidered opportunistic infection affecting compromised individu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7"/>
          <p:cNvSpPr/>
          <p:nvPr/>
        </p:nvSpPr>
        <p:spPr>
          <a:xfrm>
            <a:off x="1116000" y="2970360"/>
            <a:ext cx="77040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oung age and elderly, Cancer patients (Malignancies, Lymphoma, Leukemia), Broadspectrum antibacterial antibiotics, Altered immunit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S, Inheret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8"/>
          <p:cNvSpPr/>
          <p:nvPr/>
        </p:nvSpPr>
        <p:spPr>
          <a:xfrm>
            <a:off x="1116000" y="249228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disposing factor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9"/>
          <p:cNvSpPr/>
          <p:nvPr/>
        </p:nvSpPr>
        <p:spPr>
          <a:xfrm>
            <a:off x="1835280" y="233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(Old name Moniliasi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10"/>
          <p:cNvSpPr/>
          <p:nvPr/>
        </p:nvSpPr>
        <p:spPr>
          <a:xfrm>
            <a:off x="1116000" y="3789360"/>
            <a:ext cx="77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ertain drugs (steroids, immunosupressives, cytotoxi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1"/>
          <p:cNvSpPr/>
          <p:nvPr/>
        </p:nvSpPr>
        <p:spPr>
          <a:xfrm>
            <a:off x="1547640" y="415440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For Vaginitis, Pregnancy – B.C.P. – IUCD – Adult fe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2"/>
          <p:cNvSpPr/>
          <p:nvPr/>
        </p:nvSpPr>
        <p:spPr>
          <a:xfrm>
            <a:off x="1547640" y="4619520"/>
            <a:ext cx="7488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alnutrition &amp; Iron deficiencies, Diabetes, Dentures, Xerostomia, Intensive care patients &amp; other hospitalized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3"/>
          <p:cNvSpPr/>
          <p:nvPr/>
        </p:nvSpPr>
        <p:spPr>
          <a:xfrm>
            <a:off x="1116000" y="5445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rce of infection is Endogenous because Candida species are normal flora of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4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7451640" y="684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971640" y="-302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1116000" y="97776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ucocutaneous &amp; Cutaneou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755640" y="5396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types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1258920" y="1484280"/>
            <a:ext cx="7632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al thrush: White or grey Pseudomembranous patches on oral surfaces especially tongue with underlying erythema.  Common in neonates, infants, children, elderly, compromised host, AID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1260360" y="2421000"/>
            <a:ext cx="763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aper (Napkin) rash: Rash on groin of diapeer wearer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1258920" y="286380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ycotic vaginitis (vulvovaginitis) = vaginal thrus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1258920" y="3284640"/>
            <a:ext cx="756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6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Whitish or erythematous patches on vaginal mucos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1403280" y="4559400"/>
            <a:ext cx="7632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trigneous candidiasis: erythematous lesions on body skin folds. More seen in over weight individua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1403280" y="520848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onychea – Infection of tissue distal to nai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1403280" y="558972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ychomycosis:  Nail infection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1258920" y="3649680"/>
            <a:ext cx="756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6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ignes:  vaginal discharge (whitish-yellow) &amp; pruritu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1258920" y="393372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dult ladies especially pregnant, contraceptive users (B.C.P., IUCD), even virgin girls, Husbands may develop balanit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971640" y="-152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1116000" y="9777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pulmonary candidiasis: Bronchitis/Pneumonia in compromised host – Diagnosis diffic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403280" y="234936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rinary Tract Infection – 1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.f.u./ml ms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6"/>
          <p:cNvSpPr/>
          <p:nvPr/>
        </p:nvSpPr>
        <p:spPr>
          <a:xfrm>
            <a:off x="1332000" y="3416400"/>
            <a:ext cx="756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ransient candidemia (Yeast fungemia)-Only one (+)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7"/>
          <p:cNvSpPr/>
          <p:nvPr/>
        </p:nvSpPr>
        <p:spPr>
          <a:xfrm>
            <a:off x="1403280" y="306864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pticaemia: - Blood infection – more than one (+)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1403280" y="387180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ningitis in compromised hos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1403280" y="429264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docarditis in compromised hos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1116000" y="1773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 Other opportunistic systemic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1763640" y="2708280"/>
            <a:ext cx="6408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re seen in catheterized patie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324000" y="836640"/>
            <a:ext cx="882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usion, mitosis, mei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spore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ospore, Zygospore, Ascospore, Basidiosp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Image-4"/>
          <p:cNvPicPr/>
          <p:nvPr/>
        </p:nvPicPr>
        <p:blipFill>
          <a:blip r:embed="rId1"/>
          <a:stretch/>
        </p:blipFill>
        <p:spPr>
          <a:xfrm>
            <a:off x="1158840" y="2276640"/>
            <a:ext cx="2633760" cy="614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Image-6"/>
          <p:cNvPicPr/>
          <p:nvPr/>
        </p:nvPicPr>
        <p:blipFill>
          <a:blip r:embed="rId2"/>
          <a:stretch/>
        </p:blipFill>
        <p:spPr>
          <a:xfrm>
            <a:off x="5724360" y="2924280"/>
            <a:ext cx="2998800" cy="1438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Image-7"/>
          <p:cNvPicPr/>
          <p:nvPr/>
        </p:nvPicPr>
        <p:blipFill>
          <a:blip r:embed="rId3"/>
          <a:stretch/>
        </p:blipFill>
        <p:spPr>
          <a:xfrm>
            <a:off x="469800" y="4759200"/>
            <a:ext cx="3886200" cy="1185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mage-5"/>
          <p:cNvPicPr/>
          <p:nvPr/>
        </p:nvPicPr>
        <p:blipFill>
          <a:blip r:embed="rId4"/>
          <a:stretch/>
        </p:blipFill>
        <p:spPr>
          <a:xfrm>
            <a:off x="1187280" y="3282840"/>
            <a:ext cx="2664000" cy="719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/>
          <p:cNvSpPr/>
          <p:nvPr/>
        </p:nvSpPr>
        <p:spPr>
          <a:xfrm>
            <a:off x="2411280" y="292428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843280" y="2852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spor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003640" y="4365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c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6300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380360" y="44308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 flipH="1">
            <a:off x="5579640" y="3860640"/>
            <a:ext cx="576360" cy="576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H="1">
            <a:off x="6732720" y="378936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1836720" y="3925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1116000" y="465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oc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84472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203640" y="55832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1403280" y="5877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97164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Gi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5580000" y="5157720"/>
            <a:ext cx="331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Truffles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erfezia  &amp; Terma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6264360" y="46465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1836720" y="422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, Muc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4"/>
          <p:cNvSpPr/>
          <p:nvPr/>
        </p:nvSpPr>
        <p:spPr>
          <a:xfrm flipV="1">
            <a:off x="1187280" y="5013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3492360" y="5300640"/>
            <a:ext cx="4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26"/>
          <p:cNvSpPr/>
          <p:nvPr/>
        </p:nvSpPr>
        <p:spPr>
          <a:xfrm>
            <a:off x="2987640" y="573408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971640" y="6237360"/>
            <a:ext cx="5256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Mushrooms                &amp;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xis pistillar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garicus campestr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28"/>
          <p:cNvSpPr/>
          <p:nvPr/>
        </p:nvSpPr>
        <p:spPr>
          <a:xfrm flipV="1">
            <a:off x="1619280" y="5660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9"/>
          <p:cNvSpPr/>
          <p:nvPr/>
        </p:nvSpPr>
        <p:spPr>
          <a:xfrm flipH="1">
            <a:off x="327636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2"/>
          <p:cNvSpPr/>
          <p:nvPr/>
        </p:nvSpPr>
        <p:spPr>
          <a:xfrm>
            <a:off x="971640" y="3286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324000" y="9079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684360" y="139068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species of the genus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. Candida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s a yeast  fungus.  It is imperfect, reproducing asexually by budd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971640" y="2133720"/>
            <a:ext cx="7272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t has cream moist colony, Fast growing on Sabouraud Dextrose agar (SDA) and Blood aga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971640" y="2852640"/>
            <a:ext cx="7416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tructure on Cornmeal agar (CMA):  Budding yeast cells Pseudohyphae, and blastospor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8" descr="Fig-47"/>
          <p:cNvPicPr/>
          <p:nvPr/>
        </p:nvPicPr>
        <p:blipFill>
          <a:blip r:embed="rId1"/>
          <a:stretch/>
        </p:blipFill>
        <p:spPr>
          <a:xfrm>
            <a:off x="5146560" y="3789360"/>
            <a:ext cx="2881440" cy="1314360"/>
          </a:xfrm>
          <a:prstGeom prst="rect">
            <a:avLst/>
          </a:prstGeom>
          <a:ln w="0">
            <a:noFill/>
          </a:ln>
        </p:spPr>
      </p:pic>
      <p:sp>
        <p:nvSpPr>
          <p:cNvPr id="1083" name="Text Box 9"/>
          <p:cNvSpPr/>
          <p:nvPr/>
        </p:nvSpPr>
        <p:spPr>
          <a:xfrm>
            <a:off x="6012000" y="3340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7091280" y="334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5003640" y="3716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5940360" y="5013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MA 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13"/>
          <p:cNvSpPr/>
          <p:nvPr/>
        </p:nvSpPr>
        <p:spPr>
          <a:xfrm>
            <a:off x="5364000" y="393372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14"/>
          <p:cNvSpPr/>
          <p:nvPr/>
        </p:nvSpPr>
        <p:spPr>
          <a:xfrm>
            <a:off x="68770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15"/>
          <p:cNvSpPr/>
          <p:nvPr/>
        </p:nvSpPr>
        <p:spPr>
          <a:xfrm flipH="1">
            <a:off x="7453440" y="364500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6"/>
          <p:cNvSpPr/>
          <p:nvPr/>
        </p:nvSpPr>
        <p:spPr>
          <a:xfrm>
            <a:off x="971640" y="3573360"/>
            <a:ext cx="3313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t is part of the body flora &amp; other habita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17"/>
          <p:cNvSpPr/>
          <p:nvPr/>
        </p:nvSpPr>
        <p:spPr>
          <a:xfrm>
            <a:off x="755640" y="4292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are many species of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The common ones to cause infection are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glabrata, C.tropicalis, C.Krusei, C.parapsilos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1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971640" y="-2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250920" y="663480"/>
            <a:ext cx="864216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s the most common species to cause infection among all yeasts (causes about 50% to 60% of the cases),  therefore there are short-cut tests to identify it which are: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5"/>
          <p:cNvSpPr/>
          <p:nvPr/>
        </p:nvSpPr>
        <p:spPr>
          <a:xfrm>
            <a:off x="611280" y="16938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rm tube test  in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6"/>
          <p:cNvSpPr/>
          <p:nvPr/>
        </p:nvSpPr>
        <p:spPr>
          <a:xfrm>
            <a:off x="611280" y="2773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 Chlamydospore production in C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7"/>
          <p:cNvSpPr/>
          <p:nvPr/>
        </p:nvSpPr>
        <p:spPr>
          <a:xfrm>
            <a:off x="647640" y="364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Resistance to 500 </a:t>
            </a:r>
            <a:r>
              <a:rPr b="0" lang="el-G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/ml Cycloheximide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will grow on Mycobiotic Medi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8"/>
          <p:cNvSpPr/>
          <p:nvPr/>
        </p:nvSpPr>
        <p:spPr>
          <a:xfrm>
            <a:off x="395280" y="4149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these 3 are (+), yeast is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if not other yea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0" name="Picture 9" descr="Fig-50"/>
          <p:cNvPicPr/>
          <p:nvPr/>
        </p:nvPicPr>
        <p:blipFill>
          <a:blip r:embed="rId1"/>
          <a:stretch/>
        </p:blipFill>
        <p:spPr>
          <a:xfrm>
            <a:off x="5003640" y="1622520"/>
            <a:ext cx="1297080" cy="8222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0" descr="Fig-48"/>
          <p:cNvPicPr/>
          <p:nvPr/>
        </p:nvPicPr>
        <p:blipFill>
          <a:blip r:embed="rId2"/>
          <a:stretch/>
        </p:blipFill>
        <p:spPr>
          <a:xfrm>
            <a:off x="6443640" y="2486160"/>
            <a:ext cx="1657440" cy="874440"/>
          </a:xfrm>
          <a:prstGeom prst="rect">
            <a:avLst/>
          </a:prstGeom>
          <a:ln w="0">
            <a:noFill/>
          </a:ln>
        </p:spPr>
      </p:pic>
      <p:sp>
        <p:nvSpPr>
          <p:cNvPr id="1102" name="Text Box 11"/>
          <p:cNvSpPr/>
          <p:nvPr/>
        </p:nvSpPr>
        <p:spPr>
          <a:xfrm>
            <a:off x="395280" y="45291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test to identify any yeast in the clinical lab. is Carbohydrate assimilations. There are commercial kits available for this like: API 20C, ID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431640" y="5805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easts other than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that may cause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ia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clude: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ccharomyces cerevisiae, Trichosporon beigelii, Rhodotorul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6516720" y="20541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amydospo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Line 15"/>
          <p:cNvSpPr/>
          <p:nvPr/>
        </p:nvSpPr>
        <p:spPr>
          <a:xfrm>
            <a:off x="7380360" y="23414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6516720" y="33498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C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5508720" y="1262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.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Line 18"/>
          <p:cNvSpPr/>
          <p:nvPr/>
        </p:nvSpPr>
        <p:spPr>
          <a:xfrm>
            <a:off x="5724360" y="14778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5003640" y="2414520"/>
            <a:ext cx="15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 tube tes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971640" y="-2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539640" y="55260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900000" y="112860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 obtained depend on site of infec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1260360" y="1488960"/>
            <a:ext cx="6191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wabs, Urine, Blood, Respiratory specimens, CSF, Blood for serology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If availabl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900000" y="225900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the Lab. Direct microscopy (D.M.), culture &amp; Serolog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900000" y="264168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. If (+) Pseudohyphae and budding yeast cells will be seen in stained smear or KO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9"/>
          <p:cNvSpPr/>
          <p:nvPr/>
        </p:nvSpPr>
        <p:spPr>
          <a:xfrm>
            <a:off x="3852720" y="184932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900000" y="449100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 &amp; Blood agar at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, If (+) creamy moist colonies in 24 - 48 hour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900000" y="5140440"/>
            <a:ext cx="597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: GTT, Chlamydospore, Cycloheximide, Carbohydrate assimila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900000" y="5716440"/>
            <a:ext cx="80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patient serum:  test for Ag (Mannan, enolase, proteinase) or Ab.Use Immunodiffusion (I.D) or  Counterimmunoelectrophoresis (C.I.E.).  Also latex agglutination t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2" name="Picture 13" descr="Fig-49"/>
          <p:cNvPicPr/>
          <p:nvPr/>
        </p:nvPicPr>
        <p:blipFill>
          <a:blip r:embed="rId1"/>
          <a:stretch/>
        </p:blipFill>
        <p:spPr>
          <a:xfrm>
            <a:off x="4572000" y="3218040"/>
            <a:ext cx="1584360" cy="86328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14"/>
          <p:cNvSpPr/>
          <p:nvPr/>
        </p:nvSpPr>
        <p:spPr>
          <a:xfrm>
            <a:off x="5148360" y="29289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15"/>
          <p:cNvSpPr/>
          <p:nvPr/>
        </p:nvSpPr>
        <p:spPr>
          <a:xfrm>
            <a:off x="5508720" y="3218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6229440" y="35053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17"/>
          <p:cNvSpPr/>
          <p:nvPr/>
        </p:nvSpPr>
        <p:spPr>
          <a:xfrm flipV="1">
            <a:off x="5581800" y="3720960"/>
            <a:ext cx="9349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4572000" y="40100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linical specimen (Direct Microscop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971640" y="3286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"/>
          <p:cNvSpPr/>
          <p:nvPr/>
        </p:nvSpPr>
        <p:spPr>
          <a:xfrm>
            <a:off x="539640" y="98568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"/>
          <p:cNvSpPr/>
          <p:nvPr/>
        </p:nvSpPr>
        <p:spPr>
          <a:xfrm>
            <a:off x="900000" y="1484280"/>
            <a:ext cx="8244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 Topical Nystatin suspension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otrimazole troches (Lozenges),Miconazole, Fluconazole suspens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6"/>
          <p:cNvSpPr/>
          <p:nvPr/>
        </p:nvSpPr>
        <p:spPr>
          <a:xfrm>
            <a:off x="900000" y="249228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aginitis: Topical; Miconazole, Clotrimazole, Nystati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900000" y="2924280"/>
            <a:ext cx="7128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 Rx: Amphotericin B, Liposomal amphotericin B, Fluconazole, Caspofungin, Voriconazo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8"/>
          <p:cNvSpPr/>
          <p:nvPr/>
        </p:nvSpPr>
        <p:spPr>
          <a:xfrm>
            <a:off x="900000" y="376884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resistant to Rx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equest antifungal sensitivity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AutoShape 9"/>
          <p:cNvSpPr/>
          <p:nvPr/>
        </p:nvSpPr>
        <p:spPr>
          <a:xfrm>
            <a:off x="3276720" y="378936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2"/>
          <p:cNvSpPr/>
          <p:nvPr/>
        </p:nvSpPr>
        <p:spPr>
          <a:xfrm>
            <a:off x="2268360" y="507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ryptococ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1114560" y="1052640"/>
            <a:ext cx="77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, caused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116000" y="1413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eal (cryptococcal meningitis) and / or Pulmon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6"/>
          <p:cNvSpPr/>
          <p:nvPr/>
        </p:nvSpPr>
        <p:spPr>
          <a:xfrm>
            <a:off x="755640" y="2852640"/>
            <a:ext cx="597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rue Y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755640" y="692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755640" y="2554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9"/>
          <p:cNvSpPr/>
          <p:nvPr/>
        </p:nvSpPr>
        <p:spPr>
          <a:xfrm>
            <a:off x="1116000" y="17733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ffects compromised ho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1116000" y="21384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infection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d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828720" y="5084640"/>
            <a:ext cx="792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 stage i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obasidiella neoforma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ich is a Basidiomyce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12"/>
          <p:cNvSpPr/>
          <p:nvPr/>
        </p:nvSpPr>
        <p:spPr>
          <a:xfrm>
            <a:off x="1187280" y="371628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ue yeast with encapsulated yeast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13"/>
          <p:cNvSpPr/>
          <p:nvPr/>
        </p:nvSpPr>
        <p:spPr>
          <a:xfrm>
            <a:off x="1187280" y="335772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coid yellowish colonies on S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1187280" y="4149720"/>
            <a:ext cx="7956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turally in Pigeon habitats-it is urease (+) has melanin pig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 Box 15"/>
          <p:cNvSpPr/>
          <p:nvPr/>
        </p:nvSpPr>
        <p:spPr>
          <a:xfrm>
            <a:off x="1187280" y="4508640"/>
            <a:ext cx="77058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produces phenol oxidase / hence forms chocolate colonies on Caffeic acid / Bird seed agar 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16" descr="Fig-44"/>
          <p:cNvPicPr/>
          <p:nvPr/>
        </p:nvPicPr>
        <p:blipFill>
          <a:blip r:embed="rId1"/>
          <a:stretch/>
        </p:blipFill>
        <p:spPr>
          <a:xfrm>
            <a:off x="6300720" y="3500280"/>
            <a:ext cx="935280" cy="61128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1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3"/>
          <p:cNvSpPr/>
          <p:nvPr/>
        </p:nvSpPr>
        <p:spPr>
          <a:xfrm>
            <a:off x="1042920" y="1557360"/>
            <a:ext cx="77770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- India ink (Or Nigrosin negative stain) will show encapsulated budding yeast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Or stained sm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Lunar cells may be seen in tissue (=Crescent ce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84360" y="1125360"/>
            <a:ext cx="82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pecimens: C.S.F. / Body fluids / tissu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547640" y="33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ryptococcosi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 Box 6"/>
          <p:cNvSpPr/>
          <p:nvPr/>
        </p:nvSpPr>
        <p:spPr>
          <a:xfrm>
            <a:off x="1044720" y="307332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 on SDA – BHI-A at 37</a:t>
            </a:r>
            <a:r>
              <a:rPr b="0" lang="en-US" sz="2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will grow fast 1-2 day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1042920" y="3433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 -  Latex agglutination – Rap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042920" y="3789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D. /C.I.E. tests for antibodies; Cross reactivity with Rhumatoid factor (RF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684360" y="449892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Amphotericin B – and 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. Other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Picture 10" descr="Fig-45"/>
          <p:cNvPicPr/>
          <p:nvPr/>
        </p:nvPicPr>
        <p:blipFill>
          <a:blip r:embed="rId1"/>
          <a:stretch/>
        </p:blipFill>
        <p:spPr>
          <a:xfrm>
            <a:off x="5076720" y="2133720"/>
            <a:ext cx="1177920" cy="522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1" descr="Fig-46"/>
          <p:cNvPicPr/>
          <p:nvPr/>
        </p:nvPicPr>
        <p:blipFill>
          <a:blip r:embed="rId2"/>
          <a:stretch/>
        </p:blipFill>
        <p:spPr>
          <a:xfrm>
            <a:off x="7812000" y="2421000"/>
            <a:ext cx="935280" cy="590400"/>
          </a:xfrm>
          <a:prstGeom prst="rect">
            <a:avLst/>
          </a:prstGeom>
          <a:ln w="0">
            <a:noFill/>
          </a:ln>
        </p:spPr>
      </p:pic>
      <p:sp>
        <p:nvSpPr>
          <p:cNvPr id="1163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3"/>
          <p:cNvSpPr/>
          <p:nvPr/>
        </p:nvSpPr>
        <p:spPr>
          <a:xfrm>
            <a:off x="684360" y="1203480"/>
            <a:ext cx="784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 usually pulmonar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1476360" y="5540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ichosporo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 Box 5"/>
          <p:cNvSpPr/>
          <p:nvPr/>
        </p:nvSpPr>
        <p:spPr>
          <a:xfrm>
            <a:off x="684360" y="1635120"/>
            <a:ext cx="845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 is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 beigelii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6"/>
          <p:cNvSpPr/>
          <p:nvPr/>
        </p:nvSpPr>
        <p:spPr>
          <a:xfrm>
            <a:off x="1116000" y="2066760"/>
            <a:ext cx="7632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ulture: Yeast with Pseudohyphae, arthrospores and blastspores. It is urease (+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7"/>
          <p:cNvSpPr/>
          <p:nvPr/>
        </p:nvSpPr>
        <p:spPr>
          <a:xfrm>
            <a:off x="684360" y="4011480"/>
            <a:ext cx="712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, usually pulmonary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684360" y="444348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 i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trichum candidu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1044720" y="4933800"/>
            <a:ext cx="7559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ulture:   Pseudohyphae, hyphae &amp; arthrospores.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10"/>
          <p:cNvSpPr/>
          <p:nvPr/>
        </p:nvSpPr>
        <p:spPr>
          <a:xfrm>
            <a:off x="684360" y="565632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Amphotericin B – other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11"/>
          <p:cNvSpPr/>
          <p:nvPr/>
        </p:nvSpPr>
        <p:spPr>
          <a:xfrm>
            <a:off x="1116000" y="2787480"/>
            <a:ext cx="80280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linical specimen:  budding yeast cells and Pseudohypha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12"/>
          <p:cNvSpPr/>
          <p:nvPr/>
        </p:nvSpPr>
        <p:spPr>
          <a:xfrm>
            <a:off x="1042920" y="5307120"/>
            <a:ext cx="7850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linical specimen: Pseudohyphae and budding yeast cell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13"/>
          <p:cNvSpPr/>
          <p:nvPr/>
        </p:nvSpPr>
        <p:spPr>
          <a:xfrm>
            <a:off x="1403280" y="34354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eotric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14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2"/>
          <p:cNvSpPr/>
          <p:nvPr/>
        </p:nvSpPr>
        <p:spPr>
          <a:xfrm>
            <a:off x="1692360" y="2667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ry Systemic Myc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 Box 3"/>
          <p:cNvSpPr/>
          <p:nvPr/>
        </p:nvSpPr>
        <p:spPr>
          <a:xfrm>
            <a:off x="395280" y="1268280"/>
            <a:ext cx="835344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se are primary fungal infections.  They do not require risk factors to occur.  They affect normal and compromised subj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y start as respiratory diseases, and if not cured, they disseminate to other body sites like:  bone, skin and subcutaneous tissues, central nervous system, bone marrow, …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racted by inhalation of fungal elements in du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ptoms include flue signs initially, then fever, cough, chest pain, loss of weight, night sweats –other signs of sites they disseminate 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"/>
          <p:cNvSpPr/>
          <p:nvPr/>
        </p:nvSpPr>
        <p:spPr>
          <a:xfrm>
            <a:off x="1692360" y="2667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ry Systemic Mycoses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395280" y="1379520"/>
            <a:ext cx="8497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on in North America and to a lesser extent South America.  Not common in other parts of the Worl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iologies are dimorphic fungi. In nature found in soil of restricted habita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ugs of choice for treatment:  Amphotericin B, Liposomal amphotericin B,Voriconazole, Caspofungin, other new antifung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y include:  Blastomycosis, Histoplasmosi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ccidioidomycosis, and Paracoccidioidomycos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1692360" y="-223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ast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395280" y="836640"/>
            <a:ext cx="835344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neral statements about the primary systemics apply to this infec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ulmonary form is progressive, and if not treated it disseminates to skin, subcutaneous tissue, bone, central nervous system (CNS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466560" y="2997360"/>
            <a:ext cx="835344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es dermatitid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mold in nature and in-culture at ≤30</a:t>
            </a:r>
            <a:r>
              <a:rPr b="0" lang="en-US" sz="23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But yeast in human body and in-culture at 37</a:t>
            </a:r>
            <a:r>
              <a:rPr b="0" lang="en-US" sz="23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mold is white w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eptate hyphae and lateral unicellular coni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yeast cells are large 8-15</a:t>
            </a:r>
            <a:r>
              <a:rPr b="0" lang="el-GR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with broad-base attachment of bud to mother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n nature, it is present in soil rich in organic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7596360" y="609300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Picture 8" descr="Fig (Yeast Phase)"/>
          <p:cNvPicPr/>
          <p:nvPr/>
        </p:nvPicPr>
        <p:blipFill>
          <a:blip r:embed="rId1"/>
          <a:stretch/>
        </p:blipFill>
        <p:spPr>
          <a:xfrm>
            <a:off x="7093080" y="5300640"/>
            <a:ext cx="1555560" cy="7761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9" descr="Fig (Mold Phase)"/>
          <p:cNvPicPr/>
          <p:nvPr/>
        </p:nvPicPr>
        <p:blipFill>
          <a:blip r:embed="rId2"/>
          <a:stretch/>
        </p:blipFill>
        <p:spPr>
          <a:xfrm>
            <a:off x="6443640" y="4292640"/>
            <a:ext cx="1655640" cy="78912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10"/>
          <p:cNvSpPr/>
          <p:nvPr/>
        </p:nvSpPr>
        <p:spPr>
          <a:xfrm>
            <a:off x="7885080" y="4292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Line 11"/>
          <p:cNvSpPr/>
          <p:nvPr/>
        </p:nvSpPr>
        <p:spPr>
          <a:xfrm flipH="1">
            <a:off x="7667280" y="4508640"/>
            <a:ext cx="289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6948360" y="486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96720" y="112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roups of Fungal Infe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466560" y="1557360"/>
            <a:ext cx="7201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ficial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nomycetous Infec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2"/>
          <p:cNvSpPr/>
          <p:nvPr/>
        </p:nvSpPr>
        <p:spPr>
          <a:xfrm>
            <a:off x="1692360" y="-223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astomycosis </a:t>
            </a:r>
            <a:r>
              <a:rPr b="1" lang="en-US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466560" y="1141560"/>
            <a:ext cx="8353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fect stage of the fungus has been discovered and it is an ascomycete reproduce sexually forming ascospores. Named,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jellomyces dermatitid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6"/>
          <p:cNvSpPr/>
          <p:nvPr/>
        </p:nvSpPr>
        <p:spPr>
          <a:xfrm>
            <a:off x="466560" y="2517840"/>
            <a:ext cx="83534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respiratory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sputum,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ronchoscopic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biopsy tissue from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, blood for ser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Yeast cells with broad-base bud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, blood agar, BHI-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 ≤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ld;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Y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using known A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lastomyc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hods:  I.D, C.I.E, complement fixation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F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cross-reactivity with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mentioned in the general statement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7"/>
          <p:cNvSpPr/>
          <p:nvPr/>
        </p:nvSpPr>
        <p:spPr>
          <a:xfrm>
            <a:off x="3492360" y="472428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5724360" y="472428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Box 2"/>
          <p:cNvSpPr/>
          <p:nvPr/>
        </p:nvSpPr>
        <p:spPr>
          <a:xfrm>
            <a:off x="1476360" y="-936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</a:t>
            </a:r>
            <a:r>
              <a:rPr b="1" lang="en-US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395280" y="620640"/>
            <a:ext cx="84978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intracellular infection of the reticuloendothelial system (RES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rts as respiratory- could be self-limit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ulmonary form similar to tuberculosis – there is caseation and fibrosis.  Disseminates to RES (liver, spleen, bone marrow …. Macrophages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en more in U.S.A., reported from other parts of the Worl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plasma capsulat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ld in nature and in culture at ≤30</a:t>
            </a:r>
            <a:r>
              <a:rPr b="0" lang="en-US" sz="21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east in human body and in culture at 37</a:t>
            </a:r>
            <a:r>
              <a:rPr b="0" lang="en-US" sz="21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re are two varieties of the species, differing mainly in the yeast phase and having same mold phase.  These varieties ar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H.cap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. var. </a:t>
            </a: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apsulatum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; Has small (2-3 x 3-4 </a:t>
            </a:r>
            <a:r>
              <a:rPr b="0" lang="el-GR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) oval yeast cells.  Causes the usual histoplasmosi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H.cap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. var. </a:t>
            </a: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duboisii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; Has large yeast cells (7-15</a:t>
            </a:r>
            <a:r>
              <a:rPr b="0" lang="el-GR" sz="2100" spc="-1" strike="noStrike">
                <a:solidFill>
                  <a:srgbClr val="ccffcc"/>
                </a:solidFill>
                <a:latin typeface="Arial"/>
                <a:ea typeface="Arial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Arial"/>
                <a:ea typeface="Arial"/>
              </a:rPr>
              <a:t>m), causes 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African histoplasmosi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1476360" y="44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 (Continu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95280" y="1012680"/>
            <a:ext cx="84978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ld phase has white colonies, septate hyphae, produces two types of conidia; Tuberculated macroconidia (8-14</a:t>
            </a:r>
            <a:r>
              <a:rPr b="0" lang="el-GR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), and smooth microconidia (2-5 </a:t>
            </a:r>
            <a:r>
              <a:rPr b="0" lang="el-GR" sz="2100" spc="-1" strike="noStrike">
                <a:solidFill>
                  <a:srgbClr val="ffffcc"/>
                </a:solidFill>
                <a:latin typeface="Arial"/>
                <a:ea typeface="Arial"/>
              </a:rPr>
              <a:t>μ</a:t>
            </a:r>
            <a:r>
              <a:rPr b="0" lang="en-US" sz="2100" spc="-1" strike="noStrike">
                <a:solidFill>
                  <a:srgbClr val="ffffcc"/>
                </a:solidFill>
                <a:latin typeface="Arial"/>
                <a:ea typeface="Arial"/>
              </a:rPr>
              <a:t>m).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6"/>
          <p:cNvSpPr/>
          <p:nvPr/>
        </p:nvSpPr>
        <p:spPr>
          <a:xfrm>
            <a:off x="468360" y="4235400"/>
            <a:ext cx="849780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atural habitat of the fungus is specific soils rich in animal excreta especially bat guano and droppings of certain birds.  Because caves harbor bats – Thus called “Cave Disease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erfect stage of the fungus has been known; it is ascomycete producing ascospores sexually called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jellomyces capsulatu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Picture 7" descr="Fig-58 (Coccidioides Immitis)"/>
          <p:cNvPicPr/>
          <p:nvPr/>
        </p:nvPicPr>
        <p:blipFill>
          <a:blip r:embed="rId1"/>
          <a:stretch/>
        </p:blipFill>
        <p:spPr>
          <a:xfrm>
            <a:off x="719280" y="2112840"/>
            <a:ext cx="7956360" cy="189252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8"/>
          <p:cNvSpPr/>
          <p:nvPr/>
        </p:nvSpPr>
        <p:spPr>
          <a:xfrm>
            <a:off x="4500720" y="2205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rculated macro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5724360" y="256392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10"/>
          <p:cNvSpPr/>
          <p:nvPr/>
        </p:nvSpPr>
        <p:spPr>
          <a:xfrm>
            <a:off x="7236000" y="319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11"/>
          <p:cNvSpPr/>
          <p:nvPr/>
        </p:nvSpPr>
        <p:spPr>
          <a:xfrm>
            <a:off x="7451640" y="306864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 Box 12"/>
          <p:cNvSpPr/>
          <p:nvPr/>
        </p:nvSpPr>
        <p:spPr>
          <a:xfrm>
            <a:off x="3419640" y="34164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var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971640" y="34164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v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14"/>
          <p:cNvSpPr/>
          <p:nvPr/>
        </p:nvSpPr>
        <p:spPr>
          <a:xfrm>
            <a:off x="6084720" y="3559320"/>
            <a:ext cx="22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a capsulat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 Box 2"/>
          <p:cNvSpPr/>
          <p:nvPr/>
        </p:nvSpPr>
        <p:spPr>
          <a:xfrm>
            <a:off x="1476360" y="921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 (Continu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395280" y="101268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1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Respiratory, biopsy tissue of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affected site, blood, bone marrow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6"/>
          <p:cNvSpPr/>
          <p:nvPr/>
        </p:nvSpPr>
        <p:spPr>
          <a:xfrm>
            <a:off x="468360" y="1714680"/>
            <a:ext cx="849780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Intracellular yeast cells in macrophages – small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for var.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psul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and large for var.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uboisii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, BHI-A, BHI-A-blood 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biphasic medium)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Incubate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 3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Slow growth for primary isolation- may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ke week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Test for Ab in patient serum using known Ag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Histoplasmin Ag, H and M Ags.)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using I.D., C.I.E, C.F. 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cross reactivit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mentioned in the general statement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 Box 2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395280" y="149688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as respiratory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ould be self limi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826920" y="55832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468360" y="1857240"/>
            <a:ext cx="84978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pulmonary not cured – It may dissemi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demic in Southwestern U.S.A. (Southern California, and Arizona), where it is known as Valley fever, children summer sickness and      adults fl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rely seen out of Ame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468360" y="351324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 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es immit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468360" y="4017960"/>
            <a:ext cx="849780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old in nature and in culture at ≤30</a:t>
            </a:r>
            <a:r>
              <a:rPr b="0" lang="en-US" sz="2100" spc="-1" strike="noStrike" baseline="30000">
                <a:solidFill>
                  <a:srgbClr val="cc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other phase is spherules with endospores in human body and in modified converse medium at 37</a:t>
            </a:r>
            <a:r>
              <a:rPr b="0" lang="en-US" sz="2100" spc="-1" strike="noStrike" baseline="30000">
                <a:solidFill>
                  <a:srgbClr val="cc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2" descr="Fig-57 (Tuberculated)"/>
          <p:cNvPicPr/>
          <p:nvPr/>
        </p:nvPicPr>
        <p:blipFill>
          <a:blip r:embed="rId1"/>
          <a:stretch/>
        </p:blipFill>
        <p:spPr>
          <a:xfrm>
            <a:off x="684360" y="3016080"/>
            <a:ext cx="7632720" cy="235764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3"/>
          <p:cNvSpPr/>
          <p:nvPr/>
        </p:nvSpPr>
        <p:spPr>
          <a:xfrm>
            <a:off x="6659640" y="45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e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4"/>
          <p:cNvSpPr/>
          <p:nvPr/>
        </p:nvSpPr>
        <p:spPr>
          <a:xfrm>
            <a:off x="5724360" y="3278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"/>
          <p:cNvSpPr/>
          <p:nvPr/>
        </p:nvSpPr>
        <p:spPr>
          <a:xfrm>
            <a:off x="6588000" y="3645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6"/>
          <p:cNvSpPr/>
          <p:nvPr/>
        </p:nvSpPr>
        <p:spPr>
          <a:xfrm flipH="1">
            <a:off x="7164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3132000" y="5006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414036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es imm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 Box 9"/>
          <p:cNvSpPr/>
          <p:nvPr/>
        </p:nvSpPr>
        <p:spPr>
          <a:xfrm>
            <a:off x="2484360" y="31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0"/>
          <p:cNvSpPr/>
          <p:nvPr/>
        </p:nvSpPr>
        <p:spPr>
          <a:xfrm flipH="1">
            <a:off x="2771280" y="350028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1"/>
          <p:cNvSpPr/>
          <p:nvPr/>
        </p:nvSpPr>
        <p:spPr>
          <a:xfrm>
            <a:off x="284328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 Box 12"/>
          <p:cNvSpPr/>
          <p:nvPr/>
        </p:nvSpPr>
        <p:spPr>
          <a:xfrm>
            <a:off x="3851280" y="3925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ctor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Line 13"/>
          <p:cNvSpPr/>
          <p:nvPr/>
        </p:nvSpPr>
        <p:spPr>
          <a:xfrm>
            <a:off x="385128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14"/>
          <p:cNvSpPr/>
          <p:nvPr/>
        </p:nvSpPr>
        <p:spPr>
          <a:xfrm>
            <a:off x="468360" y="790560"/>
            <a:ext cx="84978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atural habitat of the fungus is soil in rodent-burrows or around them in hot dry deser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mold phase has white colonies with septate hyphae.  It produces berrel-shape arthrospores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2.5 - 4 x 3 - 6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)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that alternate with disjunctor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spherule phase will have large spherules (30-60 </a:t>
            </a:r>
            <a:r>
              <a:rPr b="0" lang="el-GR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) upon maturity with en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15"/>
          <p:cNvSpPr/>
          <p:nvPr/>
        </p:nvSpPr>
        <p:spPr>
          <a:xfrm>
            <a:off x="1332000" y="1634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1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1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 Box 2"/>
          <p:cNvSpPr/>
          <p:nvPr/>
        </p:nvSpPr>
        <p:spPr>
          <a:xfrm>
            <a:off x="1258920" y="921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3"/>
          <p:cNvSpPr/>
          <p:nvPr/>
        </p:nvSpPr>
        <p:spPr>
          <a:xfrm>
            <a:off x="324000" y="80316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 Respiratory (Sputum,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scopic), biopsy  tissue from site of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, blood for serology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5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 Box 6"/>
          <p:cNvSpPr/>
          <p:nvPr/>
        </p:nvSpPr>
        <p:spPr>
          <a:xfrm>
            <a:off x="395280" y="1998720"/>
            <a:ext cx="874872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Presence of spherules, mature spherules with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en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ows readily on SDA at room-temperature or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On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dified converse medium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reduced oxygen the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herules will be produced readi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in patient serum using known Ag (Coccidioidin Ag)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Methods include C.F., Tube precipitin test, I.D, and C.I.E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erology is good-rising titer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Infection.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lining titer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remi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general state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AutoShape 7"/>
          <p:cNvSpPr/>
          <p:nvPr/>
        </p:nvSpPr>
        <p:spPr>
          <a:xfrm>
            <a:off x="5508720" y="407664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AutoShape 8"/>
          <p:cNvSpPr/>
          <p:nvPr/>
        </p:nvSpPr>
        <p:spPr>
          <a:xfrm>
            <a:off x="3995640" y="436572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10"/>
          <p:cNvSpPr/>
          <p:nvPr/>
        </p:nvSpPr>
        <p:spPr>
          <a:xfrm>
            <a:off x="752328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2"/>
          <p:cNvSpPr/>
          <p:nvPr/>
        </p:nvSpPr>
        <p:spPr>
          <a:xfrm>
            <a:off x="1403280" y="-171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coccidioidomycosis                 (South American Blastomyc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395280" y="76500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tatements about primary systemic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6"/>
          <p:cNvSpPr/>
          <p:nvPr/>
        </p:nvSpPr>
        <p:spPr>
          <a:xfrm>
            <a:off x="468360" y="1125360"/>
            <a:ext cx="8497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ditional symptoms:  Ulcers in buccal mucosa and lymphadenopath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infection is more seen in South American countries (Brazil, Venezuella, Argentina, Chile, …etc.)  It is rarely seen else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468360" y="218448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 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coccidioides brasiliens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8"/>
          <p:cNvSpPr/>
          <p:nvPr/>
        </p:nvSpPr>
        <p:spPr>
          <a:xfrm>
            <a:off x="468360" y="2598840"/>
            <a:ext cx="84978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mold in nature and in culture at ≤3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, And large yeast in human body and in culture at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on blood aga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mold grows as white colonies with septate hyphae having Chamydospores and lateral unicellular conid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yeast phase has large yeast cells (some up to 30 </a:t>
            </a:r>
            <a:r>
              <a:rPr b="0" lang="el-GR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 diam) with multiple nuclei and multiple buds; known as mariner’s wheele cell or micky mouse cel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Picture 9" descr="Fig- (Paracoccidioides)"/>
          <p:cNvPicPr/>
          <p:nvPr/>
        </p:nvPicPr>
        <p:blipFill>
          <a:blip r:embed="rId1"/>
          <a:stretch/>
        </p:blipFill>
        <p:spPr>
          <a:xfrm>
            <a:off x="1812960" y="5267160"/>
            <a:ext cx="6072120" cy="140184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10"/>
          <p:cNvSpPr/>
          <p:nvPr/>
        </p:nvSpPr>
        <p:spPr>
          <a:xfrm>
            <a:off x="250920" y="5229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key mouse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11"/>
          <p:cNvSpPr/>
          <p:nvPr/>
        </p:nvSpPr>
        <p:spPr>
          <a:xfrm>
            <a:off x="3564000" y="55040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r’s wheele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12"/>
          <p:cNvSpPr/>
          <p:nvPr/>
        </p:nvSpPr>
        <p:spPr>
          <a:xfrm>
            <a:off x="1979640" y="63752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13"/>
          <p:cNvSpPr/>
          <p:nvPr/>
        </p:nvSpPr>
        <p:spPr>
          <a:xfrm>
            <a:off x="6300720" y="5157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14"/>
          <p:cNvSpPr/>
          <p:nvPr/>
        </p:nvSpPr>
        <p:spPr>
          <a:xfrm>
            <a:off x="6443640" y="58611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 Box 15"/>
          <p:cNvSpPr/>
          <p:nvPr/>
        </p:nvSpPr>
        <p:spPr>
          <a:xfrm>
            <a:off x="6732720" y="63752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 Box 16"/>
          <p:cNvSpPr/>
          <p:nvPr/>
        </p:nvSpPr>
        <p:spPr>
          <a:xfrm>
            <a:off x="3564000" y="63752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occidioides brasilien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17"/>
          <p:cNvSpPr/>
          <p:nvPr/>
        </p:nvSpPr>
        <p:spPr>
          <a:xfrm>
            <a:off x="1692360" y="5445000"/>
            <a:ext cx="129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18"/>
          <p:cNvSpPr/>
          <p:nvPr/>
        </p:nvSpPr>
        <p:spPr>
          <a:xfrm flipH="1">
            <a:off x="3203280" y="57340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19"/>
          <p:cNvSpPr/>
          <p:nvPr/>
        </p:nvSpPr>
        <p:spPr>
          <a:xfrm>
            <a:off x="6948360" y="537372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20"/>
          <p:cNvSpPr/>
          <p:nvPr/>
        </p:nvSpPr>
        <p:spPr>
          <a:xfrm>
            <a:off x="6732720" y="580536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21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22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2"/>
          <p:cNvSpPr/>
          <p:nvPr/>
        </p:nvSpPr>
        <p:spPr>
          <a:xfrm>
            <a:off x="395280" y="141300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s: Respiratory, Aspirates, ulcerative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aterial, biopsy  tissue from site of infection,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blood for serolog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468360" y="2546280"/>
            <a:ext cx="84978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Presence of budding yeast cells some large with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multiple nuclei and buds; Marriner’s wheele cells/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Mickey mouse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 incubate at room temperature to grow mold phase, and on Blood agar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to grow the yeast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general statement.  Mild cases can be treated with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fonamid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 Box 6"/>
          <p:cNvSpPr/>
          <p:nvPr/>
        </p:nvSpPr>
        <p:spPr>
          <a:xfrm>
            <a:off x="1260360" y="44280"/>
            <a:ext cx="6336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coccidioidomycosis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South American Blastomycosis) 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Text Box 2"/>
          <p:cNvSpPr/>
          <p:nvPr/>
        </p:nvSpPr>
        <p:spPr>
          <a:xfrm>
            <a:off x="395280" y="2247840"/>
            <a:ext cx="835344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: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infection caused by any species of the yeas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u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similar other yeasts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considered opportunistic infection affecting compromised individual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sposing factors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oung age and elderly, Cancer patients (Malignancies, Lymphoma, Leukemia), Broad spectrum antibacterial antibiotics, Altered immunity (AIDS, genetic), Certain drugs (Steroids, immunosupressive, cytotoxic), Diabetes, Pregnancy – B.C.P. – IUCD, Malnutrition &amp; Iron deficiencies, Dentures, Xerostomia, Intensive care patients and other hospitalized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826920" y="5654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didiasis (=Candidosis )                           (Old name Moniliasis)</a:t>
            </a:r>
            <a:br>
              <a:rPr sz="3200"/>
            </a:br>
            <a:r>
              <a:rPr b="1" lang="en-US" sz="3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For Dental Stu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1476360" y="44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Fung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539640" y="90792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on morphological, Physiological, Genetic &amp; Molecular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characterist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539640" y="1557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 Classification ran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39640" y="1989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:  Mycete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539640" y="234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:  Amastigomyc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84360" y="2671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ubdiv:  Deuteromyco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539640" y="3141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teromyce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684360" y="3500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ub. class:  Hyphomycet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39640" y="3933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l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539640" y="4292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  Moniliace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39640" y="465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9640" y="501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9640" y="540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539640" y="5769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>
            <a:off x="4643280" y="2205000"/>
            <a:ext cx="0" cy="41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219640" y="2133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omi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5219640" y="3141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5219640" y="3679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can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di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5219640" y="422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 Path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5219640" y="47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 Pathog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5219640" y="256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4920" y="739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Types (Feat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95280" y="2585880"/>
            <a:ext cx="8353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cocutaneous and cutaneou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 Infe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first group include a common mucocutaneous infectio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ections of mouth; tongue, throat, palate, pharynx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ccal mucosa, gingiva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speci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re seen in malnorished children, Infants, AIDS patients, Hospitalized patients ….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6"/>
          <p:cNvSpPr/>
          <p:nvPr/>
        </p:nvSpPr>
        <p:spPr>
          <a:xfrm>
            <a:off x="46836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didiasis (=Candidosis )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 Box 7"/>
          <p:cNvSpPr/>
          <p:nvPr/>
        </p:nvSpPr>
        <p:spPr>
          <a:xfrm>
            <a:off x="395280" y="1397160"/>
            <a:ext cx="8353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are many clinical types of Candidia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rce of infection is Endogenous because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specie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re normal flora of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 Box 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9"/>
          <p:cNvSpPr/>
          <p:nvPr/>
        </p:nvSpPr>
        <p:spPr>
          <a:xfrm>
            <a:off x="7380360" y="-2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1187280" y="-27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(Continue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395280" y="692280"/>
            <a:ext cx="835344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3 Clinical types of Oropharyngeal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al thrush (=Pseudomembraneou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pears as white-creamy plaques on the mucosa with underlying erythema when white patches wiped the erythematous (red) surface is exposed and may ble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rophic (erythematous) candidiasis:  Appears as red patches on palate or tongue more seen in denture wearers and xerostom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ukoplakia (chronic hyperplastic candidia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ions are whitish plaques but cannot be wiped off as in thrush.  Often involve tongue and inner commissures of li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re seen in smokers and patients with secretor blood gro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AIDS patient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fferentiate from Hairy leukoplaki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ch is caused by Epstein Barr vir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826920" y="5060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AutoShape 6"/>
          <p:cNvSpPr/>
          <p:nvPr/>
        </p:nvSpPr>
        <p:spPr>
          <a:xfrm>
            <a:off x="3780000" y="6021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752472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95280" y="1171440"/>
            <a:ext cx="8353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so can infect the commissures of lips producing fissured red lesions that cause pain and burning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alle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leche or angular cheilitis (=stomatit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plications of Oropharyngeal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)  esophagitis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b)  Septicaem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her Infections by Candida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aper rash, Mycotic vaginitis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vaginal thrush)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trigeounus Candidiasis,Paronychia and onychomycosis, Systemic Infections  (In hospitalized patients), Bronchopulmonary, UTI, Septicaemia, Meningitis, Endocardit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AutoShape 6"/>
          <p:cNvSpPr/>
          <p:nvPr/>
        </p:nvSpPr>
        <p:spPr>
          <a:xfrm>
            <a:off x="5364000" y="1557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395280" y="765000"/>
            <a:ext cx="8497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species of the genus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. Candid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unicellular yeast fungus. It is imperfect reproducing by Asexual me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bud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ing yeast cells, blastospores, and Pseudohypha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eamy colony,fast growing on Sabouraud Dextrose agar  (SDA), Blood agar, and on CMA (Cornmeal aga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AutoShape 6"/>
          <p:cNvSpPr/>
          <p:nvPr/>
        </p:nvSpPr>
        <p:spPr>
          <a:xfrm>
            <a:off x="7020000" y="1628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395280" y="3357720"/>
            <a:ext cx="8353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part of the body flora in mucocutaneous tissue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Mouth, Vagina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, GI, UT., Skin,  also other habitat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many species of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species are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, C.glabrata, C.tropicali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Krusei, C.parapsil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 Box 9"/>
          <p:cNvSpPr/>
          <p:nvPr/>
        </p:nvSpPr>
        <p:spPr>
          <a:xfrm>
            <a:off x="752328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3"/>
          <p:cNvSpPr/>
          <p:nvPr/>
        </p:nvSpPr>
        <p:spPr>
          <a:xfrm>
            <a:off x="395280" y="765000"/>
            <a:ext cx="835344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most common species to cause infection among all yeasts (caus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 - 60% of the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 there are short-cut tests to identify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 tub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Chlamydospore production in C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istance to 50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Cycloheximide (growth on Mycobiot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se 3 (+), yeast is C.alb. If not other yea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st to identify any yeast in the clinical lab. is by Carbohydrate assimilation tests. There are commercial kits for this; API 20C, ID 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yeasts other than Candida that may cause Candidiasis, of thes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charomyces cerevisiae, Trichosporon beigelii, Rhodotoru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5" name="Picture 6" descr="Fig-6"/>
          <p:cNvPicPr/>
          <p:nvPr/>
        </p:nvPicPr>
        <p:blipFill>
          <a:blip r:embed="rId1"/>
          <a:stretch/>
        </p:blipFill>
        <p:spPr>
          <a:xfrm>
            <a:off x="2050920" y="2389320"/>
            <a:ext cx="4249800" cy="160488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7"/>
          <p:cNvSpPr/>
          <p:nvPr/>
        </p:nvSpPr>
        <p:spPr>
          <a:xfrm>
            <a:off x="4210200" y="242100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Line 8"/>
          <p:cNvSpPr/>
          <p:nvPr/>
        </p:nvSpPr>
        <p:spPr>
          <a:xfrm>
            <a:off x="550872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9"/>
          <p:cNvSpPr/>
          <p:nvPr/>
        </p:nvSpPr>
        <p:spPr>
          <a:xfrm>
            <a:off x="3708360" y="28764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Line 10"/>
          <p:cNvSpPr/>
          <p:nvPr/>
        </p:nvSpPr>
        <p:spPr>
          <a:xfrm>
            <a:off x="4572000" y="299736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 Box 11"/>
          <p:cNvSpPr/>
          <p:nvPr/>
        </p:nvSpPr>
        <p:spPr>
          <a:xfrm>
            <a:off x="4643280" y="36687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 Box 12"/>
          <p:cNvSpPr/>
          <p:nvPr/>
        </p:nvSpPr>
        <p:spPr>
          <a:xfrm>
            <a:off x="4786200" y="39258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Line 13"/>
          <p:cNvSpPr/>
          <p:nvPr/>
        </p:nvSpPr>
        <p:spPr>
          <a:xfrm flipH="1" flipV="1">
            <a:off x="4571640" y="36446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 Box 14"/>
          <p:cNvSpPr/>
          <p:nvPr/>
        </p:nvSpPr>
        <p:spPr>
          <a:xfrm>
            <a:off x="2050920" y="2492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Line 15"/>
          <p:cNvSpPr/>
          <p:nvPr/>
        </p:nvSpPr>
        <p:spPr>
          <a:xfrm>
            <a:off x="2340000" y="2708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2627280" y="27320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 tu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Line 17"/>
          <p:cNvSpPr/>
          <p:nvPr/>
        </p:nvSpPr>
        <p:spPr>
          <a:xfrm flipH="1">
            <a:off x="2771640" y="299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 Box 1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 Box 19"/>
          <p:cNvSpPr/>
          <p:nvPr/>
        </p:nvSpPr>
        <p:spPr>
          <a:xfrm>
            <a:off x="7523280" y="-32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Text Box 3"/>
          <p:cNvSpPr/>
          <p:nvPr/>
        </p:nvSpPr>
        <p:spPr>
          <a:xfrm>
            <a:off x="826920" y="42861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 Box 4"/>
          <p:cNvSpPr/>
          <p:nvPr/>
        </p:nvSpPr>
        <p:spPr>
          <a:xfrm>
            <a:off x="250920" y="29988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Depend on site of Infection.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wab from le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lood for serolog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. Inf.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her systemic specimens (e.g. C.S.F. respiratory specimens,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S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the Lab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 (D.M.), culture, and serolog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. If (+) Pseudohyphae and budding yeast cells in stained smear or K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 and Blood agar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at 25-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(+), creamy moist colonies will develop within 24  – 48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TT, Chlamydo, Cycloh., Carboh. ass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tient serum test for Mannan antigen (Ag) or antibody(Ab).  Use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munodiffusion  (I.D.) or (C.I.E.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erimmunoelectrophoresis.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 Serol. Good for 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 Box 5"/>
          <p:cNvSpPr/>
          <p:nvPr/>
        </p:nvSpPr>
        <p:spPr>
          <a:xfrm>
            <a:off x="1547640" y="-17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AutoShape 6"/>
          <p:cNvSpPr/>
          <p:nvPr/>
        </p:nvSpPr>
        <p:spPr>
          <a:xfrm>
            <a:off x="5149800" y="1558800"/>
            <a:ext cx="574560" cy="217440"/>
          </a:xfrm>
          <a:prstGeom prst="rightArrow">
            <a:avLst>
              <a:gd name="adj1" fmla="val 50000"/>
              <a:gd name="adj2" fmla="val 660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3" name="Picture 7" descr="Fig-7"/>
          <p:cNvPicPr/>
          <p:nvPr/>
        </p:nvPicPr>
        <p:blipFill>
          <a:blip r:embed="rId1"/>
          <a:stretch/>
        </p:blipFill>
        <p:spPr>
          <a:xfrm>
            <a:off x="1979640" y="3216240"/>
            <a:ext cx="3529080" cy="1357200"/>
          </a:xfrm>
          <a:prstGeom prst="rect">
            <a:avLst/>
          </a:prstGeom>
          <a:ln w="0">
            <a:noFill/>
          </a:ln>
        </p:spPr>
      </p:pic>
      <p:sp>
        <p:nvSpPr>
          <p:cNvPr id="1344" name="Text Box 8"/>
          <p:cNvSpPr/>
          <p:nvPr/>
        </p:nvSpPr>
        <p:spPr>
          <a:xfrm>
            <a:off x="2411280" y="3311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3564000" y="350352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 Box 10"/>
          <p:cNvSpPr/>
          <p:nvPr/>
        </p:nvSpPr>
        <p:spPr>
          <a:xfrm>
            <a:off x="4427640" y="386388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1"/>
          <p:cNvSpPr/>
          <p:nvPr/>
        </p:nvSpPr>
        <p:spPr>
          <a:xfrm flipH="1">
            <a:off x="4140000" y="40086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 Box 12"/>
          <p:cNvSpPr/>
          <p:nvPr/>
        </p:nvSpPr>
        <p:spPr>
          <a:xfrm>
            <a:off x="2556000" y="45115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tient speci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 Box 13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250920" y="1052640"/>
            <a:ext cx="889308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pcial Nystatin suspension, Clotrimazole troches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Lozenges),Miconazole, or Fluconazole suspen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hotericin B, Fluconazole, Caspofungin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oriconazo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resistant to Rx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quest antifungal sensitiv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Other Oral Fungal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d infection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osis, Zygomycosis Histoplasmosis,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osis, Rhinosporidios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1547640" y="-27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771640" y="3068640"/>
            <a:ext cx="21600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2"/>
          <p:cNvSpPr/>
          <p:nvPr/>
        </p:nvSpPr>
        <p:spPr>
          <a:xfrm>
            <a:off x="828720" y="260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 Box 3"/>
          <p:cNvSpPr/>
          <p:nvPr/>
        </p:nvSpPr>
        <p:spPr>
          <a:xfrm>
            <a:off x="468360" y="141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  TYP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 Box 4"/>
          <p:cNvSpPr/>
          <p:nvPr/>
        </p:nvSpPr>
        <p:spPr>
          <a:xfrm>
            <a:off x="250920" y="2060640"/>
            <a:ext cx="8642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-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tic Keratit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= kera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al infection of corn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neal ulcer, corneal absce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sk Facto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aliculiti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, Surgery, Corticosteroids, n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 with hyphated marg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yon usually present fungi usuall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Shaggy margin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ep in C.tissue not in su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2556000" y="836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culomyc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 Box 8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 Box 3"/>
          <p:cNvSpPr/>
          <p:nvPr/>
        </p:nvSpPr>
        <p:spPr>
          <a:xfrm>
            <a:off x="611280" y="1341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iolog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nvironmental fung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611280" y="2060640"/>
            <a:ext cx="8208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ly, fast growing moniliaceous fungi viz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sarium solanii, F.oxysporum,  Aspergillus fumigatus, A. flavus, A.niger Candida albicans, Candida sp., Acremon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allescher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dosp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atiaceous fungi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ytalidium, Curvularia, Exophi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osi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um seeb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 Box 7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900000" y="44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3"/>
          <p:cNvSpPr/>
          <p:nvPr/>
        </p:nvSpPr>
        <p:spPr>
          <a:xfrm>
            <a:off x="611280" y="90792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pecimens:  Corneal scrapings – swabs 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good, conjunctival scrap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4"/>
          <p:cNvSpPr/>
          <p:nvPr/>
        </p:nvSpPr>
        <p:spPr>
          <a:xfrm>
            <a:off x="611280" y="2492280"/>
            <a:ext cx="828180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ars, 10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H,  Calcoflu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m stain, Giemsa, Silver stain (G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posi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e, Hyphal fragments, Yeast cells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Sabouraud dextrose agar (SDA) with 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Cycloheximide, BHI, BA. C-cut inoc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(+) &amp; culture (+) or (+) culture from repeated specimens, or (+) culture from multiple  sites of inoc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611280" y="1916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Oval 7"/>
          <p:cNvSpPr/>
          <p:nvPr/>
        </p:nvSpPr>
        <p:spPr>
          <a:xfrm>
            <a:off x="7667640" y="4365720"/>
            <a:ext cx="936720" cy="863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Freeform 8"/>
          <p:cNvSpPr/>
          <p:nvPr/>
        </p:nvSpPr>
        <p:spPr>
          <a:xfrm rot="1629600">
            <a:off x="7884720" y="4508640"/>
            <a:ext cx="95400" cy="266400"/>
          </a:xfrm>
          <a:custGeom>
            <a:avLst/>
            <a:gdLst>
              <a:gd name="textAreaLeft" fmla="*/ 0 w 95400"/>
              <a:gd name="textAreaRight" fmla="*/ 95760 w 954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60" h="168">
                <a:moveTo>
                  <a:pt x="60" y="0"/>
                </a:moveTo>
                <a:cubicBezTo>
                  <a:pt x="48" y="8"/>
                  <a:pt x="32" y="12"/>
                  <a:pt x="24" y="24"/>
                </a:cubicBezTo>
                <a:cubicBezTo>
                  <a:pt x="11" y="45"/>
                  <a:pt x="0" y="96"/>
                  <a:pt x="0" y="96"/>
                </a:cubicBezTo>
                <a:cubicBezTo>
                  <a:pt x="4" y="116"/>
                  <a:pt x="1" y="139"/>
                  <a:pt x="12" y="156"/>
                </a:cubicBezTo>
                <a:cubicBezTo>
                  <a:pt x="19" y="167"/>
                  <a:pt x="48" y="168"/>
                  <a:pt x="48" y="16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Freeform 9"/>
          <p:cNvSpPr/>
          <p:nvPr/>
        </p:nvSpPr>
        <p:spPr>
          <a:xfrm>
            <a:off x="8172360" y="4510080"/>
            <a:ext cx="209520" cy="195120"/>
          </a:xfrm>
          <a:custGeom>
            <a:avLst/>
            <a:gdLst>
              <a:gd name="textAreaLeft" fmla="*/ 0 w 209520"/>
              <a:gd name="textAreaRight" fmla="*/ 209880 w 2095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32" h="123">
                <a:moveTo>
                  <a:pt x="0" y="39"/>
                </a:moveTo>
                <a:cubicBezTo>
                  <a:pt x="49" y="6"/>
                  <a:pt x="62" y="0"/>
                  <a:pt x="120" y="15"/>
                </a:cubicBezTo>
                <a:cubicBezTo>
                  <a:pt x="124" y="27"/>
                  <a:pt x="132" y="38"/>
                  <a:pt x="132" y="51"/>
                </a:cubicBezTo>
                <a:cubicBezTo>
                  <a:pt x="132" y="75"/>
                  <a:pt x="120" y="123"/>
                  <a:pt x="120" y="12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Freeform 10"/>
          <p:cNvSpPr/>
          <p:nvPr/>
        </p:nvSpPr>
        <p:spPr>
          <a:xfrm>
            <a:off x="8307360" y="4797360"/>
            <a:ext cx="225360" cy="174600"/>
          </a:xfrm>
          <a:custGeom>
            <a:avLst/>
            <a:gdLst>
              <a:gd name="textAreaLeft" fmla="*/ 0 w 225360"/>
              <a:gd name="textAreaRight" fmla="*/ 225720 w 2253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58" h="168">
                <a:moveTo>
                  <a:pt x="36" y="0"/>
                </a:moveTo>
                <a:cubicBezTo>
                  <a:pt x="23" y="155"/>
                  <a:pt x="58" y="110"/>
                  <a:pt x="0" y="16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Freeform 11"/>
          <p:cNvSpPr/>
          <p:nvPr/>
        </p:nvSpPr>
        <p:spPr>
          <a:xfrm>
            <a:off x="7829640" y="4876920"/>
            <a:ext cx="198360" cy="136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96" h="144">
                <a:moveTo>
                  <a:pt x="36" y="0"/>
                </a:moveTo>
                <a:cubicBezTo>
                  <a:pt x="10" y="77"/>
                  <a:pt x="0" y="144"/>
                  <a:pt x="96" y="14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Freeform 12"/>
          <p:cNvSpPr/>
          <p:nvPr/>
        </p:nvSpPr>
        <p:spPr>
          <a:xfrm>
            <a:off x="8091360" y="5013360"/>
            <a:ext cx="152640" cy="1000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96" h="63">
                <a:moveTo>
                  <a:pt x="0" y="24"/>
                </a:moveTo>
                <a:cubicBezTo>
                  <a:pt x="29" y="43"/>
                  <a:pt x="38" y="63"/>
                  <a:pt x="72" y="36"/>
                </a:cubicBezTo>
                <a:cubicBezTo>
                  <a:pt x="83" y="27"/>
                  <a:pt x="96" y="0"/>
                  <a:pt x="9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Freeform 13"/>
          <p:cNvSpPr/>
          <p:nvPr/>
        </p:nvSpPr>
        <p:spPr>
          <a:xfrm>
            <a:off x="8039160" y="4724280"/>
            <a:ext cx="190440" cy="133560"/>
          </a:xfrm>
          <a:custGeom>
            <a:avLst/>
            <a:gdLst>
              <a:gd name="textAreaLeft" fmla="*/ 0 w 190440"/>
              <a:gd name="textAreaRight" fmla="*/ 190800 w 190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" h="84">
                <a:moveTo>
                  <a:pt x="0" y="84"/>
                </a:moveTo>
                <a:cubicBezTo>
                  <a:pt x="17" y="32"/>
                  <a:pt x="18" y="18"/>
                  <a:pt x="72" y="0"/>
                </a:cubicBezTo>
                <a:cubicBezTo>
                  <a:pt x="84" y="8"/>
                  <a:pt x="99" y="13"/>
                  <a:pt x="108" y="24"/>
                </a:cubicBezTo>
                <a:cubicBezTo>
                  <a:pt x="116" y="34"/>
                  <a:pt x="120" y="60"/>
                  <a:pt x="120" y="6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14"/>
          <p:cNvSpPr/>
          <p:nvPr/>
        </p:nvSpPr>
        <p:spPr>
          <a:xfrm>
            <a:off x="7308720" y="4724280"/>
            <a:ext cx="358920" cy="1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 Box 16"/>
          <p:cNvSpPr/>
          <p:nvPr/>
        </p:nvSpPr>
        <p:spPr>
          <a:xfrm>
            <a:off x="7307280" y="-32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1476360" y="123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Fung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39640" y="1341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. Gymn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aked (No cell wall), phagotrop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332000" y="1773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xamoeba, slime m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332000" y="2133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Acrasiomycetes, Cl. Protosteliomyc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68360" y="692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Kingdom Mycete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826920" y="1916280"/>
            <a:ext cx="432000" cy="144360"/>
          </a:xfrm>
          <a:custGeom>
            <a:avLst/>
            <a:gdLst>
              <a:gd name="textAreaLeft" fmla="*/ 0 w 432000"/>
              <a:gd name="textAreaRight" fmla="*/ 432360 w 4320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69" h="246">
                <a:moveTo>
                  <a:pt x="0" y="216"/>
                </a:moveTo>
                <a:cubicBezTo>
                  <a:pt x="89" y="238"/>
                  <a:pt x="192" y="246"/>
                  <a:pt x="276" y="204"/>
                </a:cubicBezTo>
                <a:cubicBezTo>
                  <a:pt x="369" y="157"/>
                  <a:pt x="258" y="198"/>
                  <a:pt x="348" y="168"/>
                </a:cubicBezTo>
                <a:cubicBezTo>
                  <a:pt x="373" y="68"/>
                  <a:pt x="337" y="155"/>
                  <a:pt x="396" y="108"/>
                </a:cubicBezTo>
                <a:cubicBezTo>
                  <a:pt x="407" y="99"/>
                  <a:pt x="410" y="82"/>
                  <a:pt x="420" y="72"/>
                </a:cubicBezTo>
                <a:cubicBezTo>
                  <a:pt x="430" y="62"/>
                  <a:pt x="444" y="56"/>
                  <a:pt x="456" y="48"/>
                </a:cubicBezTo>
                <a:cubicBezTo>
                  <a:pt x="469" y="8"/>
                  <a:pt x="468" y="25"/>
                  <a:pt x="46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9"/>
          <p:cNvSpPr/>
          <p:nvPr/>
        </p:nvSpPr>
        <p:spPr>
          <a:xfrm>
            <a:off x="826920" y="1916280"/>
            <a:ext cx="414360" cy="14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468" h="195">
                <a:moveTo>
                  <a:pt x="0" y="195"/>
                </a:moveTo>
                <a:cubicBezTo>
                  <a:pt x="12" y="187"/>
                  <a:pt x="23" y="177"/>
                  <a:pt x="36" y="171"/>
                </a:cubicBezTo>
                <a:cubicBezTo>
                  <a:pt x="59" y="161"/>
                  <a:pt x="108" y="147"/>
                  <a:pt x="108" y="147"/>
                </a:cubicBezTo>
                <a:cubicBezTo>
                  <a:pt x="188" y="67"/>
                  <a:pt x="102" y="142"/>
                  <a:pt x="180" y="99"/>
                </a:cubicBezTo>
                <a:cubicBezTo>
                  <a:pt x="238" y="67"/>
                  <a:pt x="302" y="9"/>
                  <a:pt x="372" y="3"/>
                </a:cubicBezTo>
                <a:cubicBezTo>
                  <a:pt x="404" y="0"/>
                  <a:pt x="436" y="3"/>
                  <a:pt x="468" y="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10"/>
          <p:cNvSpPr/>
          <p:nvPr/>
        </p:nvSpPr>
        <p:spPr>
          <a:xfrm>
            <a:off x="1042920" y="1989000"/>
            <a:ext cx="57240" cy="19080"/>
          </a:xfrm>
          <a:custGeom>
            <a:avLst/>
            <a:gdLst>
              <a:gd name="textAreaLeft" fmla="*/ 0 w 57240"/>
              <a:gd name="textAreaRight" fmla="*/ 57600 w 572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6" h="12">
                <a:moveTo>
                  <a:pt x="0" y="0"/>
                </a:moveTo>
                <a:cubicBezTo>
                  <a:pt x="12" y="4"/>
                  <a:pt x="36" y="12"/>
                  <a:pt x="36" y="12"/>
                </a:cubicBezTo>
                <a:cubicBezTo>
                  <a:pt x="36" y="12"/>
                  <a:pt x="12" y="4"/>
                  <a:pt x="0" y="0"/>
                </a:cubicBezTo>
                <a:close/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332000" y="249228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 Myxomycetes –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ctyostel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539640" y="2924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  Div. Mastig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lagillated, mo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187280" y="33577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wall, absorptive nutrition, if mold nonseptate hyph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187280" y="371628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ytridiomycetes, Hyphochytridiomyce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1189080" y="404028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ophoromycetes, Oomycetes –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thium, Phytophth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611280" y="4508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  Div. Amastig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n flagellated, Non-mo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1332000" y="4941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s &amp; molds:  Septate hyphae &amp; non-sept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1332000" y="522936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 Zygomycetes, Trichomycetes, Ascomycetes, Basidiomyc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332000" y="5589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teromycetes (Fungi  Imperfecti = Imperfect fung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1620720" y="58770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ergillus, Penicillium, Fusarium, Candida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1258920" y="6416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 term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hycomycetes, Aquatic, Lower fungi, Higher fun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395280" y="6308640"/>
            <a:ext cx="874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I- 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ndogenous Oculomycosi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Endophthalmiti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11280" y="2060640"/>
            <a:ext cx="792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cular infection by dissemination of systemic disease.  Dissemination usually hematogenous Affect any eye tissue; eye orbit, conjunctiva, Sclera, Iris,Lenz,retina, optic nerv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phthalmitis infection.  May occur with no systemic disea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etiology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t also disseminated Histoplasmosis, Blastomycosis, Cryptococcosis &amp; others.  Fusariosi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ytali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s caused endophthalm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 for Lab.:  Aquous &amp; vitreous fluids Biopsy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II- 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xtension Oculomycosi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 Box 4"/>
          <p:cNvSpPr/>
          <p:nvPr/>
        </p:nvSpPr>
        <p:spPr>
          <a:xfrm>
            <a:off x="611280" y="2060640"/>
            <a:ext cx="8281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a fungal infecion in tissue adjacent to eye.  It extends to involve eye orb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type is rhinocerebral zygomycosis (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hinocerebral mucoromyco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caused by Zygomycete fungi very serious.  Have broad nonseptate hyphae in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zygomycosis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bolus, Conidiobol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-orbital aspergillosis, Sinusitis           Brain involvement seri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 promptly – aggressive meas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AutoShape 5"/>
          <p:cNvSpPr/>
          <p:nvPr/>
        </p:nvSpPr>
        <p:spPr>
          <a:xfrm>
            <a:off x="5210280" y="5229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Picture 6" descr="Image-8"/>
          <p:cNvPicPr/>
          <p:nvPr/>
        </p:nvPicPr>
        <p:blipFill>
          <a:blip r:embed="rId1"/>
          <a:stretch/>
        </p:blipFill>
        <p:spPr>
          <a:xfrm>
            <a:off x="5075280" y="3786120"/>
            <a:ext cx="865080" cy="463680"/>
          </a:xfrm>
          <a:prstGeom prst="rect">
            <a:avLst/>
          </a:prstGeom>
          <a:ln w="0">
            <a:noFill/>
          </a:ln>
        </p:spPr>
      </p:pic>
      <p:sp>
        <p:nvSpPr>
          <p:cNvPr id="1392" name="Text Box 10"/>
          <p:cNvSpPr/>
          <p:nvPr/>
        </p:nvSpPr>
        <p:spPr>
          <a:xfrm>
            <a:off x="684360" y="479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611280" y="4653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 Box 4"/>
          <p:cNvSpPr/>
          <p:nvPr/>
        </p:nvSpPr>
        <p:spPr>
          <a:xfrm>
            <a:off x="611280" y="2060640"/>
            <a:ext cx="792144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maricin (natamycin) (5% solu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– 3</a:t>
            </a:r>
            <a:r>
              <a:rPr b="0" lang="en-US" sz="24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sta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onazole (subconjunctival injects &amp;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otericin B (fungizone), Flucytosine or Ambi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Medical + sur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systemic antifungals: Itraconazole, Flucon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ricon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pofun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4"/>
          <p:cNvSpPr/>
          <p:nvPr/>
        </p:nvSpPr>
        <p:spPr>
          <a:xfrm>
            <a:off x="611280" y="621720"/>
            <a:ext cx="828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won Chung, J.J. and Bennett, J.E. 1992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a &amp; Febiger, Philadelph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ppon, J.W. 1988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e pathogenic fungi and the pathogenic actinomycetes. 3rd ed. W.B. Saunders Co., Philadelph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issie, E., McGinnis, M., Pfaller, 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hurchill Livingstone. Philadelph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ns and Richardson. 1989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practical approach. IRL Press, Oxfo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one, D. 2002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ly Important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guide to identification.  American Society for Microbiology. Washington D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bell MC, Stewart JL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edical Mycology Handboo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John Wiley and Sons. New York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 Box 5"/>
          <p:cNvSpPr/>
          <p:nvPr/>
        </p:nvSpPr>
        <p:spPr>
          <a:xfrm>
            <a:off x="2124000" y="189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ELECTED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6"/>
          <p:cNvSpPr/>
          <p:nvPr/>
        </p:nvSpPr>
        <p:spPr>
          <a:xfrm>
            <a:off x="611280" y="422100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ema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3rd ed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al Laboratory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illiams and Wilkins. Baltimore, Lond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nett, H.L. and Hunter, B.B. 1972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ustrated genera of imperfect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3rd ed. Burgess Publishing Comp., Minneapo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Ginnis, M.R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Handbook of 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cademic Press, London, N.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611280" y="1800"/>
            <a:ext cx="81374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ke, E.S. and Rogers, A.L. 1980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 Manu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th ed. Burgess Publishing Comp., Minneapol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1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dler, F., Kaplan,W., Ajello, L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Atlas and Text  of  the Histopathology of Mycotic Disea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Year Book Medical Publishers, Inc. Chicago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re, G.S. and Jaciow, D.M. 1979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y for the Clinical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eston Publishing Comp., Inc. Reston, Virgin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doory, Y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a &amp; Febiger. Philadelph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rray, P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00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al of Clinical Microbi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8th ed. American Society for Microbiology. Washington D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nberg, H.D. 2004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Microbiology Procedures Handboo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ol. I and II. 2nd ed. American Society for Microbiology. Washington, D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opoulos, C.W. and Mims, C.W. 1979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ory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3rd ed. John Wiley &amp; Sons, N.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sworth, G.C. 198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sworth &amp; Bisby’s Dictionary of the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7th ed.  Commonwealth Mycological Institute, Kew, Surr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me Periodicals In Medical My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aylor &amp; Francis, Abingdon, Oxon. 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Blackwell Verlag, Berlin. Vien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ie Medica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a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 Box 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 Box 6"/>
          <p:cNvSpPr/>
          <p:nvPr/>
        </p:nvSpPr>
        <p:spPr>
          <a:xfrm>
            <a:off x="7307280" y="-2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9:24:06Z</dcterms:created>
  <dc:creator>KKUH</dc:creator>
  <dc:description/>
  <dc:language>en-US</dc:language>
  <cp:lastModifiedBy>Fadwa tulip</cp:lastModifiedBy>
  <dcterms:modified xsi:type="dcterms:W3CDTF">2013-12-26T11:18:55Z</dcterms:modified>
  <cp:revision>141</cp:revision>
  <dc:subject/>
  <dc:title>Mycetoma (=Madura Foot)</dc:title>
</cp:coreProperties>
</file>