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A54-37D1-48C2-A29B-3546F194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27F-66A5-4016-9033-6915CAC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6D4-6AFE-4D6B-8D86-3983D768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198-4894-4B35-9DC3-8C5FFC89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A7C-0E60-4F33-BA37-C96643AE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368-89B4-47A1-9F9C-290840CE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CC5-D824-4065-888A-131974F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646-ED95-43FB-A247-614DC64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408-0711-4000-A481-1809BA7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0CB-9C45-4EBE-ACFB-F125557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C96-3D0E-497B-A519-1805B6B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69F-9A10-4F5C-B8DF-7CE302D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ED7-F492-46AA-830B-8D28E43C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962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572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7:07:16Z</dcterms:created>
  <dc:creator>.</dc:creator>
  <dc:description/>
  <dc:language>en-US</dc:language>
  <cp:lastModifiedBy>.</cp:lastModifiedBy>
  <dcterms:modified xsi:type="dcterms:W3CDTF">2001-11-05T17:48:42Z</dcterms:modified>
  <cp:revision>1</cp:revision>
  <dc:subject/>
  <dc:title>No Slide Title</dc:title>
</cp:coreProperties>
</file>