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5B0-9F65-4F04-B2FA-640C516E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F49-1F33-4CBE-918B-F32CCCDE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E13-1160-45A8-8DA7-7D564BE3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A1D-4595-43A0-BDE9-E6FBEFF2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2A4-FD67-478D-A5E3-B0F7294B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CAF-2E06-4094-AF88-2466DAA8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91B-4C75-4698-9A1A-089BFD68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13B-C79C-431D-8DEC-4284F1E1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007-604C-4BD1-BB0F-592E1E55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78D-FAE0-43A9-A2AF-C991AE26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5EF-5466-4B53-A879-60E64FB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113-5CBC-43EB-B646-58C724B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7D0B-F23E-4A27-BE36-3BEF8538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495680" cy="3962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590920" y="350532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3657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572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0574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666880" y="365760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7:07:16Z</dcterms:created>
  <dc:creator>.</dc:creator>
  <dc:description/>
  <dc:language>en-US</dc:language>
  <cp:lastModifiedBy>.</cp:lastModifiedBy>
  <dcterms:modified xsi:type="dcterms:W3CDTF">2001-11-05T17:48:42Z</dcterms:modified>
  <cp:revision>1</cp:revision>
  <dc:subject/>
  <dc:title>No Slide Title</dc:title>
</cp:coreProperties>
</file>