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E06-59DD-46BE-A0AA-57F28313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A56-889B-4DD5-8179-412EE08E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88E-B3BC-4691-A29D-8AE5D344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273-C4C8-4D1E-A89D-4C3E5CDD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E5E-7283-4B19-9E12-EE3DF7CE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594-0C00-4CED-8FE2-5488181F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49D-9E80-44C2-8462-CD7B41DC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871-D361-4B88-9147-112A6D8E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DD1-C687-478B-918A-7B28BEC7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D3B-250B-4521-8977-66467268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15B-6E84-4633-824A-7A7A8B43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C34-112E-42BD-B897-C315D69D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3874-08B2-42CD-A013-4E36C1AB5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20:46:45Z</dcterms:created>
  <dc:creator>.</dc:creator>
  <dc:description/>
  <dc:language>en-US</dc:language>
  <cp:lastModifiedBy>.</cp:lastModifiedBy>
  <dcterms:modified xsi:type="dcterms:W3CDTF">2001-10-29T16:51:34Z</dcterms:modified>
  <cp:revision>3</cp:revision>
  <dc:subject/>
  <dc:title>No Slide Title</dc:title>
</cp:coreProperties>
</file>