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FC2-6254-415F-A693-E4BCB17A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61F-33D5-4A93-86A3-9A3314BD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CC1-08E0-49E3-92E9-01DA67AC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6AD-B9C6-4B35-B96C-7CF1A5F3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262-B7DD-4644-B975-61CF0EE5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121-E649-46D1-AE87-AB24D6C6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1D5-275E-4834-910E-C629448A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9AD-A8CC-472E-B6B0-52F98D1E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D5A-2764-4409-9EB6-3D391E5F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2E5-881F-4424-95F3-21EC8F41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655-6C74-4A09-9F81-D526C123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43D-73AA-41B9-9F1F-C6CE867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D11A-8250-48FF-A100-DA51C8512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20:46:45Z</dcterms:created>
  <dc:creator>.</dc:creator>
  <dc:description/>
  <dc:language>en-US</dc:language>
  <cp:lastModifiedBy>.</cp:lastModifiedBy>
  <dcterms:modified xsi:type="dcterms:W3CDTF">2001-10-29T16:51:34Z</dcterms:modified>
  <cp:revision>3</cp:revision>
  <dc:subject/>
  <dc:title>No Slide Title</dc:title>
</cp:coreProperties>
</file>