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2407-935A-42CF-9454-B573BA2416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A834-B07D-42F0-AE35-2C4CA23F9DB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339F-411B-4181-96D4-7E506F0BEFB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F13-B8B8-4336-99CD-CEFA64B3CD7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AD1E-C4B2-4512-9CDC-B19BD97DB3C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E9A2-45FD-41C1-9D18-5D9069A676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EF0-87B3-477F-A50F-745DAAB6B8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3AB4-6A6F-4A03-93EC-FEE4272C00C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67B-E496-445E-BB8A-8373167B06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E7C-4DB5-477C-A0D5-2CD813A6A46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027-75F9-4851-96DA-1799BD65EB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881-E2E9-4504-A606-1731BD6FC37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A9E-162B-415B-82A6-CE8DC7E280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2F5-7AE8-4986-B632-80FE8BB8C3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109-AAFD-4506-9A85-7F044D228E4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BB1-10D9-43CC-AB27-CF183D8BDBC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109-104A-4885-965B-A6FB6BEF98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1BB-89F9-44B2-8975-D124807C10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9F89-2722-4E60-B585-495DF708B89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F5A5-D72F-483B-820D-C4CCCD4B9E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838-3668-4425-B3CF-06684E5737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9A1-7C77-419F-8474-861E2613A8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5D9-E7BA-4D30-A356-8016BA99F73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4BD-6152-408F-B0E1-89C77E98FE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793-B096-4025-9EA9-DA492E9B1FE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C30-7818-4501-BBED-977BBE84F3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C2A-2A6E-49CB-8512-7C656A38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5E1-98B5-4D7C-B2B3-15BC935A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B2-4A37-4BED-8F1C-1ED10A64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4B4-EF1C-484F-916D-43269C0E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FCA-4146-4AE5-A032-232DB9B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4CE-D781-478B-AC2D-9352877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A50-43BA-486E-8F76-70EC2217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097-CB00-4D3F-8F3D-A7C73898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911-DBDC-4B29-9E51-CE6B7FAC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FCE-555A-40A0-A65E-F0B3227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088-612E-4EE7-93B4-A861301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43E-C253-4B93-BA34-C9F6AE2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8B2-2847-4DAC-8E03-4E45DB0540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’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amir al-wadani</dc:creator>
  <dc:description/>
  <dc:language>en-US</dc:language>
  <cp:lastModifiedBy>thamir al-wadani</cp:lastModifiedBy>
  <dcterms:modified xsi:type="dcterms:W3CDTF">2014-03-18T23:41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