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F60-91DF-4FE0-AC97-65F73F2DF5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11E-C71B-4DB6-B6F3-D73E4F3D6FD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422D-7D67-4988-A0A3-90570B139D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F8F8-1E01-4271-987B-8E6695B40EB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ACFE-24B1-44F3-BF90-43CE803E628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ECF8-8FF7-48B6-BA2F-8C62021F397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828C-1B99-413C-BE57-3DFA5C5A16C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318-7DA8-4FEC-84FE-47CD356B8CA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FC0A-E54D-473C-8FFA-FB5F317CEF7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4E50-9DF2-4B14-99C3-52D74335A6B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2AFB-2F2C-42CF-ABDB-EB3929AA4E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B1AD-6342-497C-9E50-9A11535B156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A8FD-6030-4180-98C4-F67CA171DFF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37B1-398E-4957-B7E1-A67084B5C04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6595-811F-4D9C-A1F4-9737BB5B594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29CA-54B4-44A3-914D-C1856522343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0. Landmarks for the deltoid muscle of the upper arm, used for intramuscular inj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41. Administering an intramuscular injection into the deltoid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0DD-E2D1-41AD-AD73-7FB352C5AE7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5-38. Landmarks for the dorsogluteal site for an intramuscular inj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D9F-ADD4-4235-BA72-7537FEC845D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903-EC52-45A9-93C1-6CEE80634DD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9CC3-6D9B-4AD7-AF05-D9F72BCC7C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E02E-0471-4A83-B79A-4E894D2868E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2AAC-0DD2-450C-9049-A788F60483D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054-4165-4D85-B7B4-6B583F0BA0C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9548-C968-4E84-9329-5FABECB71E3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E9D1-310C-47E9-9624-8EA4501A3A8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5CF0-DDDA-4167-AFF8-545B584A9AA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81F-F90A-4BE2-90BF-98BDDE88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B0B3-44D4-4056-9BE1-4E696F89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E8A1-872C-4A6F-BCF8-4C636C00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EDC-187C-499F-8878-37184981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523-ACD5-46D1-B8E9-148D210C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B44-8168-4486-8CB8-B52B7703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66D-3D09-4BFD-8F93-101762C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5C4-4DC5-4CAA-9B73-F04A3B84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089-A23E-45E3-B291-574DC985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ACA-658C-423E-8754-13F3ADC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E18-DC3E-438B-897D-DDC5D355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038-4202-47B3-B59B-FC6F9F1B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D87D-5BF4-4445-8222-513672B745A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7e7ff"/>
                </a:solidFill>
                <a:latin typeface="Arial"/>
              </a:rPr>
              <a:t>MEDICATION 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g Saud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ge of Nur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 1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chanisms of Drug A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ceptor interaction — drug interacts with one of more cellular structures to alter cell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enzyme interaction — combines with enzymes to achieve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ng on cell membrane or altering the cellular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 Drug Absor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solu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l conditions at si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do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um dru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verse Effect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atrogenic disease: disease caused unintentionally by medical thera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c effects: immunologic reaction to the dru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gns and Symptoms of Drug All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tic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m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phylact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actors affecting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ac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tic and cultur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ness &amp;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, timing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s of Medication Orde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ing order — carried out until cancelled by another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n order —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 order — carried out immediately &amp; o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rts of the Medication Ord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’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e and time order is wri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drug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ge of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by which drug is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 of administration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ature of person writing the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Prescrip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1" name="Picture 9" descr="33"/>
          <p:cNvPicPr/>
          <p:nvPr/>
        </p:nvPicPr>
        <p:blipFill>
          <a:blip r:embed="rId1"/>
          <a:stretch/>
        </p:blipFill>
        <p:spPr>
          <a:xfrm>
            <a:off x="1676520" y="1600200"/>
            <a:ext cx="5410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e 7 righ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37124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R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Time (b.i.d, t.i.d, q.i.d. q8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-487440">
              <a:spcBef>
                <a:spcPts val="799"/>
              </a:spcBef>
              <a:buClr>
                <a:srgbClr val="00ff00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ntrolled Substances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quired Inform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patient receiv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unt of narcotic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our narcotic was giv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me of physician prescrib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of the nurse administering narc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990720"/>
            <a:ext cx="8458200" cy="5790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d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ubstance administered for the diagnosis, cure, treatment, or relief of a symptom or for prevention of a dise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or drugs are given to exert specific physiologic effects on the bod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ay an important role in preventing, treating, and curing illness, their administration has become one of the most important, complex and risk-laden aspects of nursing c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1519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O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063440"/>
            <a:ext cx="8540640" cy="52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form — tablets, capsules, p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form — suspensions, syr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 Route — having patient swallow the dr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al route — administering drug through an enteral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 administration — placing drug under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 administration — placing drug between tongue and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dministration of Parenteral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cutaneous injection — subcutaneous tissue (0.5-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muscular injection - muscle tissue (1-3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dermal injection — corium (under epidermis) (0.1 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venous injection — into a ve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cardial injection — heart tissu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peritoneal injection — peritoneal cav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spinal injection — spinal can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traosseous injection — bo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ites for Intramuscula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r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stus lateralis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toid muscle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rsogluteal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entr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16" descr="63-1"/>
          <p:cNvPicPr/>
          <p:nvPr/>
        </p:nvPicPr>
        <p:blipFill>
          <a:blip r:embed="rId1"/>
          <a:stretch/>
        </p:blipFill>
        <p:spPr>
          <a:xfrm>
            <a:off x="1371600" y="1752480"/>
            <a:ext cx="6095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astus Lateralis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438280" y="2030400"/>
            <a:ext cx="40388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oid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13" descr="66-1"/>
          <p:cNvPicPr/>
          <p:nvPr/>
        </p:nvPicPr>
        <p:blipFill>
          <a:blip r:embed="rId1"/>
          <a:stretch/>
        </p:blipFill>
        <p:spPr>
          <a:xfrm>
            <a:off x="217440" y="1419120"/>
            <a:ext cx="4649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8 by Pearson Education,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orsogluteal S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9" descr="65"/>
          <p:cNvPicPr/>
          <p:nvPr/>
        </p:nvPicPr>
        <p:blipFill>
          <a:blip r:embed="rId1"/>
          <a:stretch/>
        </p:blipFill>
        <p:spPr>
          <a:xfrm>
            <a:off x="352440" y="1427040"/>
            <a:ext cx="8405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of admini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cosity of the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ity to be administ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dy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med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riteria for Choosing Equipment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or Injec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pical Administration of Medic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ye: eye drops, oin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s: ear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e: nasal dr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tal: suppos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applications: ointment, cream l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l Record Document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&amp; sign each dose of medication, as soon as it is given, and the patient res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tional or inadvertent omitt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used dru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tion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utes of drug administrat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al: Per m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lingual: under the ton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cal: against the ch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eteral: IV, IM, SC, intradermal, intracardiac, intrathecal,intrapleural, intraoss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al: skin, eyes, ear, nose, rectum or vag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s: local, systemati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are prescribe by physici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 order includes the name of the drug, the dose, the route, frequency, date and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9972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ype of 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1426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appropriate prescribing of the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tra, omitted, or wrong dos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to wrong pati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ministration of drug by wrong route or r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ailure to give medication within prescribed tim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ncorrect preparation of a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mproper technique when administering dru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Giving a drug that has deteriora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dication Error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patient’s condition immediately; observe for adverse effe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y nurse manager and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description of error on medical record and remedial steps ta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special form for reporting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atient Teaching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echniques of medication administ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ind patient to take the medication as prescribed for as long as prescrib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ct patient not to alter dosages without consulting physici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tion patient not to share medications with others even if they have the same disea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Effects of Drug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apeutic effect = desired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 drug i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effect = secondary 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tended, usually predic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harmless or harm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x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from overdose, ingestion of external us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up of drug in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all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unologic reaction to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d to severe reactions (anaphylax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tole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ncreasing doses to maintain therapeutic eff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 interaction</a:t>
            </a:r>
            <a:r>
              <a:rPr b="0" lang="en-US" sz="3200" spc="-1" strike="noStrike">
                <a:solidFill>
                  <a:srgbClr val="7f7f7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drug affecting effect of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tions of Drug on the bod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dynam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by which drug changes the body (mechanism of ac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harmacokinet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of absorption, distribution, biotransformation, and excretion of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ption: movement from the administration site into the bloodstrea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: transportation of the drug from its site to the site of 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sm: the drug is converted by enzymes into a less active form that can be excreted, (most drugs are metabolized in the live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105000"/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retion: elimination from the body. The kidneys are the most important rou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harmacokinetics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Nomenclatu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mical name — describes the chemical constituents of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ic name — assigned by the manufacturer that first develop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name — brand name given by the company that sells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304560"/>
            <a:ext cx="8510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rug Preparation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, pill, tablet, suspension, syr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ic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ion, ointment, suppository, transdermal p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ab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al, Ampo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amir al-wadani</dc:creator>
  <dc:description/>
  <dc:language>en-US</dc:language>
  <cp:lastModifiedBy>thamir al-wadani</cp:lastModifiedBy>
  <dcterms:modified xsi:type="dcterms:W3CDTF">2014-03-18T23:41:2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