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9B5C-D07E-4FD6-9850-5B77F9225E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400-59D5-4BD3-B6E6-60E3AAF522B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274B-45B1-49B1-9EC1-2B68B63AB5D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8258-4A40-42CA-B4CF-4BB2D366172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1606-EBC7-4398-90E8-CB4916956E5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5AD1-6D26-4668-8130-DEB56EA11FF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5F51-3B2C-43AF-9391-10E7056904C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D356-75F2-4867-87E9-E82A25E479F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47EE-E8A8-47A9-8C83-641BE58455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D36B-A5E4-417F-BB44-290A5CB7943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1C1-7700-40F9-BECA-538332F255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3C5A-72A1-4916-8986-F8641CF189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53D1-88E4-4ED7-AD17-0635BBCF950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AD0A-FAFA-422F-8EE3-C50CBA32416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8064-E6F2-4375-8526-2DBC3BD5753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DFCE-D919-4CFD-AAF5-9C671EF0273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0. Landmarks for the deltoid muscle of the upper arm, used for intramuscular inj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1. Administering an intramuscular injection into the deltoid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22C8-C902-458A-AC04-2E0F8E7CAE3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38. Landmarks for the dorsogluteal site for an intramuscular inj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44E1-847A-4F38-A301-993B2E91D7E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937E-4F31-4747-8B8A-6E0937D9C3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3058-6B34-4561-9D88-CBDD8A1590F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48E4-B4FF-462F-B9E2-A45A023520C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168-93DF-4296-99FD-BA740BE96C8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4B4C-5FB7-44EA-AD3C-EBFC68F690C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4D55-3B85-4B91-9642-580587E3B87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9311-6B52-44B0-A694-9B6D7393609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7DFB-49E2-4BC2-B9B3-87DF9C8B11D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EBF-0634-4EC2-BD87-AA9AF0F6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CD1-23D7-4DFF-8969-420AF34A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264-BFD0-4B40-BDEC-0A983EFF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427-AD98-4DFB-9A66-F5D6E77D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AB9-71AC-44A7-B596-E6708914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AB2-B7DE-4A43-B835-920946EC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FB9-AA7B-4F8C-8261-E64FB6B0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795-B40A-450A-A5F7-078474F2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60C-6F9E-46A5-8E51-2A6A0C6B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160-3B59-42AB-88B1-3D5D7D2D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323-EA02-4192-AA28-9DF7CBC0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09E-E9B8-4160-8405-DE1F7154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CD58-7530-40FB-9A69-75B47FAF658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e7ff"/>
                </a:solidFill>
                <a:latin typeface="Arial"/>
              </a:rPr>
              <a:t>MEDICATION 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Saud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ge of 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chanisms of Drug 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ceptor interaction — drug interacts with one of more cellular structures to alter cell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enzyme interaction — combines with enzymes to achieve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g on cell membrane or altering the cellular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10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Drug Absor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conditions at si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do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dru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verse Effect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trogenic disease: disease caused unintentionally by medical thera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ic effects: immunologic reaction to the dru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gns and Symptoms of Drug All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tic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ylac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and cultur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ness &amp;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, timing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s of Medication Or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rder — carried out until cancelled by another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n order —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 order — carried out immediately &amp;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s of the Medication Or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 and time order is 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drug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ge of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by which drug is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of administration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ture of person writing th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Prescri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9" descr="33"/>
          <p:cNvPicPr/>
          <p:nvPr/>
        </p:nvPicPr>
        <p:blipFill>
          <a:blip r:embed="rId1"/>
          <a:stretch/>
        </p:blipFill>
        <p:spPr>
          <a:xfrm>
            <a:off x="1676520" y="1600200"/>
            <a:ext cx="5410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7 righ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ime (b.i.d, t.i.d, q.i.d. q8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ntrolled Substances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quired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patient receiv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of narcotic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r narcotic was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of physician prescrib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the nurse administer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458200" cy="5790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d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administered for the diagnosis, cure, treatment, or relief of a symptom or for prevention of a dis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or drugs are given to exert specific physiologic effects on th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ay an important role in preventing, treating, and curing illness, their administration has become one of the most important, complex and risk-laden aspects of nursing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1519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063440"/>
            <a:ext cx="8540640" cy="52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form — tablets, capsules, p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form — suspensions, syr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Route — having patient swallow the dru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al route — administering drug through an enteral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 administration — placing drug under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 administration — placing drug between tongue and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ministration of Parente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cutaneous injection — subcutaneous tissue (0.5-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muscular injection - muscle tissue (1-3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dermal injection — corium (under epidermis) (0.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venous injection — into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cardial injection — heart t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peritoneal injection — peritoneal ca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spinal injection — spinal ca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osseous injection — b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tes for Intramuscula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tus lateralis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toid muscle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entr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6" descr="63-1"/>
          <p:cNvPicPr/>
          <p:nvPr/>
        </p:nvPicPr>
        <p:blipFill>
          <a:blip r:embed="rId1"/>
          <a:stretch/>
        </p:blipFill>
        <p:spPr>
          <a:xfrm>
            <a:off x="1371600" y="17524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astus Lateralis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438280" y="2030400"/>
            <a:ext cx="4038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ltoid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13" descr="66-1"/>
          <p:cNvPicPr/>
          <p:nvPr/>
        </p:nvPicPr>
        <p:blipFill>
          <a:blip r:embed="rId1"/>
          <a:stretch/>
        </p:blipFill>
        <p:spPr>
          <a:xfrm>
            <a:off x="217440" y="1419120"/>
            <a:ext cx="464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rs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9" descr="65"/>
          <p:cNvPicPr/>
          <p:nvPr/>
        </p:nvPicPr>
        <p:blipFill>
          <a:blip r:embed="rId1"/>
          <a:stretch/>
        </p:blipFill>
        <p:spPr>
          <a:xfrm>
            <a:off x="352440" y="1427040"/>
            <a:ext cx="84056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cosity of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y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iteria for Choosing Equipment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o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al Administration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: eye drops, oin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s: ear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e: nasal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al: suppos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applications: ointment, cream l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l Record Documen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&amp; sign each dose of medication, as soon as it is given, and the patient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or inadvertent omitt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utes of 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: Per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: under the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: against the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eteral: IV, IM, SC, intradermal, intracardiac, intrathecal,intrapleural, intraoss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al: skin, eyes, ear, nose, rectum or vag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: local, systemati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are prescribe by phys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order includes the name of the drug, the dose, the route, frequency, date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997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 of 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appropriate prescribing of the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a, omitted, or wrong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to wrong pat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by wrong route or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ilure to give medication within prescribed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orrect preparation of a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per technique when administering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ving a drug that has deteriora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patie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condition immediately; observe for adverse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y nurse manager and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escription of error on medical record and remedial steps ta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special form for reporting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ient Teaching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echniques of medication adminis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 patient to take the medication as prescribed for as long as prescri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 patient not to alter dosages without consulting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 patient not to share medications with others even if they have the same disea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s of Drug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eutic effect =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drug i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 = secondary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tended, usually predic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harmless or harm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from overdose, ingestion of external us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drug in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l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logic reaction to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 to severe reactions (anaphylax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increasing doses to maintain therapeutic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rug affecting effect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tions of Drug on the bod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dynam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by which drug changes the body (mechanism of a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kinet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absorption, distribution, biotransformation, and excretion of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ption: movement from the administration site into the blood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: transportation of the drug from its site to the site of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bolism: the drug is converted by enzymes into a less active form that can be excreted, (most drugs are metabolized in the liv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ion: elimination from the body. The kidneys are the most important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armacokinetic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Nomencla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name — describes the chemical constituents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ic name — assigned by the manufacturer that first develop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name — brand name given by the company that sell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Prepar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, pill, tablet, suspension, syr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ion, ointment, suppository, transdermal p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al, Ampo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amer Alwadani</cp:lastModifiedBy>
  <dcterms:modified xsi:type="dcterms:W3CDTF">2014-03-30T23:17:5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