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jpeg" ContentType="image/jpeg"/>
  <Override PartName="/ppt/media/image2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4.jpeg" ContentType="image/jpeg"/>
  <Override PartName="/ppt/media/image22.png" ContentType="image/png"/>
  <Override PartName="/ppt/media/image29.png" ContentType="image/png"/>
  <Override PartName="/ppt/media/image21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89E1-68EE-46E4-830C-2EAD5EAE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8DEC-FCC8-4D05-8FAC-2E1062FB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DE21-A161-458F-B5FC-171C23A5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9C11-771D-4D66-B949-FEC9CCEE8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3447-C27D-4F78-8EC8-E159985E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4048-5BE1-443B-A911-AAC3E5598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DE4C-675C-4E6F-88EC-1D6946FA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7520-E5C0-4C41-8774-83209C74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B35A-3165-47CE-8838-6033FF31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BB5E-0F57-411F-BEAD-BAB6CA0D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53A1-9466-4E9B-99F0-244F4430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CF02-3911-42B4-B646-31E27A6B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B7DD-5E6A-4AEB-BF5C-1C5DF641E912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D:/PW/bio%20sem%20II/PowerPoint%20Semester%202/CHAPTER%201%20CELL%20DIVISION/Animation%2013.2.2%20Meiosis%20I_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19160" y="1066320"/>
            <a:ext cx="3276360" cy="1143000"/>
          </a:xfrm>
          <a:prstGeom prst="rect">
            <a:avLst/>
          </a:prstGeom>
          <a:solidFill>
            <a:srgbClr val="ffff66"/>
          </a:solidFill>
          <a:ln w="76320">
            <a:solidFill>
              <a:srgbClr val="ff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MEIOSI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895480"/>
            <a:ext cx="7924680" cy="1556280"/>
          </a:xfrm>
          <a:prstGeom prst="rect">
            <a:avLst/>
          </a:prstGeom>
          <a:solidFill>
            <a:srgbClr val="99ff33"/>
          </a:soli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Verdana"/>
              </a:rPr>
              <a:t>Object: to study the meiosis through its subsequent developmental stages and discuss its Genetics Significant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380880" y="331920"/>
            <a:ext cx="8431200" cy="6318000"/>
            <a:chOff x="380880" y="331920"/>
            <a:chExt cx="8431200" cy="6318000"/>
          </a:xfrm>
        </p:grpSpPr>
        <p:sp>
          <p:nvSpPr>
            <p:cNvPr id="133" name=""/>
            <p:cNvSpPr/>
            <p:nvPr/>
          </p:nvSpPr>
          <p:spPr>
            <a:xfrm>
              <a:off x="784080" y="3716280"/>
              <a:ext cx="2173320" cy="511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880" y="331920"/>
              <a:ext cx="8431200" cy="631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3492360" y="514440"/>
              <a:ext cx="2279520" cy="2887200"/>
              <a:chOff x="3492360" y="514440"/>
              <a:chExt cx="2279520" cy="2887200"/>
            </a:xfrm>
          </p:grpSpPr>
          <p:pic>
            <p:nvPicPr>
              <p:cNvPr id="1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492360" y="871560"/>
                <a:ext cx="2279520" cy="253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"/>
              <p:cNvSpPr/>
              <p:nvPr/>
            </p:nvSpPr>
            <p:spPr>
              <a:xfrm>
                <a:off x="3497040" y="514440"/>
                <a:ext cx="227016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Comic Sans MS"/>
                    <a:ea typeface="Times New Roman"/>
                  </a:rPr>
                  <a:t>1</a:t>
                </a:r>
                <a:r>
                  <a:rPr b="0" lang="en-US" sz="2800" spc="-1" strike="noStrike">
                    <a:solidFill>
                      <a:srgbClr val="000099"/>
                    </a:solidFill>
                    <a:latin typeface="Comic Sans MS"/>
                    <a:ea typeface="Times New Roman"/>
                  </a:rPr>
                  <a:t>. </a:t>
                </a:r>
                <a:r>
                  <a:rPr b="0" lang="en-US" sz="2800" spc="-1" strike="noStrike">
                    <a:solidFill>
                      <a:srgbClr val="000099"/>
                    </a:solidFill>
                    <a:latin typeface="Comic Sans MS"/>
                    <a:ea typeface="Times New Roman"/>
                  </a:rPr>
                  <a:t>Leptoten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6292800" y="544680"/>
              <a:ext cx="2255760" cy="2827080"/>
              <a:chOff x="6292800" y="544680"/>
              <a:chExt cx="2255760" cy="2827080"/>
            </a:xfrm>
          </p:grpSpPr>
          <p:pic>
            <p:nvPicPr>
              <p:cNvPr id="13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292800" y="866880"/>
                <a:ext cx="2255760" cy="25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>
                <a:off x="6294240" y="544680"/>
                <a:ext cx="224640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Comic Sans MS"/>
                    <a:ea typeface="Times New Roman"/>
                  </a:rPr>
                  <a:t>2</a:t>
                </a:r>
                <a:r>
                  <a:rPr b="0" lang="en-US" sz="2800" spc="-1" strike="noStrike">
                    <a:solidFill>
                      <a:srgbClr val="000099"/>
                    </a:solidFill>
                    <a:latin typeface="Comic Sans MS"/>
                    <a:ea typeface="Times New Roman"/>
                  </a:rPr>
                  <a:t>.</a:t>
                </a:r>
                <a:r>
                  <a:rPr b="0" lang="en-US" sz="2800" spc="-1" strike="noStrike">
                    <a:solidFill>
                      <a:srgbClr val="000099"/>
                    </a:solidFill>
                    <a:latin typeface="Comic Sans MS"/>
                    <a:ea typeface="Times New Roman"/>
                  </a:rPr>
                  <a:t>Zygoten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865080" y="4076640"/>
              <a:ext cx="224460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66720" y="3711600"/>
              <a:ext cx="23670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3</a:t>
              </a:r>
              <a:r>
                <a:rPr b="0" lang="en-US" sz="28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.</a:t>
              </a:r>
              <a:r>
                <a:rPr b="0" lang="en-US" sz="2800" spc="-1" strike="noStrike">
                  <a:solidFill>
                    <a:srgbClr val="000099"/>
                  </a:solidFill>
                  <a:latin typeface="Comic Sans MS"/>
                  <a:ea typeface="Times New Roman"/>
                </a:rPr>
                <a:t>Pachyte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3562200" y="3700440"/>
              <a:ext cx="2279520" cy="2881080"/>
              <a:chOff x="3562200" y="3700440"/>
              <a:chExt cx="2279520" cy="2881080"/>
            </a:xfrm>
          </p:grpSpPr>
          <p:pic>
            <p:nvPicPr>
              <p:cNvPr id="14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562200" y="4048560"/>
                <a:ext cx="2279520" cy="253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3565080" y="3700440"/>
                <a:ext cx="226260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Comic Sans MS"/>
                    <a:ea typeface="Times New Roman"/>
                  </a:rPr>
                  <a:t>4.Diploten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367320" y="3683160"/>
              <a:ext cx="2359080" cy="2915640"/>
              <a:chOff x="6367320" y="3683160"/>
              <a:chExt cx="2359080" cy="2915640"/>
            </a:xfrm>
          </p:grpSpPr>
          <p:pic>
            <p:nvPicPr>
              <p:cNvPr id="14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367320" y="4014720"/>
                <a:ext cx="2353320" cy="258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" name=""/>
              <p:cNvSpPr/>
              <p:nvPr/>
            </p:nvSpPr>
            <p:spPr>
              <a:xfrm>
                <a:off x="6367320" y="3683160"/>
                <a:ext cx="2359080" cy="520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Comic Sans MS"/>
                    <a:ea typeface="Times New Roman"/>
                  </a:rPr>
                  <a:t>5.Diakinesi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701280" y="1314360"/>
              <a:ext cx="2241000" cy="58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Prophase 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2197080"/>
              <a:ext cx="344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6560" y="5437080"/>
              <a:ext cx="344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71600" y="5435640"/>
              <a:ext cx="344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52960" y="5435640"/>
              <a:ext cx="344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546120" y="403200"/>
            <a:ext cx="8134200" cy="5985000"/>
            <a:chOff x="546120" y="403200"/>
            <a:chExt cx="8134200" cy="5985000"/>
          </a:xfrm>
        </p:grpSpPr>
        <p:sp>
          <p:nvSpPr>
            <p:cNvPr id="155" name=""/>
            <p:cNvSpPr/>
            <p:nvPr/>
          </p:nvSpPr>
          <p:spPr>
            <a:xfrm>
              <a:off x="546120" y="403200"/>
              <a:ext cx="8134200" cy="598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3914640" y="1014480"/>
              <a:ext cx="1828800" cy="20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"/>
            <a:stretch/>
          </p:blipFill>
          <p:spPr>
            <a:xfrm>
              <a:off x="6686640" y="993960"/>
              <a:ext cx="1828800" cy="19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3"/>
            <a:stretch/>
          </p:blipFill>
          <p:spPr>
            <a:xfrm>
              <a:off x="1935000" y="4206960"/>
              <a:ext cx="1828800" cy="217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5443560" y="4529160"/>
              <a:ext cx="3170160" cy="17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712680" y="611280"/>
              <a:ext cx="22503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Metaphase 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63520" y="644400"/>
              <a:ext cx="20476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aphase 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97560" y="3826080"/>
              <a:ext cx="21056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Telophase 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00920" y="4156200"/>
              <a:ext cx="20980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rophase I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5"/>
            <a:stretch/>
          </p:blipFill>
          <p:spPr>
            <a:xfrm>
              <a:off x="625320" y="743040"/>
              <a:ext cx="2565360" cy="28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886320" y="430200"/>
              <a:ext cx="197748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Prophase I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41440" y="2184480"/>
              <a:ext cx="546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911920" y="2158920"/>
              <a:ext cx="546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23920" y="5613480"/>
              <a:ext cx="546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05240" y="5635800"/>
              <a:ext cx="546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8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Meiosis 2</a:t>
            </a:r>
            <a:r>
              <a:rPr b="0" lang="en-US" sz="4000" spc="-1" strike="noStrike" baseline="30000">
                <a:solidFill>
                  <a:srgbClr val="ffff00"/>
                </a:solidFill>
                <a:latin typeface="Times New Roman"/>
              </a:rPr>
              <a:t>nd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division: </a:t>
            </a:r>
            <a:br>
              <a:rPr sz="4000"/>
            </a:br>
            <a:r>
              <a:rPr b="0" lang="en-US" sz="4000" spc="-1" strike="noStrike">
                <a:solidFill>
                  <a:srgbClr val="33cc33"/>
                </a:solidFill>
                <a:latin typeface="Times New Roman"/>
              </a:rPr>
              <a:t>like mitosis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with haploid s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109520" y="1447920"/>
            <a:ext cx="69249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2261520" y="1162080"/>
            <a:ext cx="4754160" cy="4775040"/>
            <a:chOff x="2261520" y="1162080"/>
            <a:chExt cx="4754160" cy="4775040"/>
          </a:xfrm>
        </p:grpSpPr>
        <p:sp>
          <p:nvSpPr>
            <p:cNvPr id="173" name=""/>
            <p:cNvSpPr/>
            <p:nvPr/>
          </p:nvSpPr>
          <p:spPr>
            <a:xfrm>
              <a:off x="2279520" y="1162080"/>
              <a:ext cx="4726080" cy="477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1"/>
            <a:stretch/>
          </p:blipFill>
          <p:spPr>
            <a:xfrm>
              <a:off x="2351160" y="1384200"/>
              <a:ext cx="4473360" cy="45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2261520" y="1168200"/>
              <a:ext cx="47541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4 Haploid cells Gamet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95360" y="457200"/>
            <a:ext cx="81532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itosis vs 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85800" y="1981080"/>
          <a:ext cx="7772400" cy="33512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ito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eio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27800"/>
                          </a:solidFill>
                          <a:latin typeface="Times New Roman"/>
                        </a:rPr>
                        <a:t>Results 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 Diploid Cells (2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 Haploid Cells (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27800"/>
                          </a:solidFill>
                          <a:latin typeface="Times New Roman"/>
                        </a:rPr>
                        <a:t>Cells 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Genetically Iden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enetically Diffe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a27800"/>
                          </a:solidFill>
                          <a:latin typeface="Times New Roman"/>
                        </a:rPr>
                        <a:t>Occurs 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omatic (Body)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x C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3" descr="meta-i"/>
          <p:cNvPicPr/>
          <p:nvPr/>
        </p:nvPicPr>
        <p:blipFill>
          <a:blip r:embed="rId1"/>
          <a:stretch/>
        </p:blipFill>
        <p:spPr>
          <a:xfrm>
            <a:off x="1828800" y="1550880"/>
            <a:ext cx="5181480" cy="4392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286000" y="6019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phas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6400800" cy="6858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lides for Meiosis I &amp; II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886200" y="4571640"/>
            <a:ext cx="0" cy="7621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16" descr="lily_M1"/>
          <p:cNvPicPr/>
          <p:nvPr/>
        </p:nvPicPr>
        <p:blipFill>
          <a:blip r:embed="rId1"/>
          <a:stretch/>
        </p:blipFill>
        <p:spPr>
          <a:xfrm>
            <a:off x="1523880" y="324000"/>
            <a:ext cx="5943600" cy="5467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276720" y="6019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etaphase 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9" descr="lily_A(1)"/>
          <p:cNvPicPr/>
          <p:nvPr/>
        </p:nvPicPr>
        <p:blipFill>
          <a:blip r:embed="rId1"/>
          <a:stretch/>
        </p:blipFill>
        <p:spPr>
          <a:xfrm>
            <a:off x="1778040" y="596880"/>
            <a:ext cx="5562720" cy="51181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505320" y="6019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naphase 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2" descr="telo-i"/>
          <p:cNvPicPr/>
          <p:nvPr/>
        </p:nvPicPr>
        <p:blipFill>
          <a:blip r:embed="rId1"/>
          <a:stretch/>
        </p:blipFill>
        <p:spPr>
          <a:xfrm>
            <a:off x="1295280" y="587520"/>
            <a:ext cx="6553440" cy="48988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505320" y="5867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lophase 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83920" y="2209680"/>
            <a:ext cx="80010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iosis in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ma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called </a:t>
            </a:r>
            <a:r>
              <a:rPr b="1" lang="en-US" sz="3200" spc="-1" strike="noStrike" u="sng">
                <a:solidFill>
                  <a:srgbClr val="009688"/>
                </a:solidFill>
                <a:uFillTx/>
                <a:latin typeface="Times New Roman"/>
              </a:rPr>
              <a:t>spermatogenes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produce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perm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iosis in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femal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s called </a:t>
            </a:r>
            <a:r>
              <a:rPr b="1" lang="en-US" sz="3200" spc="-1" strike="noStrike" u="sng">
                <a:solidFill>
                  <a:srgbClr val="009688"/>
                </a:solidFill>
                <a:uFillTx/>
                <a:latin typeface="Times New Roman"/>
              </a:rPr>
              <a:t>oogenes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produces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v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53197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wo divis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meiosis I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meiosis I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505320" y="609480"/>
            <a:ext cx="2209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i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5" descr="lilypro2"/>
          <p:cNvPicPr/>
          <p:nvPr/>
        </p:nvPicPr>
        <p:blipFill>
          <a:blip r:embed="rId1"/>
          <a:stretch/>
        </p:blipFill>
        <p:spPr>
          <a:xfrm>
            <a:off x="4648320" y="533520"/>
            <a:ext cx="3809880" cy="3489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352680" y="6019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ophase I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92436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505320" y="6019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etaphase I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3068640" cy="221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286000" y="228600"/>
            <a:ext cx="4902120" cy="32180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5791320" y="3733920"/>
            <a:ext cx="22287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1" descr="mei07"/>
          <p:cNvPicPr/>
          <p:nvPr/>
        </p:nvPicPr>
        <p:blipFill>
          <a:blip r:embed="rId1"/>
          <a:stretch/>
        </p:blipFill>
        <p:spPr>
          <a:xfrm>
            <a:off x="3886200" y="384120"/>
            <a:ext cx="4952880" cy="36100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505320" y="60199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naphase I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354312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34" descr="lilyana2"/>
          <p:cNvPicPr/>
          <p:nvPr/>
        </p:nvPicPr>
        <p:blipFill>
          <a:blip r:embed="rId1"/>
          <a:stretch/>
        </p:blipFill>
        <p:spPr>
          <a:xfrm>
            <a:off x="4495680" y="420840"/>
            <a:ext cx="4191120" cy="38462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352680" y="60958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Telophase I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57200" y="289548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23720" y="304560"/>
            <a:ext cx="312444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Fina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resu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4387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1240" y="4503600"/>
            <a:ext cx="8102520" cy="1556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  <a:ea typeface="Arial"/>
              </a:rPr>
              <a:t>Meiosi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  <a:ea typeface="Arial"/>
              </a:rPr>
              <a:t>Four genetically different haploid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  <a:ea typeface="Arial"/>
              </a:rPr>
              <a:t>from one diploid parent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94160" y="1752480"/>
            <a:ext cx="7782480" cy="1556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  <a:ea typeface="Arial"/>
              </a:rPr>
              <a:t>Mitosi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  <a:ea typeface="Arial"/>
              </a:rPr>
              <a:t>two genetically identical diploid ce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  <a:ea typeface="Arial"/>
              </a:rPr>
              <a:t>from one diploid parent c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316320" y="912960"/>
            <a:ext cx="665280" cy="63000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70560" y="555480"/>
            <a:ext cx="665280" cy="630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70560" y="1612800"/>
            <a:ext cx="665280" cy="630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2120" y="4398840"/>
            <a:ext cx="665280" cy="630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73760" y="3925800"/>
            <a:ext cx="664920" cy="630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73760" y="4983120"/>
            <a:ext cx="664920" cy="630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91360" y="3925800"/>
            <a:ext cx="665280" cy="630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91360" y="4983120"/>
            <a:ext cx="665280" cy="630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128080" y="3925800"/>
            <a:ext cx="664920" cy="630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128080" y="4983120"/>
            <a:ext cx="664920" cy="630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30600" y="4735440"/>
            <a:ext cx="998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67360" y="4735440"/>
            <a:ext cx="998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1560" y="1241280"/>
            <a:ext cx="998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8320" y="879480"/>
            <a:ext cx="3039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1 cell division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2 daughter cell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2760" y="3384720"/>
            <a:ext cx="38228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2 cell divisions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4 cells produc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omic Sans MS"/>
              </a:rPr>
              <a:t>of meio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79920" y="565200"/>
            <a:ext cx="665280" cy="630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75240" y="1595520"/>
            <a:ext cx="665280" cy="63000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27440" y="4400640"/>
            <a:ext cx="664920" cy="63000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82000" y="3924360"/>
            <a:ext cx="664920" cy="63000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88120" y="5003640"/>
            <a:ext cx="665280" cy="630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121600" y="4986360"/>
            <a:ext cx="665280" cy="630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39240" y="3932280"/>
            <a:ext cx="664920" cy="63036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05720" y="5919840"/>
            <a:ext cx="48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n=chromosom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09280" y="195120"/>
            <a:ext cx="26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omatic ce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32240" y="3030480"/>
            <a:ext cx="39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ells in sexual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6200" y="106200"/>
            <a:ext cx="18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IT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3480" y="2792520"/>
            <a:ext cx="181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EI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603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3429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omologous chromosom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embers of a chromosome pair that is identical in the 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arrangement of ge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0" t="8331" r="0" b="10000"/>
          <a:stretch/>
        </p:blipFill>
        <p:spPr>
          <a:xfrm>
            <a:off x="3886200" y="148608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Homologous Chromoso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37"/>
          <p:cNvGrpSpPr/>
          <p:nvPr/>
        </p:nvGrpSpPr>
        <p:grpSpPr>
          <a:xfrm>
            <a:off x="2957760" y="6005520"/>
            <a:ext cx="3035520" cy="454680"/>
            <a:chOff x="2957760" y="6005520"/>
            <a:chExt cx="3035520" cy="454680"/>
          </a:xfrm>
        </p:grpSpPr>
        <p:sp>
          <p:nvSpPr>
            <p:cNvPr id="80" name="Rectangle 16"/>
            <p:cNvSpPr/>
            <p:nvPr/>
          </p:nvSpPr>
          <p:spPr>
            <a:xfrm>
              <a:off x="2957760" y="6005520"/>
              <a:ext cx="1383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ff33"/>
                  </a:solidFill>
                  <a:latin typeface="Arial"/>
                </a:rPr>
                <a:t>Pater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7"/>
            <p:cNvSpPr/>
            <p:nvPr/>
          </p:nvSpPr>
          <p:spPr>
            <a:xfrm>
              <a:off x="4557600" y="6005520"/>
              <a:ext cx="1435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ff33"/>
                  </a:solidFill>
                  <a:latin typeface="Arial"/>
                </a:rPr>
                <a:t>Matern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36"/>
          <p:cNvGrpSpPr/>
          <p:nvPr/>
        </p:nvGrpSpPr>
        <p:grpSpPr>
          <a:xfrm>
            <a:off x="304920" y="2146320"/>
            <a:ext cx="8574120" cy="3664080"/>
            <a:chOff x="304920" y="2146320"/>
            <a:chExt cx="8574120" cy="3664080"/>
          </a:xfrm>
        </p:grpSpPr>
        <p:sp>
          <p:nvSpPr>
            <p:cNvPr id="83" name="Freeform 4"/>
            <p:cNvSpPr/>
            <p:nvPr/>
          </p:nvSpPr>
          <p:spPr>
            <a:xfrm>
              <a:off x="3830760" y="2146320"/>
              <a:ext cx="601560" cy="3645000"/>
            </a:xfrm>
            <a:prstGeom prst="pie">
              <a:avLst/>
            </a:prstGeom>
            <a:solidFill>
              <a:srgbClr val="00cc9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3335400" y="2203560"/>
              <a:ext cx="515880" cy="3606840"/>
            </a:xfrm>
            <a:prstGeom prst="pie">
              <a:avLst/>
            </a:prstGeom>
            <a:solidFill>
              <a:srgbClr val="00cc9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6"/>
            <p:cNvSpPr/>
            <p:nvPr/>
          </p:nvSpPr>
          <p:spPr>
            <a:xfrm rot="60000">
              <a:off x="3669840" y="3744720"/>
              <a:ext cx="453960" cy="53316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4897440" y="2146320"/>
              <a:ext cx="601560" cy="3645000"/>
            </a:xfrm>
            <a:prstGeom prst="pie">
              <a:avLst/>
            </a:prstGeom>
            <a:solidFill>
              <a:srgbClr val="cccc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4402080" y="2203560"/>
              <a:ext cx="515880" cy="3606840"/>
            </a:xfrm>
            <a:prstGeom prst="pie">
              <a:avLst/>
            </a:prstGeom>
            <a:solidFill>
              <a:srgbClr val="cccc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9"/>
            <p:cNvSpPr/>
            <p:nvPr/>
          </p:nvSpPr>
          <p:spPr>
            <a:xfrm rot="60000">
              <a:off x="4736880" y="3744720"/>
              <a:ext cx="453960" cy="53316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0"/>
            <p:cNvSpPr/>
            <p:nvPr/>
          </p:nvSpPr>
          <p:spPr>
            <a:xfrm>
              <a:off x="3454560" y="2666880"/>
              <a:ext cx="3301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11"/>
            <p:cNvSpPr/>
            <p:nvPr/>
          </p:nvSpPr>
          <p:spPr>
            <a:xfrm>
              <a:off x="4978440" y="2666880"/>
              <a:ext cx="48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Rectangle 12"/>
            <p:cNvSpPr/>
            <p:nvPr/>
          </p:nvSpPr>
          <p:spPr>
            <a:xfrm>
              <a:off x="6080400" y="2470320"/>
              <a:ext cx="1298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33"/>
                  </a:solidFill>
                  <a:latin typeface="Arial"/>
                </a:rPr>
                <a:t>eye co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33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99ff33"/>
                  </a:solidFill>
                  <a:latin typeface="Arial"/>
                </a:rPr>
                <a:t>loc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13"/>
            <p:cNvSpPr/>
            <p:nvPr/>
          </p:nvSpPr>
          <p:spPr>
            <a:xfrm>
              <a:off x="5575320" y="26668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14"/>
            <p:cNvSpPr/>
            <p:nvPr/>
          </p:nvSpPr>
          <p:spPr>
            <a:xfrm>
              <a:off x="2755800" y="2666880"/>
              <a:ext cx="43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Rectangle 15"/>
            <p:cNvSpPr/>
            <p:nvPr/>
          </p:nvSpPr>
          <p:spPr>
            <a:xfrm>
              <a:off x="1432080" y="2470320"/>
              <a:ext cx="1298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33"/>
                  </a:solidFill>
                  <a:latin typeface="Arial"/>
                </a:rPr>
                <a:t>eye co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33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99ff33"/>
                  </a:solidFill>
                  <a:latin typeface="Arial"/>
                </a:rPr>
                <a:t>loc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18"/>
            <p:cNvSpPr/>
            <p:nvPr/>
          </p:nvSpPr>
          <p:spPr>
            <a:xfrm>
              <a:off x="7448400" y="2838600"/>
              <a:ext cx="382680" cy="2268360"/>
            </a:xfrm>
            <a:prstGeom prst="pie">
              <a:avLst/>
            </a:prstGeom>
            <a:solidFill>
              <a:srgbClr val="00cc9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19"/>
            <p:cNvSpPr/>
            <p:nvPr/>
          </p:nvSpPr>
          <p:spPr>
            <a:xfrm>
              <a:off x="7772400" y="2819520"/>
              <a:ext cx="420840" cy="2211120"/>
            </a:xfrm>
            <a:prstGeom prst="pie">
              <a:avLst/>
            </a:prstGeom>
            <a:solidFill>
              <a:srgbClr val="00cc9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20"/>
            <p:cNvSpPr/>
            <p:nvPr/>
          </p:nvSpPr>
          <p:spPr>
            <a:xfrm>
              <a:off x="7556400" y="3746520"/>
              <a:ext cx="432000" cy="50796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21"/>
            <p:cNvSpPr/>
            <p:nvPr/>
          </p:nvSpPr>
          <p:spPr>
            <a:xfrm>
              <a:off x="8134200" y="2762280"/>
              <a:ext cx="382680" cy="2268360"/>
            </a:xfrm>
            <a:prstGeom prst="pie">
              <a:avLst/>
            </a:prstGeom>
            <a:solidFill>
              <a:srgbClr val="cccc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22"/>
            <p:cNvSpPr/>
            <p:nvPr/>
          </p:nvSpPr>
          <p:spPr>
            <a:xfrm>
              <a:off x="8458200" y="2743200"/>
              <a:ext cx="420840" cy="2211480"/>
            </a:xfrm>
            <a:prstGeom prst="pie">
              <a:avLst/>
            </a:prstGeom>
            <a:solidFill>
              <a:srgbClr val="cccc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23"/>
            <p:cNvSpPr/>
            <p:nvPr/>
          </p:nvSpPr>
          <p:spPr>
            <a:xfrm>
              <a:off x="8242200" y="3670200"/>
              <a:ext cx="432000" cy="50796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24"/>
            <p:cNvSpPr/>
            <p:nvPr/>
          </p:nvSpPr>
          <p:spPr>
            <a:xfrm>
              <a:off x="304920" y="3162240"/>
              <a:ext cx="230040" cy="916200"/>
            </a:xfrm>
            <a:prstGeom prst="pie">
              <a:avLst/>
            </a:prstGeom>
            <a:solidFill>
              <a:srgbClr val="00cc9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25"/>
            <p:cNvSpPr/>
            <p:nvPr/>
          </p:nvSpPr>
          <p:spPr>
            <a:xfrm>
              <a:off x="533520" y="3162240"/>
              <a:ext cx="249120" cy="916200"/>
            </a:xfrm>
            <a:prstGeom prst="pie">
              <a:avLst/>
            </a:prstGeom>
            <a:solidFill>
              <a:srgbClr val="00cc99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26"/>
            <p:cNvSpPr/>
            <p:nvPr/>
          </p:nvSpPr>
          <p:spPr>
            <a:xfrm>
              <a:off x="393840" y="3441600"/>
              <a:ext cx="279360" cy="3556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27"/>
            <p:cNvSpPr/>
            <p:nvPr/>
          </p:nvSpPr>
          <p:spPr>
            <a:xfrm>
              <a:off x="762120" y="3162240"/>
              <a:ext cx="230040" cy="916200"/>
            </a:xfrm>
            <a:prstGeom prst="pie">
              <a:avLst/>
            </a:prstGeom>
            <a:solidFill>
              <a:srgbClr val="cccc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28"/>
            <p:cNvSpPr/>
            <p:nvPr/>
          </p:nvSpPr>
          <p:spPr>
            <a:xfrm>
              <a:off x="990720" y="3162240"/>
              <a:ext cx="249120" cy="916200"/>
            </a:xfrm>
            <a:prstGeom prst="pie">
              <a:avLst/>
            </a:prstGeom>
            <a:solidFill>
              <a:srgbClr val="ccccff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29"/>
            <p:cNvSpPr/>
            <p:nvPr/>
          </p:nvSpPr>
          <p:spPr>
            <a:xfrm>
              <a:off x="851040" y="3441600"/>
              <a:ext cx="279360" cy="355680"/>
            </a:xfrm>
            <a:prstGeom prst="ellipse">
              <a:avLst/>
            </a:prstGeom>
            <a:solidFill>
              <a:srgbClr val="d93192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30"/>
            <p:cNvSpPr/>
            <p:nvPr/>
          </p:nvSpPr>
          <p:spPr>
            <a:xfrm>
              <a:off x="3378240" y="5181480"/>
              <a:ext cx="406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31"/>
            <p:cNvSpPr/>
            <p:nvPr/>
          </p:nvSpPr>
          <p:spPr>
            <a:xfrm>
              <a:off x="4978440" y="5181480"/>
              <a:ext cx="4824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32"/>
            <p:cNvSpPr/>
            <p:nvPr/>
          </p:nvSpPr>
          <p:spPr>
            <a:xfrm>
              <a:off x="1432080" y="4984920"/>
              <a:ext cx="1339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33"/>
                  </a:solidFill>
                  <a:latin typeface="Arial"/>
                </a:rPr>
                <a:t>hair co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33"/>
                  </a:solidFill>
                  <a:latin typeface="Arial"/>
                </a:rPr>
                <a:t>    </a:t>
              </a:r>
              <a:r>
                <a:rPr b="1" lang="en-US" sz="2000" spc="-1" strike="noStrike">
                  <a:solidFill>
                    <a:srgbClr val="99ff33"/>
                  </a:solidFill>
                  <a:latin typeface="Arial"/>
                </a:rPr>
                <a:t>loc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33"/>
            <p:cNvSpPr/>
            <p:nvPr/>
          </p:nvSpPr>
          <p:spPr>
            <a:xfrm>
              <a:off x="2755800" y="5181480"/>
              <a:ext cx="43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4"/>
            <p:cNvSpPr/>
            <p:nvPr/>
          </p:nvSpPr>
          <p:spPr>
            <a:xfrm>
              <a:off x="6080400" y="5022720"/>
              <a:ext cx="13395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33"/>
                  </a:solidFill>
                  <a:latin typeface="Arial"/>
                </a:rPr>
                <a:t>hair co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ff33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99ff33"/>
                  </a:solidFill>
                  <a:latin typeface="Arial"/>
                </a:rPr>
                <a:t>loc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35"/>
            <p:cNvSpPr/>
            <p:nvPr/>
          </p:nvSpPr>
          <p:spPr>
            <a:xfrm>
              <a:off x="5651640" y="5181480"/>
              <a:ext cx="43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4800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ynapsis: (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تشابك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imate association 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ترابط وثيق</a:t>
            </a:r>
            <a:r>
              <a:rPr b="0" lang="ar-SA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 of homologous chromosome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2498" t="5000" r="61566" b="21787"/>
          <a:stretch/>
        </p:blipFill>
        <p:spPr>
          <a:xfrm>
            <a:off x="5638680" y="1600200"/>
            <a:ext cx="2819520" cy="3873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34120" y="5638680"/>
            <a:ext cx="3276360" cy="7038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00cc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mologous chromoso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99ff33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3733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rossing-over: (</a:t>
            </a:r>
            <a:r>
              <a:rPr b="0" lang="ar-SA" sz="2800" spc="-1" strike="noStrike">
                <a:solidFill>
                  <a:srgbClr val="ffff00"/>
                </a:solidFill>
                <a:latin typeface="Times New Roman"/>
                <a:cs typeface="Times New Roman"/>
              </a:rPr>
              <a:t>العبور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erm describing the process of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reciprocal chromosom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terchange by which recombinants a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4352" r="0" b="0"/>
          <a:stretch/>
        </p:blipFill>
        <p:spPr>
          <a:xfrm>
            <a:off x="4114800" y="1523880"/>
            <a:ext cx="4838760" cy="34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365120" y="154080"/>
            <a:ext cx="6569280" cy="6211800"/>
            <a:chOff x="1365120" y="154080"/>
            <a:chExt cx="6569280" cy="6211800"/>
          </a:xfrm>
        </p:grpSpPr>
        <p:sp>
          <p:nvSpPr>
            <p:cNvPr id="121" name=""/>
            <p:cNvSpPr/>
            <p:nvPr/>
          </p:nvSpPr>
          <p:spPr>
            <a:xfrm>
              <a:off x="1365120" y="154080"/>
              <a:ext cx="6483600" cy="618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2141640" y="519120"/>
              <a:ext cx="4884480" cy="584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2905560" y="241200"/>
              <a:ext cx="3131280" cy="6426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rossing over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92640" y="984240"/>
              <a:ext cx="256716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Pairing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of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homologou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romos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72200" y="2454120"/>
              <a:ext cx="184968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Chiasma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form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13600" y="3603600"/>
              <a:ext cx="2620800" cy="137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romos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Breakage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and </a:t>
              </a: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join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29720" y="5168880"/>
              <a:ext cx="263736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Comic Sans MS"/>
                </a:rPr>
                <a:t>Recombinant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hromosom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H="1">
            <a:off x="6933960" y="2743200"/>
            <a:ext cx="609480" cy="0"/>
          </a:xfrm>
          <a:prstGeom prst="line">
            <a:avLst/>
          </a:prstGeom>
          <a:ln w="38160">
            <a:solidFill>
              <a:srgbClr val="99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0043"/>
            </a:gs>
            <a:gs pos="50000">
              <a:srgbClr val="d60093"/>
            </a:gs>
            <a:gs pos="100000">
              <a:srgbClr val="62004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MEIOSIS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257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rophase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nges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phase. This phase can be divided into 5 stag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a)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Leptot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b)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Zygot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c)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Pachyt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d)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Diplot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e)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Diakin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rcRect l="25828" t="26721" r="51680" b="3446"/>
          <a:stretch/>
        </p:blipFill>
        <p:spPr>
          <a:xfrm>
            <a:off x="4876920" y="990720"/>
            <a:ext cx="4038480" cy="53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خالد</cp:lastModifiedBy>
  <dcterms:modified xsi:type="dcterms:W3CDTF">2013-02-27T04:27:55Z</dcterms:modified>
  <cp:revision>47</cp:revision>
  <dc:subject/>
  <dc:title>PowerPoint Presentation</dc:title>
</cp:coreProperties>
</file>