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1059F1-9AC7-4531-872D-C0160368B8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DC777-BE65-4DEC-8AD4-449BEDBC9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BA3E59-A51D-4935-96E7-E09D6BAD99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EC5455-DD17-4FC8-AF6F-02327DEE3E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AA5C5-741E-40CC-A2AA-1337F86E5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37462-8BC8-4670-B960-FEDC9161C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AE484-0380-47D9-AA36-4CAB6220F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7809C-58A9-4CD6-B7E9-7752B839E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4BBF3-F854-4CD8-A5C6-3D9DAA27E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C1E86-DFE4-46C0-9D7C-92137A0BD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E5925-4FF4-4CBF-AF92-EC8BA549C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F6483-EF14-4AFB-8BB9-DE45ACBAF2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ECD5A-46BC-42CB-ADA9-939E27FDFD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graphicFrame>
        <p:nvGraphicFramePr>
          <p:cNvPr id="41" name="ShockwaveFlash1"/>
          <p:cNvGraphicFramePr/>
          <p:nvPr/>
        </p:nvGraphicFramePr>
        <p:xfrm>
          <a:off x="1442880" y="382680"/>
          <a:ext cx="6097680" cy="6170400"/>
        </p:xfrm>
        <a:graphic>
          <a:graphicData uri="http://schemas.openxmlformats.org/presentationml/2006/ole">
            <p:oleObj r:id="rId1" spid="">
              <p:embed/>
              <p:pic>
                <p:nvPicPr>
                  <p:cNvPr id="42" name="ShockwaveFlash1" descr=""/>
                  <p:cNvPicPr/>
                  <p:nvPr/>
                </p:nvPicPr>
                <p:blipFill>
                  <a:blip r:embed="rId2"/>
                  <a:stretch/>
                </p:blipFill>
                <p:spPr>
                  <a:xfrm>
                    <a:off x="1442880" y="382680"/>
                    <a:ext cx="6097680" cy="6170400"/>
                  </a:xfrm>
                  <a:prstGeom prst="rect">
                    <a:avLst/>
                  </a:prstGeom>
                  <a:ln w="0">
                    <a:noFill/>
                  </a:ln>
                </p:spPr>
              </p:pic>
            </p:oleObj>
          </a:graphicData>
        </a:graphic>
      </p:graphicFrame>
      <p:sp>
        <p:nvSpPr>
          <p:cNvPr id="43" name=""/>
          <p:cNvSpPr/>
          <p:nvPr/>
        </p:nvSpPr>
        <p:spPr>
          <a:xfrm>
            <a:off x="2819520" y="1828800"/>
            <a:ext cx="3581280" cy="265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ease note that due to differing operating systems, some animations will not appear until the presentation is viewed in Presentation Mode (Slide Show view). You may see blank slides in the “Normal” or “Slide Sorter” views. All animations will appear after viewing in Presentation Mode and playing each animation. Most animations will require the latest version of the Flash Player, which is available at http://get.adobe.com/flashplay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09:20:29Z</dcterms:created>
  <dc:creator>khale</dc:creator>
  <dc:description/>
  <dc:language>en-US</dc:language>
  <cp:lastModifiedBy>khale</cp:lastModifiedBy>
  <dcterms:modified xsi:type="dcterms:W3CDTF">2012-03-04T09:21:37Z</dcterms:modified>
  <cp:revision>1</cp:revision>
  <dc:subject/>
  <dc:title>الشريحة 1</dc:title>
</cp:coreProperties>
</file>