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104-B781-4462-9AEB-3B7A6B96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E20-8CD2-423B-B3E9-B475E772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AA57-92A7-42F7-A103-91E49E57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CD0-1F2E-45D3-A038-2EDAB29D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76C-5D26-4E52-933C-6714E4BA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3A53-D391-4C21-A536-D708C151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F11-85C3-4D9F-9137-493FA996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9DD-BE83-4A4B-B1A1-9E725A48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F239-45D6-4C21-B3B4-97C582BF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31B-87EB-49D7-9356-D335487A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8C0-98E9-4368-9FAA-AFB9C8C5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6B7-7A05-4043-BF39-890326EF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C98F-18E6-4922-939F-83BD71F44AF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 </a:t>
            </a:r>
            <a:br>
              <a:rPr sz="1800"/>
            </a:b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Introduction to Mental Health Nursing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ENTAL HEALTH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ND MENTAL ILLNES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920" y="1557360"/>
            <a:ext cx="8858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Mental health and mental illness are difficult to def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precisely. People who can carry out their roles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society and whose behavior is appropriate and adap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re viewed as healthy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onversely those who f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o fulfill roles and carry out responsibilities or wh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behavior is inappropriate are viewed as ill.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cul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of any society strongly influences its values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beliefs, and this in turn affects how that society def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health and illness. What one society may 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s acceptable and appropriate, another society m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see as maladaptive or inappropriate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ENTAL HEALTH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ND MENTAL ILLNES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785520"/>
            <a:ext cx="88581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.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DIAGNOSTIC AND STATIS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MANUAL OF MENTAL DISOR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DSM-IV-TR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Diagnostic and Statistical Manual of Men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Disorders-Text Revision (DSM-IV-TR), n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n its fourth edition, is a taxonomy published 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APA. The </a:t>
            </a: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DSM-IV-TR describes all mental disorders</a:t>
            </a: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outlining specific diagnostic criteria for e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based on clinical experience and research. All men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health clinicians who diagnose psychiatric disor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use the </a:t>
            </a: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DSM-IV-TR</a:t>
            </a:r>
            <a:r>
              <a:rPr b="0" i="1" lang="en-US" sz="2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ENTAL HEALTH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ND MENTAL ILLNES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57120" y="78552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.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DIAGNOSTIC AND STATIS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MANUAL OF MENTAL DISOR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DSM-IV-TR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he </a:t>
            </a: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DSM-IV-TR has three purposes</a:t>
            </a: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o provide a standardized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language for all mental health profession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o present defining characteristics or symp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hat differentiate specific diagno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o assist in identifying the underl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auses of disor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STANDARDS OF PSYCHIATRIC-MENTAL HEALTH CLINICAL NURSING PRACTIC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2920" y="785520"/>
            <a:ext cx="88581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STANDARDS OF CARE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Standard I.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he psychiatric-mental health nurse collects cli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health data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Standard II. Diagno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he psychiatric-mental health nurse analyzes the 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in determining diagnoses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Standard III. Outcome Identif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he psychiatric-mental health nurse identifies expec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outcomes individualized to the client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Standard IV. Plann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he psychiatric-mental health nurse develops a plan o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care that prescribes interventions to attain expec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outcomes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Standard V. Implem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he psychiatric-mental health nurse implements 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interventions identified in the plan of care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Standard Va. Counsel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he psychiatric-mental health nurse uses counsel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interventions to assist clients in improving or regain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heir previous coping abilities, foster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mental health, and preventing mental illness 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disability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Standard Vb. Milieu Therap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he psychiatric-mental health nurse provides, structures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and maintains a therapeutic environment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collaboration with the client and other health ca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providers</a:t>
            </a:r>
            <a:r>
              <a:rPr b="0" lang="en-US" sz="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ar-SA" sz="16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Actual or potential mental health problems pertaining to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The maintenance of optimal health and well-being and the prevention of psychobiologic illness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Self-care limitations or impaired functioning related to mental and emotional distress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Deficits in the functioning of significant biologic, emotional, and cognitive symptoms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Emotional stress or crisis components of illness, pain, and disability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Self-concept changes, developmental issues, and life process changes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Problems related to emotions such as anxiety, anger, sadness, loneliness, and grief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Physical symptoms that occur along with altered psychological functioning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Alterations in thinking, perceiving, symbolizing, communicating, and decision-making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Difficulties relating to others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Behaviors and mental states that indicate the client is a danger to self or others or has a severe disability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Interpersonal, systemic, sococultural, spiritual, or environmental circumstances or events that affect the mental or emotional well-being of the individual, family, or community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Symptom management, side effects/toxicities associated with psychopharmacologic intervention, and other aspects of the treatment regim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760" y="285840"/>
            <a:ext cx="85010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PSYCHIATRIC MENTAL HEALTH NURSING PHENOMENA OF CONC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ar-SA" sz="16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28760" y="285840"/>
            <a:ext cx="85010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SYCHIATRIC NURSING PRACTICE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n 1873, Linda Richards graduated from the New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England Hospital for Women and Children in Boston.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She went on to improve nursing care in psychiatric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hospitals and organized educational programs in state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ental hospitals in Illinois. Richards is called the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first American psychiatric nurse; she believed that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“the mentally sick should be at least as well cared for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as the physically sick” (Doona, 1984).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he first training of nurses to work with persons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with mental illness was in 1882 at McLean Hospital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n Waverly, Mass. The care was primarily custodial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and focused on nutrition, hygiene, and activity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AREAS OF PRACTICE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BASIC-LEVEL FUNCTIONS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• 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Counseling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Interventions and communication techniques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Problem solving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Crisis intervention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Stress management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Behavior modification</a:t>
            </a:r>
            <a:br>
              <a:rPr sz="1400"/>
            </a:b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• Milieu therapy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Maintain therapeutic environment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each skills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Encourage communication between clients and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others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Promote growth through role-modeling</a:t>
            </a:r>
            <a:br>
              <a:rPr sz="1400"/>
            </a:b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• Self-care activities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Encourage independence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Increase self-esteem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Improve function and health</a:t>
            </a:r>
            <a:br>
              <a:rPr sz="1400"/>
            </a:b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• Psychobiologic interventions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Administer medications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eaching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Observations</a:t>
            </a:r>
            <a:br>
              <a:rPr sz="1400"/>
            </a:b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• Health teaching</a:t>
            </a:r>
            <a:br>
              <a:rPr sz="1400"/>
            </a:b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• Case management</a:t>
            </a:r>
            <a:br>
              <a:rPr sz="1400"/>
            </a:b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• Health promotion and maintenance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ADVANCED-LEVEL FUNCTIONS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• Psychotherapy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• Prescriptive authority for drugs (in many states)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• Consultation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• Evalu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Critical Thinking Questions</a:t>
            </a:r>
            <a:br>
              <a:rPr sz="2000"/>
            </a:b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1. In your own words, describe mental health.</a:t>
            </a:r>
            <a:br>
              <a:rPr sz="2000"/>
            </a:b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Describe the characteristics, behavior, and</a:t>
            </a:r>
            <a:br>
              <a:rPr sz="2000"/>
            </a:br>
            <a:r>
              <a:rPr b="1" lang="ar-SA" sz="2000" spc="-1" strike="noStrike">
                <a:solidFill>
                  <a:srgbClr val="1f497d"/>
                </a:solidFill>
                <a:latin typeface="Calibri"/>
              </a:rPr>
              <a:t> .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bilities of someone who is mentally health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2. When you think of mental illness, what images</a:t>
            </a:r>
            <a:br>
              <a:rPr sz="2000"/>
            </a:b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r ideas come to mind? Where do these</a:t>
            </a:r>
            <a:br>
              <a:rPr sz="2000"/>
            </a:b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ideas come from—movies, television, personal</a:t>
            </a:r>
            <a:br>
              <a:rPr sz="2000"/>
            </a:b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xperience?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3. What personal characteristics do you have</a:t>
            </a:r>
            <a:br>
              <a:rPr sz="2000"/>
            </a:b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hat indicate good mental health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21:03:51Z</dcterms:created>
  <dc:creator>dell</dc:creator>
  <dc:description/>
  <dc:language>en-US</dc:language>
  <cp:lastModifiedBy>DELL</cp:lastModifiedBy>
  <dcterms:modified xsi:type="dcterms:W3CDTF">2015-10-18T20:13:29Z</dcterms:modified>
  <cp:revision>19</cp:revision>
  <dc:subject/>
  <dc:title>STANDARDS OF PSYCHIATRIC-MENTAL HEALTH CLINICAL NURSING PRACTICE</dc:title>
</cp:coreProperties>
</file>