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C38-9556-401D-AEB8-B1C937F4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3E0-CC7A-4B9D-A872-FF21E1D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9F4-1617-4B77-BAA1-75B29897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215-209D-4CF0-B3A6-D1A3B8ED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B2B-6D45-4613-9D75-EF1DD56D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E3A-66BF-4957-9475-7304F846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13C-AD41-4277-B0BB-FF2E6C7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E45-C083-4AB4-B7DD-4F43755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EA6-3600-48E1-A347-D41D6308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E2A-C6E3-448F-BEA1-1141065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747-E1F4-4439-BF71-94880D92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A55-514E-4B6D-B0A9-8CF26C27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A8D-EBB7-49CF-8104-CAD22232D1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ntroduction to Mental Health Nursing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1557360"/>
            <a:ext cx="8858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ental health and mental illness are difficult to def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recisely. People who can carry out their role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ociety and whose behavior is appropriate and adap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re viewed as healthy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versely those who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fulfill roles and carry out responsibilities or wh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ehavior is inappropriate are viewed as ill.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any society strongly influences its values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beliefs, and this in turn affects how that society def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ealth and illness. What one society may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cceptable and appropriate, another society m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ee as maladaptive or inappropriate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785520"/>
            <a:ext cx="8858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IAGNOSTIC AND STAT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ANUAL OF MENTAL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Diagnostic and Statistical Manual of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isorders-Text Revision (DSM-IV-TR),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 its fourth edition, is a taxonomy published 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APA. The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DSM-IV-TR describes all mental disorders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utlining specific diagnostic criteria for 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based on clinical experience and research. All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ealth clinicians who diagnose psychiatric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se the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0" i="1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ENTAL HEALTH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ND MENTAL ILLNES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7120" y="78552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.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DIAGNOSTIC AND STAT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MANUAL OF MENTAL DISOR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SM-IV-TR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DSM-IV-TR has three purposes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provide a standardized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anguage for all mental health profess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present defining characteristics or symp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at differentiate specific diagn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o assist in identifying the underl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auses of disor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TANDARDS OF PSYCHIATRIC-MENTAL HEALTH CLINICAL NURSING PRACTI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920" y="78552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STANDARDS OF CARE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.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collects cli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health data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I. Diagno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analyzes the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 determining diagnos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II. Outcome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identifies exp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utcomes individualized to the clien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IV. Plan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develops a plan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are that prescribes interventions to attain exp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utcom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. Implem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implements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identified in the plan of care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a. Couns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uses couns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to assist clients in improving or regain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ir previous coping abilities, foste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mental health, and preventing mental illness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disability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Standard Vb. Milieu Therap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he psychiatric-mental health nurse provides, structures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nd maintains a therapeutic environment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ollaboration with the client and other health c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viders</a:t>
            </a: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Actual or potential mental health problems pertaining to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The maintenance of optimal health and well-being and the prevention of psychobiologic illnes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elf-care limitations or impaired functioning related to mental and emotional distres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Deficits in the functioning of significant biologic, emotional, and cognitive symptom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Emotional stress or crisis components of illness, pain, and disabil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elf-concept changes, developmental issues, and life process change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Problems related to emotions such as anxiety, anger, sadness, loneliness, and grief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Physical symptoms that occur along with altered psychological functioning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Alterations in thinking, perceiving, symbolizing, communicating, and decision-making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Difficulties relating to others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Behaviors and mental states that indicate the client is a danger to self or others or has a severe disabil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Interpersonal, systemic, sococultural, spiritual, or environmental circumstances or events that affect the mental or emotional well-being of the individual, family, or community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• Symptom management, side effects/toxicities associated with psychopharmacologic intervention, and other aspects of the treatment regi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SYCHIATRIC MENTAL HEALTH NURSING PHENOMENA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SYCHIATRIC NURSING PRACTIC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 1873, Linda Richards graduated from the New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England Hospital for Women and Children in Boston.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he went on to improve nursing care in psychiatric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ospitals and organized educational programs in stat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ntal hospitals in Illinois. Richards is called the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first American psychiatric nurse; she believed that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“the mentally sick should be at least as well cared for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s the physically sick” (Doona, 1984).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first training of nurses to work with persons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with mental illness was in 1882 at McLean Hospita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 Waverly, Mass. The care was primarily custodial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d focused on nutrition, hygiene, and activity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AREAS OF PRACTI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BASIC-LEVEL FUNC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Counsel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terventions and communication technique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blem solv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risis interventio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Stress management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Behavior modification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Milieu therap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Maintain therapeutic environment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each skill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Encourage communication between clients and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ther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romote growth through role-modeling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Self-care activitie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Encourage independen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ncrease self-esteem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Improve function and health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Psychobiologic interven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dminister medica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Teaching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bservations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Health teaching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Case management</a:t>
            </a:r>
            <a:br>
              <a:rPr sz="1400"/>
            </a:b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• Health promotion and maintenanc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ADVANCED-LEVEL FUNCTIONS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Psychotherapy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Prescriptive authority for drugs (in many states)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Consultation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•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Critical Thinking Questions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1. In your own words, describe mental health.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Describe the characteristics, behavior, and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 .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bilities of someone who is mentally health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. When you think of mental illness, what images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r ideas come to mind? Where do these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deas come from—movies, television, personal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xperience?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3. What personal characteristics do you have</a:t>
            </a:r>
            <a:br>
              <a:rPr sz="2000"/>
            </a:b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at indicate good mental heal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21:03:51Z</dcterms:created>
  <dc:creator>dell</dc:creator>
  <dc:description/>
  <dc:language>en-US</dc:language>
  <cp:lastModifiedBy>DELL</cp:lastModifiedBy>
  <dcterms:modified xsi:type="dcterms:W3CDTF">2015-10-18T20:13:29Z</dcterms:modified>
  <cp:revision>19</cp:revision>
  <dc:subject/>
  <dc:title>STANDARDS OF PSYCHIATRIC-MENTAL HEALTH CLINICAL NURSING PRACTICE</dc:title>
</cp:coreProperties>
</file>