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35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6D7-82AC-4357-8AD1-7061E65F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0AD-554F-4360-8484-B93CC9DC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2F1-D8D4-494E-920A-C0C9F572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BAA-97C6-40CF-94E8-C2F56E50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2756-22F5-4232-A320-55072C68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0409-FD46-4C02-A90E-0434175B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8BC9-5576-4B6F-86DD-DA22F877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8BAE-7656-4F4D-9750-1968BC5A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43DB-4451-43A7-9ADD-F10FEA51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F3F5-FA72-4343-BD21-69EF524D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798A-162C-49E6-ACD8-F09ED6BC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8F4-C384-4F03-9EA7-6C636173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3B38-E986-47C9-9FE2-8CF49F45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3F3E-815A-4AEC-9CA0-01D0B2F7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FCBB-2F3F-4A2D-A1B2-54659367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30BF-2D2A-4D63-8D88-6BF46574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4C6B-7033-471B-A7B2-FB70CFFE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FFB26-3EC4-4288-88DD-DB12F26E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3814D-3465-4722-84AC-A90165AD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E0758-AE93-4C5E-ACA3-4C00207A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B6319-2CAE-4F1F-B806-30E93E75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0674D-FD6A-44F1-9241-E2566815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172B-5A81-401D-A27D-A5CE0844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183A2-2AAC-49BD-9167-B9EA44FC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EC1A4-BFEA-45E9-9103-44F3CB6E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D781E-D040-4197-95FC-0BB8497C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445A3-A4C2-4FF8-A036-839A7006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0F2DE-3841-437F-A280-3D8DC229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49A0A-0E31-4BE4-B157-7B7FB687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B60F0-0B32-426D-B189-8F8C2530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CB06B-687D-459C-AE79-53ABEDFC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36507-926A-4450-B902-237018C8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72014-FD6F-4A95-9490-F4BB1786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BF9-603F-42C6-A33C-CA7D7A91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EB5BB-F40E-433F-B64D-05C02260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8A26C-D428-433C-8ED6-240D91E9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512D6-92B9-4833-BE51-3A5222EB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C1E12-B0D5-45A7-802E-EBFA5F2F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604A9-FC4F-4AFA-BA01-67C4E063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FC8DD-4690-4225-9E9D-C9163976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B9A2D-C3C3-4AAC-9AC3-684C9981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68E7A-11DC-4327-A413-F82EEC8C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6D91E-53A0-4769-AC1A-5FED2C68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DFFB2-61BE-4D25-A66C-A77FAD92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CE1-1DA2-4AC7-B2F5-517D91C0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EBAC1-B579-4378-A837-7ADF1DA9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49A82-1EBB-4DCA-ADF8-46F7B629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0C109-F4F6-4CA5-9F20-52A62B2C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2CB47-CA08-48BF-8F86-AA35EF12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17262-CA66-4FCF-A0E6-AA8ADB75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EA261-B013-49D6-870C-EAF2EF62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E5CCE-F5BE-4D2E-A28B-A3F247FB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A4858-60DD-4B50-9C36-FCB13620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AB306-D1B7-4401-BE6D-BD18762E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F889E-1281-4B12-8287-D71AFB2E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C08-18BB-4902-B735-8C556BD6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8ED9F-DE39-42C3-8988-5987790A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7FDAB-E7DF-402A-ADD4-637480E0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A02D4-56FF-4CE3-A77F-62F05DE6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DFF51-2172-4325-B37B-D2668888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AC2F1-CA31-4F68-8218-6C2B241A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63C76-74BD-4E91-B1FB-60B5010D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F1E97-99F0-4AFD-A21C-7FEA5655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8ADC3-DC7C-4015-9279-69DAB993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6F689-73B4-4A8E-850A-5CE206D3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D0D2D-F413-4DF3-8744-575BBFF4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EDB-2242-416B-91F8-4412E299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05C90-9437-4499-898C-57218642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08B89-B3C5-451A-8F78-122F0C0D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F62C8-F703-494B-8FBE-F0BCBD95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BFC66-7D94-4A43-A5EC-361E8894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D7AE7-BD71-409F-B574-F9097EEF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338B6-6CEE-4481-8569-3D4CE6FB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DEE58-C2D5-4BC4-B013-FE146E38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B6EF4-B5E0-4B26-B44E-A128E0BE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96645-63B2-4FC6-81C3-B918E22A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924CC-CC38-4F7B-B70C-858AD9A1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0D6-5944-4653-9B44-226BD8E4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20172-E379-423C-BC74-84B69F2F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A0C51-D5AD-4B7F-8BC4-E49F7472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2ACF3-504F-42D8-8801-41C3902E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3B08D-10D0-4500-85FC-C90E0A40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09F17-B5A0-4860-A510-8165AABC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2E2A7-E818-45A6-8212-F9FE9B84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03311-846B-430C-81A0-3A5B8C6E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21D6C-D776-460E-B47D-4A33987F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08382-B54A-4223-A240-CBE75898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F203B-4DE7-4E06-8E77-C0A99C37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951-97F5-43A0-AAB6-BFF2E0D6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49090-9700-4939-B59C-410654BC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892AD-61B0-47D2-BF1E-6957003E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3B3AA-F9A4-4EA7-A1E7-8CF18441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703B4-7701-4D86-941B-C3B12805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246AC-CF99-4EAE-BD4B-2C6CB375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9B7AC-EA3A-4E37-83E0-89F73350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61469-1471-428C-883C-6B4F7000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3914-A5F9-4AFE-B3B1-43F292743236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32D3-EFBC-4D1C-B861-2FA13F2355D1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D8C1-51BA-4DE8-B17D-0CED8E3909D0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232A-48B2-4E33-A371-C70A8AE25B79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FA7E-6604-45BF-88D7-43C5484CA953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DC38-789C-4E05-8398-1CA4930F1224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B981-97E2-4768-BB86-72F965DAE4DC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5545-F3F2-4E90-A044-439C6FFDF5C8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9040" y="62244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4292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Lucida Sans Unicode"/>
              </a:rPr>
              <a:t>Endocrine Block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12480" y="2349000"/>
            <a:ext cx="850716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Lucida Sans Unicode"/>
              </a:rPr>
              <a:t>Absolute or relative insulin deficiency </a:t>
            </a:r>
            <a:r>
              <a:rPr b="1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23680" indent="-443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ff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Glucose uptake (by muscle &amp; adipose tissu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23680" indent="-443160"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23680" indent="-443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ff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Glucose production (from liver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3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 3"/>
          <p:cNvGrpSpPr/>
          <p:nvPr/>
        </p:nvGrpSpPr>
        <p:grpSpPr>
          <a:xfrm>
            <a:off x="684360" y="1268280"/>
            <a:ext cx="7848360" cy="5205600"/>
            <a:chOff x="684360" y="1268280"/>
            <a:chExt cx="7848360" cy="5205600"/>
          </a:xfrm>
        </p:grpSpPr>
        <p:pic>
          <p:nvPicPr>
            <p:cNvPr id="417" name="Picture 2" descr=""/>
            <p:cNvPicPr/>
            <p:nvPr/>
          </p:nvPicPr>
          <p:blipFill>
            <a:blip r:embed="rId2"/>
            <a:stretch/>
          </p:blipFill>
          <p:spPr>
            <a:xfrm>
              <a:off x="684360" y="1268280"/>
              <a:ext cx="7848360" cy="520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2"/>
            <p:cNvSpPr/>
            <p:nvPr/>
          </p:nvSpPr>
          <p:spPr>
            <a:xfrm>
              <a:off x="6300360" y="1867680"/>
              <a:ext cx="21600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 insulin-sensitiveGLUT-4 of adipose tissue and musc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941400" y="1341360"/>
            <a:ext cx="734544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2" descr="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1647720" y="1557360"/>
            <a:ext cx="60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bsolute or relative insulin de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Down Arrow 6"/>
          <p:cNvSpPr/>
          <p:nvPr/>
        </p:nvSpPr>
        <p:spPr>
          <a:xfrm>
            <a:off x="4554360" y="2071800"/>
            <a:ext cx="216000" cy="21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1933560" y="23590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Lucida Sans Unicode"/>
              </a:rPr>
              <a:t>Multiple metabolic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17"/>
          <p:cNvSpPr/>
          <p:nvPr/>
        </p:nvSpPr>
        <p:spPr>
          <a:xfrm>
            <a:off x="1476360" y="2935440"/>
            <a:ext cx="6335640" cy="0"/>
          </a:xfrm>
          <a:prstGeom prst="line">
            <a:avLst/>
          </a:prstGeom>
          <a:ln w="255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Straight Arrow Connector 21"/>
          <p:cNvCxnSpPr/>
          <p:nvPr/>
        </p:nvCxnSpPr>
        <p:spPr>
          <a:xfrm flipH="1">
            <a:off x="7798680" y="2918880"/>
            <a:ext cx="1080" cy="350280"/>
          </a:xfrm>
          <a:prstGeom prst="straightConnector1">
            <a:avLst/>
          </a:prstGeom>
          <a:ln w="255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27" name="TextBox 23"/>
          <p:cNvSpPr/>
          <p:nvPr/>
        </p:nvSpPr>
        <p:spPr>
          <a:xfrm>
            <a:off x="324000" y="3290760"/>
            <a:ext cx="2268360" cy="228636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Lucida Sans Unicode"/>
              </a:rPr>
              <a:t>CHO 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Symbol"/>
                <a:ea typeface="Symbol"/>
              </a:rPr>
              <a:t></a:t>
            </a:r>
            <a:r>
              <a:rPr b="1" lang="en-US" sz="1600" spc="-1" strike="noStrike">
                <a:solidFill>
                  <a:srgbClr val="c00000"/>
                </a:solidFill>
                <a:latin typeface="Lucida Sans Unico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lucose uptake by certain tissues (adipose tissue &amp; sk. muscl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cc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r>
              <a:rPr b="1" lang="en-US" sz="1600" spc="-1" strike="noStrike">
                <a:solidFill>
                  <a:srgbClr val="00cc00"/>
                </a:solidFill>
                <a:latin typeface="Lucida Sans Unico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lycogeno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cc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r>
              <a:rPr b="1" lang="en-US" sz="1600" spc="-1" strike="noStrike">
                <a:solidFill>
                  <a:srgbClr val="00cc00"/>
                </a:solidFill>
                <a:latin typeface="Lucida Sans Unico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luconeogen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4"/>
          <p:cNvSpPr/>
          <p:nvPr/>
        </p:nvSpPr>
        <p:spPr>
          <a:xfrm>
            <a:off x="3332160" y="3300480"/>
            <a:ext cx="2643120" cy="179964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Lucida Sans Unicode"/>
              </a:rPr>
              <a:t>Lipid 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cc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Lipo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cc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Fatty acid ox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cc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Production of Ketone bodies (in li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5"/>
          <p:cNvSpPr/>
          <p:nvPr/>
        </p:nvSpPr>
        <p:spPr>
          <a:xfrm>
            <a:off x="6575400" y="3282840"/>
            <a:ext cx="2448000" cy="116028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Lucida Sans Unicode"/>
              </a:rPr>
              <a:t>Protein 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Symbol"/>
                <a:ea typeface="Symbol"/>
              </a:rPr>
              <a:t>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Protein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cc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Protein degra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Straight Arrow Connector 16"/>
          <p:cNvCxnSpPr/>
          <p:nvPr/>
        </p:nvCxnSpPr>
        <p:spPr>
          <a:xfrm flipH="1">
            <a:off x="4656960" y="2924280"/>
            <a:ext cx="1080" cy="351360"/>
          </a:xfrm>
          <a:prstGeom prst="straightConnector1">
            <a:avLst/>
          </a:prstGeom>
          <a:ln w="255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31" name="Straight Arrow Connector 18"/>
          <p:cNvCxnSpPr/>
          <p:nvPr/>
        </p:nvCxnSpPr>
        <p:spPr>
          <a:xfrm flipH="1">
            <a:off x="1475640" y="2924280"/>
            <a:ext cx="1080" cy="351360"/>
          </a:xfrm>
          <a:prstGeom prst="straightConnector1">
            <a:avLst/>
          </a:prstGeom>
          <a:ln w="255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2"/>
          <p:cNvSpPr/>
          <p:nvPr/>
        </p:nvSpPr>
        <p:spPr>
          <a:xfrm>
            <a:off x="1258920" y="0"/>
            <a:ext cx="65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Mechanisms of Increase Hepatic Glucos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"/>
          <p:cNvSpPr/>
          <p:nvPr/>
        </p:nvSpPr>
        <p:spPr>
          <a:xfrm>
            <a:off x="3799800" y="1341360"/>
            <a:ext cx="174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4"/>
          <p:cNvSpPr/>
          <p:nvPr/>
        </p:nvSpPr>
        <p:spPr>
          <a:xfrm>
            <a:off x="748080" y="2133720"/>
            <a:ext cx="786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hibitory effect on glucagon se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5"/>
          <p:cNvSpPr/>
          <p:nvPr/>
        </p:nvSpPr>
        <p:spPr>
          <a:xfrm>
            <a:off x="3589920" y="3348000"/>
            <a:ext cx="21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luc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1211400" y="4437000"/>
            <a:ext cx="692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luconeogenesis &amp; glycogen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3016440" y="5938920"/>
            <a:ext cx="33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lasma 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ounded Rectangle 10"/>
          <p:cNvSpPr/>
          <p:nvPr/>
        </p:nvSpPr>
        <p:spPr>
          <a:xfrm>
            <a:off x="468360" y="1268280"/>
            <a:ext cx="8496360" cy="5329440"/>
          </a:xfrm>
          <a:prstGeom prst="roundRect">
            <a:avLst>
              <a:gd name="adj" fmla="val 16667"/>
            </a:avLst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own Arrow 11"/>
          <p:cNvSpPr/>
          <p:nvPr/>
        </p:nvSpPr>
        <p:spPr>
          <a:xfrm>
            <a:off x="4572000" y="1844640"/>
            <a:ext cx="216000" cy="360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own Arrow 12"/>
          <p:cNvSpPr/>
          <p:nvPr/>
        </p:nvSpPr>
        <p:spPr>
          <a:xfrm>
            <a:off x="4572000" y="2852640"/>
            <a:ext cx="216000" cy="360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own Arrow 14"/>
          <p:cNvSpPr/>
          <p:nvPr/>
        </p:nvSpPr>
        <p:spPr>
          <a:xfrm>
            <a:off x="4572000" y="4005360"/>
            <a:ext cx="216000" cy="358560"/>
          </a:xfrm>
          <a:prstGeom prst="downArrow">
            <a:avLst>
              <a:gd name="adj1" fmla="val 50000"/>
              <a:gd name="adj2" fmla="val 49946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own Arrow 15"/>
          <p:cNvSpPr/>
          <p:nvPr/>
        </p:nvSpPr>
        <p:spPr>
          <a:xfrm>
            <a:off x="4572000" y="5516640"/>
            <a:ext cx="216000" cy="360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6"/>
          <p:cNvSpPr/>
          <p:nvPr/>
        </p:nvSpPr>
        <p:spPr>
          <a:xfrm>
            <a:off x="4032720" y="493236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(Li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2"/>
          <p:cNvSpPr/>
          <p:nvPr/>
        </p:nvSpPr>
        <p:spPr>
          <a:xfrm>
            <a:off x="1258920" y="212760"/>
            <a:ext cx="65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Mechanisms of Decrease of Peripheral Glucose Up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3"/>
          <p:cNvSpPr/>
          <p:nvPr/>
        </p:nvSpPr>
        <p:spPr>
          <a:xfrm>
            <a:off x="1867680" y="27082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4"/>
          <p:cNvSpPr/>
          <p:nvPr/>
        </p:nvSpPr>
        <p:spPr>
          <a:xfrm>
            <a:off x="250920" y="357336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68000"/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lucose &amp; amino acid up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tein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792000" y="502920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lasma gluco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lasma amin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ounded Rectangle 10"/>
          <p:cNvSpPr/>
          <p:nvPr/>
        </p:nvSpPr>
        <p:spPr>
          <a:xfrm>
            <a:off x="250920" y="2565360"/>
            <a:ext cx="4681440" cy="3384720"/>
          </a:xfrm>
          <a:prstGeom prst="roundRect">
            <a:avLst>
              <a:gd name="adj" fmla="val 16667"/>
            </a:avLst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own Arrow 11"/>
          <p:cNvSpPr/>
          <p:nvPr/>
        </p:nvSpPr>
        <p:spPr>
          <a:xfrm>
            <a:off x="2444760" y="3213000"/>
            <a:ext cx="216000" cy="360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own Arrow 12"/>
          <p:cNvSpPr/>
          <p:nvPr/>
        </p:nvSpPr>
        <p:spPr>
          <a:xfrm>
            <a:off x="2457360" y="4508640"/>
            <a:ext cx="216000" cy="360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7"/>
          <p:cNvSpPr/>
          <p:nvPr/>
        </p:nvSpPr>
        <p:spPr>
          <a:xfrm>
            <a:off x="1803240" y="1773360"/>
            <a:ext cx="16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Lucida Sans Unicode"/>
              </a:rPr>
              <a:t>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8"/>
          <p:cNvSpPr/>
          <p:nvPr/>
        </p:nvSpPr>
        <p:spPr>
          <a:xfrm>
            <a:off x="6620040" y="27082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9"/>
          <p:cNvSpPr/>
          <p:nvPr/>
        </p:nvSpPr>
        <p:spPr>
          <a:xfrm>
            <a:off x="5003640" y="375912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lucose up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0"/>
          <p:cNvSpPr/>
          <p:nvPr/>
        </p:nvSpPr>
        <p:spPr>
          <a:xfrm>
            <a:off x="5543640" y="5029200"/>
            <a:ext cx="35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lasma 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ounded Rectangle 21"/>
          <p:cNvSpPr/>
          <p:nvPr/>
        </p:nvSpPr>
        <p:spPr>
          <a:xfrm>
            <a:off x="5796000" y="2565360"/>
            <a:ext cx="3024000" cy="3384720"/>
          </a:xfrm>
          <a:custGeom>
            <a:avLst/>
            <a:gdLst>
              <a:gd name="textAreaLeft" fmla="*/ 147600 w 3024000"/>
              <a:gd name="textAreaRight" fmla="*/ 2876400 w 3024000"/>
              <a:gd name="textAreaTop" fmla="*/ 147600 h 3384720"/>
              <a:gd name="textAreaBottom" fmla="*/ 3237120 h 3384720"/>
            </a:gdLst>
            <a:ahLst/>
            <a:rect l="textAreaLeft" t="textAreaTop" r="textAreaRight" b="textAreaBottom"/>
            <a:pathLst>
              <a:path w="21600" h="24176">
                <a:moveTo>
                  <a:pt x="3600" y="0"/>
                </a:moveTo>
                <a:arcTo wR="3600" hR="3600" stAng="16200000" swAng="-5400000"/>
                <a:lnTo>
                  <a:pt x="0" y="20576"/>
                </a:lnTo>
                <a:arcTo wR="3600" hR="3600" stAng="10800000" swAng="-5400000"/>
                <a:lnTo>
                  <a:pt x="18000" y="241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Down Arrow 22"/>
          <p:cNvSpPr/>
          <p:nvPr/>
        </p:nvSpPr>
        <p:spPr>
          <a:xfrm>
            <a:off x="7197840" y="3284640"/>
            <a:ext cx="215640" cy="36036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own Arrow 23"/>
          <p:cNvSpPr/>
          <p:nvPr/>
        </p:nvSpPr>
        <p:spPr>
          <a:xfrm>
            <a:off x="7210440" y="4437000"/>
            <a:ext cx="216000" cy="360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24"/>
          <p:cNvSpPr/>
          <p:nvPr/>
        </p:nvSpPr>
        <p:spPr>
          <a:xfrm>
            <a:off x="5435640" y="1773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Lucida Sans Unicode"/>
              </a:rPr>
              <a:t>Adipose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Title 3" descr=""/>
          <p:cNvPicPr/>
          <p:nvPr/>
        </p:nvPicPr>
        <p:blipFill>
          <a:blip r:embed="rId1"/>
          <a:stretch/>
        </p:blipFill>
        <p:spPr>
          <a:xfrm>
            <a:off x="689040" y="98100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Title 1" descr=""/>
          <p:cNvPicPr/>
          <p:nvPr/>
        </p:nvPicPr>
        <p:blipFill>
          <a:blip r:embed="rId1"/>
          <a:stretch/>
        </p:blipFill>
        <p:spPr>
          <a:xfrm>
            <a:off x="804960" y="487440"/>
            <a:ext cx="7583400" cy="11397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179280" y="2131920"/>
            <a:ext cx="87775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Title 1" descr=""/>
          <p:cNvPicPr/>
          <p:nvPr/>
        </p:nvPicPr>
        <p:blipFill>
          <a:blip r:embed="rId1"/>
          <a:stretch/>
        </p:blipFill>
        <p:spPr>
          <a:xfrm>
            <a:off x="396720" y="41436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3"/>
          <p:cNvSpPr/>
          <p:nvPr/>
        </p:nvSpPr>
        <p:spPr>
          <a:xfrm>
            <a:off x="765000" y="1538280"/>
            <a:ext cx="8209080" cy="52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5040" indent="-25560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Lucida Sans Unicode"/>
                <a:ea typeface="Arial"/>
              </a:rPr>
              <a:t>Chronic hyperglycemia </a:t>
            </a: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51444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cc00"/>
                </a:solidFill>
                <a:latin typeface="Lucida Sans Unicode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Lucida Sans Unicode"/>
                <a:ea typeface="Arial"/>
              </a:rPr>
              <a:t>Advanced Glycation End products (AGEs) of essential cellular proteins </a:t>
            </a: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00000"/>
                </a:solidFill>
                <a:latin typeface="Lucida Sans Unicode"/>
                <a:ea typeface="Arial"/>
              </a:rPr>
              <a:t> cellular de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51444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51444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c00000"/>
                </a:solidFill>
                <a:latin typeface="Lucida Sans Unicode"/>
                <a:ea typeface="Arial"/>
              </a:rPr>
              <a:t>Intracellular sorbitol </a:t>
            </a: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ff"/>
                </a:solidFill>
                <a:latin typeface="Lucida Sans Unicode"/>
                <a:ea typeface="Arial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c00000"/>
                </a:solidFill>
                <a:latin typeface="Lucida Sans Unicode"/>
                <a:ea typeface="Arial"/>
              </a:rPr>
              <a:t> cell osmolality </a:t>
            </a: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00000"/>
                </a:solidFill>
                <a:latin typeface="Lucida Sans Unicode"/>
                <a:ea typeface="Arial"/>
              </a:rPr>
              <a:t> cellular sw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51444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51444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Lucida Sans Unicode"/>
                <a:ea typeface="Arial"/>
              </a:rPr>
              <a:t>Reactive Oxygen Species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Lucida Sans Unicode"/>
                <a:ea typeface="Arial"/>
              </a:rPr>
              <a:t>ROS) </a:t>
            </a:r>
            <a:r>
              <a:rPr b="1" lang="en-US" sz="28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00000"/>
                </a:solidFill>
                <a:latin typeface="Lucida Sans Unicode"/>
                <a:ea typeface="Arial"/>
              </a:rPr>
              <a:t> oxidative stress </a:t>
            </a: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Lucida Sans Unicode"/>
                <a:ea typeface="Arial"/>
              </a:rPr>
              <a:t>cell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51444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68360" y="1889280"/>
            <a:ext cx="822960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Chronic hyperglycemi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non-enzymatic combination between excess glucose &amp; amino acids in protein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formation of AG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GEs may cross link with collage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microvascular complic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The interaction between AGEs and their receptor (RAGE) may generate reactive oxygen species (ROS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inflamm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900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05228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Lucida Sans Unicode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ifferences between type 1 and type 2 D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atural course of T1D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atural course of T2D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Lucida Sans Unicode"/>
              </a:rPr>
              <a:t>Diagnostic criteria for DM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Lucida Sans Unicode"/>
              </a:rPr>
              <a:t>Metabolic changes in D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crease of hepatic glucose outpu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ecrease of glucose uptak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ter-organ relationship in T1DM and T2D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Lucida Sans Unicode"/>
              </a:rPr>
              <a:t>Mechanisms of diabetic complica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Glucose is metabolized to sorbitol within the cells by aldose reducta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The role of sorbitol in the pathogenesis of diabetic complications is uncertain. Hypotheses are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 Unicode"/>
              </a:rPr>
              <a:t>During sorbitol production, consumption of NADPH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Lucida Sans Unicode"/>
              </a:rPr>
              <a:t> oxidative stres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 Unicode"/>
              </a:rPr>
              <a:t>Sorbitol accumulation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601"/>
              </a:spcBef>
              <a:spcAft>
                <a:spcPts val="601"/>
              </a:spcAft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Increase the intracellular osmotic pressure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osmotic drag of fluid from extracellular space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cell swell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601"/>
              </a:spcBef>
              <a:spcAft>
                <a:spcPts val="601"/>
              </a:spcAft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lteration in the activity of PKC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altered VEGF activity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altered vascular permeabili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8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Title 1" descr=""/>
          <p:cNvPicPr/>
          <p:nvPr/>
        </p:nvPicPr>
        <p:blipFill>
          <a:blip r:embed="rId1"/>
          <a:stretch/>
        </p:blipFill>
        <p:spPr>
          <a:xfrm>
            <a:off x="249120" y="96840"/>
            <a:ext cx="8894880" cy="15429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"/>
          <p:cNvPicPr/>
          <p:nvPr/>
        </p:nvPicPr>
        <p:blipFill>
          <a:blip r:embed="rId2"/>
          <a:stretch/>
        </p:blipFill>
        <p:spPr>
          <a:xfrm>
            <a:off x="5508720" y="2349360"/>
            <a:ext cx="2895480" cy="3303720"/>
          </a:xfrm>
          <a:prstGeom prst="rect">
            <a:avLst/>
          </a:prstGeom>
          <a:ln w="0">
            <a:noFill/>
          </a:ln>
        </p:spPr>
      </p:pic>
      <p:grpSp>
        <p:nvGrpSpPr>
          <p:cNvPr id="471" name="Group 5"/>
          <p:cNvGrpSpPr/>
          <p:nvPr/>
        </p:nvGrpSpPr>
        <p:grpSpPr>
          <a:xfrm>
            <a:off x="1116000" y="1628640"/>
            <a:ext cx="2087640" cy="5175360"/>
            <a:chOff x="1116000" y="1628640"/>
            <a:chExt cx="2087640" cy="5175360"/>
          </a:xfrm>
        </p:grpSpPr>
        <p:pic>
          <p:nvPicPr>
            <p:cNvPr id="472" name="Picture 2" descr=""/>
            <p:cNvPicPr/>
            <p:nvPr/>
          </p:nvPicPr>
          <p:blipFill>
            <a:blip r:embed="rId3"/>
            <a:stretch/>
          </p:blipFill>
          <p:spPr>
            <a:xfrm>
              <a:off x="1116000" y="1628640"/>
              <a:ext cx="2087640" cy="51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Arc 4"/>
            <p:cNvSpPr/>
            <p:nvPr/>
          </p:nvSpPr>
          <p:spPr>
            <a:xfrm rot="11406000">
              <a:off x="2554200" y="5157360"/>
              <a:ext cx="271440" cy="328320"/>
            </a:xfrm>
            <a:custGeom>
              <a:avLst/>
              <a:gdLst/>
              <a:ahLst/>
              <a:rect l="l" t="t" r="r" b="b"/>
              <a:pathLst>
                <a:path stroke="0" w="271462" h="328612">
                  <a:moveTo>
                    <a:pt x="68713" y="21425"/>
                  </a:moveTo>
                  <a:cubicBezTo>
                    <a:pt x="120652" y="-14274"/>
                    <a:pt x="185765" y="-4678"/>
                    <a:pt x="229111" y="45064"/>
                  </a:cubicBezTo>
                  <a:cubicBezTo>
                    <a:pt x="261777" y="82551"/>
                    <a:pt x="276967" y="137203"/>
                    <a:pt x="269662" y="190969"/>
                  </a:cubicBezTo>
                  <a:cubicBezTo>
                    <a:pt x="261511" y="250968"/>
                    <a:pt x="226653" y="300612"/>
                    <a:pt x="179049" y="320019"/>
                  </a:cubicBezTo>
                  <a:lnTo>
                    <a:pt x="135731" y="164306"/>
                  </a:lnTo>
                  <a:lnTo>
                    <a:pt x="68713" y="21425"/>
                  </a:lnTo>
                  <a:close/>
                </a:path>
                <a:path fill="none" w="271462" h="328612">
                  <a:moveTo>
                    <a:pt x="68713" y="21425"/>
                  </a:moveTo>
                  <a:cubicBezTo>
                    <a:pt x="120652" y="-14274"/>
                    <a:pt x="185765" y="-4678"/>
                    <a:pt x="229111" y="45064"/>
                  </a:cubicBezTo>
                  <a:cubicBezTo>
                    <a:pt x="261777" y="82551"/>
                    <a:pt x="276967" y="137203"/>
                    <a:pt x="269662" y="190969"/>
                  </a:cubicBezTo>
                  <a:cubicBezTo>
                    <a:pt x="261511" y="250968"/>
                    <a:pt x="226653" y="300612"/>
                    <a:pt x="179049" y="32001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14810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 progressive microvascular complication of DM, affecting the retina of the ey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 major cause of morbidity in DM (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blindnes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ts prevalence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with increasing duration of disease in both type 1 &amp; 2 D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fter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20 year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f the diseas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Is present in almost </a:t>
            </a:r>
            <a:r>
              <a:rPr b="1" lang="en-US" sz="2300" spc="-1" strike="noStrike">
                <a:solidFill>
                  <a:srgbClr val="ff0000"/>
                </a:solidFill>
                <a:latin typeface="Lucida Sans Unicode"/>
              </a:rPr>
              <a:t>all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T1D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Is present in </a:t>
            </a:r>
            <a:r>
              <a:rPr b="1" lang="en-US" sz="2300" spc="-1" strike="noStrike">
                <a:solidFill>
                  <a:srgbClr val="ff0000"/>
                </a:solidFill>
                <a:latin typeface="Lucida Sans Unicode"/>
              </a:rPr>
              <a:t>50 – 80%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of T2D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34136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Occurs in both type 1 &amp; type 2 D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The earliest clinical finding of diabetic nephropathy is </a:t>
            </a:r>
            <a:r>
              <a:rPr b="1" lang="en-US" sz="2100" spc="-1" strike="noStrike">
                <a:solidFill>
                  <a:srgbClr val="ff0000"/>
                </a:solidFill>
                <a:latin typeface="Lucida Sans Unicode"/>
              </a:rPr>
              <a:t>microalbuminuria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3360" indent="-25560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da1f2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Lucida Sans Unicode"/>
              </a:rPr>
              <a:t>(the persistent excretion of small amounts of albumin (30-300 mg per day) into the urine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Microalbuminuria is an important predictor of progression to </a:t>
            </a:r>
            <a:r>
              <a:rPr b="1" lang="en-US" sz="2500" spc="-1" strike="noStrike">
                <a:solidFill>
                  <a:srgbClr val="ff0000"/>
                </a:solidFill>
                <a:latin typeface="Lucida Sans Unicode"/>
              </a:rPr>
              <a:t>proteinuria</a:t>
            </a: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80000"/>
              </a:lnSpc>
              <a:spcBef>
                <a:spcPts val="326"/>
              </a:spcBef>
              <a:spcAft>
                <a:spcPts val="1199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Lucida Sans Unicode"/>
              </a:rPr>
              <a:t>(the persistent excretion of &gt;300 mg albumin per day into the urin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Once proteinuria appears, there is a steady </a:t>
            </a:r>
            <a:r>
              <a:rPr b="1" lang="en-US" sz="2500" spc="-1" strike="noStrike">
                <a:solidFill>
                  <a:srgbClr val="c00000"/>
                </a:solidFill>
                <a:latin typeface="Symbol"/>
                <a:ea typeface="Symbol"/>
              </a:rPr>
              <a:t></a:t>
            </a: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 in the glomerular filtration rate (GFR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Finally, </a:t>
            </a:r>
            <a:r>
              <a:rPr b="1" lang="en-US" sz="2500" spc="-1" strike="noStrike">
                <a:solidFill>
                  <a:srgbClr val="ff0000"/>
                </a:solidFill>
                <a:latin typeface="Lucida Sans Unicode"/>
              </a:rPr>
              <a:t>end-stage renal disease </a:t>
            </a: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occur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2"/>
          <p:cNvSpPr/>
          <p:nvPr/>
        </p:nvSpPr>
        <p:spPr>
          <a:xfrm>
            <a:off x="1258920" y="284040"/>
            <a:ext cx="65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Sequence of Events in Diabetic Nephropa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3"/>
          <p:cNvSpPr/>
          <p:nvPr/>
        </p:nvSpPr>
        <p:spPr>
          <a:xfrm>
            <a:off x="2065320" y="1989000"/>
            <a:ext cx="52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lomerular hyperfil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2886480" y="3060720"/>
            <a:ext cx="35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icroalbuminu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5"/>
          <p:cNvSpPr/>
          <p:nvPr/>
        </p:nvSpPr>
        <p:spPr>
          <a:xfrm>
            <a:off x="2742120" y="4211640"/>
            <a:ext cx="38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oteinuria &amp; </a:t>
            </a:r>
            <a:r>
              <a:rPr b="0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G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"/>
          <p:cNvSpPr/>
          <p:nvPr/>
        </p:nvSpPr>
        <p:spPr>
          <a:xfrm>
            <a:off x="2348640" y="521964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nd-stage rena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ounded Rectangle 10"/>
          <p:cNvSpPr/>
          <p:nvPr/>
        </p:nvSpPr>
        <p:spPr>
          <a:xfrm>
            <a:off x="1476360" y="1916280"/>
            <a:ext cx="6264360" cy="4033800"/>
          </a:xfrm>
          <a:prstGeom prst="roundRect">
            <a:avLst>
              <a:gd name="adj" fmla="val 16667"/>
            </a:avLst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Down Arrow 11"/>
          <p:cNvSpPr/>
          <p:nvPr/>
        </p:nvSpPr>
        <p:spPr>
          <a:xfrm>
            <a:off x="4572000" y="2637000"/>
            <a:ext cx="216000" cy="360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Down Arrow 12"/>
          <p:cNvSpPr/>
          <p:nvPr/>
        </p:nvSpPr>
        <p:spPr>
          <a:xfrm>
            <a:off x="4572000" y="3716280"/>
            <a:ext cx="216000" cy="360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Down Arrow 13"/>
          <p:cNvSpPr/>
          <p:nvPr/>
        </p:nvSpPr>
        <p:spPr>
          <a:xfrm>
            <a:off x="4572000" y="4869000"/>
            <a:ext cx="216000" cy="360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68360" y="1916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oss of both myelinated and unmyelinated nerve fib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ccurs in both type 1 &amp; type 2 D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t correlates with the duration of DM &amp; with glycemic contro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8" name="Title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Title 3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324000" y="274680"/>
            <a:ext cx="8643960" cy="1146240"/>
          </a:xfrm>
          <a:prstGeom prst="rect">
            <a:avLst/>
          </a:prstGeom>
          <a:ln w="0">
            <a:noFill/>
          </a:ln>
        </p:spPr>
      </p:pic>
      <p:grpSp>
        <p:nvGrpSpPr>
          <p:cNvPr id="375" name="Group 3"/>
          <p:cNvGrpSpPr/>
          <p:nvPr/>
        </p:nvGrpSpPr>
        <p:grpSpPr>
          <a:xfrm>
            <a:off x="395280" y="1341360"/>
            <a:ext cx="8272440" cy="5212080"/>
            <a:chOff x="395280" y="1341360"/>
            <a:chExt cx="8272440" cy="5212080"/>
          </a:xfrm>
        </p:grpSpPr>
        <p:pic>
          <p:nvPicPr>
            <p:cNvPr id="376" name="Picture 2" descr=""/>
            <p:cNvPicPr/>
            <p:nvPr/>
          </p:nvPicPr>
          <p:blipFill>
            <a:blip r:embed="rId2"/>
            <a:stretch/>
          </p:blipFill>
          <p:spPr>
            <a:xfrm>
              <a:off x="395280" y="1341360"/>
              <a:ext cx="8244000" cy="458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Box 2"/>
            <p:cNvSpPr/>
            <p:nvPr/>
          </p:nvSpPr>
          <p:spPr>
            <a:xfrm>
              <a:off x="2820960" y="2584440"/>
              <a:ext cx="1008000" cy="307080"/>
            </a:xfrm>
            <a:prstGeom prst="rect">
              <a:avLst/>
            </a:prstGeom>
            <a:solidFill>
              <a:srgbClr val="fb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lt; 10 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4"/>
            <p:cNvSpPr/>
            <p:nvPr/>
          </p:nvSpPr>
          <p:spPr>
            <a:xfrm>
              <a:off x="5873760" y="2584440"/>
              <a:ext cx="1008000" cy="307080"/>
            </a:xfrm>
            <a:prstGeom prst="rect">
              <a:avLst/>
            </a:prstGeom>
            <a:solidFill>
              <a:srgbClr val="fb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gt; 90 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5"/>
            <p:cNvSpPr/>
            <p:nvPr/>
          </p:nvSpPr>
          <p:spPr>
            <a:xfrm>
              <a:off x="5686560" y="4237200"/>
              <a:ext cx="2952720" cy="459000"/>
            </a:xfrm>
            <a:prstGeom prst="rect">
              <a:avLst/>
            </a:prstGeom>
            <a:solidFill>
              <a:srgbClr val="fb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igh early in disease, low to absent in disease of long du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6"/>
            <p:cNvSpPr/>
            <p:nvPr/>
          </p:nvSpPr>
          <p:spPr>
            <a:xfrm>
              <a:off x="5686560" y="4762440"/>
              <a:ext cx="2952720" cy="276480"/>
            </a:xfrm>
            <a:prstGeom prst="rect">
              <a:avLst/>
            </a:prstGeom>
            <a:solidFill>
              <a:srgbClr val="fb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yperosmolar hyperglycemic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95280" y="5085000"/>
              <a:ext cx="2338200" cy="459000"/>
            </a:xfrm>
            <a:prstGeom prst="rect">
              <a:avLst/>
            </a:prstGeom>
            <a:solidFill>
              <a:srgbClr val="fb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to Oral Hypoglycemic Drugs (OH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5715000" y="5546880"/>
              <a:ext cx="2952720" cy="1006560"/>
            </a:xfrm>
            <a:prstGeom prst="rect">
              <a:avLst/>
            </a:prstGeom>
            <a:solidFill>
              <a:srgbClr val="fb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et, exercise, OHG, insulin (may or may not be necessary), reduction of risk factors (weight reduction, smoking cessation, BP control, treatment of dyslipidemia) is essential to therap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396720" y="549360"/>
            <a:ext cx="4681800" cy="32414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5556240" y="216000"/>
            <a:ext cx="23288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324000" y="4284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1639800" y="1125360"/>
            <a:ext cx="6677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"/>
          <p:cNvSpPr/>
          <p:nvPr/>
        </p:nvSpPr>
        <p:spPr>
          <a:xfrm>
            <a:off x="4060080" y="648828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merican Diabetes Association (ADA),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2"/>
          <a:stretch/>
        </p:blipFill>
        <p:spPr>
          <a:xfrm>
            <a:off x="2124000" y="4005360"/>
            <a:ext cx="5400720" cy="23889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4"/>
          <p:cNvSpPr/>
          <p:nvPr/>
        </p:nvSpPr>
        <p:spPr>
          <a:xfrm>
            <a:off x="24480" y="3573360"/>
            <a:ext cx="48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eria for the diagnosis of diabetes 2016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28800" y="1052640"/>
            <a:ext cx="52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 of increased risk for diabetes 2016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4"/>
          <p:cNvGrpSpPr/>
          <p:nvPr/>
        </p:nvGrpSpPr>
        <p:grpSpPr>
          <a:xfrm>
            <a:off x="971640" y="1420920"/>
            <a:ext cx="7535880" cy="2093760"/>
            <a:chOff x="971640" y="1420920"/>
            <a:chExt cx="7535880" cy="2093760"/>
          </a:xfrm>
        </p:grpSpPr>
        <p:pic>
          <p:nvPicPr>
            <p:cNvPr id="393" name="Picture 7" descr=""/>
            <p:cNvPicPr/>
            <p:nvPr/>
          </p:nvPicPr>
          <p:blipFill>
            <a:blip r:embed="rId3"/>
            <a:stretch/>
          </p:blipFill>
          <p:spPr>
            <a:xfrm>
              <a:off x="971640" y="1420920"/>
              <a:ext cx="7535880" cy="20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Straight Connector 2"/>
            <p:cNvSpPr/>
            <p:nvPr/>
          </p:nvSpPr>
          <p:spPr>
            <a:xfrm>
              <a:off x="2411280" y="1700280"/>
              <a:ext cx="93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Straight Connector 9"/>
            <p:cNvSpPr/>
            <p:nvPr/>
          </p:nvSpPr>
          <p:spPr>
            <a:xfrm>
              <a:off x="4572000" y="1700280"/>
              <a:ext cx="93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Straight Connector 10"/>
            <p:cNvSpPr/>
            <p:nvPr/>
          </p:nvSpPr>
          <p:spPr>
            <a:xfrm>
              <a:off x="4003560" y="2276640"/>
              <a:ext cx="861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Straight Connector 11"/>
            <p:cNvSpPr/>
            <p:nvPr/>
          </p:nvSpPr>
          <p:spPr>
            <a:xfrm>
              <a:off x="6228000" y="2276640"/>
              <a:ext cx="93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Straight Connector 19"/>
            <p:cNvSpPr/>
            <p:nvPr/>
          </p:nvSpPr>
          <p:spPr>
            <a:xfrm>
              <a:off x="1332000" y="2852640"/>
              <a:ext cx="93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4"/>
          <p:cNvSpPr/>
          <p:nvPr/>
        </p:nvSpPr>
        <p:spPr>
          <a:xfrm>
            <a:off x="4025160" y="622764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merican Diabetes Association (ADA),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1187280" y="4581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G: Fasting plasma glucose; IFG: Impaired fasting glucose; PG: post glucose; OGTT: Oral glucose tolerance test; IGT: Impaired glucose tolerance; A1C: Glycated hemoglob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2"/>
          <p:cNvGrpSpPr/>
          <p:nvPr/>
        </p:nvGrpSpPr>
        <p:grpSpPr>
          <a:xfrm>
            <a:off x="1187280" y="1125360"/>
            <a:ext cx="7488360" cy="3311640"/>
            <a:chOff x="1187280" y="1125360"/>
            <a:chExt cx="7488360" cy="3311640"/>
          </a:xfrm>
        </p:grpSpPr>
        <p:pic>
          <p:nvPicPr>
            <p:cNvPr id="403" name="Picture 6" descr=""/>
            <p:cNvPicPr/>
            <p:nvPr/>
          </p:nvPicPr>
          <p:blipFill>
            <a:blip r:embed="rId2"/>
            <a:stretch/>
          </p:blipFill>
          <p:spPr>
            <a:xfrm>
              <a:off x="1187280" y="1125360"/>
              <a:ext cx="7488360" cy="33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Straight Connector 9"/>
            <p:cNvSpPr/>
            <p:nvPr/>
          </p:nvSpPr>
          <p:spPr>
            <a:xfrm>
              <a:off x="2842920" y="1412640"/>
              <a:ext cx="79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Straight Connector 8"/>
            <p:cNvSpPr/>
            <p:nvPr/>
          </p:nvSpPr>
          <p:spPr>
            <a:xfrm>
              <a:off x="2987280" y="1917360"/>
              <a:ext cx="790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Straight Connector 7"/>
            <p:cNvSpPr/>
            <p:nvPr/>
          </p:nvSpPr>
          <p:spPr>
            <a:xfrm>
              <a:off x="1474560" y="2925720"/>
              <a:ext cx="790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1763640" y="914400"/>
            <a:ext cx="7129440" cy="57816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3"/>
          <p:cNvSpPr/>
          <p:nvPr/>
        </p:nvSpPr>
        <p:spPr>
          <a:xfrm>
            <a:off x="108000" y="297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Glycohemoglobin Standardization Program (NG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 rot="20005800">
            <a:off x="2071080" y="2373480"/>
            <a:ext cx="5091120" cy="642600"/>
          </a:xfrm>
          <a:prstGeom prst="rect">
            <a:avLst/>
          </a:prstGeom>
          <a:solidFill>
            <a:srgbClr val="fbe0d1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 READING, NOT INCLUDED IN THE LECTURE’S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68000" y="836280"/>
            <a:ext cx="8505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Hemoglobin A1C (A1C)  is the result of non enzymatic covalent glycosylation of hemoglobi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t is used to estimate glycemic control in the last 1-2 month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Recently, A1C is recommended for the detection of T2DM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1C and fasting plasma glucose (FPG) were found to be similarly effective in diagnosing diabe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1C cut-off point o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6.5 % is used to diagnose diabe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1C values also correlate with the prevalence of retinopathy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ssays for A1C has to be standardized according to the National Glycohemoglobin Standardization Program (NGSP)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Title 3" descr=""/>
          <p:cNvPicPr/>
          <p:nvPr/>
        </p:nvPicPr>
        <p:blipFill>
          <a:blip r:embed="rId1"/>
          <a:stretch/>
        </p:blipFill>
        <p:spPr>
          <a:xfrm>
            <a:off x="4698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2" name="Straight Connector 4"/>
          <p:cNvSpPr/>
          <p:nvPr/>
        </p:nvSpPr>
        <p:spPr>
          <a:xfrm>
            <a:off x="3780000" y="4149720"/>
            <a:ext cx="79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9:31:56Z</dcterms:created>
  <dc:creator>Dr.Reem</dc:creator>
  <dc:description/>
  <dc:language>en-US</dc:language>
  <cp:lastModifiedBy>Microsoft Office User</cp:lastModifiedBy>
  <dcterms:modified xsi:type="dcterms:W3CDTF">2017-03-07T03:58:25Z</dcterms:modified>
  <cp:revision>45</cp:revision>
  <dc:subject/>
  <dc:title>Slide 1</dc:title>
</cp:coreProperties>
</file>