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35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703-9141-42DB-8B37-0E4D8620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008-D62C-41B0-A2CE-33514C2C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296-0112-448D-BA91-1E3EB2F9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B34-E092-4B7D-93F8-A6568058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97B6-88B3-432B-A2E0-299D411E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0DDF-6B58-439F-8FB3-6F13A63E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CD22-FBEA-40E4-BBDF-14B53C8D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FC67-FA8B-41E3-955B-B2442B52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AC5E-4B38-4900-B4CC-1D763E01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0FB6-BCD1-4C26-B91F-D3EF5121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8413-758B-47A6-BD19-D8D05339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CFA-908F-422B-BC34-C186D332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CC06-39A0-4F8F-9F7D-1D68501F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B407-1241-4B3A-8C9F-24D0EF22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42B9-D1E9-47FA-AE30-8C50B829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F75A-38B0-4C2F-8240-CDDE81E0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C4B5-A123-402A-BAAE-0A05CA8A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47031-713A-4586-8AC8-2E5657C3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9F4D-82CC-4BF3-AB69-8A90D699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7A0BA-B8A8-414C-97AD-AFE96616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07293-2A96-4506-BCA2-F65C2CFF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6BE7D-62D8-4B42-9B22-016380C4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3F3-6423-4DDA-B409-C3C726E3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94A96-F0DC-4D50-B8FA-8076F166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17EBE-2112-474F-8E75-6774EF5D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56982-D068-4291-BFE7-EBFB1988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F32E-4624-46CE-999A-CFD3F935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515B-335A-4A06-A050-F446A2DB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8A4F4-616E-468E-8C1B-686D3C1A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CCF0-12B0-4BB6-A7B5-0EB6DCB7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F850E-5C4E-4E7E-AB78-158AED73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B4E6C-2DF1-4BB5-812F-DC2182DA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5E0E-451D-4B3B-8D85-456DBE30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DF2-CD6D-4A73-9EF5-080FB01E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D2AD2-67D5-43CD-97AC-F48949C0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FEB7F-2A8E-4730-AB04-5998C4CD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49357-4AD1-4ABE-A773-DF73CBC1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750EC-9280-4183-91E4-1F5F9E15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246F-E2BC-48DC-959E-1FDE5365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43733-C788-4658-8423-EBCA4E6D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BA4B6-E628-4B21-A41E-36E9C868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DAD50-CCB6-4EBB-A71D-F46E818D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37B1B-C519-4856-8676-EDA31CD9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84A38-9355-4205-9C1C-ED211D09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56C3-8C93-43BD-94A5-E21DB5F6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DBD54-3A46-4320-8712-6AC9CDB2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B54F0-C49F-4DE4-9004-547FD7A9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16AE4-E38B-47F7-B652-A9C1FB34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6FAED-2222-444D-8F9C-5F8E3604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17D27-AB9A-4CB2-BC45-42F62028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9EF29-10D0-4765-BD65-EC304A75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8E37A-91E6-412A-B736-174EB6F8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18A81-F878-4A1D-9F25-3F92D1A0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DB84F-63FF-4B2B-9D81-71A12EAF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9ABB6-8B71-47A4-A74B-CE540C75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36A-223B-4460-9D18-7CAF1347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71FE-8CF5-420C-AF3A-00E66F47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DA0B2-FAD2-4C3E-89CA-F799195E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2FBDF-EE31-482E-913B-616D0945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91439-BCA4-421F-A65B-490AF56C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6BCAB-3C99-4873-BBF6-AAD3678E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CE9C7-3D5C-4248-A627-F8200AF2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BE6A3-AEAD-4B24-B4AA-88E6B4FE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8829F-5AAB-4C09-B03F-C641A4A3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15D0E-B3DD-4E5F-A799-1940591A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A118C-E230-4617-8D88-91941EB5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FDD-C2BD-42AA-92CE-2EBBE955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59256-45DF-4F00-B4FB-DA3D8CD1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C2D88-2548-441D-BE3C-A08EC9AB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4E497-0DC1-466F-93F3-D47C222E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97AD6-3340-49BE-8D6E-ACF2A01A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44868-117C-49D4-94A0-1BADFEEF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B6FA6-6495-4846-829A-F3940151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F5D75-4162-4BDF-AC1D-506F4BB8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9981D-C9BD-4E78-99A8-E02E75A5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BF4E6-4E4A-4512-B2B1-6F87993F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EB433-A98E-488E-B607-7D5F5668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B4F-8410-4A43-9A3B-A91981C3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685C0-643A-4BCC-80CA-B7228B91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5BDD8-4358-4706-91C4-64531C3C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99E53-63AF-4724-88C1-48F9A48F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7EF54-9507-4F1A-80C6-0256E903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0C4F8-D4D3-4294-9C30-ABD0D8AF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886AC-0D96-4338-8D31-985DB40F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4F412-FFE6-4F16-A6A7-2AD67850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01439-23CD-4B73-A5D1-7BBD037C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302BD-7B1A-427C-9E08-95A4DD18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49F95-1DC4-468B-84F2-41D66564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38A-E2CA-464A-B1AF-7B459A4D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4CD4D-9785-470F-BE8B-9E5ABE5C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D0C03-B839-4062-BBF2-61E05BB4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5C96F-3391-4975-809D-58A43229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58008-5AA5-41D2-A766-ACD8B8C8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6F5ED-402E-4D20-9475-D383F65F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9F805-4831-47B2-976B-7BD6BB05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E7D94-7B93-40D3-BB7F-A2813D55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D52B-5398-4FB3-B2CF-4B9FB62A5472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C5A7-3336-4018-9FE9-F740ECE9C1CC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74F5-C148-44CA-83AC-2C413C3D2D81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43EE-678B-4695-B505-BC44F61B49A5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9F23-8286-4459-850E-B44AE0B3AC67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CC2F-BFDC-4F3E-8375-304F1AEF2B40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2996-5B96-4F5B-B70B-B5E7013BD491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0978-D82E-471D-A25F-3D11DD76227B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62244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429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Lucida Sans Unicode"/>
              </a:rPr>
              <a:t>Endocrine Bloc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12480" y="2349000"/>
            <a:ext cx="850716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Lucida Sans Unicode"/>
              </a:rPr>
              <a:t>Absolute or relative insulin deficiency </a:t>
            </a:r>
            <a:r>
              <a:rPr b="1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23680" indent="-443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ff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Glucose uptake (by muscle &amp; adipose tissu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23680" indent="-443160"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23680" indent="-443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ff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Lucida Sans Unicode"/>
              </a:rPr>
              <a:t>Glucose production (from liver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3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 3"/>
          <p:cNvGrpSpPr/>
          <p:nvPr/>
        </p:nvGrpSpPr>
        <p:grpSpPr>
          <a:xfrm>
            <a:off x="684360" y="1268280"/>
            <a:ext cx="7848360" cy="5205600"/>
            <a:chOff x="684360" y="1268280"/>
            <a:chExt cx="7848360" cy="5205600"/>
          </a:xfrm>
        </p:grpSpPr>
        <p:pic>
          <p:nvPicPr>
            <p:cNvPr id="417" name="Picture 2" descr=""/>
            <p:cNvPicPr/>
            <p:nvPr/>
          </p:nvPicPr>
          <p:blipFill>
            <a:blip r:embed="rId2"/>
            <a:stretch/>
          </p:blipFill>
          <p:spPr>
            <a:xfrm>
              <a:off x="684360" y="1268280"/>
              <a:ext cx="7848360" cy="520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2"/>
            <p:cNvSpPr/>
            <p:nvPr/>
          </p:nvSpPr>
          <p:spPr>
            <a:xfrm>
              <a:off x="6300360" y="1867680"/>
              <a:ext cx="21600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 insulin-sensitiveGLUT-4 of adipose tissue and musc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941400" y="1341360"/>
            <a:ext cx="734544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2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1647720" y="1557360"/>
            <a:ext cx="60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bsolute or relative insulin de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own Arrow 6"/>
          <p:cNvSpPr/>
          <p:nvPr/>
        </p:nvSpPr>
        <p:spPr>
          <a:xfrm>
            <a:off x="4554360" y="2071800"/>
            <a:ext cx="21600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1933560" y="23590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Sans Unicode"/>
              </a:rPr>
              <a:t>Multiple metabolic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17"/>
          <p:cNvSpPr/>
          <p:nvPr/>
        </p:nvSpPr>
        <p:spPr>
          <a:xfrm>
            <a:off x="1476360" y="2935440"/>
            <a:ext cx="6335640" cy="0"/>
          </a:xfrm>
          <a:prstGeom prst="line">
            <a:avLst/>
          </a:prstGeom>
          <a:ln w="255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Straight Arrow Connector 21"/>
          <p:cNvCxnSpPr/>
          <p:nvPr/>
        </p:nvCxnSpPr>
        <p:spPr>
          <a:xfrm flipH="1">
            <a:off x="7798680" y="2918880"/>
            <a:ext cx="1080" cy="350280"/>
          </a:xfrm>
          <a:prstGeom prst="straightConnector1">
            <a:avLst/>
          </a:prstGeom>
          <a:ln w="255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27" name="TextBox 23"/>
          <p:cNvSpPr/>
          <p:nvPr/>
        </p:nvSpPr>
        <p:spPr>
          <a:xfrm>
            <a:off x="324000" y="3290760"/>
            <a:ext cx="2268360" cy="228636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Lucida Sans Unicode"/>
              </a:rPr>
              <a:t>CHO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Symbol"/>
                <a:ea typeface="Symbol"/>
              </a:rPr>
              <a:t></a:t>
            </a:r>
            <a:r>
              <a:rPr b="1" lang="en-US" sz="1600" spc="-1" strike="noStrike">
                <a:solidFill>
                  <a:srgbClr val="c000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lucose uptake by certain tissues (adipose tissue &amp; sk. muscl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cc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1600" spc="-1" strike="noStrike">
                <a:solidFill>
                  <a:srgbClr val="00cc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lycogeno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cc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1600" spc="-1" strike="noStrike">
                <a:solidFill>
                  <a:srgbClr val="00cc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luconeoge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4"/>
          <p:cNvSpPr/>
          <p:nvPr/>
        </p:nvSpPr>
        <p:spPr>
          <a:xfrm>
            <a:off x="3332160" y="3300480"/>
            <a:ext cx="2643120" cy="179964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Lucida Sans Unicode"/>
              </a:rPr>
              <a:t>Lipid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cc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Lipo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cc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Fatty acid ox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cc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Production of Ketone bodies (in li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5"/>
          <p:cNvSpPr/>
          <p:nvPr/>
        </p:nvSpPr>
        <p:spPr>
          <a:xfrm>
            <a:off x="6575400" y="3282840"/>
            <a:ext cx="2448000" cy="116028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Lucida Sans Unicode"/>
              </a:rPr>
              <a:t>Protein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Symbol"/>
                <a:ea typeface="Symbol"/>
              </a:rPr>
              <a:t>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Protein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cc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Protein degra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Straight Arrow Connector 16"/>
          <p:cNvCxnSpPr/>
          <p:nvPr/>
        </p:nvCxnSpPr>
        <p:spPr>
          <a:xfrm flipH="1">
            <a:off x="4656960" y="2924280"/>
            <a:ext cx="1080" cy="351360"/>
          </a:xfrm>
          <a:prstGeom prst="straightConnector1">
            <a:avLst/>
          </a:prstGeom>
          <a:ln w="255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31" name="Straight Arrow Connector 18"/>
          <p:cNvCxnSpPr/>
          <p:nvPr/>
        </p:nvCxnSpPr>
        <p:spPr>
          <a:xfrm flipH="1">
            <a:off x="1475640" y="2924280"/>
            <a:ext cx="1080" cy="351360"/>
          </a:xfrm>
          <a:prstGeom prst="straightConnector1">
            <a:avLst/>
          </a:prstGeom>
          <a:ln w="255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2"/>
          <p:cNvSpPr/>
          <p:nvPr/>
        </p:nvSpPr>
        <p:spPr>
          <a:xfrm>
            <a:off x="1258920" y="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Mechanisms of Increase Hepatic Glucos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"/>
          <p:cNvSpPr/>
          <p:nvPr/>
        </p:nvSpPr>
        <p:spPr>
          <a:xfrm>
            <a:off x="3799800" y="1341360"/>
            <a:ext cx="174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4"/>
          <p:cNvSpPr/>
          <p:nvPr/>
        </p:nvSpPr>
        <p:spPr>
          <a:xfrm>
            <a:off x="748080" y="2133720"/>
            <a:ext cx="786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hibitory effect on glucagon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5"/>
          <p:cNvSpPr/>
          <p:nvPr/>
        </p:nvSpPr>
        <p:spPr>
          <a:xfrm>
            <a:off x="3589920" y="3348000"/>
            <a:ext cx="21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luc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1211400" y="4437000"/>
            <a:ext cx="692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luconeogenesis &amp; glycogen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3016440" y="5938920"/>
            <a:ext cx="33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lasma 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ounded Rectangle 10"/>
          <p:cNvSpPr/>
          <p:nvPr/>
        </p:nvSpPr>
        <p:spPr>
          <a:xfrm>
            <a:off x="468360" y="1268280"/>
            <a:ext cx="8496360" cy="5329440"/>
          </a:xfrm>
          <a:prstGeom prst="roundRect">
            <a:avLst>
              <a:gd name="adj" fmla="val 16667"/>
            </a:avLst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own Arrow 11"/>
          <p:cNvSpPr/>
          <p:nvPr/>
        </p:nvSpPr>
        <p:spPr>
          <a:xfrm>
            <a:off x="4572000" y="184464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own Arrow 12"/>
          <p:cNvSpPr/>
          <p:nvPr/>
        </p:nvSpPr>
        <p:spPr>
          <a:xfrm>
            <a:off x="4572000" y="285264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own Arrow 14"/>
          <p:cNvSpPr/>
          <p:nvPr/>
        </p:nvSpPr>
        <p:spPr>
          <a:xfrm>
            <a:off x="4572000" y="4005360"/>
            <a:ext cx="216000" cy="358560"/>
          </a:xfrm>
          <a:prstGeom prst="downArrow">
            <a:avLst>
              <a:gd name="adj1" fmla="val 50000"/>
              <a:gd name="adj2" fmla="val 49946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own Arrow 15"/>
          <p:cNvSpPr/>
          <p:nvPr/>
        </p:nvSpPr>
        <p:spPr>
          <a:xfrm>
            <a:off x="4572000" y="551664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6"/>
          <p:cNvSpPr/>
          <p:nvPr/>
        </p:nvSpPr>
        <p:spPr>
          <a:xfrm>
            <a:off x="4032720" y="493236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(Li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2"/>
          <p:cNvSpPr/>
          <p:nvPr/>
        </p:nvSpPr>
        <p:spPr>
          <a:xfrm>
            <a:off x="1258920" y="21276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Mechanisms of Decrease of Peripheral Glucose Up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3"/>
          <p:cNvSpPr/>
          <p:nvPr/>
        </p:nvSpPr>
        <p:spPr>
          <a:xfrm>
            <a:off x="1867680" y="2708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"/>
          <p:cNvSpPr/>
          <p:nvPr/>
        </p:nvSpPr>
        <p:spPr>
          <a:xfrm>
            <a:off x="250920" y="357336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lucose &amp; amino acid up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tein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792000" y="502920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lasma gluco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lasma 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ounded Rectangle 10"/>
          <p:cNvSpPr/>
          <p:nvPr/>
        </p:nvSpPr>
        <p:spPr>
          <a:xfrm>
            <a:off x="250920" y="2565360"/>
            <a:ext cx="4681440" cy="3384720"/>
          </a:xfrm>
          <a:prstGeom prst="roundRect">
            <a:avLst>
              <a:gd name="adj" fmla="val 16667"/>
            </a:avLst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own Arrow 11"/>
          <p:cNvSpPr/>
          <p:nvPr/>
        </p:nvSpPr>
        <p:spPr>
          <a:xfrm>
            <a:off x="2444760" y="321300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own Arrow 12"/>
          <p:cNvSpPr/>
          <p:nvPr/>
        </p:nvSpPr>
        <p:spPr>
          <a:xfrm>
            <a:off x="2457360" y="450864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7"/>
          <p:cNvSpPr/>
          <p:nvPr/>
        </p:nvSpPr>
        <p:spPr>
          <a:xfrm>
            <a:off x="1803240" y="177336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Lucida Sans Unicode"/>
              </a:rPr>
              <a:t>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8"/>
          <p:cNvSpPr/>
          <p:nvPr/>
        </p:nvSpPr>
        <p:spPr>
          <a:xfrm>
            <a:off x="6620040" y="2708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9"/>
          <p:cNvSpPr/>
          <p:nvPr/>
        </p:nvSpPr>
        <p:spPr>
          <a:xfrm>
            <a:off x="5003640" y="375912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lucose up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0"/>
          <p:cNvSpPr/>
          <p:nvPr/>
        </p:nvSpPr>
        <p:spPr>
          <a:xfrm>
            <a:off x="5543640" y="502920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lasma 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ounded Rectangle 21"/>
          <p:cNvSpPr/>
          <p:nvPr/>
        </p:nvSpPr>
        <p:spPr>
          <a:xfrm>
            <a:off x="5796000" y="2565360"/>
            <a:ext cx="3024000" cy="3384720"/>
          </a:xfrm>
          <a:custGeom>
            <a:avLst/>
            <a:gdLst>
              <a:gd name="textAreaLeft" fmla="*/ 147600 w 3024000"/>
              <a:gd name="textAreaRight" fmla="*/ 2876400 w 3024000"/>
              <a:gd name="textAreaTop" fmla="*/ 147600 h 3384720"/>
              <a:gd name="textAreaBottom" fmla="*/ 3237120 h 3384720"/>
            </a:gdLst>
            <a:ahLst/>
            <a:rect l="textAreaLeft" t="textAreaTop" r="textAreaRight" b="textAreaBottom"/>
            <a:pathLst>
              <a:path w="21600" h="24176">
                <a:moveTo>
                  <a:pt x="3600" y="0"/>
                </a:moveTo>
                <a:arcTo wR="3600" hR="3600" stAng="16200000" swAng="-5400000"/>
                <a:lnTo>
                  <a:pt x="0" y="20576"/>
                </a:lnTo>
                <a:arcTo wR="3600" hR="3600" stAng="10800000" swAng="-5400000"/>
                <a:lnTo>
                  <a:pt x="18000" y="241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Down Arrow 22"/>
          <p:cNvSpPr/>
          <p:nvPr/>
        </p:nvSpPr>
        <p:spPr>
          <a:xfrm>
            <a:off x="7197840" y="3284640"/>
            <a:ext cx="215640" cy="36036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own Arrow 23"/>
          <p:cNvSpPr/>
          <p:nvPr/>
        </p:nvSpPr>
        <p:spPr>
          <a:xfrm>
            <a:off x="7210440" y="443700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24"/>
          <p:cNvSpPr/>
          <p:nvPr/>
        </p:nvSpPr>
        <p:spPr>
          <a:xfrm>
            <a:off x="5435640" y="1773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Lucida Sans Unicode"/>
              </a:rPr>
              <a:t>Adipose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Title 3" descr=""/>
          <p:cNvPicPr/>
          <p:nvPr/>
        </p:nvPicPr>
        <p:blipFill>
          <a:blip r:embed="rId1"/>
          <a:stretch/>
        </p:blipFill>
        <p:spPr>
          <a:xfrm>
            <a:off x="689040" y="98100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Title 1" descr=""/>
          <p:cNvPicPr/>
          <p:nvPr/>
        </p:nvPicPr>
        <p:blipFill>
          <a:blip r:embed="rId1"/>
          <a:stretch/>
        </p:blipFill>
        <p:spPr>
          <a:xfrm>
            <a:off x="804960" y="487440"/>
            <a:ext cx="7583400" cy="11397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179280" y="2131920"/>
            <a:ext cx="87775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396720" y="4143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3"/>
          <p:cNvSpPr/>
          <p:nvPr/>
        </p:nvSpPr>
        <p:spPr>
          <a:xfrm>
            <a:off x="765000" y="1538280"/>
            <a:ext cx="8209080" cy="52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5040" indent="-25560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Lucida Sans Unicode"/>
                <a:ea typeface="Arial"/>
              </a:rPr>
              <a:t>Chronic hyperglycemia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51444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cc00"/>
                </a:solidFill>
                <a:latin typeface="Lucida Sans Unicode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Advanced Glycation End products (AGEs) of essential cellular proteins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 cellular de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51444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51444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Intracellular sorbitol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ff"/>
                </a:solidFill>
                <a:latin typeface="Lucida Sans Unicode"/>
                <a:ea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 cell osmolality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 cellular sw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51444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51444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Reactive Oxygen Species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ROS) </a:t>
            </a:r>
            <a:r>
              <a:rPr b="1" lang="en-US" sz="28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 oxidative stress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Lucida Sans Unicode"/>
                <a:ea typeface="Arial"/>
              </a:rPr>
              <a:t>cel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51444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68360" y="1889280"/>
            <a:ext cx="822960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hronic hyperglycemi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non-enzymatic combination between excess glucose &amp; amino acids in protein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formation of AG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GEs may cross link with collage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microvascular complic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he interaction between AGEs and their receptor (RAGE) may generate reactive oxygen species (ROS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inflam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900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Lucida Sans Unicode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ifferences between type 1 and type 2 D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atural course of T1D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atural course of T2D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Lucida Sans Unicode"/>
              </a:rPr>
              <a:t>Diagnostic criteria for DM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Lucida Sans Unicode"/>
              </a:rPr>
              <a:t>Metabolic changes in D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e of hepatic glucose outp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crease of glucose uptak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ter-organ relationship in T1DM and T2D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Lucida Sans Unicode"/>
              </a:rPr>
              <a:t>Mechanisms of diabetic complica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Glucose is metabolized to sorbitol within the cells by aldose reducta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he role of sorbitol in the pathogenesis of diabetic complications is uncertain. Hypotheses are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 Unicode"/>
              </a:rPr>
              <a:t>During sorbitol production, consumption of NADPH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Lucida Sans Unicode"/>
              </a:rPr>
              <a:t> oxidative stres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 Unicode"/>
              </a:rPr>
              <a:t>Sorbitol accumulation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601"/>
              </a:spcBef>
              <a:spcAft>
                <a:spcPts val="601"/>
              </a:spcAft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Increase the intracellular osmotic pressur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osmotic drag of fluid from extracellular spac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cell swell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601"/>
              </a:spcBef>
              <a:spcAft>
                <a:spcPts val="601"/>
              </a:spcAft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lteration in the activity of PKC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altered VEGF activity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altered vascular permeabil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249120" y="96840"/>
            <a:ext cx="8894880" cy="1542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"/>
          <p:cNvPicPr/>
          <p:nvPr/>
        </p:nvPicPr>
        <p:blipFill>
          <a:blip r:embed="rId2"/>
          <a:stretch/>
        </p:blipFill>
        <p:spPr>
          <a:xfrm>
            <a:off x="5508720" y="2349360"/>
            <a:ext cx="2895480" cy="3303720"/>
          </a:xfrm>
          <a:prstGeom prst="rect">
            <a:avLst/>
          </a:prstGeom>
          <a:ln w="0">
            <a:noFill/>
          </a:ln>
        </p:spPr>
      </p:pic>
      <p:grpSp>
        <p:nvGrpSpPr>
          <p:cNvPr id="471" name="Group 5"/>
          <p:cNvGrpSpPr/>
          <p:nvPr/>
        </p:nvGrpSpPr>
        <p:grpSpPr>
          <a:xfrm>
            <a:off x="1116000" y="1628640"/>
            <a:ext cx="2087640" cy="5175360"/>
            <a:chOff x="1116000" y="1628640"/>
            <a:chExt cx="2087640" cy="5175360"/>
          </a:xfrm>
        </p:grpSpPr>
        <p:pic>
          <p:nvPicPr>
            <p:cNvPr id="472" name="Picture 2" descr=""/>
            <p:cNvPicPr/>
            <p:nvPr/>
          </p:nvPicPr>
          <p:blipFill>
            <a:blip r:embed="rId3"/>
            <a:stretch/>
          </p:blipFill>
          <p:spPr>
            <a:xfrm>
              <a:off x="1116000" y="1628640"/>
              <a:ext cx="2087640" cy="51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Arc 4"/>
            <p:cNvSpPr/>
            <p:nvPr/>
          </p:nvSpPr>
          <p:spPr>
            <a:xfrm rot="11406000">
              <a:off x="2554200" y="5157360"/>
              <a:ext cx="271440" cy="328320"/>
            </a:xfrm>
            <a:custGeom>
              <a:avLst/>
              <a:gdLst/>
              <a:ahLst/>
              <a:rect l="l" t="t" r="r" b="b"/>
              <a:pathLst>
                <a:path stroke="0" w="271462" h="328612">
                  <a:moveTo>
                    <a:pt x="68713" y="21425"/>
                  </a:moveTo>
                  <a:cubicBezTo>
                    <a:pt x="120652" y="-14274"/>
                    <a:pt x="185765" y="-4678"/>
                    <a:pt x="229111" y="45064"/>
                  </a:cubicBezTo>
                  <a:cubicBezTo>
                    <a:pt x="261777" y="82551"/>
                    <a:pt x="276967" y="137203"/>
                    <a:pt x="269662" y="190969"/>
                  </a:cubicBezTo>
                  <a:cubicBezTo>
                    <a:pt x="261511" y="250968"/>
                    <a:pt x="226653" y="300612"/>
                    <a:pt x="179049" y="320019"/>
                  </a:cubicBezTo>
                  <a:lnTo>
                    <a:pt x="135731" y="164306"/>
                  </a:lnTo>
                  <a:lnTo>
                    <a:pt x="68713" y="21425"/>
                  </a:lnTo>
                  <a:close/>
                </a:path>
                <a:path fill="none" w="271462" h="328612">
                  <a:moveTo>
                    <a:pt x="68713" y="21425"/>
                  </a:moveTo>
                  <a:cubicBezTo>
                    <a:pt x="120652" y="-14274"/>
                    <a:pt x="185765" y="-4678"/>
                    <a:pt x="229111" y="45064"/>
                  </a:cubicBezTo>
                  <a:cubicBezTo>
                    <a:pt x="261777" y="82551"/>
                    <a:pt x="276967" y="137203"/>
                    <a:pt x="269662" y="190969"/>
                  </a:cubicBezTo>
                  <a:cubicBezTo>
                    <a:pt x="261511" y="250968"/>
                    <a:pt x="226653" y="300612"/>
                    <a:pt x="179049" y="32001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4810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progressive microvascular complication of DM, affecting the retina of the ey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major cause of morbidity in DM (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blindnes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ts prevalence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with increasing duration of disease in both type 1 &amp; 2 D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fter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20 year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f the diseas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Is present in almost </a:t>
            </a:r>
            <a:r>
              <a:rPr b="1" lang="en-US" sz="2300" spc="-1" strike="noStrike">
                <a:solidFill>
                  <a:srgbClr val="ff0000"/>
                </a:solidFill>
                <a:latin typeface="Lucida Sans Unicode"/>
              </a:rPr>
              <a:t>all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T1D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Is present in </a:t>
            </a:r>
            <a:r>
              <a:rPr b="1" lang="en-US" sz="2300" spc="-1" strike="noStrike">
                <a:solidFill>
                  <a:srgbClr val="ff0000"/>
                </a:solidFill>
                <a:latin typeface="Lucida Sans Unicode"/>
              </a:rPr>
              <a:t>50 – 80%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of T2D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34136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Occurs in both type 1 &amp; type 2 D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The earliest clinical finding of diabetic nephropathy is </a:t>
            </a:r>
            <a:r>
              <a:rPr b="1" lang="en-US" sz="2100" spc="-1" strike="noStrike">
                <a:solidFill>
                  <a:srgbClr val="ff0000"/>
                </a:solidFill>
                <a:latin typeface="Lucida Sans Unicode"/>
              </a:rPr>
              <a:t>microalbuminuria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3360" indent="-25560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da1f2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Lucida Sans Unicode"/>
              </a:rPr>
              <a:t>(the persistent excretion of small amounts of albumin (30-300 mg per day) into the urine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Microalbuminuria is an important predictor of progression to </a:t>
            </a:r>
            <a:r>
              <a:rPr b="1" lang="en-US" sz="2500" spc="-1" strike="noStrike">
                <a:solidFill>
                  <a:srgbClr val="ff0000"/>
                </a:solidFill>
                <a:latin typeface="Lucida Sans Unicode"/>
              </a:rPr>
              <a:t>proteinuria</a:t>
            </a: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80000"/>
              </a:lnSpc>
              <a:spcBef>
                <a:spcPts val="326"/>
              </a:spcBef>
              <a:spcAft>
                <a:spcPts val="1199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Lucida Sans Unicode"/>
              </a:rPr>
              <a:t>(the persistent excretion of &gt;300 mg albumin per day into the urin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Once proteinuria appears, there is a steady </a:t>
            </a:r>
            <a:r>
              <a:rPr b="1" lang="en-US" sz="2500" spc="-1" strike="noStrike">
                <a:solidFill>
                  <a:srgbClr val="c00000"/>
                </a:solidFill>
                <a:latin typeface="Symbol"/>
                <a:ea typeface="Symbol"/>
              </a:rPr>
              <a:t></a:t>
            </a: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 in the glomerular filtration rate (GFR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Finally, </a:t>
            </a:r>
            <a:r>
              <a:rPr b="1" lang="en-US" sz="2500" spc="-1" strike="noStrike">
                <a:solidFill>
                  <a:srgbClr val="ff0000"/>
                </a:solidFill>
                <a:latin typeface="Lucida Sans Unicode"/>
              </a:rPr>
              <a:t>end-stage renal disease </a:t>
            </a: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occur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2"/>
          <p:cNvSpPr/>
          <p:nvPr/>
        </p:nvSpPr>
        <p:spPr>
          <a:xfrm>
            <a:off x="1258920" y="28404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Sequence of Events in Diabetic Nephropa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3"/>
          <p:cNvSpPr/>
          <p:nvPr/>
        </p:nvSpPr>
        <p:spPr>
          <a:xfrm>
            <a:off x="2065320" y="1989000"/>
            <a:ext cx="52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lomerular hyperfil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2886480" y="3060720"/>
            <a:ext cx="35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icroalbuminu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5"/>
          <p:cNvSpPr/>
          <p:nvPr/>
        </p:nvSpPr>
        <p:spPr>
          <a:xfrm>
            <a:off x="2742120" y="4211640"/>
            <a:ext cx="38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teinuria &amp; </a:t>
            </a:r>
            <a:r>
              <a:rPr b="0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G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348640" y="521964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nd-stage rena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ounded Rectangle 10"/>
          <p:cNvSpPr/>
          <p:nvPr/>
        </p:nvSpPr>
        <p:spPr>
          <a:xfrm>
            <a:off x="1476360" y="1916280"/>
            <a:ext cx="6264360" cy="4033800"/>
          </a:xfrm>
          <a:prstGeom prst="roundRect">
            <a:avLst>
              <a:gd name="adj" fmla="val 16667"/>
            </a:avLst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Down Arrow 11"/>
          <p:cNvSpPr/>
          <p:nvPr/>
        </p:nvSpPr>
        <p:spPr>
          <a:xfrm>
            <a:off x="4572000" y="263700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Down Arrow 12"/>
          <p:cNvSpPr/>
          <p:nvPr/>
        </p:nvSpPr>
        <p:spPr>
          <a:xfrm>
            <a:off x="4572000" y="371628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Down Arrow 13"/>
          <p:cNvSpPr/>
          <p:nvPr/>
        </p:nvSpPr>
        <p:spPr>
          <a:xfrm>
            <a:off x="4572000" y="4869000"/>
            <a:ext cx="216000" cy="3603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68360" y="1916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oss of both myelinated and unmyelinated nerve fib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ccurs in both type 1 &amp; type 2 D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t correlates with the duration of DM &amp; with glycemic contro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Title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Title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8643960" cy="1146240"/>
          </a:xfrm>
          <a:prstGeom prst="rect">
            <a:avLst/>
          </a:prstGeom>
          <a:ln w="0">
            <a:noFill/>
          </a:ln>
        </p:spPr>
      </p:pic>
      <p:grpSp>
        <p:nvGrpSpPr>
          <p:cNvPr id="375" name="Group 3"/>
          <p:cNvGrpSpPr/>
          <p:nvPr/>
        </p:nvGrpSpPr>
        <p:grpSpPr>
          <a:xfrm>
            <a:off x="395280" y="1341360"/>
            <a:ext cx="8272440" cy="5212080"/>
            <a:chOff x="395280" y="1341360"/>
            <a:chExt cx="8272440" cy="5212080"/>
          </a:xfrm>
        </p:grpSpPr>
        <p:pic>
          <p:nvPicPr>
            <p:cNvPr id="376" name="Picture 2" descr=""/>
            <p:cNvPicPr/>
            <p:nvPr/>
          </p:nvPicPr>
          <p:blipFill>
            <a:blip r:embed="rId2"/>
            <a:stretch/>
          </p:blipFill>
          <p:spPr>
            <a:xfrm>
              <a:off x="395280" y="1341360"/>
              <a:ext cx="8244000" cy="45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Box 2"/>
            <p:cNvSpPr/>
            <p:nvPr/>
          </p:nvSpPr>
          <p:spPr>
            <a:xfrm>
              <a:off x="2820960" y="2584440"/>
              <a:ext cx="1008000" cy="307080"/>
            </a:xfrm>
            <a:prstGeom prst="rect">
              <a:avLst/>
            </a:prstGeom>
            <a:solidFill>
              <a:srgbClr val="fb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 10 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4"/>
            <p:cNvSpPr/>
            <p:nvPr/>
          </p:nvSpPr>
          <p:spPr>
            <a:xfrm>
              <a:off x="5873760" y="2584440"/>
              <a:ext cx="1008000" cy="307080"/>
            </a:xfrm>
            <a:prstGeom prst="rect">
              <a:avLst/>
            </a:prstGeom>
            <a:solidFill>
              <a:srgbClr val="fb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gt; 90 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5"/>
            <p:cNvSpPr/>
            <p:nvPr/>
          </p:nvSpPr>
          <p:spPr>
            <a:xfrm>
              <a:off x="5686560" y="4237200"/>
              <a:ext cx="2952720" cy="459000"/>
            </a:xfrm>
            <a:prstGeom prst="rect">
              <a:avLst/>
            </a:prstGeom>
            <a:solidFill>
              <a:srgbClr val="fb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igh early in disease, low to absent in disease of long du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6"/>
            <p:cNvSpPr/>
            <p:nvPr/>
          </p:nvSpPr>
          <p:spPr>
            <a:xfrm>
              <a:off x="5686560" y="4762440"/>
              <a:ext cx="2952720" cy="276480"/>
            </a:xfrm>
            <a:prstGeom prst="rect">
              <a:avLst/>
            </a:prstGeom>
            <a:solidFill>
              <a:srgbClr val="fb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perosmolar hyperglycemic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95280" y="5085000"/>
              <a:ext cx="2338200" cy="459000"/>
            </a:xfrm>
            <a:prstGeom prst="rect">
              <a:avLst/>
            </a:prstGeom>
            <a:solidFill>
              <a:srgbClr val="fb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to Oral Hypoglycemic Drugs (OH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5715000" y="5546880"/>
              <a:ext cx="2952720" cy="1006560"/>
            </a:xfrm>
            <a:prstGeom prst="rect">
              <a:avLst/>
            </a:prstGeom>
            <a:solidFill>
              <a:srgbClr val="fb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et, exercise, OHG, insulin (may or may not be necessary), reduction of risk factors (weight reduction, smoking cessation, BP control, treatment of dyslipidemia) is essential to therap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396720" y="549360"/>
            <a:ext cx="4681800" cy="32414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5556240" y="216000"/>
            <a:ext cx="23288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324000" y="4284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1639800" y="1125360"/>
            <a:ext cx="667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4060080" y="648828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merican Diabetes Association (ADA),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2"/>
          <a:stretch/>
        </p:blipFill>
        <p:spPr>
          <a:xfrm>
            <a:off x="2124000" y="4005360"/>
            <a:ext cx="5400720" cy="23889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4"/>
          <p:cNvSpPr/>
          <p:nvPr/>
        </p:nvSpPr>
        <p:spPr>
          <a:xfrm>
            <a:off x="24480" y="3573360"/>
            <a:ext cx="48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eria for the diagnosis of diabetes 2016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28800" y="1052640"/>
            <a:ext cx="52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 of increased risk for diabetes 2016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4"/>
          <p:cNvGrpSpPr/>
          <p:nvPr/>
        </p:nvGrpSpPr>
        <p:grpSpPr>
          <a:xfrm>
            <a:off x="971640" y="1420920"/>
            <a:ext cx="7535880" cy="2093760"/>
            <a:chOff x="971640" y="1420920"/>
            <a:chExt cx="7535880" cy="2093760"/>
          </a:xfrm>
        </p:grpSpPr>
        <p:pic>
          <p:nvPicPr>
            <p:cNvPr id="393" name="Picture 7" descr=""/>
            <p:cNvPicPr/>
            <p:nvPr/>
          </p:nvPicPr>
          <p:blipFill>
            <a:blip r:embed="rId3"/>
            <a:stretch/>
          </p:blipFill>
          <p:spPr>
            <a:xfrm>
              <a:off x="971640" y="1420920"/>
              <a:ext cx="7535880" cy="20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Straight Connector 2"/>
            <p:cNvSpPr/>
            <p:nvPr/>
          </p:nvSpPr>
          <p:spPr>
            <a:xfrm>
              <a:off x="2411280" y="1700280"/>
              <a:ext cx="93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Straight Connector 9"/>
            <p:cNvSpPr/>
            <p:nvPr/>
          </p:nvSpPr>
          <p:spPr>
            <a:xfrm>
              <a:off x="4572000" y="1700280"/>
              <a:ext cx="93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Straight Connector 10"/>
            <p:cNvSpPr/>
            <p:nvPr/>
          </p:nvSpPr>
          <p:spPr>
            <a:xfrm>
              <a:off x="4003560" y="2276640"/>
              <a:ext cx="861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Straight Connector 11"/>
            <p:cNvSpPr/>
            <p:nvPr/>
          </p:nvSpPr>
          <p:spPr>
            <a:xfrm>
              <a:off x="6228000" y="2276640"/>
              <a:ext cx="93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Straight Connector 19"/>
            <p:cNvSpPr/>
            <p:nvPr/>
          </p:nvSpPr>
          <p:spPr>
            <a:xfrm>
              <a:off x="1332000" y="2852640"/>
              <a:ext cx="93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4"/>
          <p:cNvSpPr/>
          <p:nvPr/>
        </p:nvSpPr>
        <p:spPr>
          <a:xfrm>
            <a:off x="4025160" y="622764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merican Diabetes Association (ADA),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1187280" y="458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G: Fasting plasma glucose; IFG: Impaired fasting glucose; PG: post glucose; OGTT: Oral glucose tolerance test; IGT: Impaired glucose tolerance; A1C: Glycated hemoglob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2"/>
          <p:cNvGrpSpPr/>
          <p:nvPr/>
        </p:nvGrpSpPr>
        <p:grpSpPr>
          <a:xfrm>
            <a:off x="1187280" y="1125360"/>
            <a:ext cx="7488360" cy="3311640"/>
            <a:chOff x="1187280" y="1125360"/>
            <a:chExt cx="7488360" cy="3311640"/>
          </a:xfrm>
        </p:grpSpPr>
        <p:pic>
          <p:nvPicPr>
            <p:cNvPr id="403" name="Picture 6" descr=""/>
            <p:cNvPicPr/>
            <p:nvPr/>
          </p:nvPicPr>
          <p:blipFill>
            <a:blip r:embed="rId2"/>
            <a:stretch/>
          </p:blipFill>
          <p:spPr>
            <a:xfrm>
              <a:off x="1187280" y="1125360"/>
              <a:ext cx="7488360" cy="33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Straight Connector 9"/>
            <p:cNvSpPr/>
            <p:nvPr/>
          </p:nvSpPr>
          <p:spPr>
            <a:xfrm>
              <a:off x="2842920" y="1412640"/>
              <a:ext cx="79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Straight Connector 8"/>
            <p:cNvSpPr/>
            <p:nvPr/>
          </p:nvSpPr>
          <p:spPr>
            <a:xfrm>
              <a:off x="2987280" y="1917360"/>
              <a:ext cx="790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Straight Connector 7"/>
            <p:cNvSpPr/>
            <p:nvPr/>
          </p:nvSpPr>
          <p:spPr>
            <a:xfrm>
              <a:off x="1474560" y="2925720"/>
              <a:ext cx="790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763640" y="914400"/>
            <a:ext cx="7129440" cy="57816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3"/>
          <p:cNvSpPr/>
          <p:nvPr/>
        </p:nvSpPr>
        <p:spPr>
          <a:xfrm>
            <a:off x="108000" y="297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Glycohemoglobin Standardization Program (NG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 rot="20005800">
            <a:off x="2071080" y="2373480"/>
            <a:ext cx="5091120" cy="642600"/>
          </a:xfrm>
          <a:prstGeom prst="rect">
            <a:avLst/>
          </a:prstGeom>
          <a:solidFill>
            <a:srgbClr val="fbe0d1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 READING, NOT INCLUDED IN THE LECTURE’S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68000" y="836280"/>
            <a:ext cx="8505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Hemoglobin A1C (A1C)  is the result of non enzymatic covalent glycosylation of hemoglobi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t is used to estimate glycemic control in the last 1-2 month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Recently, A1C is recommended for the detection of T2DM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1C and fasting plasma glucose (FPG) were found to be similarly effective in diagnosing diabe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1C cut-off point o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6.5 % is used to diagnose diabe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1C values also correlate with the prevalence of retinopathy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ssays for A1C has to be standardized according to the National Glycohemoglobin Standardization Program (NGSP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le 3" descr=""/>
          <p:cNvPicPr/>
          <p:nvPr/>
        </p:nvPicPr>
        <p:blipFill>
          <a:blip r:embed="rId1"/>
          <a:stretch/>
        </p:blipFill>
        <p:spPr>
          <a:xfrm>
            <a:off x="4698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Straight Connector 4"/>
          <p:cNvSpPr/>
          <p:nvPr/>
        </p:nvSpPr>
        <p:spPr>
          <a:xfrm>
            <a:off x="3780000" y="414972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9:31:56Z</dcterms:created>
  <dc:creator>Dr.Reem</dc:creator>
  <dc:description/>
  <dc:language>en-US</dc:language>
  <cp:lastModifiedBy>Microsoft Office User</cp:lastModifiedBy>
  <dcterms:modified xsi:type="dcterms:W3CDTF">2017-03-07T03:58:25Z</dcterms:modified>
  <cp:revision>45</cp:revision>
  <dc:subject/>
  <dc:title>Slide 1</dc:title>
</cp:coreProperties>
</file>