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ouch.wav" ContentType="audio/x-wav"/>
  <Override PartName="/ppt/media/image13.jpeg" ContentType="image/jpeg"/>
  <Override PartName="/ppt/media/image7.png" ContentType="image/png"/>
  <Override PartName="/ppt/media/image11.png" ContentType="image/png"/>
  <Override PartName="/ppt/media/bionic.wav" ContentType="audio/x-wav"/>
  <Override PartName="/ppt/media/image3.png" ContentType="image/png"/>
  <Override PartName="/ppt/media/image6.png" ContentType="image/png"/>
  <Override PartName="/ppt/media/image5.jpeg" ContentType="image/jpeg"/>
  <Override PartName="/ppt/media/whatthe02.wav" ContentType="audio/x-wav"/>
  <Override PartName="/ppt/media/whatthe01.wav" ContentType="audio/x-wav"/>
  <Override PartName="/ppt/media/type.wav" ContentType="audio/x-wav"/>
  <Override PartName="/ppt/media/image15.jpeg" ContentType="image/jpeg"/>
  <Override PartName="/ppt/media/image17.gif" ContentType="image/gif"/>
  <Override PartName="/ppt/media/image16.png" ContentType="image/png"/>
  <Override PartName="/ppt/media/image14.jpeg" ContentType="image/jpeg"/>
  <Override PartName="/ppt/media/fart01.wav" ContentType="audio/x-wav"/>
  <Override PartName="/ppt/media/image9.jpeg" ContentType="image/jpeg"/>
  <Override PartName="/ppt/media/image4.jpeg" ContentType="image/jpeg"/>
  <Override PartName="/ppt/media/image2.png" ContentType="image/png"/>
  <Override PartName="/ppt/media/cashreg.wav" ContentType="audio/x-wav"/>
  <Override PartName="/ppt/media/image1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468-47E4-4A28-BE7E-98F84636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731-6BD2-40BB-BF56-E4BF5FE7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1B6-80BD-47C7-AD6D-26363FA7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003-0B77-4CB2-808C-49467F1D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1C5C-B93E-4E06-BA0D-9AEDB683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2459-A4DC-4207-AA29-7D9DFAEE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EBCF-287A-4D96-B5A8-4C95326B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FDBD-49E3-43FC-91AC-8C674DAE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7AD5-3899-43A8-897C-3B6BE535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C5E2-CE8A-4520-8092-5623E403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8CBA-442E-46D2-997F-5C55AF5D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8EA-F1BE-4278-983C-257CB28F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F3F3-AD40-4142-AFA4-1C6387D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1091-B069-495B-8BBD-18518939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8821-DBD0-4408-935E-DE8BD56E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5702-2DF4-41E1-9AFF-203D9001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BBB3-6691-4E3E-A4A9-7F45C30F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7BB-F374-4BDC-A7E6-848062EE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322-F4EC-466B-8B3B-DC76621E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43D-6F67-41A4-A249-A4FF552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CB6-27E3-4A5B-98DC-DC6D27DE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FC2-5D8A-4895-804D-CB28E8EE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FA3-AEF2-48B3-8ED1-957E9FF3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FBF-B8B4-47FF-B858-E30EE4E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CAD7-34E5-4BF6-A685-2BC26927E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B506-7273-4F9A-AD7F-6DE0393F1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audio" Target="../media/fart01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audio" Target="file:///tmp/home/.config/libreoffice/4/user/gallery/ouch.wav" TargetMode="External"/><Relationship Id="rId5" Type="http://schemas.microsoft.com/office/2007/relationships/media" Target="file:///tmp/home/.config/libreoffice/4/user/gallery/ouch.wav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whatthe02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whatthe01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bionic.wav"/><Relationship Id="rId5" Type="http://schemas.openxmlformats.org/officeDocument/2006/relationships/audio" Target="../media/bionic.wav"/><Relationship Id="rId6" Type="http://schemas.openxmlformats.org/officeDocument/2006/relationships/audio" Target="../media/ouc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tamorphic Rock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istorted"/>
          <p:cNvPicPr/>
          <p:nvPr/>
        </p:nvPicPr>
        <p:blipFill>
          <a:blip r:embed="rId1"/>
          <a:stretch/>
        </p:blipFill>
        <p:spPr>
          <a:xfrm>
            <a:off x="533520" y="22096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layers"/>
          <p:cNvPicPr/>
          <p:nvPr/>
        </p:nvPicPr>
        <p:blipFill>
          <a:blip r:embed="rId2"/>
          <a:stretch/>
        </p:blipFill>
        <p:spPr>
          <a:xfrm>
            <a:off x="5562720" y="222876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114444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63012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246240" y="930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nding vs.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gneiss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69608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Schistose foliation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inerals have been squashed into flakes of m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flakes"/>
          <p:cNvPicPr/>
          <p:nvPr/>
        </p:nvPicPr>
        <p:blipFill>
          <a:blip r:embed="rId1"/>
          <a:stretch/>
        </p:blipFill>
        <p:spPr>
          <a:xfrm>
            <a:off x="1447920" y="10857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355" name="WordArt 6"/>
          <p:cNvSpPr txBox="1"/>
          <p:nvPr/>
        </p:nvSpPr>
        <p:spPr>
          <a:xfrm>
            <a:off x="2209680" y="5638680"/>
            <a:ext cx="42674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 Piece of Schi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schist"/>
          <p:cNvPicPr/>
          <p:nvPr/>
        </p:nvPicPr>
        <p:blipFill>
          <a:blip r:embed="rId1"/>
          <a:stretch/>
        </p:blipFill>
        <p:spPr>
          <a:xfrm>
            <a:off x="1371600" y="102888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57" name="WordArt 3"/>
          <p:cNvSpPr txBox="1"/>
          <p:nvPr/>
        </p:nvSpPr>
        <p:spPr>
          <a:xfrm>
            <a:off x="2666880" y="5637240"/>
            <a:ext cx="38102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ley Schi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5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86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627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8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69608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Slaty foliation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Rock splits into flat, thin lay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out you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andy Dandy Earth Science Refer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bles Page 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2439720" y="10666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4115520" y="556272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l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7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8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2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981800" y="106668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l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116240" y="556272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4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9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atthe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2439720" y="10666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116600" y="55627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nei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atthe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8487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Metamorphic rocks have been changed from a pre-existing rock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Caused by extreme heat and/or pressur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Lucida Handwriting"/>
              </a:rPr>
              <a:t>Regional Metamorphism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Caused by extreme pressure and hea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Happens over wide “regions”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Lucida Handwriting"/>
              </a:rPr>
              <a:t>Contact Metamorphis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aused by contact with extreme hea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Meta. rocks will often have foliation or a distorted structur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istorted Struc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33" name="Picture 4" descr="distorted2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4" name="Freeform 5"/>
          <p:cNvSpPr/>
          <p:nvPr/>
        </p:nvSpPr>
        <p:spPr>
          <a:xfrm>
            <a:off x="2438280" y="2057400"/>
            <a:ext cx="774720" cy="1447920"/>
          </a:xfrm>
          <a:custGeom>
            <a:avLst/>
            <a:gdLst>
              <a:gd name="textAreaLeft" fmla="*/ 0 w 774720"/>
              <a:gd name="textAreaRight" fmla="*/ 775080 w 7747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488" h="912">
                <a:moveTo>
                  <a:pt x="48" y="0"/>
                </a:moveTo>
                <a:cubicBezTo>
                  <a:pt x="24" y="96"/>
                  <a:pt x="0" y="192"/>
                  <a:pt x="48" y="240"/>
                </a:cubicBezTo>
                <a:cubicBezTo>
                  <a:pt x="96" y="288"/>
                  <a:pt x="264" y="256"/>
                  <a:pt x="336" y="288"/>
                </a:cubicBezTo>
                <a:cubicBezTo>
                  <a:pt x="408" y="320"/>
                  <a:pt x="472" y="368"/>
                  <a:pt x="480" y="432"/>
                </a:cubicBezTo>
                <a:cubicBezTo>
                  <a:pt x="488" y="496"/>
                  <a:pt x="432" y="592"/>
                  <a:pt x="384" y="672"/>
                </a:cubicBezTo>
                <a:cubicBezTo>
                  <a:pt x="336" y="752"/>
                  <a:pt x="264" y="832"/>
                  <a:pt x="192" y="9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6" descr="distorted3"/>
          <p:cNvPicPr/>
          <p:nvPr/>
        </p:nvPicPr>
        <p:blipFill>
          <a:blip r:embed="rId2"/>
          <a:stretch/>
        </p:blipFill>
        <p:spPr>
          <a:xfrm>
            <a:off x="495288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7"/>
          <p:cNvSpPr/>
          <p:nvPr/>
        </p:nvSpPr>
        <p:spPr>
          <a:xfrm>
            <a:off x="4419720" y="3147840"/>
            <a:ext cx="3809880" cy="13500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400" h="85">
                <a:moveTo>
                  <a:pt x="0" y="33"/>
                </a:moveTo>
                <a:cubicBezTo>
                  <a:pt x="288" y="65"/>
                  <a:pt x="578" y="85"/>
                  <a:pt x="720" y="81"/>
                </a:cubicBezTo>
                <a:cubicBezTo>
                  <a:pt x="862" y="77"/>
                  <a:pt x="754" y="12"/>
                  <a:pt x="852" y="6"/>
                </a:cubicBezTo>
                <a:cubicBezTo>
                  <a:pt x="950" y="0"/>
                  <a:pt x="1053" y="37"/>
                  <a:pt x="1311" y="42"/>
                </a:cubicBezTo>
                <a:cubicBezTo>
                  <a:pt x="1569" y="47"/>
                  <a:pt x="2173" y="35"/>
                  <a:pt x="2400" y="3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liation is a “grain” to the r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ypes of Foliation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Gneissic Foliation- minerals are squished into b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Picture 4" descr="b4squash"/>
          <p:cNvPicPr/>
          <p:nvPr/>
        </p:nvPicPr>
        <p:blipFill>
          <a:blip r:embed="rId2"/>
          <a:stretch/>
        </p:blipFill>
        <p:spPr>
          <a:xfrm>
            <a:off x="2819520" y="3352680"/>
            <a:ext cx="3257280" cy="270828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5"/>
          <p:cNvSpPr/>
          <p:nvPr/>
        </p:nvSpPr>
        <p:spPr>
          <a:xfrm>
            <a:off x="4038480" y="320040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6"/>
          <p:cNvSpPr/>
          <p:nvPr/>
        </p:nvSpPr>
        <p:spPr>
          <a:xfrm rot="10800000">
            <a:off x="4114800" y="51811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7" descr="squash"/>
          <p:cNvPicPr/>
          <p:nvPr/>
        </p:nvPicPr>
        <p:blipFill>
          <a:blip r:embed="rId3"/>
          <a:stretch/>
        </p:blipFill>
        <p:spPr>
          <a:xfrm>
            <a:off x="2971800" y="3429000"/>
            <a:ext cx="3108240" cy="26510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466240" y="507348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Zebra Strip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u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distorted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7:32:37Z</dcterms:created>
  <dc:creator>Laptop</dc:creator>
  <dc:description/>
  <dc:language>en-US</dc:language>
  <cp:lastModifiedBy>Dell</cp:lastModifiedBy>
  <dcterms:modified xsi:type="dcterms:W3CDTF">2011-10-05T23:03:37Z</dcterms:modified>
  <cp:revision>34</cp:revision>
  <dc:subject/>
  <dc:title>Metamorphic Rocks</dc:title>
</cp:coreProperties>
</file>