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ouch.wav" ContentType="audio/x-wav"/>
  <Override PartName="/ppt/media/image13.jpeg" ContentType="image/jpeg"/>
  <Override PartName="/ppt/media/image7.png" ContentType="image/png"/>
  <Override PartName="/ppt/media/image11.png" ContentType="image/png"/>
  <Override PartName="/ppt/media/bionic.wav" ContentType="audio/x-wav"/>
  <Override PartName="/ppt/media/image3.png" ContentType="image/png"/>
  <Override PartName="/ppt/media/image6.png" ContentType="image/png"/>
  <Override PartName="/ppt/media/image5.jpeg" ContentType="image/jpeg"/>
  <Override PartName="/ppt/media/whatthe02.wav" ContentType="audio/x-wav"/>
  <Override PartName="/ppt/media/whatthe01.wav" ContentType="audio/x-wav"/>
  <Override PartName="/ppt/media/type.wav" ContentType="audio/x-wav"/>
  <Override PartName="/ppt/media/image15.jpeg" ContentType="image/jpeg"/>
  <Override PartName="/ppt/media/image17.gif" ContentType="image/gif"/>
  <Override PartName="/ppt/media/image16.png" ContentType="image/png"/>
  <Override PartName="/ppt/media/image14.jpeg" ContentType="image/jpeg"/>
  <Override PartName="/ppt/media/fart01.wav" ContentType="audio/x-wav"/>
  <Override PartName="/ppt/media/image9.jpeg" ContentType="image/jpeg"/>
  <Override PartName="/ppt/media/image4.jpeg" ContentType="image/jpeg"/>
  <Override PartName="/ppt/media/image2.png" ContentType="image/png"/>
  <Override PartName="/ppt/media/cashreg.wav" ContentType="audio/x-wav"/>
  <Override PartName="/ppt/media/image12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A814-9B0A-4956-920B-E5BDFFB7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33B5-1289-4E42-B3AF-FA263B66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082A-6566-4A94-874B-72A5D725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FAD9-2519-4D8A-BA43-C23A2E7B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290F-9554-4DAA-B50F-8C1030C4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C46A-D951-4CC0-800E-0285F6C9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F1B0-01BD-405E-A6A9-C15DAC46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289C-9B50-49D8-B6C1-905DEB8B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6F58-2DAB-43C9-935F-E8DB2212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EA79-097C-4FCC-8477-B881C1BC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E5C1-0D4E-416D-AAA7-0F144F0B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68E9-D2FD-4B74-AFB9-81FF2E18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0E59-018E-451C-8E88-5A359221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84A6-D942-43B3-8BA3-36F1396A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E66F-13A3-44A2-A145-8E492963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E243-EF52-4580-9181-A7A2D1CF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D86A-FC90-4744-A80A-7BED428F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9B24-01AF-4F04-AECD-3D857314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329-D85B-4426-8F9B-E8CF31CF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EB76-5D17-4742-867A-C6B044EA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8C6-E287-4ECD-BA3D-2883D08F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5702-DED6-441E-B3B0-6D742704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D9BD-BAE4-4D29-B03B-206ADEC1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C147-C75C-43B1-87E0-0EA27A0E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7162-3BA8-4ACD-BEE4-42A69D1F0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>
                  <a:gd name="textAreaLeft" fmla="*/ 0 w 7696080"/>
                  <a:gd name="textAreaRight" fmla="*/ 7696440 w 76960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84040"/>
                      <a:gd name="textAreaBottom" fmla="*/ 284400 h 284040"/>
                    </a:gdLst>
                    <a:ahLst/>
                    <a:rect l="textAreaLeft" t="textAreaTop" r="textAreaRight" b="textAreaBottom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>
                      <a:gd name="textAreaLeft" fmla="*/ 0 w 666720"/>
                      <a:gd name="textAreaRight" fmla="*/ 667080 w 666720"/>
                      <a:gd name="textAreaTop" fmla="*/ 0 h 448920"/>
                      <a:gd name="textAreaBottom" fmla="*/ 449280 h 448920"/>
                    </a:gdLst>
                    <a:ahLst/>
                    <a:rect l="textAreaLeft" t="textAreaTop" r="textAreaRight" b="textAreaBottom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>
                      <a:gd name="textAreaLeft" fmla="*/ 0 w 24120"/>
                      <a:gd name="textAreaRight" fmla="*/ 24480 w 2412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>
                      <a:gd name="textAreaLeft" fmla="*/ 0 w 115920"/>
                      <a:gd name="textAreaRight" fmla="*/ 116280 w 11592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28080"/>
                      <a:gd name="textAreaBottom" fmla="*/ 28440 h 28080"/>
                    </a:gdLst>
                    <a:ahLst/>
                    <a:rect l="textAreaLeft" t="textAreaTop" r="textAreaRight" b="textAreaBottom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>
                      <a:gd name="textAreaLeft" fmla="*/ 0 w 325440"/>
                      <a:gd name="textAreaRight" fmla="*/ 325800 w 325440"/>
                      <a:gd name="textAreaTop" fmla="*/ 0 h 64800"/>
                      <a:gd name="textAreaBottom" fmla="*/ 65160 h 64800"/>
                    </a:gdLst>
                    <a:ahLst/>
                    <a:rect l="textAreaLeft" t="textAreaTop" r="textAreaRight" b="textAreaBottom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>
                      <a:gd name="textAreaLeft" fmla="*/ 0 w 692280"/>
                      <a:gd name="textAreaRight" fmla="*/ 692640 w 69228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86760"/>
                      <a:gd name="textAreaBottom" fmla="*/ 86760 h 8676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>
                      <a:gd name="textAreaLeft" fmla="*/ 0 w 127080"/>
                      <a:gd name="textAreaRight" fmla="*/ 127440 w 127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>
                      <a:gd name="textAreaLeft" fmla="*/ 0 w 551160"/>
                      <a:gd name="textAreaRight" fmla="*/ 551520 w 55116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>
                      <a:gd name="textAreaLeft" fmla="*/ 0 w 687600"/>
                      <a:gd name="textAreaRight" fmla="*/ 687960 w 68760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640"/>
                      <a:gd name="textAreaBottom" fmla="*/ 351000 h 35064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>
                      <a:gd name="textAreaLeft" fmla="*/ 0 w 63720"/>
                      <a:gd name="textAreaRight" fmla="*/ 64080 w 6372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>
                      <a:gd name="textAreaLeft" fmla="*/ 0 w 695160"/>
                      <a:gd name="textAreaRight" fmla="*/ 695520 w 69516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87120"/>
                      <a:gd name="textAreaBottom" fmla="*/ 87480 h 8712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>
                      <a:gd name="textAreaLeft" fmla="*/ 0 w 93960"/>
                      <a:gd name="textAreaRight" fmla="*/ 94320 w 939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>
                      <a:gd name="textAreaLeft" fmla="*/ 0 w 550800"/>
                      <a:gd name="textAreaRight" fmla="*/ 551160 w 5508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>
                      <a:gd name="textAreaLeft" fmla="*/ 0 w 687240"/>
                      <a:gd name="textAreaRight" fmla="*/ 687600 w 68724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280"/>
                      <a:gd name="textAreaBottom" fmla="*/ 350640 h 35028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6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7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>
                  <a:gd name="textAreaLeft" fmla="*/ 0 w 9144000"/>
                  <a:gd name="textAreaRight" fmla="*/ 9144360 w 9144000"/>
                  <a:gd name="textAreaTop" fmla="*/ 0 h 1638000"/>
                  <a:gd name="textAreaBottom" fmla="*/ 1638360 h 16380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361800"/>
                    <a:gd name="textAreaBottom" fmla="*/ 362160 h 361800"/>
                  </a:gdLst>
                  <a:ahLst/>
                  <a:rect l="textAreaLeft" t="textAreaTop" r="textAreaRight" b="textAreaBottom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>
                    <a:gd name="textAreaLeft" fmla="*/ 0 w 453960"/>
                    <a:gd name="textAreaRight" fmla="*/ 454320 w 45396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225360"/>
                    <a:gd name="textAreaBottom" fmla="*/ 225720 h 225360"/>
                  </a:gdLst>
                  <a:ahLst/>
                  <a:rect l="textAreaLeft" t="textAreaTop" r="textAreaRight" b="textAreaBottom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>
                    <a:gd name="textAreaLeft" fmla="*/ 0 w 51120"/>
                    <a:gd name="textAreaRight" fmla="*/ 51480 w 51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>
                    <a:gd name="textAreaLeft" fmla="*/ 0 w 1112760"/>
                    <a:gd name="textAreaRight" fmla="*/ 1113120 w 111276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>
                    <a:gd name="textAreaLeft" fmla="*/ 0 w 1562040"/>
                    <a:gd name="textAreaRight" fmla="*/ 1562400 w 1562040"/>
                    <a:gd name="textAreaTop" fmla="*/ 0 h 1098720"/>
                    <a:gd name="textAreaBottom" fmla="*/ 1099080 h 1098720"/>
                  </a:gdLst>
                  <a:ahLst/>
                  <a:rect l="textAreaLeft" t="textAreaTop" r="textAreaRight" b="textAreaBottom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>
                    <a:gd name="textAreaLeft" fmla="*/ 0 w 708120"/>
                    <a:gd name="textAreaRight" fmla="*/ 708120 w 70812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>
                    <a:gd name="textAreaLeft" fmla="*/ 0 w 66600"/>
                    <a:gd name="textAreaRight" fmla="*/ 66600 w 66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>
                    <a:gd name="textAreaLeft" fmla="*/ 0 w 1622520"/>
                    <a:gd name="textAreaRight" fmla="*/ 1622880 w 1622520"/>
                    <a:gd name="textAreaTop" fmla="*/ 0 h 590760"/>
                    <a:gd name="textAreaBottom" fmla="*/ 591120 h 590760"/>
                  </a:gdLst>
                  <a:ahLst/>
                  <a:rect l="textAreaLeft" t="textAreaTop" r="textAreaRight" b="textAreaBottom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133560"/>
                    <a:gd name="textAreaBottom" fmla="*/ 133920 h 133560"/>
                  </a:gdLst>
                  <a:ahLst/>
                  <a:rect l="textAreaLeft" t="textAreaTop" r="textAreaRight" b="textAreaBottom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>
                    <a:gd name="textAreaLeft" fmla="*/ 0 w 297000"/>
                    <a:gd name="textAreaRight" fmla="*/ 297360 w 297000"/>
                    <a:gd name="textAreaTop" fmla="*/ 0 h 279360"/>
                    <a:gd name="textAreaBottom" fmla="*/ 279720 h 279360"/>
                  </a:gdLst>
                  <a:ahLst/>
                  <a:rect l="textAreaLeft" t="textAreaTop" r="textAreaRight" b="textAreaBottom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>
                    <a:gd name="textAreaLeft" fmla="*/ 0 w 22320"/>
                    <a:gd name="textAreaRight" fmla="*/ 22320 w 2232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>
                    <a:gd name="textAreaLeft" fmla="*/ 0 w 1290600"/>
                    <a:gd name="textAreaRight" fmla="*/ 1290960 w 1290600"/>
                    <a:gd name="textAreaTop" fmla="*/ 0 h 733320"/>
                    <a:gd name="textAreaBottom" fmla="*/ 733680 h 733320"/>
                  </a:gdLst>
                  <a:ahLst/>
                  <a:rect l="textAreaLeft" t="textAreaTop" r="textAreaRight" b="textAreaBottom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>
                    <a:gd name="textAreaLeft" fmla="*/ 0 w 1611360"/>
                    <a:gd name="textAreaRight" fmla="*/ 1611720 w 1611360"/>
                    <a:gd name="textAreaTop" fmla="*/ 0 h 1374840"/>
                    <a:gd name="textAreaBottom" fmla="*/ 1375200 h 1374840"/>
                  </a:gdLst>
                  <a:ahLst/>
                  <a:rect l="textAreaLeft" t="textAreaTop" r="textAreaRight" b="textAreaBottom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>
                    <a:gd name="textAreaLeft" fmla="*/ 0 w 606240"/>
                    <a:gd name="textAreaRight" fmla="*/ 606600 w 606240"/>
                    <a:gd name="textAreaTop" fmla="*/ 0 h 857160"/>
                    <a:gd name="textAreaBottom" fmla="*/ 857520 h 857160"/>
                  </a:gdLst>
                  <a:ahLst/>
                  <a:rect l="textAreaLeft" t="textAreaTop" r="textAreaRight" b="textAreaBottom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>
                    <a:gd name="textAreaLeft" fmla="*/ 0 w 91800"/>
                    <a:gd name="textAreaRight" fmla="*/ 92160 w 9180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>
                    <a:gd name="textAreaLeft" fmla="*/ 0 w 1096920"/>
                    <a:gd name="textAreaRight" fmla="*/ 1097280 w 1096920"/>
                    <a:gd name="textAreaTop" fmla="*/ 0 h 903600"/>
                    <a:gd name="textAreaBottom" fmla="*/ 903960 h 903600"/>
                  </a:gdLst>
                  <a:ahLst/>
                  <a:rect l="textAreaLeft" t="textAreaTop" r="textAreaRight" b="textAreaBottom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>
                    <a:gd name="textAreaLeft" fmla="*/ 0 w 2200320"/>
                    <a:gd name="textAreaRight" fmla="*/ 2200680 w 2200320"/>
                    <a:gd name="textAreaTop" fmla="*/ 0 h 368640"/>
                    <a:gd name="textAreaBottom" fmla="*/ 369000 h 368640"/>
                  </a:gdLst>
                  <a:ahLst/>
                  <a:rect l="textAreaLeft" t="textAreaTop" r="textAreaRight" b="textAreaBottom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4206-9BDC-40C3-A871-5455A96F7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audio" Target="../media/fart01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audio" Target="file:///tmp/home/.config/libreoffice/4/user/gallery/ouch.wav" TargetMode="External"/><Relationship Id="rId5" Type="http://schemas.microsoft.com/office/2007/relationships/media" Target="file:///tmp/home/.config/libreoffice/4/user/gallery/ouch.wav" TargetMode="Externa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bionic.wav"/><Relationship Id="rId7" Type="http://schemas.openxmlformats.org/officeDocument/2006/relationships/audio" Target="../media/bionic.wav"/><Relationship Id="rId8" Type="http://schemas.openxmlformats.org/officeDocument/2006/relationships/audio" Target="../media/type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bionic.wav"/><Relationship Id="rId7" Type="http://schemas.openxmlformats.org/officeDocument/2006/relationships/audio" Target="../media/bionic.wav"/><Relationship Id="rId8" Type="http://schemas.openxmlformats.org/officeDocument/2006/relationships/audio" Target="../media/type.wav"/><Relationship Id="rId9" Type="http://schemas.openxmlformats.org/officeDocument/2006/relationships/audio" Target="../media/whatthe02.wav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whatthe01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bionic.wav"/><Relationship Id="rId7" Type="http://schemas.openxmlformats.org/officeDocument/2006/relationships/audio" Target="../media/bionic.wav"/><Relationship Id="rId8" Type="http://schemas.openxmlformats.org/officeDocument/2006/relationships/audio" Target="../media/type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bionic.wav"/><Relationship Id="rId5" Type="http://schemas.openxmlformats.org/officeDocument/2006/relationships/audio" Target="../media/bionic.wav"/><Relationship Id="rId6" Type="http://schemas.openxmlformats.org/officeDocument/2006/relationships/audio" Target="../media/ouch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etamorphic Rock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distorted"/>
          <p:cNvPicPr/>
          <p:nvPr/>
        </p:nvPicPr>
        <p:blipFill>
          <a:blip r:embed="rId1"/>
          <a:stretch/>
        </p:blipFill>
        <p:spPr>
          <a:xfrm>
            <a:off x="533520" y="22096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" descr="layers"/>
          <p:cNvPicPr/>
          <p:nvPr/>
        </p:nvPicPr>
        <p:blipFill>
          <a:blip r:embed="rId2"/>
          <a:stretch/>
        </p:blipFill>
        <p:spPr>
          <a:xfrm>
            <a:off x="5562720" y="222876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4"/>
          <p:cNvSpPr/>
          <p:nvPr/>
        </p:nvSpPr>
        <p:spPr>
          <a:xfrm>
            <a:off x="114444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663012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246240" y="930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Banding vs. Lay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gneiss"/>
          <p:cNvPicPr/>
          <p:nvPr/>
        </p:nvPicPr>
        <p:blipFill>
          <a:blip r:embed="rId1"/>
          <a:stretch/>
        </p:blipFill>
        <p:spPr>
          <a:xfrm>
            <a:off x="838080" y="91440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85800" y="2147400"/>
            <a:ext cx="7696080" cy="18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Handwriting"/>
              </a:rPr>
              <a:t>Schistose foliation-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inerals have been squashed into flakes of m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4" descr="flakes"/>
          <p:cNvPicPr/>
          <p:nvPr/>
        </p:nvPicPr>
        <p:blipFill>
          <a:blip r:embed="rId1"/>
          <a:stretch/>
        </p:blipFill>
        <p:spPr>
          <a:xfrm>
            <a:off x="1447920" y="108576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355" name="WordArt 6"/>
          <p:cNvSpPr txBox="1"/>
          <p:nvPr/>
        </p:nvSpPr>
        <p:spPr>
          <a:xfrm>
            <a:off x="2209680" y="5638680"/>
            <a:ext cx="42674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A Piece of Schi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schist"/>
          <p:cNvPicPr/>
          <p:nvPr/>
        </p:nvPicPr>
        <p:blipFill>
          <a:blip r:embed="rId1"/>
          <a:stretch/>
        </p:blipFill>
        <p:spPr>
          <a:xfrm>
            <a:off x="1371600" y="1028880"/>
            <a:ext cx="5867280" cy="4400280"/>
          </a:xfrm>
          <a:prstGeom prst="rect">
            <a:avLst/>
          </a:prstGeom>
          <a:ln w="0">
            <a:noFill/>
          </a:ln>
        </p:spPr>
      </p:pic>
      <p:sp>
        <p:nvSpPr>
          <p:cNvPr id="357" name="WordArt 3"/>
          <p:cNvSpPr txBox="1"/>
          <p:nvPr/>
        </p:nvSpPr>
        <p:spPr>
          <a:xfrm>
            <a:off x="2666880" y="5637240"/>
            <a:ext cx="38102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Holey Schi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358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38862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627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58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85800" y="2147400"/>
            <a:ext cx="7696080" cy="18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Handwriting"/>
              </a:rPr>
              <a:t>Slaty foliation-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Rock splits into flat, thin lay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out you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andy Dandy Earth Science Refer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ables Page 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3"/>
          <p:cNvSpPr/>
          <p:nvPr/>
        </p:nvSpPr>
        <p:spPr>
          <a:xfrm>
            <a:off x="2439720" y="106668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4115520" y="5562720"/>
            <a:ext cx="17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yll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7" descr="fire_line_1"/>
          <p:cNvPicPr/>
          <p:nvPr/>
        </p:nvPicPr>
        <p:blipFill>
          <a:blip r:embed="rId1"/>
          <a:stretch/>
        </p:blipFill>
        <p:spPr>
          <a:xfrm>
            <a:off x="914400" y="1752480"/>
            <a:ext cx="6526080" cy="4572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8"/>
          <p:cNvSpPr/>
          <p:nvPr/>
        </p:nvSpPr>
        <p:spPr>
          <a:xfrm>
            <a:off x="3812400" y="1066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2898000" y="55627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669400" y="2819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11"/>
          <p:cNvSpPr/>
          <p:nvPr/>
        </p:nvSpPr>
        <p:spPr>
          <a:xfrm>
            <a:off x="4114800" y="236232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12"/>
          <p:cNvSpPr/>
          <p:nvPr/>
        </p:nvSpPr>
        <p:spPr>
          <a:xfrm rot="10800000">
            <a:off x="4114800" y="373356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7" presetSubtype="4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981800" y="1066680"/>
            <a:ext cx="17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yll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4116240" y="556272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h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4" descr="fire_line_1"/>
          <p:cNvPicPr/>
          <p:nvPr/>
        </p:nvPicPr>
        <p:blipFill>
          <a:blip r:embed="rId1"/>
          <a:stretch/>
        </p:blipFill>
        <p:spPr>
          <a:xfrm>
            <a:off x="914400" y="1752480"/>
            <a:ext cx="6526080" cy="4572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5"/>
          <p:cNvSpPr/>
          <p:nvPr/>
        </p:nvSpPr>
        <p:spPr>
          <a:xfrm>
            <a:off x="3812400" y="1066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2898000" y="55627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2669400" y="2819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8"/>
          <p:cNvSpPr/>
          <p:nvPr/>
        </p:nvSpPr>
        <p:spPr>
          <a:xfrm>
            <a:off x="4114800" y="236232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9"/>
          <p:cNvSpPr/>
          <p:nvPr/>
        </p:nvSpPr>
        <p:spPr>
          <a:xfrm rot="10800000">
            <a:off x="4114800" y="373356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7" presetSubtype="4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atthe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2439720" y="106668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h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4116600" y="5562720"/>
            <a:ext cx="15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nei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4" descr="fire_line_1"/>
          <p:cNvPicPr/>
          <p:nvPr/>
        </p:nvPicPr>
        <p:blipFill>
          <a:blip r:embed="rId1"/>
          <a:stretch/>
        </p:blipFill>
        <p:spPr>
          <a:xfrm>
            <a:off x="914400" y="1752480"/>
            <a:ext cx="6526080" cy="45720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5"/>
          <p:cNvSpPr/>
          <p:nvPr/>
        </p:nvSpPr>
        <p:spPr>
          <a:xfrm>
            <a:off x="3812400" y="1066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2898000" y="55627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2669400" y="2819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8"/>
          <p:cNvSpPr/>
          <p:nvPr/>
        </p:nvSpPr>
        <p:spPr>
          <a:xfrm>
            <a:off x="4114800" y="236232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9"/>
          <p:cNvSpPr/>
          <p:nvPr/>
        </p:nvSpPr>
        <p:spPr>
          <a:xfrm rot="10800000">
            <a:off x="4114800" y="373356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atthe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4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685800" y="2147400"/>
            <a:ext cx="784872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Handwriting"/>
              </a:rPr>
              <a:t>Metamorphic rocks have been changed from a pre-existing rock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Handwriting"/>
              </a:rPr>
              <a:t>Caused by extreme heat and/or pressur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Lucida Handwriting"/>
              </a:rPr>
              <a:t>Regional Metamorphism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Handwriting"/>
              </a:rPr>
              <a:t>Caused by extreme pressure and hea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Handwriting"/>
              </a:rPr>
              <a:t>Happens over wide “regions”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Lucida Handwriting"/>
              </a:rPr>
              <a:t>Contact Metamorphis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aused by contact with extreme hea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85800" y="2147400"/>
            <a:ext cx="7772400" cy="18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Handwriting"/>
              </a:rPr>
              <a:t>Meta. rocks will often have foliation or a distorted structur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Distorted Structur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33" name="Picture 4" descr="distorted2"/>
          <p:cNvPicPr/>
          <p:nvPr/>
        </p:nvPicPr>
        <p:blipFill>
          <a:blip r:embed="rId1"/>
          <a:stretch/>
        </p:blipFill>
        <p:spPr>
          <a:xfrm>
            <a:off x="457200" y="20574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334" name="Freeform 5"/>
          <p:cNvSpPr/>
          <p:nvPr/>
        </p:nvSpPr>
        <p:spPr>
          <a:xfrm>
            <a:off x="2438280" y="2057400"/>
            <a:ext cx="774720" cy="1447920"/>
          </a:xfrm>
          <a:custGeom>
            <a:avLst/>
            <a:gdLst>
              <a:gd name="textAreaLeft" fmla="*/ 0 w 774720"/>
              <a:gd name="textAreaRight" fmla="*/ 775080 w 7747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488" h="912">
                <a:moveTo>
                  <a:pt x="48" y="0"/>
                </a:moveTo>
                <a:cubicBezTo>
                  <a:pt x="24" y="96"/>
                  <a:pt x="0" y="192"/>
                  <a:pt x="48" y="240"/>
                </a:cubicBezTo>
                <a:cubicBezTo>
                  <a:pt x="96" y="288"/>
                  <a:pt x="264" y="256"/>
                  <a:pt x="336" y="288"/>
                </a:cubicBezTo>
                <a:cubicBezTo>
                  <a:pt x="408" y="320"/>
                  <a:pt x="472" y="368"/>
                  <a:pt x="480" y="432"/>
                </a:cubicBezTo>
                <a:cubicBezTo>
                  <a:pt x="488" y="496"/>
                  <a:pt x="432" y="592"/>
                  <a:pt x="384" y="672"/>
                </a:cubicBezTo>
                <a:cubicBezTo>
                  <a:pt x="336" y="752"/>
                  <a:pt x="264" y="832"/>
                  <a:pt x="192" y="9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6" descr="distorted3"/>
          <p:cNvPicPr/>
          <p:nvPr/>
        </p:nvPicPr>
        <p:blipFill>
          <a:blip r:embed="rId2"/>
          <a:stretch/>
        </p:blipFill>
        <p:spPr>
          <a:xfrm>
            <a:off x="4952880" y="20574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336" name="Freeform 7"/>
          <p:cNvSpPr/>
          <p:nvPr/>
        </p:nvSpPr>
        <p:spPr>
          <a:xfrm>
            <a:off x="4419720" y="3147840"/>
            <a:ext cx="3809880" cy="135000"/>
          </a:xfrm>
          <a:custGeom>
            <a:avLst/>
            <a:gdLst>
              <a:gd name="textAreaLeft" fmla="*/ 0 w 3809880"/>
              <a:gd name="textAreaRight" fmla="*/ 3810240 w 38098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2400" h="85">
                <a:moveTo>
                  <a:pt x="0" y="33"/>
                </a:moveTo>
                <a:cubicBezTo>
                  <a:pt x="288" y="65"/>
                  <a:pt x="578" y="85"/>
                  <a:pt x="720" y="81"/>
                </a:cubicBezTo>
                <a:cubicBezTo>
                  <a:pt x="862" y="77"/>
                  <a:pt x="754" y="12"/>
                  <a:pt x="852" y="6"/>
                </a:cubicBezTo>
                <a:cubicBezTo>
                  <a:pt x="950" y="0"/>
                  <a:pt x="1053" y="37"/>
                  <a:pt x="1311" y="42"/>
                </a:cubicBezTo>
                <a:cubicBezTo>
                  <a:pt x="1569" y="47"/>
                  <a:pt x="2173" y="35"/>
                  <a:pt x="2400" y="33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oliation is a “grain” to the ro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ypes of Foliation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Gneissic Foliation- minerals are squished into ba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1" name="Picture 4" descr="b4squash"/>
          <p:cNvPicPr/>
          <p:nvPr/>
        </p:nvPicPr>
        <p:blipFill>
          <a:blip r:embed="rId2"/>
          <a:stretch/>
        </p:blipFill>
        <p:spPr>
          <a:xfrm>
            <a:off x="2819520" y="3352680"/>
            <a:ext cx="3257280" cy="2708280"/>
          </a:xfrm>
          <a:prstGeom prst="rect">
            <a:avLst/>
          </a:prstGeom>
          <a:ln w="0">
            <a:noFill/>
          </a:ln>
        </p:spPr>
      </p:pic>
      <p:sp>
        <p:nvSpPr>
          <p:cNvPr id="342" name="AutoShape 5"/>
          <p:cNvSpPr/>
          <p:nvPr/>
        </p:nvSpPr>
        <p:spPr>
          <a:xfrm>
            <a:off x="4038480" y="320040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6"/>
          <p:cNvSpPr/>
          <p:nvPr/>
        </p:nvSpPr>
        <p:spPr>
          <a:xfrm rot="10800000">
            <a:off x="4114800" y="518112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7" descr="squash"/>
          <p:cNvPicPr/>
          <p:nvPr/>
        </p:nvPicPr>
        <p:blipFill>
          <a:blip r:embed="rId3"/>
          <a:stretch/>
        </p:blipFill>
        <p:spPr>
          <a:xfrm>
            <a:off x="2971800" y="3429000"/>
            <a:ext cx="3108240" cy="26510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5466240" y="507348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Handwriting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Lucida Handwriting"/>
              </a:rPr>
              <a:t>Zebra Stripe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ou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" descr="distorted"/>
          <p:cNvPicPr/>
          <p:nvPr/>
        </p:nvPicPr>
        <p:blipFill>
          <a:blip r:embed="rId1"/>
          <a:stretch/>
        </p:blipFill>
        <p:spPr>
          <a:xfrm>
            <a:off x="1219320" y="9144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7:32:37Z</dcterms:created>
  <dc:creator>Laptop</dc:creator>
  <dc:description/>
  <dc:language>en-US</dc:language>
  <cp:lastModifiedBy>Dell</cp:lastModifiedBy>
  <dcterms:modified xsi:type="dcterms:W3CDTF">2011-10-05T23:03:37Z</dcterms:modified>
  <cp:revision>34</cp:revision>
  <dc:subject/>
  <dc:title>Metamorphic Rocks</dc:title>
</cp:coreProperties>
</file>