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ouch.wav" ContentType="audio/x-wav"/>
  <Override PartName="/ppt/media/image13.jpeg" ContentType="image/jpeg"/>
  <Override PartName="/ppt/media/image7.png" ContentType="image/png"/>
  <Override PartName="/ppt/media/image11.png" ContentType="image/png"/>
  <Override PartName="/ppt/media/bionic.wav" ContentType="audio/x-wav"/>
  <Override PartName="/ppt/media/image3.png" ContentType="image/png"/>
  <Override PartName="/ppt/media/image6.png" ContentType="image/png"/>
  <Override PartName="/ppt/media/image5.jpeg" ContentType="image/jpeg"/>
  <Override PartName="/ppt/media/whatthe02.wav" ContentType="audio/x-wav"/>
  <Override PartName="/ppt/media/whatthe01.wav" ContentType="audio/x-wav"/>
  <Override PartName="/ppt/media/type.wav" ContentType="audio/x-wav"/>
  <Override PartName="/ppt/media/image15.jpeg" ContentType="image/jpeg"/>
  <Override PartName="/ppt/media/image17.gif" ContentType="image/gif"/>
  <Override PartName="/ppt/media/image16.png" ContentType="image/png"/>
  <Override PartName="/ppt/media/image14.jpeg" ContentType="image/jpeg"/>
  <Override PartName="/ppt/media/fart01.wav" ContentType="audio/x-wav"/>
  <Override PartName="/ppt/media/image9.jpeg" ContentType="image/jpeg"/>
  <Override PartName="/ppt/media/image4.jpeg" ContentType="image/jpeg"/>
  <Override PartName="/ppt/media/image2.png" ContentType="image/png"/>
  <Override PartName="/ppt/media/cashreg.wav" ContentType="audio/x-wav"/>
  <Override PartName="/ppt/media/image12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7ED-9EB6-47F1-85B9-FB716207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161-6F14-453A-9978-831A451A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BEF-5F22-42DF-9E92-FD820397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A83-4946-4F53-A530-BD0E8CCC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A6E-5DB9-434E-A159-CC05B081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C1BB-115A-4767-A537-33DFA482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0439-1F46-42E6-B1AA-85168647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CC7B-9CDE-467B-8746-366EE5C9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C71B-9995-4713-82E2-62A14B90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3D92-940C-492C-BAC2-603C918C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9BD6-2D17-48C1-AC73-8E81E4B5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000-6041-4A0C-A615-812541E7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D5FB-8456-4C03-9D00-9BAC7926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E144-F18E-4DCA-99CE-74AA2F4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9763-5B5C-4FB5-A687-A9D5D71E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3FFF-1146-430B-B1A0-1395B70B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DC01-E22B-4A24-9F0C-646CE261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EF2-74DA-49E4-A119-E2ECF909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872-3215-4B88-BEBE-35384975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099-5721-4A41-B1C5-998E7401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01F-DC58-494D-BC4B-C057F878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BD7-59A2-416E-A5DE-1D5BC309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6F1-AA9E-4436-936A-FBB8872C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FB1-1A4B-42D6-A976-E51B3950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D781-D8AD-419E-8573-A5573E314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>
                  <a:gd name="textAreaLeft" fmla="*/ 0 w 7696080"/>
                  <a:gd name="textAreaRight" fmla="*/ 7696440 w 769608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>
                      <a:gd name="textAreaLeft" fmla="*/ 0 w 666720"/>
                      <a:gd name="textAreaRight" fmla="*/ 667080 w 66672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>
                      <a:gd name="textAreaLeft" fmla="*/ 0 w 115920"/>
                      <a:gd name="textAreaRight" fmla="*/ 116280 w 115920"/>
                      <a:gd name="textAreaTop" fmla="*/ 0 h 52200"/>
                      <a:gd name="textAreaBottom" fmla="*/ 52560 h 52200"/>
                    </a:gdLst>
                    <a:ahLst/>
                    <a:rect l="textAreaLeft" t="textAreaTop" r="textAreaRight" b="textAreaBottom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>
                      <a:gd name="textAreaLeft" fmla="*/ 0 w 25560"/>
                      <a:gd name="textAreaRight" fmla="*/ 25920 w 25560"/>
                      <a:gd name="textAreaTop" fmla="*/ 0 h 28080"/>
                      <a:gd name="textAreaBottom" fmla="*/ 28440 h 28080"/>
                    </a:gdLst>
                    <a:ahLst/>
                    <a:rect l="textAreaLeft" t="textAreaTop" r="textAreaRight" b="textAreaBottom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>
                      <a:gd name="textAreaLeft" fmla="*/ 0 w 325440"/>
                      <a:gd name="textAreaRight" fmla="*/ 325800 w 32544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>
                      <a:gd name="textAreaLeft" fmla="*/ 0 w 692280"/>
                      <a:gd name="textAreaRight" fmla="*/ 692640 w 6922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86760"/>
                      <a:gd name="textAreaBottom" fmla="*/ 86760 h 8676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>
                      <a:gd name="textAreaLeft" fmla="*/ 0 w 127080"/>
                      <a:gd name="textAreaRight" fmla="*/ 127440 w 12708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>
                      <a:gd name="textAreaLeft" fmla="*/ 0 w 551160"/>
                      <a:gd name="textAreaRight" fmla="*/ 551520 w 55116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>
                      <a:gd name="textAreaLeft" fmla="*/ 0 w 28800"/>
                      <a:gd name="textAreaRight" fmla="*/ 29160 w 28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>
                      <a:gd name="textAreaLeft" fmla="*/ 0 w 687600"/>
                      <a:gd name="textAreaRight" fmla="*/ 687960 w 68760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>
                      <a:gd name="textAreaLeft" fmla="*/ 0 w 29880"/>
                      <a:gd name="textAreaRight" fmla="*/ 30240 w 298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5200"/>
                      <a:gd name="textAreaBottom" fmla="*/ 25560 h 25200"/>
                    </a:gdLst>
                    <a:ahLst/>
                    <a:rect l="textAreaLeft" t="textAreaTop" r="textAreaRight" b="textAreaBottom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24840"/>
                      <a:gd name="textAreaBottom" fmla="*/ 25200 h 24840"/>
                    </a:gdLst>
                    <a:ahLst/>
                    <a:rect l="textAreaLeft" t="textAreaTop" r="textAreaRight" b="textAreaBottom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>
                      <a:gd name="textAreaLeft" fmla="*/ 0 w 239760"/>
                      <a:gd name="textAreaRight" fmla="*/ 240120 w 239760"/>
                      <a:gd name="textAreaTop" fmla="*/ 0 h 147240"/>
                      <a:gd name="textAreaBottom" fmla="*/ 147600 h 147240"/>
                    </a:gdLst>
                    <a:ahLst/>
                    <a:rect l="textAreaLeft" t="textAreaTop" r="textAreaRight" b="textAreaBottom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>
                      <a:gd name="textAreaLeft" fmla="*/ 0 w 106200"/>
                      <a:gd name="textAreaRight" fmla="*/ 106560 w 10620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20520"/>
                      <a:gd name="textAreaBottom" fmla="*/ 20880 h 20520"/>
                    </a:gdLst>
                    <a:ahLst/>
                    <a:rect l="textAreaLeft" t="textAreaTop" r="textAreaRight" b="textAreaBottom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>
                      <a:gd name="textAreaLeft" fmla="*/ 0 w 193680"/>
                      <a:gd name="textAreaRight" fmla="*/ 194040 w 19368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>
                      <a:gd name="textAreaLeft" fmla="*/ 0 w 52560"/>
                      <a:gd name="textAreaRight" fmla="*/ 52920 w 525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9000"/>
                      <a:gd name="textAreaBottom" fmla="*/ 9360 h 900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7560"/>
                      <a:gd name="textAreaBottom" fmla="*/ 7920 h 7560"/>
                    </a:gdLst>
                    <a:ahLst/>
                    <a:rect l="textAreaLeft" t="textAreaTop" r="textAreaRight" b="textAreaBottom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42480"/>
                      <a:gd name="textAreaBottom" fmla="*/ 42840 h 4248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91800"/>
                      <a:gd name="textAreaBottom" fmla="*/ 92160 h 91800"/>
                    </a:gdLst>
                    <a:ahLst/>
                    <a:rect l="textAreaLeft" t="textAreaTop" r="textAreaRight" b="textAreaBottom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>
                      <a:gd name="textAreaLeft" fmla="*/ 0 w 695160"/>
                      <a:gd name="textAreaRight" fmla="*/ 695520 w 69516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>
                      <a:gd name="textAreaLeft" fmla="*/ 0 w 93960"/>
                      <a:gd name="textAreaRight" fmla="*/ 94320 w 9396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>
                      <a:gd name="textAreaLeft" fmla="*/ 0 w 9720"/>
                      <a:gd name="textAreaRight" fmla="*/ 10080 w 9720"/>
                      <a:gd name="textAreaTop" fmla="*/ 0 h 6120"/>
                      <a:gd name="textAreaBottom" fmla="*/ 6480 h 6120"/>
                    </a:gdLst>
                    <a:ahLst/>
                    <a:rect l="textAreaLeft" t="textAreaTop" r="textAreaRight" b="textAreaBottom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>
                      <a:gd name="textAreaLeft" fmla="*/ 0 w 550800"/>
                      <a:gd name="textAreaRight" fmla="*/ 551160 w 550800"/>
                      <a:gd name="textAreaTop" fmla="*/ 0 h 299880"/>
                      <a:gd name="textAreaBottom" fmla="*/ 300240 h 299880"/>
                    </a:gdLst>
                    <a:ahLst/>
                    <a:rect l="textAreaLeft" t="textAreaTop" r="textAreaRight" b="textAreaBottom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>
                      <a:gd name="textAreaLeft" fmla="*/ 0 w 687240"/>
                      <a:gd name="textAreaRight" fmla="*/ 687600 w 687240"/>
                      <a:gd name="textAreaTop" fmla="*/ 0 h 561600"/>
                      <a:gd name="textAreaBottom" fmla="*/ 561960 h 561600"/>
                    </a:gdLst>
                    <a:ahLst/>
                    <a:rect l="textAreaLeft" t="textAreaTop" r="textAreaRight" b="textAreaBottom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>
                      <a:gd name="textAreaLeft" fmla="*/ 0 w 258840"/>
                      <a:gd name="textAreaRight" fmla="*/ 259200 w 258840"/>
                      <a:gd name="textAreaTop" fmla="*/ 0 h 350280"/>
                      <a:gd name="textAreaBottom" fmla="*/ 350640 h 350280"/>
                    </a:gdLst>
                    <a:ahLst/>
                    <a:rect l="textAreaLeft" t="textAreaTop" r="textAreaRight" b="textAreaBottom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>
                      <a:gd name="textAreaLeft" fmla="*/ 0 w 468360"/>
                      <a:gd name="textAreaRight" fmla="*/ 468720 w 468360"/>
                      <a:gd name="textAreaTop" fmla="*/ 0 h 369360"/>
                      <a:gd name="textAreaBottom" fmla="*/ 369720 h 369360"/>
                    </a:gdLst>
                    <a:ahLst/>
                    <a:rect l="textAreaLeft" t="textAreaTop" r="textAreaRight" b="textAreaBottom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>
                      <a:gd name="textAreaLeft" fmla="*/ 0 w 938160"/>
                      <a:gd name="textAreaRight" fmla="*/ 938520 w 9381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5480"/>
                      <a:gd name="textAreaBottom" fmla="*/ 15840 h 15480"/>
                    </a:gdLst>
                    <a:ahLst/>
                    <a:rect l="textAreaLeft" t="textAreaTop" r="textAreaRight" b="textAreaBottom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>
                  <a:gd name="textAreaLeft" fmla="*/ 0 w 9144000"/>
                  <a:gd name="textAreaRight" fmla="*/ 9144360 w 9144000"/>
                  <a:gd name="textAreaTop" fmla="*/ 0 h 1638000"/>
                  <a:gd name="textAreaBottom" fmla="*/ 1638360 h 1638000"/>
                </a:gdLst>
                <a:ahLst/>
                <a:rect l="textAreaLeft" t="textAreaTop" r="textAreaRight" b="textAreaBottom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>
                    <a:gd name="textAreaLeft" fmla="*/ 0 w 561960"/>
                    <a:gd name="textAreaRight" fmla="*/ 562320 w 56196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>
                    <a:gd name="textAreaLeft" fmla="*/ 0 w 453960"/>
                    <a:gd name="textAreaRight" fmla="*/ 454320 w 45396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>
                    <a:gd name="textAreaLeft" fmla="*/ 0 w 1112760"/>
                    <a:gd name="textAreaRight" fmla="*/ 1113120 w 1112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>
                    <a:gd name="textAreaLeft" fmla="*/ 0 w 1562040"/>
                    <a:gd name="textAreaRight" fmla="*/ 1562400 w 1562040"/>
                    <a:gd name="textAreaTop" fmla="*/ 0 h 1098720"/>
                    <a:gd name="textAreaBottom" fmla="*/ 1099080 h 1098720"/>
                  </a:gdLst>
                  <a:ahLst/>
                  <a:rect l="textAreaLeft" t="textAreaTop" r="textAreaRight" b="textAreaBottom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128880"/>
                    <a:gd name="textAreaBottom" fmla="*/ 129240 h 128880"/>
                  </a:gdLst>
                  <a:ahLst/>
                  <a:rect l="textAreaLeft" t="textAreaTop" r="textAreaRight" b="textAreaBottom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>
                    <a:gd name="textAreaLeft" fmla="*/ 0 w 762120"/>
                    <a:gd name="textAreaRight" fmla="*/ 762480 w 76212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>
                    <a:gd name="textAreaLeft" fmla="*/ 0 w 708120"/>
                    <a:gd name="textAreaRight" fmla="*/ 708120 w 70812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>
                    <a:gd name="textAreaLeft" fmla="*/ 0 w 66600"/>
                    <a:gd name="textAreaRight" fmla="*/ 66600 w 666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>
                    <a:gd name="textAreaLeft" fmla="*/ 0 w 1622520"/>
                    <a:gd name="textAreaRight" fmla="*/ 1622880 w 1622520"/>
                    <a:gd name="textAreaTop" fmla="*/ 0 h 590760"/>
                    <a:gd name="textAreaBottom" fmla="*/ 591120 h 590760"/>
                  </a:gdLst>
                  <a:ahLst/>
                  <a:rect l="textAreaLeft" t="textAreaTop" r="textAreaRight" b="textAreaBottom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79360"/>
                    <a:gd name="textAreaBottom" fmla="*/ 279720 h 279360"/>
                  </a:gdLst>
                  <a:ahLst/>
                  <a:rect l="textAreaLeft" t="textAreaTop" r="textAreaRight" b="textAreaBottom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>
                    <a:gd name="textAreaLeft" fmla="*/ 0 w 22320"/>
                    <a:gd name="textAreaRight" fmla="*/ 22320 w 2232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>
                    <a:gd name="textAreaLeft" fmla="*/ 0 w 1290600"/>
                    <a:gd name="textAreaRight" fmla="*/ 1290960 w 1290600"/>
                    <a:gd name="textAreaTop" fmla="*/ 0 h 733320"/>
                    <a:gd name="textAreaBottom" fmla="*/ 733680 h 733320"/>
                  </a:gdLst>
                  <a:ahLst/>
                  <a:rect l="textAreaLeft" t="textAreaTop" r="textAreaRight" b="textAreaBottom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>
                    <a:gd name="textAreaLeft" fmla="*/ 0 w 33120"/>
                    <a:gd name="textAreaRight" fmla="*/ 33480 w 3312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>
                    <a:gd name="textAreaLeft" fmla="*/ 0 w 1611360"/>
                    <a:gd name="textAreaRight" fmla="*/ 1611720 w 1611360"/>
                    <a:gd name="textAreaTop" fmla="*/ 0 h 1374840"/>
                    <a:gd name="textAreaBottom" fmla="*/ 1375200 h 1374840"/>
                  </a:gdLst>
                  <a:ahLst/>
                  <a:rect l="textAreaLeft" t="textAreaTop" r="textAreaRight" b="textAreaBottom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>
                    <a:gd name="textAreaLeft" fmla="*/ 0 w 606240"/>
                    <a:gd name="textAreaRight" fmla="*/ 606600 w 606240"/>
                    <a:gd name="textAreaTop" fmla="*/ 0 h 857160"/>
                    <a:gd name="textAreaBottom" fmla="*/ 857520 h 857160"/>
                  </a:gdLst>
                  <a:ahLst/>
                  <a:rect l="textAreaLeft" t="textAreaTop" r="textAreaRight" b="textAreaBottom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>
                    <a:gd name="textAreaLeft" fmla="*/ 0 w 91800"/>
                    <a:gd name="textAreaRight" fmla="*/ 92160 w 9180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>
                    <a:gd name="textAreaLeft" fmla="*/ 0 w 1096920"/>
                    <a:gd name="textAreaRight" fmla="*/ 1097280 w 1096920"/>
                    <a:gd name="textAreaTop" fmla="*/ 0 h 903600"/>
                    <a:gd name="textAreaBottom" fmla="*/ 903960 h 903600"/>
                  </a:gdLst>
                  <a:ahLst/>
                  <a:rect l="textAreaLeft" t="textAreaTop" r="textAreaRight" b="textAreaBottom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>
                    <a:gd name="textAreaLeft" fmla="*/ 0 w 2200320"/>
                    <a:gd name="textAreaRight" fmla="*/ 2200680 w 2200320"/>
                    <a:gd name="textAreaTop" fmla="*/ 0 h 368640"/>
                    <a:gd name="textAreaBottom" fmla="*/ 369000 h 368640"/>
                  </a:gdLst>
                  <a:ahLst/>
                  <a:rect l="textAreaLeft" t="textAreaTop" r="textAreaRight" b="textAreaBottom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8160"/>
                    <a:gd name="textAreaBottom" fmla="*/ 38520 h 38160"/>
                  </a:gdLst>
                  <a:ahLst/>
                  <a:rect l="textAreaLeft" t="textAreaTop" r="textAreaRight" b="textAreaBottom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A365-8FD8-4656-8A87-399D37674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audio" Target="../media/fart01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audio" Target="file:///tmp/home/.config/libreoffice/4/user/gallery/ouch.wav" TargetMode="External"/><Relationship Id="rId5" Type="http://schemas.microsoft.com/office/2007/relationships/media" Target="file:///tmp/home/.config/libreoffice/4/user/gallery/ouch.wav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whatthe02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whatthe01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bionic.wav"/><Relationship Id="rId7" Type="http://schemas.openxmlformats.org/officeDocument/2006/relationships/audio" Target="../media/bionic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bionic.wav"/><Relationship Id="rId5" Type="http://schemas.openxmlformats.org/officeDocument/2006/relationships/audio" Target="../media/bionic.wav"/><Relationship Id="rId6" Type="http://schemas.openxmlformats.org/officeDocument/2006/relationships/audio" Target="../media/ouc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Metamorphic Rock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distorted"/>
          <p:cNvPicPr/>
          <p:nvPr/>
        </p:nvPicPr>
        <p:blipFill>
          <a:blip r:embed="rId1"/>
          <a:stretch/>
        </p:blipFill>
        <p:spPr>
          <a:xfrm>
            <a:off x="533520" y="22096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layers"/>
          <p:cNvPicPr/>
          <p:nvPr/>
        </p:nvPicPr>
        <p:blipFill>
          <a:blip r:embed="rId2"/>
          <a:stretch/>
        </p:blipFill>
        <p:spPr>
          <a:xfrm>
            <a:off x="5562720" y="222876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114444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63012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246240" y="930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nding vs.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gneiss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69608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Schistose foliation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minerals have been squashed into flakes of m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flakes"/>
          <p:cNvPicPr/>
          <p:nvPr/>
        </p:nvPicPr>
        <p:blipFill>
          <a:blip r:embed="rId1"/>
          <a:stretch/>
        </p:blipFill>
        <p:spPr>
          <a:xfrm>
            <a:off x="1447920" y="108576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355" name="WordArt 6"/>
          <p:cNvSpPr txBox="1"/>
          <p:nvPr/>
        </p:nvSpPr>
        <p:spPr>
          <a:xfrm>
            <a:off x="2209680" y="5638680"/>
            <a:ext cx="42674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A Piece of Schi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schist"/>
          <p:cNvPicPr/>
          <p:nvPr/>
        </p:nvPicPr>
        <p:blipFill>
          <a:blip r:embed="rId1"/>
          <a:stretch/>
        </p:blipFill>
        <p:spPr>
          <a:xfrm>
            <a:off x="1371600" y="1028880"/>
            <a:ext cx="5867280" cy="4400280"/>
          </a:xfrm>
          <a:prstGeom prst="rect">
            <a:avLst/>
          </a:prstGeom>
          <a:ln w="0">
            <a:noFill/>
          </a:ln>
        </p:spPr>
      </p:pic>
      <p:sp>
        <p:nvSpPr>
          <p:cNvPr id="357" name="WordArt 3"/>
          <p:cNvSpPr txBox="1"/>
          <p:nvPr/>
        </p:nvSpPr>
        <p:spPr>
          <a:xfrm>
            <a:off x="2666880" y="5637240"/>
            <a:ext cx="38102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ley Schi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5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3886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627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8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69608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Slaty foliation-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Rock splits into flat, thin lay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out you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andy Dandy Earth Science Refer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ables Page 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2439720" y="10666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4115520" y="556272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l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7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8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2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981800" y="1066680"/>
            <a:ext cx="17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l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116240" y="556272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4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9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atthe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2439720" y="10666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116600" y="55627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nei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4" descr="fire_line_1"/>
          <p:cNvPicPr/>
          <p:nvPr/>
        </p:nvPicPr>
        <p:blipFill>
          <a:blip r:embed="rId1"/>
          <a:stretch/>
        </p:blipFill>
        <p:spPr>
          <a:xfrm>
            <a:off x="914400" y="1752480"/>
            <a:ext cx="6526080" cy="4572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3812400" y="10666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2898000" y="55627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2669400" y="281952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tenci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4114800" y="23623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9"/>
          <p:cNvSpPr/>
          <p:nvPr/>
        </p:nvSpPr>
        <p:spPr>
          <a:xfrm rot="10800000">
            <a:off x="4114800" y="373356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atthe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8487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Metamorphic rocks have been changed from a pre-existing rock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Caused by extreme heat and/or pressur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Lucida Handwriting"/>
              </a:rPr>
              <a:t>Regional Metamorphism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Caused by extreme pressure and hea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Happens over wide “regions”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Lucida Handwriting"/>
              </a:rPr>
              <a:t>Contact Metamorphis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aused by contact with extreme hea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800" y="2147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Handwriting"/>
              </a:rPr>
              <a:t>Meta. rocks will often have foliation or a distorted structur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istorted Struc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33" name="Picture 4" descr="distorted2"/>
          <p:cNvPicPr/>
          <p:nvPr/>
        </p:nvPicPr>
        <p:blipFill>
          <a:blip r:embed="rId1"/>
          <a:stretch/>
        </p:blipFill>
        <p:spPr>
          <a:xfrm>
            <a:off x="4572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4" name="Freeform 5"/>
          <p:cNvSpPr/>
          <p:nvPr/>
        </p:nvSpPr>
        <p:spPr>
          <a:xfrm>
            <a:off x="2438280" y="2057400"/>
            <a:ext cx="774720" cy="1447920"/>
          </a:xfrm>
          <a:custGeom>
            <a:avLst/>
            <a:gdLst>
              <a:gd name="textAreaLeft" fmla="*/ 0 w 774720"/>
              <a:gd name="textAreaRight" fmla="*/ 775080 w 7747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488" h="912">
                <a:moveTo>
                  <a:pt x="48" y="0"/>
                </a:moveTo>
                <a:cubicBezTo>
                  <a:pt x="24" y="96"/>
                  <a:pt x="0" y="192"/>
                  <a:pt x="48" y="240"/>
                </a:cubicBezTo>
                <a:cubicBezTo>
                  <a:pt x="96" y="288"/>
                  <a:pt x="264" y="256"/>
                  <a:pt x="336" y="288"/>
                </a:cubicBezTo>
                <a:cubicBezTo>
                  <a:pt x="408" y="320"/>
                  <a:pt x="472" y="368"/>
                  <a:pt x="480" y="432"/>
                </a:cubicBezTo>
                <a:cubicBezTo>
                  <a:pt x="488" y="496"/>
                  <a:pt x="432" y="592"/>
                  <a:pt x="384" y="672"/>
                </a:cubicBezTo>
                <a:cubicBezTo>
                  <a:pt x="336" y="752"/>
                  <a:pt x="264" y="832"/>
                  <a:pt x="192" y="9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6" descr="distorted3"/>
          <p:cNvPicPr/>
          <p:nvPr/>
        </p:nvPicPr>
        <p:blipFill>
          <a:blip r:embed="rId2"/>
          <a:stretch/>
        </p:blipFill>
        <p:spPr>
          <a:xfrm>
            <a:off x="495288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7"/>
          <p:cNvSpPr/>
          <p:nvPr/>
        </p:nvSpPr>
        <p:spPr>
          <a:xfrm>
            <a:off x="4419720" y="3147840"/>
            <a:ext cx="3809880" cy="13500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2400" h="85">
                <a:moveTo>
                  <a:pt x="0" y="33"/>
                </a:moveTo>
                <a:cubicBezTo>
                  <a:pt x="288" y="65"/>
                  <a:pt x="578" y="85"/>
                  <a:pt x="720" y="81"/>
                </a:cubicBezTo>
                <a:cubicBezTo>
                  <a:pt x="862" y="77"/>
                  <a:pt x="754" y="12"/>
                  <a:pt x="852" y="6"/>
                </a:cubicBezTo>
                <a:cubicBezTo>
                  <a:pt x="950" y="0"/>
                  <a:pt x="1053" y="37"/>
                  <a:pt x="1311" y="42"/>
                </a:cubicBezTo>
                <a:cubicBezTo>
                  <a:pt x="1569" y="47"/>
                  <a:pt x="2173" y="35"/>
                  <a:pt x="2400" y="33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liation is a “grain” to the ro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ypes of Foliation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Gneissic Foliation- minerals are squished into ban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Picture 4" descr="b4squash"/>
          <p:cNvPicPr/>
          <p:nvPr/>
        </p:nvPicPr>
        <p:blipFill>
          <a:blip r:embed="rId2"/>
          <a:stretch/>
        </p:blipFill>
        <p:spPr>
          <a:xfrm>
            <a:off x="2819520" y="3352680"/>
            <a:ext cx="3257280" cy="270828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5"/>
          <p:cNvSpPr/>
          <p:nvPr/>
        </p:nvSpPr>
        <p:spPr>
          <a:xfrm>
            <a:off x="4038480" y="320040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6"/>
          <p:cNvSpPr/>
          <p:nvPr/>
        </p:nvSpPr>
        <p:spPr>
          <a:xfrm rot="10800000">
            <a:off x="4114800" y="5181120"/>
            <a:ext cx="914400" cy="1143000"/>
          </a:xfrm>
          <a:prstGeom prst="downArrow">
            <a:avLst>
              <a:gd name="adj1" fmla="val 50000"/>
              <a:gd name="adj2" fmla="val 3125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7" descr="squash"/>
          <p:cNvPicPr/>
          <p:nvPr/>
        </p:nvPicPr>
        <p:blipFill>
          <a:blip r:embed="rId3"/>
          <a:stretch/>
        </p:blipFill>
        <p:spPr>
          <a:xfrm>
            <a:off x="2971800" y="3429000"/>
            <a:ext cx="3108240" cy="26510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5466240" y="507348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Lucida Handwriting"/>
              </a:rPr>
              <a:t>Zebra Strip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on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ouc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distorted"/>
          <p:cNvPicPr/>
          <p:nvPr/>
        </p:nvPicPr>
        <p:blipFill>
          <a:blip r:embed="rId1"/>
          <a:stretch/>
        </p:blipFill>
        <p:spPr>
          <a:xfrm>
            <a:off x="1219320" y="9144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7:32:37Z</dcterms:created>
  <dc:creator>Laptop</dc:creator>
  <dc:description/>
  <dc:language>en-US</dc:language>
  <cp:lastModifiedBy>Dell</cp:lastModifiedBy>
  <dcterms:modified xsi:type="dcterms:W3CDTF">2011-10-05T23:03:37Z</dcterms:modified>
  <cp:revision>34</cp:revision>
  <dc:subject/>
  <dc:title>Metamorphic Rocks</dc:title>
</cp:coreProperties>
</file>