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1F2-3FF1-4F4D-B009-10465704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C3E-6AF6-4264-B056-DFFFAA7C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056-E38C-4F57-8532-2D2531A1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F3D-8CCE-48AF-90B5-06DC2346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BDE-EA14-47B9-AA99-5B982AFD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9B29-5655-4853-AF6D-99DBDAFE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7DE-046F-4283-B730-1971BF3E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3B1-79B6-4820-81A1-12AB60EF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5F2-B2D2-4CE1-8D7B-D74C1E0E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CAD-19E9-419E-AE78-572B9270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24C-CE57-4B4D-AD47-C91B2C68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8B5-12C1-4976-B63E-32B4CBA3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3391-2012-4A44-B676-D6AACFC39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kimages.com/discover/Home/Science/Earth-Sciences/Geology/Rocks/Metamorphic/Hornfels/Hornfels-2.html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smres.jmu.edu/geollab/Fichter/Wilson/volcrock.html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os.ubc.ca/courses/eosc221/meta/metac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E0BD-2B87-4B03-903C-2FECEAE11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Facies and Mineral Assemb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762120" y="5257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Regional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mfacies"/>
          <p:cNvPicPr/>
          <p:nvPr/>
        </p:nvPicPr>
        <p:blipFill>
          <a:blip r:embed="rId1"/>
          <a:stretch/>
        </p:blipFill>
        <p:spPr>
          <a:xfrm>
            <a:off x="2362320" y="2133720"/>
            <a:ext cx="47242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E55E-FF68-402B-A65D-496680FD6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4920" y="10666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present reflect equilibrium P-T conditions for different protol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-T conditions increase (prograde metamorphism) minerals react with each other and with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inerals no longer stable; new minerals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lowgradeassembl.gif (19130 bytes)"/>
          <p:cNvPicPr/>
          <p:nvPr/>
        </p:nvPicPr>
        <p:blipFill>
          <a:blip r:embed="rId1"/>
          <a:stretch/>
        </p:blipFill>
        <p:spPr>
          <a:xfrm>
            <a:off x="304920" y="3197160"/>
            <a:ext cx="3809880" cy="335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jighergrade.gif (14383 bytes)"/>
          <p:cNvPicPr/>
          <p:nvPr/>
        </p:nvPicPr>
        <p:blipFill>
          <a:blip r:embed="rId2"/>
          <a:stretch/>
        </p:blipFill>
        <p:spPr>
          <a:xfrm>
            <a:off x="4495680" y="3233880"/>
            <a:ext cx="4419720" cy="3386160"/>
          </a:xfrm>
          <a:prstGeom prst="rect">
            <a:avLst/>
          </a:prstGeom>
          <a:ln w="0">
            <a:noFill/>
          </a:ln>
        </p:spPr>
      </p:pic>
      <p:sp>
        <p:nvSpPr>
          <p:cNvPr id="99" name="Line 10"/>
          <p:cNvSpPr/>
          <p:nvPr/>
        </p:nvSpPr>
        <p:spPr>
          <a:xfrm>
            <a:off x="3429000" y="3809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E2FA-D176-47AA-AB3B-0EA8095F1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Reactions and Critical Miner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2280" y="1447920"/>
            <a:ext cx="4114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rock composition, some reactions occur under specific P-T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inerals with limited P-T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indicates certain metamorphic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y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alu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lim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orphs of 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univarreact.gif (12921 bytes)"/>
          <p:cNvPicPr/>
          <p:nvPr/>
        </p:nvPicPr>
        <p:blipFill>
          <a:blip r:embed="rId1"/>
          <a:stretch/>
        </p:blipFill>
        <p:spPr>
          <a:xfrm>
            <a:off x="4343400" y="1666800"/>
            <a:ext cx="4533840" cy="3559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431240" y="5359320"/>
            <a:ext cx="446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=&gt; 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3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Pyrophyllite       Ky or Andal   Qtz      fl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40B9-C40B-43F7-BF05-021C3038B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Isogr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14300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and appearance/disappearance of critical minerals can be used to determine P-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grad = “line” to indicate same grade of meta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ppearance of mineral of increasing metamorphic gr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isograds"/>
          <p:cNvPicPr/>
          <p:nvPr/>
        </p:nvPicPr>
        <p:blipFill>
          <a:blip r:embed="rId1"/>
          <a:stretch/>
        </p:blipFill>
        <p:spPr>
          <a:xfrm>
            <a:off x="76320" y="3059280"/>
            <a:ext cx="5257800" cy="3646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univarreact.gif (12921 bytes)"/>
          <p:cNvPicPr/>
          <p:nvPr/>
        </p:nvPicPr>
        <p:blipFill>
          <a:blip r:embed="rId2"/>
          <a:stretch/>
        </p:blipFill>
        <p:spPr>
          <a:xfrm>
            <a:off x="5486400" y="3295800"/>
            <a:ext cx="358128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0ECB-ECB3-4D93-A7C0-EACA4EA62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mblages, Facies, and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52280" y="1219320"/>
            <a:ext cx="8763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parent rock composition, mineral assemblage reflects P-T cond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facies_react.gif (52633 bytes)"/>
          <p:cNvPicPr/>
          <p:nvPr/>
        </p:nvPicPr>
        <p:blipFill>
          <a:blip r:embed="rId1"/>
          <a:stretch/>
        </p:blipFill>
        <p:spPr>
          <a:xfrm>
            <a:off x="152280" y="2212920"/>
            <a:ext cx="6019920" cy="4492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6172200" y="1981080"/>
            <a:ext cx="2819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different rocks metamorphosed under the same conditions indicate f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hanges between facies indicate series (and tectonic set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B187-752F-4507-BC6D-779F98C33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28600" y="4648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aureole = surrounding rocks metamorphosed by heat of intr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/shape of aureol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, temp, cooling history of the igneous intr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of the country rock (conductivity, presence of wa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114800" y="1066680"/>
            <a:ext cx="4876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high geothermal gradient produced locally around intruding ma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to relatively shallow depths (low pres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 generally not fol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fine grained rock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rnf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ontactnh"/>
          <p:cNvPicPr/>
          <p:nvPr/>
        </p:nvPicPr>
        <p:blipFill>
          <a:blip r:embed="rId1"/>
          <a:stretch/>
        </p:blipFill>
        <p:spPr>
          <a:xfrm>
            <a:off x="152280" y="1143000"/>
            <a:ext cx="3895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5E57-1CD3-44E5-9E6C-627C7410C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: Hornf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248520" y="1371600"/>
            <a:ext cx="2819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assemblage characterized by hornfels facies se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ite-epidot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nblend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xene h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id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mfacies"/>
          <p:cNvPicPr/>
          <p:nvPr/>
        </p:nvPicPr>
        <p:blipFill>
          <a:blip r:embed="rId1"/>
          <a:stretch/>
        </p:blipFill>
        <p:spPr>
          <a:xfrm>
            <a:off x="152280" y="95400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124" name="Line 7"/>
          <p:cNvSpPr/>
          <p:nvPr/>
        </p:nvSpPr>
        <p:spPr>
          <a:xfrm flipV="1">
            <a:off x="1143000" y="3733560"/>
            <a:ext cx="251460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5812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Hornfe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51055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1752480" y="6172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yroxene hornf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pxhfacf"/>
          <p:cNvPicPr/>
          <p:nvPr/>
        </p:nvPicPr>
        <p:blipFill>
          <a:blip r:embed="rId4"/>
          <a:stretch/>
        </p:blipFill>
        <p:spPr>
          <a:xfrm>
            <a:off x="3962520" y="4541760"/>
            <a:ext cx="28051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F887-D309-4629-B17E-3593F1506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Metamorphism: Ska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04920" y="106668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metamorphism of carbonate or siliceous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nvolves significant metasomatism (chemical exchange between magmatic fluids and r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hosts of Au, Cu, Fe, Mo, Sn, W, Zn-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restmore"/>
          <p:cNvPicPr/>
          <p:nvPr/>
        </p:nvPicPr>
        <p:blipFill>
          <a:blip r:embed="rId1"/>
          <a:stretch/>
        </p:blipFill>
        <p:spPr>
          <a:xfrm>
            <a:off x="2895480" y="3089160"/>
            <a:ext cx="6048360" cy="3587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Skarn1"/>
          <p:cNvPicPr/>
          <p:nvPr/>
        </p:nvPicPr>
        <p:blipFill>
          <a:blip r:embed="rId2"/>
          <a:stretch/>
        </p:blipFill>
        <p:spPr>
          <a:xfrm>
            <a:off x="228600" y="4782960"/>
            <a:ext cx="2438280" cy="18464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3"/>
          <p:cNvSpPr/>
          <p:nvPr/>
        </p:nvSpPr>
        <p:spPr>
          <a:xfrm>
            <a:off x="152280" y="3962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llastonite-garnet sk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D4AD-601E-46C7-A59C-0E35B7329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248520" y="1371600"/>
            <a:ext cx="28191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large areas of earth’s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during orogenic (mountain-building)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mfacies"/>
          <p:cNvPicPr/>
          <p:nvPr/>
        </p:nvPicPr>
        <p:blipFill>
          <a:blip r:embed="rId1"/>
          <a:stretch/>
        </p:blipFill>
        <p:spPr>
          <a:xfrm>
            <a:off x="152280" y="95400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 flipV="1">
            <a:off x="1143000" y="3429000"/>
            <a:ext cx="21337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200400" y="32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52280" y="4876920"/>
            <a:ext cx="8534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iated rocks developed under med-high T and P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uch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Barrov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 developed under low-med T and high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anbagaw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Franci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V="1">
            <a:off x="1066680" y="3048120"/>
            <a:ext cx="243864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2"/>
          <p:cNvSpPr/>
          <p:nvPr/>
        </p:nvSpPr>
        <p:spPr>
          <a:xfrm>
            <a:off x="1052640" y="2965320"/>
            <a:ext cx="1157040" cy="7477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747720"/>
              <a:gd name="textAreaBottom" fmla="*/ 748080 h 747720"/>
            </a:gdLst>
            <a:ahLst/>
            <a:rect l="textAreaLeft" t="textAreaTop" r="textAreaRight" b="textAreaBottom"/>
            <a:pathLst>
              <a:path w="729" h="471">
                <a:moveTo>
                  <a:pt x="18" y="471"/>
                </a:moveTo>
                <a:cubicBezTo>
                  <a:pt x="21" y="384"/>
                  <a:pt x="0" y="289"/>
                  <a:pt x="35" y="209"/>
                </a:cubicBezTo>
                <a:cubicBezTo>
                  <a:pt x="45" y="186"/>
                  <a:pt x="77" y="163"/>
                  <a:pt x="96" y="148"/>
                </a:cubicBezTo>
                <a:cubicBezTo>
                  <a:pt x="127" y="124"/>
                  <a:pt x="159" y="101"/>
                  <a:pt x="192" y="78"/>
                </a:cubicBezTo>
                <a:cubicBezTo>
                  <a:pt x="195" y="76"/>
                  <a:pt x="258" y="62"/>
                  <a:pt x="262" y="61"/>
                </a:cubicBezTo>
                <a:cubicBezTo>
                  <a:pt x="303" y="49"/>
                  <a:pt x="343" y="38"/>
                  <a:pt x="384" y="26"/>
                </a:cubicBezTo>
                <a:cubicBezTo>
                  <a:pt x="411" y="18"/>
                  <a:pt x="435" y="0"/>
                  <a:pt x="463" y="0"/>
                </a:cubicBezTo>
                <a:cubicBezTo>
                  <a:pt x="524" y="0"/>
                  <a:pt x="585" y="0"/>
                  <a:pt x="646" y="0"/>
                </a:cubicBezTo>
                <a:lnTo>
                  <a:pt x="729" y="4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3"/>
          <p:cNvSpPr/>
          <p:nvPr/>
        </p:nvSpPr>
        <p:spPr>
          <a:xfrm>
            <a:off x="996840" y="1676520"/>
            <a:ext cx="1822680" cy="1981080"/>
          </a:xfrm>
          <a:custGeom>
            <a:avLst/>
            <a:gdLst>
              <a:gd name="textAreaLeft" fmla="*/ 0 w 1822680"/>
              <a:gd name="textAreaRight" fmla="*/ 1823040 w 182268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1148" h="1248">
                <a:moveTo>
                  <a:pt x="0" y="1248"/>
                </a:moveTo>
                <a:cubicBezTo>
                  <a:pt x="10" y="1166"/>
                  <a:pt x="35" y="1092"/>
                  <a:pt x="53" y="1012"/>
                </a:cubicBezTo>
                <a:cubicBezTo>
                  <a:pt x="56" y="997"/>
                  <a:pt x="62" y="966"/>
                  <a:pt x="70" y="951"/>
                </a:cubicBezTo>
                <a:cubicBezTo>
                  <a:pt x="91" y="910"/>
                  <a:pt x="170" y="829"/>
                  <a:pt x="210" y="803"/>
                </a:cubicBezTo>
                <a:cubicBezTo>
                  <a:pt x="221" y="796"/>
                  <a:pt x="235" y="793"/>
                  <a:pt x="245" y="785"/>
                </a:cubicBezTo>
                <a:cubicBezTo>
                  <a:pt x="306" y="736"/>
                  <a:pt x="355" y="673"/>
                  <a:pt x="411" y="620"/>
                </a:cubicBezTo>
                <a:cubicBezTo>
                  <a:pt x="421" y="585"/>
                  <a:pt x="439" y="583"/>
                  <a:pt x="463" y="559"/>
                </a:cubicBezTo>
                <a:cubicBezTo>
                  <a:pt x="503" y="519"/>
                  <a:pt x="529" y="464"/>
                  <a:pt x="585" y="445"/>
                </a:cubicBezTo>
                <a:cubicBezTo>
                  <a:pt x="608" y="380"/>
                  <a:pt x="575" y="458"/>
                  <a:pt x="620" y="401"/>
                </a:cubicBezTo>
                <a:cubicBezTo>
                  <a:pt x="657" y="355"/>
                  <a:pt x="576" y="384"/>
                  <a:pt x="664" y="323"/>
                </a:cubicBezTo>
                <a:cubicBezTo>
                  <a:pt x="710" y="291"/>
                  <a:pt x="758" y="258"/>
                  <a:pt x="812" y="244"/>
                </a:cubicBezTo>
                <a:cubicBezTo>
                  <a:pt x="821" y="238"/>
                  <a:pt x="831" y="234"/>
                  <a:pt x="838" y="227"/>
                </a:cubicBezTo>
                <a:cubicBezTo>
                  <a:pt x="846" y="220"/>
                  <a:pt x="848" y="208"/>
                  <a:pt x="856" y="201"/>
                </a:cubicBezTo>
                <a:cubicBezTo>
                  <a:pt x="886" y="175"/>
                  <a:pt x="922" y="152"/>
                  <a:pt x="960" y="140"/>
                </a:cubicBezTo>
                <a:cubicBezTo>
                  <a:pt x="978" y="128"/>
                  <a:pt x="995" y="117"/>
                  <a:pt x="1013" y="105"/>
                </a:cubicBezTo>
                <a:cubicBezTo>
                  <a:pt x="1028" y="95"/>
                  <a:pt x="1065" y="87"/>
                  <a:pt x="1065" y="87"/>
                </a:cubicBezTo>
                <a:cubicBezTo>
                  <a:pt x="1086" y="67"/>
                  <a:pt x="1078" y="76"/>
                  <a:pt x="1091" y="61"/>
                </a:cubicBezTo>
                <a:lnTo>
                  <a:pt x="1148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1337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50532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28195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6168-701D-4C84-8300-0F8E8EB4A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: Barrov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” metamorphic series recognized in mountain belts world-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um to high T; low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ate to hig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therm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mineral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olin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yrophyl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an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llima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al sequence (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itic rock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hyl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n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es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hnite-pumpelly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een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phib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nu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sappalmeta"/>
          <p:cNvPicPr/>
          <p:nvPr/>
        </p:nvPicPr>
        <p:blipFill>
          <a:blip r:embed="rId1"/>
          <a:stretch/>
        </p:blipFill>
        <p:spPr>
          <a:xfrm>
            <a:off x="4114800" y="1558800"/>
            <a:ext cx="49528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AF6C-16AD-4472-8404-A3090162F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: Francis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800600" y="152388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; high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geotherm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irected stress (little de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ed by presence of blue, sodic amphib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es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ol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hnite-pumpelly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ueschi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clog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ransican.gif (49092 bytes)"/>
          <p:cNvPicPr/>
          <p:nvPr/>
        </p:nvPicPr>
        <p:blipFill>
          <a:blip r:embed="rId1"/>
          <a:srcRect l="0" t="0" r="0" b="8608"/>
          <a:stretch/>
        </p:blipFill>
        <p:spPr>
          <a:xfrm>
            <a:off x="152280" y="990720"/>
            <a:ext cx="455940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C6EA-71B4-4754-AC9F-382B27E86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G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primary goals of metamorphic petrology is to interpret P-T conditions under which a rock (or set of rocks)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tamorphic 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temperature and pressure conditions under which metamorphic rocks fo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w-grade meta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~200 to 3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relativel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t hydrous miner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igh-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&gt;3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nd relatively hig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hydration; less hydrou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rals comm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and/or P, grade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morphism increas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rograde metamorph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and/or P, grade of metamorphism decreas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etagrade"/>
          <p:cNvPicPr/>
          <p:nvPr/>
        </p:nvPicPr>
        <p:blipFill>
          <a:blip r:embed="rId1"/>
          <a:stretch/>
        </p:blipFill>
        <p:spPr>
          <a:xfrm>
            <a:off x="3886200" y="2698920"/>
            <a:ext cx="513396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00AC-0434-4980-BB86-37B543179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 and Tect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80880" y="1752480"/>
            <a:ext cx="83822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ovian (mod-high T and 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in orogenic belts at convergent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heat flow increased by upward movement of magma and migration of fl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ust faulting thickens crust, increasing pressure and directed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thermal gradient of ~20-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schist” (Franciscan) (low T and high 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 world-wide in orogenic belts of Phanerozoic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with subduction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subduction of oceanic crust depresses isoth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thermal gradient of ~10-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00B6-EBAD-4F8E-9A54-7695086BE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onal Metamorphism and Tect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2280" y="1676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metamorphic belts – specific to subduction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volcr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6836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6172200" y="22860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o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rocks beneath and around the 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due to magmat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sch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the mélange of the tre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AA1E-F175-4285-B2E4-A3F863CA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04920" y="1676520"/>
            <a:ext cx="8534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orking on maps and metamorphic phase diagrams for the homewor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9C28-6909-4092-98BC-8B31A302E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Assemblage Map"/>
          <p:cNvPicPr/>
          <p:nvPr/>
        </p:nvPicPr>
        <p:blipFill>
          <a:blip r:embed="rId1"/>
          <a:stretch/>
        </p:blipFill>
        <p:spPr>
          <a:xfrm>
            <a:off x="228600" y="1143000"/>
            <a:ext cx="4705200" cy="5376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Triangles"/>
          <p:cNvPicPr/>
          <p:nvPr/>
        </p:nvPicPr>
        <p:blipFill>
          <a:blip r:embed="rId2"/>
          <a:stretch/>
        </p:blipFill>
        <p:spPr>
          <a:xfrm>
            <a:off x="5180040" y="1143000"/>
            <a:ext cx="365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D462-E903-413E-A6D5-678D560FA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P vs T plot"/>
          <p:cNvPicPr/>
          <p:nvPr/>
        </p:nvPicPr>
        <p:blipFill>
          <a:blip r:embed="rId1"/>
          <a:stretch/>
        </p:blipFill>
        <p:spPr>
          <a:xfrm>
            <a:off x="1600200" y="1447920"/>
            <a:ext cx="5838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7E19-FDCC-499B-AC85-7C84E56B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Metamorphic Fa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mfacies"/>
          <p:cNvPicPr/>
          <p:nvPr/>
        </p:nvPicPr>
        <p:blipFill>
          <a:blip r:embed="rId2"/>
          <a:stretch/>
        </p:blipFill>
        <p:spPr>
          <a:xfrm>
            <a:off x="152280" y="129528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6248520" y="1295280"/>
            <a:ext cx="2743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et of rocks characterized by equilibrium mineral assemblage that reflect specific range of metamorphic (T-P)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52280" y="54100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assemblage present depends on protolith composi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-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marble, metabasalt and schist all in amphibolite fa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857B-CE8A-442D-900C-820F0D69F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facies"/>
          <p:cNvPicPr/>
          <p:nvPr/>
        </p:nvPicPr>
        <p:blipFill>
          <a:blip r:embed="rId1"/>
          <a:stretch/>
        </p:blipFill>
        <p:spPr>
          <a:xfrm>
            <a:off x="152280" y="1295280"/>
            <a:ext cx="6096240" cy="3922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248520" y="1295280"/>
            <a:ext cx="2743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ion or sequence of facies across a metamorphic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 by field and experiment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52280" y="5410080"/>
            <a:ext cx="8763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eries – Hi T, low P = contact metamorp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Regional Series – Mod T &amp; P = Barro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Regional Series – Lo T, hi P = Bluesch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V="1">
            <a:off x="990720" y="2133360"/>
            <a:ext cx="11430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1066680" y="2895480"/>
            <a:ext cx="2514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V="1">
            <a:off x="1066680" y="4343400"/>
            <a:ext cx="2514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5053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5812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98108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7116-DCDD-4360-83ED-4C22BC54D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28600" y="114300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minerals present within a facies (P-T conditions) depends largely on protolith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assemblages can be shown on ternary phase diagrams (with some assumptions and simplific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nonsolidsolutiongeneraltrenary"/>
          <p:cNvPicPr/>
          <p:nvPr/>
        </p:nvPicPr>
        <p:blipFill>
          <a:blip r:embed="rId1"/>
          <a:stretch/>
        </p:blipFill>
        <p:spPr>
          <a:xfrm>
            <a:off x="228600" y="2867040"/>
            <a:ext cx="3886200" cy="3724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4419720" y="2895480"/>
            <a:ext cx="43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tical A-B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possible minerals can occur at this temp &amp;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 lines show pairs of minerals in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triangles show regions where sets of 3 minerals are stabl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DA5B-33C1-4A0B-AB03-9CC515C15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28600" y="114300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P-T conditions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of the ti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s of coexisting stable mineral assembl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chemical reactions between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nonsolidsolutiongeneraltrenary"/>
          <p:cNvPicPr/>
          <p:nvPr/>
        </p:nvPicPr>
        <p:blipFill>
          <a:blip r:embed="rId1"/>
          <a:stretch/>
        </p:blipFill>
        <p:spPr>
          <a:xfrm>
            <a:off x="228600" y="2867040"/>
            <a:ext cx="3886200" cy="3724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nonsolidsolutiongeneraltrenary2"/>
          <p:cNvPicPr/>
          <p:nvPr/>
        </p:nvPicPr>
        <p:blipFill>
          <a:blip r:embed="rId2"/>
          <a:stretch/>
        </p:blipFill>
        <p:spPr>
          <a:xfrm>
            <a:off x="4495680" y="2863800"/>
            <a:ext cx="3886200" cy="3737160"/>
          </a:xfrm>
          <a:prstGeom prst="rect">
            <a:avLst/>
          </a:prstGeom>
          <a:ln w="0">
            <a:noFill/>
          </a:ln>
        </p:spPr>
      </p:pic>
      <p:sp>
        <p:nvSpPr>
          <p:cNvPr id="75" name="Line 8"/>
          <p:cNvSpPr/>
          <p:nvPr/>
        </p:nvSpPr>
        <p:spPr>
          <a:xfrm>
            <a:off x="3276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048120" y="30621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2894760" y="342828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+ A2C  =&gt; 2A + AB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C101-C70D-4711-A5F7-8818FB77B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52280" y="114300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metamorphic rocks typically contain ~10 common elements (Si, Al, Mg, Fe, Ca, Na, K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o plot on ternar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components (assume present in r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components (e.g., Fe and 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diagram to specific rock type (e.g., metabasalt, pel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cf_rock_compositions"/>
          <p:cNvPicPr/>
          <p:nvPr/>
        </p:nvPicPr>
        <p:blipFill>
          <a:blip r:embed="rId1"/>
          <a:stretch/>
        </p:blipFill>
        <p:spPr>
          <a:xfrm>
            <a:off x="228600" y="3581280"/>
            <a:ext cx="3200400" cy="3068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acf_diagram"/>
          <p:cNvPicPr/>
          <p:nvPr/>
        </p:nvPicPr>
        <p:blipFill>
          <a:blip r:embed="rId2"/>
          <a:stretch/>
        </p:blipFill>
        <p:spPr>
          <a:xfrm>
            <a:off x="3581280" y="3533760"/>
            <a:ext cx="4800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049E-2FF6-4C3A-B7FE-A1F8F75D8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733920" y="1066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plotting most common metamorphic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quartz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Mg &amp; Fe freely sub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acf_rock_compositions"/>
          <p:cNvPicPr/>
          <p:nvPr/>
        </p:nvPicPr>
        <p:blipFill>
          <a:blip r:embed="rId1"/>
          <a:stretch/>
        </p:blipFill>
        <p:spPr>
          <a:xfrm>
            <a:off x="152280" y="990720"/>
            <a:ext cx="3353040" cy="321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acf_diagram"/>
          <p:cNvPicPr/>
          <p:nvPr/>
        </p:nvPicPr>
        <p:blipFill>
          <a:blip r:embed="rId2"/>
          <a:stretch/>
        </p:blipFill>
        <p:spPr>
          <a:xfrm>
            <a:off x="3581280" y="3160800"/>
            <a:ext cx="5334120" cy="3440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80880" y="4495680"/>
            <a:ext cx="28958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FeO + 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20B1-E59E-433F-B0ED-878775ED2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morphic Phase Assemb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648320" y="1981080"/>
            <a:ext cx="4038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plotting mafic (metabasalt) rocks, pelites, and some meta-sand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iminates between Fe and Mg and allows for solid solution (tie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quartz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28600" y="5029200"/>
            <a:ext cx="2895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F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resolutioncrossingtielines"/>
          <p:cNvPicPr/>
          <p:nvPr/>
        </p:nvPicPr>
        <p:blipFill>
          <a:blip r:embed="rId1"/>
          <a:srcRect l="15508" t="47256" r="30102" b="0"/>
          <a:stretch/>
        </p:blipFill>
        <p:spPr>
          <a:xfrm>
            <a:off x="228600" y="1066680"/>
            <a:ext cx="4114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6:15:32Z</dcterms:created>
  <dc:creator>David A. Barnes</dc:creator>
  <dc:description/>
  <dc:language>en-US</dc:language>
  <cp:lastModifiedBy>ksu</cp:lastModifiedBy>
  <dcterms:modified xsi:type="dcterms:W3CDTF">2011-11-01T02:10:34Z</dcterms:modified>
  <cp:revision>19</cp:revision>
  <dc:subject/>
  <dc:title>Metamorphism and Metamorphic Rocks</dc:title>
</cp:coreProperties>
</file>