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C47-4F57-43B8-B1E7-3F14A2BF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FEA-5960-46BA-A2EB-9F4DA66D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9D1-7ED9-47ED-8BF3-3F5C8252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08A-53C4-45C8-9CF2-702DEDC8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0C1-DDB1-468C-9FA2-0463B6CC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F36-2DF0-4C35-B795-01B8E57A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C38-DB72-4752-9993-41FF3E9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5E8-4CFF-4DDC-8D14-01D872E5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1D3-57E9-42A4-B364-774E543A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248-A243-4F6D-8B83-303D855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9F1-491B-4557-887D-93AA16E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A9D-6926-445A-B96B-E9E82D7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6337-4EB6-497A-ADB9-89CF445E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kimages.com/discover/Home/Science/Earth-Sciences/Geology/Rocks/Metamorphic/Hornfels/Hornfels-2.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smres.jmu.edu/geollab/Fichter/Wilson/volcrock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os.ubc.ca/courses/eosc221/meta/metac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56D-DA32-44DB-9704-65C3CD3C1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Facies and Mineral Assemb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762120" y="5257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mfacies"/>
          <p:cNvPicPr/>
          <p:nvPr/>
        </p:nvPicPr>
        <p:blipFill>
          <a:blip r:embed="rId1"/>
          <a:stretch/>
        </p:blipFill>
        <p:spPr>
          <a:xfrm>
            <a:off x="2362320" y="2133720"/>
            <a:ext cx="47242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6E4-84F9-49F3-9E8F-7D2E54E2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10666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present reflect equilibrium P-T conditions for different protol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-T conditions increase (prograde metamorphism) minerals react with each other and with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inerals no longer stable; new minerals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lowgradeassembl.gif (19130 bytes)"/>
          <p:cNvPicPr/>
          <p:nvPr/>
        </p:nvPicPr>
        <p:blipFill>
          <a:blip r:embed="rId1"/>
          <a:stretch/>
        </p:blipFill>
        <p:spPr>
          <a:xfrm>
            <a:off x="304920" y="3197160"/>
            <a:ext cx="3809880" cy="335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jighergrade.gif (14383 bytes)"/>
          <p:cNvPicPr/>
          <p:nvPr/>
        </p:nvPicPr>
        <p:blipFill>
          <a:blip r:embed="rId2"/>
          <a:stretch/>
        </p:blipFill>
        <p:spPr>
          <a:xfrm>
            <a:off x="4495680" y="3233880"/>
            <a:ext cx="4419720" cy="3386160"/>
          </a:xfrm>
          <a:prstGeom prst="rect">
            <a:avLst/>
          </a:prstGeom>
          <a:ln w="0">
            <a:noFill/>
          </a:ln>
        </p:spPr>
      </p:pic>
      <p:sp>
        <p:nvSpPr>
          <p:cNvPr id="99" name="Line 10"/>
          <p:cNvSpPr/>
          <p:nvPr/>
        </p:nvSpPr>
        <p:spPr>
          <a:xfrm>
            <a:off x="342900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E31-90E5-425C-B493-3829F44D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Reactions and Critical 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2280" y="1447920"/>
            <a:ext cx="4114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rock composition, some reactions occur under specific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inerals with limited P-T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indicates certain metamorph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alu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lim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s of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univarreact.gif (12921 bytes)"/>
          <p:cNvPicPr/>
          <p:nvPr/>
        </p:nvPicPr>
        <p:blipFill>
          <a:blip r:embed="rId1"/>
          <a:stretch/>
        </p:blipFill>
        <p:spPr>
          <a:xfrm>
            <a:off x="4343400" y="1666800"/>
            <a:ext cx="4533840" cy="3559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431240" y="5359320"/>
            <a:ext cx="446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&gt;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Pyrophyllite       Ky or Andal   Qtz     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50D5-19F5-4B86-A8D4-8C6FCC90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Isogr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14300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and appearance/disappearance of critical minerals can be used to determine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grad = “line” to indicate same grade of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ppearance of mineral of increasing metamorphic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sograds"/>
          <p:cNvPicPr/>
          <p:nvPr/>
        </p:nvPicPr>
        <p:blipFill>
          <a:blip r:embed="rId1"/>
          <a:stretch/>
        </p:blipFill>
        <p:spPr>
          <a:xfrm>
            <a:off x="76320" y="3059280"/>
            <a:ext cx="5257800" cy="364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univarreact.gif (12921 bytes)"/>
          <p:cNvPicPr/>
          <p:nvPr/>
        </p:nvPicPr>
        <p:blipFill>
          <a:blip r:embed="rId2"/>
          <a:stretch/>
        </p:blipFill>
        <p:spPr>
          <a:xfrm>
            <a:off x="5486400" y="3295800"/>
            <a:ext cx="3581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393-8500-4711-A96B-DD855FE3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mblages, Facies,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2193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parent rock composition, mineral assemblage reflects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facies_react.gif (52633 bytes)"/>
          <p:cNvPicPr/>
          <p:nvPr/>
        </p:nvPicPr>
        <p:blipFill>
          <a:blip r:embed="rId1"/>
          <a:stretch/>
        </p:blipFill>
        <p:spPr>
          <a:xfrm>
            <a:off x="152280" y="2212920"/>
            <a:ext cx="6019920" cy="4492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6172200" y="1981080"/>
            <a:ext cx="2819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different rocks metamorphosed under the same conditions indicate f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hanges between facies indicate series (and tectonic set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3F4C-11A0-4BDA-B221-637D3F92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4648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aureole = surrounding rocks metamorphosed by heat of intr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/shape of aureol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, temp, cooling history of the igneous intr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the country rock (conductivity, presence of wa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114800" y="1066680"/>
            <a:ext cx="4876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high geothermal gradient produced locally around intruding 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to relatively shallow depths (low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generally not fol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fine grained rock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nf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ontactnh"/>
          <p:cNvPicPr/>
          <p:nvPr/>
        </p:nvPicPr>
        <p:blipFill>
          <a:blip r:embed="rId1"/>
          <a:stretch/>
        </p:blipFill>
        <p:spPr>
          <a:xfrm>
            <a:off x="152280" y="1143000"/>
            <a:ext cx="3895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0C8-ED8E-43D6-A209-D63C466D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Hornf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48520" y="1371600"/>
            <a:ext cx="281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characterized by hornfels facies s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ite-epidot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nblend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d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 flipV="1">
            <a:off x="1143000" y="3733560"/>
            <a:ext cx="25146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Hornfe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1752480" y="6172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yroxene hornf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pxhfacf"/>
          <p:cNvPicPr/>
          <p:nvPr/>
        </p:nvPicPr>
        <p:blipFill>
          <a:blip r:embed="rId4"/>
          <a:stretch/>
        </p:blipFill>
        <p:spPr>
          <a:xfrm>
            <a:off x="3962520" y="4541760"/>
            <a:ext cx="2805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3C2-B2B6-4059-91D5-4040A437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Sk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04920" y="106668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etamorphism of carbonate or siliceous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nvolves significant metasomatism (chemical exchange between magmatic fluids and r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osts of Au, Cu, Fe, Mo, Sn, W, Zn-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restmore"/>
          <p:cNvPicPr/>
          <p:nvPr/>
        </p:nvPicPr>
        <p:blipFill>
          <a:blip r:embed="rId1"/>
          <a:stretch/>
        </p:blipFill>
        <p:spPr>
          <a:xfrm>
            <a:off x="2895480" y="3089160"/>
            <a:ext cx="6048360" cy="358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Skarn1"/>
          <p:cNvPicPr/>
          <p:nvPr/>
        </p:nvPicPr>
        <p:blipFill>
          <a:blip r:embed="rId2"/>
          <a:stretch/>
        </p:blipFill>
        <p:spPr>
          <a:xfrm>
            <a:off x="228600" y="4782960"/>
            <a:ext cx="2438280" cy="1846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15228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llastonite-garnet sk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6E4-78A8-441D-92C6-75D8427F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248520" y="1371600"/>
            <a:ext cx="2819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large areas of earth’s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during orogenic (mountain-building)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1143000" y="3429000"/>
            <a:ext cx="21337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200400" y="32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52280" y="4876920"/>
            <a:ext cx="8534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iated rocks developed under med-high T and 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uch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rrov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developed under low-med T and high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anbaga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Franci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V="1">
            <a:off x="1066680" y="3048120"/>
            <a:ext cx="243864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052640" y="2965320"/>
            <a:ext cx="1157040" cy="7477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729" h="471">
                <a:moveTo>
                  <a:pt x="18" y="471"/>
                </a:moveTo>
                <a:cubicBezTo>
                  <a:pt x="21" y="384"/>
                  <a:pt x="0" y="289"/>
                  <a:pt x="35" y="209"/>
                </a:cubicBezTo>
                <a:cubicBezTo>
                  <a:pt x="45" y="186"/>
                  <a:pt x="77" y="163"/>
                  <a:pt x="96" y="148"/>
                </a:cubicBezTo>
                <a:cubicBezTo>
                  <a:pt x="127" y="124"/>
                  <a:pt x="159" y="101"/>
                  <a:pt x="192" y="78"/>
                </a:cubicBezTo>
                <a:cubicBezTo>
                  <a:pt x="195" y="76"/>
                  <a:pt x="258" y="62"/>
                  <a:pt x="262" y="61"/>
                </a:cubicBezTo>
                <a:cubicBezTo>
                  <a:pt x="303" y="49"/>
                  <a:pt x="343" y="38"/>
                  <a:pt x="384" y="26"/>
                </a:cubicBezTo>
                <a:cubicBezTo>
                  <a:pt x="411" y="18"/>
                  <a:pt x="435" y="0"/>
                  <a:pt x="463" y="0"/>
                </a:cubicBezTo>
                <a:cubicBezTo>
                  <a:pt x="524" y="0"/>
                  <a:pt x="585" y="0"/>
                  <a:pt x="646" y="0"/>
                </a:cubicBezTo>
                <a:lnTo>
                  <a:pt x="729" y="4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3"/>
          <p:cNvSpPr/>
          <p:nvPr/>
        </p:nvSpPr>
        <p:spPr>
          <a:xfrm>
            <a:off x="996840" y="1676520"/>
            <a:ext cx="1822680" cy="19810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148" h="1248">
                <a:moveTo>
                  <a:pt x="0" y="1248"/>
                </a:moveTo>
                <a:cubicBezTo>
                  <a:pt x="10" y="1166"/>
                  <a:pt x="35" y="1092"/>
                  <a:pt x="53" y="1012"/>
                </a:cubicBezTo>
                <a:cubicBezTo>
                  <a:pt x="56" y="997"/>
                  <a:pt x="62" y="966"/>
                  <a:pt x="70" y="951"/>
                </a:cubicBezTo>
                <a:cubicBezTo>
                  <a:pt x="91" y="910"/>
                  <a:pt x="170" y="829"/>
                  <a:pt x="210" y="803"/>
                </a:cubicBezTo>
                <a:cubicBezTo>
                  <a:pt x="221" y="796"/>
                  <a:pt x="235" y="793"/>
                  <a:pt x="245" y="785"/>
                </a:cubicBezTo>
                <a:cubicBezTo>
                  <a:pt x="306" y="736"/>
                  <a:pt x="355" y="673"/>
                  <a:pt x="411" y="620"/>
                </a:cubicBezTo>
                <a:cubicBezTo>
                  <a:pt x="421" y="585"/>
                  <a:pt x="439" y="583"/>
                  <a:pt x="463" y="559"/>
                </a:cubicBezTo>
                <a:cubicBezTo>
                  <a:pt x="503" y="519"/>
                  <a:pt x="529" y="464"/>
                  <a:pt x="585" y="445"/>
                </a:cubicBezTo>
                <a:cubicBezTo>
                  <a:pt x="608" y="380"/>
                  <a:pt x="575" y="458"/>
                  <a:pt x="620" y="401"/>
                </a:cubicBezTo>
                <a:cubicBezTo>
                  <a:pt x="657" y="355"/>
                  <a:pt x="576" y="384"/>
                  <a:pt x="664" y="323"/>
                </a:cubicBezTo>
                <a:cubicBezTo>
                  <a:pt x="710" y="291"/>
                  <a:pt x="758" y="258"/>
                  <a:pt x="812" y="244"/>
                </a:cubicBezTo>
                <a:cubicBezTo>
                  <a:pt x="821" y="238"/>
                  <a:pt x="831" y="234"/>
                  <a:pt x="838" y="227"/>
                </a:cubicBezTo>
                <a:cubicBezTo>
                  <a:pt x="846" y="220"/>
                  <a:pt x="848" y="208"/>
                  <a:pt x="856" y="201"/>
                </a:cubicBezTo>
                <a:cubicBezTo>
                  <a:pt x="886" y="175"/>
                  <a:pt x="922" y="152"/>
                  <a:pt x="960" y="140"/>
                </a:cubicBezTo>
                <a:cubicBezTo>
                  <a:pt x="978" y="128"/>
                  <a:pt x="995" y="117"/>
                  <a:pt x="1013" y="105"/>
                </a:cubicBezTo>
                <a:cubicBezTo>
                  <a:pt x="1028" y="95"/>
                  <a:pt x="1065" y="87"/>
                  <a:pt x="1065" y="87"/>
                </a:cubicBezTo>
                <a:cubicBezTo>
                  <a:pt x="1086" y="67"/>
                  <a:pt x="1078" y="76"/>
                  <a:pt x="1091" y="61"/>
                </a:cubicBezTo>
                <a:lnTo>
                  <a:pt x="114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133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50532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8195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3FD-A7E8-4747-AC6A-7FFCA6C8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Barrov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” metamorphic series recognized in mountain belt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to high T; low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to hi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li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yro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a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llima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al sequence (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itic r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een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phib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nu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sappalmeta"/>
          <p:cNvPicPr/>
          <p:nvPr/>
        </p:nvPicPr>
        <p:blipFill>
          <a:blip r:embed="rId1"/>
          <a:stretch/>
        </p:blipFill>
        <p:spPr>
          <a:xfrm>
            <a:off x="4114800" y="1558800"/>
            <a:ext cx="49528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7B07-E7D3-4CE3-BDEC-8BE7936C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Francis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00600" y="152388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; 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irected stress (little de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by presence of blue, sodic amphib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ue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clog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ransican.gif (49092 bytes)"/>
          <p:cNvPicPr/>
          <p:nvPr/>
        </p:nvPicPr>
        <p:blipFill>
          <a:blip r:embed="rId1"/>
          <a:srcRect l="0" t="0" r="0" b="8608"/>
          <a:stretch/>
        </p:blipFill>
        <p:spPr>
          <a:xfrm>
            <a:off x="152280" y="990720"/>
            <a:ext cx="45594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E4B-CD74-49A8-83DB-8A8F5269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primary goals of metamorphic petrology is to interpret P-T conditions under which a rock (or set of rocks)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temperature and pressure conditions under which metamorphic rocks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-grade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~200 to 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relative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t hydrous miner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gh-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&gt;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relatively hi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hydration; less hydro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s com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 in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metamorphism de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etagrade"/>
          <p:cNvPicPr/>
          <p:nvPr/>
        </p:nvPicPr>
        <p:blipFill>
          <a:blip r:embed="rId1"/>
          <a:stretch/>
        </p:blipFill>
        <p:spPr>
          <a:xfrm>
            <a:off x="3886200" y="2698920"/>
            <a:ext cx="513396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8568-031F-4F2F-8F9D-8D9AE7A76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0880" y="1752480"/>
            <a:ext cx="8382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 (mod-high T and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in orogenic belts at convergen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heat flow increased by upward movement of magma and migration of fl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ust faulting thickens crust, increasing pressure and directe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20-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” (Franciscan) (low T and high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world-wide in orogenic belts of Phanerozoic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with subduction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subduction of oceanic crust depresses isoth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10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62E5-868B-4E55-8888-D49535FB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2280" y="1676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metamorphic belts – specific to subduction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volcr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6836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172200" y="22860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rocks beneath and around th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due to magma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the mélange of the tr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3F6-C9AC-4D77-82D7-03FDBCD2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16765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orking on maps and metamorphic phase diagrams for the home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360-C0E4-4FE8-B3A8-EB970098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ssemblage Map"/>
          <p:cNvPicPr/>
          <p:nvPr/>
        </p:nvPicPr>
        <p:blipFill>
          <a:blip r:embed="rId1"/>
          <a:stretch/>
        </p:blipFill>
        <p:spPr>
          <a:xfrm>
            <a:off x="228600" y="1143000"/>
            <a:ext cx="4705200" cy="537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Triangles"/>
          <p:cNvPicPr/>
          <p:nvPr/>
        </p:nvPicPr>
        <p:blipFill>
          <a:blip r:embed="rId2"/>
          <a:stretch/>
        </p:blipFill>
        <p:spPr>
          <a:xfrm>
            <a:off x="5180040" y="1143000"/>
            <a:ext cx="365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F04-F650-426B-A342-DD29E6C3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P vs T plot"/>
          <p:cNvPicPr/>
          <p:nvPr/>
        </p:nvPicPr>
        <p:blipFill>
          <a:blip r:embed="rId1"/>
          <a:stretch/>
        </p:blipFill>
        <p:spPr>
          <a:xfrm>
            <a:off x="1600200" y="1447920"/>
            <a:ext cx="583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2CD-FB59-4F8D-8269-CD6F3E3C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etamorphic F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facies"/>
          <p:cNvPicPr/>
          <p:nvPr/>
        </p:nvPicPr>
        <p:blipFill>
          <a:blip r:embed="rId2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248520" y="1295280"/>
            <a:ext cx="2743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 of rocks characterized by equilibrium mineral assemblage that reflect specific range of metamorphic (T-P)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present depends on protolith compos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marble, metabasalt and schist all in amphibolite f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9718-FD00-4758-B80A-09D0BCD4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facies"/>
          <p:cNvPicPr/>
          <p:nvPr/>
        </p:nvPicPr>
        <p:blipFill>
          <a:blip r:embed="rId1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248520" y="1295280"/>
            <a:ext cx="2743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on or sequence of facies across a metamorphic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by field and experiment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eries – Hi T, low P = contact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egional Series – Mod T &amp; P = 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egional Series – Lo T, hi P = 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990720" y="2133360"/>
            <a:ext cx="11430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1066680" y="2895480"/>
            <a:ext cx="2514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066680" y="4343400"/>
            <a:ext cx="2514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5053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812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9810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8B9-B060-4A2E-8E11-D27F46FE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minerals present within a facies (P-T conditions) depends largely on protolith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assemblages can be shown on ternary phase diagrams (with some assumptions and simpl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4419720" y="2895480"/>
            <a:ext cx="43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A-B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possible minerals can occur at this temp &amp;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lines show pairs of minerals in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riangles show regions where sets of 3 minerals are stabl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A65A-B073-4CCD-BC56-29673569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P-T condition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the ti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of coexisting stable mineral assemb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chemical reactions between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onsolidsolutiongeneraltrenary2"/>
          <p:cNvPicPr/>
          <p:nvPr/>
        </p:nvPicPr>
        <p:blipFill>
          <a:blip r:embed="rId2"/>
          <a:stretch/>
        </p:blipFill>
        <p:spPr>
          <a:xfrm>
            <a:off x="4495680" y="2863800"/>
            <a:ext cx="3886200" cy="3737160"/>
          </a:xfrm>
          <a:prstGeom prst="rect">
            <a:avLst/>
          </a:prstGeom>
          <a:ln w="0">
            <a:noFill/>
          </a:ln>
        </p:spPr>
      </p:pic>
      <p:sp>
        <p:nvSpPr>
          <p:cNvPr id="75" name="Line 8"/>
          <p:cNvSpPr/>
          <p:nvPr/>
        </p:nvSpPr>
        <p:spPr>
          <a:xfrm>
            <a:off x="3276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048120" y="3062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894760" y="34282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+ A2C  =&gt; 2A + 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F0C-7CD0-44AE-B4BC-974528AEB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1430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metamorphic rocks typically contain ~10 common elements (Si, Al, Mg, Fe, Ca, Na, K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o plot on ternar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components (assume present in r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components (e.g., Fe and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iagram to specific rock type (e.g., metabasalt, pe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cf_rock_compositions"/>
          <p:cNvPicPr/>
          <p:nvPr/>
        </p:nvPicPr>
        <p:blipFill>
          <a:blip r:embed="rId1"/>
          <a:stretch/>
        </p:blipFill>
        <p:spPr>
          <a:xfrm>
            <a:off x="228600" y="3581280"/>
            <a:ext cx="3200400" cy="306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acf_diagram"/>
          <p:cNvPicPr/>
          <p:nvPr/>
        </p:nvPicPr>
        <p:blipFill>
          <a:blip r:embed="rId2"/>
          <a:stretch/>
        </p:blipFill>
        <p:spPr>
          <a:xfrm>
            <a:off x="3581280" y="3533760"/>
            <a:ext cx="480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DEE-0F82-4601-8DCD-BB118B30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33920" y="1066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ost common metamorphic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Mg &amp; Fe freely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cf_rock_compositions"/>
          <p:cNvPicPr/>
          <p:nvPr/>
        </p:nvPicPr>
        <p:blipFill>
          <a:blip r:embed="rId1"/>
          <a:stretch/>
        </p:blipFill>
        <p:spPr>
          <a:xfrm>
            <a:off x="152280" y="990720"/>
            <a:ext cx="3353040" cy="321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cf_diagram"/>
          <p:cNvPicPr/>
          <p:nvPr/>
        </p:nvPicPr>
        <p:blipFill>
          <a:blip r:embed="rId2"/>
          <a:stretch/>
        </p:blipFill>
        <p:spPr>
          <a:xfrm>
            <a:off x="3581280" y="3160800"/>
            <a:ext cx="5334120" cy="3440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80880" y="4495680"/>
            <a:ext cx="289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 +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71B-67BF-453C-883D-93E5B73C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48320" y="1981080"/>
            <a:ext cx="4038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afic (metabasalt) rocks, pelites, and some meta-sand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es between Fe and Mg and allows for solid solution (tie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8600" y="502920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resolutioncrossingtielines"/>
          <p:cNvPicPr/>
          <p:nvPr/>
        </p:nvPicPr>
        <p:blipFill>
          <a:blip r:embed="rId1"/>
          <a:srcRect l="15508" t="47256" r="30102" b="0"/>
          <a:stretch/>
        </p:blipFill>
        <p:spPr>
          <a:xfrm>
            <a:off x="228600" y="1066680"/>
            <a:ext cx="4114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15:32Z</dcterms:created>
  <dc:creator>David A. Barnes</dc:creator>
  <dc:description/>
  <dc:language>en-US</dc:language>
  <cp:lastModifiedBy>ksu</cp:lastModifiedBy>
  <dcterms:modified xsi:type="dcterms:W3CDTF">2011-11-01T02:10:34Z</dcterms:modified>
  <cp:revision>19</cp:revision>
  <dc:subject/>
  <dc:title>Metamorphism and Metamorphic Rocks</dc:title>
</cp:coreProperties>
</file>