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B78-9592-442A-BA2F-F08857EF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AF4-4854-43CF-AC7F-E62EF991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DC9-1C03-4E30-8430-2561F639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E24-CF51-401E-945A-7FA262EF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308-4EFD-4EFE-8AA2-AC917305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1CF-EC7A-44D3-8FB9-78FD6AA4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A73-4C47-42B6-8B1C-B4702578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C66-8F3B-467E-AC42-BEA08D36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8D9-70C8-4932-8E8F-BC52C0C6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706-C18B-473D-B5A5-4C3A28A8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A9E1-7ACA-4F6C-AACB-C7F60CB6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C2C-DEB3-4DC2-8E27-693671CD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E243-439D-4730-853C-B148EB9CE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kimages.com/discover/Home/Science/Earth-Sciences/Geology/Rocks/Metamorphic/Hornfels/Hornfels-2.html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smres.jmu.edu/geollab/Fichter/Wilson/volcrock.html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os.ubc.ca/courses/eosc221/meta/metac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2921-3929-4E7A-BE27-A5858D9CB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Facies and Mineral Assemb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762120" y="5257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Regional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mfacies"/>
          <p:cNvPicPr/>
          <p:nvPr/>
        </p:nvPicPr>
        <p:blipFill>
          <a:blip r:embed="rId1"/>
          <a:stretch/>
        </p:blipFill>
        <p:spPr>
          <a:xfrm>
            <a:off x="2362320" y="2133720"/>
            <a:ext cx="47242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6021-7442-47B8-92A9-45E589B68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4920" y="10666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present reflect equilibrium P-T conditions for different protol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-T conditions increase (prograde metamorphism) minerals react with each other and with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inerals no longer stable; new minerals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lowgradeassembl.gif (19130 bytes)"/>
          <p:cNvPicPr/>
          <p:nvPr/>
        </p:nvPicPr>
        <p:blipFill>
          <a:blip r:embed="rId1"/>
          <a:stretch/>
        </p:blipFill>
        <p:spPr>
          <a:xfrm>
            <a:off x="304920" y="3197160"/>
            <a:ext cx="3809880" cy="335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jighergrade.gif (14383 bytes)"/>
          <p:cNvPicPr/>
          <p:nvPr/>
        </p:nvPicPr>
        <p:blipFill>
          <a:blip r:embed="rId2"/>
          <a:stretch/>
        </p:blipFill>
        <p:spPr>
          <a:xfrm>
            <a:off x="4495680" y="3233880"/>
            <a:ext cx="4419720" cy="3386160"/>
          </a:xfrm>
          <a:prstGeom prst="rect">
            <a:avLst/>
          </a:prstGeom>
          <a:ln w="0">
            <a:noFill/>
          </a:ln>
        </p:spPr>
      </p:pic>
      <p:sp>
        <p:nvSpPr>
          <p:cNvPr id="99" name="Line 10"/>
          <p:cNvSpPr/>
          <p:nvPr/>
        </p:nvSpPr>
        <p:spPr>
          <a:xfrm>
            <a:off x="3429000" y="3809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B43F-F656-4604-9B9A-9FE5CC09A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Reactions and Critical Miner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2280" y="1447920"/>
            <a:ext cx="4114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rock composition, some reactions occur under specific P-T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inerals with limited P-T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indicates certain metamorph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alu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lim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orphs of 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univarreact.gif (12921 bytes)"/>
          <p:cNvPicPr/>
          <p:nvPr/>
        </p:nvPicPr>
        <p:blipFill>
          <a:blip r:embed="rId1"/>
          <a:stretch/>
        </p:blipFill>
        <p:spPr>
          <a:xfrm>
            <a:off x="4343400" y="1666800"/>
            <a:ext cx="4533840" cy="3559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431240" y="5359320"/>
            <a:ext cx="446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=&gt; 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Pyrophyllite       Ky or Andal   Qtz      fl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3771-BA5D-45DA-A53D-6757BEC65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Isogr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14300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and appearance/disappearance of critical minerals can be used to determine P-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grad = “line” to indicate same grade of meta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ppearance of mineral of increasing metamorphic gr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isograds"/>
          <p:cNvPicPr/>
          <p:nvPr/>
        </p:nvPicPr>
        <p:blipFill>
          <a:blip r:embed="rId1"/>
          <a:stretch/>
        </p:blipFill>
        <p:spPr>
          <a:xfrm>
            <a:off x="76320" y="3059280"/>
            <a:ext cx="5257800" cy="364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univarreact.gif (12921 bytes)"/>
          <p:cNvPicPr/>
          <p:nvPr/>
        </p:nvPicPr>
        <p:blipFill>
          <a:blip r:embed="rId2"/>
          <a:stretch/>
        </p:blipFill>
        <p:spPr>
          <a:xfrm>
            <a:off x="5486400" y="3295800"/>
            <a:ext cx="35812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DB02-E13C-45B7-B502-05780E03B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mblages, Facies, and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52280" y="1219320"/>
            <a:ext cx="8763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parent rock composition, mineral assemblage reflects P-T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facies_react.gif (52633 bytes)"/>
          <p:cNvPicPr/>
          <p:nvPr/>
        </p:nvPicPr>
        <p:blipFill>
          <a:blip r:embed="rId1"/>
          <a:stretch/>
        </p:blipFill>
        <p:spPr>
          <a:xfrm>
            <a:off x="152280" y="2212920"/>
            <a:ext cx="6019920" cy="4492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6172200" y="1981080"/>
            <a:ext cx="2819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different rocks metamorphosed under the same conditions indicate f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hanges between facies indicate series (and tectonic set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22DA-B6D2-4200-A30A-2AE5E77B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28600" y="4648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aureole = surrounding rocks metamorphosed by heat of intr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/shape of aureol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, temp, cooling history of the igneous intr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of the country rock (conductivity, presence of wa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114800" y="1066680"/>
            <a:ext cx="4876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high geothermal gradient produced locally around intruding ma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to relatively shallow depths (low pres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 generally not fol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fine grained rock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rnf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ontactnh"/>
          <p:cNvPicPr/>
          <p:nvPr/>
        </p:nvPicPr>
        <p:blipFill>
          <a:blip r:embed="rId1"/>
          <a:stretch/>
        </p:blipFill>
        <p:spPr>
          <a:xfrm>
            <a:off x="152280" y="1143000"/>
            <a:ext cx="3895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E5A9-4873-4911-B325-20B3E391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: Hornf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248520" y="1371600"/>
            <a:ext cx="2819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assemblage characterized by hornfels facies se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ite-epidot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nblend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xen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id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mfacies"/>
          <p:cNvPicPr/>
          <p:nvPr/>
        </p:nvPicPr>
        <p:blipFill>
          <a:blip r:embed="rId1"/>
          <a:stretch/>
        </p:blipFill>
        <p:spPr>
          <a:xfrm>
            <a:off x="152280" y="95400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124" name="Line 7"/>
          <p:cNvSpPr/>
          <p:nvPr/>
        </p:nvSpPr>
        <p:spPr>
          <a:xfrm flipV="1">
            <a:off x="1143000" y="3733560"/>
            <a:ext cx="251460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5812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Hornfe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1055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1752480" y="6172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yroxene hornf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pxhfacf"/>
          <p:cNvPicPr/>
          <p:nvPr/>
        </p:nvPicPr>
        <p:blipFill>
          <a:blip r:embed="rId4"/>
          <a:stretch/>
        </p:blipFill>
        <p:spPr>
          <a:xfrm>
            <a:off x="3962520" y="4541760"/>
            <a:ext cx="28051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6EF6-9045-466D-BC92-4E4DC174A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: Sk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04920" y="106668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metamorphism of carbonate or siliceous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nvolves significant metasomatism (chemical exchange between magmatic fluids and r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hosts of Au, Cu, Fe, Mo, Sn, W, Zn-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restmore"/>
          <p:cNvPicPr/>
          <p:nvPr/>
        </p:nvPicPr>
        <p:blipFill>
          <a:blip r:embed="rId1"/>
          <a:stretch/>
        </p:blipFill>
        <p:spPr>
          <a:xfrm>
            <a:off x="2895480" y="3089160"/>
            <a:ext cx="6048360" cy="3587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Skarn1"/>
          <p:cNvPicPr/>
          <p:nvPr/>
        </p:nvPicPr>
        <p:blipFill>
          <a:blip r:embed="rId2"/>
          <a:stretch/>
        </p:blipFill>
        <p:spPr>
          <a:xfrm>
            <a:off x="228600" y="4782960"/>
            <a:ext cx="2438280" cy="18464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3"/>
          <p:cNvSpPr/>
          <p:nvPr/>
        </p:nvSpPr>
        <p:spPr>
          <a:xfrm>
            <a:off x="152280" y="3962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llastonite-garnet sk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9952-5BC0-46A6-8E06-1A7A78830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248520" y="1371600"/>
            <a:ext cx="28191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large areas of earth’s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during orogenic (mountain-building)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mfacies"/>
          <p:cNvPicPr/>
          <p:nvPr/>
        </p:nvPicPr>
        <p:blipFill>
          <a:blip r:embed="rId1"/>
          <a:stretch/>
        </p:blipFill>
        <p:spPr>
          <a:xfrm>
            <a:off x="152280" y="95400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 flipV="1">
            <a:off x="1143000" y="3429000"/>
            <a:ext cx="21337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200400" y="32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52280" y="4876920"/>
            <a:ext cx="8534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iated rocks developed under med-high T and 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uch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Barrov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 developed under low-med T and high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anbagaw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Franci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V="1">
            <a:off x="1066680" y="3048120"/>
            <a:ext cx="243864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2"/>
          <p:cNvSpPr/>
          <p:nvPr/>
        </p:nvSpPr>
        <p:spPr>
          <a:xfrm>
            <a:off x="1052640" y="2965320"/>
            <a:ext cx="1157040" cy="7477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729" h="471">
                <a:moveTo>
                  <a:pt x="18" y="471"/>
                </a:moveTo>
                <a:cubicBezTo>
                  <a:pt x="21" y="384"/>
                  <a:pt x="0" y="289"/>
                  <a:pt x="35" y="209"/>
                </a:cubicBezTo>
                <a:cubicBezTo>
                  <a:pt x="45" y="186"/>
                  <a:pt x="77" y="163"/>
                  <a:pt x="96" y="148"/>
                </a:cubicBezTo>
                <a:cubicBezTo>
                  <a:pt x="127" y="124"/>
                  <a:pt x="159" y="101"/>
                  <a:pt x="192" y="78"/>
                </a:cubicBezTo>
                <a:cubicBezTo>
                  <a:pt x="195" y="76"/>
                  <a:pt x="258" y="62"/>
                  <a:pt x="262" y="61"/>
                </a:cubicBezTo>
                <a:cubicBezTo>
                  <a:pt x="303" y="49"/>
                  <a:pt x="343" y="38"/>
                  <a:pt x="384" y="26"/>
                </a:cubicBezTo>
                <a:cubicBezTo>
                  <a:pt x="411" y="18"/>
                  <a:pt x="435" y="0"/>
                  <a:pt x="463" y="0"/>
                </a:cubicBezTo>
                <a:cubicBezTo>
                  <a:pt x="524" y="0"/>
                  <a:pt x="585" y="0"/>
                  <a:pt x="646" y="0"/>
                </a:cubicBezTo>
                <a:lnTo>
                  <a:pt x="729" y="4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3"/>
          <p:cNvSpPr/>
          <p:nvPr/>
        </p:nvSpPr>
        <p:spPr>
          <a:xfrm>
            <a:off x="996840" y="1676520"/>
            <a:ext cx="1822680" cy="1981080"/>
          </a:xfrm>
          <a:custGeom>
            <a:avLst/>
            <a:gdLst>
              <a:gd name="textAreaLeft" fmla="*/ 0 w 1822680"/>
              <a:gd name="textAreaRight" fmla="*/ 1823040 w 182268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148" h="1248">
                <a:moveTo>
                  <a:pt x="0" y="1248"/>
                </a:moveTo>
                <a:cubicBezTo>
                  <a:pt x="10" y="1166"/>
                  <a:pt x="35" y="1092"/>
                  <a:pt x="53" y="1012"/>
                </a:cubicBezTo>
                <a:cubicBezTo>
                  <a:pt x="56" y="997"/>
                  <a:pt x="62" y="966"/>
                  <a:pt x="70" y="951"/>
                </a:cubicBezTo>
                <a:cubicBezTo>
                  <a:pt x="91" y="910"/>
                  <a:pt x="170" y="829"/>
                  <a:pt x="210" y="803"/>
                </a:cubicBezTo>
                <a:cubicBezTo>
                  <a:pt x="221" y="796"/>
                  <a:pt x="235" y="793"/>
                  <a:pt x="245" y="785"/>
                </a:cubicBezTo>
                <a:cubicBezTo>
                  <a:pt x="306" y="736"/>
                  <a:pt x="355" y="673"/>
                  <a:pt x="411" y="620"/>
                </a:cubicBezTo>
                <a:cubicBezTo>
                  <a:pt x="421" y="585"/>
                  <a:pt x="439" y="583"/>
                  <a:pt x="463" y="559"/>
                </a:cubicBezTo>
                <a:cubicBezTo>
                  <a:pt x="503" y="519"/>
                  <a:pt x="529" y="464"/>
                  <a:pt x="585" y="445"/>
                </a:cubicBezTo>
                <a:cubicBezTo>
                  <a:pt x="608" y="380"/>
                  <a:pt x="575" y="458"/>
                  <a:pt x="620" y="401"/>
                </a:cubicBezTo>
                <a:cubicBezTo>
                  <a:pt x="657" y="355"/>
                  <a:pt x="576" y="384"/>
                  <a:pt x="664" y="323"/>
                </a:cubicBezTo>
                <a:cubicBezTo>
                  <a:pt x="710" y="291"/>
                  <a:pt x="758" y="258"/>
                  <a:pt x="812" y="244"/>
                </a:cubicBezTo>
                <a:cubicBezTo>
                  <a:pt x="821" y="238"/>
                  <a:pt x="831" y="234"/>
                  <a:pt x="838" y="227"/>
                </a:cubicBezTo>
                <a:cubicBezTo>
                  <a:pt x="846" y="220"/>
                  <a:pt x="848" y="208"/>
                  <a:pt x="856" y="201"/>
                </a:cubicBezTo>
                <a:cubicBezTo>
                  <a:pt x="886" y="175"/>
                  <a:pt x="922" y="152"/>
                  <a:pt x="960" y="140"/>
                </a:cubicBezTo>
                <a:cubicBezTo>
                  <a:pt x="978" y="128"/>
                  <a:pt x="995" y="117"/>
                  <a:pt x="1013" y="105"/>
                </a:cubicBezTo>
                <a:cubicBezTo>
                  <a:pt x="1028" y="95"/>
                  <a:pt x="1065" y="87"/>
                  <a:pt x="1065" y="87"/>
                </a:cubicBezTo>
                <a:cubicBezTo>
                  <a:pt x="1086" y="67"/>
                  <a:pt x="1078" y="76"/>
                  <a:pt x="1091" y="61"/>
                </a:cubicBezTo>
                <a:lnTo>
                  <a:pt x="1148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133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50532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28195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FA6-3AFE-4905-AE1D-B66DA8C91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: Barrov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” metamorphic series recognized in mountain belts world-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to high T; low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to hig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therm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mineral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olin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yrophyl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an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llima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al sequence (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itic rock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yl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n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es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hnite-pumpelly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een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phib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nu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sappalmeta"/>
          <p:cNvPicPr/>
          <p:nvPr/>
        </p:nvPicPr>
        <p:blipFill>
          <a:blip r:embed="rId1"/>
          <a:stretch/>
        </p:blipFill>
        <p:spPr>
          <a:xfrm>
            <a:off x="4114800" y="1558800"/>
            <a:ext cx="49528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3006-B735-48EE-92AA-65D6770A5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: Francis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800600" y="152388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; high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geotherm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irected stress (little de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ed by presence of blue, sodic amphib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es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hnite-pumpelly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ue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clog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ransican.gif (49092 bytes)"/>
          <p:cNvPicPr/>
          <p:nvPr/>
        </p:nvPicPr>
        <p:blipFill>
          <a:blip r:embed="rId1"/>
          <a:srcRect l="0" t="0" r="0" b="8608"/>
          <a:stretch/>
        </p:blipFill>
        <p:spPr>
          <a:xfrm>
            <a:off x="152280" y="990720"/>
            <a:ext cx="455940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EC22-6317-4BE8-92D5-DA09F8334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primary goals of metamorphic petrology is to interpret P-T conditions under which a rock (or set of rocks)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tamorphic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temperature and pressure conditions under which metamorphic rocks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w-grade meta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~200 to 3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relative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t hydrous miner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igh-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&gt;3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nd relatively hig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hydration; less hydrou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s comm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and/or P, grade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morphism increas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ro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and/or P, grade of metamorphism decreas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etagrade"/>
          <p:cNvPicPr/>
          <p:nvPr/>
        </p:nvPicPr>
        <p:blipFill>
          <a:blip r:embed="rId1"/>
          <a:stretch/>
        </p:blipFill>
        <p:spPr>
          <a:xfrm>
            <a:off x="3886200" y="2698920"/>
            <a:ext cx="513396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E4E1-45BB-4E38-ABFB-76F3B352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 and Tect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80880" y="1752480"/>
            <a:ext cx="83822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ovian (mod-high T and 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in orogenic belts at convergent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heat flow increased by upward movement of magma and migration of fl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ust faulting thickens crust, increasing pressure and directed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thermal gradient of ~20-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schist” (Franciscan) (low T and high 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 world-wide in orogenic belts of Phanerozoic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with subduction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subduction of oceanic crust depresses isoth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thermal gradient of ~10-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BC8A-4A66-4908-B9D4-13B302EB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 and Tect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2280" y="1676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metamorphic belts – specific to subduction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volcr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6836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6172200" y="22860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o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rocks beneath and around the 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due to magmat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sch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the mélange of the tre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E30B-ED5E-4C37-AA4D-C58810903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04920" y="16765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orking on maps and metamorphic phase diagrams for the homewor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2D16-6D8B-440E-A47F-4B0878882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ssemblage Map"/>
          <p:cNvPicPr/>
          <p:nvPr/>
        </p:nvPicPr>
        <p:blipFill>
          <a:blip r:embed="rId1"/>
          <a:stretch/>
        </p:blipFill>
        <p:spPr>
          <a:xfrm>
            <a:off x="228600" y="1143000"/>
            <a:ext cx="4705200" cy="5376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Triangles"/>
          <p:cNvPicPr/>
          <p:nvPr/>
        </p:nvPicPr>
        <p:blipFill>
          <a:blip r:embed="rId2"/>
          <a:stretch/>
        </p:blipFill>
        <p:spPr>
          <a:xfrm>
            <a:off x="5180040" y="1143000"/>
            <a:ext cx="365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D664-6C7E-4AA1-ABB0-870324C8C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P vs T plot"/>
          <p:cNvPicPr/>
          <p:nvPr/>
        </p:nvPicPr>
        <p:blipFill>
          <a:blip r:embed="rId1"/>
          <a:stretch/>
        </p:blipFill>
        <p:spPr>
          <a:xfrm>
            <a:off x="1600200" y="1447920"/>
            <a:ext cx="5838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BA0A-AFF0-4FC1-A938-9645B34C1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etamorphic Fa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mfacies"/>
          <p:cNvPicPr/>
          <p:nvPr/>
        </p:nvPicPr>
        <p:blipFill>
          <a:blip r:embed="rId2"/>
          <a:stretch/>
        </p:blipFill>
        <p:spPr>
          <a:xfrm>
            <a:off x="152280" y="129528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6248520" y="1295280"/>
            <a:ext cx="2743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et of rocks characterized by equilibrium mineral assemblage that reflect specific range of metamorphic (T-P)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52280" y="54100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assemblage present depends on protolith composi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-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marble, metabasalt and schist all in amphibolite fa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53FC-7C64-4022-8A34-D20D6B438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facies"/>
          <p:cNvPicPr/>
          <p:nvPr/>
        </p:nvPicPr>
        <p:blipFill>
          <a:blip r:embed="rId1"/>
          <a:stretch/>
        </p:blipFill>
        <p:spPr>
          <a:xfrm>
            <a:off x="152280" y="129528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248520" y="1295280"/>
            <a:ext cx="2743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ion or sequence of facies across a metamorphic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 by field and experiment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52280" y="54100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eries – Hi T, low P = contact meta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Regional Series – Mod T &amp; P = Barro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Regional Series – Lo T, hi P = Bluesch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V="1">
            <a:off x="990720" y="2133360"/>
            <a:ext cx="11430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1066680" y="2895480"/>
            <a:ext cx="2514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V="1">
            <a:off x="1066680" y="4343400"/>
            <a:ext cx="2514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5053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5812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98108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59EA-1D7E-4FA2-8596-031D4F8E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28600" y="114300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minerals present within a facies (P-T conditions) depends largely on protolith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assemblages can be shown on ternary phase diagrams (with some assumptions and simplif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nonsolidsolutiongeneraltrenary"/>
          <p:cNvPicPr/>
          <p:nvPr/>
        </p:nvPicPr>
        <p:blipFill>
          <a:blip r:embed="rId1"/>
          <a:stretch/>
        </p:blipFill>
        <p:spPr>
          <a:xfrm>
            <a:off x="228600" y="2867040"/>
            <a:ext cx="3886200" cy="3724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4419720" y="2895480"/>
            <a:ext cx="43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tical A-B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possible minerals can occur at this temp &amp;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 lines show pairs of minerals in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triangles show regions where sets of 3 minerals are stabl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72D4-0C91-4E83-B017-1B8972051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28600" y="114300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P-T conditions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of the ti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of coexisting stable mineral assembl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chemical reactions between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nonsolidsolutiongeneraltrenary"/>
          <p:cNvPicPr/>
          <p:nvPr/>
        </p:nvPicPr>
        <p:blipFill>
          <a:blip r:embed="rId1"/>
          <a:stretch/>
        </p:blipFill>
        <p:spPr>
          <a:xfrm>
            <a:off x="228600" y="2867040"/>
            <a:ext cx="3886200" cy="372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nonsolidsolutiongeneraltrenary2"/>
          <p:cNvPicPr/>
          <p:nvPr/>
        </p:nvPicPr>
        <p:blipFill>
          <a:blip r:embed="rId2"/>
          <a:stretch/>
        </p:blipFill>
        <p:spPr>
          <a:xfrm>
            <a:off x="4495680" y="2863800"/>
            <a:ext cx="3886200" cy="3737160"/>
          </a:xfrm>
          <a:prstGeom prst="rect">
            <a:avLst/>
          </a:prstGeom>
          <a:ln w="0">
            <a:noFill/>
          </a:ln>
        </p:spPr>
      </p:pic>
      <p:sp>
        <p:nvSpPr>
          <p:cNvPr id="75" name="Line 8"/>
          <p:cNvSpPr/>
          <p:nvPr/>
        </p:nvSpPr>
        <p:spPr>
          <a:xfrm>
            <a:off x="3276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048120" y="30621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2894760" y="342828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+ A2C  =&gt; 2A + 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3643-5DA0-4348-BC83-116A0C8D4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52280" y="11430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metamorphic rocks typically contain ~10 common elements (Si, Al, Mg, Fe, Ca, Na, K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o plot on ternar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components (assume present in r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components (e.g., Fe and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diagram to specific rock type (e.g., metabasalt, pel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cf_rock_compositions"/>
          <p:cNvPicPr/>
          <p:nvPr/>
        </p:nvPicPr>
        <p:blipFill>
          <a:blip r:embed="rId1"/>
          <a:stretch/>
        </p:blipFill>
        <p:spPr>
          <a:xfrm>
            <a:off x="228600" y="3581280"/>
            <a:ext cx="3200400" cy="3068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acf_diagram"/>
          <p:cNvPicPr/>
          <p:nvPr/>
        </p:nvPicPr>
        <p:blipFill>
          <a:blip r:embed="rId2"/>
          <a:stretch/>
        </p:blipFill>
        <p:spPr>
          <a:xfrm>
            <a:off x="3581280" y="3533760"/>
            <a:ext cx="4800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3D1D-3486-4DBF-916C-8977B9261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733920" y="1066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plotting most common metamorphic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quartz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Mg &amp; Fe freely sub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cf_rock_compositions"/>
          <p:cNvPicPr/>
          <p:nvPr/>
        </p:nvPicPr>
        <p:blipFill>
          <a:blip r:embed="rId1"/>
          <a:stretch/>
        </p:blipFill>
        <p:spPr>
          <a:xfrm>
            <a:off x="152280" y="990720"/>
            <a:ext cx="3353040" cy="321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acf_diagram"/>
          <p:cNvPicPr/>
          <p:nvPr/>
        </p:nvPicPr>
        <p:blipFill>
          <a:blip r:embed="rId2"/>
          <a:stretch/>
        </p:blipFill>
        <p:spPr>
          <a:xfrm>
            <a:off x="3581280" y="3160800"/>
            <a:ext cx="5334120" cy="3440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80880" y="4495680"/>
            <a:ext cx="28958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FeO + 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1A83-D2DE-4D33-9C0E-9FF79D6AC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648320" y="1981080"/>
            <a:ext cx="4038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plotting mafic (metabasalt) rocks, pelites, and some meta-sand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iminates between Fe and Mg and allows for solid solution (tie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quartz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28600" y="5029200"/>
            <a:ext cx="2895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F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resolutioncrossingtielines"/>
          <p:cNvPicPr/>
          <p:nvPr/>
        </p:nvPicPr>
        <p:blipFill>
          <a:blip r:embed="rId1"/>
          <a:srcRect l="15508" t="47256" r="30102" b="0"/>
          <a:stretch/>
        </p:blipFill>
        <p:spPr>
          <a:xfrm>
            <a:off x="228600" y="1066680"/>
            <a:ext cx="4114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6:15:32Z</dcterms:created>
  <dc:creator>David A. Barnes</dc:creator>
  <dc:description/>
  <dc:language>en-US</dc:language>
  <cp:lastModifiedBy>ksu</cp:lastModifiedBy>
  <dcterms:modified xsi:type="dcterms:W3CDTF">2011-11-01T02:10:34Z</dcterms:modified>
  <cp:revision>19</cp:revision>
  <dc:subject/>
  <dc:title>Metamorphism and Metamorphic Rocks</dc:title>
</cp:coreProperties>
</file>