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15B-4890-461B-B646-32101582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770-0178-4A96-8613-FBB5E0DD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044-C4D8-4611-B7DC-AF0F697D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5DA-41C9-4DCA-A673-F6E6F277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5BB-C860-4650-8C68-F20B71A5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34B-8130-47D3-8FFA-672DD302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5ED-BF24-4C87-B710-5207865D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280-E2C3-40B1-BB9D-540B85FC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800-AFE1-4C2A-BCA1-2A9F2C9B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5D4-7DC5-4B7D-ADCF-6D99F1B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928-0938-4863-B6A2-EB04A35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4B5-2363-4F56-B9F1-11052486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A764-1D96-45F5-A3CD-7857B1EAE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kimages.com/discover/Home/Science/Earth-Sciences/Geology/Rocks/Metamorphic/Hornfels/Hornfels-2.html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smres.jmu.edu/geollab/Fichter/Wilson/volcrock.html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os.ubc.ca/courses/eosc221/meta/metac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FF02-8054-4BBC-9EA5-FB964E31B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Facies and Mineral Assemb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762120" y="5257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Regional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mfacies"/>
          <p:cNvPicPr/>
          <p:nvPr/>
        </p:nvPicPr>
        <p:blipFill>
          <a:blip r:embed="rId1"/>
          <a:stretch/>
        </p:blipFill>
        <p:spPr>
          <a:xfrm>
            <a:off x="2362320" y="2133720"/>
            <a:ext cx="47242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0930-E02D-4A40-8245-804C46607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10666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present reflect equilibrium P-T conditions for different protol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-T conditions increase (prograde metamorphism) minerals react with each other and with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inerals no longer stable; new minerals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lowgradeassembl.gif (19130 bytes)"/>
          <p:cNvPicPr/>
          <p:nvPr/>
        </p:nvPicPr>
        <p:blipFill>
          <a:blip r:embed="rId1"/>
          <a:stretch/>
        </p:blipFill>
        <p:spPr>
          <a:xfrm>
            <a:off x="304920" y="3197160"/>
            <a:ext cx="3809880" cy="335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jighergrade.gif (14383 bytes)"/>
          <p:cNvPicPr/>
          <p:nvPr/>
        </p:nvPicPr>
        <p:blipFill>
          <a:blip r:embed="rId2"/>
          <a:stretch/>
        </p:blipFill>
        <p:spPr>
          <a:xfrm>
            <a:off x="4495680" y="3233880"/>
            <a:ext cx="4419720" cy="3386160"/>
          </a:xfrm>
          <a:prstGeom prst="rect">
            <a:avLst/>
          </a:prstGeom>
          <a:ln w="0">
            <a:noFill/>
          </a:ln>
        </p:spPr>
      </p:pic>
      <p:sp>
        <p:nvSpPr>
          <p:cNvPr id="99" name="Line 10"/>
          <p:cNvSpPr/>
          <p:nvPr/>
        </p:nvSpPr>
        <p:spPr>
          <a:xfrm>
            <a:off x="3429000" y="3809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FD9F-0A8E-441A-B224-F65972CF6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Reactions and Critical Min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2280" y="1447920"/>
            <a:ext cx="4114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rock composition, some reactions occur under specific P-T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inerals with limited P-T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indicates certain metamorph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alu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lim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s of 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univarreact.gif (12921 bytes)"/>
          <p:cNvPicPr/>
          <p:nvPr/>
        </p:nvPicPr>
        <p:blipFill>
          <a:blip r:embed="rId1"/>
          <a:stretch/>
        </p:blipFill>
        <p:spPr>
          <a:xfrm>
            <a:off x="4343400" y="1666800"/>
            <a:ext cx="4533840" cy="3559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431240" y="5359320"/>
            <a:ext cx="446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&gt; 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Pyrophyllite       Ky or Andal   Qtz      fl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3405-1053-4628-BABC-3974071B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Isogr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14300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and appearance/disappearance of critical minerals can be used to determine P-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grad = “line” to indicate same grade of meta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ppearance of mineral of increasing metamorphic g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isograds"/>
          <p:cNvPicPr/>
          <p:nvPr/>
        </p:nvPicPr>
        <p:blipFill>
          <a:blip r:embed="rId1"/>
          <a:stretch/>
        </p:blipFill>
        <p:spPr>
          <a:xfrm>
            <a:off x="76320" y="3059280"/>
            <a:ext cx="5257800" cy="364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univarreact.gif (12921 bytes)"/>
          <p:cNvPicPr/>
          <p:nvPr/>
        </p:nvPicPr>
        <p:blipFill>
          <a:blip r:embed="rId2"/>
          <a:stretch/>
        </p:blipFill>
        <p:spPr>
          <a:xfrm>
            <a:off x="5486400" y="3295800"/>
            <a:ext cx="35812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937-D03E-4849-ACC8-5C647468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mblages, Facies, and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52280" y="1219320"/>
            <a:ext cx="8763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parent rock composition, mineral assemblage reflects P-T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facies_react.gif (52633 bytes)"/>
          <p:cNvPicPr/>
          <p:nvPr/>
        </p:nvPicPr>
        <p:blipFill>
          <a:blip r:embed="rId1"/>
          <a:stretch/>
        </p:blipFill>
        <p:spPr>
          <a:xfrm>
            <a:off x="152280" y="2212920"/>
            <a:ext cx="6019920" cy="4492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6172200" y="1981080"/>
            <a:ext cx="2819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different rocks metamorphosed under the same conditions indicate f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hanges between facies indicate series (and tectonic set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045-C9A3-45AE-A594-748D013A2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" y="4648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aureole = surrounding rocks metamorphosed by heat of intr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/shape of aureol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, temp, cooling history of the igneous intr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the country rock (conductivity, presence of wa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114800" y="1066680"/>
            <a:ext cx="4876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high geothermal gradient produced locally around intruding ma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to relatively shallow depths (low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generally not fol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fine grained rock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nf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ontactnh"/>
          <p:cNvPicPr/>
          <p:nvPr/>
        </p:nvPicPr>
        <p:blipFill>
          <a:blip r:embed="rId1"/>
          <a:stretch/>
        </p:blipFill>
        <p:spPr>
          <a:xfrm>
            <a:off x="152280" y="1143000"/>
            <a:ext cx="3895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B1AD-3718-47DF-9EDC-D3F96005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: Hornf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48520" y="1371600"/>
            <a:ext cx="281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assemblage characterized by hornfels facies se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ite-epidot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nblend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xen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id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mfacies"/>
          <p:cNvPicPr/>
          <p:nvPr/>
        </p:nvPicPr>
        <p:blipFill>
          <a:blip r:embed="rId1"/>
          <a:stretch/>
        </p:blipFill>
        <p:spPr>
          <a:xfrm>
            <a:off x="152280" y="95400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124" name="Line 7"/>
          <p:cNvSpPr/>
          <p:nvPr/>
        </p:nvSpPr>
        <p:spPr>
          <a:xfrm flipV="1">
            <a:off x="1143000" y="3733560"/>
            <a:ext cx="251460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5812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Hornfe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055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1752480" y="6172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yroxene hornf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pxhfacf"/>
          <p:cNvPicPr/>
          <p:nvPr/>
        </p:nvPicPr>
        <p:blipFill>
          <a:blip r:embed="rId4"/>
          <a:stretch/>
        </p:blipFill>
        <p:spPr>
          <a:xfrm>
            <a:off x="3962520" y="4541760"/>
            <a:ext cx="2805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DE3D-05A3-49DF-9F32-7BB860A9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: Sk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04920" y="106668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metamorphism of carbonate or siliceous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nvolves significant metasomatism (chemical exchange between magmatic fluids and r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hosts of Au, Cu, Fe, Mo, Sn, W, Zn-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restmore"/>
          <p:cNvPicPr/>
          <p:nvPr/>
        </p:nvPicPr>
        <p:blipFill>
          <a:blip r:embed="rId1"/>
          <a:stretch/>
        </p:blipFill>
        <p:spPr>
          <a:xfrm>
            <a:off x="2895480" y="3089160"/>
            <a:ext cx="6048360" cy="3587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Skarn1"/>
          <p:cNvPicPr/>
          <p:nvPr/>
        </p:nvPicPr>
        <p:blipFill>
          <a:blip r:embed="rId2"/>
          <a:stretch/>
        </p:blipFill>
        <p:spPr>
          <a:xfrm>
            <a:off x="228600" y="4782960"/>
            <a:ext cx="2438280" cy="1846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3"/>
          <p:cNvSpPr/>
          <p:nvPr/>
        </p:nvSpPr>
        <p:spPr>
          <a:xfrm>
            <a:off x="152280" y="3962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llastonite-garnet sk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0148-DB61-448B-BE66-3D9F38DC1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248520" y="1371600"/>
            <a:ext cx="28191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large areas of earth’s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during orogenic (mountain-building)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mfacies"/>
          <p:cNvPicPr/>
          <p:nvPr/>
        </p:nvPicPr>
        <p:blipFill>
          <a:blip r:embed="rId1"/>
          <a:stretch/>
        </p:blipFill>
        <p:spPr>
          <a:xfrm>
            <a:off x="152280" y="95400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V="1">
            <a:off x="1143000" y="3429000"/>
            <a:ext cx="21337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200400" y="32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52280" y="4876920"/>
            <a:ext cx="8534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iated rocks developed under med-high T and 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uch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arrov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developed under low-med T and high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anbagaw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Franci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V="1">
            <a:off x="1066680" y="3048120"/>
            <a:ext cx="243864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2"/>
          <p:cNvSpPr/>
          <p:nvPr/>
        </p:nvSpPr>
        <p:spPr>
          <a:xfrm>
            <a:off x="1052640" y="2965320"/>
            <a:ext cx="1157040" cy="7477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729" h="471">
                <a:moveTo>
                  <a:pt x="18" y="471"/>
                </a:moveTo>
                <a:cubicBezTo>
                  <a:pt x="21" y="384"/>
                  <a:pt x="0" y="289"/>
                  <a:pt x="35" y="209"/>
                </a:cubicBezTo>
                <a:cubicBezTo>
                  <a:pt x="45" y="186"/>
                  <a:pt x="77" y="163"/>
                  <a:pt x="96" y="148"/>
                </a:cubicBezTo>
                <a:cubicBezTo>
                  <a:pt x="127" y="124"/>
                  <a:pt x="159" y="101"/>
                  <a:pt x="192" y="78"/>
                </a:cubicBezTo>
                <a:cubicBezTo>
                  <a:pt x="195" y="76"/>
                  <a:pt x="258" y="62"/>
                  <a:pt x="262" y="61"/>
                </a:cubicBezTo>
                <a:cubicBezTo>
                  <a:pt x="303" y="49"/>
                  <a:pt x="343" y="38"/>
                  <a:pt x="384" y="26"/>
                </a:cubicBezTo>
                <a:cubicBezTo>
                  <a:pt x="411" y="18"/>
                  <a:pt x="435" y="0"/>
                  <a:pt x="463" y="0"/>
                </a:cubicBezTo>
                <a:cubicBezTo>
                  <a:pt x="524" y="0"/>
                  <a:pt x="585" y="0"/>
                  <a:pt x="646" y="0"/>
                </a:cubicBezTo>
                <a:lnTo>
                  <a:pt x="729" y="4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3"/>
          <p:cNvSpPr/>
          <p:nvPr/>
        </p:nvSpPr>
        <p:spPr>
          <a:xfrm>
            <a:off x="996840" y="1676520"/>
            <a:ext cx="1822680" cy="198108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148" h="1248">
                <a:moveTo>
                  <a:pt x="0" y="1248"/>
                </a:moveTo>
                <a:cubicBezTo>
                  <a:pt x="10" y="1166"/>
                  <a:pt x="35" y="1092"/>
                  <a:pt x="53" y="1012"/>
                </a:cubicBezTo>
                <a:cubicBezTo>
                  <a:pt x="56" y="997"/>
                  <a:pt x="62" y="966"/>
                  <a:pt x="70" y="951"/>
                </a:cubicBezTo>
                <a:cubicBezTo>
                  <a:pt x="91" y="910"/>
                  <a:pt x="170" y="829"/>
                  <a:pt x="210" y="803"/>
                </a:cubicBezTo>
                <a:cubicBezTo>
                  <a:pt x="221" y="796"/>
                  <a:pt x="235" y="793"/>
                  <a:pt x="245" y="785"/>
                </a:cubicBezTo>
                <a:cubicBezTo>
                  <a:pt x="306" y="736"/>
                  <a:pt x="355" y="673"/>
                  <a:pt x="411" y="620"/>
                </a:cubicBezTo>
                <a:cubicBezTo>
                  <a:pt x="421" y="585"/>
                  <a:pt x="439" y="583"/>
                  <a:pt x="463" y="559"/>
                </a:cubicBezTo>
                <a:cubicBezTo>
                  <a:pt x="503" y="519"/>
                  <a:pt x="529" y="464"/>
                  <a:pt x="585" y="445"/>
                </a:cubicBezTo>
                <a:cubicBezTo>
                  <a:pt x="608" y="380"/>
                  <a:pt x="575" y="458"/>
                  <a:pt x="620" y="401"/>
                </a:cubicBezTo>
                <a:cubicBezTo>
                  <a:pt x="657" y="355"/>
                  <a:pt x="576" y="384"/>
                  <a:pt x="664" y="323"/>
                </a:cubicBezTo>
                <a:cubicBezTo>
                  <a:pt x="710" y="291"/>
                  <a:pt x="758" y="258"/>
                  <a:pt x="812" y="244"/>
                </a:cubicBezTo>
                <a:cubicBezTo>
                  <a:pt x="821" y="238"/>
                  <a:pt x="831" y="234"/>
                  <a:pt x="838" y="227"/>
                </a:cubicBezTo>
                <a:cubicBezTo>
                  <a:pt x="846" y="220"/>
                  <a:pt x="848" y="208"/>
                  <a:pt x="856" y="201"/>
                </a:cubicBezTo>
                <a:cubicBezTo>
                  <a:pt x="886" y="175"/>
                  <a:pt x="922" y="152"/>
                  <a:pt x="960" y="140"/>
                </a:cubicBezTo>
                <a:cubicBezTo>
                  <a:pt x="978" y="128"/>
                  <a:pt x="995" y="117"/>
                  <a:pt x="1013" y="105"/>
                </a:cubicBezTo>
                <a:cubicBezTo>
                  <a:pt x="1028" y="95"/>
                  <a:pt x="1065" y="87"/>
                  <a:pt x="1065" y="87"/>
                </a:cubicBezTo>
                <a:cubicBezTo>
                  <a:pt x="1086" y="67"/>
                  <a:pt x="1078" y="76"/>
                  <a:pt x="1091" y="61"/>
                </a:cubicBezTo>
                <a:lnTo>
                  <a:pt x="114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133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50532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8195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F53D-37D6-498C-9B5F-0B90354C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: Barrov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” metamorphic series recognized in mountain belts world-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to high T; low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to hig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therm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mineral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oli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yrophyl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a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llima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al sequence (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itic rock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yl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n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es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hnite-pumpelly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een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phib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nu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sappalmeta"/>
          <p:cNvPicPr/>
          <p:nvPr/>
        </p:nvPicPr>
        <p:blipFill>
          <a:blip r:embed="rId1"/>
          <a:stretch/>
        </p:blipFill>
        <p:spPr>
          <a:xfrm>
            <a:off x="4114800" y="1558800"/>
            <a:ext cx="49528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387E-F4E2-4582-BB18-68B47340B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: Francis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800600" y="152388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; high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geotherm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irected stress (little de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d by presence of blue, sodic amphib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es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hnite-pumpelly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ue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clog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ransican.gif (49092 bytes)"/>
          <p:cNvPicPr/>
          <p:nvPr/>
        </p:nvPicPr>
        <p:blipFill>
          <a:blip r:embed="rId1"/>
          <a:srcRect l="0" t="0" r="0" b="8608"/>
          <a:stretch/>
        </p:blipFill>
        <p:spPr>
          <a:xfrm>
            <a:off x="152280" y="990720"/>
            <a:ext cx="455940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5211-5E88-4AB5-9074-4518D464B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primary goals of metamorphic petrology is to interpret P-T conditions under which a rock (or set of rocks)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tamorphic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temperature and pressure conditions under which metamorphic rocks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w-grade meta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~200 to 3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relative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t hydrous miner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igh-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&gt;3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nd relatively hig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hydration; less hydrou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s comm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and/or P, grad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sm increas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ro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and/or P, grade of metamorphism decreas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etagrade"/>
          <p:cNvPicPr/>
          <p:nvPr/>
        </p:nvPicPr>
        <p:blipFill>
          <a:blip r:embed="rId1"/>
          <a:stretch/>
        </p:blipFill>
        <p:spPr>
          <a:xfrm>
            <a:off x="3886200" y="2698920"/>
            <a:ext cx="513396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3752-F9FE-42B4-9B1A-F8D9C67D1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 and Tect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80880" y="1752480"/>
            <a:ext cx="8382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ovian (mod-high T and 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in orogenic belts at convergen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heat flow increased by upward movement of magma and migration of fl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ust faulting thickens crust, increasing pressure and directed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thermal gradient of ~20-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schist” (Franciscan) (low T and high 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 world-wide in orogenic belts of Phanerozoic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with subduction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subduction of oceanic crust depresses isoth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thermal gradient of ~10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C6B7-558A-4246-BBCD-C77D61A8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 and Tect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2280" y="1676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metamorphic belts – specific to subduction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volcr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6836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172200" y="22860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o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rocks beneath and around the 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due to magmat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sch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the mélange of the tre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22C-D5E7-4F70-AB96-106C02157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4920" y="16765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orking on maps and metamorphic phase diagrams for the home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6CAD-1F7B-40E1-BA63-75EE833AB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ssemblage Map"/>
          <p:cNvPicPr/>
          <p:nvPr/>
        </p:nvPicPr>
        <p:blipFill>
          <a:blip r:embed="rId1"/>
          <a:stretch/>
        </p:blipFill>
        <p:spPr>
          <a:xfrm>
            <a:off x="228600" y="1143000"/>
            <a:ext cx="4705200" cy="5376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Triangles"/>
          <p:cNvPicPr/>
          <p:nvPr/>
        </p:nvPicPr>
        <p:blipFill>
          <a:blip r:embed="rId2"/>
          <a:stretch/>
        </p:blipFill>
        <p:spPr>
          <a:xfrm>
            <a:off x="5180040" y="1143000"/>
            <a:ext cx="365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6E1F-08D3-4C8F-8E5E-79CFCCED7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P vs T plot"/>
          <p:cNvPicPr/>
          <p:nvPr/>
        </p:nvPicPr>
        <p:blipFill>
          <a:blip r:embed="rId1"/>
          <a:stretch/>
        </p:blipFill>
        <p:spPr>
          <a:xfrm>
            <a:off x="1600200" y="1447920"/>
            <a:ext cx="5838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50AB-57D3-4FC6-B293-9FA42DD28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etamorphic Fa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facies"/>
          <p:cNvPicPr/>
          <p:nvPr/>
        </p:nvPicPr>
        <p:blipFill>
          <a:blip r:embed="rId2"/>
          <a:stretch/>
        </p:blipFill>
        <p:spPr>
          <a:xfrm>
            <a:off x="152280" y="129528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248520" y="1295280"/>
            <a:ext cx="2743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 of rocks characterized by equilibrium mineral assemblage that reflect specific range of metamorphic (T-P)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52280" y="54100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assemblage present depends on protolith composi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-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marble, metabasalt and schist all in amphibolite fa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1764-B459-4DC4-89AF-02BAD96EF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facies"/>
          <p:cNvPicPr/>
          <p:nvPr/>
        </p:nvPicPr>
        <p:blipFill>
          <a:blip r:embed="rId1"/>
          <a:stretch/>
        </p:blipFill>
        <p:spPr>
          <a:xfrm>
            <a:off x="152280" y="129528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248520" y="1295280"/>
            <a:ext cx="2743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on or sequence of facies across a metamorphic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by field and experiment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52280" y="54100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eries – Hi T, low P = contact meta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Regional Series – Mod T &amp; P = Barro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egional Series – Lo T, hi P = Bluesch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V="1">
            <a:off x="990720" y="2133360"/>
            <a:ext cx="11430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1066680" y="2895480"/>
            <a:ext cx="2514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1066680" y="4343400"/>
            <a:ext cx="2514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5053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812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9810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6BF9-DB3F-4DD8-B7F6-E7BEF2DE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28600" y="1143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minerals present within a facies (P-T conditions) depends largely on protolith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assemblages can be shown on ternary phase diagrams (with some assumptions and simplif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nonsolidsolutiongeneraltrenary"/>
          <p:cNvPicPr/>
          <p:nvPr/>
        </p:nvPicPr>
        <p:blipFill>
          <a:blip r:embed="rId1"/>
          <a:stretch/>
        </p:blipFill>
        <p:spPr>
          <a:xfrm>
            <a:off x="228600" y="2867040"/>
            <a:ext cx="3886200" cy="3724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4419720" y="2895480"/>
            <a:ext cx="43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tical A-B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possible minerals can occur at this temp &amp;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 lines show pairs of minerals in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triangles show regions where sets of 3 minerals are stabl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ED69-1B80-44C3-860A-2E0043FF6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28600" y="1143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P-T conditions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the ti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of coexisting stable mineral assemb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chemical reactions between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nonsolidsolutiongeneraltrenary"/>
          <p:cNvPicPr/>
          <p:nvPr/>
        </p:nvPicPr>
        <p:blipFill>
          <a:blip r:embed="rId1"/>
          <a:stretch/>
        </p:blipFill>
        <p:spPr>
          <a:xfrm>
            <a:off x="228600" y="2867040"/>
            <a:ext cx="3886200" cy="372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onsolidsolutiongeneraltrenary2"/>
          <p:cNvPicPr/>
          <p:nvPr/>
        </p:nvPicPr>
        <p:blipFill>
          <a:blip r:embed="rId2"/>
          <a:stretch/>
        </p:blipFill>
        <p:spPr>
          <a:xfrm>
            <a:off x="4495680" y="2863800"/>
            <a:ext cx="3886200" cy="3737160"/>
          </a:xfrm>
          <a:prstGeom prst="rect">
            <a:avLst/>
          </a:prstGeom>
          <a:ln w="0">
            <a:noFill/>
          </a:ln>
        </p:spPr>
      </p:pic>
      <p:sp>
        <p:nvSpPr>
          <p:cNvPr id="75" name="Line 8"/>
          <p:cNvSpPr/>
          <p:nvPr/>
        </p:nvSpPr>
        <p:spPr>
          <a:xfrm>
            <a:off x="3276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048120" y="3062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2894760" y="342828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+ A2C  =&gt; 2A + 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B31F-A63E-4062-AE6D-7D0CCF51D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52280" y="11430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metamorphic rocks typically contain ~10 common elements (Si, Al, Mg, Fe, Ca, Na, K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o plot on ternar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components (assume present in r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components (e.g., Fe and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diagram to specific rock type (e.g., metabasalt, pel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cf_rock_compositions"/>
          <p:cNvPicPr/>
          <p:nvPr/>
        </p:nvPicPr>
        <p:blipFill>
          <a:blip r:embed="rId1"/>
          <a:stretch/>
        </p:blipFill>
        <p:spPr>
          <a:xfrm>
            <a:off x="228600" y="3581280"/>
            <a:ext cx="3200400" cy="3068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acf_diagram"/>
          <p:cNvPicPr/>
          <p:nvPr/>
        </p:nvPicPr>
        <p:blipFill>
          <a:blip r:embed="rId2"/>
          <a:stretch/>
        </p:blipFill>
        <p:spPr>
          <a:xfrm>
            <a:off x="3581280" y="3533760"/>
            <a:ext cx="4800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37BD-5E18-4F5B-812F-78A46B81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733920" y="1066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plotting most common metamorphic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quartz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Mg &amp; Fe freely sub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cf_rock_compositions"/>
          <p:cNvPicPr/>
          <p:nvPr/>
        </p:nvPicPr>
        <p:blipFill>
          <a:blip r:embed="rId1"/>
          <a:stretch/>
        </p:blipFill>
        <p:spPr>
          <a:xfrm>
            <a:off x="152280" y="990720"/>
            <a:ext cx="3353040" cy="321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cf_diagram"/>
          <p:cNvPicPr/>
          <p:nvPr/>
        </p:nvPicPr>
        <p:blipFill>
          <a:blip r:embed="rId2"/>
          <a:stretch/>
        </p:blipFill>
        <p:spPr>
          <a:xfrm>
            <a:off x="3581280" y="3160800"/>
            <a:ext cx="5334120" cy="3440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80880" y="4495680"/>
            <a:ext cx="2895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FeO + 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9BFA-DA8A-4B91-8921-4B65FB498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648320" y="1981080"/>
            <a:ext cx="4038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plotting mafic (metabasalt) rocks, pelites, and some meta-sand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iminates between Fe and Mg and allows for solid solution (tie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quartz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8600" y="5029200"/>
            <a:ext cx="2895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F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resolutioncrossingtielines"/>
          <p:cNvPicPr/>
          <p:nvPr/>
        </p:nvPicPr>
        <p:blipFill>
          <a:blip r:embed="rId1"/>
          <a:srcRect l="15508" t="47256" r="30102" b="0"/>
          <a:stretch/>
        </p:blipFill>
        <p:spPr>
          <a:xfrm>
            <a:off x="228600" y="1066680"/>
            <a:ext cx="4114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6:15:32Z</dcterms:created>
  <dc:creator>David A. Barnes</dc:creator>
  <dc:description/>
  <dc:language>en-US</dc:language>
  <cp:lastModifiedBy>ksu</cp:lastModifiedBy>
  <dcterms:modified xsi:type="dcterms:W3CDTF">2011-11-01T02:10:34Z</dcterms:modified>
  <cp:revision>19</cp:revision>
  <dc:subject/>
  <dc:title>Metamorphism and Metamorphic Rocks</dc:title>
</cp:coreProperties>
</file>