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271-9873-4FE6-AFFC-8FA5BD78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5BC-98EB-4A81-ADBD-E30C4C68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539-5E5F-416C-9AF1-9593080A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A1B-ADB3-4DEF-860B-8EE72BD7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590E-2710-487D-B36F-6ACCA15C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EFEF-19F9-4CBB-9E72-7115BDEC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0B74-9901-4737-BAC4-48AFB065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AF24-8DFE-4B38-8505-98C940BE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5774-707F-4A15-8BEB-A4EFC185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6EFD-279C-47F6-A730-E223A06B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3E7D-27C0-47F9-AAA9-E889FC58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E40-552E-4B1D-91CB-9BBFAC39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5F8F-5065-4AFC-A160-A14B3AA5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C44E-C0A6-45D5-BD67-15B97402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903E-AE7B-453E-8131-49831FA8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8DE2-A197-45D5-9287-B0FD86B1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B8C9-5476-41E7-8445-5274DE99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CDE1-7633-40DD-8712-703C5808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DB6A-4F82-4BEE-89CF-61CB8341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F21F-2982-428D-B038-14922F0E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9E98-D3F8-458F-A40E-6DDBE9FD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3C02-21BE-4989-99BA-F246BF45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C02-6355-46CC-84B0-BF9D60C9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3E2D-10B3-4E57-B8EB-7E43DE3E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B6D4-1E9B-42E4-A07A-0A1BFFF1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406C-33A0-45C1-87FB-9794351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50055-D699-4E43-B9FB-52429C9A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FDF9-57D4-4C55-9381-48CFE2A2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C36A-2A0D-4DC9-A1EA-8DC4CDAC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F60C-52E8-4727-AAD4-F3C03BC2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527A0-77B6-4565-8DB3-088BE3BD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1B65-219E-43EE-B285-90ED105F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4986-BF0C-45CA-BF2F-A6EEECD7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A3A-BA57-4C13-AA0D-46949897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BEA02-EBB6-4CCD-9AAE-486B53FD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7BF9-363D-4C65-8FF9-26FF5D56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461D-EF84-496C-8650-2ED450A3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4F41-5B41-4060-A8DE-FA223FD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61223-E8D1-419F-AC8F-E03947DF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B4BD7-39F1-4CA0-AA6F-2964E62C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7A3F-C675-4335-9178-1D21AFCF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7DC15-1FB7-45B5-BBF6-D7761FED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F3838-D331-493F-842D-865889AE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F1802-1874-4D28-A81E-A29FD1E0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FFA-DB76-4D90-AB9D-CC6256CA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F738A-EC6B-4B42-98C0-252C985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55074-4E77-4F56-9CF5-825B9AFC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8F71D-BFF0-4FCA-B6EC-2923C412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B564D-F567-4049-9431-192043F2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859D-FB0F-42BF-AD24-1F45ABC9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CB78D-B2A8-4767-AC96-6C1D10B9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157E2-CAAB-4FF9-B14E-B726EB2D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1CE00-A12A-42D2-A0C0-A42A2C31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0778-5E29-4118-AC7E-38E4C3A3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113CA-E922-43AC-8204-DDE1DBD0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184-13C0-44C3-83D1-2B263603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5BFCC-F141-43DE-AFAA-A3ABA8D8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B3C-1F92-4AB8-922F-EB2E221C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F28-3250-4560-995B-A7057441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A83-F227-416E-9507-D0AF638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7960" y="237960"/>
            <a:ext cx="11721960" cy="6382080"/>
            <a:chOff x="237960" y="237960"/>
            <a:chExt cx="11721960" cy="638208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19440" cy="63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469520" y="630684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9DD6F-F0AB-47E5-AAC3-389566A86BF5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8"/>
          <p:cNvGrpSpPr/>
          <p:nvPr/>
        </p:nvGrpSpPr>
        <p:grpSpPr>
          <a:xfrm>
            <a:off x="1255680" y="1212840"/>
            <a:ext cx="9680760" cy="4419720"/>
            <a:chOff x="1255680" y="1212840"/>
            <a:chExt cx="9680760" cy="441972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1255680" y="1212840"/>
              <a:ext cx="9680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3" name="Straight Connector 12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3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76965-3D30-4145-9672-431020E45633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7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98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8"/>
          <p:cNvGrpSpPr/>
          <p:nvPr/>
        </p:nvGrpSpPr>
        <p:grpSpPr>
          <a:xfrm>
            <a:off x="1255680" y="1212840"/>
            <a:ext cx="9680760" cy="4419720"/>
            <a:chOff x="1255680" y="1212840"/>
            <a:chExt cx="9680760" cy="4419720"/>
          </a:xfrm>
        </p:grpSpPr>
        <p:pic>
          <p:nvPicPr>
            <p:cNvPr id="101" name="Rectangle 8" descr=""/>
            <p:cNvPicPr/>
            <p:nvPr/>
          </p:nvPicPr>
          <p:blipFill>
            <a:blip r:embed="rId3"/>
            <a:stretch/>
          </p:blipFill>
          <p:spPr>
            <a:xfrm>
              <a:off x="1255680" y="1212840"/>
              <a:ext cx="9680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9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11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6" name="Straight Connector 12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13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14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8B13C-85B9-4CAB-B4CC-9D682B5AD856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246240" y="237960"/>
            <a:ext cx="8530920" cy="63820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93200" y="622260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7664F-CF59-4A66-BEF5-BDF7C2AF41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96440" y="6227280"/>
            <a:ext cx="14637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83A34-D4B9-48AB-9C73-7A6E5B7175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1680" y="2090880"/>
            <a:ext cx="906804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262626"/>
                </a:solidFill>
                <a:latin typeface="Century Gothic"/>
                <a:cs typeface="Tahoma"/>
              </a:rPr>
              <a:t>مفهوم الحاسب الالي </a:t>
            </a:r>
            <a:br>
              <a:rPr sz="7200"/>
            </a:br>
            <a:r>
              <a:rPr b="0" lang="ar-SA" sz="7200" spc="-1" strike="noStrike">
                <a:solidFill>
                  <a:srgbClr val="262626"/>
                </a:solidFill>
                <a:latin typeface="Century Gothic"/>
                <a:ea typeface="Tahoma"/>
              </a:rPr>
              <a:t> ومكوناته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5616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entury Gothic"/>
                <a:cs typeface="Tahoma"/>
              </a:rPr>
              <a:t>عال 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214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6160" y="1120680"/>
            <a:ext cx="90694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المكونات المادية المعدات</a:t>
            </a:r>
            <a:br>
              <a:rPr sz="1600"/>
            </a:b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Tahoma"/>
              </a:rPr>
              <a:t>لدراسة المكونات المادية للحاسب سنقوم بتشبيهها باإلنسان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فلو طلبنا من شخص أن يجمع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+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سيتم ذلك كالتالي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Flowchart: Connector 3"/>
          <p:cNvSpPr/>
          <p:nvPr/>
        </p:nvSpPr>
        <p:spPr>
          <a:xfrm>
            <a:off x="4327560" y="3632040"/>
            <a:ext cx="3038400" cy="1532160"/>
          </a:xfrm>
          <a:prstGeom prst="flowChartConnector">
            <a:avLst/>
          </a:prstGeom>
          <a:noFill/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Straight Connector 7"/>
          <p:cNvSpPr/>
          <p:nvPr/>
        </p:nvSpPr>
        <p:spPr>
          <a:xfrm flipH="1">
            <a:off x="4327560" y="4370400"/>
            <a:ext cx="3038400" cy="0"/>
          </a:xfrm>
          <a:prstGeom prst="line">
            <a:avLst/>
          </a:prstGeom>
          <a:ln w="64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Straight Connector 9"/>
          <p:cNvSpPr/>
          <p:nvPr/>
        </p:nvSpPr>
        <p:spPr>
          <a:xfrm>
            <a:off x="5827680" y="3632040"/>
            <a:ext cx="0" cy="765360"/>
          </a:xfrm>
          <a:prstGeom prst="line">
            <a:avLst/>
          </a:prstGeom>
          <a:ln w="64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5942160" y="385920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1+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4881600" y="385920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Tahoma"/>
              </a:rPr>
              <a:t>معالج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Flowchart: Connector 14"/>
          <p:cNvSpPr/>
          <p:nvPr/>
        </p:nvSpPr>
        <p:spPr>
          <a:xfrm>
            <a:off x="6362640" y="4397400"/>
            <a:ext cx="88920" cy="46080"/>
          </a:xfrm>
          <a:prstGeom prst="flowChartConnector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Flowchart: Connector 15"/>
          <p:cNvSpPr/>
          <p:nvPr/>
        </p:nvSpPr>
        <p:spPr>
          <a:xfrm>
            <a:off x="5207040" y="4411800"/>
            <a:ext cx="90360" cy="46080"/>
          </a:xfrm>
          <a:prstGeom prst="flowChartConnector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Flowchart: Connector 16"/>
          <p:cNvSpPr/>
          <p:nvPr/>
        </p:nvSpPr>
        <p:spPr>
          <a:xfrm>
            <a:off x="5802480" y="4626000"/>
            <a:ext cx="139680" cy="1191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8516160" y="3830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ذاكر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3238200" y="38307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عق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7966080" y="43704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بالعين أو األذن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2657520" y="4229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نطق باللسان أو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الكتابة بالي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Left Arrow 21"/>
          <p:cNvSpPr/>
          <p:nvPr/>
        </p:nvSpPr>
        <p:spPr>
          <a:xfrm>
            <a:off x="8104320" y="4179960"/>
            <a:ext cx="1068120" cy="230040"/>
          </a:xfrm>
          <a:prstGeom prst="leftArrow">
            <a:avLst>
              <a:gd name="adj1" fmla="val 50000"/>
              <a:gd name="adj2" fmla="val 49699"/>
            </a:avLst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Left Arrow 22"/>
          <p:cNvSpPr/>
          <p:nvPr/>
        </p:nvSpPr>
        <p:spPr>
          <a:xfrm rot="10800000">
            <a:off x="2948040" y="4098600"/>
            <a:ext cx="1069920" cy="230040"/>
          </a:xfrm>
          <a:prstGeom prst="leftArrow">
            <a:avLst>
              <a:gd name="adj1" fmla="val 50000"/>
              <a:gd name="adj2" fmla="val 49783"/>
            </a:avLst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Diagram 7" descr=""/>
          <p:cNvPicPr/>
          <p:nvPr/>
        </p:nvPicPr>
        <p:blipFill>
          <a:blip r:embed="rId1"/>
          <a:stretch/>
        </p:blipFill>
        <p:spPr>
          <a:xfrm>
            <a:off x="1219320" y="255600"/>
            <a:ext cx="97171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63480" y="1596960"/>
            <a:ext cx="9070920" cy="35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ea typeface="Tahoma"/>
              </a:rPr>
              <a:t> </a:t>
            </a: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المعالجة وحدة</a:t>
            </a:r>
            <a:r>
              <a:rPr b="0" lang="ar-SA" sz="1600" spc="-1" strike="noStrike">
                <a:solidFill>
                  <a:srgbClr val="ff0000"/>
                </a:solidFill>
                <a:latin typeface="Century Gothic"/>
                <a:ea typeface="Tahom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CENTRAL PROCESSING UNIT (CPU)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وحدة المعالجة تشبه عقل اإلنسان في عملها وتقوم بالتحكم في جميع العمليات الحسابية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والمنطقية، وتنقسم إلى: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*وحدة التحكم : وهي الجزء الذي يتحكم بجميع أجزاء الحاسب ومن خالله تصل التعليمات من جزء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إلى آخر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*وحدة الحساب والمنطق : وهي الجزء الذي يقوم بكل العمليات الحسابية والمنطقية في الحاسب</a:t>
            </a: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2000" spc="-1" strike="noStrike">
                <a:solidFill>
                  <a:srgbClr val="262626"/>
                </a:solidFill>
                <a:latin typeface="Century Gothic"/>
                <a:cs typeface="Tahoma"/>
              </a:rPr>
              <a:t>تقاس سرعة وحدة المعالجة بالهيرتز أو مضاعفاته، حيث: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cs typeface="Tahoma"/>
              </a:rPr>
              <a:t>كيلو هيرتز = </a:t>
            </a: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1000</a:t>
            </a: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 هيرتز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cs typeface="Tahoma"/>
              </a:rPr>
              <a:t>ميجا هيرتز = مليون هيرتز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cs typeface="Tahoma"/>
              </a:rPr>
              <a:t>جيجا هيرتز = بليون هيرتز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634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RAM :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العشوائي الوصول ذاكرة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RANDOM ACCESS MEMORY </a:t>
            </a: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ستخدم لالحتفاظ المؤقت بالبيانات أثناء تشغيل الجهاز والعمل عليه</a:t>
            </a: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وتفقد محتوياتها بمجرد إيقاف التشغيل أو انقطاع التيار الكهربائي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7863480" y="144792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وحدة الذاكرة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9" name="Diagram 4" descr=""/>
          <p:cNvPicPr/>
          <p:nvPr/>
        </p:nvPicPr>
        <p:blipFill>
          <a:blip r:embed="rId1"/>
          <a:stretch/>
        </p:blipFill>
        <p:spPr>
          <a:xfrm>
            <a:off x="1762200" y="1620720"/>
            <a:ext cx="3108240" cy="2854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https://encrypted-tbn2.gstatic.com/images?q=tbn:ANd9GcQGqvvCYB5xlRlQFLm1opuglVrke3f2Ddf0Zh1wQtsqoUc_3otl"/>
          <p:cNvPicPr/>
          <p:nvPr/>
        </p:nvPicPr>
        <p:blipFill>
          <a:blip r:embed="rId2"/>
          <a:stretch/>
        </p:blipFill>
        <p:spPr>
          <a:xfrm>
            <a:off x="3092400" y="3981600"/>
            <a:ext cx="1371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أوالً /المكونات المادية</a:t>
            </a:r>
            <a:br>
              <a:rPr sz="16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22760" y="3475080"/>
          <a:ext cx="3297240" cy="1071360"/>
        </p:xfrm>
        <a:graphic>
          <a:graphicData uri="http://schemas.openxmlformats.org/drawingml/2006/table">
            <a:tbl>
              <a:tblPr/>
              <a:tblGrid>
                <a:gridCol w="1663920"/>
                <a:gridCol w="163332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Tahoma"/>
                        </a:rPr>
                        <a:t>معال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Tahoma"/>
                        </a:rPr>
                        <a:t>1+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53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جهـــاز الحاسب اآل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3" name="Rectangle 4"/>
          <p:cNvSpPr/>
          <p:nvPr/>
        </p:nvSpPr>
        <p:spPr>
          <a:xfrm>
            <a:off x="7890120" y="4184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وحدات إدخا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3240360" y="4184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وحدات إخراج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8127000" y="3552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+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57840" y="3552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ROM </a:t>
            </a: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: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فقط القراءة ذاكرة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READ ONLY MEMORY </a:t>
            </a:r>
            <a:br>
              <a:rPr sz="1600"/>
            </a:b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تحتفظ بالبيانات األساسية التي يحتاجها الجهاز لبدء التشغيل ومعلومات عن الشركة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المصنعة وال تفقد محتوياتها عند إيقاف التشغيل أو إنقطاع الكهرباء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634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9" name="Diagram 6" descr=""/>
          <p:cNvPicPr/>
          <p:nvPr/>
        </p:nvPicPr>
        <p:blipFill>
          <a:blip r:embed="rId1"/>
          <a:stretch/>
        </p:blipFill>
        <p:spPr>
          <a:xfrm>
            <a:off x="1487520" y="1401840"/>
            <a:ext cx="310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63480" y="220968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وحدات قياس الذاكرة</a:t>
            </a:r>
            <a:br>
              <a:rPr sz="1600"/>
            </a:br>
            <a:r>
              <a:rPr b="0" lang="ar-SA" sz="1600" spc="-1" strike="noStrike">
                <a:solidFill>
                  <a:srgbClr val="ff0000"/>
                </a:solidFill>
                <a:latin typeface="Century Gothic"/>
                <a:ea typeface="Tahoma"/>
              </a:rPr>
              <a:t>-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لغة اآللة: صفر وواحد 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- 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1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بايت = 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8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بت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634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2" name="Picture 2" descr="http://eeecb.com/up2/uploads/images/domain-aa2174febb.jpg"/>
          <p:cNvPicPr/>
          <p:nvPr/>
        </p:nvPicPr>
        <p:blipFill>
          <a:blip r:embed="rId1"/>
          <a:stretch/>
        </p:blipFill>
        <p:spPr>
          <a:xfrm>
            <a:off x="1881360" y="2698920"/>
            <a:ext cx="6457680" cy="14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63480" y="2093400"/>
            <a:ext cx="9070920" cy="32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أي بيانات ندخلها للحاسب يقوم الحاسب بتحويلها إلى لغة اآللة المكونة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من صفر و واحد فقط )نبضات كهربائية(، وتسمى بت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BIT </a:t>
            </a:r>
            <a:br>
              <a:rPr sz="1600"/>
            </a:b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واحد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= يوجد كهرباء </a:t>
            </a:r>
            <a:br>
              <a:rPr sz="1600"/>
            </a:b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صفر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= لا يوجد كهرباء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- لتخزين حرف واحد أو رقم أو رمز نحتاج إلى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8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بت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8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BIT = 1 BYTE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بايت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1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= بت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8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-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- إذن، لتخزين حرف واحد أو رقم أو رمز نحتاج إلى بايت واحد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0"/>
          <p:cNvGrpSpPr/>
          <p:nvPr/>
        </p:nvGrpSpPr>
        <p:grpSpPr>
          <a:xfrm>
            <a:off x="3451320" y="480960"/>
            <a:ext cx="5445000" cy="461880"/>
            <a:chOff x="3451320" y="480960"/>
            <a:chExt cx="5445000" cy="461880"/>
          </a:xfrm>
        </p:grpSpPr>
        <p:sp>
          <p:nvSpPr>
            <p:cNvPr id="285" name="Rectangle 3"/>
            <p:cNvSpPr/>
            <p:nvPr/>
          </p:nvSpPr>
          <p:spPr>
            <a:xfrm>
              <a:off x="3451320" y="480960"/>
              <a:ext cx="5445000" cy="461880"/>
            </a:xfrm>
            <a:prstGeom prst="rect">
              <a:avLst/>
            </a:prstGeom>
            <a:solidFill>
              <a:srgbClr val="2176b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Rectangle 4"/>
            <p:cNvSpPr/>
            <p:nvPr/>
          </p:nvSpPr>
          <p:spPr>
            <a:xfrm>
              <a:off x="3451320" y="480960"/>
              <a:ext cx="54450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800" spc="-1" strike="noStrike">
                  <a:solidFill>
                    <a:srgbClr val="ffffff"/>
                  </a:solidFill>
                  <a:latin typeface="Century Gothic"/>
                  <a:cs typeface="Traditional Arabic"/>
                </a:rPr>
                <a:t>مكونات الحاسب</a:t>
              </a:r>
              <a:r>
                <a:rPr b="1" lang="ar-SA" sz="2800" spc="-1" strike="noStrike">
                  <a:solidFill>
                    <a:srgbClr val="ffffff"/>
                  </a:solidFill>
                  <a:latin typeface="Century Gothic"/>
                  <a:ea typeface="Traditional Arabic"/>
                </a:rPr>
                <a:t> الآلي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7" name="Group 13"/>
          <p:cNvGrpSpPr/>
          <p:nvPr/>
        </p:nvGrpSpPr>
        <p:grpSpPr>
          <a:xfrm>
            <a:off x="2921040" y="1200240"/>
            <a:ext cx="2770200" cy="852480"/>
            <a:chOff x="2921040" y="1200240"/>
            <a:chExt cx="2770200" cy="852480"/>
          </a:xfrm>
        </p:grpSpPr>
        <p:sp>
          <p:nvSpPr>
            <p:cNvPr id="288" name="Rectangle 6"/>
            <p:cNvSpPr/>
            <p:nvPr/>
          </p:nvSpPr>
          <p:spPr>
            <a:xfrm>
              <a:off x="2921040" y="1200240"/>
              <a:ext cx="2770200" cy="852480"/>
            </a:xfrm>
            <a:prstGeom prst="rect">
              <a:avLst/>
            </a:prstGeom>
            <a:solidFill>
              <a:srgbClr val="3085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2921040" y="1200240"/>
              <a:ext cx="2770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Century Gothic"/>
                  <a:cs typeface="Traditional Arabic"/>
                </a:rPr>
                <a:t>المكونات البرمجية (البرامج)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  <a:ea typeface="Traditional Arabic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"/>
          <p:cNvSpPr/>
          <p:nvPr/>
        </p:nvSpPr>
        <p:spPr>
          <a:xfrm>
            <a:off x="6014880" y="1200240"/>
            <a:ext cx="3375360" cy="852480"/>
          </a:xfrm>
          <a:prstGeom prst="rect">
            <a:avLst/>
          </a:prstGeom>
          <a:solidFill>
            <a:srgbClr val="3085c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4425840" y="13492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Rockwell"/>
                <a:cs typeface="Traditional Arabic"/>
              </a:rPr>
              <a:t>المكونات الماديّة (الأجهزة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  <a:ea typeface="Traditional Arabic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92" name="Group 24"/>
          <p:cNvGrpSpPr/>
          <p:nvPr/>
        </p:nvGrpSpPr>
        <p:grpSpPr>
          <a:xfrm>
            <a:off x="3451320" y="2216160"/>
            <a:ext cx="1211040" cy="606240"/>
            <a:chOff x="3451320" y="2216160"/>
            <a:chExt cx="1211040" cy="606240"/>
          </a:xfrm>
        </p:grpSpPr>
        <p:sp>
          <p:nvSpPr>
            <p:cNvPr id="293" name="Rectangle 13"/>
            <p:cNvSpPr/>
            <p:nvPr/>
          </p:nvSpPr>
          <p:spPr>
            <a:xfrm>
              <a:off x="3451320" y="2216160"/>
              <a:ext cx="121104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3451320" y="2216160"/>
              <a:ext cx="12110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أنظمة التشغيل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95" name="Group 27"/>
          <p:cNvGrpSpPr/>
          <p:nvPr/>
        </p:nvGrpSpPr>
        <p:grpSpPr>
          <a:xfrm>
            <a:off x="3451320" y="3075120"/>
            <a:ext cx="1211040" cy="606240"/>
            <a:chOff x="3451320" y="3075120"/>
            <a:chExt cx="1211040" cy="606240"/>
          </a:xfrm>
        </p:grpSpPr>
        <p:sp>
          <p:nvSpPr>
            <p:cNvPr id="296" name="Rectangle 16"/>
            <p:cNvSpPr/>
            <p:nvPr/>
          </p:nvSpPr>
          <p:spPr>
            <a:xfrm>
              <a:off x="3451320" y="3075120"/>
              <a:ext cx="121104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Rectangle 17"/>
            <p:cNvSpPr/>
            <p:nvPr/>
          </p:nvSpPr>
          <p:spPr>
            <a:xfrm>
              <a:off x="3451320" y="3075120"/>
              <a:ext cx="121104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البرامج التطبيقية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98" name="Group 28"/>
          <p:cNvGrpSpPr/>
          <p:nvPr/>
        </p:nvGrpSpPr>
        <p:grpSpPr>
          <a:xfrm>
            <a:off x="3451320" y="3813120"/>
            <a:ext cx="1211040" cy="606600"/>
            <a:chOff x="3451320" y="3813120"/>
            <a:chExt cx="1211040" cy="606600"/>
          </a:xfrm>
        </p:grpSpPr>
        <p:sp>
          <p:nvSpPr>
            <p:cNvPr id="299" name="Rectangle 19"/>
            <p:cNvSpPr/>
            <p:nvPr/>
          </p:nvSpPr>
          <p:spPr>
            <a:xfrm>
              <a:off x="3451320" y="3813120"/>
              <a:ext cx="121104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Rectangle 20"/>
            <p:cNvSpPr/>
            <p:nvPr/>
          </p:nvSpPr>
          <p:spPr>
            <a:xfrm>
              <a:off x="3451320" y="3813120"/>
              <a:ext cx="121104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لغات البرمجة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21"/>
          <p:cNvSpPr/>
          <p:nvPr/>
        </p:nvSpPr>
        <p:spPr>
          <a:xfrm>
            <a:off x="3451320" y="4805280"/>
            <a:ext cx="1211040" cy="606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959595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Century Gothic"/>
                <a:cs typeface="Traditional Arabic"/>
              </a:rPr>
              <a:t>البرامج المساعد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7070760" y="2220840"/>
            <a:ext cx="1212840" cy="606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959595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Century Gothic"/>
                <a:cs typeface="Traditional Arabic"/>
              </a:rPr>
              <a:t>البرامج المساعد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03" name="Group 45"/>
          <p:cNvGrpSpPr/>
          <p:nvPr/>
        </p:nvGrpSpPr>
        <p:grpSpPr>
          <a:xfrm>
            <a:off x="7070760" y="3075120"/>
            <a:ext cx="1211400" cy="606240"/>
            <a:chOff x="7070760" y="3075120"/>
            <a:chExt cx="1211400" cy="606240"/>
          </a:xfrm>
        </p:grpSpPr>
        <p:sp>
          <p:nvSpPr>
            <p:cNvPr id="304" name="Rectangle 24"/>
            <p:cNvSpPr/>
            <p:nvPr/>
          </p:nvSpPr>
          <p:spPr>
            <a:xfrm>
              <a:off x="7070760" y="3075120"/>
              <a:ext cx="121140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5" name="Rectangle 25"/>
            <p:cNvSpPr/>
            <p:nvPr/>
          </p:nvSpPr>
          <p:spPr>
            <a:xfrm>
              <a:off x="7070760" y="3075120"/>
              <a:ext cx="121140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وحدة الذاكرة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06" name="Group 48"/>
          <p:cNvGrpSpPr/>
          <p:nvPr/>
        </p:nvGrpSpPr>
        <p:grpSpPr>
          <a:xfrm>
            <a:off x="7070760" y="3846600"/>
            <a:ext cx="1211400" cy="604800"/>
            <a:chOff x="7070760" y="3846600"/>
            <a:chExt cx="1211400" cy="604800"/>
          </a:xfrm>
        </p:grpSpPr>
        <p:sp>
          <p:nvSpPr>
            <p:cNvPr id="307" name="Rectangle 27"/>
            <p:cNvSpPr/>
            <p:nvPr/>
          </p:nvSpPr>
          <p:spPr>
            <a:xfrm>
              <a:off x="7070760" y="3846600"/>
              <a:ext cx="1211400" cy="6048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8" name="Rectangle 28"/>
            <p:cNvSpPr/>
            <p:nvPr/>
          </p:nvSpPr>
          <p:spPr>
            <a:xfrm>
              <a:off x="7070760" y="3846600"/>
              <a:ext cx="1211400" cy="6048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وسائط التخزين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09" name="Group 51"/>
          <p:cNvGrpSpPr/>
          <p:nvPr/>
        </p:nvGrpSpPr>
        <p:grpSpPr>
          <a:xfrm>
            <a:off x="7070760" y="4781520"/>
            <a:ext cx="1211400" cy="606600"/>
            <a:chOff x="7070760" y="4781520"/>
            <a:chExt cx="1211400" cy="606600"/>
          </a:xfrm>
        </p:grpSpPr>
        <p:sp>
          <p:nvSpPr>
            <p:cNvPr id="310" name="Rectangle 30"/>
            <p:cNvSpPr/>
            <p:nvPr/>
          </p:nvSpPr>
          <p:spPr>
            <a:xfrm>
              <a:off x="7070760" y="4781520"/>
              <a:ext cx="121140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Rectangle 31"/>
            <p:cNvSpPr/>
            <p:nvPr/>
          </p:nvSpPr>
          <p:spPr>
            <a:xfrm>
              <a:off x="7070760" y="4781520"/>
              <a:ext cx="121140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وحدات الإدخال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12" name="Group 54"/>
          <p:cNvGrpSpPr/>
          <p:nvPr/>
        </p:nvGrpSpPr>
        <p:grpSpPr>
          <a:xfrm>
            <a:off x="7070760" y="5719680"/>
            <a:ext cx="1211400" cy="606600"/>
            <a:chOff x="7070760" y="5719680"/>
            <a:chExt cx="1211400" cy="606600"/>
          </a:xfrm>
        </p:grpSpPr>
        <p:sp>
          <p:nvSpPr>
            <p:cNvPr id="313" name="Rectangle 33"/>
            <p:cNvSpPr/>
            <p:nvPr/>
          </p:nvSpPr>
          <p:spPr>
            <a:xfrm>
              <a:off x="7070760" y="5719680"/>
              <a:ext cx="121140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Rectangle 34"/>
            <p:cNvSpPr/>
            <p:nvPr/>
          </p:nvSpPr>
          <p:spPr>
            <a:xfrm>
              <a:off x="7070760" y="5719680"/>
              <a:ext cx="121140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وحدات الإخراج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63480" y="2035080"/>
            <a:ext cx="90709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entury Gothic"/>
                <a:ea typeface="Tahoma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entury Gothic"/>
                <a:ea typeface="Tahoma"/>
              </a:rPr>
              <a:t>- ندخل إلى الحاسب اآللي درجات الطالبات الفصلية والنهائية</a:t>
            </a:r>
            <a:br>
              <a:rPr sz="2000"/>
            </a:br>
            <a:r>
              <a:rPr b="0" lang="ar-SA" sz="2000" spc="-1" strike="noStrike">
                <a:solidFill>
                  <a:srgbClr val="ff0000"/>
                </a:solidFill>
                <a:latin typeface="Century Gothic"/>
                <a:cs typeface="Tahoma"/>
              </a:rPr>
              <a:t>ويخرج المجموع والتقدير ويقوم بتخزين النتائج للرجوع لها عند الحاجة </a:t>
            </a:r>
            <a:br>
              <a:rPr sz="2000"/>
            </a:br>
            <a:r>
              <a:rPr b="0" lang="ar-SA" sz="2000" spc="-1" strike="noStrike">
                <a:solidFill>
                  <a:srgbClr val="002060"/>
                </a:solidFill>
                <a:latin typeface="Century Gothic"/>
                <a:ea typeface="Tahoma"/>
              </a:rPr>
              <a:t>2</a:t>
            </a:r>
            <a:r>
              <a:rPr b="0" lang="ar-SA" sz="2000" spc="-1" strike="noStrike">
                <a:solidFill>
                  <a:srgbClr val="002060"/>
                </a:solidFill>
                <a:latin typeface="Century Gothic"/>
                <a:ea typeface="Tahoma"/>
              </a:rPr>
              <a:t>- ندخل إلى الحاسب اآللي في آلة الصراف البطاقة والرقم السري فيقوم </a:t>
            </a:r>
            <a:br>
              <a:rPr sz="2000"/>
            </a:br>
            <a:r>
              <a:rPr b="0" lang="ar-SA" sz="2000" spc="-1" strike="noStrike">
                <a:solidFill>
                  <a:srgbClr val="002060"/>
                </a:solidFill>
                <a:latin typeface="Century Gothic"/>
                <a:cs typeface="Tahoma"/>
              </a:rPr>
              <a:t>بإخراج المبلغ الموجود في الحساب وآخر العمليات التي قمتي بها و يخزن </a:t>
            </a:r>
            <a:br>
              <a:rPr sz="2000"/>
            </a:br>
            <a:r>
              <a:rPr b="0" lang="ar-SA" sz="2000" spc="-1" strike="noStrike">
                <a:solidFill>
                  <a:srgbClr val="002060"/>
                </a:solidFill>
                <a:latin typeface="Century Gothic"/>
                <a:cs typeface="Tahoma"/>
              </a:rPr>
              <a:t>هذه المعلومات </a:t>
            </a:r>
            <a:br>
              <a:rPr sz="2000"/>
            </a:br>
            <a:r>
              <a:rPr b="0" lang="ar-SA" sz="2000" spc="-1" strike="noStrike">
                <a:solidFill>
                  <a:srgbClr val="2e663e"/>
                </a:solidFill>
                <a:latin typeface="Century Gothic"/>
                <a:ea typeface="Tahoma"/>
              </a:rPr>
              <a:t>3</a:t>
            </a:r>
            <a:r>
              <a:rPr b="0" lang="ar-SA" sz="2000" spc="-1" strike="noStrike">
                <a:solidFill>
                  <a:srgbClr val="2e663e"/>
                </a:solidFill>
                <a:latin typeface="Century Gothic"/>
                <a:ea typeface="Tahoma"/>
              </a:rPr>
              <a:t>- ندخل إلى الحاسب اآللي صورة ونقوم بتعديل األلوان فيخرج لنا الحاسب </a:t>
            </a:r>
            <a:br>
              <a:rPr sz="2000"/>
            </a:br>
            <a:r>
              <a:rPr b="0" lang="ar-SA" sz="2000" spc="-1" strike="noStrike">
                <a:solidFill>
                  <a:srgbClr val="2e663e"/>
                </a:solidFill>
                <a:latin typeface="Century Gothic"/>
                <a:cs typeface="Tahoma"/>
              </a:rPr>
              <a:t>الصورة بعد تعديلها ويخزنه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keyboard"/>
          <p:cNvPicPr/>
          <p:nvPr/>
        </p:nvPicPr>
        <p:blipFill>
          <a:blip r:embed="rId1"/>
          <a:stretch/>
        </p:blipFill>
        <p:spPr>
          <a:xfrm>
            <a:off x="2322360" y="1523880"/>
            <a:ext cx="3090960" cy="1225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barcode reader"/>
          <p:cNvPicPr/>
          <p:nvPr/>
        </p:nvPicPr>
        <p:blipFill>
          <a:blip r:embed="rId2"/>
          <a:stretch/>
        </p:blipFill>
        <p:spPr>
          <a:xfrm>
            <a:off x="7426440" y="2647800"/>
            <a:ext cx="2092320" cy="1764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light pen1"/>
          <p:cNvPicPr/>
          <p:nvPr/>
        </p:nvPicPr>
        <p:blipFill>
          <a:blip r:embed="rId3"/>
          <a:srcRect l="0" t="25309" r="0" b="0"/>
          <a:stretch/>
        </p:blipFill>
        <p:spPr>
          <a:xfrm>
            <a:off x="4178160" y="3683160"/>
            <a:ext cx="2444760" cy="189864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19"/>
          <p:cNvSpPr/>
          <p:nvPr/>
        </p:nvSpPr>
        <p:spPr>
          <a:xfrm>
            <a:off x="7350120" y="4400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قارئ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أعمدة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خطية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AutoShape 20"/>
          <p:cNvSpPr/>
          <p:nvPr/>
        </p:nvSpPr>
        <p:spPr>
          <a:xfrm>
            <a:off x="2682720" y="295128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لوحة المفاتيح-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فأرة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5205240" y="5619600"/>
            <a:ext cx="14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قلم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ضوئي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1711440" y="1357200"/>
            <a:ext cx="87627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683c6"/>
                </a:solidFill>
                <a:latin typeface="Lucida Sans Unicode"/>
                <a:cs typeface="Traditional Arabic"/>
              </a:rPr>
              <a:t>رابعًا: أجهزة الإدخال</a:t>
            </a:r>
            <a:r>
              <a:rPr b="1" lang="ar-SA" sz="3200" spc="-1" strike="noStrike">
                <a:solidFill>
                  <a:srgbClr val="2683c6"/>
                </a:solidFill>
                <a:latin typeface="Lucida Sans Unicode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2" name="Picture 2" descr="http://www.pctechnologiesusa.com/catalog/images/SCALAS-1.jpg"/>
          <p:cNvPicPr/>
          <p:nvPr/>
        </p:nvPicPr>
        <p:blipFill>
          <a:blip r:embed="rId4"/>
          <a:stretch/>
        </p:blipFill>
        <p:spPr>
          <a:xfrm>
            <a:off x="312840" y="3343320"/>
            <a:ext cx="2116080" cy="21160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2"/>
          <p:cNvSpPr/>
          <p:nvPr/>
        </p:nvSpPr>
        <p:spPr>
          <a:xfrm>
            <a:off x="425520" y="545940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cs typeface="Tahoma"/>
              </a:rPr>
              <a:t>قاري الاكوا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logitechFreedomJoystickWirelesss"/>
          <p:cNvPicPr/>
          <p:nvPr/>
        </p:nvPicPr>
        <p:blipFill>
          <a:blip r:embed="rId1"/>
          <a:stretch/>
        </p:blipFill>
        <p:spPr>
          <a:xfrm>
            <a:off x="5229360" y="3782880"/>
            <a:ext cx="2097000" cy="1452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PC_Web_Camera__350_000_pels_"/>
          <p:cNvPicPr/>
          <p:nvPr/>
        </p:nvPicPr>
        <p:blipFill>
          <a:blip r:embed="rId2"/>
          <a:stretch/>
        </p:blipFill>
        <p:spPr>
          <a:xfrm>
            <a:off x="2119320" y="3348000"/>
            <a:ext cx="2438280" cy="1689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microphone"/>
          <p:cNvPicPr/>
          <p:nvPr/>
        </p:nvPicPr>
        <p:blipFill>
          <a:blip r:embed="rId3"/>
          <a:stretch/>
        </p:blipFill>
        <p:spPr>
          <a:xfrm>
            <a:off x="8186760" y="3882960"/>
            <a:ext cx="1676520" cy="145728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19"/>
          <p:cNvSpPr/>
          <p:nvPr/>
        </p:nvSpPr>
        <p:spPr>
          <a:xfrm>
            <a:off x="7881840" y="53402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ميكرفون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AutoShape 19"/>
          <p:cNvSpPr/>
          <p:nvPr/>
        </p:nvSpPr>
        <p:spPr>
          <a:xfrm>
            <a:off x="5229360" y="5340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عصا الألعاب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AutoShape 19"/>
          <p:cNvSpPr/>
          <p:nvPr/>
        </p:nvSpPr>
        <p:spPr>
          <a:xfrm>
            <a:off x="2028960" y="5264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كاميرا الويب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1647720" y="1687680"/>
            <a:ext cx="87631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683c6"/>
                </a:solidFill>
                <a:latin typeface="Lucida Sans Unicode"/>
                <a:cs typeface="Traditional Arabic"/>
              </a:rPr>
              <a:t>رابعًا: أجهزة الإدخال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1776240" y="1582560"/>
            <a:ext cx="8998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وحدات اإلدخال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put Device 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تستخدم لنقل المعلومات )البيانات( من العالم الخارجي إلى الحاسب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لوحة المفاتيح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Keyboard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ice &amp; Touch screens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اللمس وشاشة الفأر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المواسح الضوئية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canner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لكاميرا والميكروفون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قارئ الرموز الخطية، يستخدم في المحالت التجارية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Barcode Reader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القلم الضوئي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Lightpen(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عصا اللعب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Joystick(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لوحة اللمس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Touchpad(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9358200" y="617400"/>
            <a:ext cx="29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وحدات ا</a:t>
            </a:r>
            <a:r>
              <a:rPr b="0" lang="ar-SA" sz="3600" spc="-1" strike="noStrike">
                <a:solidFill>
                  <a:srgbClr val="ff0000"/>
                </a:solidFill>
                <a:latin typeface="Century Gothic"/>
                <a:cs typeface="Tahoma"/>
              </a:rPr>
              <a:t>لإخر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اج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3" name="Picture 9" descr="inkjet printer"/>
          <p:cNvPicPr/>
          <p:nvPr/>
        </p:nvPicPr>
        <p:blipFill>
          <a:blip r:embed="rId1"/>
          <a:stretch/>
        </p:blipFill>
        <p:spPr>
          <a:xfrm>
            <a:off x="4975200" y="3184560"/>
            <a:ext cx="2233800" cy="26496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8" descr="dotmatrix printer"/>
          <p:cNvPicPr/>
          <p:nvPr/>
        </p:nvPicPr>
        <p:blipFill>
          <a:blip r:embed="rId2"/>
          <a:stretch/>
        </p:blipFill>
        <p:spPr>
          <a:xfrm>
            <a:off x="2236680" y="3197160"/>
            <a:ext cx="2171880" cy="263844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9" descr="laser printer"/>
          <p:cNvPicPr/>
          <p:nvPr/>
        </p:nvPicPr>
        <p:blipFill>
          <a:blip r:embed="rId3"/>
          <a:stretch/>
        </p:blipFill>
        <p:spPr>
          <a:xfrm>
            <a:off x="7805880" y="3197160"/>
            <a:ext cx="2031840" cy="258624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15"/>
          <p:cNvSpPr/>
          <p:nvPr/>
        </p:nvSpPr>
        <p:spPr>
          <a:xfrm rot="5400000">
            <a:off x="3086280" y="1710360"/>
            <a:ext cx="741600" cy="1428840"/>
          </a:xfrm>
          <a:custGeom>
            <a:avLst/>
            <a:gdLst>
              <a:gd name="textAreaLeft" fmla="*/ 0 w 741600"/>
              <a:gd name="textAreaRight" fmla="*/ 741960 w 7416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88" y="0"/>
                </a:lnTo>
                <a:lnTo>
                  <a:pt x="21600" y="10800"/>
                </a:lnTo>
                <a:lnTo>
                  <a:pt x="132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طابعة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نقطية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ea typeface="Traditional Arabic"/>
              </a:rPr>
              <a:t>(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ضاغطة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AutoShape 16"/>
          <p:cNvSpPr/>
          <p:nvPr/>
        </p:nvSpPr>
        <p:spPr>
          <a:xfrm rot="5400000">
            <a:off x="5753160" y="1710360"/>
            <a:ext cx="741600" cy="1428840"/>
          </a:xfrm>
          <a:custGeom>
            <a:avLst/>
            <a:gdLst>
              <a:gd name="textAreaLeft" fmla="*/ 0 w 741600"/>
              <a:gd name="textAreaRight" fmla="*/ 741960 w 7416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88" y="0"/>
                </a:lnTo>
                <a:lnTo>
                  <a:pt x="21600" y="10800"/>
                </a:lnTo>
                <a:lnTo>
                  <a:pt x="132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طابعة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حبر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نفاث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AutoShape 17"/>
          <p:cNvSpPr/>
          <p:nvPr/>
        </p:nvSpPr>
        <p:spPr>
          <a:xfrm rot="5400000">
            <a:off x="8480520" y="1710360"/>
            <a:ext cx="741600" cy="1428840"/>
          </a:xfrm>
          <a:custGeom>
            <a:avLst/>
            <a:gdLst>
              <a:gd name="textAreaLeft" fmla="*/ 0 w 741600"/>
              <a:gd name="textAreaRight" fmla="*/ 741960 w 7416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88" y="0"/>
                </a:lnTo>
                <a:lnTo>
                  <a:pt x="21600" y="10800"/>
                </a:lnTo>
                <a:lnTo>
                  <a:pt x="132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طابعة الليزر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0" descr="data show"/>
          <p:cNvPicPr/>
          <p:nvPr/>
        </p:nvPicPr>
        <p:blipFill>
          <a:blip r:embed="rId1"/>
          <a:stretch/>
        </p:blipFill>
        <p:spPr>
          <a:xfrm>
            <a:off x="3251160" y="3306600"/>
            <a:ext cx="2844720" cy="2319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speaker"/>
          <p:cNvPicPr/>
          <p:nvPr/>
        </p:nvPicPr>
        <p:blipFill>
          <a:blip r:embed="rId2"/>
          <a:stretch/>
        </p:blipFill>
        <p:spPr>
          <a:xfrm>
            <a:off x="7728120" y="3168720"/>
            <a:ext cx="2528640" cy="2441520"/>
          </a:xfrm>
          <a:prstGeom prst="rect">
            <a:avLst/>
          </a:prstGeom>
          <a:ln w="0">
            <a:noFill/>
          </a:ln>
        </p:spPr>
      </p:pic>
      <p:sp>
        <p:nvSpPr>
          <p:cNvPr id="341" name="Oval 16"/>
          <p:cNvSpPr/>
          <p:nvPr/>
        </p:nvSpPr>
        <p:spPr>
          <a:xfrm>
            <a:off x="7758000" y="5516640"/>
            <a:ext cx="187164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سماعات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3708360" y="5265720"/>
            <a:ext cx="187164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ojecto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جهاز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عرض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648320" y="2239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ومن أجهزة الإخراج أيضًا</a:t>
            </a:r>
            <a:r>
              <a:rPr b="0" lang="ar-SA" sz="2400" spc="-1" strike="noStrike">
                <a:solidFill>
                  <a:srgbClr val="0d0d0d"/>
                </a:solidFill>
                <a:latin typeface="Century Gothic"/>
                <a:ea typeface="Traditional Arab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1905120" y="868320"/>
            <a:ext cx="87627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Lucida Sans Unicode"/>
                <a:cs typeface="Traditional Arabic"/>
              </a:rPr>
              <a:t>تابع أجهزة الإخراج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2982960" y="1608120"/>
            <a:ext cx="708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وحدات ا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لإ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خراج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put Device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تستخدم لنقل المعلومات )البيانات( من الحاسب الى العالم الخارجي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Printers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الطابعة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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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السماعات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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الشاشة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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آلة العرض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)Projectors(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وحدات التخزين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DISKS :</a:t>
            </a: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(HARD DISK) 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الصلب القرص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 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وحدة التخزين الرئيسية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: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 - 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داخلي ، خارجي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- يأتي بسعات مختلفة: 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120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GB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،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80GB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،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40GB 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63480" y="2093400"/>
            <a:ext cx="9070920" cy="31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وحدات التخزين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DISKS :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FLOPPY DISK (FD)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المرن القرص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</a:t>
            </a:r>
            <a:br>
              <a:rPr sz="2400"/>
            </a:b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سعته التخزينية قليلة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1.44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MB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COMPACT DISK (CD)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المدمج القرص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</a:t>
            </a:r>
            <a:br>
              <a:rPr sz="2400"/>
            </a:b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سعته أكثر من القرص المرن </a:t>
            </a:r>
            <a:br>
              <a:rPr sz="2400"/>
            </a:b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- يأتي بسعات مختلفة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48" name="Picture 7" descr="CD"/>
          <p:cNvPicPr/>
          <p:nvPr/>
        </p:nvPicPr>
        <p:blipFill>
          <a:blip r:embed="rId1"/>
          <a:stretch/>
        </p:blipFill>
        <p:spPr>
          <a:xfrm>
            <a:off x="1700280" y="3389400"/>
            <a:ext cx="2128680" cy="1888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8" descr=""/>
          <p:cNvPicPr/>
          <p:nvPr/>
        </p:nvPicPr>
        <p:blipFill>
          <a:blip r:embed="rId2"/>
          <a:stretch/>
        </p:blipFill>
        <p:spPr>
          <a:xfrm>
            <a:off x="1884240" y="1539720"/>
            <a:ext cx="2186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323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اللوحة الام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MOTHER BOARD </a:t>
            </a:r>
            <a:br>
              <a:rPr sz="2800"/>
            </a:b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- 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هي لوحة تتكون من مجموعة كبيرة من الدوائر اإللكترونية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- سميت باألم ألنها تحمل معظم أجزاء الحاسب الداخلية 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- يوجد على هذه اللوحة األجزاء التالية: 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• المعالج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CPU </a:t>
            </a:r>
            <a:br>
              <a:rPr sz="2800"/>
            </a:b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 RAM &amp; ROM 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الذاكرتين •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• بعض المنافذ 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• أماكن لتركيب بطاقات التوسعة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best-motherboard.jpg"/>
          <p:cNvPicPr/>
          <p:nvPr/>
        </p:nvPicPr>
        <p:blipFill>
          <a:blip r:embed="rId1"/>
          <a:stretch/>
        </p:blipFill>
        <p:spPr>
          <a:xfrm>
            <a:off x="1650960" y="873000"/>
            <a:ext cx="827568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6600" y="1236600"/>
            <a:ext cx="9037800" cy="51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إذن الحاسب الآلي يعمل: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ندخل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بيانات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المعالجة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، أو التحليل بناء على تعليمات البرنامج 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الإخراج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تخرج معلومات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التخزين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262626"/>
                </a:solidFill>
                <a:latin typeface="Century Gothic"/>
                <a:cs typeface="Tahoma"/>
              </a:rPr>
              <a:t>نهاية المحاضرة</a:t>
            </a:r>
            <a:r>
              <a:rPr b="0" lang="ar-SA" sz="7200" spc="-1" strike="noStrike">
                <a:solidFill>
                  <a:srgbClr val="262626"/>
                </a:solidFill>
                <a:latin typeface="Century Gothic"/>
                <a:ea typeface="Tahoma"/>
              </a:rPr>
              <a:t>.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ww.teach-ict.com/gcse_computing/ocr/211_hardware_software/computer_system/miniweb/images/a-computer-system.jpg"/>
          <p:cNvPicPr/>
          <p:nvPr/>
        </p:nvPicPr>
        <p:blipFill>
          <a:blip r:embed="rId1"/>
          <a:stretch/>
        </p:blipFill>
        <p:spPr>
          <a:xfrm>
            <a:off x="2330280" y="1996920"/>
            <a:ext cx="70707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63480" y="1635120"/>
            <a:ext cx="9070920" cy="37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entury Gothic"/>
                <a:cs typeface="Tahoma"/>
              </a:rPr>
              <a:t>تعريف الحاسب اآللي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- كلمة كمبيوتر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PUTER 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مشتق من الفعل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PUTE 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بمعني يحسب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يعرف الحاسوب بأنه آلة حاسبة الكترونية ذات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سرعة عالية ودقة متناهية يمكنها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معالجة البيانات وتخزينها واسترجاعها وفقا لمجموعة من التعليمات و األوامر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للوصول للنتائج المطلوبة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.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61680" y="1790640"/>
            <a:ext cx="9068040" cy="28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3200" spc="-1" strike="noStrike">
                <a:solidFill>
                  <a:srgbClr val="262626"/>
                </a:solidFill>
                <a:latin typeface="Century Gothic"/>
                <a:cs typeface="Tahoma"/>
              </a:rPr>
              <a:t>هو جهاز الكتروني يستطيع ان يقوم بأداء العمليات الحسابية والمنطقية طبقا للتعليمات المعطاة )البرامج  بسرعة كبيرة وبدرجة عالية من الدقة، و له المقدرة على </a:t>
            </a:r>
            <a:br>
              <a:rPr sz="3200"/>
            </a:br>
            <a:r>
              <a:rPr b="0" lang="ar-SA" sz="3200" spc="-1" strike="noStrike">
                <a:solidFill>
                  <a:srgbClr val="262626"/>
                </a:solidFill>
                <a:latin typeface="Century Gothic"/>
                <a:ea typeface="Tahoma"/>
              </a:rPr>
              <a:t> التعامل مع كم هائل من البيانات. وكذلك تخزينها واسترجاعها عند الحاجة اليها</a:t>
            </a:r>
            <a:r>
              <a:rPr b="0" lang="ar-SA" sz="3200" spc="-1" strike="noStrike">
                <a:solidFill>
                  <a:srgbClr val="262626"/>
                </a:solidFill>
                <a:latin typeface="Century Gothic"/>
                <a:ea typeface="Tahoma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63480" y="1956960"/>
            <a:ext cx="9070920" cy="33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entury Gothic"/>
                <a:ea typeface="Tahoma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مزايا الحاسب الآلي</a:t>
            </a:r>
            <a:br>
              <a:rPr sz="2800"/>
            </a:br>
            <a:r>
              <a:rPr b="0" lang="ar-SA" sz="2000" spc="-1" strike="noStrike">
                <a:solidFill>
                  <a:srgbClr val="ff0000"/>
                </a:solidFill>
                <a:latin typeface="Century Gothic"/>
                <a:ea typeface="Tahoma"/>
              </a:rPr>
              <a:t>- السرعة: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سرعة إنجاز العمليات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سرعة دخول البيانات و استرجاع المعلومات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سرعة إجراء العمليات الحسابية و المنطقية المعقدة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- </a:t>
            </a:r>
            <a:r>
              <a:rPr b="0" lang="ar-SA" sz="2000" spc="-1" strike="noStrike">
                <a:solidFill>
                  <a:srgbClr val="ff0000"/>
                </a:solidFill>
                <a:latin typeface="Century Gothic"/>
                <a:cs typeface="Tahoma"/>
              </a:rPr>
              <a:t>اإلعتمادية: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ونعني بها قدرة الحاسب اآللي على أداء المهام بدقة عالية دون أخطاء أو ملل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مهما تكرر أداء هذه المهام </a:t>
            </a:r>
            <a:br>
              <a:rPr sz="2000"/>
            </a:br>
            <a:r>
              <a:rPr b="0" lang="ar-SA" sz="2000" spc="-1" strike="noStrike">
                <a:solidFill>
                  <a:srgbClr val="ff0000"/>
                </a:solidFill>
                <a:latin typeface="Century Gothic"/>
                <a:ea typeface="Tahoma"/>
              </a:rPr>
              <a:t>- التخزين: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يملك جهاز الحاسب اآللي القدرة على تخزين كميات كبيرة من البيانات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بنظام يجعل الرجوع إليها سريعا وسها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96280" y="1456920"/>
            <a:ext cx="319392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مم يتكون الحاسب اآللي؟</a:t>
            </a:r>
            <a:r>
              <a:rPr b="0" lang="ar-SA" sz="1600" spc="-1" strike="noStrike">
                <a:solidFill>
                  <a:srgbClr val="ff0000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46" name="Picture 2" descr="http://img94.imageshack.us/img94/4269/computercomponentsdiagr.jpg"/>
          <p:cNvPicPr/>
          <p:nvPr/>
        </p:nvPicPr>
        <p:blipFill>
          <a:blip r:embed="rId1"/>
          <a:stretch/>
        </p:blipFill>
        <p:spPr>
          <a:xfrm>
            <a:off x="2408400" y="1955880"/>
            <a:ext cx="75088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5700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62626"/>
                </a:solidFill>
                <a:latin typeface="Century Gothic"/>
                <a:cs typeface="Tahoma"/>
              </a:rPr>
              <a:t>مجموعة من األجهزة االلكترونية تسمي المعدات</a:t>
            </a:r>
            <a:r>
              <a:rPr b="0" lang="ar-SA" sz="3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HARDWARE 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ar-SA" sz="3600" spc="-1" strike="noStrike">
                <a:solidFill>
                  <a:srgbClr val="262626"/>
                </a:solidFill>
                <a:latin typeface="Century Gothic"/>
                <a:cs typeface="Tahoma"/>
              </a:rPr>
              <a:t>يتم التحكم في أدائها بواسطة مجموعة من  </a:t>
            </a:r>
            <a:br>
              <a:rPr sz="3600"/>
            </a:br>
            <a:r>
              <a:rPr b="0" lang="ar-SA" sz="3600" spc="-1" strike="noStrike">
                <a:solidFill>
                  <a:srgbClr val="262626"/>
                </a:solidFill>
                <a:latin typeface="Century Gothic"/>
                <a:ea typeface="Tahoma"/>
              </a:rPr>
              <a:t> البرمجيات</a:t>
            </a:r>
            <a:r>
              <a:rPr b="0" lang="ar-SA" sz="3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SOFTWARE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9:04:12Z</dcterms:created>
  <dc:creator>Toshiba</dc:creator>
  <dc:description/>
  <dc:language>en-US</dc:language>
  <cp:lastModifiedBy>Toshiba</cp:lastModifiedBy>
  <dcterms:modified xsi:type="dcterms:W3CDTF">2014-02-10T20:56:06Z</dcterms:modified>
  <cp:revision>13</cp:revision>
  <dc:subject/>
  <dc:title>مفهوم الحاسب الالي   ومكوناته</dc:title>
</cp:coreProperties>
</file>