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258-BCFB-4A5D-A8C9-CB2FB996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D10-D6FF-44F3-9A67-3A0B503B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FF2-2119-447F-9B6A-8FC814BA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AE0-80BA-4711-81FF-D6A902F1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2426-71DD-4F6A-A722-F4A75C08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A3AC-6A33-4668-9C26-CD70C082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FB29-2F70-4444-888D-905D5293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E15C-C3F3-4989-AA12-19F287EA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3DF9-5D70-4CC6-989D-1040FF05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21F0-7500-47A1-B828-F5C0C71F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9E65-8F26-42AE-AAC9-C1C53B40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689-50B7-4302-B9A9-5AE730BC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45A9-E13D-4B55-9746-B89249B2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52F8-52CC-4DD2-B60E-47FF52ED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D82A-F5AC-4E59-BDB3-AB24FBC8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7955-20D5-41E6-96B4-F384FB4C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2A00-6061-41D5-841A-B6700D12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C2DD2-1A76-49CF-93AC-F31C9CBB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8D92-87F2-4305-9A1F-FF74F374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E7606-A906-46D8-B13B-4AEBB793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838B7-C58D-4357-B083-94A7CF6B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92361-887B-4D7A-B0DF-32E3C873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728-F144-4BB8-B757-CF87F033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C0C3-FA3F-4007-8752-B77C2CC3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0635-2D7C-4C82-93A2-59BA4AE3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B3513-FCE8-48FB-AFA6-5E06523F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C968A-C207-467A-AE79-E98EDD1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B406-8261-4388-A07E-43817C5C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CB075-713E-408E-A618-3F2593A8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C214B-30E3-455E-ADA9-60558993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668C0-514A-43D9-97EC-2033A9CE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9E849-2A2B-4F0C-86F0-C9C5AF15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979A9-EA8F-4984-8344-F9063DCB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893-A6B6-45B7-8EEB-8733BF6E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33D24-CABC-400C-95EA-AB4D1616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4802A-46D4-45C0-AAC9-5C1BAC2B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38766-F58D-463A-A8C7-4D8F8578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5297D-88FD-4EC2-A22F-55473923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AE458-DA8B-4335-82E2-727902BD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B139-2C84-4E62-9A8C-951801A8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50682-CF76-4359-AE6A-6C2444BC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BDA3-73ED-4F96-B33B-3471A6F8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EB023-C554-42CC-AF2D-2BB5EBD2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D1C28-7E11-4635-8099-E1FE9D6F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39C-C61E-47B7-AE36-F7878F79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DB515-FE76-4AA8-BC71-271F85F0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87877-A169-4881-80C6-4885F964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F8827-9A13-4555-BEB0-AE7FF9CC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7877-C6F6-4949-9225-0E65A23B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3B8C3-4EC4-4A6F-B060-97299DD7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AD74D-A394-4AF1-87D8-49F8B43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61922-CDB0-4251-9A04-BB97D799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E8F7-D47D-4EDC-90C8-1D2BCB8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7B607-DA6D-4334-9EDC-44445849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FE104-01DF-4312-8116-D6DB565D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42960"/>
            <a:ext cx="10058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380-1DAF-4226-8E4B-503DD501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6760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868520" y="210312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06668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446760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7868520" y="4157280"/>
            <a:ext cx="323856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5340B-D0DE-4691-9ADC-E1B2263B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0E9D-00F0-4999-9A63-3B379D6C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20800" y="415728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AF3-88F1-4C5A-81B9-CCE8AD40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20800" y="2103120"/>
            <a:ext cx="4908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157280"/>
            <a:ext cx="100584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AF3-5ADA-41B9-B9C4-9649A7E5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237960" y="237960"/>
            <a:ext cx="11721960" cy="6382080"/>
            <a:chOff x="237960" y="237960"/>
            <a:chExt cx="11721960" cy="638208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240480" y="237960"/>
              <a:ext cx="11719440" cy="638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37960" y="237960"/>
              <a:ext cx="11719080" cy="638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0469520" y="6306840"/>
            <a:ext cx="1463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038CE-5EAC-41A8-B423-4B5623564A49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8"/>
          <p:cNvGrpSpPr/>
          <p:nvPr/>
        </p:nvGrpSpPr>
        <p:grpSpPr>
          <a:xfrm>
            <a:off x="1255680" y="1212840"/>
            <a:ext cx="9680760" cy="4419720"/>
            <a:chOff x="1255680" y="1212840"/>
            <a:chExt cx="9680760" cy="4419720"/>
          </a:xfrm>
        </p:grpSpPr>
        <p:pic>
          <p:nvPicPr>
            <p:cNvPr id="48" name="Rectangle 8" descr=""/>
            <p:cNvPicPr/>
            <p:nvPr/>
          </p:nvPicPr>
          <p:blipFill>
            <a:blip r:embed="rId3"/>
            <a:stretch/>
          </p:blipFill>
          <p:spPr>
            <a:xfrm>
              <a:off x="1255680" y="1212840"/>
              <a:ext cx="96807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9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53" name="Straight Connector 12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3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4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5317920" y="1341360"/>
            <a:ext cx="155556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454040" y="5211360"/>
            <a:ext cx="5905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07600" y="5211360"/>
            <a:ext cx="2111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C12A9-3DFB-4652-AA5B-2B09E759BE22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7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pic>
          <p:nvPicPr>
            <p:cNvPr id="98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192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8"/>
          <p:cNvGrpSpPr/>
          <p:nvPr/>
        </p:nvGrpSpPr>
        <p:grpSpPr>
          <a:xfrm>
            <a:off x="1255680" y="1212840"/>
            <a:ext cx="9680760" cy="4419720"/>
            <a:chOff x="1255680" y="1212840"/>
            <a:chExt cx="9680760" cy="4419720"/>
          </a:xfrm>
        </p:grpSpPr>
        <p:pic>
          <p:nvPicPr>
            <p:cNvPr id="101" name="Rectangle 8" descr=""/>
            <p:cNvPicPr/>
            <p:nvPr/>
          </p:nvPicPr>
          <p:blipFill>
            <a:blip r:embed="rId3"/>
            <a:stretch/>
          </p:blipFill>
          <p:spPr>
            <a:xfrm>
              <a:off x="1255680" y="1212840"/>
              <a:ext cx="96807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308240" y="1268280"/>
              <a:ext cx="9575640" cy="43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9"/>
          <p:cNvSpPr/>
          <p:nvPr/>
        </p:nvSpPr>
        <p:spPr>
          <a:xfrm>
            <a:off x="1447920" y="1411200"/>
            <a:ext cx="9296280" cy="40356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135400" y="1268280"/>
            <a:ext cx="1920960" cy="73044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11"/>
          <p:cNvGrpSpPr/>
          <p:nvPr/>
        </p:nvGrpSpPr>
        <p:grpSpPr>
          <a:xfrm>
            <a:off x="5249880" y="1268280"/>
            <a:ext cx="1692360" cy="644760"/>
            <a:chOff x="5249880" y="1268280"/>
            <a:chExt cx="1692360" cy="644760"/>
          </a:xfrm>
        </p:grpSpPr>
        <p:sp>
          <p:nvSpPr>
            <p:cNvPr id="106" name="Straight Connector 12"/>
            <p:cNvSpPr/>
            <p:nvPr/>
          </p:nvSpPr>
          <p:spPr>
            <a:xfrm>
              <a:off x="524988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13"/>
            <p:cNvSpPr/>
            <p:nvPr/>
          </p:nvSpPr>
          <p:spPr>
            <a:xfrm>
              <a:off x="6942240" y="1268280"/>
              <a:ext cx="0" cy="639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14"/>
            <p:cNvSpPr/>
            <p:nvPr/>
          </p:nvSpPr>
          <p:spPr>
            <a:xfrm>
              <a:off x="5249880" y="1913040"/>
              <a:ext cx="16923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321160" y="1344240"/>
            <a:ext cx="155592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453680" y="5211360"/>
            <a:ext cx="5907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04000" y="5211360"/>
            <a:ext cx="211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8AD05-CC51-4121-97CA-A8384299D153}" type="slidenum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246240" y="237960"/>
            <a:ext cx="8530920" cy="63820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393200" y="6222600"/>
            <a:ext cx="1463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B0196-316C-4CE8-BA5A-17A0E7AA7D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9020160" y="237960"/>
            <a:ext cx="2925720" cy="63820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9158400" y="374760"/>
            <a:ext cx="2651040" cy="610848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64296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066680" y="2103120"/>
            <a:ext cx="100584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74680" y="6306840"/>
            <a:ext cx="2743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489120" y="6306840"/>
            <a:ext cx="5213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10396440" y="6227280"/>
            <a:ext cx="146376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89B44-02B6-406C-8128-BFE3496B06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61680" y="2090880"/>
            <a:ext cx="906804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262626"/>
                </a:solidFill>
                <a:latin typeface="Century Gothic"/>
                <a:cs typeface="Tahoma"/>
              </a:rPr>
              <a:t>مفهوم الحاسب الالي </a:t>
            </a:r>
            <a:br>
              <a:rPr sz="7200"/>
            </a:br>
            <a:r>
              <a:rPr b="0" lang="ar-SA" sz="7200" spc="-1" strike="noStrike">
                <a:solidFill>
                  <a:srgbClr val="262626"/>
                </a:solidFill>
                <a:latin typeface="Century Gothic"/>
                <a:ea typeface="Tahoma"/>
              </a:rPr>
              <a:t> ومكوناته</a:t>
            </a: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5616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entury Gothic"/>
                <a:cs typeface="Tahoma"/>
              </a:rPr>
              <a:t>عال 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214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06160" y="1120680"/>
            <a:ext cx="906948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المكونات المادية المعدات</a:t>
            </a:r>
            <a:br>
              <a:rPr sz="1600"/>
            </a:b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Tahoma"/>
              </a:rPr>
              <a:t>لدراسة المكونات المادية للحاسب سنقوم بتشبيهها باإلنسان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فلو طلبنا من شخص أن يجمع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+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سيتم ذلك كالتالي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Flowchart: Connector 3"/>
          <p:cNvSpPr/>
          <p:nvPr/>
        </p:nvSpPr>
        <p:spPr>
          <a:xfrm>
            <a:off x="4327560" y="3632040"/>
            <a:ext cx="3038400" cy="1532160"/>
          </a:xfrm>
          <a:prstGeom prst="flowChartConnector">
            <a:avLst/>
          </a:prstGeom>
          <a:noFill/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Straight Connector 7"/>
          <p:cNvSpPr/>
          <p:nvPr/>
        </p:nvSpPr>
        <p:spPr>
          <a:xfrm flipH="1">
            <a:off x="4327560" y="4370400"/>
            <a:ext cx="3038400" cy="0"/>
          </a:xfrm>
          <a:prstGeom prst="line">
            <a:avLst/>
          </a:prstGeom>
          <a:ln w="64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Straight Connector 9"/>
          <p:cNvSpPr/>
          <p:nvPr/>
        </p:nvSpPr>
        <p:spPr>
          <a:xfrm>
            <a:off x="5827680" y="3632040"/>
            <a:ext cx="0" cy="765360"/>
          </a:xfrm>
          <a:prstGeom prst="line">
            <a:avLst/>
          </a:prstGeom>
          <a:ln w="64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TextBox 12"/>
          <p:cNvSpPr/>
          <p:nvPr/>
        </p:nvSpPr>
        <p:spPr>
          <a:xfrm>
            <a:off x="5942160" y="385920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1+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4881600" y="3859200"/>
            <a:ext cx="8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Tahoma"/>
              </a:rPr>
              <a:t>معالج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Flowchart: Connector 14"/>
          <p:cNvSpPr/>
          <p:nvPr/>
        </p:nvSpPr>
        <p:spPr>
          <a:xfrm>
            <a:off x="6362640" y="4397400"/>
            <a:ext cx="88920" cy="46080"/>
          </a:xfrm>
          <a:prstGeom prst="flowChartConnector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Flowchart: Connector 15"/>
          <p:cNvSpPr/>
          <p:nvPr/>
        </p:nvSpPr>
        <p:spPr>
          <a:xfrm>
            <a:off x="5207040" y="4411800"/>
            <a:ext cx="90360" cy="46080"/>
          </a:xfrm>
          <a:prstGeom prst="flowChartConnector">
            <a:avLst/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Flowchart: Connector 16"/>
          <p:cNvSpPr/>
          <p:nvPr/>
        </p:nvSpPr>
        <p:spPr>
          <a:xfrm>
            <a:off x="5802480" y="4626000"/>
            <a:ext cx="139680" cy="119160"/>
          </a:xfrm>
          <a:prstGeom prst="flowChartConnector">
            <a:avLst/>
          </a:prstGeom>
          <a:solidFill>
            <a:srgbClr val="ff0000"/>
          </a:solidFill>
          <a:ln w="1260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8516160" y="38307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ذاكر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3238200" y="383076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عق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7966080" y="437040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بالعين أو األذن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2657520" y="4229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نطق باللسان أو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الكتابة بالي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Left Arrow 21"/>
          <p:cNvSpPr/>
          <p:nvPr/>
        </p:nvSpPr>
        <p:spPr>
          <a:xfrm>
            <a:off x="8104320" y="4179960"/>
            <a:ext cx="1068120" cy="230040"/>
          </a:xfrm>
          <a:prstGeom prst="leftArrow">
            <a:avLst>
              <a:gd name="adj1" fmla="val 50000"/>
              <a:gd name="adj2" fmla="val 49699"/>
            </a:avLst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Left Arrow 22"/>
          <p:cNvSpPr/>
          <p:nvPr/>
        </p:nvSpPr>
        <p:spPr>
          <a:xfrm rot="10800000">
            <a:off x="2948040" y="4098600"/>
            <a:ext cx="1069920" cy="230040"/>
          </a:xfrm>
          <a:prstGeom prst="leftArrow">
            <a:avLst>
              <a:gd name="adj1" fmla="val 50000"/>
              <a:gd name="adj2" fmla="val 49783"/>
            </a:avLst>
          </a:prstGeom>
          <a:solidFill>
            <a:srgbClr val="1cade4"/>
          </a:solidFill>
          <a:ln w="1260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Diagram 7" descr=""/>
          <p:cNvPicPr/>
          <p:nvPr/>
        </p:nvPicPr>
        <p:blipFill>
          <a:blip r:embed="rId1"/>
          <a:stretch/>
        </p:blipFill>
        <p:spPr>
          <a:xfrm>
            <a:off x="1219320" y="255600"/>
            <a:ext cx="97171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63480" y="1596960"/>
            <a:ext cx="9070920" cy="357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entury Gothic"/>
                <a:ea typeface="Tahoma"/>
              </a:rPr>
              <a:t> </a:t>
            </a: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المعالجة وحدة</a:t>
            </a:r>
            <a:r>
              <a:rPr b="0" lang="ar-SA" sz="1600" spc="-1" strike="noStrike">
                <a:solidFill>
                  <a:srgbClr val="ff0000"/>
                </a:solidFill>
                <a:latin typeface="Century Gothic"/>
                <a:ea typeface="Tahoma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CENTRAL PROCESSING UNIT (CPU)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وحدة المعالجة تشبه عقل اإلنسان في عملها وتقوم بالتحكم في جميع العمليات الحسابية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والمنطقية، وتنقسم إلى: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*وحدة التحكم : وهي الجزء الذي يتحكم بجميع أجزاء الحاسب ومن خالله تصل التعليمات من جزء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إلى آخر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*وحدة الحساب والمنطق : وهي الجزء الذي يقوم بكل العمليات الحسابية والمنطقية في الحاسب</a:t>
            </a:r>
            <a:r>
              <a:rPr b="0" lang="ar-SA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- </a:t>
            </a:r>
            <a:r>
              <a:rPr b="0" lang="ar-SA" sz="2000" spc="-1" strike="noStrike">
                <a:solidFill>
                  <a:srgbClr val="262626"/>
                </a:solidFill>
                <a:latin typeface="Century Gothic"/>
                <a:cs typeface="Tahoma"/>
              </a:rPr>
              <a:t>تقاس سرعة وحدة المعالجة بالهيرتز أو مضاعفاته، حيث: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cs typeface="Tahoma"/>
              </a:rPr>
              <a:t>كيلو هيرتز = </a:t>
            </a: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1000</a:t>
            </a: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 هيرتز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cs typeface="Tahoma"/>
              </a:rPr>
              <a:t>ميجا هيرتز = مليون هيرتز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2000"/>
            </a:br>
            <a:r>
              <a:rPr b="0" lang="ar-SA" sz="2000" spc="-1" strike="noStrike">
                <a:solidFill>
                  <a:srgbClr val="262626"/>
                </a:solidFill>
                <a:latin typeface="Century Gothic"/>
                <a:cs typeface="Tahoma"/>
              </a:rPr>
              <a:t>جيجا هيرتز = بليون هيرتز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634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RAM :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العشوائي الوصول ذاكرة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RANDOM ACCESS MEMORY </a:t>
            </a:r>
            <a:br>
              <a:rPr sz="1800"/>
            </a:b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ستخدم لالحتفاظ المؤقت بالبيانات أثناء تشغيل الجهاز والعمل عليه</a:t>
            </a: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وتفقد محتوياتها بمجرد إيقاف التشغيل أو انقطاع التيار الكهربائي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7863480" y="144792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وحدة الذاكرة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9" name="Diagram 4" descr=""/>
          <p:cNvPicPr/>
          <p:nvPr/>
        </p:nvPicPr>
        <p:blipFill>
          <a:blip r:embed="rId1"/>
          <a:stretch/>
        </p:blipFill>
        <p:spPr>
          <a:xfrm>
            <a:off x="1762200" y="1620720"/>
            <a:ext cx="3108240" cy="28544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https://encrypted-tbn2.gstatic.com/images?q=tbn:ANd9GcQGqvvCYB5xlRlQFLm1opuglVrke3f2Ddf0Zh1wQtsqoUc_3otl"/>
          <p:cNvPicPr/>
          <p:nvPr/>
        </p:nvPicPr>
        <p:blipFill>
          <a:blip r:embed="rId2"/>
          <a:stretch/>
        </p:blipFill>
        <p:spPr>
          <a:xfrm>
            <a:off x="3092400" y="3981600"/>
            <a:ext cx="1371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أوالً /المكونات المادية</a:t>
            </a:r>
            <a:br>
              <a:rPr sz="1600"/>
            </a:b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22760" y="3475080"/>
          <a:ext cx="3297240" cy="1071360"/>
        </p:xfrm>
        <a:graphic>
          <a:graphicData uri="http://schemas.openxmlformats.org/drawingml/2006/table">
            <a:tbl>
              <a:tblPr/>
              <a:tblGrid>
                <a:gridCol w="1663920"/>
                <a:gridCol w="163332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Tahoma"/>
                        </a:rPr>
                        <a:t>معالج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ea typeface="Tahoma"/>
                        </a:rPr>
                        <a:t>1+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53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Tahoma"/>
                        </a:rPr>
                        <a:t>جهـــاز الحاسب اآل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3" name="Rectangle 4"/>
          <p:cNvSpPr/>
          <p:nvPr/>
        </p:nvSpPr>
        <p:spPr>
          <a:xfrm>
            <a:off x="7890120" y="4184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وحدات إدخا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3240360" y="41846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وحدات إخراج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8127000" y="35528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2+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957840" y="3552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entury Gothic"/>
              </a:rPr>
              <a:t>ROM </a:t>
            </a: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: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cs typeface="Tahoma"/>
              </a:rPr>
              <a:t>فقط القراءة ذاكرة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READ ONLY MEMORY </a:t>
            </a:r>
            <a:br>
              <a:rPr sz="1600"/>
            </a:b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cs typeface="Tahoma"/>
              </a:rPr>
              <a:t>تحتفظ بالبيانات األساسية التي يحتاجها الجهاز لبدء التشغيل ومعلومات عن الشركة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المصنعة وال تفقد محتوياتها عند إيقاف التشغيل أو إنقطاع الكهرباء</a:t>
            </a: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634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9" name="Diagram 6" descr=""/>
          <p:cNvPicPr/>
          <p:nvPr/>
        </p:nvPicPr>
        <p:blipFill>
          <a:blip r:embed="rId1"/>
          <a:stretch/>
        </p:blipFill>
        <p:spPr>
          <a:xfrm>
            <a:off x="1487520" y="1401840"/>
            <a:ext cx="31082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63480" y="220968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وحدات قياس الذاكرة</a:t>
            </a:r>
            <a:br>
              <a:rPr sz="1600"/>
            </a:br>
            <a:r>
              <a:rPr b="0" lang="ar-SA" sz="1600" spc="-1" strike="noStrike">
                <a:solidFill>
                  <a:srgbClr val="ff0000"/>
                </a:solidFill>
                <a:latin typeface="Century Gothic"/>
                <a:ea typeface="Tahoma"/>
              </a:rPr>
              <a:t>-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 لغة اآللة: صفر وواحد </a:t>
            </a:r>
            <a:br>
              <a:rPr sz="1600"/>
            </a:b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- 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1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 بايت = 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8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 بت</a:t>
            </a:r>
            <a:r>
              <a:rPr b="0" lang="ar-SA" sz="16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63480" y="4681440"/>
            <a:ext cx="907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2" name="Picture 2" descr="http://eeecb.com/up2/uploads/images/domain-aa2174febb.jpg"/>
          <p:cNvPicPr/>
          <p:nvPr/>
        </p:nvPicPr>
        <p:blipFill>
          <a:blip r:embed="rId1"/>
          <a:stretch/>
        </p:blipFill>
        <p:spPr>
          <a:xfrm>
            <a:off x="1881360" y="2698920"/>
            <a:ext cx="6457680" cy="14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63480" y="2093400"/>
            <a:ext cx="9070920" cy="32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-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cs typeface="Tahoma"/>
              </a:rPr>
              <a:t>أي بيانات ندخلها للحاسب يقوم الحاسب بتحويلها إلى لغة اآللة المكونة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cs typeface="Tahoma"/>
              </a:rPr>
              <a:t>من صفر و واحد فقط )نبضات كهربائية(، وتسمى بت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BIT </a:t>
            </a:r>
            <a:br>
              <a:rPr sz="1600"/>
            </a:b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واحد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= يوجد كهرباء </a:t>
            </a:r>
            <a:br>
              <a:rPr sz="1600"/>
            </a:b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صفر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= لا يوجد كهرباء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- لتخزين حرف واحد أو رقم أو رمز نحتاج إلى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8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بت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8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1600" spc="-1" strike="noStrike">
                <a:solidFill>
                  <a:srgbClr val="262626"/>
                </a:solidFill>
                <a:latin typeface="Century Gothic"/>
              </a:rPr>
              <a:t>BIT = 1 BYTE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cs typeface="Tahoma"/>
              </a:rPr>
              <a:t>بايت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1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= بت 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8</a:t>
            </a: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-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600"/>
            </a:br>
            <a:r>
              <a:rPr b="0" lang="ar-SA" sz="1600" spc="-1" strike="noStrike">
                <a:solidFill>
                  <a:srgbClr val="262626"/>
                </a:solidFill>
                <a:latin typeface="Century Gothic"/>
                <a:ea typeface="Tahoma"/>
              </a:rPr>
              <a:t>- إذن، لتخزين حرف واحد أو رقم أو رمز نحتاج إلى بايت واحد</a:t>
            </a: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0"/>
          <p:cNvGrpSpPr/>
          <p:nvPr/>
        </p:nvGrpSpPr>
        <p:grpSpPr>
          <a:xfrm>
            <a:off x="3451320" y="480960"/>
            <a:ext cx="5445000" cy="461880"/>
            <a:chOff x="3451320" y="480960"/>
            <a:chExt cx="5445000" cy="461880"/>
          </a:xfrm>
        </p:grpSpPr>
        <p:sp>
          <p:nvSpPr>
            <p:cNvPr id="285" name="Rectangle 3"/>
            <p:cNvSpPr/>
            <p:nvPr/>
          </p:nvSpPr>
          <p:spPr>
            <a:xfrm>
              <a:off x="3451320" y="480960"/>
              <a:ext cx="5445000" cy="461880"/>
            </a:xfrm>
            <a:prstGeom prst="rect">
              <a:avLst/>
            </a:prstGeom>
            <a:solidFill>
              <a:srgbClr val="2176b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Rectangle 4"/>
            <p:cNvSpPr/>
            <p:nvPr/>
          </p:nvSpPr>
          <p:spPr>
            <a:xfrm>
              <a:off x="3451320" y="480960"/>
              <a:ext cx="54450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800" spc="-1" strike="noStrike">
                  <a:solidFill>
                    <a:srgbClr val="ffffff"/>
                  </a:solidFill>
                  <a:latin typeface="Century Gothic"/>
                  <a:cs typeface="Traditional Arabic"/>
                </a:rPr>
                <a:t>مكونات الحاسب</a:t>
              </a:r>
              <a:r>
                <a:rPr b="1" lang="ar-SA" sz="2800" spc="-1" strike="noStrike">
                  <a:solidFill>
                    <a:srgbClr val="ffffff"/>
                  </a:solidFill>
                  <a:latin typeface="Century Gothic"/>
                  <a:ea typeface="Traditional Arabic"/>
                </a:rPr>
                <a:t> الآلي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7" name="Group 13"/>
          <p:cNvGrpSpPr/>
          <p:nvPr/>
        </p:nvGrpSpPr>
        <p:grpSpPr>
          <a:xfrm>
            <a:off x="2921040" y="1200240"/>
            <a:ext cx="2770200" cy="852480"/>
            <a:chOff x="2921040" y="1200240"/>
            <a:chExt cx="2770200" cy="852480"/>
          </a:xfrm>
        </p:grpSpPr>
        <p:sp>
          <p:nvSpPr>
            <p:cNvPr id="288" name="Rectangle 6"/>
            <p:cNvSpPr/>
            <p:nvPr/>
          </p:nvSpPr>
          <p:spPr>
            <a:xfrm>
              <a:off x="2921040" y="1200240"/>
              <a:ext cx="2770200" cy="852480"/>
            </a:xfrm>
            <a:prstGeom prst="rect">
              <a:avLst/>
            </a:prstGeom>
            <a:solidFill>
              <a:srgbClr val="3085c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Rectangle 7"/>
            <p:cNvSpPr/>
            <p:nvPr/>
          </p:nvSpPr>
          <p:spPr>
            <a:xfrm>
              <a:off x="2921040" y="1200240"/>
              <a:ext cx="2770200" cy="8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Century Gothic"/>
                  <a:cs typeface="Traditional Arabic"/>
                </a:rPr>
                <a:t>المكونات البرمجية (البرامج)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Century Gothic"/>
                  <a:ea typeface="Traditional Arabic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"/>
          <p:cNvSpPr/>
          <p:nvPr/>
        </p:nvSpPr>
        <p:spPr>
          <a:xfrm>
            <a:off x="6014880" y="1200240"/>
            <a:ext cx="3375360" cy="852480"/>
          </a:xfrm>
          <a:prstGeom prst="rect">
            <a:avLst/>
          </a:prstGeom>
          <a:solidFill>
            <a:srgbClr val="3085c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4425840" y="13492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Rockwell"/>
                <a:cs typeface="Traditional Arabic"/>
              </a:rPr>
              <a:t>المكونات الماديّة (الأجهزة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  <a:ea typeface="Traditional Arabic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92" name="Group 24"/>
          <p:cNvGrpSpPr/>
          <p:nvPr/>
        </p:nvGrpSpPr>
        <p:grpSpPr>
          <a:xfrm>
            <a:off x="3451320" y="2216160"/>
            <a:ext cx="1211040" cy="606240"/>
            <a:chOff x="3451320" y="2216160"/>
            <a:chExt cx="1211040" cy="606240"/>
          </a:xfrm>
        </p:grpSpPr>
        <p:sp>
          <p:nvSpPr>
            <p:cNvPr id="293" name="Rectangle 13"/>
            <p:cNvSpPr/>
            <p:nvPr/>
          </p:nvSpPr>
          <p:spPr>
            <a:xfrm>
              <a:off x="3451320" y="2216160"/>
              <a:ext cx="1211040" cy="606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Rectangle 14"/>
            <p:cNvSpPr/>
            <p:nvPr/>
          </p:nvSpPr>
          <p:spPr>
            <a:xfrm>
              <a:off x="3451320" y="2216160"/>
              <a:ext cx="121104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أنظمة التشغيل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95" name="Group 27"/>
          <p:cNvGrpSpPr/>
          <p:nvPr/>
        </p:nvGrpSpPr>
        <p:grpSpPr>
          <a:xfrm>
            <a:off x="3451320" y="3075120"/>
            <a:ext cx="1211040" cy="606240"/>
            <a:chOff x="3451320" y="3075120"/>
            <a:chExt cx="1211040" cy="606240"/>
          </a:xfrm>
        </p:grpSpPr>
        <p:sp>
          <p:nvSpPr>
            <p:cNvPr id="296" name="Rectangle 16"/>
            <p:cNvSpPr/>
            <p:nvPr/>
          </p:nvSpPr>
          <p:spPr>
            <a:xfrm>
              <a:off x="3451320" y="3075120"/>
              <a:ext cx="1211040" cy="606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Rectangle 17"/>
            <p:cNvSpPr/>
            <p:nvPr/>
          </p:nvSpPr>
          <p:spPr>
            <a:xfrm>
              <a:off x="3451320" y="3075120"/>
              <a:ext cx="1211040" cy="606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البرامج التطبيقية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98" name="Group 28"/>
          <p:cNvGrpSpPr/>
          <p:nvPr/>
        </p:nvGrpSpPr>
        <p:grpSpPr>
          <a:xfrm>
            <a:off x="3451320" y="3813120"/>
            <a:ext cx="1211040" cy="606600"/>
            <a:chOff x="3451320" y="3813120"/>
            <a:chExt cx="1211040" cy="606600"/>
          </a:xfrm>
        </p:grpSpPr>
        <p:sp>
          <p:nvSpPr>
            <p:cNvPr id="299" name="Rectangle 19"/>
            <p:cNvSpPr/>
            <p:nvPr/>
          </p:nvSpPr>
          <p:spPr>
            <a:xfrm>
              <a:off x="3451320" y="3813120"/>
              <a:ext cx="121104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Rectangle 20"/>
            <p:cNvSpPr/>
            <p:nvPr/>
          </p:nvSpPr>
          <p:spPr>
            <a:xfrm>
              <a:off x="3451320" y="3813120"/>
              <a:ext cx="121104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لغات البرمجة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21"/>
          <p:cNvSpPr/>
          <p:nvPr/>
        </p:nvSpPr>
        <p:spPr>
          <a:xfrm>
            <a:off x="3451320" y="4805280"/>
            <a:ext cx="1211040" cy="606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959595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Century Gothic"/>
                <a:cs typeface="Traditional Arabic"/>
              </a:rPr>
              <a:t>البرامج المساعد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7070760" y="2220840"/>
            <a:ext cx="1212840" cy="606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959595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000" spc="-1" strike="noStrike">
                <a:solidFill>
                  <a:srgbClr val="000000"/>
                </a:solidFill>
                <a:latin typeface="Century Gothic"/>
                <a:cs typeface="Traditional Arabic"/>
              </a:rPr>
              <a:t>البرامج المساعد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03" name="Group 45"/>
          <p:cNvGrpSpPr/>
          <p:nvPr/>
        </p:nvGrpSpPr>
        <p:grpSpPr>
          <a:xfrm>
            <a:off x="7070760" y="3075120"/>
            <a:ext cx="1211400" cy="606240"/>
            <a:chOff x="7070760" y="3075120"/>
            <a:chExt cx="1211400" cy="606240"/>
          </a:xfrm>
        </p:grpSpPr>
        <p:sp>
          <p:nvSpPr>
            <p:cNvPr id="304" name="Rectangle 24"/>
            <p:cNvSpPr/>
            <p:nvPr/>
          </p:nvSpPr>
          <p:spPr>
            <a:xfrm>
              <a:off x="7070760" y="3075120"/>
              <a:ext cx="1211400" cy="606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5" name="Rectangle 25"/>
            <p:cNvSpPr/>
            <p:nvPr/>
          </p:nvSpPr>
          <p:spPr>
            <a:xfrm>
              <a:off x="7070760" y="3075120"/>
              <a:ext cx="1211400" cy="6062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وحدة الذاكرة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06" name="Group 48"/>
          <p:cNvGrpSpPr/>
          <p:nvPr/>
        </p:nvGrpSpPr>
        <p:grpSpPr>
          <a:xfrm>
            <a:off x="7070760" y="3846600"/>
            <a:ext cx="1211400" cy="604800"/>
            <a:chOff x="7070760" y="3846600"/>
            <a:chExt cx="1211400" cy="604800"/>
          </a:xfrm>
        </p:grpSpPr>
        <p:sp>
          <p:nvSpPr>
            <p:cNvPr id="307" name="Rectangle 27"/>
            <p:cNvSpPr/>
            <p:nvPr/>
          </p:nvSpPr>
          <p:spPr>
            <a:xfrm>
              <a:off x="7070760" y="3846600"/>
              <a:ext cx="1211400" cy="6048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8" name="Rectangle 28"/>
            <p:cNvSpPr/>
            <p:nvPr/>
          </p:nvSpPr>
          <p:spPr>
            <a:xfrm>
              <a:off x="7070760" y="3846600"/>
              <a:ext cx="1211400" cy="6048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وسائط التخزين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09" name="Group 51"/>
          <p:cNvGrpSpPr/>
          <p:nvPr/>
        </p:nvGrpSpPr>
        <p:grpSpPr>
          <a:xfrm>
            <a:off x="7070760" y="4781520"/>
            <a:ext cx="1211400" cy="606600"/>
            <a:chOff x="7070760" y="4781520"/>
            <a:chExt cx="1211400" cy="606600"/>
          </a:xfrm>
        </p:grpSpPr>
        <p:sp>
          <p:nvSpPr>
            <p:cNvPr id="310" name="Rectangle 30"/>
            <p:cNvSpPr/>
            <p:nvPr/>
          </p:nvSpPr>
          <p:spPr>
            <a:xfrm>
              <a:off x="7070760" y="4781520"/>
              <a:ext cx="121140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Rectangle 31"/>
            <p:cNvSpPr/>
            <p:nvPr/>
          </p:nvSpPr>
          <p:spPr>
            <a:xfrm>
              <a:off x="7070760" y="4781520"/>
              <a:ext cx="121140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وحدات الإدخال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12" name="Group 54"/>
          <p:cNvGrpSpPr/>
          <p:nvPr/>
        </p:nvGrpSpPr>
        <p:grpSpPr>
          <a:xfrm>
            <a:off x="7070760" y="5719680"/>
            <a:ext cx="1211400" cy="606600"/>
            <a:chOff x="7070760" y="5719680"/>
            <a:chExt cx="1211400" cy="606600"/>
          </a:xfrm>
        </p:grpSpPr>
        <p:sp>
          <p:nvSpPr>
            <p:cNvPr id="313" name="Rectangle 33"/>
            <p:cNvSpPr/>
            <p:nvPr/>
          </p:nvSpPr>
          <p:spPr>
            <a:xfrm>
              <a:off x="7070760" y="5719680"/>
              <a:ext cx="121140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Rectangle 34"/>
            <p:cNvSpPr/>
            <p:nvPr/>
          </p:nvSpPr>
          <p:spPr>
            <a:xfrm>
              <a:off x="7070760" y="5719680"/>
              <a:ext cx="1211400" cy="6066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959595"/>
                </a:gs>
              </a:gsLst>
              <a:lin ang="5400000"/>
            </a:gra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LB" sz="2000" spc="-1" strike="noStrike">
                  <a:solidFill>
                    <a:srgbClr val="000000"/>
                  </a:solidFill>
                  <a:latin typeface="Century Gothic"/>
                  <a:cs typeface="Traditional Arabic"/>
                </a:rPr>
                <a:t>وحدات الإخراج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63480" y="2035080"/>
            <a:ext cx="90709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0000"/>
                </a:solidFill>
                <a:latin typeface="Century Gothic"/>
                <a:ea typeface="Tahoma"/>
              </a:rPr>
              <a:t>1</a:t>
            </a:r>
            <a:r>
              <a:rPr b="0" lang="ar-SA" sz="2000" spc="-1" strike="noStrike">
                <a:solidFill>
                  <a:srgbClr val="ff0000"/>
                </a:solidFill>
                <a:latin typeface="Century Gothic"/>
                <a:ea typeface="Tahoma"/>
              </a:rPr>
              <a:t>- ندخل إلى الحاسب اآللي درجات الطالبات الفصلية والنهائية</a:t>
            </a:r>
            <a:br>
              <a:rPr sz="2000"/>
            </a:br>
            <a:r>
              <a:rPr b="0" lang="ar-SA" sz="2000" spc="-1" strike="noStrike">
                <a:solidFill>
                  <a:srgbClr val="ff0000"/>
                </a:solidFill>
                <a:latin typeface="Century Gothic"/>
                <a:cs typeface="Tahoma"/>
              </a:rPr>
              <a:t>ويخرج المجموع والتقدير ويقوم بتخزين النتائج للرجوع لها عند الحاجة </a:t>
            </a:r>
            <a:br>
              <a:rPr sz="2000"/>
            </a:br>
            <a:r>
              <a:rPr b="0" lang="ar-SA" sz="2000" spc="-1" strike="noStrike">
                <a:solidFill>
                  <a:srgbClr val="002060"/>
                </a:solidFill>
                <a:latin typeface="Century Gothic"/>
                <a:ea typeface="Tahoma"/>
              </a:rPr>
              <a:t>2</a:t>
            </a:r>
            <a:r>
              <a:rPr b="0" lang="ar-SA" sz="2000" spc="-1" strike="noStrike">
                <a:solidFill>
                  <a:srgbClr val="002060"/>
                </a:solidFill>
                <a:latin typeface="Century Gothic"/>
                <a:ea typeface="Tahoma"/>
              </a:rPr>
              <a:t>- ندخل إلى الحاسب اآللي في آلة الصراف البطاقة والرقم السري فيقوم </a:t>
            </a:r>
            <a:br>
              <a:rPr sz="2000"/>
            </a:br>
            <a:r>
              <a:rPr b="0" lang="ar-SA" sz="2000" spc="-1" strike="noStrike">
                <a:solidFill>
                  <a:srgbClr val="002060"/>
                </a:solidFill>
                <a:latin typeface="Century Gothic"/>
                <a:cs typeface="Tahoma"/>
              </a:rPr>
              <a:t>بإخراج المبلغ الموجود في الحساب وآخر العمليات التي قمتي بها و يخزن </a:t>
            </a:r>
            <a:br>
              <a:rPr sz="2000"/>
            </a:br>
            <a:r>
              <a:rPr b="0" lang="ar-SA" sz="2000" spc="-1" strike="noStrike">
                <a:solidFill>
                  <a:srgbClr val="002060"/>
                </a:solidFill>
                <a:latin typeface="Century Gothic"/>
                <a:cs typeface="Tahoma"/>
              </a:rPr>
              <a:t>هذه المعلومات </a:t>
            </a:r>
            <a:br>
              <a:rPr sz="2000"/>
            </a:br>
            <a:r>
              <a:rPr b="0" lang="ar-SA" sz="2000" spc="-1" strike="noStrike">
                <a:solidFill>
                  <a:srgbClr val="2e663e"/>
                </a:solidFill>
                <a:latin typeface="Century Gothic"/>
                <a:ea typeface="Tahoma"/>
              </a:rPr>
              <a:t>3</a:t>
            </a:r>
            <a:r>
              <a:rPr b="0" lang="ar-SA" sz="2000" spc="-1" strike="noStrike">
                <a:solidFill>
                  <a:srgbClr val="2e663e"/>
                </a:solidFill>
                <a:latin typeface="Century Gothic"/>
                <a:ea typeface="Tahoma"/>
              </a:rPr>
              <a:t>- ندخل إلى الحاسب اآللي صورة ونقوم بتعديل األلوان فيخرج لنا الحاسب </a:t>
            </a:r>
            <a:br>
              <a:rPr sz="2000"/>
            </a:br>
            <a:r>
              <a:rPr b="0" lang="ar-SA" sz="2000" spc="-1" strike="noStrike">
                <a:solidFill>
                  <a:srgbClr val="2e663e"/>
                </a:solidFill>
                <a:latin typeface="Century Gothic"/>
                <a:cs typeface="Tahoma"/>
              </a:rPr>
              <a:t>الصورة بعد تعديلها ويخزنه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keyboard"/>
          <p:cNvPicPr/>
          <p:nvPr/>
        </p:nvPicPr>
        <p:blipFill>
          <a:blip r:embed="rId1"/>
          <a:stretch/>
        </p:blipFill>
        <p:spPr>
          <a:xfrm>
            <a:off x="2322360" y="1523880"/>
            <a:ext cx="3090960" cy="12258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barcode reader"/>
          <p:cNvPicPr/>
          <p:nvPr/>
        </p:nvPicPr>
        <p:blipFill>
          <a:blip r:embed="rId2"/>
          <a:stretch/>
        </p:blipFill>
        <p:spPr>
          <a:xfrm>
            <a:off x="7426440" y="2647800"/>
            <a:ext cx="2092320" cy="1764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7" descr="light pen1"/>
          <p:cNvPicPr/>
          <p:nvPr/>
        </p:nvPicPr>
        <p:blipFill>
          <a:blip r:embed="rId3"/>
          <a:srcRect l="0" t="25309" r="0" b="0"/>
          <a:stretch/>
        </p:blipFill>
        <p:spPr>
          <a:xfrm>
            <a:off x="4178160" y="3683160"/>
            <a:ext cx="2444760" cy="189864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19"/>
          <p:cNvSpPr/>
          <p:nvPr/>
        </p:nvSpPr>
        <p:spPr>
          <a:xfrm>
            <a:off x="7350120" y="4400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قارئ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أعمدة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خطية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AutoShape 20"/>
          <p:cNvSpPr/>
          <p:nvPr/>
        </p:nvSpPr>
        <p:spPr>
          <a:xfrm>
            <a:off x="2682720" y="295128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لوحة المفاتيح-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فأرة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5205240" y="5619600"/>
            <a:ext cx="141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قلم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ضوئي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1711440" y="1357200"/>
            <a:ext cx="87627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683c6"/>
                </a:solidFill>
                <a:latin typeface="Lucida Sans Unicode"/>
                <a:cs typeface="Traditional Arabic"/>
              </a:rPr>
              <a:t>رابعًا: أجهزة الإدخال</a:t>
            </a:r>
            <a:r>
              <a:rPr b="1" lang="ar-SA" sz="3200" spc="-1" strike="noStrike">
                <a:solidFill>
                  <a:srgbClr val="2683c6"/>
                </a:solidFill>
                <a:latin typeface="Lucida Sans Unicode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2" name="Picture 2" descr="http://www.pctechnologiesusa.com/catalog/images/SCALAS-1.jpg"/>
          <p:cNvPicPr/>
          <p:nvPr/>
        </p:nvPicPr>
        <p:blipFill>
          <a:blip r:embed="rId4"/>
          <a:stretch/>
        </p:blipFill>
        <p:spPr>
          <a:xfrm>
            <a:off x="312840" y="3343320"/>
            <a:ext cx="2116080" cy="211608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2"/>
          <p:cNvSpPr/>
          <p:nvPr/>
        </p:nvSpPr>
        <p:spPr>
          <a:xfrm>
            <a:off x="425520" y="545940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  <a:cs typeface="Tahoma"/>
              </a:rPr>
              <a:t>قاري الاكوا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logitechFreedomJoystickWirelesss"/>
          <p:cNvPicPr/>
          <p:nvPr/>
        </p:nvPicPr>
        <p:blipFill>
          <a:blip r:embed="rId1"/>
          <a:stretch/>
        </p:blipFill>
        <p:spPr>
          <a:xfrm>
            <a:off x="5229360" y="3782880"/>
            <a:ext cx="2097000" cy="1452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PC_Web_Camera__350_000_pels_"/>
          <p:cNvPicPr/>
          <p:nvPr/>
        </p:nvPicPr>
        <p:blipFill>
          <a:blip r:embed="rId2"/>
          <a:stretch/>
        </p:blipFill>
        <p:spPr>
          <a:xfrm>
            <a:off x="2119320" y="3348000"/>
            <a:ext cx="2438280" cy="1689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microphone"/>
          <p:cNvPicPr/>
          <p:nvPr/>
        </p:nvPicPr>
        <p:blipFill>
          <a:blip r:embed="rId3"/>
          <a:stretch/>
        </p:blipFill>
        <p:spPr>
          <a:xfrm>
            <a:off x="8186760" y="3882960"/>
            <a:ext cx="1676520" cy="145728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19"/>
          <p:cNvSpPr/>
          <p:nvPr/>
        </p:nvSpPr>
        <p:spPr>
          <a:xfrm>
            <a:off x="7881840" y="53402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ميكرفون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AutoShape 19"/>
          <p:cNvSpPr/>
          <p:nvPr/>
        </p:nvSpPr>
        <p:spPr>
          <a:xfrm>
            <a:off x="5229360" y="53402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عصا الألعاب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AutoShape 19"/>
          <p:cNvSpPr/>
          <p:nvPr/>
        </p:nvSpPr>
        <p:spPr>
          <a:xfrm>
            <a:off x="2028960" y="5264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كاميرا الويب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1647720" y="1687680"/>
            <a:ext cx="87631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2683c6"/>
                </a:solidFill>
                <a:latin typeface="Lucida Sans Unicode"/>
                <a:cs typeface="Traditional Arabic"/>
              </a:rPr>
              <a:t>رابعًا: أجهزة الإدخال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3"/>
          <p:cNvSpPr/>
          <p:nvPr/>
        </p:nvSpPr>
        <p:spPr>
          <a:xfrm>
            <a:off x="1776240" y="1582560"/>
            <a:ext cx="8998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وحدات اإلدخال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put Device 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تستخدم لنقل المعلومات )البيانات( من العالم الخارجي إلى الحاسب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لوحة المفاتيح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Keyboard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ice &amp; Touch screens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اللمس وشاشة الفأر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المواسح الضوئية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canner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لكاميرا والميكروفون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قارئ الرموز الخطية، يستخدم في المحالت التجارية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Barcode Reader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القلم الضوئي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Lightpen(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عصا اللعب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Joystick(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لوحة اللمس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)Touchpad(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9358200" y="617400"/>
            <a:ext cx="29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وحدات ا</a:t>
            </a:r>
            <a:r>
              <a:rPr b="0" lang="ar-SA" sz="3600" spc="-1" strike="noStrike">
                <a:solidFill>
                  <a:srgbClr val="ff0000"/>
                </a:solidFill>
                <a:latin typeface="Century Gothic"/>
                <a:cs typeface="Tahoma"/>
              </a:rPr>
              <a:t>لإخر</a:t>
            </a: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اج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3" name="Picture 9" descr="inkjet printer"/>
          <p:cNvPicPr/>
          <p:nvPr/>
        </p:nvPicPr>
        <p:blipFill>
          <a:blip r:embed="rId1"/>
          <a:stretch/>
        </p:blipFill>
        <p:spPr>
          <a:xfrm>
            <a:off x="4975200" y="3184560"/>
            <a:ext cx="2233800" cy="264960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8" descr="dotmatrix printer"/>
          <p:cNvPicPr/>
          <p:nvPr/>
        </p:nvPicPr>
        <p:blipFill>
          <a:blip r:embed="rId2"/>
          <a:stretch/>
        </p:blipFill>
        <p:spPr>
          <a:xfrm>
            <a:off x="2236680" y="3197160"/>
            <a:ext cx="2171880" cy="2638440"/>
          </a:xfrm>
          <a:prstGeom prst="rect">
            <a:avLst/>
          </a:prstGeom>
          <a:ln w="0">
            <a:noFill/>
          </a:ln>
        </p:spPr>
      </p:pic>
      <p:pic>
        <p:nvPicPr>
          <p:cNvPr id="335" name="Content Placeholder 9" descr="laser printer"/>
          <p:cNvPicPr/>
          <p:nvPr/>
        </p:nvPicPr>
        <p:blipFill>
          <a:blip r:embed="rId3"/>
          <a:stretch/>
        </p:blipFill>
        <p:spPr>
          <a:xfrm>
            <a:off x="7805880" y="3197160"/>
            <a:ext cx="2031840" cy="258624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15"/>
          <p:cNvSpPr/>
          <p:nvPr/>
        </p:nvSpPr>
        <p:spPr>
          <a:xfrm rot="5400000">
            <a:off x="3086280" y="1710360"/>
            <a:ext cx="741600" cy="1428840"/>
          </a:xfrm>
          <a:custGeom>
            <a:avLst/>
            <a:gdLst>
              <a:gd name="textAreaLeft" fmla="*/ 0 w 741600"/>
              <a:gd name="textAreaRight" fmla="*/ 741960 w 7416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88" y="0"/>
                </a:lnTo>
                <a:lnTo>
                  <a:pt x="21600" y="10800"/>
                </a:lnTo>
                <a:lnTo>
                  <a:pt x="132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طابعة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نقطية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ea typeface="Traditional Arabic"/>
              </a:rPr>
              <a:t>(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ضاغطة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ea typeface="Traditional Arab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AutoShape 16"/>
          <p:cNvSpPr/>
          <p:nvPr/>
        </p:nvSpPr>
        <p:spPr>
          <a:xfrm rot="5400000">
            <a:off x="5753160" y="1710360"/>
            <a:ext cx="741600" cy="1428840"/>
          </a:xfrm>
          <a:custGeom>
            <a:avLst/>
            <a:gdLst>
              <a:gd name="textAreaLeft" fmla="*/ 0 w 741600"/>
              <a:gd name="textAreaRight" fmla="*/ 741960 w 7416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88" y="0"/>
                </a:lnTo>
                <a:lnTo>
                  <a:pt x="21600" y="10800"/>
                </a:lnTo>
                <a:lnTo>
                  <a:pt x="132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طابعة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حبر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نفاث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AutoShape 17"/>
          <p:cNvSpPr/>
          <p:nvPr/>
        </p:nvSpPr>
        <p:spPr>
          <a:xfrm rot="5400000">
            <a:off x="8480520" y="1710360"/>
            <a:ext cx="741600" cy="1428840"/>
          </a:xfrm>
          <a:custGeom>
            <a:avLst/>
            <a:gdLst>
              <a:gd name="textAreaLeft" fmla="*/ 0 w 741600"/>
              <a:gd name="textAreaRight" fmla="*/ 741960 w 74160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88" y="0"/>
                </a:lnTo>
                <a:lnTo>
                  <a:pt x="21600" y="10800"/>
                </a:lnTo>
                <a:lnTo>
                  <a:pt x="132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2683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طابعة الليزر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0" descr="data show"/>
          <p:cNvPicPr/>
          <p:nvPr/>
        </p:nvPicPr>
        <p:blipFill>
          <a:blip r:embed="rId1"/>
          <a:stretch/>
        </p:blipFill>
        <p:spPr>
          <a:xfrm>
            <a:off x="3251160" y="3306600"/>
            <a:ext cx="2844720" cy="2319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speaker"/>
          <p:cNvPicPr/>
          <p:nvPr/>
        </p:nvPicPr>
        <p:blipFill>
          <a:blip r:embed="rId2"/>
          <a:stretch/>
        </p:blipFill>
        <p:spPr>
          <a:xfrm>
            <a:off x="7728120" y="3168720"/>
            <a:ext cx="2528640" cy="2441520"/>
          </a:xfrm>
          <a:prstGeom prst="rect">
            <a:avLst/>
          </a:prstGeom>
          <a:ln w="0">
            <a:noFill/>
          </a:ln>
        </p:spPr>
      </p:pic>
      <p:sp>
        <p:nvSpPr>
          <p:cNvPr id="341" name="Oval 16"/>
          <p:cNvSpPr/>
          <p:nvPr/>
        </p:nvSpPr>
        <p:spPr>
          <a:xfrm>
            <a:off x="7758000" y="5516640"/>
            <a:ext cx="187164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peak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سماعات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Oval 17"/>
          <p:cNvSpPr/>
          <p:nvPr/>
        </p:nvSpPr>
        <p:spPr>
          <a:xfrm>
            <a:off x="3708360" y="5265720"/>
            <a:ext cx="1871640" cy="93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ojecto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جهاز</a:t>
            </a:r>
            <a:r>
              <a:rPr b="0" lang="ar-L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LB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العرض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648320" y="2239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d0d0d"/>
                </a:solidFill>
                <a:latin typeface="Century Gothic"/>
                <a:cs typeface="Traditional Arabic"/>
              </a:rPr>
              <a:t>ومن أجهزة الإخراج أيضًا</a:t>
            </a:r>
            <a:r>
              <a:rPr b="0" lang="ar-SA" sz="2400" spc="-1" strike="noStrike">
                <a:solidFill>
                  <a:srgbClr val="0d0d0d"/>
                </a:solidFill>
                <a:latin typeface="Century Gothic"/>
                <a:ea typeface="Traditional Arab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1905120" y="868320"/>
            <a:ext cx="87627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Lucida Sans Unicode"/>
                <a:cs typeface="Traditional Arabic"/>
              </a:rPr>
              <a:t>تابع أجهزة الإخراج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2982960" y="1608120"/>
            <a:ext cx="708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وحدات ا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لإ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خراج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put Device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تستخدم لنقل المعلومات )البيانات( من الحاسب الى العالم الخارجي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Printers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الطابعة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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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السماعات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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الشاشة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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آلة العرض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)Projectors(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وحدات التخزين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DISKS :</a:t>
            </a:r>
            <a:br>
              <a:rPr sz="1800"/>
            </a:b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 (HARD DISK) 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الصلب القرص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 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وحدة التخزين الرئيسية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: 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 - 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cs typeface="Tahoma"/>
              </a:rPr>
              <a:t>داخلي ، خارجي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1800"/>
            </a:b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 - يأتي بسعات مختلفة: </a:t>
            </a:r>
            <a:r>
              <a:rPr b="0" lang="ar-SA" sz="1800" spc="-1" strike="noStrike">
                <a:solidFill>
                  <a:srgbClr val="262626"/>
                </a:solidFill>
                <a:latin typeface="Century Gothic"/>
                <a:ea typeface="Tahoma"/>
              </a:rPr>
              <a:t>120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GB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،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80GB 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،</a:t>
            </a:r>
            <a:r>
              <a:rPr b="0" lang="en-US" sz="1800" spc="-1" strike="noStrike">
                <a:solidFill>
                  <a:srgbClr val="262626"/>
                </a:solidFill>
                <a:latin typeface="Century Gothic"/>
              </a:rPr>
              <a:t>40GB 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63480" y="2093400"/>
            <a:ext cx="9070920" cy="31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entury Gothic"/>
                <a:cs typeface="Tahoma"/>
              </a:rPr>
              <a:t>وحدات التخزين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DISKS :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 FLOPPY DISK (FD)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cs typeface="Tahoma"/>
              </a:rPr>
              <a:t>المرن القرص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</a:t>
            </a:r>
            <a:br>
              <a:rPr sz="2400"/>
            </a:b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-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cs typeface="Tahoma"/>
              </a:rPr>
              <a:t>سعته التخزينية قليلة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1.44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MB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entury Gothic"/>
              </a:rPr>
              <a:t> COMPACT DISK (CD)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cs typeface="Tahoma"/>
              </a:rPr>
              <a:t>المدمج القرص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</a:t>
            </a:r>
            <a:br>
              <a:rPr sz="2400"/>
            </a:b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- 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cs typeface="Tahoma"/>
              </a:rPr>
              <a:t>سعته أكثر من القرص المرن </a:t>
            </a:r>
            <a:br>
              <a:rPr sz="2400"/>
            </a:b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- يأتي بسعات مختلفة</a:t>
            </a:r>
            <a:r>
              <a:rPr b="0" lang="ar-SA" sz="24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48" name="Picture 7" descr="CD"/>
          <p:cNvPicPr/>
          <p:nvPr/>
        </p:nvPicPr>
        <p:blipFill>
          <a:blip r:embed="rId1"/>
          <a:stretch/>
        </p:blipFill>
        <p:spPr>
          <a:xfrm>
            <a:off x="1700280" y="3389400"/>
            <a:ext cx="2128680" cy="1888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8" descr=""/>
          <p:cNvPicPr/>
          <p:nvPr/>
        </p:nvPicPr>
        <p:blipFill>
          <a:blip r:embed="rId2"/>
          <a:stretch/>
        </p:blipFill>
        <p:spPr>
          <a:xfrm>
            <a:off x="1884240" y="1539720"/>
            <a:ext cx="21862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323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entury Gothic"/>
                <a:cs typeface="Tahoma"/>
              </a:rPr>
              <a:t>اللوحة الام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Century Gothic"/>
              </a:rPr>
              <a:t>MOTHER BOARD </a:t>
            </a:r>
            <a:br>
              <a:rPr sz="2800"/>
            </a:br>
            <a:r>
              <a:rPr b="0" lang="en-US" sz="2800" spc="-1" strike="noStrike">
                <a:solidFill>
                  <a:srgbClr val="262626"/>
                </a:solidFill>
                <a:latin typeface="Century Gothic"/>
              </a:rPr>
              <a:t>- 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cs typeface="Tahoma"/>
              </a:rPr>
              <a:t>هي لوحة تتكون من مجموعة كبيرة من الدوائر اإللكترونية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- سميت باألم ألنها تحمل معظم أجزاء الحاسب الداخلية 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- يوجد على هذه اللوحة األجزاء التالية: 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• المعالج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2800" spc="-1" strike="noStrike">
                <a:solidFill>
                  <a:srgbClr val="262626"/>
                </a:solidFill>
                <a:latin typeface="Century Gothic"/>
              </a:rPr>
              <a:t>CPU </a:t>
            </a:r>
            <a:br>
              <a:rPr sz="2800"/>
            </a:br>
            <a:r>
              <a:rPr b="0" lang="en-US" sz="2800" spc="-1" strike="noStrike">
                <a:solidFill>
                  <a:srgbClr val="262626"/>
                </a:solidFill>
                <a:latin typeface="Century Gothic"/>
              </a:rPr>
              <a:t> RAM &amp; ROM 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cs typeface="Tahoma"/>
              </a:rPr>
              <a:t>الذاكرتين •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• بعض المنافذ </a:t>
            </a:r>
            <a:br>
              <a:rPr sz="2800"/>
            </a:b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• أماكن لتركيب بطاقات التوسعة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best-motherboard.jpg"/>
          <p:cNvPicPr/>
          <p:nvPr/>
        </p:nvPicPr>
        <p:blipFill>
          <a:blip r:embed="rId1"/>
          <a:stretch/>
        </p:blipFill>
        <p:spPr>
          <a:xfrm>
            <a:off x="1650960" y="873000"/>
            <a:ext cx="827568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6600" y="1236600"/>
            <a:ext cx="9037800" cy="51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entury Gothic"/>
                <a:cs typeface="Tahoma"/>
              </a:rPr>
              <a:t>إذن الحاسب الآلي يعمل: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Century Gothic"/>
                <a:cs typeface="Tahoma"/>
              </a:rPr>
              <a:t>ندخل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 بيانات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Century Gothic"/>
                <a:cs typeface="Tahoma"/>
              </a:rPr>
              <a:t>المعالجة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cs typeface="Tahoma"/>
              </a:rPr>
              <a:t>، أو التحليل بناء على تعليمات البرنامج 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Century Gothic"/>
                <a:cs typeface="Tahoma"/>
              </a:rPr>
              <a:t>الإخراج</a:t>
            </a:r>
            <a:r>
              <a:rPr b="0" lang="ar-SA" sz="2800" spc="-1" strike="noStrike">
                <a:solidFill>
                  <a:srgbClr val="262626"/>
                </a:solidFill>
                <a:latin typeface="Century Gothic"/>
                <a:ea typeface="Tahoma"/>
              </a:rPr>
              <a:t> تخرج معلومات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Century Gothic"/>
                <a:cs typeface="Tahoma"/>
              </a:rPr>
              <a:t>التخزين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6348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262626"/>
                </a:solidFill>
                <a:latin typeface="Century Gothic"/>
                <a:cs typeface="Tahoma"/>
              </a:rPr>
              <a:t>نهاية المحاضرة</a:t>
            </a:r>
            <a:r>
              <a:rPr b="0" lang="ar-SA" sz="7200" spc="-1" strike="noStrike">
                <a:solidFill>
                  <a:srgbClr val="262626"/>
                </a:solidFill>
                <a:latin typeface="Century Gothic"/>
                <a:ea typeface="Tahoma"/>
              </a:rPr>
              <a:t>.</a:t>
            </a: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http://www.teach-ict.com/gcse_computing/ocr/211_hardware_software/computer_system/miniweb/images/a-computer-system.jpg"/>
          <p:cNvPicPr/>
          <p:nvPr/>
        </p:nvPicPr>
        <p:blipFill>
          <a:blip r:embed="rId1"/>
          <a:stretch/>
        </p:blipFill>
        <p:spPr>
          <a:xfrm>
            <a:off x="2330280" y="1996920"/>
            <a:ext cx="707076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63480" y="1635120"/>
            <a:ext cx="9070920" cy="37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0000"/>
                </a:solidFill>
                <a:uFillTx/>
                <a:latin typeface="Century Gothic"/>
                <a:cs typeface="Tahoma"/>
              </a:rPr>
              <a:t>تعريف الحاسب اآللي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- كلمة كمبيوتر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PUTER 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مشتق من الفعل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PUTE 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بمعني يحسب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يعرف الحاسوب بأنه آلة حاسبة الكترونية ذات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سرعة عالية ودقة متناهية يمكنها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معالجة البيانات وتخزينها واسترجاعها وفقا لمجموعة من التعليمات و األوامر </a:t>
            </a: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Century Gothic"/>
                <a:cs typeface="Tahoma"/>
              </a:rPr>
              <a:t>للوصول للنتائج المطلوبة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  <a:ea typeface="Tahoma"/>
              </a:rPr>
              <a:t>.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61680" y="1790640"/>
            <a:ext cx="9068040" cy="28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62626"/>
                </a:solidFill>
                <a:latin typeface="Century Gothic"/>
                <a:ea typeface="Tahoma"/>
              </a:rPr>
              <a:t>- </a:t>
            </a:r>
            <a:r>
              <a:rPr b="0" lang="ar-SA" sz="3200" spc="-1" strike="noStrike">
                <a:solidFill>
                  <a:srgbClr val="262626"/>
                </a:solidFill>
                <a:latin typeface="Century Gothic"/>
                <a:cs typeface="Tahoma"/>
              </a:rPr>
              <a:t>هو جهاز الكتروني يستطيع ان يقوم بأداء العمليات الحسابية والمنطقية طبقا للتعليمات المعطاة )البرامج  بسرعة كبيرة وبدرجة عالية من الدقة، و له المقدرة على </a:t>
            </a:r>
            <a:br>
              <a:rPr sz="3200"/>
            </a:br>
            <a:r>
              <a:rPr b="0" lang="ar-SA" sz="3200" spc="-1" strike="noStrike">
                <a:solidFill>
                  <a:srgbClr val="262626"/>
                </a:solidFill>
                <a:latin typeface="Century Gothic"/>
                <a:ea typeface="Tahoma"/>
              </a:rPr>
              <a:t> التعامل مع كم هائل من البيانات. وكذلك تخزينها واسترجاعها عند الحاجة اليها</a:t>
            </a:r>
            <a:r>
              <a:rPr b="0" lang="ar-SA" sz="3200" spc="-1" strike="noStrike">
                <a:solidFill>
                  <a:srgbClr val="262626"/>
                </a:solidFill>
                <a:latin typeface="Century Gothic"/>
                <a:ea typeface="Tahoma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63480" y="1956960"/>
            <a:ext cx="9070920" cy="338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entury Gothic"/>
                <a:ea typeface="Tahoma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Century Gothic"/>
                <a:cs typeface="Tahoma"/>
              </a:rPr>
              <a:t>مزايا الحاسب الآلي</a:t>
            </a:r>
            <a:br>
              <a:rPr sz="2800"/>
            </a:br>
            <a:r>
              <a:rPr b="0" lang="ar-SA" sz="2000" spc="-1" strike="noStrike">
                <a:solidFill>
                  <a:srgbClr val="ff0000"/>
                </a:solidFill>
                <a:latin typeface="Century Gothic"/>
                <a:ea typeface="Tahoma"/>
              </a:rPr>
              <a:t>- السرعة: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سرعة إنجاز العمليات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سرعة دخول البيانات و استرجاع المعلومات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سرعة إجراء العمليات الحسابية و المنطقية المعقدة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ea typeface="Tahoma"/>
              </a:rPr>
              <a:t>- </a:t>
            </a:r>
            <a:r>
              <a:rPr b="0" lang="ar-SA" sz="2000" spc="-1" strike="noStrike">
                <a:solidFill>
                  <a:srgbClr val="ff0000"/>
                </a:solidFill>
                <a:latin typeface="Century Gothic"/>
                <a:cs typeface="Tahoma"/>
              </a:rPr>
              <a:t>اإلعتمادية: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ونعني بها قدرة الحاسب اآللي على أداء المهام بدقة عالية دون أخطاء أو ملل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مهما تكرر أداء هذه المهام </a:t>
            </a:r>
            <a:br>
              <a:rPr sz="2000"/>
            </a:br>
            <a:r>
              <a:rPr b="0" lang="ar-SA" sz="2000" spc="-1" strike="noStrike">
                <a:solidFill>
                  <a:srgbClr val="ff0000"/>
                </a:solidFill>
                <a:latin typeface="Century Gothic"/>
                <a:ea typeface="Tahoma"/>
              </a:rPr>
              <a:t>- التخزين: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يملك جهاز الحاسب اآللي القدرة على تخزين كميات كبيرة من البيانات </a:t>
            </a:r>
            <a:br>
              <a:rPr sz="2000"/>
            </a:b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Tahoma"/>
              </a:rPr>
              <a:t>بنظام يجعل الرجوع إليها سريعا وسها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96280" y="1456920"/>
            <a:ext cx="319392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0000"/>
                </a:solidFill>
                <a:latin typeface="Century Gothic"/>
                <a:cs typeface="Tahoma"/>
              </a:rPr>
              <a:t>مم يتكون الحاسب اآللي؟</a:t>
            </a:r>
            <a:r>
              <a:rPr b="0" lang="ar-SA" sz="1600" spc="-1" strike="noStrike">
                <a:solidFill>
                  <a:srgbClr val="ff0000"/>
                </a:solidFill>
                <a:latin typeface="Century Gothic"/>
                <a:ea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46" name="Picture 2" descr="http://img94.imageshack.us/img94/4269/computercomponentsdiagr.jpg"/>
          <p:cNvPicPr/>
          <p:nvPr/>
        </p:nvPicPr>
        <p:blipFill>
          <a:blip r:embed="rId1"/>
          <a:stretch/>
        </p:blipFill>
        <p:spPr>
          <a:xfrm>
            <a:off x="2408400" y="1955880"/>
            <a:ext cx="750888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57000" y="2093760"/>
            <a:ext cx="9070920" cy="25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62626"/>
                </a:solidFill>
                <a:latin typeface="Century Gothic"/>
                <a:cs typeface="Tahoma"/>
              </a:rPr>
              <a:t>مجموعة من األجهزة االلكترونية تسمي المعدات</a:t>
            </a:r>
            <a:r>
              <a:rPr b="0" lang="ar-SA" sz="3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HARDWARE 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ar-SA" sz="3600" spc="-1" strike="noStrike">
                <a:solidFill>
                  <a:srgbClr val="262626"/>
                </a:solidFill>
                <a:latin typeface="Century Gothic"/>
                <a:cs typeface="Tahoma"/>
              </a:rPr>
              <a:t>يتم التحكم في أدائها بواسطة مجموعة من  </a:t>
            </a:r>
            <a:br>
              <a:rPr sz="3600"/>
            </a:br>
            <a:r>
              <a:rPr b="0" lang="ar-SA" sz="3600" spc="-1" strike="noStrike">
                <a:solidFill>
                  <a:srgbClr val="262626"/>
                </a:solidFill>
                <a:latin typeface="Century Gothic"/>
                <a:ea typeface="Tahoma"/>
              </a:rPr>
              <a:t> البرمجيات</a:t>
            </a:r>
            <a:r>
              <a:rPr b="0" lang="ar-SA" sz="3600" spc="-1" strike="noStrike">
                <a:solidFill>
                  <a:srgbClr val="262626"/>
                </a:solidFill>
                <a:latin typeface="Century Gothic"/>
                <a:ea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SOFTWARE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9:04:12Z</dcterms:created>
  <dc:creator>Toshiba</dc:creator>
  <dc:description/>
  <dc:language>en-US</dc:language>
  <cp:lastModifiedBy>Toshiba</cp:lastModifiedBy>
  <dcterms:modified xsi:type="dcterms:W3CDTF">2014-02-10T20:56:06Z</dcterms:modified>
  <cp:revision>13</cp:revision>
  <dc:subject/>
  <dc:title>مفهوم الحاسب الالي   ومكوناته</dc:title>
</cp:coreProperties>
</file>