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chimes.wav" ContentType="audio/x-wav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355-B679-4D15-9C93-280AD559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7F3-B42E-496D-8137-C0E94275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678-82CF-4014-B5C5-B0EAE0AF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39F-BF1E-46E5-860E-7B6B6A0D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CBC6-D191-47AE-ACF2-BD0A6736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F4F4-085A-4497-8483-D57F9EB3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CCD1-486D-48B1-9FC2-37BCE2EA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AE68-65F3-41CE-8301-076CC341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0A2D-27F9-4AB9-9E4C-FA38834B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4CE4-6104-47E8-8860-D10B3AE3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15AB-D40D-46D2-BE18-5667A235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FDD-A529-4E9B-B76F-9D44D37C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C9BA-C129-493C-A8D4-8A816CFD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BF6E-438E-4282-97FD-F15B0EA4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CA68-1F09-4BAA-8595-3B2D956C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4F09-17A5-4751-976E-3CD1318E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19C8-4DE4-49B6-AD78-4A8A00CE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0C0EC-AECE-4F71-8E45-B383F45F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E647E-9CD4-478E-94B0-11B3FE7D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8917C-34F4-4137-8138-AC286AFB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E0AE-E993-4B25-BDCF-0ED6EC86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5675C-0291-4666-AE08-D420056C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35AE-062E-417B-90DD-47232D04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DFE8A-A9CF-42F5-ABC3-97A567C3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56001-9B8B-483B-B4C2-0A64C9ED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FB90E-D3C7-40EB-A279-CD1820C8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46B0D-014B-4A3E-BC88-98025211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B2B98-5F2B-4278-A8CF-314AEDC3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99C4C-DFDC-44A2-840F-2810EE6A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F09E-004F-4C1D-BE15-D26B0AB6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DE475-E8C2-483F-8932-0B4A8D9B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77723-2D93-4C96-8084-1F0414EA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A6525-005E-4DCC-AEB7-A431468D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A07-0CC2-41B6-BEBF-51B34A1E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687E2-3045-431F-8ABB-7A8D90A0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E9F29-3EE2-4EBB-AF61-93E9E228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8392A-2E42-469B-B232-17A71192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D3FB1-3AB9-45C7-873D-39D3C803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4D090-F65B-4D9F-A187-11FA1F44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F5B40-2064-4792-8AED-2F357999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9EE93-5C83-45AC-A0C5-625B0BCF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A496F-9647-49D8-BFE0-25DE37FA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47DC9-535D-408A-9332-209C33DD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805-4933-483F-8C1B-3B474262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F22-1183-4A4F-9FA4-11260661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DE8-3F6C-422B-85E6-20CE5573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C73-E1CE-4BE3-A34F-BFAE2D41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08C-16A1-462A-AC5A-F0D9F8A3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0AE7-526A-4255-A060-5E64BEE59BE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AE8D-0C29-41D8-9C35-A4FB19C4830E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717C-E71E-4E42-A020-C3792446FCA4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4462-0608-444A-80D9-D8021034490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عنوان 1" descr=""/>
          <p:cNvPicPr/>
          <p:nvPr/>
        </p:nvPicPr>
        <p:blipFill>
          <a:blip r:embed="rId2"/>
          <a:stretch/>
        </p:blipFill>
        <p:spPr>
          <a:xfrm>
            <a:off x="755640" y="755640"/>
            <a:ext cx="7785000" cy="1609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004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 rtl="1">
              <a:lnSpc>
                <a:spcPct val="80000"/>
              </a:lnSpc>
              <a:spcBef>
                <a:spcPts val="27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100" spc="-1" strike="noStrike">
                <a:solidFill>
                  <a:srgbClr val="ffff00"/>
                </a:solidFill>
                <a:latin typeface="Simplified Arabic"/>
                <a:cs typeface="Al-Homam"/>
              </a:rPr>
              <a:t>الاتصال اللفظي </a:t>
            </a:r>
            <a:endParaRPr b="0" lang="en-US" sz="111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عنصر نائب للمحتوى 3" descr=""/>
          <p:cNvPicPr/>
          <p:nvPr/>
        </p:nvPicPr>
        <p:blipFill>
          <a:blip r:embed="rId2"/>
          <a:stretch/>
        </p:blipFill>
        <p:spPr>
          <a:xfrm>
            <a:off x="1138320" y="838080"/>
            <a:ext cx="68626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ب- الكلمات: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5000"/>
            <a:ext cx="8229600" cy="33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9880" indent="-569880" algn="r" rtl="1">
              <a:lnSpc>
                <a:spcPct val="100000"/>
              </a:lnSpc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الكلمات عبارة عن رموز للأشياء من حولنا 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69880" indent="-569880" algn="r" rtl="1">
              <a:lnSpc>
                <a:spcPct val="100000"/>
              </a:lnSpc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وهي عبارة عن مجموعة من الرموز الصوتية 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69880" indent="-569880" algn="r" rtl="1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ج- القواعد :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4080" indent="-244080" algn="ct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للغة قواعد وقوانين تحكم كيفية ارتباط الاصوات ببعضها لتصبح كلمات .. وتحكم كيفية ربط الكلمات ببعضها البعض ببعضها البعض لتنتج الجمل او العبارات . إن الالتزام بقواعد اللغة ومراعاتها عند الاتصال بالآخرين سيساعد على فهمهم 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4080" indent="-244080" algn="r" rtl="1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د- المعاني :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56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0280" indent="-2602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الكلمات تنقل المعاني بين البشر ، وبين الاجيال المتعاقبة ، فاللغة أداة مفيدة للاتصال لكنها في ذاتها ليس لها معنى ، إلا إذا اتضحت العلاقة بين المعاني والكلمات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-2602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لو كانت الكلمات لا تحمل معنى ، فإنها لا تؤدي أي غرض ، ونحن من يتحكم في الكلمات المستخدمة والمعنى الذي نعطيه لها ، لذلك علينا أن نعي جيدا ما تعنيه تلك الكلمات بالنسبة لنا وللآخرين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-2602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8080"/>
                </a:solidFill>
                <a:latin typeface="Times New Roman"/>
                <a:ea typeface="Simplified Arabic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-2602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عوائق الاتصال اللفظي قد تشوش الرسالة المراد ايصالها فينتج عن ذلك اختلاف في المعنى بين المرسل والمستقبل أو قد ينقطع الاتصال كليا بسببها .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-260280" algn="r" rtl="1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 rot="19859400">
            <a:off x="405720" y="2084040"/>
            <a:ext cx="8458200" cy="21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ff"/>
                </a:solidFill>
                <a:latin typeface="Simplified Arabic"/>
                <a:cs typeface="Al-Homam"/>
              </a:rPr>
              <a:t>من أبرز هذه العوائق ما يلي :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حجب المعنى :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5800" indent="-23580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تستخدم اللغة لإيصال المعنى وتوضيحه ، لكنها تستخدم احيانا لتشويهه أو لحجب الحقيقة أو لتضليل الفكر ، كما إن استخدامنا للكلمة قد يقلل من ضرر المعنى أو يرفع من شأنها ، واللغة قد تستعمل لإعطاء رسائل غامضة تحول دون كشف بعض الأمور 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35800" indent="-235800" algn="r" rtl="1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عنصر نائب للمحتوى 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7010640" cy="5051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سوء الفهم :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7880" indent="-227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تأثير بالغ الاهمية على تحديد المعنى المناسب للكلمة ، لذا يجب أن نتنبه كمتصلين ، سواء أكنا مرسلين أم مستقبلين ، إلى حقيقة أن الكلمات من الممكن أن تفسر بشكل مختلف باختلاف الأفراد 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27880" indent="-227880" algn="r" rtl="1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اختلاف الثقافات :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0280" indent="-2602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يمثل تنوع الثقافات وتعددها أحد أكبر عوائق الاتصال في المجتمعات متعددة الثقافات ، فنجد بعض الكلمات المقبولة والمناسبة في ثقاف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أخرى . </a:t>
            </a:r>
            <a:r>
              <a:rPr b="0" lang="ar-SA" sz="40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علينا أن نعتقد بأن هناك قصورا في فهمنا للناس من الثقافات الأخرى ، لذا فإنه من المهم جدا أن نحترم ثقافات الآخرين 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-260280" algn="r" rtl="1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التعميم بدون استثناءات: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3160" indent="-263160" algn="ct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التعميمات تؤدي إلى تجاهل الصفات الشخصية ، ومن السهل أن نعمم لأن التعميمات لا تحتاج إلى التحليل أو الفحص أو التفكير . كما إن التعميمات قد تفسد العلاقات 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-263160" algn="r" rtl="1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9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ما المقصود بالاتصال اللفظي ؟</a:t>
            </a:r>
            <a:br>
              <a:rPr sz="4800"/>
            </a:b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nstantia"/>
              </a:rPr>
              <a:t>الاتصال اللفظي هو الاتصال الذي يتم عبر الكلمات والألفاظ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nstantia"/>
              </a:rPr>
              <a:t>بحيث يتم نقل الرسالة الصوتية من فهم المرسل الى اذن المستقبل ، ولفظ الكلام يعني "النطق به" والاتصال اللفظي يشمل التلفظ بالكلمات والتلفظ هو تموجات هوائية مصدرها في الغالب الحنجرة تشكلها اعضاء الصوت أما الكلام فهو " الأصوات المفيدة"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التطرف في الكلام :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6960" indent="-24696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-246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التطرف في الكلام يعني رؤية الأمور من زاوية واحدة فقط ، فمثلا الفقر والغنى ، الجمال والبشاعة ، الصغير والكبير ، العالي والمنخفض ، الممتاز والسيء ، الذكي والغبي ...........الخ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-246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والتطرف اثناء الحديث والاتصال مع الآخرين عادة ما يكون سببا في الكثير من المشكلات والاختلاف في وجهات النظر بين الاشخاص 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-246960" algn="r" rtl="1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250" autoRev="1" fill="remove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6" dur="250" autoRev="1" fill="remove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7" dur="250" autoRev="1" fill="remove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لتحسين الاتصال اللفظي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تتطلب القدرة على استخدام اللغة بمهارة وتأثير لخبرة ودراسة ، ورغم تعددها وتشعبها إلا أننا سنبرز النقاط الأهم والأكثر تأثيرا وهي :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تعرف مع من تتحدث :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إذا أردنا أن نحسن وتيرة التصال ، علينا أن نعرف من المتحدث ، ومحتوى موضوع الحديث ، لنقرر ما تعنيه الكلمات ، فالتفسير الجيد يشتمل على الانتباه لاحتمال عدم الفهم وسؤال الآخر عما تعنيه معاني الكلمات بالنسبة لهم 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استخدام لغة دقيقة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إن الاستخدام الصحيح للغة عند الاتصال بالآخرين هو اشبه ما يكون باستخدام البوصلة عند تحديد الاتجاهات ...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حتما ستصل الرسائل مشوهة للمستقبل إن استخدمنا لغة خاطئة ، وكلما كان استخدامنا للكلمة دقيقا وصلنا لمرادنا بصورة افضل .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استخدام لغة معبرة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إن أجمل وأرقى اساليب التعبير ووضوح معاني الألفاظ هو بلاغة التشبيه واستخدام القصص والمعاني الرمزية لأنها بذلك تزيد كلامنا وضوحا .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2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استخدام لغة حيوية وشيقة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لكي يكون اتصالنا مؤثرا علينا أن نستخدم كلمات حيوية وممتعة . اللغة المباشرة التي تعطي بصوت نشط يمكنها ان تضفي على الحديث متعة وأهمية وقوة 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استخدام لغة ملائمة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6960" indent="-24696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هناك أنواع مختلفة من اللغة تتلاءم مع أوضاع مختلفة ، فمثلا اللغة التي نستخدمها مع شخص مسئول تتصف بالرسمية أكثر من اللغة التي نستخدمها مع أصدقائنا . إن استخدام لغة غير ملائمة للموقف قد يضيع مصداقية المتحدث ، وقد تفهم رسالته بشكل خاطئ 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-246960" algn="r" rtl="1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تحمل مسؤولية كلامك :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880" y="3276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8560" indent="-26856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كل عبارة صدرت منك ستحسب إما لك أو عليك فقد لا يقبل الاعتذار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 algn="r" rtl="1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الخلاصة :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4880" indent="-254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اننا من خلال الاتصال اللفظي الصحيح سنكون قادرين على تحويل وترجمة المعاني والمشاعر والخبرات الى رسائل ذات معنى للآخرين . إن خطأنا اللغوي يتجاوز مجرد الخطأ في لفظ بعض الكلمات بل سوف يتعدى ذلك ويعكس عدم قدرتنا على التفكير بشكل عميق فيما نريد ان نقوله ونوصله للاخرين ، كما أن فهمنا لعناصر اللغة الاربع ( الأصوات ، الكلمات ، القواعد ، المعاني ) يعد مطلبا أساسيا في فهم وتصميم المعاني التي نرغب ايصالها للآخرين بحسب نوعياتهم ومستوى تفكيره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609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38680" indent="-238680" algn="r" rtl="1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وبما ان الاتصال في الأساس يهدف الى نقل المعاني بالشكل الصحيح ، فان فهم عوائق الاتصال اللفظي يعد أمرا في غاية الأهمية ، وإن من أهم هذه العوائق حجب المعنى ، وسوء الفهم ، واختلاف الثقافات وتنوعها .. التعميم بدون استثناءات ومراعاة لأوجه الاختلاف والتطرف في الكلام 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38680" indent="-238680" algn="r" rtl="1">
              <a:lnSpc>
                <a:spcPct val="9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1066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 algn="ct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كما اننا نستخدم الكلمات لنعبر عن ذواتنا ، ولنعطي معنى لحياتنا وأنشطتنا المختلفة ، فالكلام ترجمان يعبر عن مستودعات الضمائر وينبئ بمكنونات السرائر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09480" y="7621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38680" indent="-238680" algn="r" rtl="1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كما ان تحسين قدراتنا في الاتصال اللفظي تتطلب معرفتنا الجيدة مع من نتحدث ، وأن نستخدم لغة دقيقة وواضحة عند الاتصال بالآخرين وأن نستخدم لغة معبرة وثرية ببلاغة التشبيه لإيصال المعاني بأرقى ما يكون ، وأن تكون هذه اللغة حيوية وشيقة وملائمة ، وأن تكون على قدر المسؤولية في تحمل نتائج وتبعات ما نقول ، وما يتطلبه ذلك من التفكير بعمق قبل ان ننطق بالكلمات ، فرب كلمة يقولها العبد لا يلقى لها بالا تهوي به في النار سبعين خريفا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8680" indent="-238680" algn="r" rtl="1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عنوان 1" descr=""/>
          <p:cNvPicPr/>
          <p:nvPr/>
        </p:nvPicPr>
        <p:blipFill>
          <a:blip r:embed="rId2"/>
          <a:stretch/>
        </p:blipFill>
        <p:spPr>
          <a:xfrm>
            <a:off x="255600" y="109440"/>
            <a:ext cx="9333000" cy="729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عنصر نائب للمحتوى 3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467480" cy="4876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ما المقصود باللغة ؟ وفيم تستخدم ؟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ان اللغة تعد من نعم الله العظمى ، ومن أهم مميزات الانسان ، ولها قيمتها في جميع مجالات الحياة ، وهي الخاصية التي تميز بها الإنسان عن سائر الحيوانات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فنحن نستطيع أن نستخدمها للتأثير في الآخرين بطريقة إيجابية ، كما نستطيع بواسطتها إعطاء صورة سلبية أو ايجابية عن أنفسنا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واللغة هي عقد من العلامات والرموز والأصوات والحركات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تستخدم كوسيلة لإيصال المعاني بين البشر ، ولولاها لأصبح الاتصال شبه معدوم ، او قد لا يكون هناك اتصال بين الجماعات اصلا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8080"/>
                </a:solidFill>
                <a:latin typeface="Constantia"/>
                <a:cs typeface="Simplified Arabic"/>
              </a:rPr>
              <a:t>فاللغة تشبه المنظار الذي يجعلنا نرى العالم ونتعرف على دقائقه المختلفة ، فيها نتبادل المعاني وبها نفكر وقد قيل بان اللغة وعاء الفكر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واللغة تؤثر على قدرتنا على التفكير ، فلو كان تفكيرنا واضحا ومرتبا ، لبدت كلماتنا واضحة ومرتبة ، والعكس صحيح ، ونجد انفسنا أحيانا قد فقدنا كلمة لا نستطيع بدونها إيصال المعنى ونظل نبحث عنها حتى نجدها وان لم نجدها نعجز عن ايصال افكارنا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علينا أن نتخير ألفاظنا بدقة قبل ان نبدا بالتحدث ، لاننا إذا نطقنا كلمة لن نستطيع ارجاعها ، ولا استرجاع تأثيرها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وحتى لو حاولنا تصحيح الخطأ ، أو الاعتذار عنه ، تكون الكلمات قد أحدثت مفعولها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إن أول انطباع لنا عن أي شخص نراه لأول مره قد يتكون من المظهر الخارجي له ، ولكن ما إن يبدا الشخص بالحديث ، حتى تبدأ افكاره – بواسطة اللغة – في تشكيل صورته ، التي قد تؤكد أو تغاير الصورة الذهنية التي كونها مظهره الخارجي لدينا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عنصر نائب للمحتوى 3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358040" cy="5333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عناصر اللغة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971800"/>
            <a:ext cx="822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اللغة هي أحد عناصر الاتصال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ومن الممكن التعرف على اللغة كوسيلة اتصال بدراسة بعض عناصرها الرئيسية وهي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أ – الأصوات :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38680" indent="-2386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يتعلم الإنسان التحدث قبل أن يتعلم الكتابة ، وقد وهب الله سبحانه وتعالى الغالبية العظمى من الناس أعضاء تساعدهم على النطق الحديث . ولكن على الررغم من قدرتنا على التحدث فإن لكل واحد منا طريقة مختلفة في النطق ، وتزداد هذه الاختلافات بين الثقافات والمناطق الجغرافية المختلفة من العالم 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38680" indent="-238680" algn="r" rtl="1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0T23:45:52Z</dcterms:created>
  <dc:creator>win8</dc:creator>
  <dc:description/>
  <dc:language>en-US</dc:language>
  <cp:lastModifiedBy>Mariem</cp:lastModifiedBy>
  <dcterms:modified xsi:type="dcterms:W3CDTF">2014-10-25T06:30:47Z</dcterms:modified>
  <cp:revision>15</cp:revision>
  <dc:subject/>
  <dc:title>مفهوم وعناصر الاتص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