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chimes.wav" ContentType="audio/x-wav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ADC-5E3F-441A-BD80-D6632B17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268F-14E6-4A35-964E-48278B3A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E7B-982C-4E36-A8E7-8CA952EA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E49-0BFC-4E57-969F-F1739ACF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DA28-9BDF-4741-8D87-24951B97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BA95-214C-477C-8427-75F15BE9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50F9-8980-4216-95DE-5EB073C2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3F44-A6BF-4F90-8D16-735F0E39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D31F-C9C6-436B-8F37-7C7AFD5C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8B66-45A5-4184-BCCD-152C006A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7E60-F7AE-4E43-AB11-02A7334C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EB11-A0DA-4CC4-9F07-83B16075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C342-E018-4867-AD27-7C696C05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0D85-0F90-40FB-B3AC-9D807317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25C4-7B52-485F-9DC9-FF5F10EE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F05E-E479-4C02-98DB-D770020E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4877-8B67-47B8-9DC8-D859589D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2A17B-141D-4BFD-B6EA-660CD27A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44E0B-8CDB-4FC7-9AA1-27A59600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6AFF2-3556-44F8-BAD9-2D1996E9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E49F3-CC2B-4D25-8210-9E9B0E14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4D402-6241-4BFA-90F4-0B8BC613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B92-FC19-4787-8883-8AE519BD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56DEE-0C11-478D-96D5-68DF4AAD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AF484-9D5A-4E79-9D67-F5AC6F21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AB907-F1F2-43AC-850E-0D4CB2A5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632E7-D9EC-4C8B-897D-782BD15B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AA076-4E2F-42B0-9737-4E93D5C6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28EBF-1A32-498B-A903-FBFA8E24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4FBED-4691-4CFC-9F02-3955AC79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77A4D-D91D-45E5-8A1C-4B2A5A25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13B0D-5C62-47ED-BF5C-153158A3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DF91B-CAE7-44C8-B47A-09EF2D48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E5F6-7A64-4C6C-A31A-EC7C79DC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93CAB-E8BD-4876-961D-66A81E72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10B82-AC22-4C1F-980E-C8438B77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FEF39-96A6-425F-B82D-158085A0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94959-077F-423F-A36E-4471D2C5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6F29D-A162-41E5-BDD3-5F413C2E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5540C-7226-46E1-87B5-050938E1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0845C-8F05-46FD-9792-BAE2C4B0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36479-3E86-4DC4-BD63-FC8C9341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A7D4F-9344-4A72-A350-DFE0121D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855-3200-43FA-BE15-1C5761B3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8A4-D27A-45F9-97DF-949CBB95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216-2864-4C77-8BC5-E3088C09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F50-A2AC-48E1-A563-D77FCC17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5D3-FEBA-467B-B52E-DC978A19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DE82-DCE1-4F1B-BC40-E1D64C78BDEE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B0D0-0838-43FD-9DAC-9E728DDB2069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9E12-1E68-4EA1-A5F3-2D66EE2E8BF6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E862-381D-4D77-8592-7CC4FD64A9F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عنوان 1" descr=""/>
          <p:cNvPicPr/>
          <p:nvPr/>
        </p:nvPicPr>
        <p:blipFill>
          <a:blip r:embed="rId2"/>
          <a:stretch/>
        </p:blipFill>
        <p:spPr>
          <a:xfrm>
            <a:off x="755640" y="755640"/>
            <a:ext cx="7785000" cy="1609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004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 rtl="1">
              <a:lnSpc>
                <a:spcPct val="80000"/>
              </a:lnSpc>
              <a:spcBef>
                <a:spcPts val="27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100" spc="-1" strike="noStrike">
                <a:solidFill>
                  <a:srgbClr val="ffff00"/>
                </a:solidFill>
                <a:latin typeface="Simplified Arabic"/>
                <a:cs typeface="Al-Homam"/>
              </a:rPr>
              <a:t>الاتصال اللفظي </a:t>
            </a:r>
            <a:endParaRPr b="0" lang="en-US" sz="111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عنصر نائب للمحتوى 3" descr=""/>
          <p:cNvPicPr/>
          <p:nvPr/>
        </p:nvPicPr>
        <p:blipFill>
          <a:blip r:embed="rId2"/>
          <a:stretch/>
        </p:blipFill>
        <p:spPr>
          <a:xfrm>
            <a:off x="1138320" y="838080"/>
            <a:ext cx="68626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ب- الكلمات: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5000"/>
            <a:ext cx="8229600" cy="33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9880" indent="-569880" algn="r" rtl="1">
              <a:lnSpc>
                <a:spcPct val="100000"/>
              </a:lnSpc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الكلمات عبارة عن رموز للأشياء من حولنا 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69880" indent="-569880" algn="r" rtl="1">
              <a:lnSpc>
                <a:spcPct val="100000"/>
              </a:lnSpc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وهي عبارة عن مجموعة من الرموز الصوتية 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69880" indent="-569880" algn="r" rtl="1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ج- القواعد :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4080" indent="-244080" algn="ct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للغة قواعد وقوانين تحكم كيفية ارتباط الاصوات ببعضها لتصبح كلمات .. وتحكم كيفية ربط الكلمات ببعضها البعض ببعضها البعض لتنتج الجمل او العبارات . إن الالتزام بقواعد اللغة ومراعاتها عند الاتصال بالآخرين سيساعد على فهمهم 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4080" indent="-244080" algn="r" rtl="1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د- المعاني :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56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0280" indent="-2602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الكلمات تنقل المعاني بين البشر ، وبين الاجيال المتعاقبة ، فاللغة أداة مفيدة للاتصال لكنها في ذاتها ليس لها معنى ، إلا إذا اتضحت العلاقة بين المعاني والكلمات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-2602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لو كانت الكلمات لا تحمل معنى ، فإنها لا تؤدي أي غرض ، ونحن من يتحكم في الكلمات المستخدمة والمعنى الذي نعطيه لها ، لذلك علينا أن نعي جيدا ما تعنيه تلك الكلمات بالنسبة لنا وللآخرين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-2602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8080"/>
                </a:solidFill>
                <a:latin typeface="Times New Roman"/>
                <a:ea typeface="Simplified Arabic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-2602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عوائق الاتصال اللفظي قد تشوش الرسالة المراد ايصالها فينتج عن ذلك اختلاف في المعنى بين المرسل والمستقبل أو قد ينقطع الاتصال كليا بسببها .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-260280" algn="r" rtl="1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 rot="19859400">
            <a:off x="405720" y="2084040"/>
            <a:ext cx="8458200" cy="217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ff"/>
                </a:solidFill>
                <a:latin typeface="Simplified Arabic"/>
                <a:cs typeface="Al-Homam"/>
              </a:rPr>
              <a:t>من أبرز هذه العوائق ما يلي :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حجب المعنى :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5800" indent="-23580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تستخدم اللغة لإيصال المعنى وتوضيحه ، لكنها تستخدم احيانا لتشويهه أو لحجب الحقيقة أو لتضليل الفكر ، كما إن استخدامنا للكلمة قد يقلل من ضرر المعنى أو يرفع من شأنها ، واللغة قد تستعمل لإعطاء رسائل غامضة تحول دون كشف بعض الأمور 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35800" indent="-235800" algn="r" rtl="1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عنصر نائب للمحتوى 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7010640" cy="5051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سوء الفهم :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7880" indent="-227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تأثير بالغ الاهمية على تحديد المعنى المناسب للكلمة ، لذا يجب أن نتنبه كمتصلين ، سواء أكنا مرسلين أم مستقبلين ، إلى حقيقة أن الكلمات من الممكن أن تفسر بشكل مختلف باختلاف الأفراد 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27880" indent="-227880" algn="r" rtl="1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اختلاف الثقافات :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0280" indent="-2602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يمثل تنوع الثقافات وتعددها أحد أكبر عوائق الاتصال في المجتمعات متعددة الثقافات ، فنجد بعض الكلمات المقبولة والمناسبة في ثقاف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أخرى . </a:t>
            </a:r>
            <a:r>
              <a:rPr b="0" lang="ar-SA" sz="40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علينا أن نعتقد بأن هناك قصورا في فهمنا للناس من الثقافات الأخرى ، لذا فإنه من المهم جدا أن نحترم ثقافات الآخرين 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-260280" algn="r" rtl="1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التعميم بدون استثناءات: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3160" indent="-263160" algn="ct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التعميمات تؤدي إلى تجاهل الصفات الشخصية ، ومن السهل أن نعمم لأن التعميمات لا تحتاج إلى التحليل أو الفحص أو التفكير . كما إن التعميمات قد تفسد العلاقات 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-263160" algn="r" rtl="1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9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ما المقصود بالاتصال اللفظي ؟</a:t>
            </a:r>
            <a:br>
              <a:rPr sz="4800"/>
            </a:b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nstantia"/>
              </a:rPr>
              <a:t>الاتصال اللفظي هو الاتصال الذي يتم عبر الكلمات والألفاظ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nstantia"/>
              </a:rPr>
              <a:t>بحيث يتم نقل الرسالة الصوتية من فهم المرسل الى اذن المستقبل ، ولفظ الكلام يعني "النطق به" والاتصال اللفظي يشمل التلفظ بالكلمات والتلفظ هو تموجات هوائية مصدرها في الغالب الحنجرة تشكلها اعضاء الصوت أما الكلام فهو " الأصوات المفيدة"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التطرف في الكلام :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6960" indent="-24696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-246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التطرف في الكلام يعني رؤية الأمور من زاوية واحدة فقط ، فمثلا الفقر والغنى ، الجمال والبشاعة ، الصغير والكبير ، العالي والمنخفض ، الممتاز والسيء ، الذكي والغبي ...........الخ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-2469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والتطرف اثناء الحديث والاتصال مع الآخرين عادة ما يكون سببا في الكثير من المشكلات والاختلاف في وجهات النظر بين الاشخاص 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-246960" algn="r" rtl="1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250" autoRev="1" fill="remove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6" dur="250" autoRev="1" fill="remove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7" dur="250" autoRev="1" fill="remove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لتحسين الاتصال اللفظي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تتطلب القدرة على استخدام اللغة بمهارة وتأثير لخبرة ودراسة ، ورغم تعددها وتشعبها إلا أننا سنبرز النقاط الأهم والأكثر تأثيرا وهي :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تعرف مع من تتحدث :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إذا أردنا أن نحسن وتيرة التصال ، علينا أن نعرف من المتحدث ، ومحتوى موضوع الحديث ، لنقرر ما تعنيه الكلمات ، فالتفسير الجيد يشتمل على الانتباه لاحتمال عدم الفهم وسؤال الآخر عما تعنيه معاني الكلمات بالنسبة لهم 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استخدام لغة دقيقة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إن الاستخدام الصحيح للغة عند الاتصال بالآخرين هو اشبه ما يكون باستخدام البوصلة عند تحديد الاتجاهات ...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حتما ستصل الرسائل مشوهة للمستقبل إن استخدمنا لغة خاطئة ، وكلما كان استخدامنا للكلمة دقيقا وصلنا لمرادنا بصورة افضل .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استخدام لغة معبرة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إن أجمل وأرقى اساليب التعبير ووضوح معاني الألفاظ هو بلاغة التشبيه واستخدام القصص والمعاني الرمزية لأنها بذلك تزيد كلامنا وضوحا .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2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استخدام لغة حيوية وشيقة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لكي يكون اتصالنا مؤثرا علينا أن نستخدم كلمات حيوية وممتعة . اللغة المباشرة التي تعطي بصوت نشط يمكنها ان تضفي على الحديث متعة وأهمية وقوة 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استخدام لغة ملائمة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6960" indent="-24696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هناك أنواع مختلفة من اللغة تتلاءم مع أوضاع مختلفة ، فمثلا اللغة التي نستخدمها مع شخص مسئول تتصف بالرسمية أكثر من اللغة التي نستخدمها مع أصدقائنا . إن استخدام لغة غير ملائمة للموقف قد يضيع مصداقية المتحدث ، وقد تفهم رسالته بشكل خاطئ 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-246960" algn="r" rtl="1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تحمل مسؤولية كلامك :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880" y="3276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8560" indent="-26856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كل عبارة صدرت منك ستحسب إما لك أو عليك فقد لا يقبل الاعتذار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 algn="r" rtl="1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الخلاصة :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4880" indent="-254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اننا من خلال الاتصال اللفظي الصحيح سنكون قادرين على تحويل وترجمة المعاني والمشاعر والخبرات الى رسائل ذات معنى للآخرين . إن خطأنا اللغوي يتجاوز مجرد الخطأ في لفظ بعض الكلمات بل سوف يتعدى ذلك ويعكس عدم قدرتنا على التفكير بشكل عميق فيما نريد ان نقوله ونوصله للاخرين ، كما أن فهمنا لعناصر اللغة الاربع ( الأصوات ، الكلمات ، القواعد ، المعاني ) يعد مطلبا أساسيا في فهم وتصميم المعاني التي نرغب ايصالها للآخرين بحسب نوعياتهم ومستوى تفكيره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609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38680" indent="-238680" algn="r" rtl="1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وبما ان الاتصال في الأساس يهدف الى نقل المعاني بالشكل الصحيح ، فان فهم عوائق الاتصال اللفظي يعد أمرا في غاية الأهمية ، وإن من أهم هذه العوائق حجب المعنى ، وسوء الفهم ، واختلاف الثقافات وتنوعها .. التعميم بدون استثناءات ومراعاة لأوجه الاختلاف والتطرف في الكلام 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38680" indent="-238680" algn="r" rtl="1">
              <a:lnSpc>
                <a:spcPct val="9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1066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 algn="ct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كما اننا نستخدم الكلمات لنعبر عن ذواتنا ، ولنعطي معنى لحياتنا وأنشطتنا المختلفة ، فالكلام ترجمان يعبر عن مستودعات الضمائر وينبئ بمكنونات السرائر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09480" y="7621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38680" indent="-238680" algn="r" rtl="1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كما ان تحسين قدراتنا في الاتصال اللفظي تتطلب معرفتنا الجيدة مع من نتحدث ، وأن نستخدم لغة دقيقة وواضحة عند الاتصال بالآخرين وأن نستخدم لغة معبرة وثرية ببلاغة التشبيه لإيصال المعاني بأرقى ما يكون ، وأن تكون هذه اللغة حيوية وشيقة وملائمة ، وأن تكون على قدر المسؤولية في تحمل نتائج وتبعات ما نقول ، وما يتطلبه ذلك من التفكير بعمق قبل ان ننطق بالكلمات ، فرب كلمة يقولها العبد لا يلقى لها بالا تهوي به في النار سبعين خريفا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8680" indent="-238680" algn="r" rtl="1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عنوان 1" descr=""/>
          <p:cNvPicPr/>
          <p:nvPr/>
        </p:nvPicPr>
        <p:blipFill>
          <a:blip r:embed="rId2"/>
          <a:stretch/>
        </p:blipFill>
        <p:spPr>
          <a:xfrm>
            <a:off x="255600" y="109440"/>
            <a:ext cx="9333000" cy="729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عنصر نائب للمحتوى 3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467480" cy="4876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ما المقصود باللغة ؟ وفيم تستخدم ؟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ان اللغة تعد من نعم الله العظمى ، ومن أهم مميزات الانسان ، ولها قيمتها في جميع مجالات الحياة ، وهي الخاصية التي تميز بها الإنسان عن سائر الحيوانات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فنحن نستطيع أن نستخدمها للتأثير في الآخرين بطريقة إيجابية ، كما نستطيع بواسطتها إعطاء صورة سلبية أو ايجابية عن أنفسنا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واللغة هي عقد من العلامات والرموز والأصوات والحركات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تستخدم كوسيلة لإيصال المعاني بين البشر ، ولولاها لأصبح الاتصال شبه معدوم ، او قد لا يكون هناك اتصال بين الجماعات اصلا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8080"/>
                </a:solidFill>
                <a:latin typeface="Constantia"/>
                <a:cs typeface="Simplified Arabic"/>
              </a:rPr>
              <a:t>فاللغة تشبه المنظار الذي يجعلنا نرى العالم ونتعرف على دقائقه المختلفة ، فيها نتبادل المعاني وبها نفكر وقد قيل بان اللغة وعاء الفكر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واللغة تؤثر على قدرتنا على التفكير ، فلو كان تفكيرنا واضحا ومرتبا ، لبدت كلماتنا واضحة ومرتبة ، والعكس صحيح ، ونجد انفسنا أحيانا قد فقدنا كلمة لا نستطيع بدونها إيصال المعنى ونظل نبحث عنها حتى نجدها وان لم نجدها نعجز عن ايصال افكارنا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علينا أن نتخير ألفاظنا بدقة قبل ان نبدا بالتحدث ، لاننا إذا نطقنا كلمة لن نستطيع ارجاعها ، ولا استرجاع تأثيرها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وحتى لو حاولنا تصحيح الخطأ ، أو الاعتذار عنه ، تكون الكلمات قد أحدثت مفعولها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إن أول انطباع لنا عن أي شخص نراه لأول مره قد يتكون من المظهر الخارجي له ، ولكن ما إن يبدا الشخص بالحديث ، حتى تبدأ افكاره – بواسطة اللغة – في تشكيل صورته ، التي قد تؤكد أو تغاير الصورة الذهنية التي كونها مظهره الخارجي لدينا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عنصر نائب للمحتوى 3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358040" cy="5333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3" name="chimes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عناصر اللغة 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971800"/>
            <a:ext cx="822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اللغة هي أحد عناصر الاتصال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ومن الممكن التعرف على اللغة كوسيلة اتصال بدراسة بعض عناصرها الرئيسية وهي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 algn="r" rtl="1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-343080" algn="ctr" rtl="1">
              <a:lnSpc>
                <a:spcPct val="100000"/>
              </a:lnSpc>
              <a:buClr>
                <a:srgbClr val="0000ff"/>
              </a:buClr>
              <a:buFont typeface="Simplified Arabic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00ff"/>
                </a:solidFill>
                <a:latin typeface="Simplified Arabic"/>
                <a:cs typeface="Al-Homam"/>
              </a:rPr>
              <a:t>أ – الأصوات :</a:t>
            </a:r>
            <a:br>
              <a:rPr sz="2500"/>
            </a:b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38680" indent="-2386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8080"/>
                </a:solidFill>
                <a:latin typeface="Times New Roman"/>
                <a:cs typeface="Simplified Arabic"/>
              </a:rPr>
              <a:t>يتعلم الإنسان التحدث قبل أن يتعلم الكتابة ، وقد وهب الله سبحانه وتعالى الغالبية العظمى من الناس أعضاء تساعدهم على النطق الحديث . ولكن على الررغم من قدرتنا على التحدث فإن لكل واحد منا طريقة مختلفة في النطق ، وتزداد هذه الاختلافات بين الثقافات والمناطق الجغرافية المختلفة من العالم 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38680" indent="-238680" algn="r" rtl="1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0T23:45:52Z</dcterms:created>
  <dc:creator>win8</dc:creator>
  <dc:description/>
  <dc:language>en-US</dc:language>
  <cp:lastModifiedBy>Mariem</cp:lastModifiedBy>
  <dcterms:modified xsi:type="dcterms:W3CDTF">2014-10-25T06:30:47Z</dcterms:modified>
  <cp:revision>15</cp:revision>
  <dc:subject/>
  <dc:title>مفهوم وعناصر الاتص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