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7092-3D6C-46A8-AB72-6EE60263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EBD-8F26-414E-ABE7-5C39DC85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AD5-74C8-4C3D-88F6-5BA4302E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9A73-1545-431C-BC25-BA1CED7B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839A-D0DE-40B3-8791-3AE1F2FE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618E-661E-443F-9C58-6A1EC8DF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03D0-D684-41FB-B7E0-DBFFB957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0B90-B344-4C9B-B7C8-6B09D0FB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7C53-92C7-44CB-A220-D8D36B67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3D22-C0D3-4B8E-9996-8BB9CFA4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BF79-3DFA-49F3-B1F2-DC61E31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2B7B-9784-4840-8025-FABFB51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7D64-7601-4A8C-91E2-4A25DC14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CAEB-2FBF-406C-8A7C-1032D867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F7F0-BCC8-42AF-A7E8-1AB7A17E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7B02-52A1-4763-A0D8-8FCDD7EA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0A5F-C1F6-425D-AC7C-03386772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5C2-707F-4DEE-A29D-6F403CFD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385-FD1F-4184-8AF9-4346559A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9EB8-99A0-4BF5-BAAA-424F69DD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46A-0B9D-4AE3-931E-4EF7957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194-28EB-4B2C-9370-939E95D3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7B3-A14E-46A6-A2EE-BC735F7C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6392-2460-40F1-AE4B-4AAED86C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56C1-CDB3-40AC-AB51-DC11C90A216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2D9A-E2F0-4A89-8728-C6EBBA73645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ذكاء العاطفي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ل الشخص المتفوق بالضرورة يمتلك ذكاء عاطفي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49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ا الذى يمكن ان نفعله لكى نضمن لأطفالنا اكتساب ذكاء عاطفي جيد ؟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ذكاء الاجتماعي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فتاحك السحري لتكون نجم اجتماعي محبو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رسم تخطيطي 3" descr=""/>
          <p:cNvPicPr/>
          <p:nvPr/>
        </p:nvPicPr>
        <p:blipFill>
          <a:blip r:embed="rId1"/>
          <a:stretch/>
        </p:blipFill>
        <p:spPr>
          <a:xfrm>
            <a:off x="317520" y="182520"/>
            <a:ext cx="815004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يف يوظف الذكاء الاجتماعى فى الواقع الفعلي ؟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شواهد على الذكاء الاجتماعى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حساسية اللازمة لتهدئة بكاء طفل دارج باستخدام اللمسات الصحيحة المطمئنة و بشكل تلقائ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سياسيون الناجح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معلمون الناجح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2781000"/>
            <a:ext cx="763128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كد المختصون أن كل إنسان منا في حاج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% من الذكاء الوجداني ليصل إلى النجاح وذلك مقابل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% فقط من الذكاء العقلي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ناك جدل بين علماء النفس حول اى القدرات الانسانية تعتبر اجتماعية و ايها عاطفى حيث ان الميدانين يختلطان ببعضهما , كما ان هناك تداخل بين الجزء الاجتماعى من المخ و المراكز الوجدانية – فنحن لا نستطيع فصل عاطفة ما عن العلاقات و التفاعلات الاجتماعية , فتفاعلاتنا تقود عواطف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الذكاء الاجتماعى يتضمن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وعى الاجتماعي ( ما الذى نشعر به تجاه الآخرين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يسيرات الاجتماعية ( ما الذى نفعله بهذا الوع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7788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تقمص الوجدانى الاول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عنصر نائب للمحتوى 6" descr="Anxiety-in-children.jpg"/>
          <p:cNvPicPr/>
          <p:nvPr/>
        </p:nvPicPr>
        <p:blipFill>
          <a:blip r:embed="rId1"/>
          <a:stretch/>
        </p:blipFill>
        <p:spPr>
          <a:xfrm>
            <a:off x="4925880" y="1547640"/>
            <a:ext cx="4052880" cy="4913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1280"/>
            <a:ext cx="478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 يتجلى فى قدرة الفرد على تتبع التعبيرات العرضة التى تظهر على الاشخاص و القدرة على الاحساس بمشاعر الآخرين – هذه القدرة تعتبر  حدس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و هى تتأثر بالمكونات العصبية التى نمتلكها فنحن دائما ما نرسل اشارات لمن حولنا تفيد عن حالتنا النفسية كما ان هذا يظهر حتى فى حال حاولنا حجبها عن الآخر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ن اى مقياس لهذه القدرة الاولية على التقمص الوجدانى يجب ان يقيس قدرة الفرد السريعة او التلقائية على قراءة هذه الاشارات غير اللفظية لدى شخص آخر ( مثل مقاييس الحساسية الاجتماعية و التى كان فيها على الافراد ان يخمنوا ما الذى يحدث عاطفيا عند رؤية مشهد ما لمدة ثانيتين – ان من يؤدون بشكل جيد على هذا المقياس يتم تقديرهم باعتبارهم اكثر حساسية إجتماعية ) هذه القدرة تتحسن بظروف الحياة فالأم تكون افضل من النساء غير المنجبات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6778800" cy="92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ناغم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عنصر نائب للمحتوى 4" descr="Super1site_V_500_images(342).jpg"/>
          <p:cNvPicPr/>
          <p:nvPr/>
        </p:nvPicPr>
        <p:blipFill>
          <a:blip r:embed="rId1"/>
          <a:stretch/>
        </p:blipFill>
        <p:spPr>
          <a:xfrm>
            <a:off x="4211640" y="1700280"/>
            <a:ext cx="4684680" cy="4682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3527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شخص يظهر فيه كامل الانتباه للشخص الآخر و السعى لفهمه , و هى مهارة تتحسن بالتدريب . و ان نعى ان ما نقوله سوف يكون مسئولا عما يشعر به الآخرون و يقولونه و يفعلونه و العكس حين لا يكون الشخص متواصلا بشكل جيد فان رسائله لا تتغير لكى تلائم حالة الشخص الآخر بقدر ما تعكس حالته ه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ماهي خطوات هذا التناغم 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000" y="1600200"/>
            <a:ext cx="800244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بتس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إشارات والإيحاءات التي تقوم بها أثناء تحدثك لتعبر عن فكرة م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بادل النظرات مع الآخر وإظهار الاهتمام والانتباه أثناء الاستماع إلي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وسيلة شرح مع سهم إلى الأعلى 6"/>
          <p:cNvSpPr/>
          <p:nvPr/>
        </p:nvSpPr>
        <p:spPr>
          <a:xfrm>
            <a:off x="684360" y="4365720"/>
            <a:ext cx="8064360" cy="1800000"/>
          </a:xfrm>
          <a:prstGeom prst="upArrowCallout">
            <a:avLst>
              <a:gd name="adj1" fmla="val -22948"/>
              <a:gd name="adj2" fmla="val 24994"/>
              <a:gd name="adj3" fmla="val 25000"/>
              <a:gd name="adj4" fmla="val 70041"/>
            </a:avLst>
          </a:prstGeom>
          <a:solidFill>
            <a:srgbClr val="29a744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إذا عندما تبتسم للأخر وتنظر إليه وتصغي إليه وتشارك في الحديث تكون قد حققت تناغما مع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فوق الاكاديمى ليس له اية علاقة بالحياة العاطف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شخص الذى يتمتع بذكاء مرتفع يمكن ان يكون عاجزا عن ادارة حياته الخاص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درجات الذكاء تعجز عن التنبؤ بنجاح الفرد فى الحيا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حاصل الذكاء يسهم فى تحدي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من العوامل المحددة لمستوى النجاح فى الحياة 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% للعوامل الاخرى مثل المستوى الاجتماعى او حتى الح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130120"/>
            <a:ext cx="755820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سر الذكاء الاجتماعي : الابتسامة .</a:t>
            </a:r>
            <a:br>
              <a:rPr sz="4400"/>
            </a:br>
            <a:r>
              <a:rPr b="1" lang="ar-SA" sz="4400" spc="-1" strike="noStrike">
                <a:solidFill>
                  <a:srgbClr val="7f7f7f"/>
                </a:solidFill>
                <a:latin typeface="Arial"/>
              </a:rPr>
              <a:t>في المثل الصيني: إذا لم يكن وجهك بشوشا فلا تفتح متجرا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قمص العاطفى الجديد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دقة فى التقمص العاطفى تبنى التقمص العاطفى الأولى , و لكنها تضيق الفهم الواضح لما يشعر به و يفكر به شخص آخ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بدو ان الدقة فى التقمص الوجدانى تعتبر احد المؤشرات الدالة على الزواج الناجح , خاصة فى السنوات الأولى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وعى اليقظ بنوايا شخص ما يسمح بالمزيد من الدقة فى التقمص الوجداني , و بحيث يمكننا ان نتنبأ بصورة افضل حول ما الذى سيقوم ذلك الشخص بفع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معرفة الاجتماعية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شخاص المهرة فى هذا النوع من المعرفة يعملون ما هو متوقع منهم تقريبا فى اى موقف اجتماع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عدم القدرة المزمنة على التعامل مع المشكلات الاجتماعية لا يؤدى فقط الى اعاقة العلاقات , و لكنه  يعمل كعنصر معقد فى المشكلات الن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عاوننا على ادراك الفرق فى فهمنا لماذا يدرك شخص تعليقا ما باعتباره مزحة طريفة فى حين انها تبدوا كسخرية مهينة من وجهة نظر شخص آخ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زامن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206064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تبر الاساس للتيسير الاجتماعى , و هو يتطلب منا ان نتمكن من كل من قراءة الدلائل غير اللفظية و العمل طبقا لها بصورة سلسة دون التفكير فيه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مؤشرات غير اللفظية على التزامن تتضمن مدى من التفاعلات التى تنتظم بصورة متناسقة بدء من الابتسام او الاطراق بالرأس فى اللحظة الملائمة , الى توجيه اجسامنا نحو شخص آخ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عنصر نائب للمحتوى 9" descr=""/>
          <p:cNvPicPr/>
          <p:nvPr/>
        </p:nvPicPr>
        <p:blipFill>
          <a:blip r:embed="rId1"/>
          <a:stretch/>
        </p:blipFill>
        <p:spPr>
          <a:xfrm>
            <a:off x="480960" y="328680"/>
            <a:ext cx="8298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عبير الذاتى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عنصر نائب للمحتوى 5" descr="7ff36ef1d3.jpg"/>
          <p:cNvPicPr/>
          <p:nvPr/>
        </p:nvPicPr>
        <p:blipFill>
          <a:blip r:embed="rId1"/>
          <a:stretch/>
        </p:blipFill>
        <p:spPr>
          <a:xfrm>
            <a:off x="900000" y="1989000"/>
            <a:ext cx="7272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اهتمام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هتمام يذهب لأبعد من مجرد التقمص الوجدانى فهو يعنى تقديم العون الفعلى و هذا شىء قد يعجز عنه افراد كثيرون يفتقرون لهذا المك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الاشخاص الذين يتوقفوا لمساعدة الآخرين يظهرون علامة اخرى من علامات الذكاء الاجتماعى ألا و هى الاهتم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لما كنا اكثر تقمصا وجدانيا مع شخص ما , لديه احتياجات و نشعر بالاهتمام تجاهه , كلما كان لدينا دافع اكبر نحو معاون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ا هو الذكاء العاطفى ؟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” هو مجموعة من القدرات مثل القدرة على تحفيز الذات و المثابرة و المواصلة فى وجه الاحباط , و السيطرة على ردود الافعال التلقائية و الاتزان و التحكم فى الحالة المزاجية , و التصدى لكل الضغوط التى يمكن ان تسلب الشخص قدرته على التفكير و التعاطف و التمسك بالامل 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هل حصول الشخص على حاصل ذكاء مرتفع يعنى انه سوف ينجح بالضرورة – هل يعنى انه سوف يؤدى فى حدود قدراته القصوى ؟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ا زالت المدرسة تركز على الذكاء الاكاديمى , مهملة الذكاء العاطفى الذى يلعب دورا هاما فى تقرير المصير الشخص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شير معظم الادلة الى ان الشخص الذى يتمتع بالمهارة العاطفية – و الذى يعرف و يدير مشاعره بشكل جيد , و الذى يقرأ مشاعر الغير و يتعامل معها بكفاءة – يكون قد اكتسب ميزة فى اى مجال من مجالات الحياة سواء على مستوى العلاقات العاطفية الاجتماعية , او من خلال انتقاء القواعد غير المعلنة التى تضمن النجاح فى اطار الحياة السياس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ذا هل هو نوع مختلف من الذكاء ؟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ا هى اسهامات ”هاورد جاردنر ” فى هذا المجال 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2f2f2"/>
                </a:solidFill>
                <a:latin typeface="Arial"/>
              </a:rPr>
              <a:t>اكد ”جاردنر ” على ان النجاح لا يقتصر على نوع واحد فقط من الذكاء و انما على مجموعة واسعة النطاق من انواع الذكاء , كالذكاء الموسيقى , و الحركى , و غيرها من المهارات . و نحن يعنينا هنا كل من الذكاء الشخصى و الذكاء الاجتماعى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ذكاء الاجتماعى : يعنى الذكاء فى التعامل مع الغير و القدرة على فهم الآخرين , ما الذى يحفزهم و كبف يعملون , و كيفية العمل بنجاح معهم . ( يحتاجه السياسى الناجح و المدرس و الكلينيكى و الزعيم الدي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هل يمكن للمشاعر ان تكون ذكية ؟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كيف يمكن ان نمرر الذكاء الى عواطفنا و مشاعر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ثوروندايك من العلماء الذين طرحوا فكرة ما يسمى بالذكاء الاجتماعى باعتباره احد جوانب الذكاء الشخصى – البعض الآخر سخر من الذكاء الاجتماعى و اعتبروه نوع من الاستغلال غير الاخلاقى – و فى النهاية لم يفلح اى من الصيغت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ما الذكاء الشخصى فكان امر لا يمكن تجاه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عرف نفس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بعض الاشخاص الذين يعانون من عدم القدرة على التعبير عن المشاعر او البوح بها لاى شخص و السبب فى ذلك انهم لم يعرفوا ما يشعرون به فى المقام الاو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ؤلاء الاشخاص لا يجدون الكلمات التى تعبر عن مشاعرهم . كما يبدو انهم يفتقدون المشاعر نفسها من الاساس و هذا منشأه عدم قدرتهم على التعبير عما يشعرون به و ليس غياب المشاعر ذاتها ( كما فى حالة المرضى الذين يجدون صعوبة فى التعبير عن مشاعره و هم تحت العلاج ) هذه الصعوبة تكمن فى وصف مشاعرهم او وصف مشاعر الآخرين , فهم بصفة عامة يمتلكون حصيلة لغوية محدودة جدا . و بدلا من تمكنهم من وصف مشاعرهم فانهم يصفون الاحاسيس الجسمانية المصاحبة للمشاعر مثل الغصة فى المعدة و الخفقان او الدوار و الذى قد يصاحب حالات القلق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ى ان جوهر المشكلة يكمن فى عجز المريض عن معرفة مشاعره تحديدا و خاصة التعبير عنها بالكلمات و ليس فى الشعور بها فى الاصل . و هذا الاضطراب الاساسى بشأن المشاعر كثيرا ما يقود الى الشكوى من مشاكل صحية مبهمة فى الوقت الذى يكون كل ما ألم به هو مجرد اضطراب عاطف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( اخطأ فهم الالم النفسى ) و هو مختلف عن الامراض النفسية الجسمية التى تتسبب فيها المشاكل العاطفية فى الاصابة بأمراض بدنية بالفعل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عقل الباطن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عتبر“فرويد“ من اشهر العلماء الذين لفتوا الانتباه الى اهمية العقل الباطن الذى رأى ان الجزء الاكبر من الحياة النفسية يكمن بداخ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و هذا يعنى ان المشاعر التى تبقى ملازمة لنا طوال الوقت لا تدخل دائما فى اطار العقل  الواعى , فكثيرا من مشاعرنا طبقا لاعمال فرويد كثيرا ما تكون نابعة من اللاوع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ن الاحداث التى تمر بنا قد ينجم عنها مشاعر معينة , و قد نمضى فى ما يليها من احداث غير مدركين لتأثيرها على تعاملاتنا التالية و لكن عندما تدخل الاستجابة فى دائرة الادراك – و تسجل فى القشرة المخية – سوف يكون بوسع الشخص تقييم الاشياء من جديد و اتخاذ قرار بالتخلص من كل تلك المشاعر التى لحقت به و تداخلت فى احكامه و تعاملاته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6T19:12:26Z</dcterms:created>
  <dc:creator>areej</dc:creator>
  <dc:description/>
  <dc:language>en-US</dc:language>
  <cp:lastModifiedBy>areej</cp:lastModifiedBy>
  <dcterms:modified xsi:type="dcterms:W3CDTF">2013-05-14T12:41:09Z</dcterms:modified>
  <cp:revision>34</cp:revision>
  <dc:subject/>
  <dc:title>سر الذكاء الاجتماعي : الابتسامة . في المثل الصيني: إذا لم يكن وجهك بشوشا فلا تفتح متجراُ</dc:title>
</cp:coreProperties>
</file>