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3.png" ContentType="image/png"/>
  <Override PartName="/ppt/media/image5.jpeg" ContentType="image/jpeg"/>
  <Override PartName="/ppt/media/image7.png" ContentType="image/png"/>
  <Override PartName="/ppt/media/image9.png" ContentType="image/png"/>
  <Override PartName="/ppt/media/image27.jpeg" ContentType="image/jpeg"/>
  <Override PartName="/ppt/media/image10.png" ContentType="image/png"/>
  <Override PartName="/ppt/media/image6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30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21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A92-9274-4BE6-BFEA-4233414A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E50-457C-4D90-8A6A-3C34DF2E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F87-A1CE-43EB-992D-D852C482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35B0-769B-43DA-AA1C-BA28AB89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4257-1FC1-4347-AA4F-7E7C2D0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A9FD-65EA-4705-939A-34A28DC5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6325-31FF-4834-9B9E-8A3AB47A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54B2-D9A6-462A-B9BE-3BD383C4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466A-555B-4219-AE69-ED9A9DEF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AA63-35AC-4C72-AE60-4CAE0ACF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1658-C7E1-44F0-BAFE-BBD6D66C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754-120B-43CC-AEF4-1B148143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F167-6323-448F-A7AB-6C4AE46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5DC3-88BA-4C1F-9D62-42A256EB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D3F1-86F2-457C-8D11-B989F2C1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9F06-3997-49C0-9A1B-613681A04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D5FB-9482-4347-B82F-202802EE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57EC-C222-41AE-AFCE-4762F700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B315-7709-4F17-B1F3-496C00BF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F790-D40A-4D34-B1CC-DF2CCED4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64A9E-47C1-4B61-8A3F-7F48BACF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32086-0B93-440E-859D-4A645897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3F2-1BBA-4800-AEEA-BA32BAD7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FDD3-278B-40E4-90C4-68404BB6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D5FC-BEBF-42E2-8FA7-BDD26DCD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D1C4-4D51-488B-98ED-5A11ED1B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B397-C179-4ED4-B607-D2B6157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4918-6288-420F-B904-DBF5AA73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3308F-3DF0-4C06-B445-0653C76F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FD70-1A77-4927-BE1E-2A27D4DC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9E594-B74E-4B3F-BEBA-108BF7F8A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0411E-855A-48C6-B06D-52112E0B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6E4AA-9D7B-4955-B2AA-C968C2CB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31A-7FF8-45B1-AC1D-A91AF6B0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7442-C1EB-4DDB-A1FD-B38C107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4CF6-F676-4153-B3F9-B0B876B4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CD17B-1181-4A25-8167-6B07904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EFC21-38F9-4CB3-B72F-9085D2C7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44FC0-7006-4AE7-B82E-E3D3BDD4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4B7C9-58D7-41D4-B70D-CC972AD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937B-B426-448D-8AA5-205EBB1C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CEBB6-0039-4FD2-9F21-E98AE4C9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2F94D-1B11-4717-865C-8BB2DD781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668B0-567A-4021-8A53-A911CE4C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4E34-1817-4537-9E5D-E35C926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A062-070E-40D0-B4F0-9F6FB263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AC95-5789-4B56-87B6-A2871996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EBD21-8015-45E8-949B-FCBBCFCF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D9B6-998B-49AA-A36F-E1C2EF84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B6A4-B5B4-4FED-AFA6-F02EC0B7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FF39F-E510-4F18-8BAE-B25C319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D8296-B776-4C3F-B104-CF5919F3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84D7C-F102-4705-847E-36F19578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1A92C-CAAA-449E-BF72-3AD9E639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D7D7A-E397-4925-9997-F6CBA954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006-C591-43CF-92A7-0D69983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B8AE9-95A3-47D1-8B9F-21A3DDCD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F4FCB-45CB-4AD5-A652-851146E8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72209-1F83-46E3-90D7-AE8DB9A3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3DB4-5BA8-4728-AF74-E998945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FCD9F-12D0-4488-AFF4-5DE224C7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BFC5-C9F8-4B34-8EB6-50F4ABAF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FCDE-82FA-4D28-8DEE-B8833221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E60B-9FC4-4622-8655-6CA0F4F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73B2-557D-4509-BB93-1C1B69E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17563-A698-4939-A8E7-74B3C93A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8EA1-600C-41D4-B418-A592CCF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30A2-18D9-41F7-87A4-B5533D1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1FDF0-53AE-49D8-B013-EA35F431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4A62-8F0D-425E-B37E-84B286B7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C18D2-7F1A-45E0-86B8-6C1D5934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D7B50-1926-46E3-8FAA-6FAE58D8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E748B-E0B0-4960-AB1A-F9159CD0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E505-AB90-49A0-B474-6BBDE1E4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68E0-8255-4F24-A2F7-B0AF117C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4424F-205D-456C-AA45-EF8F7D2D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D09A4-9EF4-4CB8-926A-C84EF6ED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20D-582A-4812-8726-9F583FE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0B7EB-85B2-4792-9661-B084516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E1BA-CAD6-4857-9344-C97E7D0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E3D2A-8D3F-4703-9BE3-A19A613A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1175D-13BB-4C72-9115-A4418C18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D0E2-D794-456B-8E7F-FF0994F1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DC0ED-ED6E-4B74-83C4-69AC76D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CFCA-27C0-46FA-B7AC-619635A7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AB9F-6D11-49E1-A9BD-99BCB31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52D5-5DC9-4711-ACD2-DEA6D73B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C1B00-20BD-4E3E-BE79-B28EE98C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7A9-7798-4DD9-928A-A37DA70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8D6D5-53CA-40A6-AE0F-13D299F6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62DB-005C-477B-AA23-7C5D5088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45D84-8FD5-41FA-A892-505E8041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6E7FB-FB28-4E7E-910F-519FEEE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881A9-7557-4E14-8A11-5BA789A8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46251-D262-44E2-89D4-1EF4A6EC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C4F80-FDAF-4F02-B953-217E3B26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BF99-FDCE-477A-8103-4D582DF30FA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ED61-5625-4DC8-99FB-62C7BC7B3687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4B97-2A9E-4C05-A97C-5709D5A04CB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485-DDDA-44D1-92F1-0EC338F808E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5F7-013D-47CD-B345-AF6524EAEBD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680E-F9BE-41B0-B336-2659764D259A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7DB6-2496-4328-94A8-B8A215485B75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54E-55AC-4B9E-A256-36C3987C32C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عنوان 1" descr=""/>
          <p:cNvPicPr/>
          <p:nvPr/>
        </p:nvPicPr>
        <p:blipFill>
          <a:blip r:embed="rId1"/>
          <a:stretch/>
        </p:blipFill>
        <p:spPr>
          <a:xfrm>
            <a:off x="2077920" y="1773360"/>
            <a:ext cx="4926240" cy="25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4" name="Picture 2" descr="Image result for throwing ball games"/>
          <p:cNvPicPr/>
          <p:nvPr/>
        </p:nvPicPr>
        <p:blipFill>
          <a:blip r:embed="rId1"/>
          <a:stretch/>
        </p:blipFill>
        <p:spPr>
          <a:xfrm>
            <a:off x="468360" y="1700280"/>
            <a:ext cx="4065480" cy="4067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Image result for throwing ball games"/>
          <p:cNvPicPr/>
          <p:nvPr/>
        </p:nvPicPr>
        <p:blipFill>
          <a:blip r:embed="rId2"/>
          <a:stretch/>
        </p:blipFill>
        <p:spPr>
          <a:xfrm>
            <a:off x="5159520" y="1481040"/>
            <a:ext cx="3016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7" name="Picture 2" descr="Related image"/>
          <p:cNvPicPr/>
          <p:nvPr/>
        </p:nvPicPr>
        <p:blipFill>
          <a:blip r:embed="rId1"/>
          <a:stretch/>
        </p:blipFill>
        <p:spPr>
          <a:xfrm>
            <a:off x="395280" y="1844640"/>
            <a:ext cx="4906800" cy="3679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Related image"/>
          <p:cNvPicPr/>
          <p:nvPr/>
        </p:nvPicPr>
        <p:blipFill>
          <a:blip r:embed="rId2"/>
          <a:srcRect l="16070" t="0" r="18231" b="0"/>
          <a:stretch/>
        </p:blipFill>
        <p:spPr>
          <a:xfrm>
            <a:off x="5364000" y="1773360"/>
            <a:ext cx="332928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144000" y="620280"/>
            <a:ext cx="9001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"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ومع تطور النمو يزداد تحسن مهارة الرمي،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إذ يستطيع الطفل في العام الرابع رمي الكرات الكبيرة والصغيرة، مع توجيهها إلى هدف معين إذ يكون الرمي بيد واحدة من وضع الوقوف وتكون أحدى القدمين للامام والأخرى للخلف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أو يكون الرمي من وضع الوقوف والقدمان متباعدتان وعلى خط واحد والرمي من أسفل للأعلى و للأمام" (بسطويسي،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1996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م :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149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تمكن الطفل من أداء مهارة الرمي على هدف كبير على بعد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(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2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م)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على أن يكون الهدف بموازاة ارتفاع رأس الطفل ويتم ذلك بدءاً من عمر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4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-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5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 سنوات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عندما يبلغ الطفل العام السادس يصبح في مقدوره أن يتقن دقة الرمي على هدف يبعد حوالي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(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5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م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رمي الأولاد لمسافة أبعد وبدقة أكثر من البنات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402" name="عنوان 3" descr=""/>
          <p:cNvPicPr/>
          <p:nvPr/>
        </p:nvPicPr>
        <p:blipFill>
          <a:blip r:embed="rId2"/>
          <a:stretch/>
        </p:blipFill>
        <p:spPr>
          <a:xfrm>
            <a:off x="542880" y="401760"/>
            <a:ext cx="8508960" cy="1433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924360" y="191628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الكيس باليد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بيد واحد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بيد واللقف باليدين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رمي الكيس عاليا والتصفيق قبل لقف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تكرار ما سبق بالكرة أو طفل آخر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408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287280" y="1125000"/>
            <a:ext cx="885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4760" algn="r" rtl="1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تعد مهارة الاستلام (اللقف) من أكثر المهارات الحركية الأساسية تمثيلاً لمهارة المعالجة والتناول للعضلات الكبيرة في الجسم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ويعد المحك العلمي لنجاح مهارة الاستلام لدى الطفل هو: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acbe0"/>
                </a:solidFill>
                <a:latin typeface="Lucida Sans Unicode"/>
              </a:rPr>
              <a:t> استلام الشيء المقذوف أو الكرة باليدين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104760" algn="r" rtl="1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تبدأ المحاولات الأولى لاستلام الكرة لدى الطفل في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سن الثاني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عندما يكون جالساً والرجلان متباعدتان للخارج،بينما تتدحرج الكرة بين الرجلين فيحاول إن يمسك الكرة ويسحبها نحو أحد الرجلين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لوقت الذي يعجز فيه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طفل الثاني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من العمر عن استلام الكر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طائرة في الهواء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حتى وان تم تمريرها ببطء ولمست صدره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23640" y="404640"/>
            <a:ext cx="8569080" cy="554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" وتعد بداية العام 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الخامس 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من عمر الطفل تغيراً كبيراً في مهارة استلام الكرة إذ يستمر تطور هذه المهارة، وبذلك يستطيع الطفل استلام الكرة إذا كان هناك انحراف في اتجاهها نحو اليمين أو اليسار أو الأعلى،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إن هذه المرحلة من التطور يمكن الوصول إليها عندما يكون الطفل في عمر (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6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) سنوات تقريباً،وان قابلية السرعة والانسيابية تتحسن مع تقدم عمر الطفل و 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إن (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10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%) من أطفال بعمر (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6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-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7</a:t>
            </a:r>
            <a:r>
              <a:rPr b="1" lang="ar-SA" sz="2700" spc="-1" strike="noStrike">
                <a:solidFill>
                  <a:srgbClr val="ff0000"/>
                </a:solidFill>
                <a:latin typeface="Lucida Sans Unicode"/>
              </a:rPr>
              <a:t> سنوات) قادرين على أداء مهارة الاستلام بقدر من السرعة والانسيابية" 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(ماينل,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1978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م: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234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-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235</a:t>
            </a:r>
            <a:r>
              <a:rPr b="1" lang="ar-SA" sz="2700" spc="-1" strike="noStrike">
                <a:solidFill>
                  <a:srgbClr val="595959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 algn="ct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عنوان 4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23640" y="259920"/>
            <a:ext cx="8569080" cy="597708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 fontScale="92000"/>
          </a:bodyPr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هي تلك المهارات التي يتحرك فيها الجسم حول محوره الرأسي أو الأفقي وتتضمن هذه المهارات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أ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.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الاتزان الثابت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ويقصد به القدرة التي تسمح للطفل بالاحتفاظ بثبات الجسم دون سقوط أو اهتزاز عند اتخاذ أوضاع معينة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ب</a:t>
            </a:r>
            <a:r>
              <a:rPr b="1" lang="ar-SA" sz="2800" spc="-1" strike="noStrike" u="sng">
                <a:solidFill>
                  <a:srgbClr val="595959"/>
                </a:solidFill>
                <a:uFillTx/>
                <a:latin typeface="Lucida Sans Unicode"/>
              </a:rPr>
              <a:t>. الاتزان الحركي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يقصد به القدرة التي تسمح للطفل بالتوازن أثناء أداء حركي معين،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95959"/>
                </a:solidFill>
                <a:latin typeface="Lucida Sans Unicode"/>
              </a:rPr>
              <a:t>وتشمل مهارات ثبات واتزان الجسم مهارات كالثني، والمد، والمرجحة، واللف، والدوران، والدحرجة، والاتزان المقلوب، والاتزان على قدم واحدة، والمشي على عارضة التوازن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0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331640" y="227664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- مهارات التحكم والسيطر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Lucida Sans Unicode"/>
              </a:rPr>
              <a:t>- مهارات الثبات والتوازن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عنوان 1" descr=""/>
          <p:cNvPicPr/>
          <p:nvPr/>
        </p:nvPicPr>
        <p:blipFill>
          <a:blip r:embed="rId1"/>
          <a:stretch/>
        </p:blipFill>
        <p:spPr>
          <a:xfrm>
            <a:off x="1328760" y="695160"/>
            <a:ext cx="7010280" cy="12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002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Image result for ‫حركات التوازن للأطفال‬‎"/>
          <p:cNvPicPr/>
          <p:nvPr/>
        </p:nvPicPr>
        <p:blipFill>
          <a:blip r:embed="rId2"/>
          <a:stretch/>
        </p:blipFill>
        <p:spPr>
          <a:xfrm>
            <a:off x="2286000" y="2235240"/>
            <a:ext cx="457200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سجل "بيلي"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Baylay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السن التي تظهر فيها قدرة الأطفال على التوازن ففي سن </a:t>
            </a:r>
            <a:r>
              <a:rPr b="1" lang="ar-SA" sz="2400" spc="-1" strike="noStrike">
                <a:solidFill>
                  <a:srgbClr val="ff0000"/>
                </a:solidFill>
                <a:latin typeface="Lucida Sans Unicode"/>
              </a:rPr>
              <a:t>سنتين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حاول الأطفال الوقوف على العارضة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بينما حاول أطفال أكبر منهم قليلاً المشي على العارضة بقدم والأخرى على الأرض,وفي سن ثلاث سنوات استطاع الأطفال نقل القدمين بالتبادل على العارضة ببطء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3960" algn="r" rtl="1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ووجد "كريتي "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Creaty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 أن الأطفال في عمر </a:t>
            </a:r>
            <a:r>
              <a:rPr b="1" lang="ar-SA" sz="2400" spc="-1" strike="noStrike">
                <a:solidFill>
                  <a:srgbClr val="ff0000"/>
                </a:solidFill>
                <a:latin typeface="Lucida Sans Unicode"/>
              </a:rPr>
              <a:t>خمس سنوات </a:t>
            </a:r>
            <a:r>
              <a:rPr b="1" lang="ar-SA" sz="2400" spc="-1" strike="noStrike">
                <a:solidFill>
                  <a:srgbClr val="000000"/>
                </a:solidFill>
                <a:latin typeface="Lucida Sans Unicode"/>
              </a:rPr>
              <a:t>يمكنهم الاحتفاظ بتوازنهم أثناء الوقوف على قدم واحدة حتى ولو مكتوفي الأيدي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4787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عنصر نائب للمحتوى 3" descr="a7z6vkacuaan_j_.jpg"/>
          <p:cNvPicPr/>
          <p:nvPr/>
        </p:nvPicPr>
        <p:blipFill>
          <a:blip r:embed="rId1"/>
          <a:stretch/>
        </p:blipFill>
        <p:spPr>
          <a:xfrm>
            <a:off x="1084320" y="836640"/>
            <a:ext cx="705636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عنصر نائب للمحتوى 6" descr="كيلو-جرام_ ميزان_طفل_ وحدات_القياس_تعليم_الاطفال-تمثيل_Weight-ميزان.png"/>
          <p:cNvPicPr/>
          <p:nvPr/>
        </p:nvPicPr>
        <p:blipFill>
          <a:blip r:embed="rId1"/>
          <a:stretch/>
        </p:blipFill>
        <p:spPr>
          <a:xfrm>
            <a:off x="4932360" y="692280"/>
            <a:ext cx="3672000" cy="54464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Image result for balance sport kids"/>
          <p:cNvPicPr/>
          <p:nvPr/>
        </p:nvPicPr>
        <p:blipFill>
          <a:blip r:embed="rId2"/>
          <a:stretch/>
        </p:blipFill>
        <p:spPr>
          <a:xfrm>
            <a:off x="457200" y="1757520"/>
            <a:ext cx="4038480" cy="39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جدول 6" descr=""/>
          <p:cNvPicPr/>
          <p:nvPr/>
        </p:nvPicPr>
        <p:blipFill>
          <a:blip r:embed="rId1"/>
          <a:stretch/>
        </p:blipFill>
        <p:spPr>
          <a:xfrm>
            <a:off x="774720" y="390600"/>
            <a:ext cx="7954920" cy="638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4" name="عنوان 3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solidFill>
            <a:srgbClr val="def5fa"/>
          </a:solidFill>
          <a:ln w="0">
            <a:noFill/>
          </a:ln>
        </p:spPr>
        <p:txBody>
          <a:bodyPr anchor="t">
            <a:normAutofit fontScale="88000"/>
          </a:bodyPr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dobe Arabic"/>
              </a:rPr>
              <a:t>مهارات التحكم والسيطرة تتطلب 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معالجة الأشياء أو تناولها بالأطراف كاليد والرجل أو استخدام أجزاء أخرى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تضمن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هذه المهارات وجود علاقة بين الطفل والأداة التي يستخدمها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تميز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بإعطاء قوة لهذه الأداة أو استقبال قوة منها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Adobe Arabic"/>
              </a:rPr>
              <a:t>وتجمع</a:t>
            </a: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مهارات المعالجة والتناول بين حركتين أو أكثر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dobe Arabic"/>
              </a:rPr>
              <a:t>ومن خلال هذه المهارات يتمكن الأطفال من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6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dobe Arabic"/>
              </a:rPr>
              <a:t> استكشاف حركة الأداة في الفضاء من حيث تقدير كتلة الشيء المتحرك، والمسافة التي يتحركها، وسرعة واتجاه الأداة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AutoShape 2"/>
          <p:cNvSpPr/>
          <p:nvPr/>
        </p:nvSpPr>
        <p:spPr>
          <a:xfrm>
            <a:off x="89899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864240" cy="2832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4597560" cy="20019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Related image"/>
          <p:cNvPicPr/>
          <p:nvPr/>
        </p:nvPicPr>
        <p:blipFill>
          <a:blip r:embed="rId3"/>
          <a:srcRect l="0" t="6312" r="0" b="12636"/>
          <a:stretch/>
        </p:blipFill>
        <p:spPr>
          <a:xfrm>
            <a:off x="4859280" y="333360"/>
            <a:ext cx="321948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900000" y="549360"/>
            <a:ext cx="748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dobe Arabic"/>
              </a:rPr>
              <a:t>وتشمل مهارات التحكم والسيطرة ( المعالجة والتناول) مهارات عديدة مث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ec767c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الر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ec767c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الاستلام</a:t>
            </a:r>
            <a:r>
              <a:rPr b="1" lang="en-GB" sz="3200" spc="-1" strike="noStrike">
                <a:solidFill>
                  <a:srgbClr val="ec767c"/>
                </a:solidFill>
                <a:latin typeface="Adobe Arabic"/>
              </a:rPr>
              <a:t> </a:t>
            </a:r>
            <a:r>
              <a:rPr b="1" lang="ar-SA" sz="3200" spc="-1" strike="noStrike">
                <a:solidFill>
                  <a:srgbClr val="ec767c"/>
                </a:solidFill>
                <a:latin typeface="Adobe Arabic"/>
              </a:rPr>
              <a:t>(اللق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رك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دحرجة الك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ضر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9440" algn="r" rtl="1">
              <a:lnSpc>
                <a:spcPct val="100000"/>
              </a:lnSpc>
              <a:buClr>
                <a:srgbClr val="000000"/>
              </a:buClr>
              <a:buFont typeface="Adobe Arab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dobe Arabic"/>
              </a:rPr>
              <a:t>الالتق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0" y="1125000"/>
            <a:ext cx="903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     " تعد مهار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رمي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 من أكثر المهارات أهمية وشيوعاً للتعبير عن حركات المعالجة والتناول للعضلات الكبيرة في هذه المرحلة</a:t>
            </a:r>
            <a:r>
              <a:rPr b="1" lang="en-GB" sz="28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يمكن أداء هذه المهارة باستخدام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أدوات مختلف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حيث يختلف الشيء المراد رميه من حيث الحجم والوزن والشك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1080" indent="-25272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إن الهدف من الرمي يختلف فقد يكون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دقة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 الرمي،أو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قوة </a:t>
            </a:r>
            <a:r>
              <a:rPr b="1" lang="ar-SA" sz="2800" spc="-1" strike="noStrike">
                <a:solidFill>
                  <a:srgbClr val="000000"/>
                </a:solidFill>
                <a:latin typeface="Lucida Sans Unicode"/>
              </a:rPr>
              <a:t>الرمي،أو زيادة </a:t>
            </a:r>
            <a:r>
              <a:rPr b="1" lang="ar-SA" sz="2800" spc="-1" strike="noStrike">
                <a:solidFill>
                  <a:srgbClr val="ff0000"/>
                </a:solidFill>
                <a:latin typeface="Lucida Sans Unicode"/>
              </a:rPr>
              <a:t>المسافة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3" name="عنوان 1" descr=""/>
          <p:cNvPicPr/>
          <p:nvPr/>
        </p:nvPicPr>
        <p:blipFill>
          <a:blip r:embed="rId1"/>
          <a:stretch/>
        </p:blipFill>
        <p:spPr>
          <a:xfrm>
            <a:off x="3206880" y="-55440"/>
            <a:ext cx="5595840" cy="136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2771640" y="404280"/>
            <a:ext cx="40420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رمي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24000" y="1817280"/>
            <a:ext cx="40399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تؤدى مهارة الرمي والذراع مفرودة من أعلى الرأس</a:t>
            </a:r>
            <a:r>
              <a:rPr b="1" lang="en-GB" sz="2800" spc="-1" strike="noStrike">
                <a:solidFill>
                  <a:srgbClr val="165160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كما يمكن إن تؤدى باليدين من أسفل الحوض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 algn="r" rtl="1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65160"/>
                </a:solidFill>
                <a:latin typeface="Lucida Sans Unicode"/>
              </a:rPr>
              <a:t>وتؤدى بحركة الذراع للجانب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Picture 2" descr="Image result for throwing ball games"/>
          <p:cNvPicPr/>
          <p:nvPr/>
        </p:nvPicPr>
        <p:blipFill>
          <a:blip r:embed="rId1"/>
          <a:stretch/>
        </p:blipFill>
        <p:spPr>
          <a:xfrm>
            <a:off x="5076720" y="1413000"/>
            <a:ext cx="3489480" cy="22510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Image result for throwing ball games"/>
          <p:cNvPicPr/>
          <p:nvPr/>
        </p:nvPicPr>
        <p:blipFill>
          <a:blip r:embed="rId2"/>
          <a:stretch/>
        </p:blipFill>
        <p:spPr>
          <a:xfrm>
            <a:off x="4716360" y="3716280"/>
            <a:ext cx="409104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pic>
        <p:nvPicPr>
          <p:cNvPr id="391" name="عنصر نائب للمحتوى 5" descr="2e51ffbfb30fc946189f8ca0d26b55c5.jpg"/>
          <p:cNvPicPr/>
          <p:nvPr/>
        </p:nvPicPr>
        <p:blipFill>
          <a:blip r:embed="rId1"/>
          <a:stretch/>
        </p:blipFill>
        <p:spPr>
          <a:xfrm>
            <a:off x="4067280" y="642960"/>
            <a:ext cx="4392360" cy="5616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Related image"/>
          <p:cNvPicPr/>
          <p:nvPr/>
        </p:nvPicPr>
        <p:blipFill>
          <a:blip r:embed="rId2"/>
          <a:stretch/>
        </p:blipFill>
        <p:spPr>
          <a:xfrm>
            <a:off x="1144440" y="998640"/>
            <a:ext cx="2248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6:43:44Z</dcterms:created>
  <dc:creator>areej</dc:creator>
  <dc:description/>
  <dc:language>en-US</dc:language>
  <cp:lastModifiedBy>Maha</cp:lastModifiedBy>
  <dcterms:modified xsi:type="dcterms:W3CDTF">2016-11-20T19:45:52Z</dcterms:modified>
  <cp:revision>41</cp:revision>
  <dc:subject/>
  <dc:title>الشريحة 1</dc:title>
</cp:coreProperties>
</file>