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3.png" ContentType="image/png"/>
  <Override PartName="/ppt/media/image5.jpeg" ContentType="image/jpeg"/>
  <Override PartName="/ppt/media/image7.png" ContentType="image/png"/>
  <Override PartName="/ppt/media/image9.png" ContentType="image/png"/>
  <Override PartName="/ppt/media/image27.jpeg" ContentType="image/jpeg"/>
  <Override PartName="/ppt/media/image10.png" ContentType="image/png"/>
  <Override PartName="/ppt/media/image6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8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A7A-7F45-48B5-B4E0-48EBCE93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69E-47FA-4BFB-A5F1-518193C6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2E6-9EE3-4E5B-8C09-1FD46062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57A-5D20-448C-B0A3-FBBE0AB9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DFFE-5114-4B8D-B744-1020BCE3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BA3B-C9C6-4887-997B-F83B097A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72C4-0A32-46EA-8107-24D6930C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5619-CF03-4C72-A508-72C988BC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0D6C-12CC-4944-95EC-5DC2DEAA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5B08-F5B2-4A3E-8522-E6963E65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7565-D4A8-494A-9BA9-3B51BA57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75D-6049-4CBC-B799-F0CB2095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6385-7342-4A77-8588-853DD1EE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D291-5E15-4ECD-BAE8-BACA008A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3D7B-E45A-42B2-B385-E5E2716B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AC45-6EAD-4481-9D18-94CDAD42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38DF-973D-42C1-A5CD-19811798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247B6-B2EB-43DB-888C-A647A7B8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A45EF-5143-45C9-82B8-541913B9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517F-5963-4727-A10B-F2D76FB4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BBE58-BB38-47CB-B9D1-0C7E5834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9A24-6509-4CFB-9847-8869AAD1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D6C-FC13-420C-B5F3-9B9D1CA5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E9CD8-90B7-4025-AF6C-9DA5E052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CF2F1-6A90-46C9-8400-569D3EA6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B4587-C688-4304-B0FB-B15FC545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98B0-CBB3-4AAD-801F-71FC2CE9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5E9F4-0207-4638-A1FC-4510FD78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DD23F-88DC-4BE0-97FA-7638E5F2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927C3-C604-485B-83BE-5691ADB7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4E64B-2E2B-4E25-9757-9DADE014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314B-81FD-482E-A129-4921BA16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E4053-7444-49D1-B6AC-AEEA3532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4EC2-17DA-48D9-B119-BEC0D511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306E0-1190-46E9-ABA4-54A4697F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FEBB9-29FB-483C-87A0-57DBDB97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45538-050E-420E-B5D0-AE06784F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75C16-61B1-48CE-B433-AE580BCE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8F1A0-B3F8-40A7-91FA-A90A0319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7890F-741E-45C0-8FB0-7CF2E314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1E1BD-CE0B-4649-89E6-03408D77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498B0-02EA-4131-AE69-DEB4923A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7DE86-C4AC-444E-9303-3751BDC5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2A32C-6DA9-4C8E-B918-1A02D8C2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5A8-FB3C-4F11-B40C-AD641987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1F8AD-D960-4F30-9A3B-8D18226A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E7722-782A-4768-817B-1885F880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2FDDD-6DAD-4528-BD87-D0EE62FC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35012-0EC1-40A8-817A-97C933C3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CFC7C-4BA7-44FA-95DF-9C94028C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E7965-6B35-4B59-9701-4C8143CB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91754-5DEC-4596-877B-6A279E56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BFB60-018E-4502-8861-FF2DBCA7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B6F28-90F6-4FF7-8DE0-1BBAD196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74F4D-7C6F-45CA-8814-04DD725A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8D7-186B-439F-85E5-767BF0F5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DD17F-8B85-4B2B-9497-283AD861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9079A-22DE-4D27-B9F0-C634B879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552ED-E164-46FB-9F63-4BD6BD72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B1E8D-42FF-4927-8F3B-F13182E1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0E307-1A2A-4ECB-B235-AA2A0F00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1629B-157C-4C2B-8070-CAD67137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DCFEB-8B7C-48AE-858D-E7C069BF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BB9F3-10A5-4CB1-B364-10FB2C2E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4DF59-7461-45E2-A321-35DC8272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65B4D-0C7B-4E83-8BDA-309A08C4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AE22-9F7D-4DE9-A5DD-FF1C50EB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F953C-D69E-4ADF-B6E2-AFE42936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91AB4-399B-443A-880B-389567A0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710A5-9226-418E-A86B-F1C63359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E4365-31D4-49BE-901F-3C3E9558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F0A05-AA22-485D-8FF5-7365DC99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415C9-DE6F-4B27-BF05-35052FCD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C5379-09B9-4320-A899-A4422C7B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7EC20-E6E6-400E-B0F0-28846A1D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71276-AB9E-485C-8B41-27BF859C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86FB0-7BCB-43D7-B4EE-622627EA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AD52-FA61-4E9F-840D-306704AD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B0D3F-2399-4DD2-B972-7E9452D5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EB03D-1DDF-4A8D-A3FF-5800749F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A56BE-E17A-45E4-9B31-221B8512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3B28C-212D-4A94-83C4-04FE9113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41596-4A77-4241-B36F-768FCE14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35D07-D0A7-4FF9-AA51-520BEA3F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A49FB-8F37-4E99-99AD-FE816870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FA01E-9BDB-486F-96ED-D4FD060E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21404-9D13-48AB-8F83-1D1F4245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336B1-5A95-4F2D-AB95-19C7629A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157-BD4C-4CB3-9A4D-7B9050DA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D730F-AB03-452A-AE9F-306D9AB2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DCFDB-2D46-4345-8B20-DF95105A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06A2D-8053-4C9E-AA48-46846033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94D13-1C39-425E-B696-DCE3A937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6F62B-C9FA-4EC0-BF55-DCCECA3A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12D85-3F6C-4B68-8758-9A952006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93C2A-ED2C-40E2-825C-339C1832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11B9-EF1E-4A71-9DD7-C08B9E06105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29FD-239D-44D2-A958-63BAC647E39E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6560-50CF-460F-A36C-3D2F6CC43C7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2DA1-CD5E-4A3A-8D84-0971D6C995F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DD88-BEBE-444C-9EFE-9E9803ED3B8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FB31-82E8-458B-BF1F-FC357577D09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B8DE-021E-4A88-8653-7452B89FDEF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7FC4-C376-4208-84CA-B3A4EE60F31A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عنوان 1" descr=""/>
          <p:cNvPicPr/>
          <p:nvPr/>
        </p:nvPicPr>
        <p:blipFill>
          <a:blip r:embed="rId1"/>
          <a:stretch/>
        </p:blipFill>
        <p:spPr>
          <a:xfrm>
            <a:off x="2077920" y="1773360"/>
            <a:ext cx="492624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pic>
        <p:nvPicPr>
          <p:cNvPr id="394" name="Picture 2" descr="Image result for throwing ball games"/>
          <p:cNvPicPr/>
          <p:nvPr/>
        </p:nvPicPr>
        <p:blipFill>
          <a:blip r:embed="rId1"/>
          <a:stretch/>
        </p:blipFill>
        <p:spPr>
          <a:xfrm>
            <a:off x="468360" y="1700280"/>
            <a:ext cx="4065480" cy="4067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Image result for throwing ball games"/>
          <p:cNvPicPr/>
          <p:nvPr/>
        </p:nvPicPr>
        <p:blipFill>
          <a:blip r:embed="rId2"/>
          <a:stretch/>
        </p:blipFill>
        <p:spPr>
          <a:xfrm>
            <a:off x="5159520" y="1481040"/>
            <a:ext cx="3016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pic>
        <p:nvPicPr>
          <p:cNvPr id="397" name="Picture 2" descr="Related image"/>
          <p:cNvPicPr/>
          <p:nvPr/>
        </p:nvPicPr>
        <p:blipFill>
          <a:blip r:embed="rId1"/>
          <a:stretch/>
        </p:blipFill>
        <p:spPr>
          <a:xfrm>
            <a:off x="395280" y="1844640"/>
            <a:ext cx="4906800" cy="367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Related image"/>
          <p:cNvPicPr/>
          <p:nvPr/>
        </p:nvPicPr>
        <p:blipFill>
          <a:blip r:embed="rId2"/>
          <a:srcRect l="16070" t="0" r="18231" b="0"/>
          <a:stretch/>
        </p:blipFill>
        <p:spPr>
          <a:xfrm>
            <a:off x="5364000" y="1773360"/>
            <a:ext cx="33292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44000" y="620280"/>
            <a:ext cx="9001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"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 ومع تطور النمو يزداد تحسن مهارة الرمي،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إذ يستطيع الطفل في العام الرابع رمي الكرات الكبيرة والصغيرة، مع توجيهها إلى هدف معين إذ يكون الرمي بيد واحدة من وضع الوقوف وتكون أحدى القدمين للامام والأخرى للخلف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أو يكون الرمي من وضع الوقوف والقدمان متباعدتان وعلى خط واحد والرمي من أسفل للأعلى و للأمام" (بسطويسي،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1996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م :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149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317520" indent="-22212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ويتمكن الطفل من أداء مهارة الرمي على هدف كبير على بعد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(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2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م) 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على أن يكون الهدف بموازاة ارتفاع رأس الطفل ويتم ذلك بدءاً من عمر 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4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-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5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 سنوات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وعندما يبلغ الطفل العام السادس يصبح في مقدوره أن يتقن دقة الرمي على هدف يبعد حوالي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(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5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 م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ويرمي الأولاد لمسافة أبعد وبدقة أكثر من البنات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571920" cy="2376360"/>
          </a:xfrm>
          <a:prstGeom prst="rect">
            <a:avLst/>
          </a:prstGeom>
          <a:ln w="0">
            <a:noFill/>
          </a:ln>
        </p:spPr>
      </p:pic>
      <p:pic>
        <p:nvPicPr>
          <p:cNvPr id="402" name="عنوان 3" descr=""/>
          <p:cNvPicPr/>
          <p:nvPr/>
        </p:nvPicPr>
        <p:blipFill>
          <a:blip r:embed="rId2"/>
          <a:stretch/>
        </p:blipFill>
        <p:spPr>
          <a:xfrm>
            <a:off x="542880" y="401760"/>
            <a:ext cx="8508960" cy="1433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924360" y="191628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رمي الكيس باليدي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رمي بيد واحد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رمي بيد واللقف باليدي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رمي الكيس عاليا والتصفيق قبل لقف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تكرار ما سبق بالكرة أو طفل آخر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229600" cy="1408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87280" y="112500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476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10476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عد مهارة الاستلام (اللقف) من أكثر المهارات الحركية الأساسية تمثيلاً لمهارة المعالجة والتناول للعضلات الكبيرة في الجسم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10476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ويعد المحك العلمي لنجاح مهارة الاستلام لدى الطفل هو: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104760" algn="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acbe0"/>
                </a:solidFill>
                <a:latin typeface="Lucida Sans Unicode"/>
              </a:rPr>
              <a:t> استلام الشيء المقذوف أو الكرة باليدين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10476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تبدأ المحاولات الأولى لاستلام الكرة لدى الطفل في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سن الثانية </a:t>
            </a: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عندما يكون جالساً والرجلان متباعدتان للخارج،بينما تتدحرج الكرة بين الرجلين فيحاول إن يمسك الكرة ويسحبها نحو أحد الرجلين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الوقت الذي يعجز فيه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طفل الثانية </a:t>
            </a: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من العمر عن استلام الكرة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الطائرة في الهواء </a:t>
            </a: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حتى وان تم تمريرها ببطء ولمست صدره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23640" y="404640"/>
            <a:ext cx="8569080" cy="554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309960" indent="-217080" algn="ct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" وتعد بداية العام </a:t>
            </a: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الخامس 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من عمر الطفل تغيراً كبيراً في مهارة استلام الكرة إذ يستمر تطور هذه المهارة، وبذلك يستطيع الطفل استلام الكرة إذا كان هناك انحراف في اتجاهها نحو اليمين أو اليسار أو الأعلى،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ct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ct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إن هذه المرحلة من التطور يمكن الوصول إليها عندما يكون الطفل في عمر (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6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) سنوات تقريباً،وان قابلية السرعة والانسيابية تتحسن مع تقدم عمر الطفل و </a:t>
            </a: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إن (</a:t>
            </a: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10</a:t>
            </a: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%) من أطفال بعمر (</a:t>
            </a: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6</a:t>
            </a: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7</a:t>
            </a: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 سنوات) قادرين على أداء مهارة الاستلام بقدر من السرعة والانسيابية" 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(ماينل,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1978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م: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234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-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235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ct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ct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عنوان 4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23640" y="259920"/>
            <a:ext cx="8569080" cy="5977080"/>
          </a:xfrm>
          <a:prstGeom prst="rect">
            <a:avLst/>
          </a:prstGeom>
          <a:solidFill>
            <a:srgbClr val="def5fa"/>
          </a:solidFill>
          <a:ln w="0">
            <a:noFill/>
          </a:ln>
        </p:spPr>
        <p:txBody>
          <a:bodyPr anchor="t">
            <a:normAutofit fontScale="92000"/>
          </a:bodyPr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وهي تلك المهارات التي يتحرك فيها الجسم حول محوره الرأسي أو الأفقي وتتضمن هذه المهارات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أ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.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الاتزان الثابت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ويقصد به القدرة التي تسمح للطفل بالاحتفاظ بثبات الجسم دون سقوط أو اهتزاز عند اتخاذ أوضاع معينة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ب</a:t>
            </a:r>
            <a:r>
              <a:rPr b="1" lang="ar-SA" sz="2800" spc="-1" strike="noStrike" u="sng">
                <a:solidFill>
                  <a:srgbClr val="595959"/>
                </a:solidFill>
                <a:uFillTx/>
                <a:latin typeface="Lucida Sans Unicode"/>
              </a:rPr>
              <a:t>. الاتزان الحركي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ويقصد به القدرة التي تسمح للطفل بالتوازن أثناء أداء حركي معين،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وتشمل مهارات ثبات واتزان الجسم مهارات كالثني، والمد، والمرجحة، واللف، والدوران، والدحرجة، والاتزان المقلوب، والاتزان على قدم واحدة، والمشي على عارضة التوازن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331640" y="227664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- مهارات التحكم والسيطر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- مهارات الثبات والتوازن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عنوان 1" descr=""/>
          <p:cNvPicPr/>
          <p:nvPr/>
        </p:nvPicPr>
        <p:blipFill>
          <a:blip r:embed="rId1"/>
          <a:stretch/>
        </p:blipFill>
        <p:spPr>
          <a:xfrm>
            <a:off x="1328760" y="695160"/>
            <a:ext cx="7010280" cy="12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002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Image result for ‫حركات التوازن للأطفال‬‎"/>
          <p:cNvPicPr/>
          <p:nvPr/>
        </p:nvPicPr>
        <p:blipFill>
          <a:blip r:embed="rId2"/>
          <a:stretch/>
        </p:blipFill>
        <p:spPr>
          <a:xfrm>
            <a:off x="2286000" y="2235240"/>
            <a:ext cx="457200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93960" algn="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سجل "بيلي"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Baylay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السن التي تظهر فيها قدرة الأطفال على التوازن ففي سن </a:t>
            </a:r>
            <a:r>
              <a:rPr b="1" lang="ar-SA" sz="2400" spc="-1" strike="noStrike">
                <a:solidFill>
                  <a:srgbClr val="ff0000"/>
                </a:solidFill>
                <a:latin typeface="Lucida Sans Unicode"/>
              </a:rPr>
              <a:t>سنتين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حاول الأطفال الوقوف على العارضة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3960" algn="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بينما حاول أطفال أكبر منهم قليلاً المشي على العارضة بقدم والأخرى على الأرض,وفي سن ثلاث سنوات استطاع الأطفال نقل القدمين بالتبادل على العارضة ببطء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3960" algn="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3960" algn="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ووجد "كريتي "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reaty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أن الأطفال في عمر </a:t>
            </a:r>
            <a:r>
              <a:rPr b="1" lang="ar-SA" sz="2400" spc="-1" strike="noStrike">
                <a:solidFill>
                  <a:srgbClr val="ff0000"/>
                </a:solidFill>
                <a:latin typeface="Lucida Sans Unicode"/>
              </a:rPr>
              <a:t>خمس سنوات 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يمكنهم الاحتفاظ بتوازنهم أثناء الوقوف على قدم واحدة حتى ولو مكتوفي الأيدي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478720" cy="13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عنصر نائب للمحتوى 3" descr="a7z6vkacuaan_j_.jpg"/>
          <p:cNvPicPr/>
          <p:nvPr/>
        </p:nvPicPr>
        <p:blipFill>
          <a:blip r:embed="rId1"/>
          <a:stretch/>
        </p:blipFill>
        <p:spPr>
          <a:xfrm>
            <a:off x="1084320" y="836640"/>
            <a:ext cx="705636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عنصر نائب للمحتوى 6" descr="كيلو-جرام_ ميزان_طفل_ وحدات_القياس_تعليم_الاطفال-تمثيل_Weight-ميزان.png"/>
          <p:cNvPicPr/>
          <p:nvPr/>
        </p:nvPicPr>
        <p:blipFill>
          <a:blip r:embed="rId1"/>
          <a:stretch/>
        </p:blipFill>
        <p:spPr>
          <a:xfrm>
            <a:off x="4932360" y="692280"/>
            <a:ext cx="3672000" cy="5446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Image result for balance sport kids"/>
          <p:cNvPicPr/>
          <p:nvPr/>
        </p:nvPicPr>
        <p:blipFill>
          <a:blip r:embed="rId2"/>
          <a:stretch/>
        </p:blipFill>
        <p:spPr>
          <a:xfrm>
            <a:off x="457200" y="1757520"/>
            <a:ext cx="4038480" cy="39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جدول 6" descr=""/>
          <p:cNvPicPr/>
          <p:nvPr/>
        </p:nvPicPr>
        <p:blipFill>
          <a:blip r:embed="rId1"/>
          <a:stretch/>
        </p:blipFill>
        <p:spPr>
          <a:xfrm>
            <a:off x="774720" y="390600"/>
            <a:ext cx="7954920" cy="638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4" name="عنوان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solidFill>
            <a:srgbClr val="def5fa"/>
          </a:solidFill>
          <a:ln w="0">
            <a:noFill/>
          </a:ln>
        </p:spPr>
        <p:txBody>
          <a:bodyPr anchor="t">
            <a:normAutofit fontScale="88000"/>
          </a:bodyPr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dobe Arabic"/>
              </a:rPr>
              <a:t>مهارات التحكم والسيطرة تتطلب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dobe Arabic"/>
              </a:rPr>
              <a:t>معالجة الأشياء أو تناولها بالأطراف كاليد والرجل أو استخدام أجزاء أخرى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dobe Arabic"/>
              </a:rPr>
              <a:t>وتتضمن</a:t>
            </a:r>
            <a:r>
              <a:rPr b="1" lang="ar-SA" sz="2400" spc="-1" strike="noStrike">
                <a:solidFill>
                  <a:srgbClr val="000000"/>
                </a:solidFill>
                <a:latin typeface="Adobe Arabic"/>
              </a:rPr>
              <a:t> هذه المهارات وجود علاقة بين الطفل والأداة التي يستخدمها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dobe Arabic"/>
              </a:rPr>
              <a:t>وتتميز</a:t>
            </a:r>
            <a:r>
              <a:rPr b="1" lang="ar-SA" sz="2400" spc="-1" strike="noStrike">
                <a:solidFill>
                  <a:srgbClr val="000000"/>
                </a:solidFill>
                <a:latin typeface="Adobe Arabic"/>
              </a:rPr>
              <a:t> بإعطاء قوة لهذه الأداة أو استقبال قوة منها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dobe Arabic"/>
              </a:rPr>
              <a:t>وتجمع</a:t>
            </a:r>
            <a:r>
              <a:rPr b="1" lang="ar-SA" sz="2400" spc="-1" strike="noStrike">
                <a:solidFill>
                  <a:srgbClr val="000000"/>
                </a:solidFill>
                <a:latin typeface="Adobe Arabic"/>
              </a:rPr>
              <a:t> مهارات المعالجة والتناول بين حركتين أو أكثر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dobe Arabic"/>
              </a:rPr>
              <a:t>ومن خلال هذه المهارات يتمكن الأطفال من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dobe Arabic"/>
              </a:rPr>
              <a:t> استكشاف حركة الأداة في الفضاء من حيث تقدير كتلة الشيء المتحرك، والمسافة التي يتحركها، وسرعة واتجاه الأداة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AutoShape 2"/>
          <p:cNvSpPr/>
          <p:nvPr/>
        </p:nvSpPr>
        <p:spPr>
          <a:xfrm>
            <a:off x="89899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864240" cy="2832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"/>
          <p:cNvPicPr/>
          <p:nvPr/>
        </p:nvPicPr>
        <p:blipFill>
          <a:blip r:embed="rId2"/>
          <a:stretch/>
        </p:blipFill>
        <p:spPr>
          <a:xfrm>
            <a:off x="3635280" y="4653000"/>
            <a:ext cx="4597560" cy="2001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Related image"/>
          <p:cNvPicPr/>
          <p:nvPr/>
        </p:nvPicPr>
        <p:blipFill>
          <a:blip r:embed="rId3"/>
          <a:srcRect l="0" t="6312" r="0" b="12636"/>
          <a:stretch/>
        </p:blipFill>
        <p:spPr>
          <a:xfrm>
            <a:off x="4859280" y="333360"/>
            <a:ext cx="3219480" cy="39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"/>
          <p:cNvSpPr/>
          <p:nvPr/>
        </p:nvSpPr>
        <p:spPr>
          <a:xfrm>
            <a:off x="900000" y="549360"/>
            <a:ext cx="748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dobe Arabic"/>
              </a:rPr>
              <a:t>وتشمل مهارات التحكم والسيطرة ( المعالجة والتناول) مهارات عديدة مث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lnSpc>
                <a:spcPct val="100000"/>
              </a:lnSpc>
              <a:buClr>
                <a:srgbClr val="ec767c"/>
              </a:buClr>
              <a:buFont typeface="Adobe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c767c"/>
                </a:solidFill>
                <a:latin typeface="Adobe Arabic"/>
              </a:rPr>
              <a:t>الر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lnSpc>
                <a:spcPct val="100000"/>
              </a:lnSpc>
              <a:buClr>
                <a:srgbClr val="ec767c"/>
              </a:buClr>
              <a:buFont typeface="Adobe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c767c"/>
                </a:solidFill>
                <a:latin typeface="Adobe Arabic"/>
              </a:rPr>
              <a:t>الاستلام</a:t>
            </a:r>
            <a:r>
              <a:rPr b="1" lang="en-GB" sz="3200" spc="-1" strike="noStrike">
                <a:solidFill>
                  <a:srgbClr val="ec767c"/>
                </a:solidFill>
                <a:latin typeface="Adobe Arabic"/>
              </a:rPr>
              <a:t> </a:t>
            </a:r>
            <a:r>
              <a:rPr b="1" lang="ar-SA" sz="3200" spc="-1" strike="noStrike">
                <a:solidFill>
                  <a:srgbClr val="ec767c"/>
                </a:solidFill>
                <a:latin typeface="Adobe Arabic"/>
              </a:rPr>
              <a:t>(اللق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lnSpc>
                <a:spcPct val="100000"/>
              </a:lnSpc>
              <a:buClr>
                <a:srgbClr val="000000"/>
              </a:buClr>
              <a:buFont typeface="Adobe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dobe Arabic"/>
              </a:rPr>
              <a:t>الرك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lnSpc>
                <a:spcPct val="100000"/>
              </a:lnSpc>
              <a:buClr>
                <a:srgbClr val="000000"/>
              </a:buClr>
              <a:buFont typeface="Adobe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dobe Arabic"/>
              </a:rPr>
              <a:t>دحرجة ال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lnSpc>
                <a:spcPct val="100000"/>
              </a:lnSpc>
              <a:buClr>
                <a:srgbClr val="000000"/>
              </a:buClr>
              <a:buFont typeface="Adobe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dobe Arabic"/>
              </a:rPr>
              <a:t>الضر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lnSpc>
                <a:spcPct val="100000"/>
              </a:lnSpc>
              <a:buClr>
                <a:srgbClr val="000000"/>
              </a:buClr>
              <a:buFont typeface="Adobe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dobe Arabic"/>
              </a:rPr>
              <a:t>الالتقا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0" y="112500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     " تعد مهارة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الرمي</a:t>
            </a: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 من أكثر المهارات أهمية وشيوعاً للتعبير عن حركات المعالجة والتناول للعضلات الكبيرة في هذه المرحلة</a:t>
            </a:r>
            <a:r>
              <a:rPr b="1" lang="en-GB" sz="28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1080" indent="-25272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يمكن أداء هذه المهارة باستخدام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أدوات مختلفة </a:t>
            </a: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حيث يختلف الشيء المراد رميه من حيث الحجم والوزن والشك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1080" indent="-25272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إن الهدف من الرمي يختلف فقد يكون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دقة</a:t>
            </a: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 الرمي،أو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قوة </a:t>
            </a: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الرمي،أو زيادة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المسافة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3" name="عنوان 1" descr=""/>
          <p:cNvPicPr/>
          <p:nvPr/>
        </p:nvPicPr>
        <p:blipFill>
          <a:blip r:embed="rId1"/>
          <a:stretch/>
        </p:blipFill>
        <p:spPr>
          <a:xfrm>
            <a:off x="3206880" y="-55440"/>
            <a:ext cx="5595840" cy="13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2771640" y="404280"/>
            <a:ext cx="40420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Lucida Sans Unicode"/>
              </a:rPr>
              <a:t>الرمي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24000" y="1817280"/>
            <a:ext cx="40399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0448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65160"/>
                </a:solidFill>
                <a:latin typeface="Lucida Sans Unicode"/>
              </a:rPr>
              <a:t>تؤدى مهارة الرمي والذراع مفرودة من أعلى الرأس</a:t>
            </a:r>
            <a:r>
              <a:rPr b="1" lang="en-GB" sz="2800" spc="-1" strike="noStrike">
                <a:solidFill>
                  <a:srgbClr val="16516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65160"/>
                </a:solidFill>
                <a:latin typeface="Lucida Sans Unicode"/>
              </a:rPr>
              <a:t>كما يمكن إن تؤدى باليدين من أسفل الحوض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65160"/>
                </a:solidFill>
                <a:latin typeface="Lucida Sans Unicode"/>
              </a:rPr>
              <a:t>وتؤدى بحركة الذراع للجانب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Picture 2" descr="Image result for throwing ball games"/>
          <p:cNvPicPr/>
          <p:nvPr/>
        </p:nvPicPr>
        <p:blipFill>
          <a:blip r:embed="rId1"/>
          <a:stretch/>
        </p:blipFill>
        <p:spPr>
          <a:xfrm>
            <a:off x="5076720" y="1413000"/>
            <a:ext cx="3489480" cy="2251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Image result for throwing ball games"/>
          <p:cNvPicPr/>
          <p:nvPr/>
        </p:nvPicPr>
        <p:blipFill>
          <a:blip r:embed="rId2"/>
          <a:stretch/>
        </p:blipFill>
        <p:spPr>
          <a:xfrm>
            <a:off x="4716360" y="3716280"/>
            <a:ext cx="409104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pic>
        <p:nvPicPr>
          <p:cNvPr id="391" name="عنصر نائب للمحتوى 5" descr="2e51ffbfb30fc946189f8ca0d26b55c5.jpg"/>
          <p:cNvPicPr/>
          <p:nvPr/>
        </p:nvPicPr>
        <p:blipFill>
          <a:blip r:embed="rId1"/>
          <a:stretch/>
        </p:blipFill>
        <p:spPr>
          <a:xfrm>
            <a:off x="4067280" y="642960"/>
            <a:ext cx="4392360" cy="56167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Related image"/>
          <p:cNvPicPr/>
          <p:nvPr/>
        </p:nvPicPr>
        <p:blipFill>
          <a:blip r:embed="rId2"/>
          <a:stretch/>
        </p:blipFill>
        <p:spPr>
          <a:xfrm>
            <a:off x="1144440" y="998640"/>
            <a:ext cx="2248200" cy="490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16:43:44Z</dcterms:created>
  <dc:creator>areej</dc:creator>
  <dc:description/>
  <dc:language>en-US</dc:language>
  <cp:lastModifiedBy>Maha</cp:lastModifiedBy>
  <dcterms:modified xsi:type="dcterms:W3CDTF">2016-11-20T19:45:52Z</dcterms:modified>
  <cp:revision>41</cp:revision>
  <dc:subject/>
  <dc:title>الشريحة 1</dc:title>
</cp:coreProperties>
</file>