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6"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ea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ea typeface="Arial"/>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eece1"/>
                </a:solidFill>
                <a:latin typeface="Calibri"/>
              </a:rPr>
              <a:t>Click to move the slide</a:t>
            </a:r>
            <a:endParaRPr b="0" lang="en-US" sz="5000" spc="-1" strike="noStrike">
              <a:solidFill>
                <a:srgbClr val="eeece1"/>
              </a:solidFill>
              <a:latin typeface="Calibri"/>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ea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E6DFD-1C2E-4B83-B826-5934F5DF39F1}" type="slidenum">
              <a:rPr b="0" lang="ar-S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4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DF619-ADC6-48AA-93AE-9E9066CE564E}"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D5B4A-3DC8-423F-B8AE-EB67868C6403}"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C9C9F-6281-423E-A55F-77F91B57F61E}"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12058-11C5-4FFA-89AD-7C9F50C76B9D}"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6F6D3-E8CC-482B-B1AD-33E096052069}"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945E5-3BB7-44B7-B176-743FD3A54AA6}"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951D8-235B-4656-B757-B34CF9E4D2C0}"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9F7F1-577C-4BC9-8B78-E1185E402386}"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92830-6A5B-4347-AD57-86682E4AAC52}"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8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4D5DB-FB6E-4E4D-BBF9-406E339701CA}"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4E9F4-794C-4EA2-8645-C06582F9994E}"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9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90554-F81D-4076-BF87-C1BAA5C25159}"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4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7E603-D811-46D1-B367-2D9C2B0C5950}"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4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25151-D295-44EA-9D54-3970A77E9C50}"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4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58B49-3C32-4EA2-98A3-B80D9570B511}"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C07A4-54E6-4115-8A74-5C61099BB88A}"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7765A-FD8E-46B9-9584-409D46F0EFCD}"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5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1D769-4707-4220-993D-07B433F84D68}"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6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BA31E-B28A-4844-A0CB-3E4EBCA3064D}"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BDB058-1566-4F48-AFE0-B49F35EE14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7F456-F43D-4105-8FA6-4D50B2EB2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FC60A7-ECB0-4AF1-ACCE-50F57E59EA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CF6EF4-6B0C-4903-A621-EAF594532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43EA28-9A20-450D-8171-A4CE228A35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7FD048-6562-4A3E-98E6-4B79757E2B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6EE799-A12F-480E-88EA-1505AEB4BD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B7B887-EAC3-4C47-9F36-AAFB16A1D5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08B723-17D2-45D3-BFB2-83BF26605B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A9D091-B9E8-47C8-8347-3BFD281A5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A134C4-7CB4-4622-9C74-16FE1E887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6918B-28B2-4730-BB60-34248E366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D647E-94D3-4600-8B0E-409983895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9282B-C9C7-4E12-8EBE-F8A126C3D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771938-C890-4887-894B-6488117451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850D01-BAC0-4B2D-8F6C-2EE5EF2A8D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2AE9B3-C817-4EA1-BD21-AF52F2EFA6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43CC3-FB57-4DCD-A2DD-B0ED9BFEB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328C6-9F3D-42D9-924B-E4D64FD6C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E2EB9-1CAC-4FDA-BD6A-1B8B5C0DC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1CD6B-6503-484A-8FB3-0F6D57276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AC5E1-8A09-4CA5-81A1-BDA94FA5B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DAC46-97DE-4B2C-9A4E-BC0295E0B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910EF-ACD3-4724-ABAF-6C9D59D1F5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prstGeom prst="pie">
            <a:avLst/>
          </a:prstGeom>
          <a:gradFill rotWithShape="0">
            <a:gsLst>
              <a:gs pos="0">
                <a:srgbClr val="95302e">
                  <a:alpha val="45098"/>
                </a:srgbClr>
              </a:gs>
              <a:gs pos="100000">
                <a:srgbClr val="95c237">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شكل حر 7"/>
          <p:cNvSpPr/>
          <p:nvPr/>
        </p:nvSpPr>
        <p:spPr>
          <a:xfrm>
            <a:off x="4381560" y="-7920"/>
            <a:ext cx="4762440" cy="638280"/>
          </a:xfrm>
          <a:prstGeom prst="pie">
            <a:avLst/>
          </a:prstGeom>
          <a:gradFill rotWithShape="0">
            <a:gsLst>
              <a:gs pos="0">
                <a:srgbClr val="749434">
                  <a:alpha val="45098"/>
                </a:srgbClr>
              </a:gs>
              <a:gs pos="100000">
                <a:srgbClr val="bd322e">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eece1"/>
                </a:solidFill>
                <a:latin typeface="Calibri"/>
              </a:rPr>
              <a:t>Click to edit the title text format</a:t>
            </a:r>
            <a:endParaRPr b="0" lang="en-US" sz="5000" spc="-1" strike="noStrike">
              <a:solidFill>
                <a:srgbClr val="eeece1"/>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9bbb5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8064a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3e1d7"/>
                </a:solidFill>
                <a:latin typeface="Constantia"/>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3e1d7"/>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3e1d7"/>
                </a:solidFill>
                <a:latin typeface="Constant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843D2-6E52-4070-A7CD-4FD66457C04D}" type="slidenum">
              <a:rPr b="0" lang="ar-SA" sz="1200" spc="-1" strike="noStrike">
                <a:solidFill>
                  <a:srgbClr val="e3e1d7"/>
                </a:solidFill>
                <a:latin typeface="Constantia"/>
              </a:rPr>
              <a:t>&lt;number&gt;</a:t>
            </a:fld>
            <a:endParaRPr b="0" lang="en-US" sz="1200" spc="-1" strike="noStrike">
              <a:solidFill>
                <a:srgbClr val="000000"/>
              </a:solidFill>
              <a:latin typeface="Arial"/>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 name="شكل حر 12"/>
            <p:cNvGrpSpPr/>
            <p:nvPr/>
          </p:nvGrpSpPr>
          <p:grpSpPr>
            <a:xfrm>
              <a:off x="-19080" y="248040"/>
              <a:ext cx="9181080" cy="561600"/>
              <a:chOff x="-19080" y="248040"/>
              <a:chExt cx="9181080" cy="561600"/>
            </a:xfrm>
          </p:grpSpPr>
          <p:pic>
            <p:nvPicPr>
              <p:cNvPr id="12" name="شكل حر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مستطيل ذو زاوية واحدة مخدوشة ودائرية 8"/>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مثلث قائم الزاوية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شكل حر 9"/>
          <p:cNvSpPr/>
          <p:nvPr/>
        </p:nvSpPr>
        <p:spPr>
          <a:xfrm flipV="1">
            <a:off x="-9000" y="5815440"/>
            <a:ext cx="9162720" cy="1041480"/>
          </a:xfrm>
          <a:prstGeom prst="pie">
            <a:avLst/>
          </a:prstGeom>
          <a:gradFill rotWithShape="0">
            <a:gsLst>
              <a:gs pos="0">
                <a:srgbClr val="95302e">
                  <a:alpha val="45098"/>
                </a:srgbClr>
              </a:gs>
              <a:gs pos="100000">
                <a:srgbClr val="95c237">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شكل حر 10"/>
          <p:cNvSpPr/>
          <p:nvPr/>
        </p:nvSpPr>
        <p:spPr>
          <a:xfrm flipV="1">
            <a:off x="4381560" y="6219000"/>
            <a:ext cx="4762440" cy="638280"/>
          </a:xfrm>
          <a:prstGeom prst="pie">
            <a:avLst/>
          </a:prstGeom>
          <a:gradFill rotWithShape="0">
            <a:gsLst>
              <a:gs pos="0">
                <a:srgbClr val="749434">
                  <a:alpha val="45098"/>
                </a:srgbClr>
              </a:gs>
              <a:gs pos="100000">
                <a:srgbClr val="bd322e">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eece1"/>
                </a:solidFill>
                <a:latin typeface="Calibri"/>
              </a:rPr>
              <a:t>Click to edit the title text format</a:t>
            </a:r>
            <a:endParaRPr b="0" lang="en-US" sz="5000" spc="-1" strike="noStrike">
              <a:solidFill>
                <a:srgbClr val="eeece1"/>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9bbb5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8064a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3e1d7"/>
                </a:solidFill>
                <a:latin typeface="Constantia"/>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3e1d7"/>
                </a:solidFill>
                <a:latin typeface="Constantia"/>
              </a:rPr>
              <a:t>&lt;date/time&gt;</a:t>
            </a:r>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3e1d7"/>
                </a:solidFill>
                <a:latin typeface="Constantia"/>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14ACF-CF3C-41D3-B81C-711268CEBF70}" type="slidenum">
              <a:rPr b="0" lang="ar-SA" sz="1200" spc="-1" strike="noStrike">
                <a:solidFill>
                  <a:srgbClr val="e3e1d7"/>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عنوان 1" descr=""/>
          <p:cNvPicPr/>
          <p:nvPr/>
        </p:nvPicPr>
        <p:blipFill>
          <a:blip r:embed="rId1"/>
          <a:stretch/>
        </p:blipFill>
        <p:spPr>
          <a:xfrm>
            <a:off x="530280" y="1365120"/>
            <a:ext cx="8302680" cy="1901880"/>
          </a:xfrm>
          <a:prstGeom prst="rect">
            <a:avLst/>
          </a:prstGeom>
          <a:ln w="0">
            <a:noFill/>
          </a:ln>
        </p:spPr>
      </p:pic>
      <p:sp>
        <p:nvSpPr>
          <p:cNvPr id="10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                      المنهج النمائى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324000" y="714240"/>
            <a:ext cx="8229600" cy="5214960"/>
          </a:xfrm>
          <a:prstGeom prst="rect">
            <a:avLst/>
          </a:prstGeom>
          <a:noFill/>
          <a:ln w="0">
            <a:noFill/>
          </a:ln>
        </p:spPr>
        <p:txBody>
          <a:bodyPr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كما انه داخل الروضة تتوفر فرص للتفاعل الاجتماعى لم تكن متوفرة داخل المحيط الاسرى و هذا مما يعاون الاطفال على الخروج من التمركز حول الذات</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كما ان الاطفال يجدون انفسهم احيانا مضطرين لتقديم تنازلات حتى يتسنى لمواقف اللعب من الاستمرار</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ما من حيث الاختلافات بين الجنسين (الذكور والاناث)</a:t>
            </a:r>
            <a:r>
              <a:rPr b="0" lang="en-US" sz="2600" spc="-1" strike="noStrike">
                <a:solidFill>
                  <a:srgbClr val="ffffff"/>
                </a:solidFill>
                <a:latin typeface="Constantia"/>
              </a:rPr>
              <a:t> </a:t>
            </a:r>
            <a:r>
              <a:rPr b="0" lang="ar-SA" sz="2600" spc="-1" strike="noStrike">
                <a:solidFill>
                  <a:srgbClr val="ffffff"/>
                </a:solidFill>
                <a:latin typeface="Constantia"/>
              </a:rPr>
              <a:t>ان حجر الزاوية بالنسبة للصحة النفسية هو ارساء هوية جنسية ايجابية بمعنى تقبل الفرد و شعوره بالارتياح من كونه ذكرا او انثى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7" name=""/>
          <p:cNvSpPr txBox="1"/>
          <p:nvPr/>
        </p:nvSpPr>
        <p:spPr>
          <a:xfrm>
            <a:off x="457200" y="856800"/>
            <a:ext cx="8229600" cy="5467320"/>
          </a:xfrm>
          <a:prstGeom prst="rect">
            <a:avLst/>
          </a:prstGeom>
          <a:noFill/>
          <a:ln w="0">
            <a:noFill/>
          </a:ln>
        </p:spPr>
        <p:txBody>
          <a:bodyPr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و يعتقد ان التنميط الجنسى يحد من مدى الخبرات التى يمكن ان يتلقاها الاطفال فى مواقف اللعب كما يحد من المفاهيم و المهارات المرتبطة بها كما قد يحد من فرص الخيال بالنسبة لما يودون القيام به حين يكبرون </a:t>
            </a:r>
            <a:endParaRPr b="0" lang="en-US" sz="2600" spc="-1" strike="noStrike">
              <a:solidFill>
                <a:srgbClr val="ffffff"/>
              </a:solidFill>
              <a:latin typeface="Constanti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9640" y="33300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ffff00"/>
                </a:solidFill>
                <a:latin typeface="Calibri"/>
              </a:rPr>
              <a:t>دور المعلمة فى الارتقاء بالنمو العاطفي و الاجتماعي </a:t>
            </a:r>
            <a:endParaRPr b="0" lang="en-US" sz="4500" spc="-1" strike="noStrike">
              <a:solidFill>
                <a:srgbClr val="eeece1"/>
              </a:solidFill>
              <a:latin typeface="Calibri"/>
            </a:endParaRPr>
          </a:p>
        </p:txBody>
      </p:sp>
      <p:sp>
        <p:nvSpPr>
          <p:cNvPr id="119" name=""/>
          <p:cNvSpPr txBox="1"/>
          <p:nvPr/>
        </p:nvSpPr>
        <p:spPr>
          <a:xfrm>
            <a:off x="457200" y="1628640"/>
            <a:ext cx="8229600" cy="4695840"/>
          </a:xfrm>
          <a:prstGeom prst="rect">
            <a:avLst/>
          </a:prstGeom>
          <a:noFill/>
          <a:ln w="0">
            <a:noFill/>
          </a:ln>
        </p:spPr>
        <p:txBody>
          <a:bodyPr anchor="t">
            <a:normAutofit/>
          </a:bodyPr>
          <a:p>
            <a:pPr marL="272880" indent="-272880" algn="r" rtl="1">
              <a:lnSpc>
                <a:spcPct val="8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توفير الفرص للأطفال للاشتراك فى انشطة ملائمة لمرحلة نموهم و تجنب الضغط عليهم فى الاشتراك فى انشطة لا يرغبون فيها</a:t>
            </a:r>
            <a:endParaRPr b="0" lang="en-US" sz="2400" spc="-1" strike="noStrike">
              <a:solidFill>
                <a:srgbClr val="ffffff"/>
              </a:solidFill>
              <a:latin typeface="Constantia"/>
            </a:endParaRPr>
          </a:p>
          <a:p>
            <a:pPr marL="272880" indent="-272880" algn="r" rtl="1">
              <a:lnSpc>
                <a:spcPct val="8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السلوك العاطفى و الاجتماعى فى مجمله متعلما فى معظمه وليس ولاديا و بالتالى فانه بالإمكان تغييره و تعديله تبعا للخبرات التي يمر بها الاطفال</a:t>
            </a:r>
            <a:endParaRPr b="0" lang="en-US" sz="2400" spc="-1" strike="noStrike">
              <a:solidFill>
                <a:srgbClr val="ffffff"/>
              </a:solidFill>
              <a:latin typeface="Constantia"/>
            </a:endParaRPr>
          </a:p>
          <a:p>
            <a:pPr marL="272880" indent="-272880" algn="r" rtl="1">
              <a:lnSpc>
                <a:spcPct val="8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ان تشجع الاطفال على ان ينموا و يطبقوا و يوسعوا من مخزونهم الخاص بالتفاعلات الاجتماعية من خلال توفير الفرص للتفاعل الاجتماعى</a:t>
            </a:r>
            <a:endParaRPr b="0" lang="en-US" sz="2400" spc="-1" strike="noStrike">
              <a:solidFill>
                <a:srgbClr val="ffffff"/>
              </a:solidFill>
              <a:latin typeface="Constantia"/>
            </a:endParaRPr>
          </a:p>
          <a:p>
            <a:pPr marL="272880" indent="-272880" algn="r" rtl="1">
              <a:lnSpc>
                <a:spcPct val="8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ان التقدير الفردى للأطفال و تقبل الفروق الفردية بينهم يسمح للتفاعلات الاجتماعية المعقدة من الظهور فيما بعد و التى ستشكل المشهد الاجتماعى فى المدرسة الابتدائية </a:t>
            </a:r>
            <a:endParaRPr b="0" lang="en-US" sz="2400" spc="-1" strike="noStrike">
              <a:solidFill>
                <a:srgbClr val="ffffff"/>
              </a:solidFill>
              <a:latin typeface="Constantia"/>
            </a:endParaRPr>
          </a:p>
          <a:p>
            <a:pPr marL="272880" indent="-272880" algn="r" rtl="1">
              <a:lnSpc>
                <a:spcPct val="8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0" name=""/>
          <p:cNvSpPr txBox="1"/>
          <p:nvPr/>
        </p:nvSpPr>
        <p:spPr>
          <a:xfrm>
            <a:off x="457200" y="785520"/>
            <a:ext cx="8229600" cy="5538600"/>
          </a:xfrm>
          <a:prstGeom prst="rect">
            <a:avLst/>
          </a:prstGeom>
          <a:noFill/>
          <a:ln w="0">
            <a:noFill/>
          </a:ln>
        </p:spPr>
        <p:txBody>
          <a:bodyPr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ن تعى ان الكفاءة المتزايدة فى الميدان الاجتماعى يسمح للاطفال بأن يخططوا و ينفذوا و يقيموا انجازاتهم كما يتعلمون الكثير حول انفسهم و الآخرين و يختبروا قدراتهم فى مواقف اجتماعية تضم الكبار و الاقران </a:t>
            </a:r>
            <a:endParaRPr b="0" lang="en-US" sz="2600" spc="-1" strike="noStrike">
              <a:solidFill>
                <a:srgbClr val="ffffff"/>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 </a:t>
            </a:r>
            <a:endParaRPr b="0" lang="en-US" sz="2600" spc="-1" strike="noStrike">
              <a:solidFill>
                <a:srgbClr val="ffffff"/>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ن التقدير الفردى للأطفال و تقبل الفروق الفردية بينهم يسمح للتفاعلات الاجتماعية المعقدة من الظهور فيما بعد و التى ستشكل المشهد الاجتماعى فى المدرسة الابتدائية </a:t>
            </a:r>
            <a:endParaRPr b="0" lang="en-US" sz="2600" spc="-1" strike="noStrike">
              <a:solidFill>
                <a:srgbClr val="ffffff"/>
              </a:solidFill>
              <a:latin typeface="Constanti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28400"/>
            <a:ext cx="8229600" cy="85716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ffff00"/>
                </a:solidFill>
                <a:latin typeface="Calibri"/>
              </a:rPr>
              <a:t>النمو المعرفى </a:t>
            </a:r>
            <a:endParaRPr b="0" lang="en-US" sz="5000" spc="-1" strike="noStrike">
              <a:solidFill>
                <a:srgbClr val="eeece1"/>
              </a:solidFill>
              <a:latin typeface="Calibri"/>
            </a:endParaRPr>
          </a:p>
        </p:txBody>
      </p:sp>
      <p:sp>
        <p:nvSpPr>
          <p:cNvPr id="122" name=""/>
          <p:cNvSpPr txBox="1"/>
          <p:nvPr/>
        </p:nvSpPr>
        <p:spPr>
          <a:xfrm>
            <a:off x="457200" y="1499760"/>
            <a:ext cx="8229600" cy="4824360"/>
          </a:xfrm>
          <a:prstGeom prst="rect">
            <a:avLst/>
          </a:prstGeom>
          <a:noFill/>
          <a:ln w="0">
            <a:noFill/>
          </a:ln>
        </p:spPr>
        <p:txBody>
          <a:bodyPr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تزايد الاهتمام بالنمو المعرفى مع تراكم الملاحظات حول انخفاض مستوى الاكاديمى للأطفال الذين يأتون من بيئات فقيرة مقارنة بأولئك الذين يأتون من بيئات ميسورة حيث توفر الاخيرة خبرات تعلم أكثر ثراء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كذلك توافرت الادلة على ان عامل الذكاء يعتبر محدد ضعيف على النجاح الاكاديمى اللاحق و كذلك على النجاح فى الحياة بصفة عامة و ان هذا المكون ليس ثابتا كما كان يعتقد فى الماضى مما نتج عنه نقلة نوعية فى برامج الطفولة  المبكرة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2840"/>
            <a:ext cx="8229600" cy="80892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24" name=""/>
          <p:cNvSpPr txBox="1"/>
          <p:nvPr/>
        </p:nvSpPr>
        <p:spPr>
          <a:xfrm>
            <a:off x="457200" y="928800"/>
            <a:ext cx="8229600" cy="5395680"/>
          </a:xfrm>
          <a:prstGeom prst="rect">
            <a:avLst/>
          </a:prstGeom>
          <a:noFill/>
          <a:ln w="0">
            <a:noFill/>
          </a:ln>
        </p:spPr>
        <p:txBody>
          <a:bodyPr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ن فهم الخصائص المعرفية لطفل ما قبل المدرسة يدعونا لتبنى سياسات تربوية و تعليمية متفردة و خاصة بهذه المرحلة </a:t>
            </a:r>
            <a:endParaRPr b="0" lang="en-US" sz="2600" spc="-1" strike="noStrike">
              <a:solidFill>
                <a:srgbClr val="ffffff"/>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259920"/>
            <a:ext cx="8229600" cy="7398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66"/>
                </a:solidFill>
                <a:latin typeface="Calibri"/>
              </a:rPr>
              <a:t>اساليب تفكير اطفال ما قبل المدرسة </a:t>
            </a:r>
            <a:endParaRPr b="0" lang="en-US" sz="4000" spc="-1" strike="noStrike">
              <a:solidFill>
                <a:srgbClr val="eeece1"/>
              </a:solidFill>
              <a:latin typeface="Calibri"/>
            </a:endParaRPr>
          </a:p>
        </p:txBody>
      </p:sp>
      <p:sp>
        <p:nvSpPr>
          <p:cNvPr id="126" name=""/>
          <p:cNvSpPr txBox="1"/>
          <p:nvPr/>
        </p:nvSpPr>
        <p:spPr>
          <a:xfrm>
            <a:off x="457200" y="1213920"/>
            <a:ext cx="8229600" cy="5110200"/>
          </a:xfrm>
          <a:prstGeom prst="rect">
            <a:avLst/>
          </a:prstGeom>
          <a:noFill/>
          <a:ln w="0">
            <a:noFill/>
          </a:ln>
        </p:spPr>
        <p:txBody>
          <a:bodyPr anchor="t">
            <a:normAutofit/>
          </a:bodyPr>
          <a:p>
            <a:pPr marL="272880" indent="-272880" algn="r"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تميزون بالفضول و لكن لديهم قدر من التمركز حول الذات مما يحد من مكتسباتهم</a:t>
            </a:r>
            <a:endParaRPr b="0" lang="en-US" sz="2600" spc="-1" strike="noStrike">
              <a:solidFill>
                <a:srgbClr val="ffffff"/>
              </a:solidFill>
              <a:latin typeface="Constantia"/>
            </a:endParaRPr>
          </a:p>
          <a:p>
            <a:pPr marL="272880" indent="-272880" algn="r"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نمو لا يتم بصورة منعزلة فالخبرات الاجتماعية تستثير النمو المعرفى سواء أكانت مع الاطفال ام الكبار بما يقدمونه من سلوك المساندة </a:t>
            </a:r>
            <a:r>
              <a:rPr b="0" lang="en-US" sz="2600" spc="-1" strike="noStrike">
                <a:solidFill>
                  <a:srgbClr val="ffffff"/>
                </a:solidFill>
                <a:latin typeface="Constantia"/>
              </a:rPr>
              <a:t>scaffolding</a:t>
            </a:r>
            <a:r>
              <a:rPr b="0" lang="en-US" sz="2600" spc="-1" strike="noStrike">
                <a:solidFill>
                  <a:srgbClr val="ffffff"/>
                </a:solidFill>
                <a:latin typeface="Constantia"/>
              </a:rPr>
              <a:t> </a:t>
            </a:r>
            <a:r>
              <a:rPr b="0" lang="ar-SA" sz="2600" spc="-1" strike="noStrike">
                <a:solidFill>
                  <a:srgbClr val="ffffff"/>
                </a:solidFill>
                <a:latin typeface="Constantia"/>
              </a:rPr>
              <a:t> </a:t>
            </a:r>
            <a:endParaRPr b="0" lang="en-US" sz="2600" spc="-1" strike="noStrike">
              <a:solidFill>
                <a:srgbClr val="ffffff"/>
              </a:solidFill>
              <a:latin typeface="Constantia"/>
            </a:endParaRPr>
          </a:p>
          <a:p>
            <a:pPr marL="272880" indent="-272880" algn="r"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كل طفل يظهر استعدادات مختلفة و لذلك يجب توفير أنشطة لعب تتضمن قدرا متوسطا من التحدى لكل طفل </a:t>
            </a:r>
            <a:r>
              <a:rPr b="0" lang="en-US" sz="2600" spc="-1" strike="noStrike">
                <a:solidFill>
                  <a:srgbClr val="ffffff"/>
                </a:solidFill>
                <a:latin typeface="Constantia"/>
              </a:rPr>
              <a:t>zone of proximal development</a:t>
            </a:r>
            <a:r>
              <a:rPr b="0" lang="en-US" sz="2600" spc="-1" strike="noStrike">
                <a:solidFill>
                  <a:srgbClr val="ffffff"/>
                </a:solidFill>
                <a:latin typeface="Constantia"/>
              </a:rPr>
              <a:t> </a:t>
            </a:r>
            <a:endParaRPr b="0" lang="en-US" sz="2600" spc="-1" strike="noStrike">
              <a:solidFill>
                <a:srgbClr val="ffffff"/>
              </a:solidFill>
              <a:latin typeface="Constantia"/>
            </a:endParaRPr>
          </a:p>
          <a:p>
            <a:pPr marL="272880" indent="-272880" algn="r"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لغة تعتبر من العناصر الهامة التى تسرع بالنمو المعرفى فهى التى تيسر التفاعلات الاجتماعية التى من خلالها يتعلم مهارات ومعارف جديدة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836640"/>
            <a:ext cx="8229600" cy="5487840"/>
          </a:xfrm>
          <a:prstGeom prst="rect">
            <a:avLst/>
          </a:prstGeom>
          <a:noFill/>
          <a:ln w="0">
            <a:noFill/>
          </a:ln>
        </p:spPr>
        <p:txBody>
          <a:bodyPr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بإمكان الاطفال تعلم عدد من المفاهيم و الموضوعات و لكن باساليب تناسب طرق تفكيرهم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لا يمكنهم ان يعدوا ارقاما كبيرة كما لا يمكنهم القيام بعمليات جمع و طرح بصورة مجردة</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مهاراتهم فى التذكر محدودة و لكنهم يتذكرون السياق العام للاحداث</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تتطور اللغة بقدر كبير من زيادة فى المفردات الى القدرة على تكوين جمل اكثر تعقيدا , و يقومون بعمليات استدلال حين يتعرضون لكلمات جديدة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428760"/>
            <a:ext cx="8229600" cy="78552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66"/>
                </a:solidFill>
                <a:latin typeface="Calibri"/>
              </a:rPr>
              <a:t>دور المعلمة فى الارتقاء بالنمو المعرفى </a:t>
            </a:r>
            <a:endParaRPr b="0" lang="en-US" sz="4000" spc="-1" strike="noStrike">
              <a:solidFill>
                <a:srgbClr val="eeece1"/>
              </a:solidFill>
              <a:latin typeface="Calibri"/>
            </a:endParaRPr>
          </a:p>
        </p:txBody>
      </p:sp>
      <p:sp>
        <p:nvSpPr>
          <p:cNvPr id="129" name=""/>
          <p:cNvSpPr txBox="1"/>
          <p:nvPr/>
        </p:nvSpPr>
        <p:spPr>
          <a:xfrm>
            <a:off x="457200" y="1428480"/>
            <a:ext cx="8229600" cy="4895640"/>
          </a:xfrm>
          <a:prstGeom prst="rect">
            <a:avLst/>
          </a:prstGeom>
          <a:noFill/>
          <a:ln w="0">
            <a:noFill/>
          </a:ln>
        </p:spPr>
        <p:txBody>
          <a:bodyPr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معلمات ينظر اليهن اليوم باعتبارهن ميسرات للتعلم و لسن ناقلات للمعرفة بالمعنى التقليدى القديم (من خلال اعدادهن للبيئة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جب ان تعى بدورها فى توجيه التعلم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جب ان تعكس وعيها بأهمية اللعب فى الارتقاء بتعلم الاطفال و ان الكثير مما كنا نعتبره لعبا فى الماضى اصبحنا ندرك الآن انه من انشطة الذكاء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كما ان اللعب الاستكشافى يعتبر خطوة هامة فى طريق الاستكشاف العلمى اللاحق </a:t>
            </a:r>
            <a:endParaRPr b="0" lang="en-US" sz="2600" spc="-1" strike="noStrike">
              <a:solidFill>
                <a:srgbClr val="ffffff"/>
              </a:solidFill>
              <a:latin typeface="Constanti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42960" y="-1013760"/>
            <a:ext cx="8229600" cy="80892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eece1"/>
              </a:solidFill>
              <a:latin typeface="Calibri"/>
            </a:endParaRPr>
          </a:p>
        </p:txBody>
      </p:sp>
      <p:sp>
        <p:nvSpPr>
          <p:cNvPr id="131" name=""/>
          <p:cNvSpPr txBox="1"/>
          <p:nvPr/>
        </p:nvSpPr>
        <p:spPr>
          <a:xfrm>
            <a:off x="457200" y="856800"/>
            <a:ext cx="8229600" cy="5467320"/>
          </a:xfrm>
          <a:prstGeom prst="rect">
            <a:avLst/>
          </a:prstGeom>
          <a:noFill/>
          <a:ln w="0">
            <a:noFill/>
          </a:ln>
        </p:spPr>
        <p:txBody>
          <a:bodyPr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يضا يساهم اللعب فى نمو الابتكار من خلال بناء النماذج و اللعب بالمكعبات و اللعب الدرامى و التخيلى و لذلك يجب على المعلمة ان توفر خامات اللعب التى تستثير هذه المهارات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وسيلة شرح بيضاوية 3"/>
          <p:cNvSpPr/>
          <p:nvPr/>
        </p:nvSpPr>
        <p:spPr>
          <a:xfrm>
            <a:off x="1979640" y="1916280"/>
            <a:ext cx="5832360" cy="3025440"/>
          </a:xfrm>
          <a:prstGeom prst="wedgeEllipseCallout">
            <a:avLst>
              <a:gd name="adj1" fmla="val -20833"/>
              <a:gd name="adj2" fmla="val 62500"/>
            </a:avLst>
          </a:prstGeom>
          <a:solidFill>
            <a:srgbClr val="4f81bd"/>
          </a:solidFill>
          <a:ln w="38160">
            <a:solidFill>
              <a:srgbClr val="ffffff"/>
            </a:solidFill>
            <a:miter/>
          </a:ln>
          <a:effectLst>
            <a:outerShdw dist="38160" dir="5400000" blurRad="0" rotWithShape="0">
              <a:srgbClr val="13263d">
                <a:alpha val="4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Constantia"/>
              </a:rPr>
              <a:t>ماذا يقصد بهذا المنهج؟</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28760"/>
            <a:ext cx="8229600" cy="78552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66"/>
                </a:solidFill>
                <a:latin typeface="Calibri"/>
              </a:rPr>
              <a:t>طبيعة التعلم </a:t>
            </a:r>
            <a:endParaRPr b="0" lang="en-US" sz="4000" spc="-1" strike="noStrike">
              <a:solidFill>
                <a:srgbClr val="eeece1"/>
              </a:solidFill>
              <a:latin typeface="Calibri"/>
            </a:endParaRPr>
          </a:p>
        </p:txBody>
      </p:sp>
      <p:sp>
        <p:nvSpPr>
          <p:cNvPr id="133" name=""/>
          <p:cNvSpPr txBox="1"/>
          <p:nvPr/>
        </p:nvSpPr>
        <p:spPr>
          <a:xfrm>
            <a:off x="457200" y="1285920"/>
            <a:ext cx="8229600" cy="5038560"/>
          </a:xfrm>
          <a:prstGeom prst="rect">
            <a:avLst/>
          </a:prstGeom>
          <a:noFill/>
          <a:ln w="0">
            <a:noFill/>
          </a:ln>
        </p:spPr>
        <p:txBody>
          <a:bodyPr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تعلم هو اى تغير فى السلوك ناتج عن الخبرة و هو يتأثر بكل من النضج و الخبرة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معلم الكفء يجب ان يكون قادرا على فهم عمليات التعلم الانسانى و كيفية البناء عليها و الارتقاء بها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جب ان يعى المعلم كيف ان النمو العقلى فى هذه المرحلة يسير بخطى سريعة قلما تتوفر فى اى مرحلة اخرى و لذلك فان المهارات التى يتم تعلمها فى هذه المرحلة لا تنسى بسهولة ( التعلم فى الصغر كالنقش على الحجر )</a:t>
            </a:r>
            <a:endParaRPr b="0" lang="en-US" sz="2600" spc="-1" strike="noStrike">
              <a:solidFill>
                <a:srgbClr val="ffffff"/>
              </a:solidFill>
              <a:latin typeface="Constanti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85480"/>
            <a:ext cx="8229600" cy="78588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66"/>
                </a:solidFill>
                <a:latin typeface="Calibri"/>
              </a:rPr>
              <a:t>اهم المسلمات فيما يتعلق بالتعلم </a:t>
            </a:r>
            <a:endParaRPr b="0" lang="en-US" sz="4000" spc="-1" strike="noStrike">
              <a:solidFill>
                <a:srgbClr val="eeece1"/>
              </a:solidFill>
              <a:latin typeface="Calibri"/>
            </a:endParaRPr>
          </a:p>
        </p:txBody>
      </p:sp>
      <p:sp>
        <p:nvSpPr>
          <p:cNvPr id="135" name=""/>
          <p:cNvSpPr txBox="1"/>
          <p:nvPr/>
        </p:nvSpPr>
        <p:spPr>
          <a:xfrm>
            <a:off x="457200" y="1213920"/>
            <a:ext cx="8229600" cy="5110200"/>
          </a:xfrm>
          <a:prstGeom prst="rect">
            <a:avLst/>
          </a:prstGeom>
          <a:noFill/>
          <a:ln w="0">
            <a:noFill/>
          </a:ln>
        </p:spPr>
        <p:txBody>
          <a:bodyPr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تعلم دائما ما يظهر فى السياق الاجتماعى , و دور الكبار و الاطفال الآخرين هو التوسط و تدعيم و توسيع هذا التعلم و يعتبر هذا الدور حاسما فى عمليات التعلم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ن الاطفال يمكن ان ينموا اما احساسا بالتمكن حول تعلمهم او ان ينموا احساسا بالعجز</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استغراق يعتبر من المفاهيم الدالة فى قياس ما اذا كان الاطفال يتعلمون ام لا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42960" y="-1013760"/>
            <a:ext cx="8229600" cy="80892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eeece1"/>
              </a:solidFill>
              <a:latin typeface="Calibri"/>
            </a:endParaRPr>
          </a:p>
        </p:txBody>
      </p:sp>
      <p:sp>
        <p:nvSpPr>
          <p:cNvPr id="137" name=""/>
          <p:cNvSpPr txBox="1"/>
          <p:nvPr/>
        </p:nvSpPr>
        <p:spPr>
          <a:xfrm>
            <a:off x="457200" y="714240"/>
            <a:ext cx="8229600" cy="5610240"/>
          </a:xfrm>
          <a:prstGeom prst="rect">
            <a:avLst/>
          </a:prstGeom>
          <a:noFill/>
          <a:ln w="0">
            <a:noFill/>
          </a:ln>
        </p:spPr>
        <p:txBody>
          <a:bodyPr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اطفال ذوو المستويات المرتفعة من الثقافة الانفعالية يكونون عادة متعلمين ناجحين اكثر من غيرهم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هناك ذكاءات متعددة بحاجة الى تغذيتها و رعايتها و دعمها اذا ما كان للاطفال ان يصلوا الى تحقيق قدراتهم كاملة </a:t>
            </a:r>
            <a:endParaRPr b="0" lang="en-US" sz="2600" spc="-1" strike="noStrike">
              <a:solidFill>
                <a:srgbClr val="ffffff"/>
              </a:solidFill>
              <a:latin typeface="Constant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9640" y="404280"/>
            <a:ext cx="8229600" cy="66708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Calibri"/>
              </a:rPr>
              <a:t>الملامح الأساسية التي تميز هذا المنهج : </a:t>
            </a:r>
            <a:endParaRPr b="0" lang="en-US" sz="4000" spc="-1" strike="noStrike">
              <a:solidFill>
                <a:srgbClr val="eeece1"/>
              </a:solidFill>
              <a:latin typeface="Calibri"/>
            </a:endParaRPr>
          </a:p>
        </p:txBody>
      </p:sp>
      <p:sp>
        <p:nvSpPr>
          <p:cNvPr id="106" name=""/>
          <p:cNvSpPr txBox="1"/>
          <p:nvPr/>
        </p:nvSpPr>
        <p:spPr>
          <a:xfrm>
            <a:off x="468360" y="1285920"/>
            <a:ext cx="8229600" cy="5022720"/>
          </a:xfrm>
          <a:prstGeom prst="rect">
            <a:avLst/>
          </a:prstGeom>
          <a:noFill/>
          <a:ln w="0">
            <a:noFill/>
          </a:ln>
        </p:spPr>
        <p:txBody>
          <a:bodyPr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بنى المنهج وفقا لخصائص الاطفال النمائية</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تعلم لا يعرف بشكل ضيق بأنه اكتساب المهارات الاكاديمية فقط (فهى ليست غاية فى حد ذاتها , بل هى وسيلة لغاية)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نطلق التخطيط للمنهج من الايمان بأن الرغبة فى التعلم فطرية و لسنا في حاجة لخلق الدافعية للتعلم و إنما تغذية هذه الرغبة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لا يجب ان يعمل التعليم على عزل الطفل عن المجتمع</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أخطاء الطفل ذات قيمة لأنها خطوة فى طريق التعلم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457200" y="764640"/>
            <a:ext cx="8229600" cy="5559480"/>
          </a:xfrm>
          <a:prstGeom prst="rect">
            <a:avLst/>
          </a:prstGeom>
          <a:noFill/>
          <a:ln w="0">
            <a:noFill/>
          </a:ln>
        </p:spPr>
        <p:txBody>
          <a:bodyPr anchor="t">
            <a:normAutofit/>
          </a:bodyPr>
          <a:p>
            <a:pPr marL="272880" indent="-272880" algn="r" rtl="1">
              <a:spcBef>
                <a:spcPts val="70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onstantia"/>
              </a:rPr>
              <a:t>هناك اعتراف بوجود فروق فردية بين الأطفال منذالبداية و الهدف ليس القضاء عليها و انما تنمية القدرات الفردية المتميزة</a:t>
            </a:r>
            <a:endParaRPr b="0" lang="en-US" sz="28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لعب هو جوهر المنهاج فى الطفولة المبكرة و من خلاله يتعلم الأطفال (هو ليس مكافأة و أنما هو النشاط الأساسى</a:t>
            </a:r>
            <a:r>
              <a:rPr b="0" lang="en-US" sz="2600" spc="-1" strike="noStrike">
                <a:solidFill>
                  <a:srgbClr val="ffffff"/>
                </a:solidFill>
                <a:latin typeface="Constantia"/>
              </a:rPr>
              <a:t>(</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ألعاب المقترحة فى المنهج يجب ان تتضمن اهدافا تربوية</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عدم اللجوء للشرح او المحاضرة</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85228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ffff00"/>
                </a:solidFill>
                <a:latin typeface="Calibri"/>
              </a:rPr>
              <a:t>أهم ملامح النمو لدى طفل الروضة و خصائص هذا النمو</a:t>
            </a:r>
            <a:endParaRPr b="0" lang="en-US" sz="4500" spc="-1" strike="noStrike">
              <a:solidFill>
                <a:srgbClr val="eeece1"/>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68360" y="500040"/>
            <a:ext cx="8229600" cy="5786640"/>
          </a:xfrm>
          <a:prstGeom prst="rect">
            <a:avLst/>
          </a:prstGeom>
          <a:noFill/>
          <a:ln w="0">
            <a:noFill/>
          </a:ln>
        </p:spPr>
        <p:txBody>
          <a:bodyPr anchor="t">
            <a:normAutofit/>
          </a:bodyPr>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Constantia"/>
              </a:rPr>
              <a:t>النمو الجسماني/ الحركي</a:t>
            </a:r>
            <a:endParaRPr b="0" lang="en-US" sz="2600" spc="-1" strike="noStrike">
              <a:solidFill>
                <a:srgbClr val="ffffff"/>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00"/>
                </a:solidFill>
                <a:latin typeface="Constantia"/>
              </a:rPr>
              <a:t>من سن </a:t>
            </a:r>
            <a:r>
              <a:rPr b="0" lang="ar-SA" sz="2600" spc="-1" strike="noStrike">
                <a:solidFill>
                  <a:srgbClr val="ffff00"/>
                </a:solidFill>
                <a:latin typeface="Constantia"/>
              </a:rPr>
              <a:t>5</a:t>
            </a:r>
            <a:r>
              <a:rPr b="0" lang="ar-SA" sz="2600" spc="-1" strike="noStrike">
                <a:solidFill>
                  <a:srgbClr val="ffff00"/>
                </a:solidFill>
                <a:latin typeface="Constantia"/>
              </a:rPr>
              <a:t>-</a:t>
            </a:r>
            <a:r>
              <a:rPr b="0" lang="ar-SA" sz="2600" spc="-1" strike="noStrike">
                <a:solidFill>
                  <a:srgbClr val="ffff00"/>
                </a:solidFill>
                <a:latin typeface="Constantia"/>
              </a:rPr>
              <a:t>6</a:t>
            </a:r>
            <a:r>
              <a:rPr b="0" lang="ar-SA" sz="2600" spc="-1" strike="noStrike">
                <a:solidFill>
                  <a:srgbClr val="ffff00"/>
                </a:solidFill>
                <a:latin typeface="Constantia"/>
              </a:rPr>
              <a:t> سنوات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تعلمون التحكم فى أجسامهم و يجب معاونتهم على صقل قدراتهم و مهاراتهم العضلية مثل الجرى و الوقوف على قدم واحدة لفترة يستكشف الطفل طولها بنفسه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نمى الاطفال قدراتهم على التركيز لذلك لا يجب مقاطعة أنشطتهم ما داموا مستغرقين فى النشاط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بدؤون فى إظهار الاستعداد للعب التشاركى و يجب تشجيعهم على ذلك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بدؤون فى تكوين صداقات حقيقية ولذلك يجب السماح لهم باختيار شركائهم فى اللعب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04520"/>
            <a:ext cx="8229600" cy="79524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ffff00"/>
                </a:solidFill>
                <a:latin typeface="Calibri"/>
              </a:rPr>
              <a:t>ملامح اضافية للنمو الجسماني/ الحركي</a:t>
            </a:r>
            <a:endParaRPr b="0" lang="en-US" sz="5000" spc="-1" strike="noStrike">
              <a:solidFill>
                <a:srgbClr val="eeece1"/>
              </a:solidFill>
              <a:latin typeface="Calibri"/>
            </a:endParaRPr>
          </a:p>
        </p:txBody>
      </p:sp>
      <p:sp>
        <p:nvSpPr>
          <p:cNvPr id="111"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معدة الاطفال من </a:t>
            </a:r>
            <a:r>
              <a:rPr b="0" lang="ar-SA" sz="2600" spc="-1" strike="noStrike">
                <a:solidFill>
                  <a:srgbClr val="ffffff"/>
                </a:solidFill>
                <a:latin typeface="Constantia"/>
              </a:rPr>
              <a:t>4</a:t>
            </a:r>
            <a:r>
              <a:rPr b="0" lang="ar-SA" sz="2600" spc="-1" strike="noStrike">
                <a:solidFill>
                  <a:srgbClr val="ffffff"/>
                </a:solidFill>
                <a:latin typeface="Constantia"/>
              </a:rPr>
              <a:t>-</a:t>
            </a:r>
            <a:r>
              <a:rPr b="0" lang="ar-SA" sz="2600" spc="-1" strike="noStrike">
                <a:solidFill>
                  <a:srgbClr val="ffffff"/>
                </a:solidFill>
                <a:latin typeface="Constantia"/>
              </a:rPr>
              <a:t>6</a:t>
            </a:r>
            <a:r>
              <a:rPr b="0" lang="ar-SA" sz="2600" spc="-1" strike="noStrike">
                <a:solidFill>
                  <a:srgbClr val="ffffff"/>
                </a:solidFill>
                <a:latin typeface="Constantia"/>
              </a:rPr>
              <a:t> سنوات نصف سعة معدة البالغ</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جب تشجيع الاطفال على تناول اطعمة متنوعة إلا ان ذلك لا يعنى ارغامهم على تناول طعام معين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معظم الاطفال يكونون قد اتموا التدريب على ضبط الاخراج عند التحاقهم بالروضة و بالتالى فإنهم سوف يعلنون رغبتهم على تفريغ امعائهم عندما يشعرون بالرغبة فى ذلك</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85480"/>
            <a:ext cx="8229600" cy="92844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Calibri"/>
              </a:rPr>
              <a:t>دور المعلمة فى الارتقاء بالنمو الحركى </a:t>
            </a:r>
            <a:endParaRPr b="0" lang="en-US" sz="4000" spc="-1" strike="noStrike">
              <a:solidFill>
                <a:srgbClr val="eeece1"/>
              </a:solidFill>
              <a:latin typeface="Calibri"/>
            </a:endParaRPr>
          </a:p>
        </p:txBody>
      </p:sp>
      <p:sp>
        <p:nvSpPr>
          <p:cNvPr id="113" name=""/>
          <p:cNvSpPr txBox="1"/>
          <p:nvPr/>
        </p:nvSpPr>
        <p:spPr>
          <a:xfrm>
            <a:off x="457200" y="1428480"/>
            <a:ext cx="8229600" cy="4895640"/>
          </a:xfrm>
          <a:prstGeom prst="rect">
            <a:avLst/>
          </a:prstGeom>
          <a:noFill/>
          <a:ln w="0">
            <a:noFill/>
          </a:ln>
        </p:spPr>
        <p:txBody>
          <a:bodyPr anchor="t">
            <a:normAutofit/>
          </a:bodyPr>
          <a:p>
            <a:pPr marL="272880" indent="-272880" algn="r"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اتاحة فرص متنوعة للخبرات الحركية لكي تيسر من نمو المهارات الحركية الكبيرة و الصغيرة </a:t>
            </a:r>
            <a:endParaRPr b="0" lang="en-US" sz="2400" spc="-1" strike="noStrike">
              <a:solidFill>
                <a:srgbClr val="ffffff"/>
              </a:solidFill>
              <a:latin typeface="Constantia"/>
            </a:endParaRPr>
          </a:p>
          <a:p>
            <a:pPr marL="272880" indent="-272880" algn="r"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الالعاب التنافسية التى تعتمد على تكوين فريقين ليست محبذة</a:t>
            </a:r>
            <a:endParaRPr b="0" lang="en-US" sz="2400" spc="-1" strike="noStrike">
              <a:solidFill>
                <a:srgbClr val="ffffff"/>
              </a:solidFill>
              <a:latin typeface="Constantia"/>
            </a:endParaRPr>
          </a:p>
          <a:p>
            <a:pPr marL="272880" indent="-272880" algn="r"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توفير الخامات و الاجهزة الملائمة التى يمكنهم ان يستخدموها فى لعبهم التلقائى بحيث يقرروا انشطتهم بأنفسهم </a:t>
            </a:r>
            <a:endParaRPr b="0" lang="en-US" sz="2400" spc="-1" strike="noStrike">
              <a:solidFill>
                <a:srgbClr val="ffffff"/>
              </a:solidFill>
              <a:latin typeface="Constantia"/>
            </a:endParaRPr>
          </a:p>
          <a:p>
            <a:pPr marL="272880" indent="-272880" algn="r"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بالإمكان أن تخطط المعلمة لبعض الانشطة التى تيسر المهارات الحركية كالحركة و الرقص و انشطة العلوم و الطهى </a:t>
            </a:r>
            <a:endParaRPr b="0" lang="en-US" sz="2400" spc="-1" strike="noStrike">
              <a:solidFill>
                <a:srgbClr val="ffffff"/>
              </a:solidFill>
              <a:latin typeface="Constantia"/>
            </a:endParaRPr>
          </a:p>
          <a:p>
            <a:pPr marL="272880" indent="-272880" algn="r"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nstantia"/>
              </a:rPr>
              <a:t>أن تراعى الاختلافات بين الأطفال فى معدلات النمو و التى تتجلى فى عدم اقبال بعض الاطفال على الانشطة التى تفوق قدراتهم فى هذه المرحلة  </a:t>
            </a:r>
            <a:endParaRPr b="0" lang="en-US" sz="2400" spc="-1" strike="noStrike">
              <a:solidFill>
                <a:srgbClr val="ffffff"/>
              </a:solidFill>
              <a:latin typeface="Constantia"/>
            </a:endParaRPr>
          </a:p>
          <a:p>
            <a:pPr marL="272880" indent="-272880" algn="r"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ffff00"/>
                </a:solidFill>
                <a:latin typeface="Calibri"/>
              </a:rPr>
              <a:t>ثانيا النمو الاجتماعى و الانفعالى </a:t>
            </a:r>
            <a:endParaRPr b="0" lang="en-US" sz="5000" spc="-1" strike="noStrike">
              <a:solidFill>
                <a:srgbClr val="eeece1"/>
              </a:solidFill>
              <a:latin typeface="Calibri"/>
            </a:endParaRPr>
          </a:p>
        </p:txBody>
      </p:sp>
      <p:sp>
        <p:nvSpPr>
          <p:cNvPr id="115"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تؤثر الجوانب الانفعالية و العاطفية على كافة جوانب النمو الاخرى</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صبحون اقل تمركزا حول ذواتهم يصبحون اكثر قدرة على فهم الآخرين</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وصف اريك اريكسون مرحلة ما قبل المدرسة بانها مرحلة المبادرة(توليد افكار جديدة ) فى مقابل الشعور بالذنب </a:t>
            </a:r>
            <a:endParaRPr b="0" lang="en-US" sz="2600" spc="-1" strike="noStrike">
              <a:solidFill>
                <a:srgbClr val="ffffff"/>
              </a:solidFill>
              <a:latin typeface="Constantia"/>
            </a:endParaRPr>
          </a:p>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يمكننا ملاحظة  ادلة على تطور الضمير الخلقى للطفل , الا ان ذلك الضمير لا يستقر قبل سنوات من هذه المرحلة </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3T05:55:23Z</dcterms:created>
  <dc:creator>ASUS</dc:creator>
  <dc:description/>
  <dc:language>en-US</dc:language>
  <cp:lastModifiedBy>aroma.faiz@yahoo.com</cp:lastModifiedBy>
  <dcterms:modified xsi:type="dcterms:W3CDTF">2014-03-30T19:28:54Z</dcterms:modified>
  <cp:revision>91</cp:revision>
  <dc:subject/>
  <dc:title>اتجاه الممارسات الملائمة نمائيا</dc:title>
</cp:coreProperties>
</file>