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451C-40CC-4819-9BCA-29AC5BDA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9CAB-951B-4892-BAB8-C33454A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0E35-86AD-41F2-B58C-38C2CFE8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3579-3BBA-4FD3-8F3A-8942C60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9190-BAC3-4E31-88BA-342278BC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320-A35B-48DA-8820-7B8F850D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EF44-01F7-47C9-B155-0BAA241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1FF-1774-44A3-BF48-0564AAD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9EDB-61BF-4293-A92A-B918F8F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87CA-DDAB-48F5-96EC-EF8B176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0361-A6BA-4355-9A6A-DE2C672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1C14-717A-4860-8C11-B9838FF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7597-36D9-4DF4-A678-09AF58B2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DC3F-F47B-4013-8A9C-B0B6EC7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E8D-0C7C-4008-A903-7424DA1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EF05-2336-406A-AF33-4575046F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72F-309B-4444-ACD5-092E6658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D942-6B4A-49DB-A94A-51D1460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449B-1F47-438F-9B80-E062CE5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0CFA-A0B5-4179-9FAF-914DDEF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72C0-2903-479C-B13F-3D79BE3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B23F-F799-4300-98D1-B7C46E1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E6A1-CBB9-4448-A647-972B513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2D70-71AA-446D-8B96-16D46FB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047-3301-4093-8C6F-9584B97090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F9B8-06DF-4B5E-A31E-0A58AA869C7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37160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39ee3"/>
                </a:solidFill>
                <a:latin typeface="Arial"/>
              </a:rPr>
              <a:t>الاتجاهات الحديثة في رياض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380880" y="1371600"/>
            <a:ext cx="8382240" cy="64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ﻫ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برنامج التعليم المفتو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تضمن خبرات تربوية تتوافق مع استعدادات وامكانات الاطفال والبيئ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تطلب تطبيق هذا البرنامج توفر مساحات يمكن استخدامها بحرية تامة وطرق متعد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لا توجد في هذه البرامج حجرات دراسية منفص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لا تعمل المعلمة بمفردها بل تعمل بنظام التعليم الفريقي.“ لمراعاة الفروق الفردية بين الاطفال“ ” توفير الانتباه والملاحظة الكافية ” ” اظهار قدرات وامكانات المعلمات وتبادل الخبرات بينهن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قسم الأطفال داخل الصف إلى مجموعات تمارس نشاطات متنو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يتيح الفرصة أمام المعلمات لكي تؤدي كل منهن الدور الذي يناسبها والعمل الذي تتق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400"/>
                            </p:stCondLst>
                            <p:childTnLst>
                              <p:par>
                                <p:cTn id="297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30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3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3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2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609480" y="117000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و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برنامج الفعالية الأس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ستهدف دعم العلاقة بين المنزل وروضة الأطفال عن طريق تثقيف الآب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لا يقدم هذا البرنامج على حده بل يستخدم مع واحد أو أكثر من البرامج الساب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"/>
          <p:cNvSpPr/>
          <p:nvPr/>
        </p:nvSpPr>
        <p:spPr>
          <a:xfrm>
            <a:off x="304920" y="2133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ماذا نحتاج لتنفيذ تلك البرامج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304920" y="838080"/>
            <a:ext cx="84582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99"/>
                </a:solidFill>
                <a:uFillTx/>
                <a:latin typeface="Arial"/>
              </a:rPr>
              <a:t> الخبرات التربوية التي تتضمنها برامج ومناهج رياض الأطف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4d17a"/>
                </a:solidFill>
                <a:latin typeface="Arial"/>
              </a:rPr>
              <a:t>مبادئها ومميزات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تستند الخبرات التربوية على أن الجانب المعرفي أو المادة الدراسية ليس كل ما يجب أن يقدم للأطف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قوم على أساس حاجات الأطفال الأساسية وعلى نشاطهم الفردي والجماع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وتشتق الخبرات في هذه البرامج من المواقف التي يتعرض لها المتعلم في حياته وتثيره نحو دراس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إن هدف الخبرة هو أن يكتسب المتعلم ما يحتاج إليه  المجتمع من أفرا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هتم الخبرات التربوية بتكوين المهارات  بمختلف أنواعها، مع غرس العادات المرغو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     فيها وتنمي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تلافى الخبرات التربوية عيوب المواد الدراسية المنفص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9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95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3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6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25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7"/>
          <p:cNvSpPr/>
          <p:nvPr/>
        </p:nvSpPr>
        <p:spPr>
          <a:xfrm>
            <a:off x="2514600" y="763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مضمون الخبرات التربوية المتكا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6781680" y="717480"/>
            <a:ext cx="1905120" cy="208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قدرات 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نتباه، تذكر، تكوين، علاقات، تخيل، تفكير ابتك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6781680" y="2317680"/>
            <a:ext cx="1905120" cy="177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ح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مييز سمعي، تمييز بصري، تمييز لمسي، الشم، التذو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6781680" y="3917880"/>
            <a:ext cx="1905120" cy="238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حر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آزر البصري الحركي، عضلات كبرى، عضلات صغر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800600" y="5181480"/>
            <a:ext cx="1905120" cy="269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عاون، مبادرة، مسئولية فردية، مسئولية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533520" y="641520"/>
            <a:ext cx="1904760" cy="197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ق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دينية، خلقية،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33520" y="2241720"/>
            <a:ext cx="1904760" cy="249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تقال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حافظة على التراث الشعبي للوط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533520" y="3841920"/>
            <a:ext cx="1904760" cy="247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عاد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عامل مع الغير، ملكية عامة وملكية خاص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533520" y="5442120"/>
            <a:ext cx="1904760" cy="1167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مي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يول فنية، ميول أدبية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657600" y="641520"/>
            <a:ext cx="1905120" cy="208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فاه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صنيف، تسلسل، ترتيب، عدد، مكان، زمان، حج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2666880" y="5181480"/>
            <a:ext cx="1905120" cy="177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حو الذات، نحو الأسرة، نحو المجتمع، نحو الوط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8"/>
          <p:cNvGrpSpPr/>
          <p:nvPr/>
        </p:nvGrpSpPr>
        <p:grpSpPr>
          <a:xfrm>
            <a:off x="3657600" y="2743200"/>
            <a:ext cx="1676520" cy="2805840"/>
            <a:chOff x="3657600" y="2743200"/>
            <a:chExt cx="1676520" cy="2805840"/>
          </a:xfrm>
        </p:grpSpPr>
        <p:sp>
          <p:nvSpPr>
            <p:cNvPr id="129" name="Text Box 39"/>
            <p:cNvSpPr/>
            <p:nvPr/>
          </p:nvSpPr>
          <p:spPr>
            <a:xfrm>
              <a:off x="3962520" y="2895480"/>
              <a:ext cx="1143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</a:rPr>
                <a:t>الخبرة التربوية المتكام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0"/>
            <p:cNvSpPr/>
            <p:nvPr/>
          </p:nvSpPr>
          <p:spPr>
            <a:xfrm>
              <a:off x="3657600" y="2743200"/>
              <a:ext cx="1676520" cy="1676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1" descr="سهم"/>
          <p:cNvPicPr/>
          <p:nvPr/>
        </p:nvPicPr>
        <p:blipFill>
          <a:blip r:embed="rId1"/>
          <a:stretch/>
        </p:blipFill>
        <p:spPr>
          <a:xfrm>
            <a:off x="5334120" y="3276720"/>
            <a:ext cx="1447560" cy="28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سهم"/>
          <p:cNvPicPr/>
          <p:nvPr/>
        </p:nvPicPr>
        <p:blipFill>
          <a:blip r:embed="rId2"/>
          <a:stretch/>
        </p:blipFill>
        <p:spPr>
          <a:xfrm rot="925200">
            <a:off x="5251320" y="4002120"/>
            <a:ext cx="1679760" cy="2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3" descr="سهم"/>
          <p:cNvPicPr/>
          <p:nvPr/>
        </p:nvPicPr>
        <p:blipFill>
          <a:blip r:embed="rId3"/>
          <a:stretch/>
        </p:blipFill>
        <p:spPr>
          <a:xfrm rot="19327200">
            <a:off x="4964040" y="2358720"/>
            <a:ext cx="210024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4" descr="سهم"/>
          <p:cNvPicPr/>
          <p:nvPr/>
        </p:nvPicPr>
        <p:blipFill>
          <a:blip r:embed="rId4"/>
          <a:stretch/>
        </p:blipFill>
        <p:spPr>
          <a:xfrm rot="2655600">
            <a:off x="4735080" y="4959360"/>
            <a:ext cx="2514600" cy="28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5" descr="سهم"/>
          <p:cNvPicPr/>
          <p:nvPr/>
        </p:nvPicPr>
        <p:blipFill>
          <a:blip r:embed="rId5"/>
          <a:stretch/>
        </p:blipFill>
        <p:spPr>
          <a:xfrm rot="5400000">
            <a:off x="4067280" y="4619520"/>
            <a:ext cx="76176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6" descr="سهم"/>
          <p:cNvPicPr/>
          <p:nvPr/>
        </p:nvPicPr>
        <p:blipFill>
          <a:blip r:embed="rId6"/>
          <a:stretch/>
        </p:blipFill>
        <p:spPr>
          <a:xfrm rot="16200000">
            <a:off x="4143240" y="2257200"/>
            <a:ext cx="762120" cy="36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7" descr="سهم"/>
          <p:cNvPicPr/>
          <p:nvPr/>
        </p:nvPicPr>
        <p:blipFill>
          <a:blip r:embed="rId7"/>
          <a:stretch/>
        </p:blipFill>
        <p:spPr>
          <a:xfrm rot="13581000">
            <a:off x="2179440" y="2112480"/>
            <a:ext cx="2057400" cy="28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8" descr="سهم"/>
          <p:cNvPicPr/>
          <p:nvPr/>
        </p:nvPicPr>
        <p:blipFill>
          <a:blip r:embed="rId8"/>
          <a:stretch/>
        </p:blipFill>
        <p:spPr>
          <a:xfrm rot="11909400">
            <a:off x="2285640" y="2971440"/>
            <a:ext cx="144792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9" descr="سهم"/>
          <p:cNvPicPr/>
          <p:nvPr/>
        </p:nvPicPr>
        <p:blipFill>
          <a:blip r:embed="rId9"/>
          <a:stretch/>
        </p:blipFill>
        <p:spPr>
          <a:xfrm rot="8937000">
            <a:off x="2286000" y="4038480"/>
            <a:ext cx="1447920" cy="28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0" descr="سهم"/>
          <p:cNvPicPr/>
          <p:nvPr/>
        </p:nvPicPr>
        <p:blipFill>
          <a:blip r:embed="rId10"/>
          <a:stretch/>
        </p:blipFill>
        <p:spPr>
          <a:xfrm rot="7600200">
            <a:off x="2025720" y="4954320"/>
            <a:ext cx="2286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1371600"/>
            <a:ext cx="761976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أولاً: الاتجاهات الحديثة في أهداف رياض الأطفال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تنمية القيم الخلقية والاجتماعية باعتبارها الأساس في تكوين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أهمية القيم السلوكية الاجتماعية ( التعاون، النظام، النظاف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تنمية الاتجاهات الإيجابية نحو الذات والوالدين والمعلمات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تنمية روح الجماعة والمشاركة والتفاعل الاجتماعي وحب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*** الهدف الأساسي والرئيسي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تحقيق النمو الشامل والمتكامل للطف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700"/>
                            </p:stCondLst>
                            <p:childTnLst>
                              <p:par>
                                <p:cTn id="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600"/>
                            </p:stCondLst>
                            <p:childTnLst>
                              <p:par>
                                <p:cTn id="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400"/>
                            </p:stCondLst>
                            <p:childTnLst>
                              <p:par>
                                <p:cTn id="3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1"/>
          <p:cNvSpPr/>
          <p:nvPr/>
        </p:nvSpPr>
        <p:spPr>
          <a:xfrm>
            <a:off x="1371600" y="1828800"/>
            <a:ext cx="6705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تنمية الضمير ( الرقابة الذاتية، الضبط الذات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 تنمية الابتكا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 تحقيق الذات (الاحتفاظ بفردية الطفل على الرغم من العمل مع الأقرا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676520" y="2971800"/>
            <a:ext cx="6705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عند تحقيق تلك الأهداف ينبغي مراعا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١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. الفروق الفردية بين الأطفال ( أثناء تخطيط الأنشطة وتقديمها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٢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اتفاق على أساليب تحقيق تلك الأهداف من قبل الروضة والمنز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743200" y="152388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نبعت تلك الاتجاهات الحديثة في أهداف رياض الأطفال من: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نظرة المتكاملة للطفل وخصائص 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4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1066680"/>
            <a:ext cx="8077320" cy="36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ثانياً: الاتجاهات الحديثة في وظائف رياض الأطف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١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وظيفة التعوي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٢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وظيفة التربوية الانم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٣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تهيئة والإعداد للمرحلة الابتدائ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٤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مساعدة أولياء الأمور على تفهم حاجات أطفالهم وكيفية اشبا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٥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تنشئة الاجتماعية للطف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٦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رعاية الأطفال أثناء غياب الأمهات في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5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5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5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1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8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4"/>
          <p:cNvSpPr/>
          <p:nvPr/>
        </p:nvSpPr>
        <p:spPr>
          <a:xfrm>
            <a:off x="380880" y="1295280"/>
            <a:ext cx="7925040" cy="73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ساعدت الاتجاهات الحديثة على ظهور عدة نماذج تربوية مقدمة للأطفال ومن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أ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ح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هدف الى تنمية الطفل من الناحية العقلية والاجتماعية والوجدا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تاح للطفل اختيار اسلوب العمل الذي يري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ختار الأنشطة بنفس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ميل الطفل إلى اللعب الذي يعكس مستوى نموه.“لعب حر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لا توجد فيها معايير واضحة ومحددة للانج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     تشجيع على العمل التعاوني الجماعي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676520" y="685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Arial"/>
              </a:rPr>
              <a:t>نماذج حديثة في برامج ومناهج رياض الأطف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5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35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"/>
          <p:cNvSpPr/>
          <p:nvPr/>
        </p:nvSpPr>
        <p:spPr>
          <a:xfrm>
            <a:off x="1981080" y="1295280"/>
            <a:ext cx="640080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ب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فكر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ستند إلى أفكار منتسوري في التعلم الذا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يقوم كل طفل بالتعلم وفق قدراته ورغب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وفر التحديات المناسبة للطفل وتحفزه على العمل والمتاب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يتضمن البرنامج خبرات مصممة للقيام بتمرينات على الحياة اليومية والنمو الحسي والمدرس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2"/>
          <p:cNvSpPr/>
          <p:nvPr/>
        </p:nvSpPr>
        <p:spPr>
          <a:xfrm>
            <a:off x="685800" y="1716120"/>
            <a:ext cx="739152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ج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أكاديم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برامج نمطية لتطوير المهارات الأكاديمية لطفل ما قبل المدر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رفض فكرة التعلم عن طريق اللع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ركز على التعليم عن طريق التكرار والتدر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أسلوب تعليمي جاد وحاز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ركز على تعليم اللغة والحس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838080" y="2895480"/>
            <a:ext cx="2210040" cy="1447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r Instru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5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5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8"/>
          <p:cNvSpPr/>
          <p:nvPr/>
        </p:nvSpPr>
        <p:spPr>
          <a:xfrm>
            <a:off x="838080" y="1523880"/>
            <a:ext cx="769644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د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البرامج التعويض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وفر برامج ومناهج للأطفال المحرومين اقتصاد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نتشرت في الولايات المتحدة الامري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يطلق على هذه البرامج برامج الانطلاقة لتطوير الطفل ”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ad Start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هيئ الطفل </a:t>
            </a: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</a:rPr>
              <a:t>لغوياً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، وتركز على تعلم المهارات الحركية الدقي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نمية المهارات الإدراكية الحسية، ومهارات ما قبل القراء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برنامج تعليم الحروف الهج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images"/>
          <p:cNvPicPr/>
          <p:nvPr/>
        </p:nvPicPr>
        <p:blipFill>
          <a:blip r:embed="rId7"/>
          <a:stretch/>
        </p:blipFill>
        <p:spPr>
          <a:xfrm>
            <a:off x="53352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"/>
                            </p:stCondLst>
                            <p:childTnLst>
                              <p:par>
                                <p:cTn id="253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00"/>
                            </p:stCondLst>
                            <p:childTnLst>
                              <p:par>
                                <p:cTn id="26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800"/>
                            </p:stCondLst>
                            <p:childTnLst>
                              <p:par>
                                <p:cTn id="269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800"/>
                            </p:stCondLst>
                            <p:childTnLst>
                              <p:par>
                                <p:cTn id="277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0:48:30Z</dcterms:created>
  <dc:creator>N.alamri</dc:creator>
  <dc:description/>
  <dc:language>en-US</dc:language>
  <cp:lastModifiedBy>areej</cp:lastModifiedBy>
  <dcterms:modified xsi:type="dcterms:W3CDTF">2013-04-23T07:00:18Z</dcterms:modified>
  <cp:revision>5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