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gif" ContentType="image/gif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gif" ContentType="image/gif"/>
  <Override PartName="/ppt/media/image12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2D903-89ED-45FE-8BBB-32214E5E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1DEF6-ED73-471A-9103-59CA0CBA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8F281-2D44-4516-B8D6-C115D3FF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6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372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6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372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049A9-E863-46CA-9B09-347F4D26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408C-BD59-4029-985F-C3540801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E068-D6CB-4A93-B513-72021CD1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FCCF-D4A3-409C-9A4E-B067C564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7750-04D2-44D0-AB2B-20129DD4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6441-8774-478A-B387-4101A569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738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B1DF-83C7-49A4-B282-4D174EC6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FE67-276A-43E8-85FA-DCCF2D80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97193-75B9-4D5D-98C2-BA91D548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5F34-B6A1-4C6F-8AF6-C221F793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F51B-96E3-4A7D-8B5D-1C1F05A1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04D5-BB91-49D7-B029-026FC46C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02A0-73B2-4239-BAC6-67F262AC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46608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372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8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46608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9372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5D5E-6214-4A5F-B063-C4868002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BA52B-9F28-4D68-9104-FE83D563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6CA62-300F-466A-943D-CA92B403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36094-282C-440B-A08E-94C2618B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2738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90406-D6AA-4AA9-A01C-DBD1445C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2236-7D6D-41A4-AFC0-AA4ED790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076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E2C9-E34A-423A-8159-F75DA4CE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37160"/>
            <a:ext cx="8273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A3302-936E-4CCD-BE0E-DDF3F62D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7057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4CC9-7B9D-423F-B3B3-DC942653E59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4"/>
          <p:cNvSpPr/>
          <p:nvPr/>
        </p:nvSpPr>
        <p:spPr>
          <a:xfrm>
            <a:off x="0" y="762120"/>
            <a:ext cx="685800" cy="6095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25"/>
          <p:cNvSpPr/>
          <p:nvPr/>
        </p:nvSpPr>
        <p:spPr>
          <a:xfrm>
            <a:off x="0" y="6400800"/>
            <a:ext cx="6934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29"/>
          <p:cNvGrpSpPr/>
          <p:nvPr/>
        </p:nvGrpSpPr>
        <p:grpSpPr>
          <a:xfrm>
            <a:off x="7010280" y="5877000"/>
            <a:ext cx="1828800" cy="533160"/>
            <a:chOff x="7010280" y="5877000"/>
            <a:chExt cx="1828800" cy="533160"/>
          </a:xfrm>
        </p:grpSpPr>
        <p:pic>
          <p:nvPicPr>
            <p:cNvPr id="7" name="Picture 26" descr="j0315558"/>
            <p:cNvPicPr/>
            <p:nvPr/>
          </p:nvPicPr>
          <p:blipFill>
            <a:blip r:embed="rId4"/>
            <a:stretch/>
          </p:blipFill>
          <p:spPr>
            <a:xfrm>
              <a:off x="765576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27" descr="j0315568"/>
            <p:cNvPicPr/>
            <p:nvPr/>
          </p:nvPicPr>
          <p:blipFill>
            <a:blip r:embed="rId5"/>
            <a:stretch/>
          </p:blipFill>
          <p:spPr>
            <a:xfrm>
              <a:off x="7010280" y="5877000"/>
              <a:ext cx="53820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28" descr="j0315584"/>
            <p:cNvPicPr/>
            <p:nvPr/>
          </p:nvPicPr>
          <p:blipFill>
            <a:blip r:embed="rId6"/>
            <a:stretch/>
          </p:blipFill>
          <p:spPr>
            <a:xfrm>
              <a:off x="8301240" y="5877000"/>
              <a:ext cx="537840" cy="53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515f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8cc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fca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8"/>
          <p:cNvSpPr/>
          <p:nvPr/>
        </p:nvSpPr>
        <p:spPr>
          <a:xfrm>
            <a:off x="1523880" y="1981080"/>
            <a:ext cx="1524240" cy="1451160"/>
          </a:xfrm>
          <a:prstGeom prst="rect">
            <a:avLst/>
          </a:prstGeom>
          <a:solidFill>
            <a:srgbClr val="9fc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9"/>
          <p:cNvSpPr/>
          <p:nvPr/>
        </p:nvSpPr>
        <p:spPr>
          <a:xfrm>
            <a:off x="4572000" y="1981080"/>
            <a:ext cx="1523880" cy="1451160"/>
          </a:xfrm>
          <a:prstGeom prst="rect">
            <a:avLst/>
          </a:prstGeom>
          <a:solidFill>
            <a:srgbClr val="515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0"/>
          <p:cNvSpPr/>
          <p:nvPr/>
        </p:nvSpPr>
        <p:spPr>
          <a:xfrm>
            <a:off x="3048120" y="3429000"/>
            <a:ext cx="1523880" cy="1450800"/>
          </a:xfrm>
          <a:prstGeom prst="rect">
            <a:avLst/>
          </a:prstGeom>
          <a:solidFill>
            <a:srgbClr val="68cc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1"/>
          <p:cNvSpPr/>
          <p:nvPr/>
        </p:nvSpPr>
        <p:spPr>
          <a:xfrm>
            <a:off x="6095880" y="3429000"/>
            <a:ext cx="1524240" cy="1450800"/>
          </a:xfrm>
          <a:prstGeom prst="rect">
            <a:avLst/>
          </a:prstGeom>
          <a:solidFill>
            <a:srgbClr val="f4d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6" descr="j0315558"/>
          <p:cNvPicPr/>
          <p:nvPr/>
        </p:nvPicPr>
        <p:blipFill>
          <a:blip r:embed="rId2"/>
          <a:stretch/>
        </p:blipFill>
        <p:spPr>
          <a:xfrm>
            <a:off x="4572000" y="1979640"/>
            <a:ext cx="1523880" cy="144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2" descr="j0315568"/>
          <p:cNvPicPr/>
          <p:nvPr/>
        </p:nvPicPr>
        <p:blipFill>
          <a:blip r:embed="rId3"/>
          <a:stretch/>
        </p:blipFill>
        <p:spPr>
          <a:xfrm>
            <a:off x="3035160" y="3417840"/>
            <a:ext cx="1525680" cy="1455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3" descr="j0315584"/>
          <p:cNvPicPr/>
          <p:nvPr/>
        </p:nvPicPr>
        <p:blipFill>
          <a:blip r:embed="rId4"/>
          <a:stretch/>
        </p:blipFill>
        <p:spPr>
          <a:xfrm>
            <a:off x="6094440" y="3430440"/>
            <a:ext cx="1523880" cy="1436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4" descr="j0174862"/>
          <p:cNvPicPr/>
          <p:nvPr/>
        </p:nvPicPr>
        <p:blipFill>
          <a:blip r:embed="rId5"/>
          <a:stretch/>
        </p:blipFill>
        <p:spPr>
          <a:xfrm>
            <a:off x="1536840" y="1981080"/>
            <a:ext cx="1523880" cy="14479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2"/>
          <p:cNvSpPr/>
          <p:nvPr/>
        </p:nvSpPr>
        <p:spPr>
          <a:xfrm>
            <a:off x="11160" y="838080"/>
            <a:ext cx="9132840" cy="762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6"/>
          <p:cNvSpPr/>
          <p:nvPr/>
        </p:nvSpPr>
        <p:spPr>
          <a:xfrm>
            <a:off x="3048120" y="1981080"/>
            <a:ext cx="1523880" cy="1451160"/>
          </a:xfrm>
          <a:prstGeom prst="rect">
            <a:avLst/>
          </a:prstGeom>
          <a:solidFill>
            <a:srgbClr val="f4d1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7"/>
          <p:cNvSpPr/>
          <p:nvPr/>
        </p:nvSpPr>
        <p:spPr>
          <a:xfrm>
            <a:off x="4572000" y="3429000"/>
            <a:ext cx="1523880" cy="1447920"/>
          </a:xfrm>
          <a:prstGeom prst="rect">
            <a:avLst/>
          </a:prstGeom>
          <a:solidFill>
            <a:srgbClr val="9fca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273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5f7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15f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83808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515f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39e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8cc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fcad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06D0-9F82-454E-ACD4-21AC124825A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6"/>
          <p:cNvSpPr/>
          <p:nvPr/>
        </p:nvSpPr>
        <p:spPr>
          <a:xfrm>
            <a:off x="1371600" y="243828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839ee3"/>
                </a:solidFill>
                <a:latin typeface="Arial"/>
              </a:rPr>
              <a:t>الاتجاهات الحديثة في رياض الأطف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3"/>
          <p:cNvSpPr/>
          <p:nvPr/>
        </p:nvSpPr>
        <p:spPr>
          <a:xfrm>
            <a:off x="380880" y="1371600"/>
            <a:ext cx="8382240" cy="64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3300"/>
                </a:solidFill>
                <a:latin typeface="Arial"/>
              </a:rPr>
              <a:t>ﻫ ) </a:t>
            </a:r>
            <a:r>
              <a:rPr b="1" lang="ar-SA" sz="2800" spc="-1" strike="noStrike" u="sng">
                <a:solidFill>
                  <a:srgbClr val="663300"/>
                </a:solidFill>
                <a:uFillTx/>
                <a:latin typeface="Arial"/>
              </a:rPr>
              <a:t>برنامج التعليم المفتو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تتضمن خبرات تربوية تتوافق مع استعدادات وامكانات الاطفال والبيئ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يتطلب تطبيق هذا البرنامج توفر مساحات يمكن استخدامها بحرية تامة وطرق متعدد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لا توجد في هذه البرامج حجرات دراسية منفصل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لا تعمل المعلمة بمفردها بل تعمل بنظام التعليم الفريقي.“ لمراعاة الفروق الفردية بين الاطفال“ ” توفير الانتباه والملاحظة الكافية ” ” اظهار قدرات وامكانات المعلمات وتبادل الخبرات بينهن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تقسم الأطفال داخل الصف إلى مجموعات تمارس نشاطات متنوع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يتيح الفرصة أمام المعلمات لكي تؤدي كل منهن الدور الذي يناسبها والعمل الذي تتقن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400"/>
                            </p:stCondLst>
                            <p:childTnLst>
                              <p:par>
                                <p:cTn id="297" nodeType="after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300"/>
                            </p:stCondLst>
                            <p:childTnLst>
                              <p:par>
                                <p:cTn id="306" nodeType="after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500"/>
                            </p:stCondLst>
                            <p:childTnLst>
                              <p:par>
                                <p:cTn id="315" nodeType="after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8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7300"/>
                            </p:stCondLst>
                            <p:childTnLst>
                              <p:par>
                                <p:cTn id="324" nodeType="after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300"/>
                            </p:stCondLst>
                            <p:childTnLst>
                              <p:par>
                                <p:cTn id="333" nodeType="after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3200"/>
                            </p:stCondLst>
                            <p:childTnLst>
                              <p:par>
                                <p:cTn id="342" nodeType="after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8"/>
          <p:cNvSpPr/>
          <p:nvPr/>
        </p:nvSpPr>
        <p:spPr>
          <a:xfrm>
            <a:off x="609480" y="1170000"/>
            <a:ext cx="78487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3300"/>
                </a:solidFill>
                <a:latin typeface="Arial"/>
              </a:rPr>
              <a:t>و ) </a:t>
            </a:r>
            <a:r>
              <a:rPr b="1" lang="ar-SA" sz="2800" spc="-1" strike="noStrike" u="sng">
                <a:solidFill>
                  <a:srgbClr val="663300"/>
                </a:solidFill>
                <a:uFillTx/>
                <a:latin typeface="Arial"/>
              </a:rPr>
              <a:t>برنامج الفعالية الأس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buClr>
                <a:srgbClr val="000000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تستهدف دعم العلاقة بين المنزل وروضة الأطفال عن طريق تثقيف الآبا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buClr>
                <a:srgbClr val="003300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 لا يقدم هذا البرنامج على حده بل يستخدم مع واحد أو أكثر من البرامج السابق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400"/>
                            </p:stCondLst>
                            <p:childTnLst>
                              <p:par>
                                <p:cTn id="360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6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0"/>
          <p:cNvSpPr/>
          <p:nvPr/>
        </p:nvSpPr>
        <p:spPr>
          <a:xfrm>
            <a:off x="304920" y="21337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3399"/>
                </a:solidFill>
                <a:uFillTx/>
                <a:latin typeface="Arial"/>
              </a:rPr>
              <a:t>ماذا نحتاج لتنفيذ تلك البرامج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8"/>
          <p:cNvSpPr/>
          <p:nvPr/>
        </p:nvSpPr>
        <p:spPr>
          <a:xfrm>
            <a:off x="304920" y="838080"/>
            <a:ext cx="8458200" cy="59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3399"/>
                </a:solidFill>
                <a:uFillTx/>
                <a:latin typeface="Arial"/>
              </a:rPr>
              <a:t> الخبرات التربوية التي تتضمنها برامج ومناهج رياض الأطف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4d17a"/>
                </a:solidFill>
                <a:latin typeface="Arial"/>
              </a:rPr>
              <a:t>مبادئها ومميزاتها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تستند الخبرات التربوية على أن الجانب المعرفي أو المادة الدراسية ليس كل ما يجب أن يقدم للأطفا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 تقوم على أساس حاجات الأطفال الأساسية وعلى نشاطهم الفردي والجماعي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 وتشتق الخبرات في هذه البرامج من المواقف التي يتعرض لها المتعلم في حياته وتثيره نحو دراست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 إن هدف الخبرة هو أن يكتسب المتعلم ما يحتاج إليه  المجتمع من أفراد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 تهتم الخبرات التربوية بتكوين المهارات  بمختلف أنواعها، مع غرس العادات المرغو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      فيها وتنميت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 تتلافى الخبرات التربوية عيوب المواد الدراسية المنفصل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900"/>
                            </p:stCondLst>
                            <p:childTnLst>
                              <p:par>
                                <p:cTn id="388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900"/>
                            </p:stCondLst>
                            <p:childTnLst>
                              <p:par>
                                <p:cTn id="400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950"/>
                            </p:stCondLst>
                            <p:childTnLst>
                              <p:par>
                                <p:cTn id="406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3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6500"/>
                            </p:stCondLst>
                            <p:childTnLst>
                              <p:par>
                                <p:cTn id="418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7600"/>
                            </p:stCondLst>
                            <p:childTnLst>
                              <p:par>
                                <p:cTn id="424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250"/>
                            </p:stCondLst>
                            <p:childTnLst>
                              <p:par>
                                <p:cTn id="430" nodeType="afterEffect" fill="hold" presetClass="entr" presetID="47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7"/>
          <p:cNvSpPr/>
          <p:nvPr/>
        </p:nvSpPr>
        <p:spPr>
          <a:xfrm>
            <a:off x="2514600" y="76320"/>
            <a:ext cx="411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مضمون الخبرات التربوية المتكام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8"/>
          <p:cNvSpPr/>
          <p:nvPr/>
        </p:nvSpPr>
        <p:spPr>
          <a:xfrm>
            <a:off x="6781680" y="717480"/>
            <a:ext cx="1905120" cy="2082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68ccb7"/>
                </a:solidFill>
                <a:uFillTx/>
                <a:latin typeface="Arial"/>
              </a:rPr>
              <a:t>قدرات عق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نتباه، تذكر، تكوين، علاقات، تخيل، تفكير ابتكار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6781680" y="2317680"/>
            <a:ext cx="1905120" cy="177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68ccb7"/>
                </a:solidFill>
                <a:uFillTx/>
                <a:latin typeface="Arial"/>
              </a:rPr>
              <a:t>مهارات حس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مييز سمعي، تمييز بصري، تمييز لمسي، الشم، التذو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0"/>
          <p:cNvSpPr/>
          <p:nvPr/>
        </p:nvSpPr>
        <p:spPr>
          <a:xfrm>
            <a:off x="6781680" y="3917880"/>
            <a:ext cx="1905120" cy="238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68ccb7"/>
                </a:solidFill>
                <a:uFillTx/>
                <a:latin typeface="Arial"/>
              </a:rPr>
              <a:t>مهارات حرك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تآزر البصري الحركي، عضلات كبرى، عضلات صغر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1"/>
          <p:cNvSpPr/>
          <p:nvPr/>
        </p:nvSpPr>
        <p:spPr>
          <a:xfrm>
            <a:off x="4800600" y="5181480"/>
            <a:ext cx="1905120" cy="2692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68ccb7"/>
                </a:solidFill>
                <a:uFillTx/>
                <a:latin typeface="Arial"/>
              </a:rPr>
              <a:t>مهارات اجتما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عاون، مبادرة، مسئولية فردية، مسئولية اجتما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533520" y="641520"/>
            <a:ext cx="1904760" cy="1972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68ccb7"/>
                </a:solidFill>
                <a:uFillTx/>
                <a:latin typeface="Arial"/>
              </a:rPr>
              <a:t>القي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دينية، خلقية، اجتما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3"/>
          <p:cNvSpPr/>
          <p:nvPr/>
        </p:nvSpPr>
        <p:spPr>
          <a:xfrm>
            <a:off x="533520" y="2241720"/>
            <a:ext cx="1904760" cy="249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68ccb7"/>
                </a:solidFill>
                <a:uFillTx/>
                <a:latin typeface="Arial"/>
              </a:rPr>
              <a:t>التقالي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حافظة على التراث الشعبي للوط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4"/>
          <p:cNvSpPr/>
          <p:nvPr/>
        </p:nvSpPr>
        <p:spPr>
          <a:xfrm>
            <a:off x="533520" y="3841920"/>
            <a:ext cx="1904760" cy="2475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68ccb7"/>
                </a:solidFill>
                <a:uFillTx/>
                <a:latin typeface="Arial"/>
              </a:rPr>
              <a:t>العاد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تعامل مع الغير، ملكية عامة وملكية خاص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5"/>
          <p:cNvSpPr/>
          <p:nvPr/>
        </p:nvSpPr>
        <p:spPr>
          <a:xfrm>
            <a:off x="533520" y="5442120"/>
            <a:ext cx="1904760" cy="1167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68ccb7"/>
                </a:solidFill>
                <a:uFillTx/>
                <a:latin typeface="Arial"/>
              </a:rPr>
              <a:t>الميو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يول فنية، ميول أدبية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6"/>
          <p:cNvSpPr/>
          <p:nvPr/>
        </p:nvSpPr>
        <p:spPr>
          <a:xfrm>
            <a:off x="3657600" y="641520"/>
            <a:ext cx="1905120" cy="2082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68ccb7"/>
                </a:solidFill>
                <a:uFillTx/>
                <a:latin typeface="Arial"/>
              </a:rPr>
              <a:t>مفاهي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صنيف، تسلسل، ترتيب، عدد، مكان، زمان، حج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7"/>
          <p:cNvSpPr/>
          <p:nvPr/>
        </p:nvSpPr>
        <p:spPr>
          <a:xfrm>
            <a:off x="2666880" y="5181480"/>
            <a:ext cx="1905120" cy="177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68ccb7"/>
                </a:solidFill>
                <a:uFillTx/>
                <a:latin typeface="Arial"/>
              </a:rPr>
              <a:t>الاتجاه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نحو الذات، نحو الأسرة، نحو المجتمع، نحو الوط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8"/>
          <p:cNvGrpSpPr/>
          <p:nvPr/>
        </p:nvGrpSpPr>
        <p:grpSpPr>
          <a:xfrm>
            <a:off x="3657600" y="2743200"/>
            <a:ext cx="1676520" cy="2805840"/>
            <a:chOff x="3657600" y="2743200"/>
            <a:chExt cx="1676520" cy="2805840"/>
          </a:xfrm>
        </p:grpSpPr>
        <p:sp>
          <p:nvSpPr>
            <p:cNvPr id="129" name="Text Box 39"/>
            <p:cNvSpPr/>
            <p:nvPr/>
          </p:nvSpPr>
          <p:spPr>
            <a:xfrm>
              <a:off x="3962520" y="2895480"/>
              <a:ext cx="114300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800" spc="-1" strike="noStrike">
                  <a:solidFill>
                    <a:srgbClr val="000000"/>
                  </a:solidFill>
                  <a:latin typeface="Arial"/>
                </a:rPr>
                <a:t>الخبرة التربوية المتكامل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0"/>
            <p:cNvSpPr/>
            <p:nvPr/>
          </p:nvSpPr>
          <p:spPr>
            <a:xfrm>
              <a:off x="3657600" y="2743200"/>
              <a:ext cx="1676520" cy="16761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Picture 41" descr="سهم"/>
          <p:cNvPicPr/>
          <p:nvPr/>
        </p:nvPicPr>
        <p:blipFill>
          <a:blip r:embed="rId1"/>
          <a:stretch/>
        </p:blipFill>
        <p:spPr>
          <a:xfrm>
            <a:off x="5334120" y="3276720"/>
            <a:ext cx="1447560" cy="285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2" descr="سهم"/>
          <p:cNvPicPr/>
          <p:nvPr/>
        </p:nvPicPr>
        <p:blipFill>
          <a:blip r:embed="rId2"/>
          <a:stretch/>
        </p:blipFill>
        <p:spPr>
          <a:xfrm rot="925200">
            <a:off x="5251320" y="4002120"/>
            <a:ext cx="1679760" cy="285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3" descr="سهم"/>
          <p:cNvPicPr/>
          <p:nvPr/>
        </p:nvPicPr>
        <p:blipFill>
          <a:blip r:embed="rId3"/>
          <a:stretch/>
        </p:blipFill>
        <p:spPr>
          <a:xfrm rot="19327200">
            <a:off x="4964040" y="2358720"/>
            <a:ext cx="2100240" cy="328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4" descr="سهم"/>
          <p:cNvPicPr/>
          <p:nvPr/>
        </p:nvPicPr>
        <p:blipFill>
          <a:blip r:embed="rId4"/>
          <a:stretch/>
        </p:blipFill>
        <p:spPr>
          <a:xfrm rot="2655600">
            <a:off x="4735080" y="4959360"/>
            <a:ext cx="2514600" cy="285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5" descr="سهم"/>
          <p:cNvPicPr/>
          <p:nvPr/>
        </p:nvPicPr>
        <p:blipFill>
          <a:blip r:embed="rId5"/>
          <a:stretch/>
        </p:blipFill>
        <p:spPr>
          <a:xfrm rot="5400000">
            <a:off x="4067280" y="4619520"/>
            <a:ext cx="761760" cy="362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6" descr="سهم"/>
          <p:cNvPicPr/>
          <p:nvPr/>
        </p:nvPicPr>
        <p:blipFill>
          <a:blip r:embed="rId6"/>
          <a:stretch/>
        </p:blipFill>
        <p:spPr>
          <a:xfrm rot="16200000">
            <a:off x="4143240" y="2257200"/>
            <a:ext cx="762120" cy="361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7" descr="سهم"/>
          <p:cNvPicPr/>
          <p:nvPr/>
        </p:nvPicPr>
        <p:blipFill>
          <a:blip r:embed="rId7"/>
          <a:stretch/>
        </p:blipFill>
        <p:spPr>
          <a:xfrm rot="13581000">
            <a:off x="2179440" y="2112480"/>
            <a:ext cx="2057400" cy="285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8" descr="سهم"/>
          <p:cNvPicPr/>
          <p:nvPr/>
        </p:nvPicPr>
        <p:blipFill>
          <a:blip r:embed="rId8"/>
          <a:stretch/>
        </p:blipFill>
        <p:spPr>
          <a:xfrm rot="11909400">
            <a:off x="2285640" y="2971440"/>
            <a:ext cx="1447920" cy="285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9" descr="سهم"/>
          <p:cNvPicPr/>
          <p:nvPr/>
        </p:nvPicPr>
        <p:blipFill>
          <a:blip r:embed="rId9"/>
          <a:stretch/>
        </p:blipFill>
        <p:spPr>
          <a:xfrm rot="8937000">
            <a:off x="2286000" y="4038480"/>
            <a:ext cx="1447920" cy="285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0" descr="سهم"/>
          <p:cNvPicPr/>
          <p:nvPr/>
        </p:nvPicPr>
        <p:blipFill>
          <a:blip r:embed="rId10"/>
          <a:stretch/>
        </p:blipFill>
        <p:spPr>
          <a:xfrm rot="7600200">
            <a:off x="2025720" y="4954320"/>
            <a:ext cx="22860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762120" y="1371600"/>
            <a:ext cx="7619760" cy="60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66"/>
                </a:solidFill>
                <a:latin typeface="Arial"/>
              </a:rPr>
              <a:t>أولاً: الاتجاهات الحديثة في أهداف رياض الأطفال</a:t>
            </a:r>
            <a:r>
              <a:rPr b="0" lang="ar-SA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تنمية القيم الخلقية والاجتماعية باعتبارها الأساس في تكوين الشخص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225"/>
              </a:spcBef>
              <a:buClr>
                <a:srgbClr val="000066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 أهمية القيم السلوكية الاجتماعية ( التعاون، النظام، النظافة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225"/>
              </a:spcBef>
              <a:buClr>
                <a:srgbClr val="000066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 تنمية الاتجاهات الإيجابية نحو الذات والوالدين والمعلمات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225"/>
              </a:spcBef>
              <a:buClr>
                <a:srgbClr val="000066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 تنمية روح الجماعة والمشاركة والتفاعل الاجتماعي وحب العم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*** الهدف الأساسي والرئيسي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تحقيق النمو الشامل والمتكامل للطف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700"/>
                            </p:stCondLst>
                            <p:childTnLst>
                              <p:par>
                                <p:cTn id="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600"/>
                            </p:stCondLst>
                            <p:childTnLst>
                              <p:par>
                                <p:cTn id="2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700"/>
                            </p:stCondLst>
                            <p:childTnLst>
                              <p:par>
                                <p:cTn id="2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8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2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9400"/>
                            </p:stCondLst>
                            <p:childTnLst>
                              <p:par>
                                <p:cTn id="3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6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مستطيل 1"/>
          <p:cNvSpPr/>
          <p:nvPr/>
        </p:nvSpPr>
        <p:spPr>
          <a:xfrm>
            <a:off x="1371600" y="1828800"/>
            <a:ext cx="67057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1400"/>
              </a:spcBef>
              <a:buClr>
                <a:srgbClr val="000066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</a:rPr>
              <a:t>تنمية الضمير ( الرقابة الذاتية، الضبط الذات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400"/>
              </a:spcBef>
              <a:buClr>
                <a:srgbClr val="000066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</a:rPr>
              <a:t> تنمية الابتكار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400"/>
              </a:spcBef>
              <a:buClr>
                <a:srgbClr val="000066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Arial"/>
              </a:rPr>
              <a:t> تحقيق الذات (الاحتفاظ بفردية الطفل على الرغم من العمل مع الأقران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676520" y="2971800"/>
            <a:ext cx="67053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Arial"/>
              </a:rPr>
              <a:t>عند تحقيق تلك الأهداف ينبغي مراعاة 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١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. الفروق الفردية بين الأطفال ( أثناء تخطيط الأنشطة وتقديمها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٢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ar-SA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الاتفاق على أساليب تحقيق تلك الأهداف من قبل الروضة والمنز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743200" y="1523880"/>
            <a:ext cx="5715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6600"/>
                </a:solidFill>
                <a:latin typeface="Arial"/>
              </a:rPr>
              <a:t>نبعت تلك الاتجاهات الحديثة في أهداف رياض الأطفال من: </a:t>
            </a:r>
            <a:r>
              <a:rPr b="1" lang="ar-SA" sz="2800" spc="-1" strike="noStrike">
                <a:solidFill>
                  <a:srgbClr val="000066"/>
                </a:solidFill>
                <a:latin typeface="Arial"/>
              </a:rPr>
              <a:t>النظرة المتكاملة للطفل وخصائص نمو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4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80880" y="1066680"/>
            <a:ext cx="8077320" cy="36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0066"/>
                </a:solidFill>
                <a:uFillTx/>
                <a:latin typeface="Arial"/>
              </a:rPr>
              <a:t>ثانياً: الاتجاهات الحديثة في وظائف رياض الأطفال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١</a:t>
            </a: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). الوظيفة التعويض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٢</a:t>
            </a: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). الوظيفة التربوية الانم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٣</a:t>
            </a: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). التهيئة والإعداد للمرحلة الابتدائية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٤</a:t>
            </a: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). مساعدة أولياء الأمور على تفهم حاجات أطفالهم وكيفية اشباع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٥</a:t>
            </a: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). التنشئة الاجتماعية للطف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٦</a:t>
            </a:r>
            <a:r>
              <a:rPr b="1" lang="ar-SA" sz="2400" spc="-1" strike="noStrike">
                <a:solidFill>
                  <a:srgbClr val="000066"/>
                </a:solidFill>
                <a:latin typeface="Arial"/>
              </a:rPr>
              <a:t>). رعاية الأطفال أثناء غياب الأمهات في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"/>
                            </p:stCondLst>
                            <p:childTnLst>
                              <p:par>
                                <p:cTn id="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50"/>
                            </p:stCondLst>
                            <p:childTnLst>
                              <p:par>
                                <p:cTn id="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25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5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100"/>
                            </p:stCondLst>
                            <p:childTnLst>
                              <p:par>
                                <p:cTn id="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80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4"/>
          <p:cNvSpPr/>
          <p:nvPr/>
        </p:nvSpPr>
        <p:spPr>
          <a:xfrm>
            <a:off x="380880" y="1295280"/>
            <a:ext cx="7925040" cy="73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ساعدت الاتجاهات الحديثة على ظهور عدة نماذج تربوية مقدمة للأطفال ومنها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Arial"/>
              </a:rPr>
              <a:t>أ ) </a:t>
            </a:r>
            <a:r>
              <a:rPr b="1" lang="ar-SA" sz="2800" spc="-1" strike="noStrike" u="sng">
                <a:solidFill>
                  <a:srgbClr val="ff3399"/>
                </a:solidFill>
                <a:uFillTx/>
                <a:latin typeface="Arial"/>
              </a:rPr>
              <a:t>برنامج النشاط الح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9531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تهدف الى تنمية الطفل من الناحية العقلية والاجتماعية والوجدان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9531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تتاح للطفل اختيار اسلوب العمل الذي يريد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9531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يختار الأنشطة بنفس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9531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يميل الطفل إلى اللعب الذي يعكس مستوى نموه.“لعب حر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9531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لا توجد فيها معايير واضحة ومحددة للانجا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     تشجيع على العمل التعاوني الجماعي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9531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9531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1676520" y="68580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Arial"/>
              </a:rPr>
              <a:t>نماذج حديثة في برامج ومناهج رياض الأطف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100"/>
                            </p:stCondLst>
                            <p:childTnLst>
                              <p:par>
                                <p:cTn id="1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95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8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45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35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0"/>
          <p:cNvSpPr/>
          <p:nvPr/>
        </p:nvSpPr>
        <p:spPr>
          <a:xfrm>
            <a:off x="1981080" y="1295280"/>
            <a:ext cx="6400800" cy="50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Arial"/>
              </a:rPr>
              <a:t>ب ) </a:t>
            </a:r>
            <a:r>
              <a:rPr b="1" lang="ar-SA" sz="2800" spc="-1" strike="noStrike" u="sng">
                <a:solidFill>
                  <a:srgbClr val="ff3399"/>
                </a:solidFill>
                <a:uFillTx/>
                <a:latin typeface="Arial"/>
              </a:rPr>
              <a:t>برنامج النشاط الفكر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buClr>
                <a:srgbClr val="003300"/>
              </a:buClr>
              <a:buSzPct val="1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تستند إلى أفكار منتسوري في التعلم الذات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buClr>
                <a:srgbClr val="003300"/>
              </a:buClr>
              <a:buSzPct val="1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يقوم كل طفل بالتعلم وفق قدراته ورغبات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buClr>
                <a:srgbClr val="003300"/>
              </a:buClr>
              <a:buSzPct val="1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توفر التحديات المناسبة للطفل وتحفزه على العمل والمتابع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buClr>
                <a:srgbClr val="003300"/>
              </a:buClr>
              <a:buSzPct val="1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يتضمن البرنامج خبرات مصممة للقيام بتمرينات على الحياة اليومية والنمو الحسي والمدرس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2"/>
          <p:cNvSpPr/>
          <p:nvPr/>
        </p:nvSpPr>
        <p:spPr>
          <a:xfrm>
            <a:off x="685800" y="1716120"/>
            <a:ext cx="7391520" cy="37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99"/>
                </a:solidFill>
                <a:latin typeface="Arial"/>
              </a:rPr>
              <a:t>ج ) </a:t>
            </a:r>
            <a:r>
              <a:rPr b="1" lang="ar-SA" sz="2800" spc="-1" strike="noStrike" u="sng">
                <a:solidFill>
                  <a:srgbClr val="ff3399"/>
                </a:solidFill>
                <a:uFillTx/>
                <a:latin typeface="Arial"/>
              </a:rPr>
              <a:t>برنامج النشاط الأكاديم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SzPct val="1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برامج نمطية لتطوير المهارات الأكاديمية لطفل ما قبل المدرس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SzPct val="1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ترفض فكرة التعلم عن طريق اللع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SzPct val="1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تركز على التعليم عن طريق التكرار والتدري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SzPct val="1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أسلوب تعليمي جاد وحاز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Clr>
                <a:srgbClr val="003300"/>
              </a:buClr>
              <a:buSzPct val="1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تركز على تعليم اللغة والحسا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838080" y="2895480"/>
            <a:ext cx="2210040" cy="14479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r Instru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750"/>
                            </p:stCondLst>
                            <p:childTnLst>
                              <p:par>
                                <p:cTn id="188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50"/>
                            </p:stCondLst>
                            <p:childTnLst>
                              <p:par>
                                <p:cTn id="194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7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8"/>
          <p:cNvSpPr/>
          <p:nvPr/>
        </p:nvSpPr>
        <p:spPr>
          <a:xfrm>
            <a:off x="838080" y="1523880"/>
            <a:ext cx="7696440" cy="53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3300"/>
                </a:solidFill>
                <a:latin typeface="Arial"/>
              </a:rPr>
              <a:t>د ) </a:t>
            </a:r>
            <a:r>
              <a:rPr b="1" lang="ar-SA" sz="2800" spc="-1" strike="noStrike" u="sng">
                <a:solidFill>
                  <a:srgbClr val="663300"/>
                </a:solidFill>
                <a:uFillTx/>
                <a:latin typeface="Arial"/>
              </a:rPr>
              <a:t>البرامج التعويض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توفر برامج ومناهج للأطفال المحرومين اقتصادي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انتشرت في الولايات المتحدة الامريك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يطلق على هذه البرامج برامج الانطلاقة لتطوير الطفل ”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ead Start</a:t>
            </a: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تهيئ الطفل </a:t>
            </a:r>
            <a:r>
              <a:rPr b="1" lang="ar-SA" sz="2400" spc="-1" strike="noStrike" u="sng">
                <a:solidFill>
                  <a:srgbClr val="003300"/>
                </a:solidFill>
                <a:uFillTx/>
                <a:latin typeface="Arial"/>
              </a:rPr>
              <a:t>لغوياً</a:t>
            </a: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، وتركز على تعلم المهارات الحركية الدقيق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تنمية المهارات الإدراكية الحسية، ومهارات ما قبل القراءة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 برنامج تعليم الحروف الهجائ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images"/>
          <p:cNvPicPr/>
          <p:nvPr/>
        </p:nvPicPr>
        <p:blipFill>
          <a:blip r:embed="rId7"/>
          <a:stretch/>
        </p:blipFill>
        <p:spPr>
          <a:xfrm>
            <a:off x="533520" y="609480"/>
            <a:ext cx="2286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00"/>
                            </p:stCondLst>
                            <p:childTnLst>
                              <p:par>
                                <p:cTn id="236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"/>
                            </p:stCondLst>
                            <p:childTnLst>
                              <p:par>
                                <p:cTn id="253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800"/>
                            </p:stCondLst>
                            <p:childTnLst>
                              <p:par>
                                <p:cTn id="261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800"/>
                            </p:stCondLst>
                            <p:childTnLst>
                              <p:par>
                                <p:cTn id="269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800"/>
                            </p:stCondLst>
                            <p:childTnLst>
                              <p:par>
                                <p:cTn id="277" nodeType="after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20:48:30Z</dcterms:created>
  <dc:creator>N.alamri</dc:creator>
  <dc:description/>
  <dc:language>en-US</dc:language>
  <cp:lastModifiedBy>areej</cp:lastModifiedBy>
  <dcterms:modified xsi:type="dcterms:W3CDTF">2013-04-23T07:00:18Z</dcterms:modified>
  <cp:revision>57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