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5C7DF-FFBB-4AD8-AE41-E8845C014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D272-5E0B-4B49-8686-EE77B8D0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3805E-ED3B-4B97-8EE9-C777ADEF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9E1F3-941E-4BF8-AAB6-DFF610BD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7E8D5-CB40-4919-9B1C-35C8ACA56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FA071-FB29-4B33-98AF-C81F24F14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E7FBE-11F0-4C0C-AC17-6217756F4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87F78-B805-4464-BAA6-EB99D451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00488-03D5-4683-9CC5-4008D1D04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2E2C2-C4D3-48B0-9BC2-8D7665FB8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827C2-3DF0-4B71-944E-34241A280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8B6C-316C-4D33-8960-6C56C8F8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1E064-1A3C-43CC-9B3A-4CA95518B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51942-AB0E-439D-AC66-020D4DA3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5ECD3-6406-42C6-8DE8-8B31C4AB3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B9707-8DA5-408F-AAAC-AE7B05CF8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C5C30-6C25-4161-A856-A87CEF1D6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46D6-87AF-4A4B-B072-DB0946DC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A7066-4E94-4D05-8230-3B030C04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5F883-C39F-42C8-AB77-1BF21314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6519-6A4B-40AC-BE12-C1845E01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DE83-9374-4DD8-994F-A4B0E59E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1F15-E99E-4E38-8014-F2CED61E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8D7B-87B7-4725-B553-A14D59AC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FD6-0E9C-4E41-8D44-9ABC939AFF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6781-750C-423A-9848-86310F15051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تنمية التفكير لدى دى بونو</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99080"/>
            <a:ext cx="7543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
          <p:cNvSpPr txBox="1"/>
          <p:nvPr/>
        </p:nvSpPr>
        <p:spPr>
          <a:xfrm>
            <a:off x="1066320" y="1143000"/>
            <a:ext cx="7543800" cy="495288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ترف بالمشاعر كجزء مهم في التفكير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اقدة وبناءة ومبدعة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كير في التفكير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كشف أن التفكير ليس عبارة عن ذكاء فقط ولكن يمكن أن يعلم ويمارس ويتطور .</a:t>
            </a:r>
            <a:endParaRPr b="0" lang="en-US" sz="3200" spc="-1" strike="noStrike">
              <a:solidFill>
                <a:srgbClr val="ffffff"/>
              </a:solidFill>
              <a:latin typeface="Tahoma"/>
            </a:endParaRPr>
          </a:p>
          <a:p>
            <a:pPr marL="335880" indent="-335880" algn="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بيضاء</a:t>
            </a:r>
            <a:br>
              <a:rPr sz="4400"/>
            </a:br>
            <a:endParaRPr b="1" lang="en-US" sz="44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عن المعلومات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طالب فيه يفكر بواقعية وموضوعية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أل الطلاب ما هي المعلومات التي يعرفونها عن شيء ما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عندما يرتدي المفكر القبعة البيضاء يحاول أن يكون موضوعياً وذلك مثل الكمبيوتر يعطي حقائقَ وأرقاماً ولا يهمه تفسيرها ولا كيف تمت ، ولكنه يظهرها كما هي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يركز مرتدي القبعة البيضاء على كل أو بعض ما يأتي :</a:t>
            </a:r>
            <a:br>
              <a:rPr sz="4400"/>
            </a:br>
            <a:endParaRPr b="1" lang="en-US" sz="4400" spc="-1" strike="noStrike">
              <a:solidFill>
                <a:srgbClr val="eaeaea"/>
              </a:solidFill>
              <a:latin typeface="Tahoma"/>
            </a:endParaRPr>
          </a:p>
        </p:txBody>
      </p:sp>
      <p:sp>
        <p:nvSpPr>
          <p:cNvPr id="134" name=""/>
          <p:cNvSpPr txBox="1"/>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طرح معلومات أو الحصول عليها - التركيز على الحقائق والمعلومات -التجرد من العواطف أو الرأي .- الاهتمام بالوقائع والأرقام والإحصائيات .- عدم تفسير المعـلومات أو الوقائع - الحيادية والموضوعية التامة - تمثيل دور الكمبيوتر في إعطاء المعلومات - الاهتمام بالأسئلة المحددة للحصول على الحقائق أو المعلومات - الإجابات المباشر والمحددة عن الأسئلة - الإنصات والاستماع الجيد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ميز بين درجة الصحة ودرجة الخطأ في كل رأي ، فقد يكون الرأي صواباً بدرجة : دائماً ، غالباً ، إلى حد كبير ، إلى حد ما ، قليلاً ، نادراً . وكذلك قد يكون الرأي خاطئاً بنفس الدرجات سالفة الذكر .</a:t>
            </a:r>
            <a:endParaRPr b="0" lang="en-US" sz="3200" spc="-1" strike="noStrike">
              <a:solidFill>
                <a:srgbClr val="ffffff"/>
              </a:solidFill>
              <a:latin typeface="Tahoma"/>
            </a:endParaRPr>
          </a:p>
          <a:p>
            <a:pPr marL="343080" indent="-343080" algn="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حمراء</a:t>
            </a:r>
            <a:br>
              <a:rPr sz="4400"/>
            </a:br>
            <a:endParaRPr b="1" lang="en-US" sz="44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عن المشاعر - والطالب فيها يفكر بمشاعره وعواطفه  - فالمفكر عندما يرتدي القبعة الحمراء يستبعد المنطق والمبررات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فمرتدي القبعة الحمراء يمارس بعض الأمور التالية :</a:t>
            </a:r>
            <a:br>
              <a:rPr sz="4400"/>
            </a:br>
            <a:endParaRPr b="1" lang="en-US" sz="4400" spc="-1" strike="noStrike">
              <a:solidFill>
                <a:srgbClr val="eaeaea"/>
              </a:solidFill>
              <a:latin typeface="Tahoma"/>
            </a:endParaRPr>
          </a:p>
        </p:txBody>
      </p:sp>
      <p:sp>
        <p:nvSpPr>
          <p:cNvPr id="140"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ظهار المشاعر والأحاسيس ، وليس بالضرورة أن يكون ثمة مبرر لهذه المشاعر ، ومن أبرز هذه المشاعر : السرور ، الثقة ، الغضب ، الشك ، القلق ، الأمان ، الحب ، الغيرة ، الخوف ، الكره .......الخ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شاعر فقط بدون الالتفات إلى الحقائق أو المعلومات أو المبررات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ظهار الجانب الإنساني غير العقلاني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fontScale="97000"/>
          </a:bodyPr>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تميز غالباً بالتحيز ، أو بالتخمينات التي ربما لا تصل إلى درجة يمكن جعلها فرضيات . أي إنها مشاعر ليس لها أساس سوى إحساس الفرد بها في الغالب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الغة في تحليل الجانب العاطفي وإعطائه وزناً أكبر من المعتاد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فض الحقائق أو الآراء دون مبرر عقلي ، بل على أساس المشاعر أو الإحساس الداخلي</a:t>
            </a:r>
            <a:endParaRPr b="0" lang="en-US" sz="3200" spc="-1" strike="noStrike">
              <a:solidFill>
                <a:srgbClr val="ffffff"/>
              </a:solidFill>
              <a:latin typeface="Tahom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ة السووداء</a:t>
            </a:r>
            <a:br>
              <a:rPr sz="4400"/>
            </a:br>
            <a:endParaRPr b="1" lang="en-US" sz="44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نواحي الضعف - تسأل الطــلاب / أن يحددوا ما الصعوبات والمشاكل التي يمكن أن تكون - فيهتم المفكر بالتقديرات السلبية ، وإظهار الأشياء الخاطئة ، وطرح الأسئلة السلبي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عندما ترتديها فأنت تفعل بعض ما يلي :</a:t>
            </a:r>
            <a:br>
              <a:rPr sz="4400"/>
            </a:br>
            <a:endParaRPr b="1" lang="en-US" sz="44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fontScale="85000"/>
          </a:bodyPr>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قد الآراء ورفضها ، وربما تلجأ في ذلك إلى المنطق والحجج والأدلة التي تنظر إليها من زاوية سلبية معتمة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شاؤم وعدم التفاؤل باحتمالات النجاح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يضاح نقاط الضعف في أي فكرة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حتمالات الفشل وتقليل احتمالات النجاح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عوائق والمشكلات والتجارب الفاشلة</a:t>
            </a: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لتفكير بطريقة القبعات الست</a:t>
            </a:r>
            <a:endParaRPr b="1" lang="en-US" sz="4400" spc="-1" strike="noStrike">
              <a:solidFill>
                <a:srgbClr val="eaeaea"/>
              </a:solidFill>
              <a:latin typeface="Tahoma"/>
            </a:endParaRPr>
          </a:p>
        </p:txBody>
      </p:sp>
      <p:sp>
        <p:nvSpPr>
          <p:cNvPr id="112" name=""/>
          <p:cNvSpPr txBox="1"/>
          <p:nvPr/>
        </p:nvSpPr>
        <p:spPr>
          <a:xfrm>
            <a:off x="899640" y="1989000"/>
            <a:ext cx="7543800" cy="4114800"/>
          </a:xfrm>
          <a:prstGeom prst="rect">
            <a:avLst/>
          </a:prstGeom>
          <a:noFill/>
          <a:ln w="0">
            <a:noFill/>
          </a:ln>
        </p:spPr>
        <p:txBody>
          <a:bodyPr anchor="t">
            <a:normAutofit fontScale="92000"/>
          </a:bodyPr>
          <a:p>
            <a:pPr marL="315360" indent="-315360"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هو أحد برامج تعليم التفكير الحديثة وضعه الطبيب البريطاني إدوارد دي بونو (</a:t>
            </a:r>
            <a:r>
              <a:rPr b="0" i="1" lang="en-US" sz="3200" spc="-1" strike="noStrike">
                <a:solidFill>
                  <a:srgbClr val="ffffff"/>
                </a:solidFill>
                <a:latin typeface="Tahoma"/>
              </a:rPr>
              <a:t>De Bono</a:t>
            </a:r>
            <a:r>
              <a:rPr b="0" i="1" lang="ar-SA" sz="3200" spc="-1" strike="noStrike">
                <a:solidFill>
                  <a:srgbClr val="ffffff"/>
                </a:solidFill>
                <a:latin typeface="Tahoma"/>
              </a:rPr>
              <a:t> )</a:t>
            </a:r>
            <a:r>
              <a:rPr b="0" lang="ar-SA" sz="3200" spc="-1" strike="noStrike">
                <a:solidFill>
                  <a:srgbClr val="ffffff"/>
                </a:solidFill>
                <a:latin typeface="Tahoma"/>
              </a:rPr>
              <a:t> </a:t>
            </a:r>
            <a:endParaRPr b="0" lang="en-US" sz="3200" spc="-1" strike="noStrike">
              <a:solidFill>
                <a:srgbClr val="ffffff"/>
              </a:solidFill>
              <a:latin typeface="Tahoma"/>
            </a:endParaRPr>
          </a:p>
          <a:p>
            <a:pPr marL="315360" indent="-315360"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انتقل دي بونو في تخصصه من الطب إلى الفلسفة ، واستفاد من معلوماته الطبية عن المخ في تحليل أنماط التفكير عند الناس ، حتى ابتكر طريقة ( القبعات الست </a:t>
            </a:r>
            <a:r>
              <a:rPr b="0" i="1" lang="en-US" sz="3200" spc="-1" strike="noStrike">
                <a:solidFill>
                  <a:srgbClr val="ffffff"/>
                </a:solidFill>
                <a:latin typeface="Tahoma"/>
              </a:rPr>
              <a:t>( </a:t>
            </a:r>
            <a:r>
              <a:rPr b="0" i="1" lang="ar-SA" sz="3200" spc="-1" strike="noStrike">
                <a:solidFill>
                  <a:srgbClr val="ffffff"/>
                </a:solidFill>
                <a:latin typeface="Tahoma"/>
              </a:rPr>
              <a:t>فى التفكير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جوانب السلبية : كارتفاع التكاليف ، أو قوة الخصوم ، أو شدة المنافسة ، أو الضعف الذاتي ، أو الأخطار المتوقع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قع الفشل والتردد في الإقدام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ar-SA" sz="3200" spc="-1" strike="noStrike">
                <a:solidFill>
                  <a:srgbClr val="ffffff"/>
                </a:solidFill>
                <a:latin typeface="Tahoma"/>
              </a:rPr>
              <a:t>عدم استعمال الانفعالات والمشاعر بوضوح ، وإنما تلجأ إلى استعمال المنطق وإظهار الرأي بصورة سلبية</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صفراء</a:t>
            </a:r>
            <a:br>
              <a:rPr sz="4400"/>
            </a:br>
            <a:endParaRPr b="1" lang="en-US" sz="4400" spc="-1" strike="noStrike">
              <a:solidFill>
                <a:srgbClr val="eaeaea"/>
              </a:solidFill>
              <a:latin typeface="Tahoma"/>
            </a:endParaRPr>
          </a:p>
        </p:txBody>
      </p:sp>
      <p:sp>
        <p:nvSpPr>
          <p:cNvPr id="150" name=""/>
          <p:cNvSpPr txBox="1"/>
          <p:nvPr/>
        </p:nvSpPr>
        <p:spPr>
          <a:xfrm>
            <a:off x="1066320" y="1981080"/>
            <a:ext cx="7543800" cy="4114800"/>
          </a:xfrm>
          <a:prstGeom prst="rect">
            <a:avLst/>
          </a:prstGeom>
          <a:noFill/>
          <a:ln w="0">
            <a:noFill/>
          </a:ln>
        </p:spPr>
        <p:txBody>
          <a:bodyPr anchor="t">
            <a:normAutofit fontScale="89000"/>
          </a:bodyPr>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نواحي القوة</a:t>
            </a:r>
            <a:r>
              <a:rPr b="0" lang="en-US" sz="3200" spc="-1" strike="noStrike">
                <a:solidFill>
                  <a:srgbClr val="ffffff"/>
                </a:solidFill>
                <a:latin typeface="Tahoma"/>
              </a:rPr>
              <a:t> - </a:t>
            </a:r>
            <a:r>
              <a:rPr b="0" lang="ar-SA" sz="3200" spc="-1" strike="noStrike">
                <a:solidFill>
                  <a:srgbClr val="ffffff"/>
                </a:solidFill>
                <a:latin typeface="Tahoma"/>
              </a:rPr>
              <a:t>والطالب فيها فرح ومتــــــــفائل </a:t>
            </a:r>
            <a:r>
              <a:rPr b="0" lang="en-US" sz="3200" spc="-1" strike="noStrike">
                <a:solidFill>
                  <a:srgbClr val="ffffff"/>
                </a:solidFill>
                <a:latin typeface="Tahoma"/>
              </a:rPr>
              <a:t> - </a:t>
            </a:r>
            <a:r>
              <a:rPr b="0" lang="ar-SA" sz="3200" spc="-1" strike="noStrike">
                <a:solidFill>
                  <a:srgbClr val="ffffff"/>
                </a:solidFill>
                <a:latin typeface="Tahoma"/>
              </a:rPr>
              <a:t>تسأل الطلاب / أن يفكروا في الأشياء الإيجابية نحو موضوع مـا</a:t>
            </a:r>
            <a:r>
              <a:rPr b="0" lang="en-US" sz="3200" spc="-1" strike="noStrike">
                <a:solidFill>
                  <a:srgbClr val="ffffff"/>
                </a:solidFill>
                <a:latin typeface="Tahoma"/>
              </a:rPr>
              <a:t> - </a:t>
            </a:r>
            <a:r>
              <a:rPr b="0" lang="ar-SA" sz="3200" spc="-1" strike="noStrike">
                <a:solidFill>
                  <a:srgbClr val="ffffff"/>
                </a:solidFill>
                <a:latin typeface="Tahoma"/>
              </a:rPr>
              <a:t>وهي تمثل التفكير الإيجابي والبناء والمنتج ، والمفكر الذي يرتدي القبعة الصفراء ، يكون متفائلا ويقدم الاقتراحات والمشاريع</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مز اللون الأصفر إلى الشمس والنور ، ولذلك فإن هذه القبعة هي قبعة التفاؤل والتفكير الإيجابي </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من يرتديها يهتم بالتالي :</a:t>
            </a:r>
            <a:endParaRPr b="1" lang="en-US" sz="4400" spc="-1" strike="noStrike">
              <a:solidFill>
                <a:srgbClr val="eaeaea"/>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83000"/>
          </a:bodyPr>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ؤل ، والإقدام ، والإيجابية ، والاستعداد للتجريب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إبراز احتمالات النجاح وتقليل احتمالات الفشل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دعيم الآراء وقبولها باستعمال المنطق وإظهار الأسباب المؤدية إلى النجاح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يضاح نقاط القوة في الفكرة، والتركيز على جوانبها الإيجابية .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توقع النجاح والتشجيع على الإقدام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هوين المشكلات والمخاطر، وتوضيح الفروق عن التجارب الفاشلة الساقط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جوانب السلبية الإيجابية : كانخفاض التكاليف ، أو ضعف الخصوم ، أو عدم المبالاة بالمنافسين ، أو الشعور بالثقة بالنفس ، أو تهوين الأخطار المتوقع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فرص المتاحة ، والحرص على استغلالها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
          <p:cNvSpPr txBox="1"/>
          <p:nvPr/>
        </p:nvSpPr>
        <p:spPr>
          <a:xfrm>
            <a:off x="1066320" y="1981080"/>
            <a:ext cx="7543800" cy="4114800"/>
          </a:xfrm>
          <a:prstGeom prst="rect">
            <a:avLst/>
          </a:prstGeom>
          <a:noFill/>
          <a:ln w="0">
            <a:noFill/>
          </a:ln>
        </p:spPr>
        <p:txBody>
          <a:bodyPr anchor="t">
            <a:normAutofit fontScale="94000"/>
          </a:bodyPr>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لجوء إلى المشاعر والانفعالات بوضوح ، باستخدام المنطق وإظهار الرأي بصورة إيجابية ومحاولة تحسينه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يطر على صاحبها حب الإنتاج والإنجاز وليس بالضرورة إبداع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تع بأمل كبير وأهداف طموحة يعمل نحوها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نظر إلى الجانب الإيجابي في أي أمر ، ويــبرر له بتهوين الجانب السلب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خضراء</a:t>
            </a:r>
            <a:br>
              <a:rPr sz="4400"/>
            </a:b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الأفكار الجديدة </a:t>
            </a:r>
            <a:r>
              <a:rPr b="0" lang="en-US" sz="3200" spc="-1" strike="noStrike">
                <a:solidFill>
                  <a:srgbClr val="ffffff"/>
                </a:solidFill>
                <a:latin typeface="Tahoma"/>
              </a:rPr>
              <a:t>- </a:t>
            </a:r>
            <a:r>
              <a:rPr b="0" lang="ar-SA" sz="3200" spc="-1" strike="noStrike">
                <a:solidFill>
                  <a:srgbClr val="ffffff"/>
                </a:solidFill>
                <a:latin typeface="Tahoma"/>
              </a:rPr>
              <a:t>والطالب فيها يكون في حالة إبداع </a:t>
            </a:r>
            <a:r>
              <a:rPr b="0" lang="en-US" sz="3200" spc="-1" strike="noStrike">
                <a:solidFill>
                  <a:srgbClr val="ffffff"/>
                </a:solidFill>
                <a:latin typeface="Tahoma"/>
              </a:rPr>
              <a:t>- </a:t>
            </a:r>
            <a:r>
              <a:rPr b="0" lang="ar-SA" sz="3200" spc="-1" strike="noStrike">
                <a:solidFill>
                  <a:srgbClr val="ffffff"/>
                </a:solidFill>
                <a:latin typeface="Tahoma"/>
              </a:rPr>
              <a:t>تسأل الطلاب عن الإمكانيات المتاحة ما هي وإلى ماذا يمكن أن تؤدي </a:t>
            </a:r>
            <a:r>
              <a:rPr b="0" lang="en-US" sz="3200" spc="-1" strike="noStrike">
                <a:solidFill>
                  <a:srgbClr val="ffffff"/>
                </a:solidFill>
                <a:latin typeface="Tahoma"/>
              </a:rPr>
              <a:t> -</a:t>
            </a:r>
            <a:r>
              <a:rPr b="0" lang="ar-SA" sz="3200" spc="-1" strike="noStrike">
                <a:solidFill>
                  <a:srgbClr val="ffffff"/>
                </a:solidFill>
                <a:latin typeface="Tahoma"/>
              </a:rPr>
              <a:t>فهي تمثل التفكير الإبداعي ، والشخص الذي يضع القبعة الخضراء يجعل المخرجات والنتائج مخرجات إبداعية ومثالية ، ويطرح البدائل </a:t>
            </a:r>
            <a:r>
              <a:rPr b="0" lang="en-US" sz="3200" spc="-1" strike="noStrike">
                <a:solidFill>
                  <a:srgbClr val="ffffff"/>
                </a:solidFill>
                <a:latin typeface="Tahoma"/>
              </a:rPr>
              <a:t>-</a:t>
            </a:r>
            <a:r>
              <a:rPr b="0" lang="ar-SA" sz="3200" spc="-1" strike="noStrike">
                <a:solidFill>
                  <a:srgbClr val="ffffff"/>
                </a:solidFill>
                <a:latin typeface="Tahoma"/>
              </a:rPr>
              <a:t>يرمز اللون الأخضر إلى النبات والحياة الجديدة ، ولذلك فإن هذه القبعة هي قبعة التفكير الإبداعي </a:t>
            </a: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من يرتديها يتميز ببعض أو كل ما يلي :</a:t>
            </a:r>
            <a:br>
              <a:rPr sz="4400"/>
            </a:br>
            <a:endParaRPr b="1" lang="en-US" sz="4400" spc="-1" strike="noStrike">
              <a:solidFill>
                <a:srgbClr val="eaeaea"/>
              </a:solidFill>
              <a:latin typeface="Tahoma"/>
            </a:endParaRPr>
          </a:p>
        </p:txBody>
      </p:sp>
      <p:sp>
        <p:nvSpPr>
          <p:cNvPr id="160" name=""/>
          <p:cNvSpPr txBox="1"/>
          <p:nvPr/>
        </p:nvSpPr>
        <p:spPr>
          <a:xfrm>
            <a:off x="1066320" y="1981080"/>
            <a:ext cx="7543800" cy="4114800"/>
          </a:xfrm>
          <a:prstGeom prst="rect">
            <a:avLst/>
          </a:prstGeom>
          <a:noFill/>
          <a:ln w="0">
            <a:noFill/>
          </a:ln>
        </p:spPr>
        <p:txBody>
          <a:bodyPr anchor="t">
            <a:normAutofit fontScale="95000"/>
          </a:bodyPr>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حرص على الجديد من الأفكار والآراء والمفاهيم والتجارب والوسائل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عن البدائل لكل أمر والاستعداد لممارسة الجديد منها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 يمانع في استغراق بعض الوقت والجهد للبحث عن الأفكار والبدائل الجديدة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تعمال طرق الإبداع ووسائله ( مثل : ماذا لو ..) للبحث عن الطرق الجديد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حاولة تطوير الأفكار الجديدة أو الغريبة ، بل وصناعة الأفكار الجديد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رغبة في التخيل والتفكير العميق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عداد لتحمل المخاطر من أجل استكشاف الجديد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ندما تستعمل هذه القبعة يحسن أن تتبعها بالسوداء والصفرا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زرقاء</a:t>
            </a:r>
            <a:br>
              <a:rPr sz="4400"/>
            </a:br>
            <a:endParaRPr b="1" lang="en-US" sz="4400" spc="-1" strike="noStrike">
              <a:solidFill>
                <a:srgbClr val="eaeaea"/>
              </a:solidFill>
              <a:latin typeface="Tahoma"/>
            </a:endParaRPr>
          </a:p>
        </p:txBody>
      </p:sp>
      <p:sp>
        <p:nvSpPr>
          <p:cNvPr id="164" name=""/>
          <p:cNvSpPr txBox="1"/>
          <p:nvPr/>
        </p:nvSpPr>
        <p:spPr>
          <a:xfrm>
            <a:off x="1066320" y="1981080"/>
            <a:ext cx="7543800" cy="4114800"/>
          </a:xfrm>
          <a:prstGeom prst="rect">
            <a:avLst/>
          </a:prstGeom>
          <a:noFill/>
          <a:ln w="0">
            <a:noFill/>
          </a:ln>
        </p:spPr>
        <p:txBody>
          <a:bodyPr anchor="t">
            <a:normAutofit fontScale="89000"/>
          </a:bodyPr>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حول التفكير </a:t>
            </a:r>
            <a:r>
              <a:rPr b="0" lang="en-US" sz="3200" spc="-1" strike="noStrike">
                <a:solidFill>
                  <a:srgbClr val="ffffff"/>
                </a:solidFill>
                <a:latin typeface="Tahoma"/>
              </a:rPr>
              <a:t>-</a:t>
            </a:r>
            <a:r>
              <a:rPr b="0" lang="ar-SA" sz="3200" spc="-1" strike="noStrike">
                <a:solidFill>
                  <a:srgbClr val="ffffff"/>
                </a:solidFill>
                <a:latin typeface="Tahoma"/>
              </a:rPr>
              <a:t>والطالب فيها قيادي </a:t>
            </a:r>
            <a:r>
              <a:rPr b="0" lang="en-US" sz="3200" spc="-1" strike="noStrike">
                <a:solidFill>
                  <a:srgbClr val="ffffff"/>
                </a:solidFill>
                <a:latin typeface="Tahoma"/>
              </a:rPr>
              <a:t>-</a:t>
            </a:r>
            <a:r>
              <a:rPr b="0" lang="ar-SA" sz="3200" spc="-1" strike="noStrike">
                <a:solidFill>
                  <a:srgbClr val="ffffff"/>
                </a:solidFill>
                <a:latin typeface="Tahoma"/>
              </a:rPr>
              <a:t> </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أل الطلاب / أن يعبروا عن التفكير الذي يحتاج لفهم شئ ما أو التقدم للأمام ؟</a:t>
            </a:r>
            <a:r>
              <a:rPr b="0" lang="en-US" sz="3200" spc="-1" strike="noStrike">
                <a:solidFill>
                  <a:srgbClr val="ffffff"/>
                </a:solidFill>
                <a:latin typeface="Tahoma"/>
              </a:rPr>
              <a:t> -</a:t>
            </a:r>
            <a:r>
              <a:rPr b="0" lang="ar-SA" sz="3200" spc="-1" strike="noStrike">
                <a:solidFill>
                  <a:srgbClr val="ffffff"/>
                </a:solidFill>
                <a:latin typeface="Tahoma"/>
              </a:rPr>
              <a:t>فالقبعة الزرقاء : تظم التفكير بشكل عام وتضبطه ، والمفكر بها يشبه القائد وبالتالي فهو يتحكم بباقي القبعات </a:t>
            </a:r>
            <a:r>
              <a:rPr b="0" lang="en-US" sz="3200" spc="-1" strike="noStrike">
                <a:solidFill>
                  <a:srgbClr val="ffffff"/>
                </a:solidFill>
                <a:latin typeface="Tahoma"/>
              </a:rPr>
              <a:t>-</a:t>
            </a:r>
            <a:r>
              <a:rPr b="0" lang="ar-SA" sz="3200" spc="-1" strike="noStrike">
                <a:solidFill>
                  <a:srgbClr val="ffffff"/>
                </a:solidFill>
                <a:latin typeface="Tahoma"/>
              </a:rPr>
              <a:t>واللون الأزرق يرمز إلى السماء والبحر ، ولذلك فهي قبعة القوة والتفكير المنطقي المنظم أو الموجه </a:t>
            </a:r>
            <a:endParaRPr b="0" lang="en-US" sz="3200" spc="-1" strike="noStrike">
              <a:solidFill>
                <a:srgbClr val="ffffff"/>
              </a:solidFill>
              <a:latin typeface="Tahom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صاحبها يتميز بالاهتمام ببعض أو كل ما يلي :</a:t>
            </a:r>
            <a:endParaRPr b="1" lang="en-US" sz="4400" spc="-1" strike="noStrike">
              <a:solidFill>
                <a:srgbClr val="eaeaea"/>
              </a:solidFill>
              <a:latin typeface="Tahoma"/>
            </a:endParaRPr>
          </a:p>
        </p:txBody>
      </p:sp>
      <p:sp>
        <p:nvSpPr>
          <p:cNvPr id="166" name=""/>
          <p:cNvSpPr txBox="1"/>
          <p:nvPr/>
        </p:nvSpPr>
        <p:spPr>
          <a:xfrm>
            <a:off x="1066320" y="1981080"/>
            <a:ext cx="7543800" cy="4114800"/>
          </a:xfrm>
          <a:prstGeom prst="rect">
            <a:avLst/>
          </a:prstGeom>
          <a:noFill/>
          <a:ln w="0">
            <a:noFill/>
          </a:ln>
        </p:spPr>
        <p:txBody>
          <a:bodyPr anchor="t">
            <a:normAutofit fontScale="83000"/>
          </a:bodyPr>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رمجة والترتيب والاهتمام بخطوات التنفيذ والإنجاز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جيه الحوار والفكر والنقاش للخروج بأمور عملية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محور الموضوع وتجنب الإطناب أو الخروج عن الموضوع أو الاقتراحات غير المجدية</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نظيم عملية التفكير وتوجيهها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درة على التمييز بين الناس وأنماط تفكيرهم ، وبمعنى آخر أن صاحبها يرى قبعات الآخرين بوضـو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خلاصة طريقة ( القبعات الست ) هي أن دي بونو قسم التفكير عند الإنسان إلى ستة أنماط ، واعتبر كل نمط كقبعة يلبسها الإنسان أو يخلعها حسب طريقة تفكيره في تلك اللحظ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ولتسهيل الأمر فقد أعطى دي بونو لوناً مميزاً لكل قبعة حتى يمكن تمييزه وحفظه بسهول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
          <p:cNvSpPr txBox="1"/>
          <p:nvPr/>
        </p:nvSpPr>
        <p:spPr>
          <a:xfrm>
            <a:off x="1066320" y="1981080"/>
            <a:ext cx="7543800" cy="4114800"/>
          </a:xfrm>
          <a:prstGeom prst="rect">
            <a:avLst/>
          </a:prstGeom>
          <a:noFill/>
          <a:ln w="0">
            <a:noFill/>
          </a:ln>
        </p:spPr>
        <p:txBody>
          <a:bodyPr anchor="t">
            <a:normAutofit fontScale="86000"/>
          </a:bodyPr>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جيه أصحاب القبعات الأخرى ( وغالباً عن طريق الأسئلة ) وفض الجدل والاشتباك بينهم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لخيص الآراء وتجميعها وبلورتها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ميل صاحبها لإدارة الاجتماع حتى ولو لم يكن رئيس الجلسة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يل للاعتراف بأن الآراء الأخرى جيدة تحت الظروف المناسبة ، ثم يحـــــــلل الظروف الحالية ليبين ما هو الرأي المناسب في هذه الحال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يل للتخلص النهائي للموضوع أو تقديم الاقتراح الفعال المقبول المناسب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تفيد صاحبها من المعلومات والحقائق ويوظفها بأسلوب منطقي منظم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هداف دي  بونو</a:t>
            </a:r>
            <a:br>
              <a:rPr sz="4400"/>
            </a:br>
            <a:br>
              <a:rPr sz="4400"/>
            </a:b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fontScale="91000"/>
          </a:bodyPr>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توضيح وتبسيط التفكير ، وذلك لتزداد فاعليته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فالشخص من خلال هذا البرنامج يقوم بالتفكير بالتعامل مع شئ واحد في وقت واحد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السماح للمفكر بالانتقال أو بتغيير نمط تفكيره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القبعات الست الملونة هي عبارة عن وسيلة يستخدمها الفرد في معظم لحظات الحياة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وتركز هذه القبعات الست للتفكير على أن التفكير هو عملية متعدد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همية الموضوع </a:t>
            </a:r>
            <a:br>
              <a:rPr sz="4400"/>
            </a:br>
            <a:endParaRPr b="1" lang="en-US" sz="44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fontScale="97000"/>
          </a:bodyPr>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كما أنه من لوازم الدرس الشرح بالكتابة على السبورة فإنه من المثير لتفاعل الدرس أن يضع التلاميذ قبعات التفكير حتى يشاركوا من نواحي عديدة توسع منابع الفوائد من المادة العلمية . </a:t>
            </a:r>
            <a:endParaRPr b="0" lang="en-US" sz="3200" spc="-1" strike="noStrike">
              <a:solidFill>
                <a:srgbClr val="ffffff"/>
              </a:solidFill>
              <a:latin typeface="Tahom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فإن طريقة القبعات الست للتفكير تستخدم كناية عن أنواع مختلفة من التفكير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
          <p:cNvSpPr txBox="1"/>
          <p:nvPr/>
        </p:nvSpPr>
        <p:spPr>
          <a:xfrm>
            <a:off x="1042560" y="1989000"/>
            <a:ext cx="7543800" cy="411480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عن طريق استخدام القبعات الست يتضح للتلاميذ أن التفكير عبارة عن مهارة يمكن تعلمها وتطويرها عن طريق الممارسة .</a:t>
            </a:r>
            <a:endParaRPr b="0" lang="en-US" sz="3200" spc="-1" strike="noStrike">
              <a:solidFill>
                <a:srgbClr val="ffffff"/>
              </a:solidFill>
              <a:latin typeface="Tahoma"/>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بعات الست للتفكير تقدم إطاراً للتركيز والبناء ، والتفكير البناء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41520"/>
            <a:ext cx="7543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
          <p:cNvSpPr txBox="1"/>
          <p:nvPr/>
        </p:nvSpPr>
        <p:spPr>
          <a:xfrm>
            <a:off x="1066320" y="713880"/>
            <a:ext cx="7543800" cy="5381640"/>
          </a:xfrm>
          <a:prstGeom prst="rect">
            <a:avLst/>
          </a:prstGeom>
          <a:noFill/>
          <a:ln w="0">
            <a:noFill/>
          </a:ln>
        </p:spPr>
        <p:txBody>
          <a:bodyPr anchor="t">
            <a:normAutofit fontScale="94000"/>
          </a:bodyPr>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i="1" lang="ar-SA" sz="3200" spc="-1" strike="noStrike">
                <a:solidFill>
                  <a:srgbClr val="ffffff"/>
                </a:solidFill>
                <a:latin typeface="Tahoma"/>
              </a:rPr>
              <a:t>القبعات الست تعترف بأن المشاعر والعواطف أجزاء مهمة للتفكير . وهي عملية ممتعة للتعليم والتعلم على كل المستويات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كل لون من القبعات يمثل نوعاً من التفكير ، وعندما نضع قبعة معينة يراد استخدامها فإنه فقط يمارس ذلك النوع من التفكير في ذلك الوقت ... وبهذه الطريقة يمكن أن ينظر إلى أي فكرة أو قضية خلال ست وجهات نظر مختلفة ، قبل أن يقرر ما مدى أهمية الفكرة أو الاجراء</a:t>
            </a:r>
            <a:r>
              <a:rPr b="0" i="1" lang="en-US" sz="3200" spc="-1" strike="noStrike">
                <a:solidFill>
                  <a:srgbClr val="ffffff"/>
                </a:solidFill>
                <a:latin typeface="Tahoma"/>
              </a:rPr>
              <a:t>.</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لماذا نتعلم القبعات الست ؟</a:t>
            </a:r>
            <a:br>
              <a:rPr sz="4400"/>
            </a:br>
            <a:endParaRPr b="1" lang="en-US" sz="4400" spc="-1" strike="noStrike">
              <a:solidFill>
                <a:srgbClr val="eaeaea"/>
              </a:solidFill>
              <a:latin typeface="Tahoma"/>
            </a:endParaRPr>
          </a:p>
        </p:txBody>
      </p:sp>
      <p:sp>
        <p:nvSpPr>
          <p:cNvPr id="126" name=""/>
          <p:cNvSpPr txBox="1"/>
          <p:nvPr/>
        </p:nvSpPr>
        <p:spPr>
          <a:xfrm>
            <a:off x="1066320" y="1428840"/>
            <a:ext cx="7543800" cy="466704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متعة ، وسهلة في التعليم والتعلم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قدم صوراً عقلية مفيد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تخدم على جميع المستويات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إطار العام يسمح بالتركيز والبناء والتفكير البناء المنتج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6:57:22Z</dcterms:created>
  <dc:creator>user</dc:creator>
  <dc:description/>
  <dc:language>en-US</dc:language>
  <cp:lastModifiedBy>aroma.faiz@yahoo.com</cp:lastModifiedBy>
  <dcterms:modified xsi:type="dcterms:W3CDTF">2014-04-27T19:01:12Z</dcterms:modified>
  <cp:revision>46</cp:revision>
  <dc:subject/>
  <dc:title>المفاهيم الخطأ و تأثيرها على عملية التعلم                  </dc:title>
</cp:coreProperties>
</file>