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E498-6CCB-476D-8229-1B6EC25640D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545E-72D6-4990-99C6-B58FEAC4C98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1ED6-B0B8-4958-911C-6CDA5F787AD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75C-F44A-44F7-AC71-612889AC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38C-D536-41CB-A1D7-365143D0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3C9-922E-4BFA-AD99-D178CF55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89C-C3F0-4A6E-87A9-33434158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7694-5099-4F65-A913-E76A505F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F09C-27F6-4B40-889D-315DCAF0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09D2-C428-4BB4-97D8-73E773A7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742A-E6FE-4DD1-8CAC-B7DAB7E4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4A35-1E55-4466-BCC6-095F05D8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ABA8-70A8-440D-82D1-68B16B40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2F8D-D15A-4473-90B8-2D91196B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A0F-72D1-487D-83CB-C7C5D047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BA84-3863-4760-8C89-9CB29AE3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2E67-A5F5-4BA3-8677-4DF48294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5C12-ABA1-4273-B14A-9A06738C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C2B4-C1F9-4466-B51D-26188E21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FE54-14B9-4440-8641-4C1EFFE3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B67FE-0F30-4E0F-A8D1-FCFC78A2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3BCF-F954-429C-B07E-1C4D1F82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13EC9-FCA7-4949-B9CA-72685722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DDC8C-EF98-4626-AAB7-C14EE7E7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1E92A-8637-400B-882C-957E8362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5BF-B135-4FBD-82B5-4072DB84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CF6ED-8317-4B6F-A9D4-54F24E90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E3FDE-421E-4757-9E7C-F797924B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4AE29-92FB-49CA-986B-8F8706C1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E7B78-9DD2-4399-9063-B8827D90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BF1A-DAA4-4785-985D-68FE3239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2330B-B81E-4324-BD1B-7DAC99AA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090C6-773C-4CEE-9BC4-2E8633C5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B7FEF-F15C-40E0-81FC-CABF4A4B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F29D9-CDB7-4AD5-ABB3-1596E704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31FAF-9DF3-4405-B1E2-2EC96C22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618-3FFC-415D-A1AC-E7C798C7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A742-3F63-45DC-A4B0-A32A2FD0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64128-E817-48D3-8B30-E26E213D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BC256-6596-47B8-A85C-B90D5634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72FFA-D79C-4867-A046-D5440586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6080F-59B5-4F74-86C6-F32BE6F7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A95A9-5B24-47A7-B15D-5E8A6A8A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274A4-6E06-403C-83F9-84EB252D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CBED4-9227-424F-B2A4-E1828045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1CC5B-C516-403A-B524-05675083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DAA73-061B-4875-A487-E4B547AF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770-AE03-44CB-95C3-27DCB1A6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C4816-B204-4BC5-9CBC-DD3D516F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3970E-A440-472D-922A-02F72756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9DF9F-EE4E-4860-AB3D-40D01EC7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743F5-4593-4C71-93C0-770864AA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9E245-8DD4-40DE-9803-87C7612B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09673-3E7C-4390-9588-E5C2BB2B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575E1-144E-49EB-8F05-A9DC524A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44F57-46B9-40CF-89B3-6EE21CAD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ACB3A-0F83-41EE-8BF0-CC19D4B6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C4575-83E8-4F81-B7C4-BFD9DE52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539-7254-4B91-891F-F8FE332A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CE354-6859-495E-94E2-38BDDF95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8E609-6D42-4D43-A4FC-A3C8E51E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29A5E-2B7E-4685-B104-475CCFC4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755A1-AC18-4171-91CA-6BE5769C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054F5-D220-4D90-8A74-4EB09A21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D81E6-FD5E-4E72-BABB-FA3C0947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B52C1-F146-4528-96FB-299B3F82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7F313-75BE-4AD2-ABAA-1686A00F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A35C1-67DD-4BA4-95B0-AA0D9274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B4586-63D0-49BA-9B4D-7BEBB4FE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81D-C7AA-47A1-BD51-5A974552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757B8-497E-43FC-9735-E1840945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BF954-2B59-4A7D-95B9-395B4BDE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60B98-F714-4EBF-9D12-8D8F48D2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E7B18-487D-4EF9-87D0-31A15FEA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4EF30-B8EE-4BE6-9884-005FBCD0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B5BC8-37B6-458E-807A-7C84AFC0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27C8F-9891-4FC7-AA1C-5A4CA070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183FE-3CBC-4964-AF41-EC259786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D23C6-4280-414F-A946-692BA3AC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A1A13-FB8E-4FFB-BBA4-93611A34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BF9-141C-467E-8476-6B07C753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4EDE6-B2B2-4063-853B-6ECD214F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44EE7-938C-4777-B10C-70413FCE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9B4B3-461A-4159-8B68-5A163CA2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CC4C6-E8F0-4B23-B262-2CAFA040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F8CE3-1555-41EC-9682-03B7DC3D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753-AD66-439F-AA05-D4956A53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2834-9D7D-4CD8-BF94-02705B9E6E1D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9FC5-9644-4CB8-8AAB-CD3FC6582D49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F822-492B-4CDB-BE09-3DF86685BB3B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66AA-92DC-4722-91AB-61CBBBD84E1B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3C05-EE85-433B-A72A-3EC9DFCF2E8D}" type="slidenum">
              <a:rPr b="0" lang="ar-SA" sz="1000" spc="-1" strike="noStrike">
                <a:solidFill>
                  <a:srgbClr val="455f5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24DF-D147-43A9-87EC-A7E5D9F07F2D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ABD6-33FA-42C9-B89F-99AE3B0FC9E7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yJk9eA_mL4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0697717ZdU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86920" y="19890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النمو في الطفولة المبكرة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00000" y="328464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EARLY CHILDHOO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5435640" y="1349280"/>
            <a:ext cx="2908440" cy="1935360"/>
          </a:xfrm>
          <a:prstGeom prst="rect">
            <a:avLst/>
          </a:prstGeom>
          <a:ln w="0">
            <a:noFill/>
          </a:ln>
        </p:spPr>
      </p:pic>
      <p:pic>
        <p:nvPicPr>
          <p:cNvPr id="314" name="Rectangle 2" descr=""/>
          <p:cNvPicPr/>
          <p:nvPr/>
        </p:nvPicPr>
        <p:blipFill>
          <a:blip r:embed="rId2"/>
          <a:stretch/>
        </p:blipFill>
        <p:spPr>
          <a:xfrm>
            <a:off x="3371760" y="4754520"/>
            <a:ext cx="179064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2349000"/>
            <a:ext cx="7427880" cy="5378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e5e70"/>
                </a:solidFill>
                <a:latin typeface="Traditional Arabic"/>
                <a:cs typeface="Traditional Arabic"/>
              </a:rPr>
              <a:t>الحظ الأكبر للعضلات الكبيرة على حساب العضلات الصغيرة الدقيقة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e5e70"/>
                </a:solidFill>
                <a:latin typeface="Traditional Arabic"/>
                <a:cs typeface="Traditional Arabic"/>
              </a:rPr>
              <a:t>يوجد فروق بين الجنسين في الوزن لصالح الذكور وتتميز الإناث بالنسيج الشحمي بينما يتميز الذكور بالنسيج العضلي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e5e70"/>
                </a:solidFill>
                <a:latin typeface="Traditional Arabic"/>
                <a:cs typeface="Traditional Arabic"/>
              </a:rPr>
              <a:t>يبدأ تكون صورة الجسم والوجه والتي لها تأثير على مفهوم الذات لدى الطفل ويحدد ذلك تعليقات الكبار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7" name="Rectangle 3" descr=""/>
          <p:cNvPicPr/>
          <p:nvPr/>
        </p:nvPicPr>
        <p:blipFill>
          <a:blip r:embed="rId1"/>
          <a:stretch/>
        </p:blipFill>
        <p:spPr>
          <a:xfrm>
            <a:off x="5065560" y="371520"/>
            <a:ext cx="3103560" cy="1201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784080" y="374760"/>
            <a:ext cx="38404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404040"/>
                </a:solidFill>
                <a:latin typeface="Calibri Light"/>
              </a:rPr>
              <a:t>بماذا يعني لك النمو الحركي ؟؟؟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40" name="Content Placeholder 3" descr=""/>
          <p:cNvPicPr/>
          <p:nvPr/>
        </p:nvPicPr>
        <p:blipFill>
          <a:blip r:embed="rId1"/>
          <a:stretch/>
        </p:blipFill>
        <p:spPr>
          <a:xfrm>
            <a:off x="822240" y="1773360"/>
            <a:ext cx="75438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9520" y="476280"/>
            <a:ext cx="822960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1e5e70"/>
                </a:solidFill>
                <a:latin typeface="Traditional Arabic"/>
                <a:cs typeface="Traditional Arabic"/>
              </a:rPr>
              <a:t>ثانيا: النمو الحركي: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1880" y="2205000"/>
            <a:ext cx="7543800" cy="366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7e5"/>
                </a:solidFill>
                <a:latin typeface="Traditional Arabic"/>
                <a:cs typeface="Traditional Arabic"/>
              </a:rPr>
              <a:t>تعتبر هذه المرحلة مرحلة النشاط الحركي المستمر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7e5"/>
                </a:solidFill>
                <a:latin typeface="Traditional Arabic"/>
                <a:cs typeface="Traditional Arabic"/>
              </a:rPr>
              <a:t>في نهاية العام الرابع يبدأ أثر نمو العضلات الصغيرة في الحركات الدقيقة (التلوين، الكتابة، استخدام المقصات...)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116160" y="3789360"/>
            <a:ext cx="37594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95280" y="19890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85680" indent="-85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cs typeface="Traditional Arabic"/>
              </a:rPr>
              <a:t>يفضل الطفل في نهاية المرحلة استخدام يد على الأخرى. (</a:t>
            </a: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ea typeface="Traditional Arabic"/>
              </a:rPr>
              <a:t>95</a:t>
            </a: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ea typeface="Traditional Arabic"/>
              </a:rPr>
              <a:t>%) من الأطفال يستخدمون اليد اليمنى، بينما (</a:t>
            </a: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ea typeface="Traditional Arabic"/>
              </a:rPr>
              <a:t>5</a:t>
            </a: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ea typeface="Traditional Arabic"/>
              </a:rPr>
              <a:t>%) يستخدمون اليد اليسرى أو لا يفضلون استخدام أي يد. ويخضع ذلك إلى عوامل وراثية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85680" indent="-85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f2f38"/>
                </a:solidFill>
                <a:uFillTx/>
                <a:latin typeface="Traditional Arabic"/>
                <a:cs typeface="Traditional Arabic"/>
              </a:rPr>
              <a:t>يسير النمو الحركي في اتجاهات عامة هي: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85680" indent="-85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ea typeface="Traditional Arabic"/>
              </a:rPr>
              <a:t>1</a:t>
            </a: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ea typeface="Traditional Arabic"/>
              </a:rPr>
              <a:t>) من التحكم من كلا جانبي الجسم إلى التحكم من جانب واحد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85680" indent="-85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ea typeface="Traditional Arabic"/>
              </a:rPr>
              <a:t>2</a:t>
            </a: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ea typeface="Traditional Arabic"/>
              </a:rPr>
              <a:t>) من استخدام أكبر عدد من العضلات إلى استخدام أقل عدد من العضلات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5" name="Rectangle 3" descr=""/>
          <p:cNvPicPr/>
          <p:nvPr/>
        </p:nvPicPr>
        <p:blipFill>
          <a:blip r:embed="rId1"/>
          <a:stretch/>
        </p:blipFill>
        <p:spPr>
          <a:xfrm>
            <a:off x="5437080" y="469800"/>
            <a:ext cx="3073680" cy="1193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1258920" y="49320"/>
            <a:ext cx="29527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115640" y="1844640"/>
            <a:ext cx="727236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1000"/>
          </a:bodyPr>
          <a:p>
            <a:pPr marL="64080" indent="-640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يستطيع الطفل في هذه المرحلة أن يتسلق ويجري وينثني بمهارة فائقة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4080" indent="-640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يستطيع ارتداء ملابسه وربط حذائه والاستحمام بنفسه وتناول الطعام بمفرده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4080" indent="-640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يتمكن الطفل من السيطرة على الحركات الصغيرة بالتدريب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4080" indent="-640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يتلذذ الطفل بممارسة حواسه المختلفة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4080" indent="-640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يدرك العلاقات المكانية قبل الزمانية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4080" indent="-640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يدرك الطفل نواحي الاختلاف قبل التشابه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4080" indent="-640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يتطور استخدام اليد اليمنى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8" name="Rectangle 1" descr=""/>
          <p:cNvPicPr/>
          <p:nvPr/>
        </p:nvPicPr>
        <p:blipFill>
          <a:blip r:embed="rId1"/>
          <a:stretch/>
        </p:blipFill>
        <p:spPr>
          <a:xfrm>
            <a:off x="4572000" y="622440"/>
            <a:ext cx="3103560" cy="920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826920" y="3681360"/>
            <a:ext cx="28670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900000" y="1844280"/>
            <a:ext cx="701064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76680" indent="-76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9290e"/>
                </a:solidFill>
                <a:latin typeface="Arabic Typesetting"/>
                <a:ea typeface="Arabic Typesetting"/>
              </a:rPr>
              <a:t># يؤدي المهارات المطلوبة منه بدقه مستخدماً أجزاء جسمه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9290e"/>
                </a:solidFill>
                <a:latin typeface="Arabic Typesetting"/>
                <a:ea typeface="Arabic Typesetting"/>
              </a:rPr>
              <a:t>#يظهر الطفل التوافق بين أعضاء جسمه عند بلوغه الخامسه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التمكن من إتقان المهارات الجسمية الكبيرة والدقيقة لليد والأطراف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تمتاز حركات الطفل بالشدة وسرعة الاستجابة والتنوع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التآزر بين العين واليد والعين مع الذراع أكثر تطوراً وثباتاً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1" name="Rectangle 1" descr=""/>
          <p:cNvPicPr/>
          <p:nvPr/>
        </p:nvPicPr>
        <p:blipFill>
          <a:blip r:embed="rId1"/>
          <a:stretch/>
        </p:blipFill>
        <p:spPr>
          <a:xfrm>
            <a:off x="5005440" y="622440"/>
            <a:ext cx="3095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88640" y="33300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المراحل الأساسية للنمو الحركي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472"/>
                </a:solidFill>
                <a:latin typeface="Calibri"/>
              </a:rPr>
              <a:t>- مرحلة الحركة الانعكاسية :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472"/>
                </a:solidFill>
                <a:latin typeface="Calibri"/>
              </a:rPr>
              <a:t>من بداية التكوين حتى عمر سنة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472"/>
                </a:solidFill>
                <a:latin typeface="Calibri"/>
              </a:rPr>
              <a:t>- مرحلة الحركات الأولية 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472"/>
                </a:solidFill>
                <a:latin typeface="Calibri"/>
              </a:rPr>
              <a:t> السنتان الأوليتان من عمر الطفل 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472"/>
                </a:solidFill>
                <a:latin typeface="Calibri"/>
              </a:rPr>
              <a:t>- مرحلة الحركات الأساسية </a:t>
            </a:r>
            <a:r>
              <a:rPr b="1" lang="en-US" sz="2000" spc="-1" strike="noStrike">
                <a:solidFill>
                  <a:srgbClr val="003472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3472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472"/>
                </a:solidFill>
                <a:latin typeface="Calibri"/>
              </a:rPr>
              <a:t>من سنتان حتى سبع سنوات 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472"/>
                </a:solidFill>
                <a:latin typeface="Calibri"/>
              </a:rPr>
              <a:t>- مرحلة الحركات المتخصصة </a:t>
            </a:r>
            <a:r>
              <a:rPr b="1" lang="en-US" sz="2000" spc="-1" strike="noStrike">
                <a:solidFill>
                  <a:srgbClr val="003472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3472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472"/>
                </a:solidFill>
                <a:latin typeface="Calibri"/>
              </a:rPr>
              <a:t>من سبع سنوات فأكثر 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4" name="Picture 1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53276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Calibri Light"/>
              </a:rPr>
              <a:t>النمو الانفعالي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640" y="197496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cc"/>
                </a:solidFill>
                <a:latin typeface="Calibri"/>
              </a:rPr>
              <a:t>المشاعر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66cc"/>
                </a:solidFill>
                <a:uFillTx/>
                <a:latin typeface="Calibri"/>
              </a:rPr>
              <a:t>الحالة الانفعالية للطفل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7" name="Picture 1" descr=""/>
          <p:cNvPicPr/>
          <p:nvPr/>
        </p:nvPicPr>
        <p:blipFill>
          <a:blip r:embed="rId1"/>
          <a:stretch/>
        </p:blipFill>
        <p:spPr>
          <a:xfrm>
            <a:off x="324000" y="3803760"/>
            <a:ext cx="3333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900000" y="1989000"/>
            <a:ext cx="70567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f2f38"/>
                </a:solidFill>
                <a:latin typeface="Arabic Typesetting"/>
                <a:cs typeface="Arabic Typesetting"/>
              </a:rPr>
              <a:t>انفعالات الطفل غير مستقرة ممكن تتغير خلال الموقف الواحد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f2f38"/>
                </a:solidFill>
                <a:latin typeface="Arabic Typesetting"/>
                <a:cs typeface="Arabic Typesetting"/>
              </a:rPr>
              <a:t>يستطيع تكوين علاقات اجتماعية مع أقرانه من خلال اللعب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f2f38"/>
                </a:solidFill>
                <a:latin typeface="Arabic Typesetting"/>
                <a:cs typeface="Arabic Typesetting"/>
              </a:rPr>
              <a:t>تظهر الفروق الفردية واضحة جدا بينهم وتؤثر في أدائهم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9" name="Rectangle 1" descr=""/>
          <p:cNvPicPr/>
          <p:nvPr/>
        </p:nvPicPr>
        <p:blipFill>
          <a:blip r:embed="rId1"/>
          <a:stretch/>
        </p:blipFill>
        <p:spPr>
          <a:xfrm>
            <a:off x="4449600" y="476280"/>
            <a:ext cx="3542040" cy="925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2760840" y="3751200"/>
            <a:ext cx="3333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53920" y="17002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</a:rPr>
              <a:t>يظهر الطفل خصوبة في الخيال في الانشطة المختلف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</a:rPr>
              <a:t>(رسم السلحفاة)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</a:rPr>
              <a:t>ثم يظهر تقدما في المعرفة مع تقدم المرحلة العمري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2" name="Rectangle 1" descr=""/>
          <p:cNvPicPr/>
          <p:nvPr/>
        </p:nvPicPr>
        <p:blipFill>
          <a:blip r:embed="rId1"/>
          <a:stretch/>
        </p:blipFill>
        <p:spPr>
          <a:xfrm>
            <a:off x="4359240" y="622440"/>
            <a:ext cx="3357720" cy="920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rcRect l="0" t="0" r="0" b="5092"/>
          <a:stretch/>
        </p:blipFill>
        <p:spPr>
          <a:xfrm>
            <a:off x="3564000" y="3860640"/>
            <a:ext cx="24858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404040"/>
                </a:solidFill>
                <a:latin typeface="Calibri Light"/>
              </a:rPr>
              <a:t>ما سيتم مناقشتة لهذا اليوم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6" name="Content Placeholder 3" descr=""/>
          <p:cNvPicPr/>
          <p:nvPr/>
        </p:nvPicPr>
        <p:blipFill>
          <a:blip r:embed="rId1"/>
          <a:stretch/>
        </p:blipFill>
        <p:spPr>
          <a:xfrm>
            <a:off x="826920" y="2317680"/>
            <a:ext cx="3097440" cy="3079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284360" y="1846440"/>
            <a:ext cx="40813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مرحلة الطفولة المبكر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الخصائص التي تحكم نمو الطفل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نواحي النمو لدى الطفل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المراحل الأساسية للنمو الحركي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نشاط جماعي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2000"/>
          </a:bodyPr>
          <a:p>
            <a:pPr marL="73800" indent="-738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f2f38"/>
                </a:solidFill>
                <a:latin typeface="Arabic Typesetting"/>
                <a:ea typeface="Arabic Typesetting"/>
              </a:rPr>
              <a:t>* اكتساب المهارات الاجتماعية وتقبل الاخرين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73800" indent="-738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f2f38"/>
                </a:solidFill>
                <a:latin typeface="Arabic Typesetting"/>
                <a:cs typeface="Arabic Typesetting"/>
              </a:rPr>
              <a:t>الميل الى اللعب الجماعي مع مجوعة من اصحابة كالمشاركة في بناء المكعبات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73800" indent="-738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f2f38"/>
                </a:solidFill>
                <a:latin typeface="Arabic Typesetting"/>
                <a:ea typeface="Arabic Typesetting"/>
              </a:rPr>
              <a:t>* يظهر تقدما في المهارات والعلاقات الشخصية والاتصال بالاخرين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73800" indent="-738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3800" indent="-738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63800" y="1846440"/>
            <a:ext cx="37018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3562560" y="62064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النمو الاجتماع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4664160" y="1770120"/>
            <a:ext cx="37018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404040"/>
                </a:solidFill>
                <a:latin typeface="Calibri Light"/>
              </a:rPr>
              <a:t>المشهد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alcroze Eurhythmics, Bunny Sto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https://www.youtube.com/watch?v=5yJk9eA_mL4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3348000" y="350028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404040"/>
                </a:solidFill>
                <a:latin typeface="Calibri Light"/>
              </a:rPr>
              <a:t>نشاط جماعي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عرض مشهد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47640" y="2349360"/>
          <a:ext cx="6096240" cy="31672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12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مو الاجتماع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مو الحرك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مو الانفعال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مو المعرف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مو الجس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</a:tr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</a:tr>
            </a:tbl>
          </a:graphicData>
        </a:graphic>
      </p:graphicFrame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1042920" y="15228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404040"/>
                </a:solidFill>
                <a:latin typeface="Calibri Light"/>
              </a:rPr>
              <a:t>اشكر لكم استماعكم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1962000" y="1773360"/>
            <a:ext cx="51310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404040"/>
                </a:solidFill>
                <a:latin typeface="Calibri Light"/>
              </a:rPr>
              <a:t>؟؟؟؟؟؟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Calibri"/>
              </a:rPr>
              <a:t>ماذا تعني لك الطفولة المبكرة ؟ </a:t>
            </a:r>
            <a:endParaRPr b="0" lang="en-US" sz="5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3276720" y="3029040"/>
            <a:ext cx="25192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b26b02"/>
                </a:solidFill>
                <a:uFillTx/>
                <a:latin typeface="Calibri Light"/>
                <a:cs typeface="Traditional Arabic"/>
              </a:rPr>
              <a:t>مرحلة الطفولة المبكرة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00000" y="2204640"/>
            <a:ext cx="73440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88200" indent="-882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يطلق بعضهم اسم مرحلة الطفولة المبكرة على مرحلة ما قبل المدرسة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8200" indent="-882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وتعد مرحلة الطفولة المبكرة مرحلة مهمة في حياة الطفل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8200" indent="-882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عد هذه الفترة فترة نمو في جميع جوانب النمو، وتشهد هذه المرحلة مجموعة من التغيرات التي تطرأ على الطفل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8200" indent="-882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وضوح الفوارق في الشخصية حتى تصبح واضحة المعالم في نهاية المرحلة·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5"/>
          <a:stretch/>
        </p:blipFill>
        <p:spPr>
          <a:xfrm>
            <a:off x="539640" y="112680"/>
            <a:ext cx="140040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عنصر نائب للمحتوى 4" descr=""/>
          <p:cNvPicPr/>
          <p:nvPr/>
        </p:nvPicPr>
        <p:blipFill>
          <a:blip r:embed="rId1"/>
          <a:stretch/>
        </p:blipFill>
        <p:spPr>
          <a:xfrm>
            <a:off x="1109520" y="1914480"/>
            <a:ext cx="7027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 Light"/>
              </a:rPr>
              <a:t>الخصائص التي تحكم نمو الطفل :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563640" y="2205000"/>
            <a:ext cx="45133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</a:rPr>
              <a:t>* النمو عملية متصل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</a:rPr>
              <a:t>* النمو يختلف في معدلاته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</a:rPr>
              <a:t>*النمو عملية مترابطة شامل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</a:rPr>
              <a:t>*يتأثر بالبيئة والوراثة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7" name="Picture 1" descr=""/>
          <p:cNvPicPr/>
          <p:nvPr/>
        </p:nvPicPr>
        <p:blipFill>
          <a:blip r:embed="rId1"/>
          <a:stretch/>
        </p:blipFill>
        <p:spPr>
          <a:xfrm>
            <a:off x="822240" y="2492280"/>
            <a:ext cx="29415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عنصر نائب للمحتوى 3" descr=""/>
          <p:cNvPicPr/>
          <p:nvPr/>
        </p:nvPicPr>
        <p:blipFill>
          <a:blip r:embed="rId1"/>
          <a:stretch/>
        </p:blipFill>
        <p:spPr>
          <a:xfrm>
            <a:off x="0" y="1627200"/>
            <a:ext cx="7010280" cy="365760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1" descr=""/>
          <p:cNvPicPr/>
          <p:nvPr/>
        </p:nvPicPr>
        <p:blipFill>
          <a:blip r:embed="rId2"/>
          <a:stretch/>
        </p:blipFill>
        <p:spPr>
          <a:xfrm>
            <a:off x="1908000" y="401760"/>
            <a:ext cx="55231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404040"/>
                </a:solidFill>
                <a:latin typeface="Calibri Light"/>
              </a:rPr>
              <a:t>مشهد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https://www.youtube.com/watch?v=W0697717ZdU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00672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ولاً: النمو الجسمي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7e5"/>
                </a:solidFill>
                <a:latin typeface="Calibri"/>
              </a:rPr>
              <a:t>اكتمال عدد الأسنان اللبنية، ثم تساقطها وبداية ظهور الأسنان الدائمة في نهاية المرحلة. 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7e5"/>
                </a:solidFill>
                <a:latin typeface="Calibri"/>
              </a:rPr>
              <a:t>ينمو الرأس بطيئاً ويصل في نهاية المرحلة إلى قريب من حجم رأس الراشد.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7e5"/>
                </a:solidFill>
                <a:latin typeface="Calibri"/>
              </a:rPr>
              <a:t> يتأثر النمو بإمكانيات النمو لدى الطفل وفي نهاية السنة الثالثة يكون طول الطفل تقريباً </a:t>
            </a:r>
            <a:r>
              <a:rPr b="0" lang="ar-SA" sz="3000" spc="-1" strike="noStrike">
                <a:solidFill>
                  <a:srgbClr val="0067e5"/>
                </a:solidFill>
                <a:latin typeface="Calibri"/>
              </a:rPr>
              <a:t>90</a:t>
            </a:r>
            <a:r>
              <a:rPr b="0" lang="ar-SA" sz="3000" spc="-1" strike="noStrike">
                <a:solidFill>
                  <a:srgbClr val="0067e5"/>
                </a:solidFill>
                <a:latin typeface="Calibri"/>
              </a:rPr>
              <a:t> سم ويلاحظ أن الوزن يبرزه نمو الجذع واستطالة العظام خاصة الأطراف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0" t="7323" r="2425" b="2152"/>
          <a:stretch/>
        </p:blipFill>
        <p:spPr>
          <a:xfrm>
            <a:off x="971640" y="392040"/>
            <a:ext cx="383688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6:16:14Z</dcterms:created>
  <dc:creator>USER</dc:creator>
  <dc:description/>
  <dc:language>en-US</dc:language>
  <cp:lastModifiedBy>Lena Alkhuraiji</cp:lastModifiedBy>
  <cp:lastPrinted>2016-10-03T19:56:53Z</cp:lastPrinted>
  <dcterms:modified xsi:type="dcterms:W3CDTF">2016-10-03T21:10:17Z</dcterms:modified>
  <cp:revision>146</cp:revision>
  <dc:subject/>
  <dc:title>عرض تقديمي في PowerPoint</dc:title>
</cp:coreProperties>
</file>