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863C-C858-4056-8E6C-0CBB44509A8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BD68-55C3-4A86-B682-9BC506368F5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6281-4CF6-4051-AE1D-0D910D908C1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9D2-BEBA-4492-891F-8A08D7AA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5CF-2FBF-4644-B665-F955C154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D86-B421-4897-A339-DEDBF40C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7D8-4669-406D-9FEC-6AA1C9A0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0EC0-8FD4-4654-9866-027FFF88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6063-55DC-46A9-A161-2EC45C80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BDB4-C19D-4D86-8869-8156333C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604C-C822-4542-BEA4-1BD39EC1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3A5C-21D8-4D76-B2D2-CC4A912C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E439-6C2B-4FBA-B83C-05C52896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E5CB-C0CB-4F03-8602-3310FFF9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2BB-3C00-4E46-9129-E6CB0E2A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BEF8-2B60-4959-81E9-F4D5E7EF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ACE0-9FDA-4120-A7A2-BFDC1501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B426-AF29-4496-A6C1-F2ED8579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0956-D643-4506-AF2A-AECEF72E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1476-72B9-41F2-A5EA-109462CF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221A1-B3E8-46EB-8936-3AC449BD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69577-00EF-4843-9D63-86608BFF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A2F68-452F-4FE7-8A25-C98D68B9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3759-A4CB-436C-B6FF-84EF2462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CB930-ED3F-4060-A955-15642768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9DA-0A68-4B79-85C0-BADC7387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47ABD-5113-409D-9726-A6D67F69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D76C-7664-4C03-AF8E-8147F94E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C96C9-C92D-4FD5-A2D6-4586BC24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E2DEE-8C56-4631-8E5A-3EA38037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B2EBF-92FA-4440-B1EC-0491B9B9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B889F-AEAC-480D-B795-EE2D05F5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5A40C-BA0C-41D7-86BD-034040C9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8E649-64A6-4B7C-9846-8689F194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31A5-7A17-455E-833D-B410C0DD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0AB34-0102-4B9D-B923-CA425E0D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D26-E2E8-480D-B6B2-DB0A1A19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3F89D-8AB4-4FFC-BAEC-66F3D34E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6BE88-4851-4CA8-B23C-B78053A5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ABE76-2569-4113-A967-47A8AA76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EDB66-18B2-47A1-8B4A-972DAFF6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3AB2D-C9E6-4E28-B494-6A670DE7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3CC72-9637-451B-BC48-2E67B2A7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D3CEF-BB62-4EF2-8900-5771152E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B5B7F-1055-4A9F-B99B-217287FA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80426-872E-493F-8FF6-07E7B335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F78D6-0BD5-4FD1-ACE5-ADE52446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2EB-916C-4254-A9EA-68A7661D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B8553-29CA-464C-8D48-3BCF830B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900E7-FCEA-4B6F-A557-FE735D00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BE5AE-7615-4397-857A-54C317AE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03852-11B9-4D06-9787-3655E916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6D2EA-D5C7-4944-AF10-F25F0BD2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9FD45-3435-4E8D-A66B-0C4F8BE0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1AE63-873F-4548-AB0F-799A6BE2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0118C-350D-488D-855B-B85BFB06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488CD-E85C-4AAF-B0F7-4BC7EC89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59842-8D48-4174-A562-939FFC7F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CE4-4CDA-42C1-8150-C5C82190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43386-E8E3-44DA-9FE6-552D1651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AE2AA-298C-43B9-97C9-2AD1DCF6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038F9-17F4-49D1-9467-55779C05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CA729-3843-4A30-AA1E-A45F4E4A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DC122-2DF0-467B-9416-2D5D3DF7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DF43D-AC8B-41A2-944B-D80A6EA6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57C8D-0734-4CEF-B70D-9F151591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F49EB-0542-4E43-A60E-77B58A09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E8A97-4205-44F1-98A7-65D94130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DF6D7-0513-4C3C-A90F-47BE1475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27C-E5AC-4A12-BB75-F3EA2A3B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0186C-B63A-4E86-B1EF-B46DC037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3B291-9B79-409B-89E2-AFBE3AFB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04F70-B1E4-4A8B-BB41-93EC4CCF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6BDDD-3EC7-4FE0-A7D5-60103177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D4FB8-CEF8-448E-BE01-5BC4238B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A1C17-DD09-4DF1-8B86-4A11E630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C2BFD-A3F9-4DE7-9D5F-81E40612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51B13-41B5-4D18-8488-9CA8C8F2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011E4-4E42-468F-AFA8-F5E11786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234CD-31FC-423C-8664-9157BB38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FB6-E316-4EB8-903F-3D58346F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656A4-FE09-42D5-85EA-B59D140D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AB606-AFC8-4DFC-B6EB-E7906894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A478D-A90E-4C9D-B89A-3DA195F5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18CDA-8FF1-41F2-B65B-5B0C6680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9A469-4350-40FF-ABDB-26CFB3CE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8B6-07C4-4978-BB0E-89667BA5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4165-C749-43C9-83F5-5418794ABB29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E44D-B46E-4B51-A7AE-7F938B476D27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0855-1FA2-4D5C-A961-B4F6DD933852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1FB8-5D55-4018-B996-559FDCAE3E9B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034F-0AAA-4DB5-978C-5DF7F9B21EBB}" type="slidenum">
              <a:rPr b="0" lang="ar-SA" sz="1000" spc="-1" strike="noStrike">
                <a:solidFill>
                  <a:srgbClr val="455f5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7D58-0751-4E7E-84E7-2FD82AB5F7DD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114B-1AA4-4C50-AEE7-B3FA5A54058D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yJk9eA_mL4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0697717ZdU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86920" y="19890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Traditional Arabic"/>
                <a:cs typeface="Traditional Arabic"/>
              </a:rPr>
              <a:t>النمو في الطفولة المبكرة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00000" y="328464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EARLY CHILDHOO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5435640" y="1349280"/>
            <a:ext cx="2908440" cy="1935360"/>
          </a:xfrm>
          <a:prstGeom prst="rect">
            <a:avLst/>
          </a:prstGeom>
          <a:ln w="0">
            <a:noFill/>
          </a:ln>
        </p:spPr>
      </p:pic>
      <p:pic>
        <p:nvPicPr>
          <p:cNvPr id="314" name="Rectangle 2" descr=""/>
          <p:cNvPicPr/>
          <p:nvPr/>
        </p:nvPicPr>
        <p:blipFill>
          <a:blip r:embed="rId2"/>
          <a:stretch/>
        </p:blipFill>
        <p:spPr>
          <a:xfrm>
            <a:off x="3371760" y="4754520"/>
            <a:ext cx="179064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2349000"/>
            <a:ext cx="7427880" cy="5378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e5e70"/>
                </a:solidFill>
                <a:latin typeface="Traditional Arabic"/>
                <a:cs typeface="Traditional Arabic"/>
              </a:rPr>
              <a:t>الحظ الأكبر للعضلات الكبيرة على حساب العضلات الصغيرة الدقيقة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e5e70"/>
                </a:solidFill>
                <a:latin typeface="Traditional Arabic"/>
                <a:cs typeface="Traditional Arabic"/>
              </a:rPr>
              <a:t>يوجد فروق بين الجنسين في الوزن لصالح الذكور وتتميز الإناث بالنسيج الشحمي بينما يتميز الذكور بالنسيج العضلي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e5e70"/>
                </a:solidFill>
                <a:latin typeface="Traditional Arabic"/>
                <a:cs typeface="Traditional Arabic"/>
              </a:rPr>
              <a:t>يبدأ تكون صورة الجسم والوجه والتي لها تأثير على مفهوم الذات لدى الطفل ويحدد ذلك تعليقات الكبار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7" name="Rectangle 3" descr=""/>
          <p:cNvPicPr/>
          <p:nvPr/>
        </p:nvPicPr>
        <p:blipFill>
          <a:blip r:embed="rId1"/>
          <a:stretch/>
        </p:blipFill>
        <p:spPr>
          <a:xfrm>
            <a:off x="5065560" y="371520"/>
            <a:ext cx="3103560" cy="12016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784080" y="374760"/>
            <a:ext cx="38404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404040"/>
                </a:solidFill>
                <a:latin typeface="Calibri Light"/>
              </a:rPr>
              <a:t>بماذا يعني لك النمو الحركي ؟؟؟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40" name="Content Placeholder 3" descr=""/>
          <p:cNvPicPr/>
          <p:nvPr/>
        </p:nvPicPr>
        <p:blipFill>
          <a:blip r:embed="rId1"/>
          <a:stretch/>
        </p:blipFill>
        <p:spPr>
          <a:xfrm>
            <a:off x="822240" y="1773360"/>
            <a:ext cx="75438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9520" y="476280"/>
            <a:ext cx="822960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1e5e70"/>
                </a:solidFill>
                <a:latin typeface="Traditional Arabic"/>
                <a:cs typeface="Traditional Arabic"/>
              </a:rPr>
              <a:t>ثانيا: النمو الحركي: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1880" y="2205000"/>
            <a:ext cx="7543800" cy="366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7e5"/>
                </a:solidFill>
                <a:latin typeface="Traditional Arabic"/>
                <a:cs typeface="Traditional Arabic"/>
              </a:rPr>
              <a:t>تعتبر هذه المرحلة مرحلة النشاط الحركي المستمر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7e5"/>
                </a:solidFill>
                <a:latin typeface="Traditional Arabic"/>
                <a:cs typeface="Traditional Arabic"/>
              </a:rPr>
              <a:t>في نهاية العام الرابع يبدأ أثر نمو العضلات الصغيرة في الحركات الدقيقة (التلوين، الكتابة، استخدام المقصات...)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116160" y="3789360"/>
            <a:ext cx="37594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95280" y="19890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85680" indent="-85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cs typeface="Traditional Arabic"/>
              </a:rPr>
              <a:t>يفضل الطفل في نهاية المرحلة استخدام يد على الأخرى. (</a:t>
            </a: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ea typeface="Traditional Arabic"/>
              </a:rPr>
              <a:t>95</a:t>
            </a: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ea typeface="Traditional Arabic"/>
              </a:rPr>
              <a:t>%) من الأطفال يستخدمون اليد اليمنى، بينما (</a:t>
            </a: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ea typeface="Traditional Arabic"/>
              </a:rPr>
              <a:t>5</a:t>
            </a: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ea typeface="Traditional Arabic"/>
              </a:rPr>
              <a:t>%) يستخدمون اليد اليسرى أو لا يفضلون استخدام أي يد. ويخضع ذلك إلى عوامل وراثية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85680" indent="-85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f2f38"/>
                </a:solidFill>
                <a:uFillTx/>
                <a:latin typeface="Traditional Arabic"/>
                <a:cs typeface="Traditional Arabic"/>
              </a:rPr>
              <a:t>يسير النمو الحركي في اتجاهات عامة هي: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85680" indent="-85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ea typeface="Traditional Arabic"/>
              </a:rPr>
              <a:t>1</a:t>
            </a: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ea typeface="Traditional Arabic"/>
              </a:rPr>
              <a:t>) من التحكم من كلا جانبي الجسم إلى التحكم من جانب واحد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85680" indent="-85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ea typeface="Traditional Arabic"/>
              </a:rPr>
              <a:t>2</a:t>
            </a:r>
            <a:r>
              <a:rPr b="0" lang="ar-SA" sz="3600" spc="-1" strike="noStrike">
                <a:solidFill>
                  <a:srgbClr val="0f2f38"/>
                </a:solidFill>
                <a:latin typeface="Traditional Arabic"/>
                <a:ea typeface="Traditional Arabic"/>
              </a:rPr>
              <a:t>) من استخدام أكبر عدد من العضلات إلى استخدام أقل عدد من العضلات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5" name="Rectangle 3" descr=""/>
          <p:cNvPicPr/>
          <p:nvPr/>
        </p:nvPicPr>
        <p:blipFill>
          <a:blip r:embed="rId1"/>
          <a:stretch/>
        </p:blipFill>
        <p:spPr>
          <a:xfrm>
            <a:off x="5437080" y="469800"/>
            <a:ext cx="3073680" cy="1193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1258920" y="49320"/>
            <a:ext cx="29527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115640" y="1844640"/>
            <a:ext cx="727236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1000"/>
          </a:bodyPr>
          <a:p>
            <a:pPr marL="64080" indent="-640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يستطيع الطفل في هذه المرحلة أن يتسلق ويجري وينثني بمهارة فائقة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4080" indent="-640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يستطيع ارتداء ملابسه وربط حذائه والاستحمام بنفسه وتناول الطعام بمفرده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4080" indent="-640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يتمكن الطفل من السيطرة على الحركات الصغيرة بالتدريب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4080" indent="-640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يتلذذ الطفل بممارسة حواسه المختلفة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4080" indent="-640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يدرك العلاقات المكانية قبل الزمانية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4080" indent="-640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يدرك الطفل نواحي الاختلاف قبل التشابه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64080" indent="-640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يتطور استخدام اليد اليمنى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8" name="Rectangle 1" descr=""/>
          <p:cNvPicPr/>
          <p:nvPr/>
        </p:nvPicPr>
        <p:blipFill>
          <a:blip r:embed="rId1"/>
          <a:stretch/>
        </p:blipFill>
        <p:spPr>
          <a:xfrm>
            <a:off x="4572000" y="622440"/>
            <a:ext cx="3103560" cy="920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826920" y="3681360"/>
            <a:ext cx="28670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900000" y="1844280"/>
            <a:ext cx="701064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76680" indent="-76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9290e"/>
                </a:solidFill>
                <a:latin typeface="Arabic Typesetting"/>
                <a:ea typeface="Arabic Typesetting"/>
              </a:rPr>
              <a:t># يؤدي المهارات المطلوبة منه بدقه مستخدماً أجزاء جسمه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9290e"/>
                </a:solidFill>
                <a:latin typeface="Arabic Typesetting"/>
                <a:ea typeface="Arabic Typesetting"/>
              </a:rPr>
              <a:t>#يظهر الطفل التوافق بين أعضاء جسمه عند بلوغه الخامسه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التمكن من إتقان المهارات الجسمية الكبيرة والدقيقة لليد والأطراف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تمتاز حركات الطفل بالشدة وسرعة الاستجابة والتنوع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76680" indent="-766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9290e"/>
                </a:solidFill>
                <a:latin typeface="Arabic Typesetting"/>
                <a:cs typeface="Arabic Typesetting"/>
              </a:rPr>
              <a:t>التآزر بين العين واليد والعين مع الذراع أكثر تطوراً وثباتاً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1" name="Rectangle 1" descr=""/>
          <p:cNvPicPr/>
          <p:nvPr/>
        </p:nvPicPr>
        <p:blipFill>
          <a:blip r:embed="rId1"/>
          <a:stretch/>
        </p:blipFill>
        <p:spPr>
          <a:xfrm>
            <a:off x="5005440" y="622440"/>
            <a:ext cx="3095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88640" y="33300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المراحل الأساسية للنمو الحركي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472"/>
                </a:solidFill>
                <a:latin typeface="Calibri"/>
              </a:rPr>
              <a:t>- مرحلة الحركة الانعكاسية :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472"/>
                </a:solidFill>
                <a:latin typeface="Calibri"/>
              </a:rPr>
              <a:t>من بداية التكوين حتى عمر سنة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472"/>
                </a:solidFill>
                <a:latin typeface="Calibri"/>
              </a:rPr>
              <a:t>- مرحلة الحركات الأولية 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472"/>
                </a:solidFill>
                <a:latin typeface="Calibri"/>
              </a:rPr>
              <a:t> السنتان الأوليتان من عمر الطفل 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472"/>
                </a:solidFill>
                <a:latin typeface="Calibri"/>
              </a:rPr>
              <a:t>- مرحلة الحركات الأساسية </a:t>
            </a:r>
            <a:r>
              <a:rPr b="1" lang="en-US" sz="2000" spc="-1" strike="noStrike">
                <a:solidFill>
                  <a:srgbClr val="003472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3472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472"/>
                </a:solidFill>
                <a:latin typeface="Calibri"/>
              </a:rPr>
              <a:t>من سنتان حتى سبع سنوات 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472"/>
                </a:solidFill>
                <a:latin typeface="Calibri"/>
              </a:rPr>
              <a:t>- مرحلة الحركات المتخصصة </a:t>
            </a:r>
            <a:r>
              <a:rPr b="1" lang="en-US" sz="2000" spc="-1" strike="noStrike">
                <a:solidFill>
                  <a:srgbClr val="003472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3472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472"/>
                </a:solidFill>
                <a:latin typeface="Calibri"/>
              </a:rPr>
              <a:t>من سبع سنوات فأكثر 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4" name="Picture 1" descr=""/>
          <p:cNvPicPr/>
          <p:nvPr/>
        </p:nvPicPr>
        <p:blipFill>
          <a:blip r:embed="rId1"/>
          <a:stretch/>
        </p:blipFill>
        <p:spPr>
          <a:xfrm>
            <a:off x="108000" y="3213000"/>
            <a:ext cx="53276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Calibri Light"/>
              </a:rPr>
              <a:t>النمو الانفعالي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640" y="197496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cc"/>
                </a:solidFill>
                <a:latin typeface="Calibri"/>
              </a:rPr>
              <a:t>المشاعر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66cc"/>
                </a:solidFill>
                <a:uFillTx/>
                <a:latin typeface="Calibri"/>
              </a:rPr>
              <a:t>الحالة الانفعالية للطفل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7" name="Picture 1" descr=""/>
          <p:cNvPicPr/>
          <p:nvPr/>
        </p:nvPicPr>
        <p:blipFill>
          <a:blip r:embed="rId1"/>
          <a:stretch/>
        </p:blipFill>
        <p:spPr>
          <a:xfrm>
            <a:off x="324000" y="3803760"/>
            <a:ext cx="3333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900000" y="1989000"/>
            <a:ext cx="7056720" cy="4167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f2f38"/>
                </a:solidFill>
                <a:latin typeface="Arabic Typesetting"/>
                <a:cs typeface="Arabic Typesetting"/>
              </a:rPr>
              <a:t>انفعالات الطفل غير مستقرة ممكن تتغير خلال الموقف الواحد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f2f38"/>
                </a:solidFill>
                <a:latin typeface="Arabic Typesetting"/>
                <a:cs typeface="Arabic Typesetting"/>
              </a:rPr>
              <a:t>يستطيع تكوين علاقات اجتماعية مع أقرانه من خلال اللعب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f2f38"/>
                </a:solidFill>
                <a:latin typeface="Arabic Typesetting"/>
                <a:cs typeface="Arabic Typesetting"/>
              </a:rPr>
              <a:t>تظهر الفروق الفردية واضحة جدا بينهم وتؤثر في أدائهم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9" name="Rectangle 1" descr=""/>
          <p:cNvPicPr/>
          <p:nvPr/>
        </p:nvPicPr>
        <p:blipFill>
          <a:blip r:embed="rId1"/>
          <a:stretch/>
        </p:blipFill>
        <p:spPr>
          <a:xfrm>
            <a:off x="4449600" y="476280"/>
            <a:ext cx="3542040" cy="925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2760840" y="3751200"/>
            <a:ext cx="3333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53920" y="170028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</a:rPr>
              <a:t>يظهر الطفل خصوبة في الخيال في الانشطة المختلف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</a:rPr>
              <a:t>(رسم السلحفاة)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</a:rPr>
              <a:t>ثم يظهر تقدما في المعرفة مع تقدم المرحلة العمري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2" name="Rectangle 1" descr=""/>
          <p:cNvPicPr/>
          <p:nvPr/>
        </p:nvPicPr>
        <p:blipFill>
          <a:blip r:embed="rId1"/>
          <a:stretch/>
        </p:blipFill>
        <p:spPr>
          <a:xfrm>
            <a:off x="4359240" y="622440"/>
            <a:ext cx="3357720" cy="920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rcRect l="0" t="0" r="0" b="5092"/>
          <a:stretch/>
        </p:blipFill>
        <p:spPr>
          <a:xfrm>
            <a:off x="3564000" y="3860640"/>
            <a:ext cx="24858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404040"/>
                </a:solidFill>
                <a:latin typeface="Calibri Light"/>
              </a:rPr>
              <a:t>ما سيتم مناقشتة لهذا اليوم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6" name="Content Placeholder 3" descr=""/>
          <p:cNvPicPr/>
          <p:nvPr/>
        </p:nvPicPr>
        <p:blipFill>
          <a:blip r:embed="rId1"/>
          <a:stretch/>
        </p:blipFill>
        <p:spPr>
          <a:xfrm>
            <a:off x="826920" y="2317680"/>
            <a:ext cx="3097440" cy="3079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284360" y="1846440"/>
            <a:ext cx="408132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مرحلة الطفولة المبكر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الخصائص التي تحكم نمو الطفل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نواحي النمو لدى الطفل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المراحل الأساسية للنمو الحركي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04040"/>
                </a:solidFill>
                <a:latin typeface="Calibri"/>
              </a:rPr>
              <a:t>نشاط جماعي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429480" indent="-42948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2000"/>
          </a:bodyPr>
          <a:p>
            <a:pPr marL="73800" indent="-738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f2f38"/>
                </a:solidFill>
                <a:latin typeface="Arabic Typesetting"/>
                <a:ea typeface="Arabic Typesetting"/>
              </a:rPr>
              <a:t>* اكتساب المهارات الاجتماعية وتقبل الاخرين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73800" indent="-738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f2f38"/>
                </a:solidFill>
                <a:latin typeface="Arabic Typesetting"/>
                <a:cs typeface="Arabic Typesetting"/>
              </a:rPr>
              <a:t>الميل الى اللعب الجماعي مع مجوعة من اصحابة كالمشاركة في بناء المكعبات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73800" indent="-738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f2f38"/>
                </a:solidFill>
                <a:latin typeface="Arabic Typesetting"/>
                <a:ea typeface="Arabic Typesetting"/>
              </a:rPr>
              <a:t>* يظهر تقدما في المهارات والعلاقات الشخصية والاتصال بالاخرين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73800" indent="-738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73800" indent="-738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63800" y="1846440"/>
            <a:ext cx="37018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3562560" y="62064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النمو الاجتماع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4664160" y="1770120"/>
            <a:ext cx="37018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404040"/>
                </a:solidFill>
                <a:latin typeface="Calibri Light"/>
              </a:rPr>
              <a:t>المشهد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alcroze Eurhythmics, Bunny Sto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https://www.youtube.com/watch?v=5yJk9eA_mL4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3348000" y="350028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404040"/>
                </a:solidFill>
                <a:latin typeface="Calibri Light"/>
              </a:rPr>
              <a:t>نشاط جماعي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04040"/>
                </a:solidFill>
                <a:latin typeface="Calibri"/>
              </a:rPr>
              <a:t>عرض مشهد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47640" y="2349360"/>
          <a:ext cx="6096240" cy="31672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12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مو الاجتماع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مو الحرك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مو الانفعالي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مو المعرف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مو الجس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b38"/>
                    </a:solidFill>
                  </a:tcPr>
                </a:tc>
              </a:tr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e"/>
                    </a:solidFill>
                  </a:tcPr>
                </a:tc>
              </a:tr>
            </a:tbl>
          </a:graphicData>
        </a:graphic>
      </p:graphicFrame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1042920" y="15228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404040"/>
                </a:solidFill>
                <a:latin typeface="Calibri Light"/>
              </a:rPr>
              <a:t>اشكر لكم استماعكم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1962000" y="1773360"/>
            <a:ext cx="51310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404040"/>
                </a:solidFill>
                <a:latin typeface="Calibri Light"/>
              </a:rPr>
              <a:t>؟؟؟؟؟؟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Calibri"/>
              </a:rPr>
              <a:t>ماذا تعني لك الطفولة المبكرة ؟ </a:t>
            </a:r>
            <a:endParaRPr b="0" lang="en-US" sz="5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3276720" y="3029040"/>
            <a:ext cx="25192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b26b02"/>
                </a:solidFill>
                <a:uFillTx/>
                <a:latin typeface="Calibri Light"/>
                <a:cs typeface="Traditional Arabic"/>
              </a:rPr>
              <a:t>مرحلة الطفولة المبكرة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00000" y="2204640"/>
            <a:ext cx="73440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88200" indent="-882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يطلق بعضهم اسم مرحلة الطفولة المبكرة على مرحلة ما قبل المدرسة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8200" indent="-882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وتعد مرحلة الطفولة المبكرة مرحلة مهمة في حياة الطفل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8200" indent="-882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  <a:cs typeface="Traditional Arabic"/>
              </a:rPr>
              <a:t>تعد هذه الفترة فترة نمو في جميع جوانب النمو، وتشهد هذه المرحلة مجموعة من التغيرات التي تطرأ على الطفل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8200" indent="-8820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alibri"/>
                <a:ea typeface="Traditional Arabic"/>
              </a:rPr>
              <a:t> وضوح الفوارق في الشخصية حتى تصبح واضحة المعالم في نهاية المرحلة·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5"/>
          <a:stretch/>
        </p:blipFill>
        <p:spPr>
          <a:xfrm>
            <a:off x="539640" y="112680"/>
            <a:ext cx="140040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عنصر نائب للمحتوى 4" descr=""/>
          <p:cNvPicPr/>
          <p:nvPr/>
        </p:nvPicPr>
        <p:blipFill>
          <a:blip r:embed="rId1"/>
          <a:stretch/>
        </p:blipFill>
        <p:spPr>
          <a:xfrm>
            <a:off x="1109520" y="1914480"/>
            <a:ext cx="7027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 Light"/>
              </a:rPr>
              <a:t>الخصائص التي تحكم نمو الطفل :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563640" y="2205000"/>
            <a:ext cx="45133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</a:rPr>
              <a:t>* النمو عملية متصل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</a:rPr>
              <a:t>* النمو يختلف في معدلاته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</a:rPr>
              <a:t>*النمو عملية مترابطة شاملة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</a:rPr>
              <a:t>*يتأثر بالبيئة والوراثة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7" name="Picture 1" descr=""/>
          <p:cNvPicPr/>
          <p:nvPr/>
        </p:nvPicPr>
        <p:blipFill>
          <a:blip r:embed="rId1"/>
          <a:stretch/>
        </p:blipFill>
        <p:spPr>
          <a:xfrm>
            <a:off x="822240" y="2492280"/>
            <a:ext cx="29415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عنصر نائب للمحتوى 3" descr=""/>
          <p:cNvPicPr/>
          <p:nvPr/>
        </p:nvPicPr>
        <p:blipFill>
          <a:blip r:embed="rId1"/>
          <a:stretch/>
        </p:blipFill>
        <p:spPr>
          <a:xfrm>
            <a:off x="0" y="1627200"/>
            <a:ext cx="7010280" cy="365760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1" descr=""/>
          <p:cNvPicPr/>
          <p:nvPr/>
        </p:nvPicPr>
        <p:blipFill>
          <a:blip r:embed="rId2"/>
          <a:stretch/>
        </p:blipFill>
        <p:spPr>
          <a:xfrm>
            <a:off x="1908000" y="401760"/>
            <a:ext cx="55231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404040"/>
                </a:solidFill>
                <a:latin typeface="Calibri Light"/>
              </a:rPr>
              <a:t>مشهد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https://www.youtube.com/watch?v=W0697717ZdU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00672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ولاً: النمو الجسمي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7e5"/>
                </a:solidFill>
                <a:latin typeface="Calibri"/>
              </a:rPr>
              <a:t>اكتمال عدد الأسنان اللبنية، ثم تساقطها وبداية ظهور الأسنان الدائمة في نهاية المرحلة. 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7e5"/>
                </a:solidFill>
                <a:latin typeface="Calibri"/>
              </a:rPr>
              <a:t>ينمو الرأس بطيئاً ويصل في نهاية المرحلة إلى قريب من حجم رأس الراشد.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67e5"/>
                </a:solidFill>
                <a:latin typeface="Calibri"/>
              </a:rPr>
              <a:t> يتأثر النمو بإمكانيات النمو لدى الطفل وفي نهاية السنة الثالثة يكون طول الطفل تقريباً </a:t>
            </a:r>
            <a:r>
              <a:rPr b="0" lang="ar-SA" sz="3000" spc="-1" strike="noStrike">
                <a:solidFill>
                  <a:srgbClr val="0067e5"/>
                </a:solidFill>
                <a:latin typeface="Calibri"/>
              </a:rPr>
              <a:t>90</a:t>
            </a:r>
            <a:r>
              <a:rPr b="0" lang="ar-SA" sz="3000" spc="-1" strike="noStrike">
                <a:solidFill>
                  <a:srgbClr val="0067e5"/>
                </a:solidFill>
                <a:latin typeface="Calibri"/>
              </a:rPr>
              <a:t> سم ويلاحظ أن الوزن يبرزه نمو الجذع واستطالة العظام خاصة الأطراف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r" rtl="1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0" t="7323" r="2425" b="2152"/>
          <a:stretch/>
        </p:blipFill>
        <p:spPr>
          <a:xfrm>
            <a:off x="971640" y="392040"/>
            <a:ext cx="383688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6:16:14Z</dcterms:created>
  <dc:creator>USER</dc:creator>
  <dc:description/>
  <dc:language>en-US</dc:language>
  <cp:lastModifiedBy>Lena Alkhuraiji</cp:lastModifiedBy>
  <cp:lastPrinted>2016-10-03T19:56:53Z</cp:lastPrinted>
  <dcterms:modified xsi:type="dcterms:W3CDTF">2016-10-03T21:10:17Z</dcterms:modified>
  <cp:revision>146</cp:revision>
  <dc:subject/>
  <dc:title>عرض تقديمي في PowerPoint</dc:title>
</cp:coreProperties>
</file>