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F68-AABE-4517-A1FB-89025816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5D8-83F6-4A19-BB14-27BDD530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9FC-6E04-49BB-A305-39FF99C4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B5B-E0FE-418C-88E6-60456391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8C1B-E867-4349-B40F-312C5B3F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C8C7-E18D-4997-93DA-02D95E85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1593-6171-45F1-A6F9-18FCDC91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EF22-40A6-4998-AB84-48A27DE4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D1F6-9326-48B8-B56D-4B7C1492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1117-40F7-4968-AF23-2A875269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77E8-4939-4F8C-A8E6-A1125029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DA1-D633-44CE-B207-38D7F8A9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5EA5-2734-421D-B855-1D3C9DEE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8A62-7986-4551-859C-BACA0019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CB80-6E7E-4E55-AA29-99B5A945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AB2F-17C8-4849-BC12-FC92F36E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0B91-595A-4072-A04E-BC65C0D7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97FDF-8BFF-41F3-803B-5B2ED303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8AB1D-DD4D-4624-AC6F-C826675C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273C2-9377-46F3-A8B4-E0EFFBD5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18176-E568-47FE-8B09-2AFE7B1F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0D49B-8673-41CB-8F91-1082A30B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622-E14D-49E3-834C-2CE53517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FBAFA-165C-4301-B4EF-2743D2EF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8517D-F0FF-4867-BFED-A8141FD1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CAAAA-69F5-4383-AE18-DCB44012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B0684-5434-4226-990B-181B64AB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9B5EA-F7D3-42F8-85C4-CE4591ED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4128A-22C4-4256-91B8-178D8409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2D551-E409-4821-9DB0-09DA8CF9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8455-DA30-40ED-A2D1-54C41F7B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2B7D1-8704-45D2-BFC8-242DA797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2CC72-2CF2-489B-9DCC-34FA0B29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A26-9351-4C77-B524-1E415545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50F47-602F-4AA1-9E21-73D7CCCF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40E3-57D8-424C-A318-FBE529D6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81626-5D83-45C0-941A-58BFE906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941A9-5C3B-4A92-98D2-6CB6073E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0D7FD-70D1-471E-A4BE-8C78CAD3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8D95-05CA-4F31-9FAF-1E098DB0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3CBFF-FD07-4653-9CC1-311511CC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E562E-1BFA-498D-80EE-A06467FA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47004-A757-4E2C-98D3-B1EF83E6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1B27C-09F3-4FF8-B9F6-D95E59B3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7CE-760A-46B8-B966-75F40820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E9424-0516-44D4-9C48-B2DAF9AE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3DA79-CF38-44BB-AE59-0CDD8ADF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76D7D-8984-46EA-AC5A-FA8CC8EE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1CA8B-7166-41A2-969E-795AEA09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5565E-6388-422C-8A5D-54B3F60B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17C75-209D-452F-8012-341E0D81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1005-15A6-43CA-BB82-A32B46ED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E886E-006E-46BB-91D3-5F6C2F34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0A1A2-A4CF-4D33-844C-A58C2A1F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775BF-DDF5-4325-AC01-CF173BB4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AE1-FD40-4B13-9069-23680F06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8DB3D-607E-412D-9354-2E480D96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D8437-4D7B-4299-A04C-1D52C0C5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A6AC8-4CD3-4F88-B8C6-68CA9C01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1E490-23FF-4342-A369-6B5D07B9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62DC8-5678-4437-96AE-F40A08D5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194B-3EA2-405B-AE80-701A49B8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37C4F-9D9E-4D63-8F78-654A2611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1EBE1-D12D-4422-BCF9-49D69782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BDAD9-65E4-46D2-B440-103A2708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EAC31-8C3F-4841-A54E-CC3426E8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108-0EF6-45E0-AAC1-37729969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216CB-4EBA-456A-988E-21443CB8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ADAF1-5D7E-41AA-80F4-5D1B1F32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7903B-8963-4A6F-994B-6DEDAFD7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B7BB5-E86D-42C9-989C-F538F46A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A7C6A-BD56-4352-9BA8-DE20EE5E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1D3B-2E00-43CC-A05D-442057D2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B018A-5C85-40B2-83EE-D7381F0F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14602-432D-418F-8ACE-528F86F1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6A9EA-FCF3-4E00-820F-C41CDB89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FD770-CBD0-4BB5-8696-41DF2566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024-18B8-4E5F-B0CC-C989C5E2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56EFB-4AAF-4133-97A6-46D73E85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24731-C1F3-4A54-BE1D-5719F877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7EADD-DD52-4B50-B750-9743BDFA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7DF03-82F7-4AEF-92C0-AC959DB6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18CB2-F1AE-461C-9920-268AA687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A3AD8-973C-48C9-ACA0-A1ECE085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C47C7-3760-4A0D-B427-7CFC99F2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6E918-294B-4E9D-A64C-90C9626B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81E22-3CD0-47CF-BB68-362F1171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61C04-D44A-4CBB-A0A2-18C3139A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175-9D0D-44D5-92F6-8644A029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76B8B-9413-460E-8FC0-BAC1D246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8A2D1-B578-46D2-BFC4-36E4F5F5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D781D-809E-4F6D-BD55-E4DDAA1F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25131-082A-4D44-A907-4C8D80E6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60C7B-AC2A-488C-B897-FA66A8A1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FA267-28A0-41FB-BA55-37690958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09113-9536-4383-AC89-20165B28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2DA9-F57A-4E7A-9430-DC3745B976A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FAB7-32B0-4448-9F63-EC8E56D2995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34BA-E0F6-452E-B3AF-B8B3C131C094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F413-DEE7-48CE-A0B9-4A6F4B31A5CB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0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0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0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0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1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1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2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9F41-50F2-415F-81DE-712208BE5FE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0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7F1F-1A1B-4EE5-83CE-DB47089DC2E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E06C-D4F9-4EF9-87A6-9B998B8D24EA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2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2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2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3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3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3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E80B-ABAA-4B1A-B93D-EDA8222AF691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395280" y="404640"/>
            <a:ext cx="6840720" cy="5832720"/>
          </a:xfrm>
          <a:prstGeom prst="rect">
            <a:avLst/>
          </a:prstGeom>
          <a:solidFill>
            <a:srgbClr val="f7d47d"/>
          </a:solidFill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Arial"/>
                <a:cs typeface="Arial"/>
              </a:rPr>
              <a:t>الكتـــابة العـــلمية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ar-SA" sz="4000" spc="-1" strike="noStrike">
                <a:solidFill>
                  <a:srgbClr val="0000cc"/>
                </a:solidFill>
                <a:latin typeface="Arial"/>
                <a:ea typeface="Arial"/>
              </a:rPr>
              <a:t>- الورقة البحثي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  <a:ea typeface="Arial"/>
              </a:rPr>
              <a:t>: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Writing in Sci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Research Pap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  <a:cs typeface="Arial"/>
              </a:rPr>
              <a:t>أ. د. أحمد بن سعد الحازمي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Prof. Ahmad S. Al-Hazm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ff"/>
                </a:solidFill>
                <a:latin typeface="Arial"/>
                <a:cs typeface="Arial"/>
              </a:rPr>
              <a:t>قسم وقاية النبات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- </a:t>
            </a:r>
            <a:r>
              <a:rPr b="1" i="1" lang="ar-SA" sz="2000" spc="-1" strike="noStrike">
                <a:solidFill>
                  <a:srgbClr val="0000ff"/>
                </a:solidFill>
                <a:latin typeface="Arial"/>
                <a:ea typeface="Arial"/>
              </a:rPr>
              <a:t> كلية علوم الأغذية والزراعة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ar-SA" sz="2000" spc="-1" strike="noStrike">
                <a:solidFill>
                  <a:srgbClr val="0000ff"/>
                </a:solidFill>
                <a:latin typeface="Arial"/>
                <a:ea typeface="Arial"/>
              </a:rPr>
              <a:t> -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ff"/>
                </a:solidFill>
                <a:latin typeface="Arial"/>
                <a:cs typeface="Arial"/>
              </a:rPr>
              <a:t>جامعة الملك ســــعود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395280" y="549360"/>
            <a:ext cx="8424720" cy="5400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رابعاً</a:t>
            </a:r>
            <a:r>
              <a:rPr b="1" lang="ar-SA" sz="3600" spc="-1" strike="noStrike">
                <a:solidFill>
                  <a:srgbClr val="0000cc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       أ- كتابة العنوان ”العملي“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Practical Title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وهذا يساعد في تحديد مجال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) الورقة البحث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في هذه المرحلة يمكن أن يكون العنوان بالتفصيل الذي تريده. لأنه سوف يحور لاحقا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ب- اختيار العناوين الرئيسة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ain Titles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اختيارها يساعد في الخطوة اللاحقة (الخطوط العريضة للموضوعات الرئيسة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عادة تكون العناوين الرئيسة في مجالات علوم الأحياء: المقدمة، مواد وطرق البحث، النتائج، المناقشة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RAD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). أحياناً تضاف استنتاجات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تُتبع دائماً التعليمات والإرشادات الخاصة بالمجل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394920" y="549000"/>
            <a:ext cx="8209080" cy="5616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خامساً</a:t>
            </a:r>
            <a:r>
              <a:rPr b="1" lang="ar-SA" sz="3600" spc="-1" strike="noStrike">
                <a:solidFill>
                  <a:srgbClr val="0000cc"/>
                </a:solidFill>
                <a:latin typeface="Verdana"/>
              </a:rPr>
              <a:t>: 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 كتابة ”المسودة الأولى“ للورقة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First Draf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عادة تتبع الخطوات التالية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الأقسام الثلاثة الأولى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أ- المقدمة*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ب- مواد وطرق البحث *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جـ- النتائج *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             (إبدأ بكتابة القسم الأسهل منها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تقديم عرض أولي أو محاضرة (مؤتمر، ندوة، سمينار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قسم المناقشة *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راجعة العنوان ”العملي“ واختيار عنوان مناسب في هذه المرحل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الملخص والكلمات المفتاحية*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 عند الحاجة، كتابة فقرة الشكر والتقدير – تأكد من تشكر ؟ وكيف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394920" y="549360"/>
            <a:ext cx="7921800" cy="56880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(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1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) كتابة الأقسام الأولى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أ- المقدمة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Introduction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الهدف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هو استقطاب انتباه القارئ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- تعالج  عنصرين مهمين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أ- تقرير المشكلة وطبيعتها وأهميته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ب- ”استعراض“ مرجعي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نقدي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للأعمال السابقة و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باختصار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-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الأسلوب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: الوضوح و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الترابط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مع عنصري التشويق والبساطة لتقديم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أ- ماهي المشكلة، وطبيعتها، وحجمها، وأهميته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ب- الجديد عنها، والمطلوب معرفت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جـ- لماذا تم اختيار هذا الموضو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د-  أهداف (هدف) هذه الدراسة [في فقرة أخيرة]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94920" y="404280"/>
            <a:ext cx="8280360" cy="5688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ب- مواد وطرق البحث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aterials &amp; Methods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تُعد من أهم أقسام الورقة البحثية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عامل مهم في قبول أو رفض الورقة (تذكر أن المحكم سيقرأ هذا القسم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بتمعن وتركيز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أهم العناصر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: الدقة، الموضوعية، التسلسل المنطقي، ومعلومات كاف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يجب أن تجيب على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: ما هي المواد المستخدمة ؟ ومصادرها ؟ وكيف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ستخدمت، مع وصف لتصميم التجربة (وللحقل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إذا الطريقة (الطرق) معروفة ومنشورة، يكتفى بإعطاء المرجع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(المراجع)، وفي حالة تحويرها تعطى التحويرات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تعطى كلاً من: الأسماء العلمية، المركبات الكيماوية (لا تذكر الأسماء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تجارية)، طريقة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(طرق) التحليل الإحصائ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يمكن أن تتكون من عناوين فرعية (على أن يتبع ذلك في قسم النتائج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عادة يكون  التسلسل: تصميم التجربة، المواد المستخدمة، طريقة (طرق)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بحث، طرق أخذ المعلومات، طريقة (طرق) التحليل الإحصائ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394920" y="404280"/>
            <a:ext cx="7921800" cy="568836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جـ- النتــائج 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Results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تميز هذا القسم بأنه: القسم الرئيس، وألأهم،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ولكنه غالباً الأقصر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- أهم عناصره: الوضوح، البساطة، التسلسل، القدرة على اختيار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وعرض المعلومات الممثلة للنتائج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- الاختيار بين الجداول والأشكال، والتصميم المناسب لها (؟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ar-SA" sz="3600" spc="-1" strike="noStrike">
                <a:solidFill>
                  <a:srgbClr val="a50021"/>
                </a:solidFill>
                <a:latin typeface="Verdana"/>
              </a:rPr>
              <a:t>أ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Verdana"/>
              </a:rPr>
              <a:t>خطاء يجب تجنبها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تكرار كتابة المعلومات الواضحة للقارئ من الجداول والأشكال في المتن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عرض جميع أو معظم معلومات الجداول والأشكال في المتن (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عدم القدرة على التمييز والاختيار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إغفال النتائج التي تتعارض مع نظرية البحث (غير أخلاقي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تكرار معلومات الجداول في الأشكال أو العك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عدم الوضوح في استخدام الضمائر وأسماء الإشار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416720" cy="374508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(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2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) تقديم عرض أولي أو محاضرة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Priliminary Presentation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فضل ذلك قبل كتابة قسم المناقش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- الغرض هو الاستفادة من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انتقادات والاقتراحات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ستكمال النواق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علومات أخرى، مفيدة وحديث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394920" y="404280"/>
            <a:ext cx="7921800" cy="5688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(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3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) المناقشة  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Discussion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ar-S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القسم ا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Verdana"/>
              </a:rPr>
              <a:t>لأصعب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كتابة، والعامل الأهم في قبول البحث أو رفضه 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الهدف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إبراز العلاقات بين الحقائق التي تم التوصل إليها، وإلقاء الضوء على النقاط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الرئيسة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أهم عناصره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القوة، الترابط (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theme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)، الوضوح، والكفاية مع الاختصار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مكوناته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إبراز ومناقشة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الأسس، والعلاقات، والمبادئ العامة التي ظهرت في قسم النتائج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الاستثناءات، أو عدم وجود ارتباطات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rrelations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توافق (أو تعارض) نتائجك وتفسيراتك مع ما هو منشور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أهمية النتائج، وما هو الجديد فيها (بدون تطرف أو تحزب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المضامين النظرية والتطبيقات العملية للنتائج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الاستنتاجات بكل وضوح، والبرهان على كل استنتاج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يفضل (بل يجب أحياناً) أن ينتهي هذا القسم بملخص قصير (أو خاتمة) يتناول أهمية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وفائدة هذا البحث، واقتراح الدراسات المستقبلية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09080" cy="5040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cc3300"/>
                </a:solidFill>
                <a:uFillTx/>
                <a:latin typeface="Verdana"/>
              </a:rPr>
              <a:t>أخطاء يجب تجنبها في المناقشة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إعادة كتابة ”قسم“ النتائج في المناقشة [إجترار]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الإطناب، ومحاولة الإشارة والرجوع إلى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Verdana"/>
              </a:rPr>
              <a:t>جميع التفاصيل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عدم التمييز بين الحقائق والتوقعات (استعمل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ow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، و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مثلاً). وعدم التمييز بين النتائج والاستنتاجات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(استعمل فعل ماضي، فعل حاضر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عدم البساطة، والاختفاء وراء الجمل الأدبية والعبارات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الرنان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التقديرات الاستقرائية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rapolate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) غير المنطقي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50920" y="476280"/>
            <a:ext cx="8424720" cy="59054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(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4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) عنوان الورقة البحثية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Final Title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العنوان العملي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ormative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للكاتب، العنوان النهائي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icative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) للقارئ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أهم صفاته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:  مختصر،  دقيق، ذو دلالة، مع عنـــصر التشـويق (!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يتميز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: أقل ما يمكن من الكلمات لإعطاء وصف كاف لمحتويات الورق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تذكر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: أن الآلاف سيقرؤون العنوان، القليل منهم يقرأ كل الورق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تفضل معظم الدوريات أن يكون بحدود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كلمة. وأحياناً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تطلب المجل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unning title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يجب الاهتمام بمعنى الكلمات وترتيبها وخاصة في اللغة الانجليزية، وأن يحتوي على كلمات مفتاحية (للفهرسة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7921800" cy="43196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cc3300"/>
                </a:solidFill>
                <a:uFillTx/>
                <a:latin typeface="Verdana"/>
              </a:rPr>
              <a:t>أخطاء يجب تجنبها في العنوان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العنوان العام.  (غير دقي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الحشـو الزائد (دراسات على .......)، والإطال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إحتواءه على عنوان فرعي، أو اختصارات، أو مصطلحات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قديمة، أو أسماء تجاري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خلوّه من الإسم العلمي للكائن الحي المدروس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الأخطاء اللغوية: القواعد، وترتيب الكلمات بالانجليزي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692360" y="1916280"/>
            <a:ext cx="4464000" cy="20174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ct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قــــدمة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Introduc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7921800" cy="5616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(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5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) الملخص 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bstract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هو تلخيص دقيق لأهم النتائج والاستنتاجات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أهم عناصره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الإيجاز،  الدقة، الوضوح، الشمولية (كاف وحده بدون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رجوع إلى الأقسام الأخرى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عادة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50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كلمة، وفي جمل قصيرة وبسيطة، فقرة واحدة (؟).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يحتوي على المعلومات والاستنتاجات الرئيسة، متضمناً الكلمات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مفتاحية والأسماء العلمية للأحياء وأسماء المركبات الكيماو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يتناول بإيجاز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الأهداف الرئيسة للدراسة ومجالها، الخطوط العريضة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لطريقة البحث، ملخص للنتائج والاستنتاجات الرئيس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تذكر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أن العنوان والملخص هما المفتاح للورقة البحثية (أكثر الأجزاء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مقروءة في البحث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94920" y="1412640"/>
            <a:ext cx="7921800" cy="38876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cc3300"/>
                </a:solidFill>
                <a:uFillTx/>
                <a:latin typeface="Verdana"/>
              </a:rPr>
              <a:t>أخطاء يجب تجنبها في الملخص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- إضافة أية معلـومات أو اسـتنتاجات غير واردة في الورقة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بحث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ناقشة النتائج، أو ذكر مراج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عدم التسلسل المنطق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حاولة إعطاء معلومات تفصيل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7921800" cy="4464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الكلمات المفتاحية 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Key words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توضع عادة بعد الملخص، وتطلبها معظم المجلات العلم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الهــدف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المساعدة في الفهرسة (نظم استرجاع المعلومات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تختار الكلمات (المصطلحات) الأكثر أهمية وتخصصاً التي تعكس الموضوع الرئيس للورقة، وترتب هجائياً (عاد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لا تكرر الكلمات التي ظهرت في العنوان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424720" cy="5256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(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6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) الشكر والتقدير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cknowledgment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Verdana"/>
              </a:rPr>
              <a:t> 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  (عند الحاجة ؟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فقرة قصيرة، تكتب بعد المناقشة (وقبل قائمة المراجع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المهم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تأكد من تشكر ؟ وكيف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يشمل الشكر والتقدير كل من قام بالأعمال التالية بفعالية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أ- تجميع القراءات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)، أو ساعد في تحليله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ب- الإشراف العام (؟)، أو تسهيلات جوهر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جـ- تمويل البحث، أو تزويد بعض مواد البحث (بذور .........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د-  أبدى انتقادات واقتراحات جوهر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هـ- راجع الورق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632720" cy="34560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سادساً: وضع المسودة الأولى جانباً بعض الوقت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(Sleep on it !!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ar-SA" sz="2400" spc="-1" strike="noStrike">
                <a:solidFill>
                  <a:srgbClr val="0000cc"/>
                </a:solidFill>
                <a:latin typeface="Verdana"/>
              </a:rPr>
              <a:t>الهدف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تحتاج مراجعة المسودة الأولى إلى نظرة جديدة بعد مرور بعض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وقت لاكتشاف الأخطاء وتصحيحه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7921800" cy="56894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سابعاً: المراجع 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References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ختلف استخدام (عرض) المراجع في المتن أو في قائمة المراجع بين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مجلة علمية وأخرى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يجب ذكر المرجع عند الإشارة إلى عمل سابق (في أي قسم من أقسام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ورقة البحثية).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عند استخدام المراجع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جب الاختيار الدقيق للمرجع بحيث يكون ذو علاقة وطيدة جداً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بالموضو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فضل استخدام مقالة نقدية أو اثنتين تغطيان الخلفية العامة للموضو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تأكد من أن معظم المراجع تتكون من أبحاث أصيل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جب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قراءة المرجع واستيعابه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، قبل استخدام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جب الاستخدام الصحيح للمرجع وربط المعلومات مع بعضها بأسلوب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نقد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394920" y="1412640"/>
            <a:ext cx="7921800" cy="38876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cc3300"/>
                </a:solidFill>
                <a:uFillTx/>
                <a:latin typeface="Verdana"/>
              </a:rPr>
              <a:t>أخطاء يجب تجنبها عند استخدام المراجع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ستخدام مراجع ليست لها علاقة بالموضوع، أو بعيدة العلاق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إكثار من استخدام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مراجع للباحث أو الباحثين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(؟!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سرد المراجع بدون ربطها بالموضوع وبأسلوب نقد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إغفال المراجع عند الإشارة إلى نتائج أو استنتاجات سابق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2987280" y="115920"/>
            <a:ext cx="6048360" cy="66261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Comic Sans MS"/>
              </a:rPr>
              <a:t>TAKE-HOME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Comic Sans MS"/>
              </a:rPr>
              <a:t>Introduction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y did you do the work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is its purpos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Comic Sans MS"/>
              </a:rPr>
              <a:t>Materials and Methods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materials did you us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did you use them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Comic Sans MS"/>
              </a:rPr>
              <a:t>Results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did you find or se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Comic Sans MS"/>
              </a:rPr>
              <a:t>Discussion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do your findings mea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Comic Sans MS"/>
              </a:rPr>
              <a:t>In other words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A research paper must answer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y?       What fo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?        Wher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did you fin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does it mea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ctr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403280" y="2060640"/>
          <a:ext cx="6769080" cy="1749240"/>
        </p:xfrm>
        <a:graphic>
          <a:graphicData uri="http://schemas.openxmlformats.org/drawingml/2006/table">
            <a:tbl>
              <a:tblPr/>
              <a:tblGrid>
                <a:gridCol w="6769080"/>
              </a:tblGrid>
              <a:tr h="23936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2f1311"/>
                          </a:solidFill>
                          <a:latin typeface="Tahoma"/>
                          <a:cs typeface="Andalus"/>
                        </a:rPr>
                        <a:t>شــكراً لحسن استماعكم</a:t>
                      </a:r>
                      <a:endParaRPr b="0" lang="en-US" sz="4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2f1311"/>
                          </a:solidFill>
                          <a:latin typeface="Tahoma"/>
                          <a:ea typeface="Andalus"/>
                        </a:rPr>
                        <a:t>Thank Y’all</a:t>
                      </a:r>
                      <a:endParaRPr b="0" lang="en-US" sz="4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"/>
          <p:cNvGraphicFramePr/>
          <p:nvPr/>
        </p:nvGraphicFramePr>
        <p:xfrm>
          <a:off x="179280" y="620640"/>
          <a:ext cx="8785440" cy="502776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1219320"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cc"/>
                          </a:solidFill>
                          <a:latin typeface="Simplified Arabic"/>
                          <a:cs typeface="Simplified Arabic"/>
                        </a:rPr>
                        <a:t>بعض أنواع الكتابة العلمية</a:t>
                      </a:r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Simplified Arabic"/>
                          <a:ea typeface="Simplified Arabic"/>
                        </a:rPr>
                        <a:t>Types of Scientific Writing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7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رسائل جامعية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These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1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أوراق بحثية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Res. paper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8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حلقات نقاش متخصصة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Symposia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2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أوراق نقد مرجعي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Review article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9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ملخصات مطولة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Ext. abstract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3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تأليف كتب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Book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10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إعداد كتب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Books editing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4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ملخصات عامة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Synopsi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11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مراجعة كتب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Book review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5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ملخصات مؤتمرات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Abstract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12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مشاريع أبحاث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Res. proposal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6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ملصقات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Poster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7991280" cy="42480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Verdana"/>
              </a:rPr>
              <a:t>لماذا النشر العلمي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Why we publish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مساهمة في تطوير ونشر المعرفة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سمعة العلمية الشخصية، وسمعة المؤسسة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العلمية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ترقية العلمية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منافسة للحصول على عمل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9640" y="692280"/>
            <a:ext cx="7848720" cy="5400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الخطوات الرئيسة في إعداد الورقة البحثية للنشر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ain Steps or Stag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تقييم العمل البحث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إختيار المجلة، وقراءة الإرشادات الخاصة بالنشر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اتفاق فيما بين الفريق البحثي على أسماء الباحثين وترتيبه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العنوان ”ا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لعملي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“ للورقة، واختيار العناوين الرئيسة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”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الخطوط  العريضة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“ لترتيب الموضوعات الرئيس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إختيار وتصميم الجداول والأشكال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المسودة الأولى للورقة.*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39640" y="692280"/>
            <a:ext cx="7777440" cy="5184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وضع المسودة الأولى جانباً بعض الوقت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قائمة المراجع* (وربما تكرار الخطوة الثامنة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راجعة المسـودة الأولى: المحتوى والترتيب المنطقي (= المسـودة الثانية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راجعة المسـودة الثانية: الأســـلوب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(المســـودة الثالثة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حصول على اقتراحات وانتقادات من الزملاء – المراجعة مرة أخرى.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(المســـودة الرابعة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قراءة الإرشادات الخاصة بالمجلة مرة أخرى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إعادة الطباعة، ومراجعة النسخة النهائ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عملية النشر (التعامل مع هيئة التحرير، ومع الناشر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404280"/>
            <a:ext cx="7777440" cy="597708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أولاً: تقييم العمل البحثي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Evaluation of Work</a:t>
            </a:r>
            <a:r>
              <a:rPr b="1" lang="ar-SA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ar-SA" sz="2400" spc="-1" strike="noStrike">
                <a:solidFill>
                  <a:srgbClr val="cc3300"/>
                </a:solidFill>
                <a:latin typeface="Verdana"/>
              </a:rPr>
              <a:t>يجب الإجـــابة على مجــموعة من الأســئلة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هل كان التصميم مناسباً للإجابة على السؤال محل الدراسة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هل كانت هناك خطة عمل (بروتوكول) مترابطة، وأتبعت كما كان مخططاً لها ؟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هل تغطي الدراسة الانتقادات المتوقعة ؟ أم أن هناك نقصاً في بعض جوانبها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هل طريقة التحليل الإحصائي منطقية ومقبولة علمياً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هل تتعارض الدراسة مع التوجه العام في المجتمع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هل هناك ترتيبات أتبعت لتسجيل كل التفاصيل أثناء إجراء الدراسة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  وبالتالي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هل يستحق هذا العمل النشر أم لا ؟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488000" cy="53276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ثانياً: اختيار المجلة العلمية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Selecting the Journal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ar-SA" sz="2400" spc="-1" strike="noStrike">
                <a:solidFill>
                  <a:srgbClr val="cc3300"/>
                </a:solidFill>
                <a:latin typeface="Verdana"/>
              </a:rPr>
              <a:t>يعتمد ذلك على عدة عوامل منها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نوع الدراسة (نظرية، تطبيقية، محلية .......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نوع القراء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شروط الخاصة بالمجل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سمعة المجلة عالميا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لــغ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فهرسة أم ل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طول المقال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539640" y="404640"/>
            <a:ext cx="7777440" cy="5832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ثالثاً: الاتفاق على أسماء الباحثين وترتيبهم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uthor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ar-SA" sz="2400" spc="-1" strike="noStrike">
                <a:solidFill>
                  <a:srgbClr val="0000cc"/>
                </a:solidFill>
                <a:latin typeface="Verdana"/>
              </a:rPr>
              <a:t>يجب أن يكون الجميع قد شارك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وبفعـالية</a:t>
            </a:r>
            <a:r>
              <a:rPr b="1" lang="ar-SA" sz="2400" spc="-1" strike="noStrike">
                <a:solidFill>
                  <a:srgbClr val="0000cc"/>
                </a:solidFill>
                <a:latin typeface="Verdana"/>
              </a:rPr>
              <a:t> في كل من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فكرة البحث وتصميم الدراسة.   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تحليل النتائج وتفسيره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المسودة الأولى وتنقيحها لاحقاً، وإضافة أفكار مهمة له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موافقة على النسخة النهائ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أما الترتيب</a:t>
            </a:r>
            <a:r>
              <a:rPr b="1" lang="ar-SA" sz="2400" spc="-1" strike="noStrike">
                <a:solidFill>
                  <a:srgbClr val="0000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فيتم حسب حجم ونسبة المشاركة وأهميتها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أما من شارك في</a:t>
            </a:r>
            <a:r>
              <a:rPr b="1" lang="ar-SA" sz="2400" spc="-1" strike="noStrike">
                <a:solidFill>
                  <a:srgbClr val="0000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(تجميع القراءات .... الإشراف العام ..... تمويل البحث ...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فيكتب له شكر وتقدير في الجزء المخصص لذلك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8:45:39Z</dcterms:created>
  <dc:creator>aaa</dc:creator>
  <dc:description/>
  <dc:language>en-US</dc:language>
  <cp:lastModifiedBy>ALI ALDERFASI</cp:lastModifiedBy>
  <dcterms:modified xsi:type="dcterms:W3CDTF">2015-12-17T09:21:12Z</dcterms:modified>
  <cp:revision>117</cp:revision>
  <dc:subject/>
  <dc:title>Slide 1</dc:title>
</cp:coreProperties>
</file>