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18B7-8AEB-436B-A0B2-FABCA97A3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14FA-53B1-4194-BB83-723A9E18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8914-FCDE-43A2-820A-D423991BA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D809-62D9-407E-B5C5-B4AC8BC76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72AA-05E6-46E6-8662-114A05EB9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9659E-A423-4989-9A78-0796C9B2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303A1-1466-4E58-9D88-91B7DA6B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C558-EC83-4D43-A2C2-EDE63E88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7B23-B1E5-4193-BE8A-E24D12FE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0E20-42FE-4DD8-9B18-0E92CAB7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33D0-48B9-477A-92DD-B289EE72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2ECB-200D-467C-A7D7-D3C458B2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6197-8EE2-4625-8320-EB0A0A2C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F844A-D7D7-4D4D-9C9F-F340965E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A49B-86E2-41ED-BFCC-C4693C5D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DBA4F-47D0-4187-A191-EBBEDAC4F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E2A0-7744-45F4-BBC3-263A0C4B2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D9977A-9C2B-4C5C-BD31-C0E6D5C03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55396C-53EC-4EA3-9A92-28CA369F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A908FA-EB02-41D0-983C-3B959626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0D0D37-1ABA-4603-8093-03D92CD3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FAC4F2-FB08-49AB-9143-6FF1B34D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C62D-49CA-4993-9B48-E24E96A7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4EC79B-87C7-468A-B690-7F25FAF9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7BA843-6877-419C-A3F5-9148D7A0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772483-6776-4E37-A62B-3EBDE454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2EB89C-F2C9-45E3-93AD-2FDCB461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DA7E87-7EFF-44B6-8595-2FCF5436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1F35C5-4C6F-4059-9123-8783583C3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D4B62F-CC88-4209-A8C2-C0A38451B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188B7-8765-45FC-88CE-A79E54031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49D21-829E-4B7B-A3D8-7C11340A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89AF6-040A-4A38-8F94-4DEF9983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1358-BF22-4142-9508-1A9C4F4F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5FD68-36BB-4D79-852B-FEDEE470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AF516-37C0-4E97-AFF3-F688C528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4DCF3-6498-4947-9221-4A010A02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86168-5D54-4FA0-B227-77B1A6B0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FAB57-C421-49D6-9319-5E44BD88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6692A-284E-4966-8E9A-3218DA75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64232-46D8-46E6-8C47-35D64023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68AAB-33C1-44D8-935C-7FDC192E9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2AFD5-8406-4880-B7D5-CA557EE6B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FEB65-E332-41AF-92D7-AF6B9347A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EAD5-F55C-4602-8867-1952B5C8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7113C-9A87-492C-BB0D-B7FF1F06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3CA2A-C69A-48C7-82FA-30C0C6EC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2062E-CFE0-456B-85BE-0934D787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36C43-6336-4B60-8D0F-AF04D98C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4E7CB-EC37-4E88-8FBA-92DE553C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AA692-13BC-4071-A585-E21B88EF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2C019-A350-444F-93C6-E32E4C21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CEBB5-874A-4A17-B2ED-64794332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B729A-0F64-4CED-AF43-EEA680C4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17C42-6063-4BBF-8F93-4998E8305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634B-02E9-48C8-902D-E128AE16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C47C5-1E9A-479E-BAE1-B35F5181D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BE0DD-9E41-4038-B0ED-30F200088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9F9E7-5DE5-4821-A241-2AF4FF85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319B4-5FE4-4694-8FB4-A3E3CFFC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93CE6-944A-4913-9BC6-60B63FE6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B1B10-6C04-4C1C-BF38-5547A6CE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AA44C-AEFA-4A62-A0CE-40085248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983F3-CFE8-47D4-BB2B-4CBA4129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25B46-00D1-4A6D-A4AC-92287455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33CA5-3DDD-422B-8A31-322341ED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2101-8FD9-4372-A95A-9F58D802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64CCD-A27E-4681-B1BE-3F903391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98DCD-529A-4966-B24D-B94E249BC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9FFA5-FDB3-4364-B74B-9CB4CFF64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B9252-EBC3-466D-967C-D89A59757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E49B4-3FC4-4E32-8518-AB9E73F5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E981A-EF71-4284-99EC-2A14B58C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9A7A5-1998-42B4-AE9F-FD6FCDC9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BA152-0B47-454E-B759-2BBDD6E8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68766-17C1-4500-A6C7-6FED3D7C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C13B7-40CA-40CE-B19B-59EF8D8B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4448-A30D-4C06-AE68-7DF93993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0E906-BFC2-45C3-AF2F-6EFC4407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5433C-F288-4298-B931-09DCC8BD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842A6-05E6-4A39-A4E7-4E579153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4137E-B51F-40EF-9540-CDDA1DBE7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712FA-EF13-457F-BF0F-A8033683C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86119-4D9E-4CB3-8145-850AD5D61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35662-60AB-4E03-9737-D8BB35A7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76E9C-97F4-4511-BB63-022CA688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50C60-A9D3-4A72-BFBB-36C73ACF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2AF3E-089D-4C67-B827-9B7B1092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C4C1-70B0-4D63-BA52-44ED82F1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0854B-8C92-4194-916D-8B372A9F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5C919-A65F-4AC7-8613-A6D9A7F7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42889-A8E3-447F-8A69-05E4D74A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38DEF-2DD3-4927-9351-36042F1A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0D3EF-74A7-4C34-972F-304DB71C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2060D-2B9A-4970-A604-0C5809470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7552B-A511-4F24-859E-202921E3B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8337-9E3C-44BD-BCBC-B46412250F32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97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0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1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2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4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5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6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7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8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0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1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03F8-77D8-4D4A-9661-8BEDA2447B43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5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6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6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6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6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6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6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6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6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6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6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4D02-18F8-49F0-953A-C83D6670C2EE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ACF1-0540-4E86-8E48-7EA0097C5984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22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2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3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3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3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4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4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4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4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4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4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4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5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5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5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5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5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5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5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5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6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6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6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6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6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04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5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6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307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08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09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10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11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13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19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0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1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2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3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4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5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6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27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28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9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0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1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2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3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4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5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6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7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8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9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0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1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2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3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4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5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6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47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8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9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0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1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2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3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4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5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6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7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887F-ED82-451B-92C6-925F50723BF4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00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1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2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3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4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5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6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7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8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9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0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1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2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3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4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B1BD-B183-463A-90AF-29B99B32921B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57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8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9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0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1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2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3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4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5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6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7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8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9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0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1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2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3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4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5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6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7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8DBB-33D6-416B-8196-B6F846E3736E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52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21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2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3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2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2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2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2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2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2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grpSp>
        <p:nvGrpSpPr>
          <p:cNvPr id="530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31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2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3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34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35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36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37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38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39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540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1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0689-8C2D-4C3B-A22B-A1F56355EB7E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b8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395280" y="404640"/>
            <a:ext cx="6840720" cy="5832720"/>
          </a:xfrm>
          <a:prstGeom prst="rect">
            <a:avLst/>
          </a:prstGeom>
          <a:solidFill>
            <a:srgbClr val="f7d47d"/>
          </a:solidFill>
          <a:ln w="76320">
            <a:solidFill>
              <a:srgbClr val="cc3300"/>
            </a:solidFill>
            <a:miter/>
          </a:ln>
        </p:spPr>
        <p:txBody>
          <a:bodyPr anchor="t">
            <a:noAutofit/>
          </a:bodyPr>
          <a:p>
            <a:pPr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cc"/>
                </a:solidFill>
                <a:latin typeface="Arial"/>
                <a:cs typeface="Arial"/>
              </a:rPr>
              <a:t>الكتـــابة العـــلمية: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lvl="2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cc"/>
                </a:solidFill>
                <a:latin typeface="Arial"/>
                <a:ea typeface="Arial"/>
              </a:rPr>
              <a:t>1</a:t>
            </a:r>
            <a:r>
              <a:rPr b="1" lang="ar-SA" sz="4000" spc="-1" strike="noStrike">
                <a:solidFill>
                  <a:srgbClr val="0000cc"/>
                </a:solidFill>
                <a:latin typeface="Arial"/>
                <a:ea typeface="Arial"/>
              </a:rPr>
              <a:t>- الورقة البحثية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lvl="2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2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Arial"/>
                <a:ea typeface="Arial"/>
              </a:rPr>
              <a:t>: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Arial"/>
              </a:rPr>
              <a:t>Writing in Scienc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Arial"/>
              </a:rPr>
              <a:t>1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Arial"/>
              </a:rPr>
              <a:t>-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Arial"/>
              </a:rPr>
              <a:t>Research Pape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lvl="2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Arial"/>
                <a:cs typeface="Arial"/>
              </a:rPr>
              <a:t>أ. د. أحمد بن سعد الحازمي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Prof. Ahmad S. Al-Hazmi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>
                <a:solidFill>
                  <a:srgbClr val="0000ff"/>
                </a:solidFill>
                <a:latin typeface="Arial"/>
                <a:cs typeface="Arial"/>
              </a:rPr>
              <a:t>قسم وقاية النبات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- </a:t>
            </a:r>
            <a:r>
              <a:rPr b="1" i="1" lang="ar-SA" sz="2000" spc="-1" strike="noStrike">
                <a:solidFill>
                  <a:srgbClr val="0000ff"/>
                </a:solidFill>
                <a:latin typeface="Arial"/>
                <a:ea typeface="Arial"/>
              </a:rPr>
              <a:t> كلية علوم الأغذية والزراعة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i="1" lang="ar-SA" sz="2000" spc="-1" strike="noStrike">
                <a:solidFill>
                  <a:srgbClr val="0000ff"/>
                </a:solidFill>
                <a:latin typeface="Arial"/>
                <a:ea typeface="Arial"/>
              </a:rPr>
              <a:t> -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>
                <a:solidFill>
                  <a:srgbClr val="0000ff"/>
                </a:solidFill>
                <a:latin typeface="Arial"/>
                <a:cs typeface="Arial"/>
              </a:rPr>
              <a:t>جامعة الملك ســــعود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algn="ct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395280" y="549360"/>
            <a:ext cx="8424720" cy="540072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txBody>
          <a:bodyPr anchor="t">
            <a:noAutofit/>
          </a:bodyPr>
          <a:p>
            <a:pPr algn="r" rtl="1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رابعاً</a:t>
            </a:r>
            <a:r>
              <a:rPr b="1" lang="ar-SA" sz="3600" spc="-1" strike="noStrike">
                <a:solidFill>
                  <a:srgbClr val="0000cc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       أ- كتابة العنوان ”العملي“  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Practical Title</a:t>
            </a: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- وهذا يساعد في تحديد مجال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e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) الورقة البحثية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- في هذه المرحلة يمكن أن يكون العنوان بالتفصيل الذي تريده. لأنه سوف يحور لاحقاً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ب- اختيار العناوين الرئيسة  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Main Titles</a:t>
            </a: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- اختيارها يساعد في الخطوة اللاحقة (الخطوط العريضة للموضوعات الرئيسة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- عادة تكون العناوين الرئيسة في مجالات علوم الأحياء: المقدمة، مواد وطرق البحث، النتائج، المناقشة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RAD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). أحياناً تضاف استنتاجات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- تُتبع دائماً التعليمات والإرشادات الخاصة بالمجلة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394920" y="549000"/>
            <a:ext cx="8209080" cy="561636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txBody>
          <a:bodyPr anchor="t">
            <a:noAutofit/>
          </a:bodyPr>
          <a:p>
            <a:pPr algn="r" rtl="1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خامساً</a:t>
            </a:r>
            <a:r>
              <a:rPr b="1" lang="ar-SA" sz="3600" spc="-1" strike="noStrike">
                <a:solidFill>
                  <a:srgbClr val="0000cc"/>
                </a:solidFill>
                <a:latin typeface="Verdana"/>
              </a:rPr>
              <a:t>: </a:t>
            </a: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 كتابة ”المسودة الأولى“ للورقة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First Draf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عادة تتبع الخطوات التالية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كتابة الأقسام الثلاثة الأولى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        أ- المقدمة*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        ب- مواد وطرق البحث *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        جـ- النتائج *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                     (إبدأ بكتابة القسم الأسهل منها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تقديم عرض أولي أو محاضرة (مؤتمر، ندوة، سمينار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كتابة قسم المناقشة *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مراجعة العنوان ”العملي“ واختيار عنوان مناسب في هذه المرحلة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كتابة الملخص والكلمات المفتاحية*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 عند الحاجة، كتابة فقرة الشكر والتقدير – تأكد من تشكر ؟ وكيف ؟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394920" y="549360"/>
            <a:ext cx="7921800" cy="568800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txBody>
          <a:bodyPr anchor="t">
            <a:noAutofit/>
          </a:bodyPr>
          <a:p>
            <a:pPr algn="r" rtl="1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(</a:t>
            </a: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1</a:t>
            </a: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) كتابة الأقسام الأولى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Verdana"/>
              </a:rPr>
              <a:t>     </a:t>
            </a: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أ- المقدمة   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Introduction</a:t>
            </a: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الهدف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هو استقطاب انتباه القارئ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 - تعالج  عنصرين مهمين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        أ- تقرير المشكلة وطبيعتها وأهميتها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        ب- ”استعراض“ مرجعي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Verdana"/>
              </a:rPr>
              <a:t>نقدي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للأعمال السابقة و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Verdana"/>
              </a:rPr>
              <a:t>باختصار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- 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الأسلوب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: الوضوح و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Verdana"/>
              </a:rPr>
              <a:t>الترابط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مع عنصري التشويق والبساطة لتقديم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      أ- ماهي المشكلة، وطبيعتها، وحجمها، وأهميتها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      ب- الجديد عنها، والمطلوب معرفته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      جـ- لماذا تم اختيار هذا الموضوع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       د-  أهداف (هدف) هذه الدراسة [في فقرة أخيرة]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394920" y="404280"/>
            <a:ext cx="8280360" cy="568836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txBody>
          <a:bodyPr anchor="t">
            <a:noAutofit/>
          </a:bodyPr>
          <a:p>
            <a:pPr algn="r" rtl="1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Verdana"/>
              </a:rPr>
              <a:t>     </a:t>
            </a: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ب- مواد وطرق البحث  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Materials &amp; Methods</a:t>
            </a: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تُعد من أهم أقسام الورقة البحثية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- عامل مهم في قبول أو رفض الورقة (تذكر أن المحكم سيقرأ هذا القسم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بتمعن وتركيز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- 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أهم العناصر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: الدقة، الموضوعية، التسلسل المنطقي، ومعلومات كافية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- 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يجب أن تجيب على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: ما هي المواد المستخدمة ؟ ومصادرها ؟ وكيف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استخدمت، مع وصف لتصميم التجربة (وللحقل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- إذا الطريقة (الطرق) معروفة ومنشورة، يكتفى بإعطاء المرجع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(المراجع)، وفي حالة تحويرها تعطى التحويرات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- تعطى كلاً من: الأسماء العلمية، المركبات الكيماوية (لا تذكر الأسماء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التجارية)، طريقة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(طرق) التحليل الإحصائي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- يمكن أن تتكون من عناوين فرعية (على أن يتبع ذلك في قسم النتائج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- عادة يكون  التسلسل: تصميم التجربة، المواد المستخدمة، طريقة (طرق)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البحث، طرق أخذ المعلومات، طريقة (طرق) التحليل الإحصائي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394920" y="404280"/>
            <a:ext cx="7921800" cy="568836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txBody>
          <a:bodyPr anchor="t">
            <a:noAutofit/>
          </a:bodyPr>
          <a:p>
            <a:pPr algn="r" rtl="1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جـ- النتــائج    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Results</a:t>
            </a: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Verdana"/>
              </a:rPr>
              <a:t>   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يتميز هذا القسم بأنه: القسم الرئيس، وألأهم،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Verdana"/>
              </a:rPr>
              <a:t>ولكنه غالباً الأقصر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 - أهم عناصره: الوضوح، البساطة، التسلسل، القدرة على اختيار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وعرض المعلومات الممثلة للنتائج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 - الاختيار بين الجداول والأشكال، والتصميم المناسب لها (؟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ar-SA" sz="3600" spc="-1" strike="noStrike">
                <a:solidFill>
                  <a:srgbClr val="a50021"/>
                </a:solidFill>
                <a:latin typeface="Verdana"/>
              </a:rPr>
              <a:t>أ</a:t>
            </a:r>
            <a:r>
              <a:rPr b="1" lang="ar-SA" sz="3600" spc="-1" strike="noStrike" u="sng">
                <a:solidFill>
                  <a:srgbClr val="a50021"/>
                </a:solidFill>
                <a:uFillTx/>
                <a:latin typeface="Verdana"/>
              </a:rPr>
              <a:t>خطاء يجب تجنبها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تكرار كتابة المعلومات الواضحة للقارئ من الجداول والأشكال في المتن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عرض جميع أو معظم معلومات الجداول والأشكال في المتن (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Verdana"/>
              </a:rPr>
              <a:t>عدم القدرة على التمييز والاختيار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إغفال النتائج التي تتعارض مع نظرية البحث (غير أخلاقي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تكرار معلومات الجداول في الأشكال أو العكس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عدم الوضوح في استخدام الضمائر وأسماء الإشارة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684360" y="1628280"/>
            <a:ext cx="7416720" cy="374508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txBody>
          <a:bodyPr anchor="t">
            <a:noAutofit/>
          </a:bodyPr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(</a:t>
            </a: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2</a:t>
            </a: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) تقديم عرض أولي أو محاضرة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Priliminary Presentation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Verdana"/>
              </a:rPr>
              <a:t>   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يفضل ذلك قبل كتابة قسم المناقشة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 - الغرض هو الاستفادة من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الانتقادات والاقتراحات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استكمال النواق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معلومات أخرى، مفيدة وحديثة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394920" y="404280"/>
            <a:ext cx="7921800" cy="568836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txBody>
          <a:bodyPr anchor="t">
            <a:noAutofit/>
          </a:bodyPr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cc"/>
                </a:solidFill>
                <a:uFillTx/>
                <a:latin typeface="Verdana"/>
              </a:rPr>
              <a:t>(</a:t>
            </a:r>
            <a:r>
              <a:rPr b="1" lang="ar-SA" sz="2400" spc="-1" strike="noStrike" u="sng">
                <a:solidFill>
                  <a:srgbClr val="0000cc"/>
                </a:solidFill>
                <a:uFillTx/>
                <a:latin typeface="Verdana"/>
              </a:rPr>
              <a:t>3</a:t>
            </a:r>
            <a:r>
              <a:rPr b="1" lang="ar-SA" sz="2400" spc="-1" strike="noStrike" u="sng">
                <a:solidFill>
                  <a:srgbClr val="0000cc"/>
                </a:solidFill>
                <a:uFillTx/>
                <a:latin typeface="Verdana"/>
              </a:rPr>
              <a:t>) المناقشة     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Discussion</a:t>
            </a:r>
            <a:r>
              <a:rPr b="1" lang="ar-SA" sz="2400" spc="-1" strike="noStrike" u="sng">
                <a:solidFill>
                  <a:srgbClr val="0000cc"/>
                </a:solidFill>
                <a:uFillTx/>
                <a:latin typeface="Verdana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ar-SA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- القسم ا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Verdana"/>
              </a:rPr>
              <a:t>لأصعب</a:t>
            </a: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 كتابة، والعامل الأهم في قبول البحث أو رفضه !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ar-SA" sz="2400" spc="-1" strike="noStrike" u="sng">
                <a:solidFill>
                  <a:srgbClr val="0000cc"/>
                </a:solidFill>
                <a:uFillTx/>
                <a:latin typeface="Verdana"/>
              </a:rPr>
              <a:t>الهدف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Verdana"/>
              </a:rPr>
              <a:t>:</a:t>
            </a: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 إبراز العلاقات بين الحقائق التي تم التوصل إليها، وإلقاء الضوء على النقاط </a:t>
            </a: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الرئيسة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ar-SA" sz="2400" spc="-1" strike="noStrike" u="sng">
                <a:solidFill>
                  <a:srgbClr val="0000cc"/>
                </a:solidFill>
                <a:uFillTx/>
                <a:latin typeface="Verdana"/>
              </a:rPr>
              <a:t>أهم عناصره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Verdana"/>
              </a:rPr>
              <a:t>:</a:t>
            </a: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 القوة، الترابط (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 theme</a:t>
            </a: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)، الوضوح، والكفاية مع الاختصار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ar-SA" sz="2400" spc="-1" strike="noStrike" u="sng">
                <a:solidFill>
                  <a:srgbClr val="0000cc"/>
                </a:solidFill>
                <a:uFillTx/>
                <a:latin typeface="Verdana"/>
              </a:rPr>
              <a:t>مكوناته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Verdana"/>
              </a:rPr>
              <a:t>:</a:t>
            </a: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 إبراز ومناقشة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- الأسس، والعلاقات، والمبادئ العامة التي ظهرت في قسم النتائج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- الاستثناءات، أو عدم وجود ارتباطات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rrelations</a:t>
            </a: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- توافق (أو تعارض) نتائجك وتفسيراتك مع ما هو منشور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- أهمية النتائج، وما هو الجديد فيها (بدون تطرف أو تحزب)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- المضامين النظرية والتطبيقات العملية للنتائج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- الاستنتاجات بكل وضوح، والبرهان على كل استنتاج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- يفضل (بل يجب أحياناً) أن ينتهي هذا القسم بملخص قصير (أو خاتمة) يتناول أهمية </a:t>
            </a: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وفائدة هذا البحث، واقتراح الدراسات المستقبلية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394920" y="836280"/>
            <a:ext cx="8209080" cy="504036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txBody>
          <a:bodyPr anchor="t">
            <a:noAutofit/>
          </a:bodyPr>
          <a:p>
            <a:pPr algn="r" rtl="1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cc3300"/>
                </a:solidFill>
                <a:uFillTx/>
                <a:latin typeface="Verdana"/>
              </a:rPr>
              <a:t>أخطاء يجب تجنبها في المناقشة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- إعادة كتابة ”قسم“ النتائج في المناقشة [إجترار]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- الإطناب، ومحاولة الإشارة والرجوع إلى </a:t>
            </a:r>
            <a:r>
              <a:rPr b="1" lang="ar-SA" sz="2800" spc="-1" strike="noStrike" u="sng">
                <a:solidFill>
                  <a:srgbClr val="000000"/>
                </a:solidFill>
                <a:uFillTx/>
                <a:latin typeface="Verdana"/>
              </a:rPr>
              <a:t>جميع التفاصيل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- عدم التمييز بين الحقائق والتوقعات (استعمل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how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، و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ight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 مثلاً). وعدم التمييز بين النتائج والاستنتاجات 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(استعمل فعل ماضي، فعل حاضر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- عدم البساطة، والاختفاء وراء الجمل الأدبية والعبارات 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الرنانة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- التقديرات الاستقرائية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rapolate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) غير المنطقية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250920" y="476280"/>
            <a:ext cx="8424720" cy="590544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txBody>
          <a:bodyPr anchor="t">
            <a:noAutofit/>
          </a:bodyPr>
          <a:p>
            <a:pPr algn="r" rtl="1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(</a:t>
            </a: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4</a:t>
            </a: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) عنوان الورقة البحثية   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Final Title</a:t>
            </a: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-العنوان العملي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formative</a:t>
            </a: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للكاتب، العنوان النهائي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dicative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) للقارئ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- </a:t>
            </a:r>
            <a:r>
              <a:rPr b="1" lang="ar-SA" sz="2400" spc="-1" strike="noStrike" u="sng">
                <a:solidFill>
                  <a:srgbClr val="0000cc"/>
                </a:solidFill>
                <a:uFillTx/>
                <a:latin typeface="Verdana"/>
              </a:rPr>
              <a:t>أهم صفاته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:  مختصر،  دقيق، ذو دلالة، مع عنـــصر التشـويق (!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- </a:t>
            </a:r>
            <a:r>
              <a:rPr b="1" lang="ar-SA" sz="2400" spc="-1" strike="noStrike" u="sng">
                <a:solidFill>
                  <a:srgbClr val="0000cc"/>
                </a:solidFill>
                <a:uFillTx/>
                <a:latin typeface="Verdana"/>
              </a:rPr>
              <a:t>يتميز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: أقل ما يمكن من الكلمات لإعطاء وصف كاف لمحتويات الورقة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- </a:t>
            </a:r>
            <a:r>
              <a:rPr b="1" lang="ar-SA" sz="2400" spc="-1" strike="noStrike" u="sng">
                <a:solidFill>
                  <a:srgbClr val="0000cc"/>
                </a:solidFill>
                <a:uFillTx/>
                <a:latin typeface="Verdana"/>
              </a:rPr>
              <a:t>تذكر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: أن الآلاف سيقرؤون العنوان، القليل منهم يقرأ كل الورقة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- تفضل معظم الدوريات أن يكون بحدود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كلمة. وأحياناً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تطلب المجلة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unning title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- يجب الاهتمام بمعنى الكلمات وترتيبها وخاصة في اللغة الانجليزية، وأن يحتوي على كلمات مفتاحية (للفهرسة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394920" y="1125000"/>
            <a:ext cx="7921800" cy="431964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txBody>
          <a:bodyPr anchor="t">
            <a:noAutofit/>
          </a:bodyPr>
          <a:p>
            <a:pPr algn="r" rtl="1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cc3300"/>
                </a:solidFill>
                <a:uFillTx/>
                <a:latin typeface="Verdana"/>
              </a:rPr>
              <a:t>أخطاء يجب تجنبها في العنوان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- العنوان العام.  (غير دقيق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- الحشـو الزائد (دراسات على .......)، والإطالة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- إحتواءه على عنوان فرعي، أو اختصارات، أو مصطلحات 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قديمة، أو أسماء تجارية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- خلوّه من الإسم العلمي للكائن الحي المدروس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- الأخطاء اللغوية: القواعد، وترتيب الكلمات بالانجليزية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1692360" y="1916280"/>
            <a:ext cx="4464000" cy="201744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txBody>
          <a:bodyPr anchor="t">
            <a:noAutofit/>
          </a:bodyPr>
          <a:p>
            <a:pPr algn="ctr" rtl="1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f1311"/>
              </a:solidFill>
              <a:latin typeface="Arial"/>
            </a:endParaRPr>
          </a:p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مقــــدمة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Introductio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7921800" cy="561672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txBody>
          <a:bodyPr anchor="t">
            <a:noAutofit/>
          </a:bodyPr>
          <a:p>
            <a:pPr algn="r" rtl="1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(</a:t>
            </a: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5</a:t>
            </a: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) الملخص    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Abstract</a:t>
            </a: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- هو تلخيص دقيق لأهم النتائج والاستنتاجات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- </a:t>
            </a:r>
            <a:r>
              <a:rPr b="1" lang="ar-SA" sz="2400" spc="-1" strike="noStrike" u="sng">
                <a:solidFill>
                  <a:srgbClr val="0000cc"/>
                </a:solidFill>
                <a:uFillTx/>
                <a:latin typeface="Verdana"/>
              </a:rPr>
              <a:t>أهم عناصره: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الإيجاز،  الدقة، الوضوح، الشمولية (كاف وحده بدون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الرجوع إلى الأقسام الأخرى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- </a:t>
            </a:r>
            <a:r>
              <a:rPr b="1" lang="ar-SA" sz="2400" spc="-1" strike="noStrike" u="sng">
                <a:solidFill>
                  <a:srgbClr val="0000cc"/>
                </a:solidFill>
                <a:uFillTx/>
                <a:latin typeface="Verdana"/>
              </a:rPr>
              <a:t>عادة: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100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250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كلمة، وفي جمل قصيرة وبسيطة، فقرة واحدة (؟).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يحتوي على المعلومات والاستنتاجات الرئيسة، متضمناً الكلمات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المفتاحية والأسماء العلمية للأحياء وأسماء المركبات الكيماوية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- </a:t>
            </a:r>
            <a:r>
              <a:rPr b="1" lang="ar-SA" sz="2400" spc="-1" strike="noStrike" u="sng">
                <a:solidFill>
                  <a:srgbClr val="0000cc"/>
                </a:solidFill>
                <a:uFillTx/>
                <a:latin typeface="Verdana"/>
              </a:rPr>
              <a:t>يتناول بإيجاز: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الأهداف الرئيسة للدراسة ومجالها، الخطوط العريضة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لطريقة البحث، ملخص للنتائج والاستنتاجات الرئيسة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- </a:t>
            </a:r>
            <a:r>
              <a:rPr b="1" lang="ar-SA" sz="2400" spc="-1" strike="noStrike" u="sng">
                <a:solidFill>
                  <a:srgbClr val="0000cc"/>
                </a:solidFill>
                <a:uFillTx/>
                <a:latin typeface="Verdana"/>
              </a:rPr>
              <a:t>تذكر: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أن العنوان والملخص هما المفتاح للورقة البحثية (أكثر الأجزاء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المقروءة في البحث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394920" y="1412640"/>
            <a:ext cx="7921800" cy="388764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txBody>
          <a:bodyPr anchor="t">
            <a:noAutofit/>
          </a:bodyPr>
          <a:p>
            <a:pPr algn="r" rtl="1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cc3300"/>
                </a:solidFill>
                <a:uFillTx/>
                <a:latin typeface="Verdana"/>
              </a:rPr>
              <a:t>أخطاء يجب تجنبها في الملخص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- إضافة أية معلـومات أو اسـتنتاجات غير واردة في الورقة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البحثية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مناقشة النتائج، أو ذكر مراجع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عدم التسلسل المنطقي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محاولة إعطاء معلومات تفصيلية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394920" y="1125000"/>
            <a:ext cx="7921800" cy="446436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txBody>
          <a:bodyPr anchor="t">
            <a:noAutofit/>
          </a:bodyPr>
          <a:p>
            <a:pPr algn="r" rtl="1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الكلمات المفتاحية    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Key words</a:t>
            </a: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      توضع عادة بعد الملخص، وتطلبها معظم المجلات العلمية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ar-SA" sz="2400" spc="-1" strike="noStrike" u="sng">
                <a:solidFill>
                  <a:srgbClr val="0000cc"/>
                </a:solidFill>
                <a:uFillTx/>
                <a:latin typeface="Verdana"/>
              </a:rPr>
              <a:t>الهــدف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   المساعدة في الفهرسة (نظم استرجاع المعلومات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- تختار الكلمات (المصطلحات) الأكثر أهمية وتخصصاً التي تعكس الموضوع الرئيس للورقة، وترتب هجائياً (عادة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لا تكرر الكلمات التي ظهرت في العنوان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395280" y="620280"/>
            <a:ext cx="8424720" cy="525636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txBody>
          <a:bodyPr anchor="t">
            <a:noAutofit/>
          </a:bodyPr>
          <a:p>
            <a:pPr algn="r" rtl="1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(</a:t>
            </a: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6</a:t>
            </a: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) الشكر والتقدير 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Acknowledgment</a:t>
            </a:r>
            <a:r>
              <a:rPr b="1" lang="en-US" sz="3600" spc="-1" strike="noStrike" u="sng">
                <a:solidFill>
                  <a:srgbClr val="0000cc"/>
                </a:solidFill>
                <a:uFillTx/>
                <a:latin typeface="Verdana"/>
              </a:rPr>
              <a:t> </a:t>
            </a: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:</a:t>
            </a:r>
            <a:r>
              <a:rPr b="1" lang="ar-SA" sz="2800" spc="-1" strike="noStrike">
                <a:solidFill>
                  <a:srgbClr val="0000cc"/>
                </a:solidFill>
                <a:latin typeface="Verdana"/>
              </a:rPr>
              <a:t>  (عند الحاجة ؟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      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فقرة قصيرة، تكتب بعد المناقشة (وقبل قائمة المراجع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- </a:t>
            </a:r>
            <a:r>
              <a:rPr b="1" lang="ar-SA" sz="2400" spc="-1" strike="noStrike" u="sng">
                <a:solidFill>
                  <a:srgbClr val="0000cc"/>
                </a:solidFill>
                <a:uFillTx/>
                <a:latin typeface="Verdana"/>
              </a:rPr>
              <a:t>المهم: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تأكد من تشكر ؟ وكيف ؟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   يشمل الشكر والتقدير كل من قام بالأعمال التالية بفعالية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أ- تجميع القراءات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ata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)، أو ساعد في تحليلها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ب- الإشراف العام (؟)، أو تسهيلات جوهرية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جـ- تمويل البحث، أو تزويد بعض مواد البحث (بذور .........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د-  أبدى انتقادات واقتراحات جوهرية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هـ- راجع الورقة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684360" y="1413000"/>
            <a:ext cx="7632720" cy="345600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txBody>
          <a:bodyPr anchor="t">
            <a:noAutofit/>
          </a:bodyPr>
          <a:p>
            <a:pPr algn="r" rtl="1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سادساً: وضع المسودة الأولى جانباً بعض الوقت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(Sleep on it !!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          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ar-SA" sz="2400" spc="-1" strike="noStrike">
                <a:solidFill>
                  <a:srgbClr val="0000cc"/>
                </a:solidFill>
                <a:latin typeface="Verdana"/>
              </a:rPr>
              <a:t>الهدف: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تحتاج مراجعة المسودة الأولى إلى نظرة جديدة بعد مرور بعض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الوقت لاكتشاف الأخطاء وتصحيحها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7921800" cy="568944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txBody>
          <a:bodyPr anchor="t">
            <a:noAutofit/>
          </a:bodyPr>
          <a:p>
            <a:pPr algn="r" rtl="1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سابعاً: المراجع    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References</a:t>
            </a: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يختلف استخدام (عرض) المراجع في المتن أو في قائمة المراجع بين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مجلة علمية وأخرى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- يجب ذكر المرجع عند الإشارة إلى عمل سابق (في أي قسم من أقسام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الورقة البحثية).     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cc"/>
                </a:solidFill>
                <a:uFillTx/>
                <a:latin typeface="Verdana"/>
              </a:rPr>
              <a:t>عند استخدام المراجع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يجب الاختيار الدقيق للمرجع بحيث يكون ذو علاقة وطيدة جداً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بالموضوع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يفضل استخدام مقالة نقدية أو اثنتين تغطيان الخلفية العامة للموضوع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التأكد من أن معظم المراجع تتكون من أبحاث أصيلة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يجب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Verdana"/>
              </a:rPr>
              <a:t>قراءة المرجع واستيعابه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، قبل استخدامه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يجب الاستخدام الصحيح للمرجع وربط المعلومات مع بعضها بأسلوب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نقدي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394920" y="1412640"/>
            <a:ext cx="7921800" cy="388764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txBody>
          <a:bodyPr anchor="t">
            <a:noAutofit/>
          </a:bodyPr>
          <a:p>
            <a:pPr algn="r" rtl="1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cc3300"/>
                </a:solidFill>
                <a:uFillTx/>
                <a:latin typeface="Verdana"/>
              </a:rPr>
              <a:t>أخطاء يجب تجنبها عند استخدام المراجع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استخدام مراجع ليست لها علاقة بالموضوع، أو بعيدة العلاقة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الإكثار من استخدام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Verdana"/>
              </a:rPr>
              <a:t>مراجع للباحث أو الباحثين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(؟!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سرد المراجع بدون ربطها بالموضوع وبأسلوب نقدي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إغفال المراجع عند الإشارة إلى نتائج أو استنتاجات سابقة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2987280" y="115920"/>
            <a:ext cx="6048360" cy="662616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txBody>
          <a:bodyPr anchor="t">
            <a:noAutofit/>
          </a:bodyPr>
          <a:p>
            <a:pPr algn="ctr" rtl="1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Comic Sans MS"/>
              </a:rPr>
              <a:t>TAKE-HOME MESS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Comic Sans MS"/>
              </a:rPr>
              <a:t>Introduction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hy did you do the work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hat is its purpos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Comic Sans MS"/>
              </a:rPr>
              <a:t>Materials and Methods</a:t>
            </a: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hat materials did you us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ow did you use them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Comic Sans MS"/>
              </a:rPr>
              <a:t>Results</a:t>
            </a: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hat did you find or se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Comic Sans MS"/>
              </a:rPr>
              <a:t>Discussion</a:t>
            </a: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hat do your findings mean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Comic Sans MS"/>
              </a:rPr>
              <a:t>In other words</a:t>
            </a: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     </a:t>
            </a: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A research paper must answer</a:t>
            </a: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hy?       What for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ow?        Wher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hat did you find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hat does it mean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txBody>
          <a:bodyPr anchor="t">
            <a:noAutofit/>
          </a:bodyPr>
          <a:p>
            <a:pPr algn="ctr" rtl="1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1403280" y="2060640"/>
          <a:ext cx="6769080" cy="1749240"/>
        </p:xfrm>
        <a:graphic>
          <a:graphicData uri="http://schemas.openxmlformats.org/drawingml/2006/table">
            <a:tbl>
              <a:tblPr/>
              <a:tblGrid>
                <a:gridCol w="6769080"/>
              </a:tblGrid>
              <a:tr h="239364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2f1311"/>
                          </a:solidFill>
                          <a:latin typeface="Tahoma"/>
                          <a:cs typeface="Andalus"/>
                        </a:rPr>
                        <a:t>شــكراً لحسن استماعكم</a:t>
                      </a:r>
                      <a:endParaRPr b="0" lang="en-US" sz="4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2f1311"/>
                          </a:solidFill>
                          <a:latin typeface="Tahoma"/>
                          <a:ea typeface="Andalus"/>
                        </a:rPr>
                        <a:t>Thank Y’all</a:t>
                      </a:r>
                      <a:endParaRPr b="0" lang="en-US" sz="4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5" name=""/>
          <p:cNvGraphicFramePr/>
          <p:nvPr/>
        </p:nvGraphicFramePr>
        <p:xfrm>
          <a:off x="179280" y="620640"/>
          <a:ext cx="8785440" cy="5027760"/>
        </p:xfrm>
        <a:graphic>
          <a:graphicData uri="http://schemas.openxmlformats.org/drawingml/2006/table">
            <a:tbl>
              <a:tblPr/>
              <a:tblGrid>
                <a:gridCol w="4392720"/>
                <a:gridCol w="4392720"/>
              </a:tblGrid>
              <a:tr h="1219320">
                <a:tc gridSpan="2"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600" spc="-1" strike="noStrike">
                          <a:solidFill>
                            <a:srgbClr val="0000cc"/>
                          </a:solidFill>
                          <a:latin typeface="Simplified Arabic"/>
                          <a:cs typeface="Simplified Arabic"/>
                        </a:rPr>
                        <a:t>بعض أنواع الكتابة العلمية</a:t>
                      </a:r>
                      <a:endParaRPr b="0" lang="en-US" sz="3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Simplified Arabic"/>
                          <a:ea typeface="Simplified Arabic"/>
                        </a:rPr>
                        <a:t>Types of Scientific Writings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7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- رسائل جامعية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Theses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)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1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- أوراق بحثية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Res. papers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)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8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- حلقات نقاش متخصصة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Symposia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)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2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- أوراق نقد مرجعي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Review articles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)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9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- ملخصات مطولة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Ext. abstracts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)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3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- تأليف كتب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Books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)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10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- إعداد كتب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Books editing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)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4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- ملخصات عامة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Synopsis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)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11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- مراجعة كتب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Book review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)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5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- ملخصات مؤتمرات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Abstracts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)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12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- مشاريع أبحاث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Res. proposals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)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6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- ملصقات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Posters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Simplified Arabic"/>
                          <a:ea typeface="Simplified Arabic"/>
                        </a:rPr>
                        <a:t>)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468360" y="1197000"/>
            <a:ext cx="7991280" cy="424800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txBody>
          <a:bodyPr anchor="t">
            <a:noAutofit/>
          </a:bodyPr>
          <a:p>
            <a:pPr algn="ctr" rtl="1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eaeaea"/>
              </a:solidFill>
              <a:latin typeface="Verdana"/>
            </a:endParaRPr>
          </a:p>
          <a:p>
            <a:pPr algn="ct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Verdana"/>
              </a:rPr>
              <a:t>لماذا النشر العلمي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Why we publish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 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- المساهمة في تطوير ونشر المعرفة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- السمعة العلمية الشخصية، وسمعة المؤسسة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العلمية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- الترقية العلمية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- المنافسة للحصول على عمل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39640" y="692280"/>
            <a:ext cx="7848720" cy="540072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txBody>
          <a:bodyPr anchor="t">
            <a:noAutofit/>
          </a:bodyPr>
          <a:p>
            <a:pPr algn="r" rtl="1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الخطوات الرئيسة في إعداد الورقة البحثية للنشر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Main Steps or Stage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تقييم العمل البحثي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إختيار المجلة، وقراءة الإرشادات الخاصة بالنشر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الاتفاق فيما بين الفريق البحثي على أسماء الباحثين وترتيبهم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كتابة العنوان ”ا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Verdana"/>
              </a:rPr>
              <a:t>لعملي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“ للورقة، واختيار العناوين الرئيسة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كتابة ”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Verdana"/>
              </a:rPr>
              <a:t>الخطوط  العريضة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“ لترتيب الموضوعات الرئيسة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إختيار وتصميم الجداول والأشكال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كتابة المسودة الأولى للورقة.*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539640" y="692280"/>
            <a:ext cx="7777440" cy="518472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txBody>
          <a:bodyPr anchor="t">
            <a:no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وضع المسودة الأولى جانباً بعض الوقت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كتابة قائمة المراجع* (وربما تكرار الخطوة الثامنة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مراجعة المسـودة الأولى: المحتوى والترتيب المنطقي (= المسـودة الثانية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مراجعة المسـودة الثانية: الأســـلوب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ar-SA" sz="2400" spc="-1" strike="noStrike" u="sng">
                <a:solidFill>
                  <a:srgbClr val="0000cc"/>
                </a:solidFill>
                <a:uFillTx/>
                <a:latin typeface="Verdana"/>
              </a:rPr>
              <a:t>(المســـودة الثالثة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الحصول على اقتراحات وانتقادات من الزملاء – المراجعة مرة أخرى. </a:t>
            </a:r>
            <a:r>
              <a:rPr b="1" lang="ar-SA" sz="2400" spc="-1" strike="noStrike" u="sng">
                <a:solidFill>
                  <a:srgbClr val="0000cc"/>
                </a:solidFill>
                <a:uFillTx/>
                <a:latin typeface="Verdana"/>
              </a:rPr>
              <a:t>(المســـودة الرابعة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13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قراءة الإرشادات الخاصة بالمجلة مرة أخرى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14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إعادة الطباعة، ومراجعة النسخة النهائية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15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عملية النشر (التعامل مع هيئة التحرير، ومع الناشر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404280"/>
            <a:ext cx="7777440" cy="597708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txBody>
          <a:bodyPr anchor="t">
            <a:noAutofit/>
          </a:bodyPr>
          <a:p>
            <a:pPr algn="r" rtl="1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أولاً: تقييم العمل البحثي  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Evaluation of Work</a:t>
            </a:r>
            <a:r>
              <a:rPr b="1" lang="ar-SA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Verdana"/>
              </a:rPr>
              <a:t>            </a:t>
            </a:r>
            <a:r>
              <a:rPr b="1" lang="ar-SA" sz="2400" spc="-1" strike="noStrike">
                <a:solidFill>
                  <a:srgbClr val="cc3300"/>
                </a:solidFill>
                <a:latin typeface="Verdana"/>
              </a:rPr>
              <a:t>يجب الإجـــابة على مجــموعة من الأســئلة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هل كان التصميم مناسباً للإجابة على السؤال محل الدراسة ؟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هل كانت هناك خطة عمل (بروتوكول) مترابطة، وأتبعت كما كان مخططاً لها ؟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هل تغطي الدراسة الانتقادات المتوقعة ؟ أم أن هناك نقصاً في بعض جوانبها ؟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هل طريقة التحليل الإحصائي منطقية ومقبولة علمياً ؟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هل تتعارض الدراسة مع التوجه العام في المجتمع ؟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هل هناك ترتيبات أتبعت لتسجيل كل التفاصيل أثناء إجراء الدراسة ؟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          وبالتالي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Verdana"/>
              </a:rPr>
              <a:t>هل يستحق هذا العمل النشر أم لا ؟!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684360" y="980640"/>
            <a:ext cx="7488000" cy="532764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txBody>
          <a:bodyPr anchor="t">
            <a:noAutofit/>
          </a:bodyPr>
          <a:p>
            <a:pPr algn="r" rtl="1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ثانياً: اختيار المجلة العلمية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Selecting the Journal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Verdana"/>
              </a:rPr>
              <a:t>            </a:t>
            </a:r>
            <a:r>
              <a:rPr b="1" lang="ar-SA" sz="2400" spc="-1" strike="noStrike">
                <a:solidFill>
                  <a:srgbClr val="cc3300"/>
                </a:solidFill>
                <a:latin typeface="Verdana"/>
              </a:rPr>
              <a:t>يعتمد ذلك على عدة عوامل منها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نوع الدراسة (نظرية، تطبيقية، محلية .......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نوع القراء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الشروط الخاصة بالمجلة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سمعة المجلة عالمياً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اللــغة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مفهرسة أم لا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طول المقالة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539640" y="404640"/>
            <a:ext cx="7777440" cy="583272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txBody>
          <a:bodyPr anchor="t">
            <a:noAutofit/>
          </a:bodyPr>
          <a:p>
            <a:pPr algn="r" rtl="1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cc"/>
                </a:solidFill>
                <a:uFillTx/>
                <a:latin typeface="Verdana"/>
              </a:rPr>
              <a:t>ثالثاً: الاتفاق على أسماء الباحثين وترتيبهم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Author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Verdana"/>
              </a:rPr>
              <a:t>            </a:t>
            </a:r>
            <a:r>
              <a:rPr b="1" lang="ar-SA" sz="2400" spc="-1" strike="noStrike">
                <a:solidFill>
                  <a:srgbClr val="0000cc"/>
                </a:solidFill>
                <a:latin typeface="Verdana"/>
              </a:rPr>
              <a:t>يجب أن يكون الجميع قد شارك </a:t>
            </a:r>
            <a:r>
              <a:rPr b="1" lang="ar-SA" sz="2400" spc="-1" strike="noStrike" u="sng">
                <a:solidFill>
                  <a:srgbClr val="0000cc"/>
                </a:solidFill>
                <a:uFillTx/>
                <a:latin typeface="Verdana"/>
              </a:rPr>
              <a:t>وبفعـالية</a:t>
            </a:r>
            <a:r>
              <a:rPr b="1" lang="ar-SA" sz="2400" spc="-1" strike="noStrike">
                <a:solidFill>
                  <a:srgbClr val="0000cc"/>
                </a:solidFill>
                <a:latin typeface="Verdana"/>
              </a:rPr>
              <a:t> في كل من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فكرة البحث وتصميم الدراسة.            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تحليل النتائج وتفسيرها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كتابة المسودة الأولى وتنقيحها لاحقاً، وإضافة أفكار مهمة لها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- الموافقة على النسخة النهائية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   - </a:t>
            </a:r>
            <a:r>
              <a:rPr b="1" lang="ar-SA" sz="2400" spc="-1" strike="noStrike" u="sng">
                <a:solidFill>
                  <a:srgbClr val="0000cc"/>
                </a:solidFill>
                <a:uFillTx/>
                <a:latin typeface="Verdana"/>
              </a:rPr>
              <a:t>أما الترتيب</a:t>
            </a:r>
            <a:r>
              <a:rPr b="1" lang="ar-SA" sz="2400" spc="-1" strike="noStrike">
                <a:solidFill>
                  <a:srgbClr val="0000cc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Verdana"/>
              </a:rPr>
              <a:t>فيتم حسب حجم ونسبة المشاركة وأهميتها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   - </a:t>
            </a:r>
            <a:r>
              <a:rPr b="1" lang="ar-SA" sz="2400" spc="-1" strike="noStrike" u="sng">
                <a:solidFill>
                  <a:srgbClr val="0000cc"/>
                </a:solidFill>
                <a:uFillTx/>
                <a:latin typeface="Verdana"/>
              </a:rPr>
              <a:t>أما من شارك في</a:t>
            </a:r>
            <a:r>
              <a:rPr b="1" lang="ar-SA" sz="2400" spc="-1" strike="noStrike">
                <a:solidFill>
                  <a:srgbClr val="0000cc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     (تجميع القراءات .... الإشراف العام ..... تمويل البحث ....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Verdana"/>
              </a:rPr>
              <a:t>فيكتب له شكر وتقدير في الجزء المخصص لذلك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8:45:39Z</dcterms:created>
  <dc:creator>aaa</dc:creator>
  <dc:description/>
  <dc:language>en-US</dc:language>
  <cp:lastModifiedBy>ALI ALDERFASI</cp:lastModifiedBy>
  <dcterms:modified xsi:type="dcterms:W3CDTF">2015-12-17T09:21:12Z</dcterms:modified>
  <cp:revision>117</cp:revision>
  <dc:subject/>
  <dc:title>Slide 1</dc:title>
</cp:coreProperties>
</file>