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63E7A-7EB9-43A0-AD20-F838E7872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E9EFA-2B88-4CAD-BE35-ABE3A8546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4343C-4E60-4D3C-A82A-81118D411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0FE48-9F87-4490-BC19-75ADEF725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B4390-2EE0-45E5-A113-76EF6D031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347EE-C321-41AF-8514-41E7DA173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70440-476D-41AF-B0C9-ADDCE527C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BDB3B-4797-440B-9054-499EEB24B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25288-86B5-4900-92AC-13073C4FA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159A0-A76C-4D8C-B314-104D1F6F6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5AF2A-E253-4058-BB2A-FF8F136C0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BFE32-527F-40CB-963D-50A709070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09988-B5E4-4B83-B9BE-6AC68D430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FEED2-AA3A-44EC-BDC4-476E859E0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B5F91-02B7-4CE9-B6A3-CE05D271F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929AE-AF2F-46EB-844D-CF4DA0270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84A8D-C6CC-4828-B892-1F63DCCE8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743B3-B35F-41D3-AE9F-BD3A7D513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9EC24-4CE2-4215-8FF7-C013B641D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FAA88-677E-470A-8DC5-7093B1D58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F8F7B-CC42-449C-B126-E9D73AD1E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25425-9927-42DC-A5B4-B6C0A7728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3D5E-1720-403D-98D7-BD344CBCE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738E-E68C-49AB-962D-F27182E45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837F-1EDF-477B-8AC2-75B83D4CBCC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7B83-A34F-430A-887F-0A715987F74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الاسرة والمدرسة </a:t>
            </a:r>
            <a:endParaRPr b="0" lang="en-US" sz="54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c0039"/>
                </a:solidFill>
                <a:uFillTx/>
                <a:latin typeface="Arial"/>
              </a:rPr>
              <a:t>قيمة التلميذ في المدرسة تنبع من ثلاث جوانب  :</a:t>
            </a:r>
            <a:br>
              <a:rPr sz="3200"/>
            </a:br>
            <a:endParaRPr b="0" lang="en-US" sz="32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زامه بالقوانين والأنظم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صيله الدراسي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شاركة في الأنشطة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c0039"/>
                </a:solidFill>
                <a:uFillTx/>
                <a:latin typeface="Arial"/>
              </a:rPr>
              <a:t>الأساليب المقصودة وغير المقصودة للتنشئة في المدرسة :</a:t>
            </a:r>
            <a:br>
              <a:rPr sz="3200"/>
            </a:br>
            <a:endParaRPr b="0" lang="en-US" sz="32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anchor="t">
            <a:normAutofit fontScale="94000"/>
          </a:bodyPr>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أساليب المقصودة وغير المقصودة للتنشئة في المدرسة :</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ن طريق المقررات المدرسية .</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نشطة المدرسية .</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ثواب والعقاب للتلميذ.</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نماذج للسلوك .</a:t>
            </a: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ماعة الرفاق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دور المعلمة في دعم السلوك الاجتماعي </a:t>
            </a: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وة في تصرفاتها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جو صفي يساعد على التعاون والمشاركة (مشاعر ايجابية –تجنب الصراع على السلطة –اتصال صادق متبادل بين المعلمة و الأطفال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ضع حدود وقوانين واضح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ثابة وتعزيز السلوك الاجتماعي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نشاطات تعزز التعاون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تابع دور المعلمة </a:t>
            </a: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anchor="t">
            <a:normAutofit fontScale="84000"/>
          </a:bodyPr>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ساعدة الطفل على فهم عواقب السلوكيات</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زيز تقدير الذات . </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 تعدل من ترتيب الفصل بما يساعد على تقليل التوتر والمشكلات السلوكيه بين الاطفال .دراسة ماك اوي</a:t>
            </a:r>
            <a:r>
              <a:rPr b="0" lang="ar-SA" sz="3200" spc="-1" strike="noStrike">
                <a:solidFill>
                  <a:srgbClr val="000000"/>
                </a:solidFill>
                <a:latin typeface="Arial"/>
              </a:rPr>
              <a:t>2004</a:t>
            </a:r>
            <a:r>
              <a:rPr b="0" lang="ar-SA" sz="3200" spc="-1" strike="noStrike">
                <a:solidFill>
                  <a:srgbClr val="000000"/>
                </a:solidFill>
                <a:latin typeface="Arial"/>
              </a:rPr>
              <a:t>  أن المعلمين الاكثر قرباً من الاطفال يساهمون في تنمية الناحية الاجتماعية للأطفال. </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005c"/>
                </a:solidFill>
                <a:latin typeface="Arial"/>
              </a:rPr>
              <a:t>هل للبيئة المادية تأثير على سلوك الاطفال؟</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ؤكد الدراسات على أن معظم السلوكيات الايجابية والسلبية تعود الى نوع البيئة المادية؟</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ضاءة –الترتيب –الألوان –الحجم –العدد- كلها عوامل قد تعيق أوتسهل المهمة داخل الفصل من ناحية الشعور بالراحة تقليل التوتر منع المشكلات السلوكية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وسائل الاعلام </a:t>
            </a:r>
            <a:endParaRPr b="0" lang="en-US" sz="3600" spc="-1" strike="noStrike">
              <a:solidFill>
                <a:srgbClr val="8c0039"/>
              </a:solidFill>
              <a:latin typeface="Arial"/>
            </a:endParaRPr>
          </a:p>
        </p:txBody>
      </p:sp>
      <p:sp>
        <p:nvSpPr>
          <p:cNvPr id="108" name="PlaceHolder 2"/>
          <p:cNvSpPr>
            <a:spLocks noGrp="1"/>
          </p:cNvSpPr>
          <p:nvPr>
            <p:ph/>
          </p:nvPr>
        </p:nvSpPr>
        <p:spPr>
          <a:xfrm>
            <a:off x="2438280" y="1600200"/>
            <a:ext cx="6400800" cy="4495680"/>
          </a:xfrm>
          <a:prstGeom prst="rect">
            <a:avLst/>
          </a:prstGeom>
          <a:noFill/>
          <a:ln w="0">
            <a:noFill/>
          </a:ln>
        </p:spPr>
        <p:txBody>
          <a:bodyPr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ى أي مدى تسهم وسائل الاعلام في التأثير على الانماط السلوكيه للأفراد ؟</a:t>
            </a:r>
            <a:endParaRPr b="0" lang="en-US" sz="3200" spc="-1" strike="noStrike">
              <a:solidFill>
                <a:srgbClr val="000000"/>
              </a:solidFill>
              <a:latin typeface="Arial"/>
            </a:endParaRPr>
          </a:p>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ي الوسائل أكثر تأثيراً على الافراد؟ </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أثير وسائل الاعلام بشكل عام يشمل :</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شر المعلومات – توعيه ثقافيه – الاطلاع على المستجدات والاخبار – التعرف على الثقافات الاخرى -التسليه والترفية .</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ساليب وسائل الاعلام </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كرار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اذبي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دعوه الى المشارك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رض النماذج</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005c"/>
                </a:solidFill>
                <a:latin typeface="Arial"/>
              </a:rPr>
              <a:t>تأثير تلفزيون الواقع على الشباب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005c"/>
                </a:solidFill>
                <a:latin typeface="Arial"/>
              </a:rPr>
              <a:t>التأثير السلبي لاستخدام الانترنت؟</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لاحظة هامة </a:t>
            </a:r>
            <a:endParaRPr b="0" lang="en-US" sz="3600" spc="-1" strike="noStrike">
              <a:solidFill>
                <a:srgbClr val="8c0039"/>
              </a:solidFill>
              <a:latin typeface="Arial"/>
            </a:endParaRPr>
          </a:p>
        </p:txBody>
      </p:sp>
      <p:sp>
        <p:nvSpPr>
          <p:cNvPr id="88"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هذه الشرائح  الاجزاء الخارجية فقط لمحاضرة مؤسسات التنشئة الاجتماعية ولاتغني عن ماتم تناوله من الكتاب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و من شرح في المحاضر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سرة:</a:t>
            </a:r>
            <a:br>
              <a:rPr sz="3600"/>
            </a:br>
            <a:endParaRPr b="0" lang="en-US" sz="36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الأسرة باكورة الاتصال الاجتماعي للطفل.</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الأسرة أول موصل لثقافة المجتمع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الأسرة المصفاة  تصفي القيم المجتمعية قبل عبورها إلى الطفل فتقوم بعملية تنقية لها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ختلف الأسرة في تفاعلها مع الطفل تبعاً لاختلاف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بقة التي ينتمي اليها.</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جم الأسرة .</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رتيب الميلادي للطفل</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438280" y="1600200"/>
            <a:ext cx="6400800" cy="4495680"/>
          </a:xfrm>
          <a:prstGeom prst="rect">
            <a:avLst/>
          </a:prstGeom>
          <a:noFill/>
          <a:ln w="0">
            <a:noFill/>
          </a:ln>
        </p:spPr>
        <p:txBody>
          <a:bodyPr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أساليب المتعبة في تنشئة الأطفال  :</a:t>
            </a:r>
            <a:endParaRPr b="0" lang="en-US" sz="2800" spc="-1" strike="noStrike">
              <a:solidFill>
                <a:srgbClr val="000000"/>
              </a:solidFill>
              <a:latin typeface="Arial"/>
            </a:endParaRPr>
          </a:p>
          <a:p>
            <a:pPr marL="305280" indent="-30528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الحماية الزائدة</a:t>
            </a:r>
            <a:r>
              <a:rPr b="1" lang="ar-SA" sz="2800" spc="-1" strike="noStrike">
                <a:solidFill>
                  <a:srgbClr val="000000"/>
                </a:solidFill>
                <a:latin typeface="Arial"/>
              </a:rPr>
              <a:t>:  وهي المغالاة في  المحافظة عل الطفل والخوف عليه لدرجة مفرطة ومن الآثار التي تنعكس على الشخصية نتيجة أتباع هذا الاسلوب :</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نخفاض مستوى الجرأة - عدم الاعتماد على النفس.</a:t>
            </a:r>
            <a:endParaRPr b="0" lang="en-US" sz="2800" spc="-1" strike="noStrike">
              <a:solidFill>
                <a:srgbClr val="000000"/>
              </a:solidFill>
              <a:latin typeface="Arial"/>
            </a:endParaRPr>
          </a:p>
          <a:p>
            <a:pPr marL="305280" indent="-30528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أسلوب الإهمال</a:t>
            </a:r>
            <a:r>
              <a:rPr b="1" lang="ar-SA" sz="2800" spc="-1" strike="noStrike">
                <a:solidFill>
                  <a:srgbClr val="000000"/>
                </a:solidFill>
                <a:latin typeface="Arial"/>
              </a:rPr>
              <a:t> من أثاره على الطفل التبلد الشعور بعدم الانتماء تكوين فكرة سيئة عن الأسرة</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438280" y="1600200"/>
            <a:ext cx="6400800" cy="4495680"/>
          </a:xfrm>
          <a:prstGeom prst="rect">
            <a:avLst/>
          </a:prstGeom>
          <a:noFill/>
          <a:ln w="0">
            <a:noFill/>
          </a:ln>
        </p:spPr>
        <p:txBody>
          <a:bodyPr anchor="t">
            <a:normAutofit fontScale="93000"/>
          </a:bodyPr>
          <a:p>
            <a:pPr marL="318960" indent="-3189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تدليل:</a:t>
            </a:r>
            <a:r>
              <a:rPr b="1" lang="ar-SA" sz="3200" spc="-1" strike="noStrike">
                <a:solidFill>
                  <a:srgbClr val="000000"/>
                </a:solidFill>
                <a:latin typeface="Arial"/>
              </a:rPr>
              <a:t> ونعني به التراخي في معاملة الطفل وعدم توجيه لتحمل المسئولية مع إجابة جميع المتطلبات التي يطلبها الطفل دون وضع ضوابط لتلك الطلبات ومن عيوبه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شعور بالغرور</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إصابة بالإحباط لأتفه الأسباب </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عدائية مع الأطفال الآخرين</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تذبذب</a:t>
            </a:r>
            <a:r>
              <a:rPr b="1" lang="ar-SA" sz="3200" spc="-1" strike="noStrike">
                <a:solidFill>
                  <a:srgbClr val="000000"/>
                </a:solidFill>
                <a:latin typeface="Arial"/>
              </a:rPr>
              <a:t> ونعني به عدم ثبات الوالدين في أسلوب للمعاملة أو تناقض أسلوبهما ومن الآثار المترتبة على إتباع هذا الأسلوب :</a:t>
            </a: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ردد – لا يصلح للقيادة- منخفض الاتزان الوجداني .</a:t>
            </a:r>
            <a:endParaRPr b="0" lang="en-US" sz="3200" spc="-1" strike="noStrike">
              <a:solidFill>
                <a:srgbClr val="000000"/>
              </a:solidFill>
              <a:latin typeface="Arial"/>
            </a:endParaRPr>
          </a:p>
          <a:p>
            <a:pPr marL="284400" indent="-2844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u="sng">
                <a:solidFill>
                  <a:srgbClr val="ff3300"/>
                </a:solidFill>
                <a:uFillTx/>
                <a:latin typeface="Arial"/>
              </a:rPr>
              <a:t>التفرقة </a:t>
            </a:r>
            <a:r>
              <a:rPr b="1" lang="ar-SA" sz="3200" spc="-1" strike="noStrike">
                <a:solidFill>
                  <a:srgbClr val="000000"/>
                </a:solidFill>
                <a:latin typeface="Arial"/>
              </a:rPr>
              <a:t>تفضيل أحد الأبناء أو إعطاءه ميزات وصلاحيات أكثر من غيرة .</a:t>
            </a:r>
            <a:endParaRPr b="0" lang="en-US" sz="3200" spc="-1" strike="noStrike">
              <a:solidFill>
                <a:srgbClr val="000000"/>
              </a:solidFill>
              <a:latin typeface="Arial"/>
            </a:endParaRPr>
          </a:p>
          <a:p>
            <a:pPr marL="284400" indent="-2844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نتائج هذا الأسلوب :</a:t>
            </a:r>
            <a:endParaRPr b="0" lang="en-US" sz="3200" spc="-1" strike="noStrike">
              <a:solidFill>
                <a:srgbClr val="000000"/>
              </a:solidFill>
              <a:latin typeface="Arial"/>
            </a:endParaRPr>
          </a:p>
          <a:p>
            <a:pPr marL="284400" indent="-2844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غيرة – الأنانية –فقدان الثقة بالآخرين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438280" y="1600200"/>
            <a:ext cx="6400800" cy="4495680"/>
          </a:xfrm>
          <a:prstGeom prst="rect">
            <a:avLst/>
          </a:prstGeom>
          <a:noFill/>
          <a:ln w="0">
            <a:noFill/>
          </a:ln>
        </p:spPr>
        <p:txBody>
          <a:bodyPr anchor="t">
            <a:normAutofit fontScale="84000"/>
          </a:bodyPr>
          <a:p>
            <a:pPr marL="288000" indent="-2880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a:t>
            </a:r>
            <a:r>
              <a:rPr b="1" lang="ar-SA" sz="3200" spc="-1" strike="noStrike">
                <a:solidFill>
                  <a:srgbClr val="ff3300"/>
                </a:solidFill>
                <a:latin typeface="Arial"/>
              </a:rPr>
              <a:t>لتحقير: </a:t>
            </a:r>
            <a:r>
              <a:rPr b="1" lang="ar-SA" sz="3200" spc="-1" strike="noStrike">
                <a:solidFill>
                  <a:srgbClr val="000000"/>
                </a:solidFill>
                <a:latin typeface="Arial"/>
              </a:rPr>
              <a:t>ونعني به الاستهزاء بتصرفات الطفل وقدرته على الانجاز ويؤدي هذا الأسلوب الى انخفاض في مفهوم الذات وضعف الولاء للأسرة والشعور بالإحباط .</a:t>
            </a:r>
            <a:endParaRPr b="0" lang="en-US" sz="3200" spc="-1" strike="noStrike">
              <a:solidFill>
                <a:srgbClr val="000000"/>
              </a:solidFill>
              <a:latin typeface="Arial"/>
            </a:endParaRPr>
          </a:p>
          <a:p>
            <a:pPr marL="288000" indent="-2880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تسلط :</a:t>
            </a:r>
            <a:r>
              <a:rPr b="1" lang="ar-SA" sz="3200" spc="-1" strike="noStrike">
                <a:solidFill>
                  <a:srgbClr val="000000"/>
                </a:solidFill>
                <a:latin typeface="Arial"/>
              </a:rPr>
              <a:t>ونعني به كبح إرادة الطفل من قبل الوالدين حيث يتم  تقييم سلوكه وفق معايير مطلقة مستغلين السلطة  في فرض الرأي وإجباره على التصرف بما يرضي رغبتهم بصرف النظر عن رغبة الطفل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c0039"/>
                </a:solidFill>
                <a:uFillTx/>
                <a:latin typeface="Arial"/>
              </a:rPr>
              <a:t>المدرسة :</a:t>
            </a: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جال المدرسي هو المجال التربوي المقصود الذي تحدث فيه الظواهر التربوية التعليمية وهو بالتالي مجال نفسي اجتماعي حيث تحدث جميع الظواهر في وقت واحد بالنسبة لفرد أو مجموعة من الأفراد .</a:t>
            </a:r>
            <a:endParaRPr b="0" lang="en-US" sz="2800" spc="-1" strike="noStrike">
              <a:solidFill>
                <a:srgbClr val="000000"/>
              </a:solidFill>
              <a:latin typeface="Arial"/>
            </a:endParaRPr>
          </a:p>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عتبر المدرسة أول مجتمع يواجهه الطفل بعيداً عن أسرته . </a:t>
            </a:r>
            <a:endParaRPr b="0" lang="en-US" sz="2800" spc="-1" strike="noStrike">
              <a:solidFill>
                <a:srgbClr val="000000"/>
              </a:solidFill>
              <a:latin typeface="Arial"/>
            </a:endParaRPr>
          </a:p>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لمدرسة وظيفة اجتماعية هامة فهي تيسر لأطفال المجتمع القيم والمعايير بحيث تدربهم على السلوك الذي يرتضيه عموما في المواقف والمناسبات</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21:05:05Z</dcterms:created>
  <dc:creator>Hala</dc:creator>
  <dc:description/>
  <dc:language>en-US</dc:language>
  <cp:lastModifiedBy>Hala</cp:lastModifiedBy>
  <dcterms:modified xsi:type="dcterms:W3CDTF">2016-12-03T19:31:00Z</dcterms:modified>
  <cp:revision>1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