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57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6.png" ContentType="image/png"/>
  <Override PartName="/ppt/media/image3.png" ContentType="image/png"/>
  <Override PartName="/ppt/media/image25.png" ContentType="image/png"/>
  <Override PartName="/ppt/media/image42.jpeg" ContentType="image/jpeg"/>
  <Override PartName="/ppt/media/image4.jpeg" ContentType="image/jpeg"/>
  <Override PartName="/ppt/media/image40.png" ContentType="image/png"/>
  <Override PartName="/ppt/media/image6.png" ContentType="image/png"/>
  <Override PartName="/ppt/media/image38.jpeg" ContentType="image/jpeg"/>
  <Override PartName="/ppt/media/image37.jpeg" ContentType="image/jpeg"/>
  <Override PartName="/ppt/media/image50.jpeg" ContentType="image/jpeg"/>
  <Override PartName="/ppt/media/image13.png" ContentType="image/png"/>
  <Override PartName="/ppt/media/image46.jpeg" ContentType="image/jpeg"/>
  <Override PartName="/ppt/media/image55.png" ContentType="image/png"/>
  <Override PartName="/ppt/media/image45.jpeg" ContentType="image/jpeg"/>
  <Override PartName="/ppt/media/image54.png" ContentType="image/png"/>
  <Override PartName="/ppt/media/image41.jpeg" ContentType="image/jpeg"/>
  <Override PartName="/ppt/media/image44.png" ContentType="image/png"/>
  <Override PartName="/ppt/media/image47.png" ContentType="image/png"/>
  <Override PartName="/ppt/media/image53.jpeg" ContentType="image/jpeg"/>
  <Override PartName="/ppt/media/image32.png" ContentType="image/png"/>
  <Override PartName="/ppt/media/image34.jpeg" ContentType="image/jpeg"/>
  <Override PartName="/ppt/media/image7.png" ContentType="image/png"/>
  <Override PartName="/ppt/media/image56.png" ContentType="image/png"/>
  <Override PartName="/ppt/media/image31.jpeg" ContentType="image/jpeg"/>
  <Override PartName="/ppt/media/image30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52.jpeg" ContentType="image/jpeg"/>
  <Override PartName="/ppt/media/image8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48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7BB-2C43-468C-8551-82C8AFF0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ACE-67B5-4052-98F0-D318B7FC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EFA-6E71-484E-887E-68B82098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E75-48D7-4D4F-A8F7-413ED726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6D99-101D-4741-B417-433FFB27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11F7-3B79-42D0-B356-41774F56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9D44-DE79-4E23-A7A7-D2A12748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F7B2-3726-4D3A-8B2E-000BF3AF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4829-AFFE-4E58-82CC-BDD19A3B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FCB7-C5E4-4AB7-A264-9E39A072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EB2C-789A-4FD3-B94E-160FA487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8FD-3BC1-4FAE-ABDB-EA3FB464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1A8B-992B-49C3-B47F-6350D43D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DA08-69A2-42DF-B1B9-D87D0CFD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5D23-E73A-47CF-9CEC-395DCE27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AA7D-15BA-4605-A44E-3B2CF61C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51EA-DA99-4255-879C-B3221748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BA48-B650-431F-AABA-0BF637FD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FDA5E-22E6-4D89-988E-9264AE08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E35A-4C10-4AFD-89AD-E2D797AF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4233-08D0-4A55-B84A-D4A09B51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19726-0F2A-43E9-93E1-FFAB73A1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AE4-FCCD-4C17-9841-C362B759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F78B-F142-46A2-A951-33ACD28F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99994-C6EE-4976-A165-D73718D6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267FE-D98C-4A97-9F0A-B87271BC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3C43F-8BB5-4DB8-97B9-33CBF6A0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EF397-EAFC-47E3-AC42-A6470E90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FD73-DCD6-42CA-9F4D-C7354C4B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5407A-9C56-4900-9F97-782AD465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2404E-E94D-4DC2-B58B-C88F11E5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49A8C-D423-450F-8D53-E1947720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E3905-7342-4823-A7AB-3E257AA8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53D-A950-41ED-A8CB-3BB124C8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9CA5C-9B12-44DB-B4FC-6F4B71FE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0B8A0-5959-43F7-9FA1-6BE0BF8D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44B6D-05E8-438A-97F4-3333B97D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5AC80-537D-4DE4-B9A5-B9F33476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24051-752E-40E5-B09D-B527264E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14E3A-4E79-4F05-AD0A-98F96816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FF7B0-1FB8-4E33-8055-9B45201C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7F149-BA81-43C8-8FF8-363A9B1B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F25FF-C184-4ECF-8316-F838ACA5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A7A31-1761-4505-A30C-D87B1A12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DC1-F139-4801-A5C2-1B423850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915D3-8A50-42D0-A893-4376F615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C4260-BCD9-40AC-850F-1C36287A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9B5B4-E6FF-4FBC-AD7A-72D6F193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F7389-71BB-405F-8676-BF8E33EA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77D98-1E4C-4B23-82F5-74C85B5E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FDDD4-0673-4E8A-BD40-FB15DD29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13DA9-E725-468C-BCFC-68682921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52CA4-1797-4358-BA4B-5092D203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CF6ED-7B94-454F-A35D-E16569B1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2FBEC-DBCE-448E-90B8-416C292B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044-294B-43EF-9EBA-D9AC4710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D1F77-C980-470D-91EE-D480E359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0229E-235E-44E8-9B06-84189943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AAC54-8B1C-432C-A1CA-1CC94F6C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3FFC9-454F-4612-8BCF-4633BBEA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D2288-5252-460A-BF3C-1E525967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85880-19CA-4C84-8CE5-6CAF2B19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9593F-0EE7-48F5-8BBA-2072AAC0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EEA55-E732-46E7-B86F-C937BE2D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3AB63-25F4-4710-A6D5-C3103D6A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1B1D6-A780-4257-ACAB-A5DE3639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173-F648-43E5-ABA8-FDDC1A8A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99C94-C22E-4EE2-A27D-DD361E55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36CC1-1DAE-4467-AC87-761C18A9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2B31B-E785-4533-B8AC-FD32087C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6024F-81C0-4ACD-A55F-9DA13822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479D8-3C22-4AD4-8E47-8E370D12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58CD5-9D0D-49CF-BE92-30BFB04F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F2713-9C0C-48AD-94F5-0E3BFE16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417F5-08A2-4FA7-A145-1BE8F609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4071D-DDD8-416F-B8C6-8E0B5973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7A91D-6562-480E-913F-CF606DC6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3F3-C696-425B-BBC2-40ABCA0E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E5BB3-540A-4103-A7BD-2C78B5C5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2FAD7-F609-42BC-93B2-F3297D7E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3CF09-7AB8-4038-BAC8-E9D41485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B4ABD-4B9E-43F8-BB3C-8DD72022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85003-17BB-4EC2-9B9F-99EAB09E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3F44C-285F-44C3-AE8C-5C7B677B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98EBE-5636-4648-90A3-F20A6C90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70943-B418-4154-87E2-DB63B9BA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1728E-608C-44DB-8D7F-231BECB0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7D511-8D87-42A6-B81B-70E815F9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4C7-4804-4706-A87A-859F3336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26DE6-0584-4F59-A781-0540BCF3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E8ADF-F0CA-4F24-A43B-01207C7E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DDEEE-078E-4088-9D0B-9D4445CD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E57A0-3B12-462A-A439-20FE868B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9705E-4165-4AD6-94C0-DA032D8C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FA48C-62F7-4723-84BA-F0330FB1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24017-ABF8-4264-86CC-307455D7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32D8-6F71-42F2-9FB7-1FAE2FD5664D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8F47-E991-4C7F-926E-9A9AB573BFE4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0E6A-7B27-45AA-AEF7-034AA9A16F23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17C0-0382-4B59-A6DF-1BED8FAB580A}" type="slidenum">
              <a:rPr b="0" lang="ar-SA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B82C-354F-4FD7-9806-50BEB9FFF227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215F-52B8-4601-9F6F-6A087524DB9A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0870-9FD6-4BF9-BFE6-4930BAC1E4D0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309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876C-9B9E-412A-9A53-8B8297866D31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" Target="slide4.xml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2" descr=""/>
          <p:cNvPicPr/>
          <p:nvPr/>
        </p:nvPicPr>
        <p:blipFill>
          <a:blip r:embed="rId1"/>
          <a:stretch/>
        </p:blipFill>
        <p:spPr>
          <a:xfrm>
            <a:off x="5072040" y="0"/>
            <a:ext cx="3747960" cy="24382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143320" y="2857320"/>
            <a:ext cx="34290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54" name="Picture Placeholder 7" descr="computer"/>
          <p:cNvPicPr/>
          <p:nvPr/>
        </p:nvPicPr>
        <p:blipFill>
          <a:blip r:embed="rId2"/>
          <a:stretch/>
        </p:blipFill>
        <p:spPr>
          <a:xfrm>
            <a:off x="549360" y="933480"/>
            <a:ext cx="44370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"/>
          <p:cNvSpPr/>
          <p:nvPr/>
        </p:nvSpPr>
        <p:spPr>
          <a:xfrm>
            <a:off x="1602000" y="1571760"/>
            <a:ext cx="654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وتقاس سرعة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وحدة 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المعالجة </a:t>
            </a: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بالهيرتز أو مضاعفاته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TextBox 2"/>
          <p:cNvSpPr/>
          <p:nvPr/>
        </p:nvSpPr>
        <p:spPr>
          <a:xfrm>
            <a:off x="4594320" y="2670120"/>
            <a:ext cx="35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كيلو هيرتز = 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1000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 هيرتز</a:t>
            </a: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4497120" y="345600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ميجا هيرتز = مليون هيرتز</a:t>
            </a: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4453920" y="4384800"/>
            <a:ext cx="34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جيجا هيرتز = بليون هيرتز</a:t>
            </a: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82296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23" name="Diagram 7" descr=""/>
          <p:cNvPicPr/>
          <p:nvPr/>
        </p:nvPicPr>
        <p:blipFill>
          <a:blip r:embed="rId2"/>
          <a:stretch/>
        </p:blipFill>
        <p:spPr>
          <a:xfrm>
            <a:off x="457200" y="1560600"/>
            <a:ext cx="8229600" cy="2309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1" descr="memory"/>
          <p:cNvPicPr/>
          <p:nvPr/>
        </p:nvPicPr>
        <p:blipFill>
          <a:blip r:embed="rId3"/>
          <a:stretch/>
        </p:blipFill>
        <p:spPr>
          <a:xfrm>
            <a:off x="324000" y="1773360"/>
            <a:ext cx="2222280" cy="1244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SWTBUG_ROM"/>
          <p:cNvPicPr/>
          <p:nvPr/>
        </p:nvPicPr>
        <p:blipFill>
          <a:blip r:embed="rId4"/>
          <a:stretch/>
        </p:blipFill>
        <p:spPr>
          <a:xfrm>
            <a:off x="6500880" y="1785960"/>
            <a:ext cx="1463760" cy="95076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13">
            <a:hlinkClick r:id="rId5" action="ppaction://hlinksldjump"/>
          </p:cNvPr>
          <p:cNvSpPr/>
          <p:nvPr/>
        </p:nvSpPr>
        <p:spPr>
          <a:xfrm>
            <a:off x="4140360" y="587700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15068" y="3837"/>
                </a:moveTo>
                <a:lnTo>
                  <a:pt x="17645" y="6448"/>
                </a:ln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lnTo>
                  <a:pt x="22031" y="10800"/>
                </a:lnTo>
                <a:lnTo>
                  <a:pt x="20378" y="10800"/>
                </a:lnTo>
                <a:lnTo>
                  <a:pt x="20378" y="17989"/>
                </a:lnTo>
                <a:lnTo>
                  <a:pt x="9759" y="17989"/>
                </a:lnTo>
                <a:lnTo>
                  <a:pt x="9759" y="10800"/>
                </a:lnTo>
                <a:lnTo>
                  <a:pt x="8105" y="10800"/>
                </a:lnTo>
                <a:close/>
              </a:path>
              <a:path fill="darkenLess" w="30137" h="21600">
                <a:moveTo>
                  <a:pt x="17645" y="6448"/>
                </a:move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close/>
              </a:path>
              <a:path fill="darkenLess" w="30137" h="21600">
                <a:moveTo>
                  <a:pt x="14146" y="14299"/>
                </a:moveTo>
                <a:lnTo>
                  <a:pt x="15991" y="14299"/>
                </a:lnTo>
                <a:lnTo>
                  <a:pt x="15991" y="17989"/>
                </a:lnTo>
                <a:lnTo>
                  <a:pt x="20378" y="17989"/>
                </a:lnTo>
                <a:lnTo>
                  <a:pt x="20378" y="10800"/>
                </a:lnTo>
                <a:lnTo>
                  <a:pt x="9759" y="10800"/>
                </a:lnTo>
                <a:lnTo>
                  <a:pt x="9759" y="17989"/>
                </a:lnTo>
                <a:lnTo>
                  <a:pt x="14146" y="17989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-214200" y="38574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 u="sng">
                <a:solidFill>
                  <a:srgbClr val="000000"/>
                </a:solidFill>
                <a:uFillTx/>
                <a:latin typeface="Trebuchet MS"/>
                <a:cs typeface="AL-Hor"/>
              </a:rPr>
              <a:t>ذاكرة الوصول العشوائي:</a:t>
            </a:r>
            <a:r>
              <a:rPr b="1" lang="ar-SA" sz="33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1" lang="en-US" sz="2600" spc="-1" strike="noStrike" u="sng">
                <a:solidFill>
                  <a:srgbClr val="ac66bb"/>
                </a:solidFill>
                <a:uFillTx/>
                <a:latin typeface="Comic Sans MS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dom </a:t>
            </a:r>
            <a:r>
              <a:rPr b="1" lang="en-US" sz="2600" spc="-1" strike="noStrike" u="sng">
                <a:solidFill>
                  <a:srgbClr val="ac66bb"/>
                </a:solidFill>
                <a:uFillTx/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cess </a:t>
            </a:r>
            <a:r>
              <a:rPr b="1" lang="en-US" sz="2600" spc="-1" strike="noStrike" u="sng">
                <a:solidFill>
                  <a:srgbClr val="ac66bb"/>
                </a:solidFill>
                <a:uFillTx/>
                <a:latin typeface="Comic Sans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mory </a:t>
            </a:r>
            <a:br>
              <a:rPr sz="2600"/>
            </a:br>
            <a:r>
              <a:rPr b="0" lang="en-US" sz="2600" spc="-1" strike="noStrike" u="sng">
                <a:solidFill>
                  <a:srgbClr val="c00000"/>
                </a:solidFill>
                <a:uFillTx/>
                <a:latin typeface="Comic Sans MS"/>
              </a:rPr>
              <a:t>RA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AL-Hor"/>
              </a:rPr>
              <a:t>وهي التي تستخدم للاحتفاظ المؤقت بالبيانات أثناء تشغيل الجهاز زالعمل عليه وتفقد محتوياتها بمجرديقاف التشغيل أو ا نقظاع التيار الكهربائي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73080" y="-73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29" name="Left Arrow 23"/>
          <p:cNvSpPr/>
          <p:nvPr/>
        </p:nvSpPr>
        <p:spPr>
          <a:xfrm>
            <a:off x="5857920" y="3571920"/>
            <a:ext cx="1785960" cy="3571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Left Arrow 24"/>
          <p:cNvSpPr/>
          <p:nvPr/>
        </p:nvSpPr>
        <p:spPr>
          <a:xfrm>
            <a:off x="785880" y="3571920"/>
            <a:ext cx="1785960" cy="3571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31" name="Straight Arrow Connector 26"/>
          <p:cNvCxnSpPr/>
          <p:nvPr/>
        </p:nvCxnSpPr>
        <p:spPr>
          <a:xfrm flipH="1">
            <a:off x="5071680" y="1856880"/>
            <a:ext cx="572400" cy="71532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432" name="Straight Arrow Connector 28"/>
          <p:cNvCxnSpPr/>
          <p:nvPr/>
        </p:nvCxnSpPr>
        <p:spPr>
          <a:xfrm>
            <a:off x="3357720" y="1928880"/>
            <a:ext cx="357840" cy="71496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433" name="TextBox 31"/>
          <p:cNvSpPr/>
          <p:nvPr/>
        </p:nvSpPr>
        <p:spPr>
          <a:xfrm>
            <a:off x="6000840" y="278604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1+2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TextBox 32"/>
          <p:cNvSpPr/>
          <p:nvPr/>
        </p:nvSpPr>
        <p:spPr>
          <a:xfrm>
            <a:off x="5643720" y="40687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وحدات إدخال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TextBox 33"/>
          <p:cNvSpPr/>
          <p:nvPr/>
        </p:nvSpPr>
        <p:spPr>
          <a:xfrm>
            <a:off x="928800" y="285768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TextBox 34"/>
          <p:cNvSpPr/>
          <p:nvPr/>
        </p:nvSpPr>
        <p:spPr>
          <a:xfrm>
            <a:off x="285840" y="399744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وحدات إخراج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TextBox 35"/>
          <p:cNvSpPr/>
          <p:nvPr/>
        </p:nvSpPr>
        <p:spPr>
          <a:xfrm>
            <a:off x="5000760" y="135396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ذاكرة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RAM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TextBox 36"/>
          <p:cNvSpPr/>
          <p:nvPr/>
        </p:nvSpPr>
        <p:spPr>
          <a:xfrm>
            <a:off x="1744560" y="135720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عقل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TextBox 37"/>
          <p:cNvSpPr/>
          <p:nvPr/>
        </p:nvSpPr>
        <p:spPr>
          <a:xfrm>
            <a:off x="4643280" y="29289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1+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Straight Connector 29"/>
          <p:cNvSpPr/>
          <p:nvPr/>
        </p:nvSpPr>
        <p:spPr>
          <a:xfrm flipH="1">
            <a:off x="3285720" y="3571920"/>
            <a:ext cx="2428920" cy="144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41" name="Group 39"/>
          <p:cNvGrpSpPr/>
          <p:nvPr/>
        </p:nvGrpSpPr>
        <p:grpSpPr>
          <a:xfrm>
            <a:off x="3286080" y="2857680"/>
            <a:ext cx="2428920" cy="1428480"/>
            <a:chOff x="3286080" y="2857680"/>
            <a:chExt cx="2428920" cy="1428480"/>
          </a:xfrm>
        </p:grpSpPr>
        <p:sp>
          <p:nvSpPr>
            <p:cNvPr id="442" name="Rectangle 20"/>
            <p:cNvSpPr/>
            <p:nvPr/>
          </p:nvSpPr>
          <p:spPr>
            <a:xfrm>
              <a:off x="3286080" y="2857680"/>
              <a:ext cx="2428920" cy="1428480"/>
            </a:xfrm>
            <a:prstGeom prst="rect">
              <a:avLst/>
            </a:prstGeom>
            <a:noFill/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43" name="Straight Connector 25"/>
            <p:cNvSpPr/>
            <p:nvPr/>
          </p:nvSpPr>
          <p:spPr>
            <a:xfrm>
              <a:off x="4499640" y="2858400"/>
              <a:ext cx="1440" cy="714240"/>
            </a:xfrm>
            <a:prstGeom prst="line">
              <a:avLst/>
            </a:prstGeom>
            <a:ln w="1152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44" name="TextBox 38"/>
            <p:cNvSpPr/>
            <p:nvPr/>
          </p:nvSpPr>
          <p:spPr>
            <a:xfrm>
              <a:off x="3444480" y="3786120"/>
              <a:ext cx="21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rebuchet MS"/>
                </a:rPr>
                <a:t>جهـــاز الحاسب الآلي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transition spd="med"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46" name="Diagram 7" descr=""/>
          <p:cNvPicPr/>
          <p:nvPr/>
        </p:nvPicPr>
        <p:blipFill>
          <a:blip r:embed="rId2"/>
          <a:stretch/>
        </p:blipFill>
        <p:spPr>
          <a:xfrm>
            <a:off x="457200" y="1560600"/>
            <a:ext cx="8229600" cy="23097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1" descr="memory"/>
          <p:cNvPicPr/>
          <p:nvPr/>
        </p:nvPicPr>
        <p:blipFill>
          <a:blip r:embed="rId3"/>
          <a:stretch/>
        </p:blipFill>
        <p:spPr>
          <a:xfrm>
            <a:off x="324000" y="1773360"/>
            <a:ext cx="2222280" cy="124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2" descr="SWTBUG_ROM"/>
          <p:cNvPicPr/>
          <p:nvPr/>
        </p:nvPicPr>
        <p:blipFill>
          <a:blip r:embed="rId4"/>
          <a:stretch/>
        </p:blipFill>
        <p:spPr>
          <a:xfrm>
            <a:off x="6948360" y="1844640"/>
            <a:ext cx="1463760" cy="95112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13">
            <a:hlinkClick r:id="rId5" action="ppaction://hlinksldjump"/>
          </p:cNvPr>
          <p:cNvSpPr/>
          <p:nvPr/>
        </p:nvSpPr>
        <p:spPr>
          <a:xfrm>
            <a:off x="4140360" y="587700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15068" y="3837"/>
                </a:moveTo>
                <a:lnTo>
                  <a:pt x="17645" y="6448"/>
                </a:ln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lnTo>
                  <a:pt x="22031" y="10800"/>
                </a:lnTo>
                <a:lnTo>
                  <a:pt x="20378" y="10800"/>
                </a:lnTo>
                <a:lnTo>
                  <a:pt x="20378" y="17989"/>
                </a:lnTo>
                <a:lnTo>
                  <a:pt x="9759" y="17989"/>
                </a:lnTo>
                <a:lnTo>
                  <a:pt x="9759" y="10800"/>
                </a:lnTo>
                <a:lnTo>
                  <a:pt x="8105" y="10800"/>
                </a:lnTo>
                <a:close/>
              </a:path>
              <a:path fill="darkenLess" w="30137" h="21600">
                <a:moveTo>
                  <a:pt x="17645" y="6448"/>
                </a:move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close/>
              </a:path>
              <a:path fill="darkenLess" w="30137" h="21600">
                <a:moveTo>
                  <a:pt x="14146" y="14299"/>
                </a:moveTo>
                <a:lnTo>
                  <a:pt x="15991" y="14299"/>
                </a:lnTo>
                <a:lnTo>
                  <a:pt x="15991" y="17989"/>
                </a:lnTo>
                <a:lnTo>
                  <a:pt x="20378" y="17989"/>
                </a:lnTo>
                <a:lnTo>
                  <a:pt x="20378" y="10800"/>
                </a:lnTo>
                <a:lnTo>
                  <a:pt x="9759" y="10800"/>
                </a:lnTo>
                <a:lnTo>
                  <a:pt x="9759" y="17989"/>
                </a:lnTo>
                <a:lnTo>
                  <a:pt x="14146" y="17989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-214200" y="38574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Trebuchet MS"/>
                <a:cs typeface="AL-Hor"/>
              </a:rPr>
              <a:t>ذاكرة القراءة فقط </a:t>
            </a:r>
            <a:r>
              <a:rPr b="1" lang="en-US" sz="3000" spc="-1" strike="noStrike" u="sng">
                <a:solidFill>
                  <a:srgbClr val="ac66bb"/>
                </a:solidFill>
                <a:uFillTx/>
                <a:latin typeface="Comic Sans MS"/>
                <a:ea typeface="AL-Hor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AL-Hor"/>
              </a:rPr>
              <a:t>ead </a:t>
            </a:r>
            <a:r>
              <a:rPr b="1" lang="en-US" sz="3000" spc="-1" strike="noStrike" u="sng">
                <a:solidFill>
                  <a:srgbClr val="ac66bb"/>
                </a:solidFill>
                <a:uFillTx/>
                <a:latin typeface="Comic Sans MS"/>
                <a:ea typeface="AL-Hor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AL-Hor"/>
              </a:rPr>
              <a:t>nly </a:t>
            </a:r>
            <a:r>
              <a:rPr b="1" lang="en-US" sz="3000" spc="-1" strike="noStrike" u="sng">
                <a:solidFill>
                  <a:srgbClr val="ac66bb"/>
                </a:solidFill>
                <a:uFillTx/>
                <a:latin typeface="Comic Sans MS"/>
                <a:ea typeface="AL-Hor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AL-Hor"/>
              </a:rPr>
              <a:t>emory</a:t>
            </a:r>
            <a:r>
              <a:rPr b="0" lang="en-US" sz="3300" spc="-1" strike="noStrike">
                <a:solidFill>
                  <a:srgbClr val="000000"/>
                </a:solidFill>
                <a:latin typeface="Trebuchet MS"/>
                <a:ea typeface="AL-Hor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00000"/>
                </a:solidFill>
                <a:latin typeface="Comic Sans MS"/>
                <a:ea typeface="AL-Hor"/>
              </a:rPr>
              <a:t>  </a:t>
            </a:r>
            <a:r>
              <a:rPr b="0" lang="ar-SA" sz="3300" spc="-1" strike="noStrike">
                <a:solidFill>
                  <a:srgbClr val="c00000"/>
                </a:solidFill>
                <a:latin typeface="Comic Sans MS"/>
                <a:ea typeface="AL-Hor"/>
              </a:rPr>
              <a:t>                                           </a:t>
            </a:r>
            <a:r>
              <a:rPr b="0" lang="en-US" sz="3300" spc="-1" strike="noStrike" u="sng">
                <a:solidFill>
                  <a:srgbClr val="c00000"/>
                </a:solidFill>
                <a:uFillTx/>
                <a:latin typeface="Comic Sans MS"/>
                <a:ea typeface="AL-Hor"/>
              </a:rPr>
              <a:t>ROM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Trebuchet MS"/>
                <a:ea typeface="AL-Hor"/>
              </a:rPr>
              <a:t>   تحتفظ بالبيانات الأساسية التي يحتاجها الجهاز لبدء التشغيل ومعلومات عن الشركة المصنعة ولا تفقد محتوياتها عند يقاف التشغيل أو إنقظاع الكهرباء 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16426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0" y="73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0" y="414036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By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Left Arrow 5"/>
          <p:cNvSpPr/>
          <p:nvPr/>
        </p:nvSpPr>
        <p:spPr>
          <a:xfrm>
            <a:off x="5786280" y="2071800"/>
            <a:ext cx="1428840" cy="285480"/>
          </a:xfrm>
          <a:prstGeom prst="leftArrow">
            <a:avLst>
              <a:gd name="adj1" fmla="val 50000"/>
              <a:gd name="adj2" fmla="val 5005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478620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521496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Rectangle 10"/>
          <p:cNvSpPr/>
          <p:nvPr/>
        </p:nvSpPr>
        <p:spPr>
          <a:xfrm>
            <a:off x="4357800" y="2071800"/>
            <a:ext cx="42840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392904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350028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Rectangle 13"/>
          <p:cNvSpPr/>
          <p:nvPr/>
        </p:nvSpPr>
        <p:spPr>
          <a:xfrm>
            <a:off x="3071880" y="2071800"/>
            <a:ext cx="42840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Rectangle 14"/>
          <p:cNvSpPr/>
          <p:nvPr/>
        </p:nvSpPr>
        <p:spPr>
          <a:xfrm>
            <a:off x="264312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Rectangle 15"/>
          <p:cNvSpPr/>
          <p:nvPr/>
        </p:nvSpPr>
        <p:spPr>
          <a:xfrm>
            <a:off x="2214720" y="2071800"/>
            <a:ext cx="42840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63" name="Straight Arrow Connector 17"/>
          <p:cNvCxnSpPr/>
          <p:nvPr/>
        </p:nvCxnSpPr>
        <p:spPr>
          <a:xfrm flipH="1">
            <a:off x="3285360" y="2500200"/>
            <a:ext cx="1080" cy="57240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464" name="TextBox 19"/>
          <p:cNvSpPr/>
          <p:nvPr/>
        </p:nvSpPr>
        <p:spPr>
          <a:xfrm>
            <a:off x="2786040" y="2928960"/>
            <a:ext cx="10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Bi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Left Brace 20"/>
          <p:cNvSpPr/>
          <p:nvPr/>
        </p:nvSpPr>
        <p:spPr>
          <a:xfrm rot="16200000">
            <a:off x="3483000" y="1803240"/>
            <a:ext cx="1000080" cy="3679920"/>
          </a:xfrm>
          <a:custGeom>
            <a:avLst/>
            <a:gdLst>
              <a:gd name="textAreaLeft" fmla="*/ 639000 w 1000080"/>
              <a:gd name="textAreaRight" fmla="*/ 1000440 w 1000080"/>
              <a:gd name="textAreaTop" fmla="*/ 25920 h 3679920"/>
              <a:gd name="textAreaBottom" fmla="*/ 3654000 h 367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1"/>
          <p:cNvSpPr/>
          <p:nvPr/>
        </p:nvSpPr>
        <p:spPr>
          <a:xfrm>
            <a:off x="285840" y="1071720"/>
            <a:ext cx="735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أي بيانات ندخلها للحاسب يقوم  الحاسب بتحويلها إلى لغة الآلة المكونة من صفر و واحد فقط (نبضات كهربائية) تسمى بت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واحد يوجد كهرباء صفر لايوجد كهرباء ولتخزين حرف واحد أو رقم أو رمز نحتاج إلى 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8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 بت والثمانية بت تساوي بايت إذن لتخزين حرف واحد أو رقم أو رمز نحتاج إلى بايت واح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بت 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it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): نبضة كهربائية واحدة (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0/1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بايت 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yte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): 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8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 بت.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</a:rPr>
              <a:t> (حرف واحد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كيلو بايت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1000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بايت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ميجا بايت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</a:rPr>
              <a:t>مليون 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بايت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جيجا بايت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</a:rPr>
              <a:t>بليون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 بايت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مم 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ت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تكون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 الأجزاء المادية للحاسب الآلي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0" name="Diagram 3" descr=""/>
          <p:cNvPicPr/>
          <p:nvPr/>
        </p:nvPicPr>
        <p:blipFill>
          <a:blip r:embed="rId1"/>
          <a:stretch/>
        </p:blipFill>
        <p:spPr>
          <a:xfrm>
            <a:off x="407880" y="1359000"/>
            <a:ext cx="7755120" cy="39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4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barcode reader"/>
          <p:cNvPicPr/>
          <p:nvPr/>
        </p:nvPicPr>
        <p:blipFill>
          <a:blip r:embed="rId2"/>
          <a:stretch/>
        </p:blipFill>
        <p:spPr>
          <a:xfrm>
            <a:off x="5375160" y="1600200"/>
            <a:ext cx="2589480" cy="21812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0" descr="keyboard"/>
          <p:cNvPicPr/>
          <p:nvPr/>
        </p:nvPicPr>
        <p:blipFill>
          <a:blip r:embed="rId3"/>
          <a:stretch/>
        </p:blipFill>
        <p:spPr>
          <a:xfrm>
            <a:off x="457200" y="1892160"/>
            <a:ext cx="4033800" cy="15973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2" descr="touch screen"/>
          <p:cNvPicPr/>
          <p:nvPr/>
        </p:nvPicPr>
        <p:blipFill>
          <a:blip r:embed="rId4"/>
          <a:stretch/>
        </p:blipFill>
        <p:spPr>
          <a:xfrm>
            <a:off x="1082520" y="3949560"/>
            <a:ext cx="2783160" cy="21812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7" descr="light pen1"/>
          <p:cNvPicPr/>
          <p:nvPr/>
        </p:nvPicPr>
        <p:blipFill>
          <a:blip r:embed="rId5"/>
          <a:stretch/>
        </p:blipFill>
        <p:spPr>
          <a:xfrm>
            <a:off x="5661000" y="3949560"/>
            <a:ext cx="2017800" cy="2181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" descr="mouse"/>
          <p:cNvPicPr/>
          <p:nvPr/>
        </p:nvPicPr>
        <p:blipFill>
          <a:blip r:embed="rId2"/>
          <a:stretch/>
        </p:blipFill>
        <p:spPr>
          <a:xfrm>
            <a:off x="4695840" y="1600200"/>
            <a:ext cx="3944880" cy="21812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microphone"/>
          <p:cNvPicPr/>
          <p:nvPr/>
        </p:nvPicPr>
        <p:blipFill>
          <a:blip r:embed="rId3"/>
          <a:stretch/>
        </p:blipFill>
        <p:spPr>
          <a:xfrm>
            <a:off x="5865840" y="3949560"/>
            <a:ext cx="1608120" cy="21812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" descr="logitechFreedomJoystickWirelesss"/>
          <p:cNvPicPr/>
          <p:nvPr/>
        </p:nvPicPr>
        <p:blipFill>
          <a:blip r:embed="rId4"/>
          <a:stretch/>
        </p:blipFill>
        <p:spPr>
          <a:xfrm>
            <a:off x="1425600" y="1600200"/>
            <a:ext cx="2097000" cy="21812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PC_Web_Camera__350_000_pels_"/>
          <p:cNvPicPr/>
          <p:nvPr/>
        </p:nvPicPr>
        <p:blipFill>
          <a:blip r:embed="rId5"/>
          <a:stretch/>
        </p:blipFill>
        <p:spPr>
          <a:xfrm>
            <a:off x="1425600" y="3949560"/>
            <a:ext cx="2097000" cy="218124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9">
            <a:hlinkClick r:id="rId6" action="ppaction://hlinksldjump"/>
          </p:cNvPr>
          <p:cNvSpPr/>
          <p:nvPr/>
        </p:nvSpPr>
        <p:spPr>
          <a:xfrm>
            <a:off x="4140360" y="587700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15068" y="3837"/>
                </a:moveTo>
                <a:lnTo>
                  <a:pt x="17645" y="6448"/>
                </a:ln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lnTo>
                  <a:pt x="22031" y="10800"/>
                </a:lnTo>
                <a:lnTo>
                  <a:pt x="20378" y="10800"/>
                </a:lnTo>
                <a:lnTo>
                  <a:pt x="20378" y="17989"/>
                </a:lnTo>
                <a:lnTo>
                  <a:pt x="9759" y="17989"/>
                </a:lnTo>
                <a:lnTo>
                  <a:pt x="9759" y="10800"/>
                </a:lnTo>
                <a:lnTo>
                  <a:pt x="8105" y="10800"/>
                </a:lnTo>
                <a:close/>
              </a:path>
              <a:path fill="darkenLess" w="30137" h="21600">
                <a:moveTo>
                  <a:pt x="17645" y="6448"/>
                </a:move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close/>
              </a:path>
              <a:path fill="darkenLess" w="30137" h="21600">
                <a:moveTo>
                  <a:pt x="14146" y="14299"/>
                </a:moveTo>
                <a:lnTo>
                  <a:pt x="15991" y="14299"/>
                </a:lnTo>
                <a:lnTo>
                  <a:pt x="15991" y="17989"/>
                </a:lnTo>
                <a:lnTo>
                  <a:pt x="20378" y="17989"/>
                </a:lnTo>
                <a:lnTo>
                  <a:pt x="20378" y="10800"/>
                </a:lnTo>
                <a:lnTo>
                  <a:pt x="9759" y="10800"/>
                </a:lnTo>
                <a:lnTo>
                  <a:pt x="9759" y="17989"/>
                </a:lnTo>
                <a:lnTo>
                  <a:pt x="14146" y="17989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7"/>
          <p:cNvSpPr/>
          <p:nvPr/>
        </p:nvSpPr>
        <p:spPr>
          <a:xfrm>
            <a:off x="673200" y="642960"/>
            <a:ext cx="71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ندخل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إلى الحاسب الآلي درجات الطالبات الفصلية والنهائية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ويخرج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المجموع والتقدير ويقوم ب</a:t>
            </a: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تخزين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النتائج للرجوع لها عند الحاجة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387360" y="1500120"/>
            <a:ext cx="739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ندخل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إلى الحاسب الآلي  في آلة الصراف البطاقة والرقم السري فيقوم ب</a:t>
            </a: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إخراج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المبلغ الموجود في الحساب وآخر العمليات التي قمتي بها و</a:t>
            </a: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يخزن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هذه المعلومات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TextBox 9"/>
          <p:cNvSpPr/>
          <p:nvPr/>
        </p:nvSpPr>
        <p:spPr>
          <a:xfrm>
            <a:off x="438120" y="2500200"/>
            <a:ext cx="73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ندخل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إلى الحاسب الآلي صورة ونقوم بتعديل الألوان </a:t>
            </a: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فيخرج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لنا الحاسب الصورة بعد تعديلها </a:t>
            </a:r>
            <a:r>
              <a:rPr b="0" lang="ar-SA" sz="1800" spc="-1" strike="noStrike">
                <a:solidFill>
                  <a:srgbClr val="8a2e4e"/>
                </a:solidFill>
                <a:latin typeface="Trebuchet MS"/>
              </a:rPr>
              <a:t>ويخزنها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TextBox 4"/>
          <p:cNvSpPr/>
          <p:nvPr/>
        </p:nvSpPr>
        <p:spPr>
          <a:xfrm>
            <a:off x="500040" y="3643200"/>
            <a:ext cx="739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Clr>
                <a:srgbClr val="8a2e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a2e4e"/>
                </a:solidFill>
                <a:latin typeface="Trebuchet MS"/>
              </a:rPr>
              <a:t>الإدخال(ندخل بيانات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lnSpc>
                <a:spcPct val="150000"/>
              </a:lnSpc>
              <a:buClr>
                <a:srgbClr val="8a2e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a2e4e"/>
                </a:solidFill>
                <a:latin typeface="Trebuchet MS"/>
              </a:rPr>
              <a:t>المعالجة أو التحليل بناء على تعليمات البرنامج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lnSpc>
                <a:spcPct val="150000"/>
              </a:lnSpc>
              <a:buClr>
                <a:srgbClr val="8a2e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a2e4e"/>
                </a:solidFill>
                <a:latin typeface="Trebuchet MS"/>
              </a:rPr>
              <a:t>الإخراج (تخرج معلومات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lnSpc>
                <a:spcPct val="150000"/>
              </a:lnSpc>
              <a:buClr>
                <a:srgbClr val="8a2e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a2e4e"/>
                </a:solidFill>
                <a:latin typeface="Trebuchet MS"/>
              </a:rPr>
              <a:t>التخزين 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2498760" y="2859120"/>
            <a:ext cx="62848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" descr="combimouse-strange-computer-keyboard%5B5%5D"/>
          <p:cNvPicPr/>
          <p:nvPr/>
        </p:nvPicPr>
        <p:blipFill>
          <a:blip r:embed="rId1"/>
          <a:stretch/>
        </p:blipFill>
        <p:spPr>
          <a:xfrm>
            <a:off x="785880" y="2571840"/>
            <a:ext cx="3564000" cy="28270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EPSON-4180-SCANNER-01"/>
          <p:cNvPicPr/>
          <p:nvPr/>
        </p:nvPicPr>
        <p:blipFill>
          <a:blip r:embed="rId2"/>
          <a:stretch/>
        </p:blipFill>
        <p:spPr>
          <a:xfrm>
            <a:off x="4929120" y="2571840"/>
            <a:ext cx="3241800" cy="285264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7"/>
          <p:cNvSpPr/>
          <p:nvPr/>
        </p:nvSpPr>
        <p:spPr>
          <a:xfrm>
            <a:off x="928800" y="71424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c66bb"/>
                </a:solidFill>
                <a:latin typeface="Trebuchet MS"/>
                <a:cs typeface="AL-Hor"/>
              </a:rPr>
              <a:t>وحدات الإدخال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-428760" y="1500120"/>
            <a:ext cx="8568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ac66bb"/>
                </a:solidFill>
                <a:latin typeface="Trebuchet MS"/>
                <a:cs typeface="AL-Hor"/>
              </a:rPr>
              <a:t>وحدات الإدخال </a:t>
            </a:r>
            <a:r>
              <a:rPr b="0" lang="en-US" sz="3600" spc="-1" strike="noStrike">
                <a:solidFill>
                  <a:srgbClr val="ac66bb"/>
                </a:solidFill>
                <a:latin typeface="Comic Sans MS"/>
                <a:ea typeface="AL-Hor"/>
              </a:rPr>
              <a:t>Input Device</a:t>
            </a:r>
            <a:r>
              <a:rPr b="0" lang="ar-SA" sz="3600" spc="-1" strike="noStrike">
                <a:solidFill>
                  <a:srgbClr val="ac66bb"/>
                </a:solidFill>
                <a:latin typeface="Trebuchet MS"/>
                <a:ea typeface="AL-Hor"/>
              </a:rPr>
              <a:t> :</a:t>
            </a:r>
            <a:br>
              <a:rPr sz="3600"/>
            </a:br>
            <a:r>
              <a:rPr b="0" lang="ar-SA" sz="3600" spc="-1" strike="noStrike">
                <a:solidFill>
                  <a:srgbClr val="ac66bb"/>
                </a:solidFill>
                <a:latin typeface="Trebuchet MS"/>
                <a:ea typeface="AL-Hor"/>
              </a:rPr>
              <a:t>*</a:t>
            </a:r>
            <a:r>
              <a:rPr b="0" lang="ar-SA" sz="3600" spc="-1" strike="noStrike">
                <a:solidFill>
                  <a:srgbClr val="404040"/>
                </a:solidFill>
                <a:latin typeface="Trebuchet MS"/>
                <a:ea typeface="AL-Hor"/>
              </a:rPr>
              <a:t> تستخدم لنقل المعلومات (البيانات) من العالم الخارجي الى الحاسب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  <a:cs typeface="AL-Hor"/>
              </a:rPr>
              <a:t>لوحة المفاتيح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Keyboard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  <a:cs typeface="AL-Hor"/>
              </a:rPr>
              <a:t>الفأره وشاشة اللمس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Mice &amp; Touch scree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  <a:cs typeface="AL-Hor"/>
              </a:rPr>
              <a:t>المواسح الضوئية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Scanner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  <a:cs typeface="AL-Hor"/>
              </a:rPr>
              <a:t>الكاميرا والميكروفون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  <a:cs typeface="AL-Hor"/>
              </a:rPr>
              <a:t>قارئ الرموز الخطية(يستخدم في المحلات التجارية 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  <a:cs typeface="AL-Hor"/>
              </a:rPr>
              <a:t>القلم الضوئي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6" name="Rectangle 4" descr=""/>
          <p:cNvPicPr/>
          <p:nvPr/>
        </p:nvPicPr>
        <p:blipFill>
          <a:blip r:embed="rId1"/>
          <a:stretch/>
        </p:blipFill>
        <p:spPr>
          <a:xfrm>
            <a:off x="500040" y="360360"/>
            <a:ext cx="8229600" cy="1139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dotmatrix printer"/>
          <p:cNvPicPr/>
          <p:nvPr/>
        </p:nvPicPr>
        <p:blipFill>
          <a:blip r:embed="rId2"/>
          <a:stretch/>
        </p:blipFill>
        <p:spPr>
          <a:xfrm>
            <a:off x="1071720" y="2071800"/>
            <a:ext cx="1650960" cy="21826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inkjet printer"/>
          <p:cNvPicPr/>
          <p:nvPr/>
        </p:nvPicPr>
        <p:blipFill>
          <a:blip r:embed="rId3"/>
          <a:stretch/>
        </p:blipFill>
        <p:spPr>
          <a:xfrm>
            <a:off x="3429000" y="2214720"/>
            <a:ext cx="1770120" cy="2181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0" descr="laser printer"/>
          <p:cNvPicPr/>
          <p:nvPr/>
        </p:nvPicPr>
        <p:blipFill>
          <a:blip r:embed="rId4"/>
          <a:stretch/>
        </p:blipFill>
        <p:spPr>
          <a:xfrm>
            <a:off x="5715000" y="2214720"/>
            <a:ext cx="1649520" cy="2181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0" descr="data show"/>
          <p:cNvPicPr/>
          <p:nvPr/>
        </p:nvPicPr>
        <p:blipFill>
          <a:blip r:embed="rId2"/>
          <a:stretch/>
        </p:blipFill>
        <p:spPr>
          <a:xfrm>
            <a:off x="538200" y="2286000"/>
            <a:ext cx="3871800" cy="31575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" descr="speaker"/>
          <p:cNvPicPr/>
          <p:nvPr/>
        </p:nvPicPr>
        <p:blipFill>
          <a:blip r:embed="rId3"/>
          <a:stretch/>
        </p:blipFill>
        <p:spPr>
          <a:xfrm>
            <a:off x="4572000" y="2016000"/>
            <a:ext cx="3681360" cy="36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-36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ac66bb"/>
                </a:solidFill>
                <a:latin typeface="Trebuchet MS"/>
                <a:cs typeface="AL-Hor"/>
              </a:rPr>
              <a:t>وحدات الاخراج</a:t>
            </a:r>
            <a:r>
              <a:rPr b="0" lang="ar-SA" sz="3600" spc="-1" strike="noStrike">
                <a:solidFill>
                  <a:srgbClr val="ac66bb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ac66bb"/>
                </a:solidFill>
                <a:latin typeface="Comic Sans MS"/>
              </a:rPr>
              <a:t>Output Device</a:t>
            </a:r>
            <a:r>
              <a:rPr b="0" lang="en-US" sz="3600" spc="-1" strike="noStrike">
                <a:solidFill>
                  <a:srgbClr val="ac66bb"/>
                </a:solidFill>
                <a:latin typeface="Trebuchet MS"/>
              </a:rPr>
              <a:t> </a:t>
            </a:r>
            <a:r>
              <a:rPr b="0" lang="ar-SA" sz="3600" spc="-1" strike="noStrike">
                <a:solidFill>
                  <a:srgbClr val="ac66bb"/>
                </a:solidFill>
                <a:latin typeface="Trebuchet MS"/>
              </a:rPr>
              <a:t>:</a:t>
            </a:r>
            <a:br>
              <a:rPr sz="3600"/>
            </a:br>
            <a:r>
              <a:rPr b="0" lang="ar-SA" sz="3600" spc="-1" strike="noStrike">
                <a:solidFill>
                  <a:srgbClr val="ac66bb"/>
                </a:solidFill>
                <a:latin typeface="Trebuchet MS"/>
                <a:ea typeface="AL-Hor"/>
              </a:rPr>
              <a:t> *</a:t>
            </a:r>
            <a:r>
              <a:rPr b="0" lang="ar-SA" sz="3600" spc="-1" strike="noStrike">
                <a:solidFill>
                  <a:srgbClr val="ac66bb"/>
                </a:solidFill>
                <a:latin typeface="Trebuchet MS"/>
              </a:rPr>
              <a:t> </a:t>
            </a:r>
            <a:r>
              <a:rPr b="0" lang="ar-SA" sz="3600" spc="-1" strike="noStrike">
                <a:solidFill>
                  <a:srgbClr val="404040"/>
                </a:solidFill>
                <a:latin typeface="Trebuchet MS"/>
                <a:ea typeface="AL-Hor"/>
              </a:rPr>
              <a:t> تستخدم لنقل المعلومات (البيانات) من الحاسب الى العالم الخارجي 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ebuchet MS"/>
                <a:cs typeface="AL-Hor"/>
              </a:rPr>
              <a:t>الطابعة</a:t>
            </a:r>
            <a:r>
              <a:rPr b="0" lang="ar-SA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inter</a:t>
            </a:r>
            <a:r>
              <a:rPr b="0" lang="ar-SA" sz="40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ebuchet MS"/>
                <a:cs typeface="AL-Hor"/>
              </a:rPr>
              <a:t>السماعات 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ebuchet MS"/>
                <a:cs typeface="AL-Hor"/>
              </a:rPr>
              <a:t>الشاشة 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مم 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ت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تكون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 الأجزاء المادية للحاسب الآلي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7" name="Diagram 3" descr=""/>
          <p:cNvPicPr/>
          <p:nvPr/>
        </p:nvPicPr>
        <p:blipFill>
          <a:blip r:embed="rId1"/>
          <a:stretch/>
        </p:blipFill>
        <p:spPr>
          <a:xfrm>
            <a:off x="401760" y="1000080"/>
            <a:ext cx="776736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مم 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ت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تكون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 الأجزاء المادية للحاسب الآلي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9" name="Diagram 3" descr=""/>
          <p:cNvPicPr/>
          <p:nvPr/>
        </p:nvPicPr>
        <p:blipFill>
          <a:blip r:embed="rId1"/>
          <a:stretch/>
        </p:blipFill>
        <p:spPr>
          <a:xfrm>
            <a:off x="291960" y="1000080"/>
            <a:ext cx="787716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ac66bb"/>
                </a:solidFill>
                <a:latin typeface="Trebuchet MS"/>
                <a:cs typeface="AL-Hor"/>
              </a:rPr>
              <a:t>وحدات التخزين </a:t>
            </a:r>
            <a:r>
              <a:rPr b="0" lang="en-US" sz="3600" spc="-1" strike="noStrike">
                <a:solidFill>
                  <a:srgbClr val="ac66bb"/>
                </a:solidFill>
                <a:latin typeface="Comic Sans MS"/>
                <a:ea typeface="AL-Hor"/>
              </a:rPr>
              <a:t>Disks</a:t>
            </a:r>
            <a:r>
              <a:rPr b="0" lang="en-US" sz="3600" spc="-1" strike="noStrike">
                <a:solidFill>
                  <a:srgbClr val="ac66bb"/>
                </a:solidFill>
                <a:latin typeface="Trebuchet MS"/>
                <a:ea typeface="AL-Hor"/>
              </a:rPr>
              <a:t> </a:t>
            </a:r>
            <a:r>
              <a:rPr b="0" lang="ar-SA" sz="3600" spc="-1" strike="noStrike">
                <a:solidFill>
                  <a:srgbClr val="ac66bb"/>
                </a:solidFill>
                <a:latin typeface="Trebuchet MS"/>
                <a:ea typeface="AL-Hor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  <a:cs typeface="AL-Hor"/>
              </a:rPr>
              <a:t>القرص الصلب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Hard Disk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 - داخلي , خارجي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L-Hor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L-Ho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L-Hor"/>
              </a:rPr>
              <a:t>GB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L-Hor"/>
              </a:rPr>
              <a:t> 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L-Hor"/>
              </a:rPr>
              <a:t>80 GB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L-Hor"/>
              </a:rPr>
              <a:t> 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L-Hor"/>
              </a:rPr>
              <a:t>120GB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714240" y="500040"/>
            <a:ext cx="7481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Trebuchet MS"/>
                <a:cs typeface="AL-Hor"/>
              </a:rPr>
              <a:t>الأقراص الصلبة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  <a:ea typeface="AL-Hor"/>
              </a:rPr>
              <a:t>Hard</a:t>
            </a:r>
            <a:r>
              <a:rPr b="0" lang="en-US" sz="4800" spc="-1" strike="noStrike">
                <a:solidFill>
                  <a:srgbClr val="c00000"/>
                </a:solidFill>
                <a:latin typeface="Trebuchet MS"/>
                <a:ea typeface="AL-Hor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Comic Sans MS"/>
                <a:ea typeface="AL-Hor"/>
              </a:rPr>
              <a:t>Disk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03" name="Picture 9" descr="b116955"/>
          <p:cNvPicPr/>
          <p:nvPr/>
        </p:nvPicPr>
        <p:blipFill>
          <a:blip r:embed="rId1"/>
          <a:stretch/>
        </p:blipFill>
        <p:spPr>
          <a:xfrm>
            <a:off x="571680" y="2643120"/>
            <a:ext cx="4103640" cy="24494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0" descr="ToshibaExternalHardDisk"/>
          <p:cNvPicPr/>
          <p:nvPr/>
        </p:nvPicPr>
        <p:blipFill>
          <a:blip r:embed="rId2"/>
          <a:stretch/>
        </p:blipFill>
        <p:spPr>
          <a:xfrm>
            <a:off x="5000760" y="2643120"/>
            <a:ext cx="3744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ac66bb"/>
                </a:solidFill>
                <a:latin typeface="Trebuchet MS"/>
                <a:cs typeface="AL-Hor"/>
              </a:rPr>
              <a:t>وحدات التخزين </a:t>
            </a:r>
            <a:r>
              <a:rPr b="0" lang="en-US" sz="3600" spc="-1" strike="noStrike">
                <a:solidFill>
                  <a:srgbClr val="ac66bb"/>
                </a:solidFill>
                <a:latin typeface="Comic Sans MS"/>
                <a:ea typeface="AL-Hor"/>
              </a:rPr>
              <a:t>Disks</a:t>
            </a:r>
            <a:r>
              <a:rPr b="0" lang="en-US" sz="3600" spc="-1" strike="noStrike">
                <a:solidFill>
                  <a:srgbClr val="ac66bb"/>
                </a:solidFill>
                <a:latin typeface="Trebuchet MS"/>
                <a:ea typeface="AL-Hor"/>
              </a:rPr>
              <a:t> </a:t>
            </a:r>
            <a:r>
              <a:rPr b="0" lang="ar-SA" sz="3600" spc="-1" strike="noStrike">
                <a:solidFill>
                  <a:srgbClr val="ac66bb"/>
                </a:solidFill>
                <a:latin typeface="Trebuchet MS"/>
                <a:ea typeface="AL-Hor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  <a:cs typeface="AL-Hor"/>
              </a:rPr>
              <a:t>القرص المرن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FD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AL-Hor"/>
              </a:rPr>
              <a:t>) </a:t>
            </a:r>
            <a:r>
              <a:rPr b="0" lang="ar-SA" sz="3600" spc="-1" strike="noStrike">
                <a:solidFill>
                  <a:srgbClr val="000000"/>
                </a:solidFill>
                <a:latin typeface="Trebuchet MS"/>
                <a:ea typeface="AL-Ho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Floppy Disk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omic Sans MS"/>
                <a:ea typeface="AL-Hor"/>
              </a:rPr>
              <a:t> - سعته التخزينية قليله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L-Hor"/>
              </a:rPr>
              <a:t>1.4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L-Ho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L-Hor"/>
              </a:rPr>
              <a:t>M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  <a:cs typeface="AL-Hor"/>
              </a:rPr>
              <a:t>القرص المدمج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L-Hor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L-Hor"/>
              </a:rPr>
              <a:t>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L-Hor"/>
              </a:rPr>
              <a:t>) 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Comic Sans MS"/>
                <a:ea typeface="AL-Hor"/>
              </a:rPr>
              <a:t>  سعته أكثر من القرص المرن .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07" name="Picture 10" descr="floppy"/>
          <p:cNvPicPr/>
          <p:nvPr/>
        </p:nvPicPr>
        <p:blipFill>
          <a:blip r:embed="rId2"/>
          <a:stretch/>
        </p:blipFill>
        <p:spPr>
          <a:xfrm>
            <a:off x="214200" y="2643120"/>
            <a:ext cx="2313000" cy="17859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http://rimedia.com.au/images/rimedia%20webpage/philips%20cd%20C.jpg"/>
          <p:cNvPicPr/>
          <p:nvPr/>
        </p:nvPicPr>
        <p:blipFill>
          <a:blip r:embed="rId3"/>
          <a:stretch/>
        </p:blipFill>
        <p:spPr>
          <a:xfrm>
            <a:off x="2500200" y="4572000"/>
            <a:ext cx="16304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2" descr=""/>
          <p:cNvPicPr/>
          <p:nvPr/>
        </p:nvPicPr>
        <p:blipFill>
          <a:blip r:embed="rId1"/>
          <a:stretch/>
        </p:blipFill>
        <p:spPr>
          <a:xfrm>
            <a:off x="73080" y="231840"/>
            <a:ext cx="5894280" cy="1170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213920"/>
            <a:ext cx="72388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52f74"/>
                </a:solidFill>
                <a:latin typeface="Trebuchet MS"/>
              </a:rPr>
              <a:t>هو آلة كهربائية تستقبل بيانات ثم تقوم بإجراء عملية تحليل ومعالجة عليها و إخراج المعلومات أو تخزينها وتعمل بناء على تعليمات دقيقة تسمى برنامج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0" y="16426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10" name="Rectangle 2" descr=""/>
          <p:cNvPicPr/>
          <p:nvPr/>
        </p:nvPicPr>
        <p:blipFill>
          <a:blip r:embed="rId1"/>
          <a:stretch/>
        </p:blipFill>
        <p:spPr>
          <a:xfrm>
            <a:off x="0" y="73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0" y="414036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By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Left Arrow 5"/>
          <p:cNvSpPr/>
          <p:nvPr/>
        </p:nvSpPr>
        <p:spPr>
          <a:xfrm>
            <a:off x="5786280" y="2071800"/>
            <a:ext cx="1428840" cy="285480"/>
          </a:xfrm>
          <a:prstGeom prst="leftArrow">
            <a:avLst>
              <a:gd name="adj1" fmla="val 50000"/>
              <a:gd name="adj2" fmla="val 5005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478620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521496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4357800" y="2071800"/>
            <a:ext cx="42840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392904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350028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Rectangle 13"/>
          <p:cNvSpPr/>
          <p:nvPr/>
        </p:nvSpPr>
        <p:spPr>
          <a:xfrm>
            <a:off x="3071880" y="2071800"/>
            <a:ext cx="42840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Rectangle 14"/>
          <p:cNvSpPr/>
          <p:nvPr/>
        </p:nvSpPr>
        <p:spPr>
          <a:xfrm>
            <a:off x="2643120" y="2071800"/>
            <a:ext cx="42876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Rectangle 15"/>
          <p:cNvSpPr/>
          <p:nvPr/>
        </p:nvSpPr>
        <p:spPr>
          <a:xfrm>
            <a:off x="2214720" y="2071800"/>
            <a:ext cx="428400" cy="3571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21" name="Straight Arrow Connector 17"/>
          <p:cNvCxnSpPr/>
          <p:nvPr/>
        </p:nvCxnSpPr>
        <p:spPr>
          <a:xfrm flipH="1">
            <a:off x="3285360" y="2500200"/>
            <a:ext cx="1080" cy="57240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522" name="TextBox 19"/>
          <p:cNvSpPr/>
          <p:nvPr/>
        </p:nvSpPr>
        <p:spPr>
          <a:xfrm>
            <a:off x="2786040" y="2928960"/>
            <a:ext cx="10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Bi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Left Brace 20"/>
          <p:cNvSpPr/>
          <p:nvPr/>
        </p:nvSpPr>
        <p:spPr>
          <a:xfrm rot="16200000">
            <a:off x="3483000" y="1803240"/>
            <a:ext cx="1000080" cy="3679920"/>
          </a:xfrm>
          <a:custGeom>
            <a:avLst/>
            <a:gdLst>
              <a:gd name="textAreaLeft" fmla="*/ 639000 w 1000080"/>
              <a:gd name="textAreaRight" fmla="*/ 1000440 w 1000080"/>
              <a:gd name="textAreaTop" fmla="*/ 25920 h 3679920"/>
              <a:gd name="textAreaBottom" fmla="*/ 3654000 h 367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بت 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it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): نبضة كهربائية واحدة (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0/1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بايت 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yte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): 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8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 بت.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</a:rPr>
              <a:t> (حرف واحد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كيلو بايت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1000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بايت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ميجا بايت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</a:rPr>
              <a:t>مليون 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بايت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الجيجا بايت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</a:rPr>
              <a:t>بليون</a:t>
            </a:r>
            <a:r>
              <a:rPr b="0" lang="ar-LB" sz="2600" spc="-1" strike="noStrike">
                <a:solidFill>
                  <a:srgbClr val="000000"/>
                </a:solidFill>
                <a:latin typeface="Trebuchet MS"/>
              </a:rPr>
              <a:t> بايت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مم 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ت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تكون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 الأجزاء المادية للحاسب الآلي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7" name="Diagram 3" descr=""/>
          <p:cNvPicPr/>
          <p:nvPr/>
        </p:nvPicPr>
        <p:blipFill>
          <a:blip r:embed="rId1"/>
          <a:stretch/>
        </p:blipFill>
        <p:spPr>
          <a:xfrm>
            <a:off x="291960" y="1000080"/>
            <a:ext cx="787716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1"/>
          <p:cNvSpPr/>
          <p:nvPr/>
        </p:nvSpPr>
        <p:spPr>
          <a:xfrm>
            <a:off x="428760" y="1000080"/>
            <a:ext cx="704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يمكن أن ننصف الوحدات المادية للحاسب إلى صنفين وحدات رئيسية ووحدات تابعة كالتالي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Diagram 2" descr=""/>
          <p:cNvPicPr/>
          <p:nvPr/>
        </p:nvPicPr>
        <p:blipFill>
          <a:blip r:embed="rId1"/>
          <a:stretch/>
        </p:blipFill>
        <p:spPr>
          <a:xfrm>
            <a:off x="219240" y="1212840"/>
            <a:ext cx="7870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1285920" y="571680"/>
            <a:ext cx="66247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Trebuchet MS"/>
                <a:cs typeface="AL-Hor"/>
              </a:rPr>
              <a:t>اللوحة الأم </a:t>
            </a:r>
            <a:r>
              <a:rPr b="0" lang="en-US" sz="4400" spc="-1" strike="noStrike">
                <a:solidFill>
                  <a:srgbClr val="c00000"/>
                </a:solidFill>
                <a:latin typeface="Comic Sans MS"/>
                <a:ea typeface="AL-Hor"/>
              </a:rPr>
              <a:t>Mother Board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357120" y="1643040"/>
            <a:ext cx="7854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omic Sans MS"/>
                <a:cs typeface="AL-Hor"/>
              </a:rPr>
              <a:t>هي لوحة تتكون من مجموعة كبيرة من الدوائر الإلكترونية سميت بالأم لأنها تحمل معظم اجزاء الحاسب الداخلية. ويوجد على هذه اللوحة الأجزاء التالية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omic Sans MS"/>
                <a:cs typeface="AL-Hor"/>
              </a:rPr>
              <a:t>المعالج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L-Hor"/>
              </a:rPr>
              <a:t>CPU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omic Sans MS"/>
                <a:cs typeface="AL-Hor"/>
              </a:rPr>
              <a:t>الذاكرتين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L-Hor"/>
              </a:rPr>
              <a:t>RAM &amp; ROM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omic Sans MS"/>
                <a:cs typeface="AL-Hor"/>
              </a:rPr>
              <a:t>بعض المناف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omic Sans MS"/>
                <a:cs typeface="AL-Hor"/>
              </a:rPr>
              <a:t>اماكن لتركيب بطاقات التوسعة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7431120" cy="11462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2"/>
          <p:cNvSpPr/>
          <p:nvPr/>
        </p:nvSpPr>
        <p:spPr>
          <a:xfrm>
            <a:off x="6305040" y="163044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Trebuchet MS"/>
              </a:rPr>
              <a:t>- السرعة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214200" y="2457360"/>
            <a:ext cx="753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Trebuchet MS"/>
              </a:rPr>
              <a:t>- الإعتماد : ونعني بها قدرة الحاسب الآلي على أداء المهام بدقة عالية دون أخطاء أو ملل مهما تكرر أداء هذه المهام 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-202320" y="385776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Trebuchet MS"/>
              </a:rPr>
              <a:t>- التخزين :يملك جهاز الحاسب الآلي القدرة على تخزين كميات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ebuchet MS"/>
              </a:rPr>
              <a:t>كبيرة من البيانات بنظام يجعل الرجوع إليها سريعا وسهلا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6" name="Picture 5" descr="6CAS3ES4MCAW62UXSCA85WELQCAD4ZZI2CAB54VQDCAY39LCLCA4YH84CCA83CRMCCAIBI2G7CAX22Q1ACA4FJW3YCA1S8BQWCACXMBOHCABN2W70CAFMUNBYCA28XWD6CAM80PAGCA4TN5P8CAFV16FP.jpg"/>
          <p:cNvPicPr/>
          <p:nvPr/>
        </p:nvPicPr>
        <p:blipFill>
          <a:blip r:embed="rId2"/>
          <a:stretch/>
        </p:blipFill>
        <p:spPr>
          <a:xfrm>
            <a:off x="4925880" y="1500120"/>
            <a:ext cx="10749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368" name="Diagram 5" descr=""/>
          <p:cNvPicPr/>
          <p:nvPr/>
        </p:nvPicPr>
        <p:blipFill>
          <a:blip r:embed="rId2"/>
          <a:stretch/>
        </p:blipFill>
        <p:spPr>
          <a:xfrm>
            <a:off x="360360" y="1908000"/>
            <a:ext cx="7813800" cy="2901960"/>
          </a:xfrm>
          <a:prstGeom prst="rect">
            <a:avLst/>
          </a:prstGeom>
          <a:ln w="0">
            <a:noFill/>
          </a:ln>
        </p:spPr>
      </p:pic>
      <p:sp>
        <p:nvSpPr>
          <p:cNvPr id="369" name="Up Arrow 6"/>
          <p:cNvSpPr/>
          <p:nvPr/>
        </p:nvSpPr>
        <p:spPr>
          <a:xfrm flipH="1" flipV="1">
            <a:off x="6000840" y="4643280"/>
            <a:ext cx="428400" cy="642960"/>
          </a:xfrm>
          <a:prstGeom prst="upArrow">
            <a:avLst>
              <a:gd name="adj1" fmla="val 50000"/>
              <a:gd name="adj2" fmla="val 50028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Up Arrow 7"/>
          <p:cNvSpPr/>
          <p:nvPr/>
        </p:nvSpPr>
        <p:spPr>
          <a:xfrm flipH="1" flipV="1">
            <a:off x="2285280" y="4643280"/>
            <a:ext cx="428760" cy="64296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TextBox 8"/>
          <p:cNvSpPr/>
          <p:nvPr/>
        </p:nvSpPr>
        <p:spPr>
          <a:xfrm>
            <a:off x="5555520" y="5500800"/>
            <a:ext cx="1369440" cy="520560"/>
          </a:xfrm>
          <a:prstGeom prst="rect">
            <a:avLst/>
          </a:prstGeom>
          <a:noFill/>
          <a:ln w="5724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جســـد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TextBox 9"/>
          <p:cNvSpPr/>
          <p:nvPr/>
        </p:nvSpPr>
        <p:spPr>
          <a:xfrm>
            <a:off x="2000160" y="5500800"/>
            <a:ext cx="1214640" cy="520560"/>
          </a:xfrm>
          <a:prstGeom prst="rect">
            <a:avLst/>
          </a:prstGeom>
          <a:noFill/>
          <a:ln w="5724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روح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-285840" y="285840"/>
            <a:ext cx="8229600" cy="114120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22"/>
          <p:cNvGrpSpPr/>
          <p:nvPr/>
        </p:nvGrpSpPr>
        <p:grpSpPr>
          <a:xfrm>
            <a:off x="3357720" y="2500200"/>
            <a:ext cx="2143080" cy="2500560"/>
            <a:chOff x="3357720" y="2500200"/>
            <a:chExt cx="2143080" cy="2500560"/>
          </a:xfrm>
        </p:grpSpPr>
        <p:sp>
          <p:nvSpPr>
            <p:cNvPr id="375" name="Oval 13"/>
            <p:cNvSpPr/>
            <p:nvPr/>
          </p:nvSpPr>
          <p:spPr>
            <a:xfrm>
              <a:off x="3357720" y="2500200"/>
              <a:ext cx="2143080" cy="2500560"/>
            </a:xfrm>
            <a:prstGeom prst="ellipse">
              <a:avLst/>
            </a:prstGeom>
            <a:solidFill>
              <a:srgbClr val="ffffff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6" name="Straight Connector 15"/>
            <p:cNvSpPr/>
            <p:nvPr/>
          </p:nvSpPr>
          <p:spPr>
            <a:xfrm>
              <a:off x="3429000" y="3429000"/>
              <a:ext cx="2000520" cy="1440"/>
            </a:xfrm>
            <a:prstGeom prst="line">
              <a:avLst/>
            </a:prstGeom>
            <a:ln w="1152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7" name="Straight Connector 17"/>
            <p:cNvSpPr/>
            <p:nvPr/>
          </p:nvSpPr>
          <p:spPr>
            <a:xfrm>
              <a:off x="4428360" y="2500920"/>
              <a:ext cx="1440" cy="928800"/>
            </a:xfrm>
            <a:prstGeom prst="line">
              <a:avLst/>
            </a:prstGeom>
            <a:ln w="1152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8" name="Flowchart: Connector 18"/>
            <p:cNvSpPr/>
            <p:nvPr/>
          </p:nvSpPr>
          <p:spPr>
            <a:xfrm>
              <a:off x="4929480" y="3571920"/>
              <a:ext cx="142560" cy="214200"/>
            </a:xfrm>
            <a:prstGeom prst="flowChartConnector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9" name="Flowchart: Connector 19"/>
            <p:cNvSpPr/>
            <p:nvPr/>
          </p:nvSpPr>
          <p:spPr>
            <a:xfrm>
              <a:off x="3857760" y="3571920"/>
              <a:ext cx="142560" cy="214200"/>
            </a:xfrm>
            <a:prstGeom prst="flowChartConnector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0" name="Block Arc 21"/>
            <p:cNvSpPr/>
            <p:nvPr/>
          </p:nvSpPr>
          <p:spPr>
            <a:xfrm rot="10800000">
              <a:off x="4143240" y="4286520"/>
              <a:ext cx="571320" cy="142560"/>
            </a:xfrm>
            <a:custGeom>
              <a:avLst/>
              <a:gdLst/>
              <a:ahLst/>
              <a:rect l="l" t="t" r="r" b="b"/>
              <a:pathLst>
                <a:path w="571504" h="142876">
                  <a:moveTo>
                    <a:pt x="0" y="71438"/>
                  </a:moveTo>
                  <a:cubicBezTo>
                    <a:pt x="0" y="31984"/>
                    <a:pt x="127936" y="0"/>
                    <a:pt x="285752" y="0"/>
                  </a:cubicBezTo>
                  <a:cubicBezTo>
                    <a:pt x="443568" y="0"/>
                    <a:pt x="571504" y="31984"/>
                    <a:pt x="571504" y="71438"/>
                  </a:cubicBezTo>
                  <a:lnTo>
                    <a:pt x="535785" y="71438"/>
                  </a:lnTo>
                  <a:cubicBezTo>
                    <a:pt x="535785" y="51711"/>
                    <a:pt x="423841" y="35719"/>
                    <a:pt x="285752" y="35719"/>
                  </a:cubicBezTo>
                  <a:cubicBezTo>
                    <a:pt x="147663" y="35719"/>
                    <a:pt x="35719" y="51711"/>
                    <a:pt x="35719" y="71438"/>
                  </a:cubicBezTo>
                  <a:lnTo>
                    <a:pt x="0" y="71438"/>
                  </a:lnTo>
                  <a:close/>
                </a:path>
              </a:pathLst>
            </a:custGeom>
            <a:solidFill>
              <a:srgbClr val="b83d68"/>
            </a:solidFill>
            <a:ln w="39960">
              <a:solidFill>
                <a:srgbClr val="862a4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81" name="Left Arrow 23"/>
          <p:cNvSpPr/>
          <p:nvPr/>
        </p:nvSpPr>
        <p:spPr>
          <a:xfrm>
            <a:off x="5857920" y="3571920"/>
            <a:ext cx="1785960" cy="3571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Left Arrow 24"/>
          <p:cNvSpPr/>
          <p:nvPr/>
        </p:nvSpPr>
        <p:spPr>
          <a:xfrm>
            <a:off x="785880" y="3571920"/>
            <a:ext cx="1785960" cy="3571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83" name="Straight Arrow Connector 26"/>
          <p:cNvCxnSpPr/>
          <p:nvPr/>
        </p:nvCxnSpPr>
        <p:spPr>
          <a:xfrm flipH="1">
            <a:off x="5071680" y="1856880"/>
            <a:ext cx="572400" cy="71532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84" name="Straight Arrow Connector 28"/>
          <p:cNvCxnSpPr/>
          <p:nvPr/>
        </p:nvCxnSpPr>
        <p:spPr>
          <a:xfrm>
            <a:off x="3357720" y="1928880"/>
            <a:ext cx="357840" cy="71496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385" name="TextBox 31"/>
          <p:cNvSpPr/>
          <p:nvPr/>
        </p:nvSpPr>
        <p:spPr>
          <a:xfrm>
            <a:off x="6000840" y="278604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1+2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TextBox 32"/>
          <p:cNvSpPr/>
          <p:nvPr/>
        </p:nvSpPr>
        <p:spPr>
          <a:xfrm>
            <a:off x="5643720" y="40687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بالعين أو الأذن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TextBox 33"/>
          <p:cNvSpPr/>
          <p:nvPr/>
        </p:nvSpPr>
        <p:spPr>
          <a:xfrm>
            <a:off x="928800" y="285768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TextBox 34"/>
          <p:cNvSpPr/>
          <p:nvPr/>
        </p:nvSpPr>
        <p:spPr>
          <a:xfrm>
            <a:off x="285840" y="3997440"/>
            <a:ext cx="26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النطق باللسان أو الكتابة باليد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TextBox 35"/>
          <p:cNvSpPr/>
          <p:nvPr/>
        </p:nvSpPr>
        <p:spPr>
          <a:xfrm>
            <a:off x="5500800" y="135396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ذاكرة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TextBox 36"/>
          <p:cNvSpPr/>
          <p:nvPr/>
        </p:nvSpPr>
        <p:spPr>
          <a:xfrm>
            <a:off x="1744560" y="135720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عقل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TextBox 37"/>
          <p:cNvSpPr/>
          <p:nvPr/>
        </p:nvSpPr>
        <p:spPr>
          <a:xfrm>
            <a:off x="4357800" y="292896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1+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-13968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3" name="Left Arrow 23"/>
          <p:cNvSpPr/>
          <p:nvPr/>
        </p:nvSpPr>
        <p:spPr>
          <a:xfrm>
            <a:off x="5857920" y="3571920"/>
            <a:ext cx="1785960" cy="3571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Left Arrow 24"/>
          <p:cNvSpPr/>
          <p:nvPr/>
        </p:nvSpPr>
        <p:spPr>
          <a:xfrm>
            <a:off x="785880" y="3571920"/>
            <a:ext cx="1785960" cy="3571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95" name="Straight Arrow Connector 26"/>
          <p:cNvCxnSpPr/>
          <p:nvPr/>
        </p:nvCxnSpPr>
        <p:spPr>
          <a:xfrm flipH="1">
            <a:off x="5071680" y="1856880"/>
            <a:ext cx="572400" cy="71532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96" name="Straight Arrow Connector 28"/>
          <p:cNvCxnSpPr/>
          <p:nvPr/>
        </p:nvCxnSpPr>
        <p:spPr>
          <a:xfrm>
            <a:off x="3357720" y="1928880"/>
            <a:ext cx="357840" cy="71496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397" name="TextBox 31"/>
          <p:cNvSpPr/>
          <p:nvPr/>
        </p:nvSpPr>
        <p:spPr>
          <a:xfrm>
            <a:off x="6000840" y="278604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1+2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TextBox 32"/>
          <p:cNvSpPr/>
          <p:nvPr/>
        </p:nvSpPr>
        <p:spPr>
          <a:xfrm>
            <a:off x="5643720" y="40687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وحدات إدخال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TextBox 33"/>
          <p:cNvSpPr/>
          <p:nvPr/>
        </p:nvSpPr>
        <p:spPr>
          <a:xfrm>
            <a:off x="928800" y="285768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TextBox 34"/>
          <p:cNvSpPr/>
          <p:nvPr/>
        </p:nvSpPr>
        <p:spPr>
          <a:xfrm>
            <a:off x="285840" y="399744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وحدات إخراج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TextBox 35"/>
          <p:cNvSpPr/>
          <p:nvPr/>
        </p:nvSpPr>
        <p:spPr>
          <a:xfrm>
            <a:off x="5500800" y="135396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ذاكرة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TextBox 36"/>
          <p:cNvSpPr/>
          <p:nvPr/>
        </p:nvSpPr>
        <p:spPr>
          <a:xfrm>
            <a:off x="1744560" y="135720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ebuchet MS"/>
              </a:rPr>
              <a:t>عقل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TextBox 37"/>
          <p:cNvSpPr/>
          <p:nvPr/>
        </p:nvSpPr>
        <p:spPr>
          <a:xfrm>
            <a:off x="4643280" y="29289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1+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Straight Connector 29"/>
          <p:cNvSpPr/>
          <p:nvPr/>
        </p:nvSpPr>
        <p:spPr>
          <a:xfrm flipH="1">
            <a:off x="3285720" y="3571920"/>
            <a:ext cx="2428920" cy="144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05" name="Group 39"/>
          <p:cNvGrpSpPr/>
          <p:nvPr/>
        </p:nvGrpSpPr>
        <p:grpSpPr>
          <a:xfrm>
            <a:off x="3286080" y="2857680"/>
            <a:ext cx="2428920" cy="1428480"/>
            <a:chOff x="3286080" y="2857680"/>
            <a:chExt cx="2428920" cy="1428480"/>
          </a:xfrm>
        </p:grpSpPr>
        <p:sp>
          <p:nvSpPr>
            <p:cNvPr id="406" name="Rectangle 20"/>
            <p:cNvSpPr/>
            <p:nvPr/>
          </p:nvSpPr>
          <p:spPr>
            <a:xfrm>
              <a:off x="3286080" y="2857680"/>
              <a:ext cx="2428920" cy="1428480"/>
            </a:xfrm>
            <a:prstGeom prst="rect">
              <a:avLst/>
            </a:prstGeom>
            <a:noFill/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7" name="Straight Connector 25"/>
            <p:cNvSpPr/>
            <p:nvPr/>
          </p:nvSpPr>
          <p:spPr>
            <a:xfrm>
              <a:off x="4499640" y="2858400"/>
              <a:ext cx="1440" cy="714240"/>
            </a:xfrm>
            <a:prstGeom prst="line">
              <a:avLst/>
            </a:prstGeom>
            <a:ln w="11520">
              <a:solidFill>
                <a:srgbClr val="b83d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8" name="TextBox 38"/>
            <p:cNvSpPr/>
            <p:nvPr/>
          </p:nvSpPr>
          <p:spPr>
            <a:xfrm>
              <a:off x="3444480" y="3786120"/>
              <a:ext cx="21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rebuchet MS"/>
                </a:rPr>
                <a:t>جهـــاز الحاسب الآلي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transition spd="med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مم 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ت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تكون</a:t>
            </a:r>
            <a:r>
              <a:rPr b="0" lang="ar-SA" sz="3200" spc="-1" strike="noStrike">
                <a:solidFill>
                  <a:srgbClr val="b13f9a"/>
                </a:solidFill>
                <a:latin typeface="Garamond"/>
              </a:rPr>
              <a:t> الأجزاء المادية للحاسب الآلي</a:t>
            </a:r>
            <a:r>
              <a:rPr b="0" lang="ar-LB" sz="3200" spc="-1" strike="noStrike">
                <a:solidFill>
                  <a:srgbClr val="b13f9a"/>
                </a:solidFill>
                <a:latin typeface="Garamond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10" name="Diagram 3" descr=""/>
          <p:cNvPicPr/>
          <p:nvPr/>
        </p:nvPicPr>
        <p:blipFill>
          <a:blip r:embed="rId1"/>
          <a:stretch/>
        </p:blipFill>
        <p:spPr>
          <a:xfrm>
            <a:off x="407880" y="1359000"/>
            <a:ext cx="7755120" cy="39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7200" y="-2127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12" name="Diagram 6" descr=""/>
          <p:cNvPicPr/>
          <p:nvPr/>
        </p:nvPicPr>
        <p:blipFill>
          <a:blip r:embed="rId2"/>
          <a:stretch/>
        </p:blipFill>
        <p:spPr>
          <a:xfrm>
            <a:off x="3943440" y="920880"/>
            <a:ext cx="4779720" cy="24318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-214200" y="3357720"/>
            <a:ext cx="822960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Trebuchet MS"/>
              </a:rPr>
              <a:t>وحدة المعالجة تشبه عقل الإنسان في عملها وتقوم بالتحكم في جميع العمليات الحسابية والمنطقية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14" name="Picture 19" descr="CPU"/>
          <p:cNvPicPr/>
          <p:nvPr/>
        </p:nvPicPr>
        <p:blipFill>
          <a:blip r:embed="rId3"/>
          <a:stretch/>
        </p:blipFill>
        <p:spPr>
          <a:xfrm>
            <a:off x="324000" y="1214280"/>
            <a:ext cx="3600360" cy="18003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8"/>
          <p:cNvSpPr/>
          <p:nvPr/>
        </p:nvSpPr>
        <p:spPr>
          <a:xfrm>
            <a:off x="-61920" y="44290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Trebuchet MS"/>
              </a:rPr>
              <a:t>وحدة التحكم : 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</a:rPr>
              <a:t>وهي الجزء الذي يتحكم بجميع أجزاء الحاسب ومن خلاله تصل التعليمات من جزء إلى آخر</a:t>
            </a:r>
            <a:r>
              <a:rPr b="0" lang="ar-L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Rectangle 18"/>
          <p:cNvSpPr/>
          <p:nvPr/>
        </p:nvSpPr>
        <p:spPr>
          <a:xfrm>
            <a:off x="-71280" y="528624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Trebuchet MS"/>
              </a:rPr>
              <a:t>وحدة الحساب والمنظق : 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</a:rPr>
              <a:t>وهي الجزء الذي يقوم بكل العمليات الحسابية والمنطقية في الحاسب</a:t>
            </a:r>
            <a:r>
              <a:rPr b="0" lang="ar-L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7:13:26Z</dcterms:created>
  <dc:creator>ايميل</dc:creator>
  <dc:description/>
  <dc:language>en-US</dc:language>
  <cp:lastModifiedBy>Toshiba</cp:lastModifiedBy>
  <dcterms:modified xsi:type="dcterms:W3CDTF">2014-02-01T11:24:14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E0B683EC551D04A992EF8222FFAD13F</vt:lpwstr>
  </property>
</Properties>
</file>