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6CC-E1D0-481E-A0CC-946B1F86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6C2-95EB-401D-8E3F-DDAA6E2B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DAF-0242-4025-9DCB-C37F8F99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D8A-837B-4AD1-8867-33034061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62E-6D5D-4541-B8B3-B0FB524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AD0-A50B-4FA6-8E12-9D7F9A0F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A12-45E0-4DE4-B043-9BD83857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37B-95BD-4398-8D32-16D40030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C78-E779-451C-8905-88B135F7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8C1-F1A4-4301-948D-D81252E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2E8-B5D6-4EF9-AB16-FA7DBB83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7CF-F6C4-416C-8779-74B61CC5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ADCE-26AE-42ED-B9DC-5AF019664A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571760" y="1896840"/>
            <a:ext cx="65721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 u="sng">
                <a:solidFill>
                  <a:srgbClr val="ff0000"/>
                </a:solidFill>
                <a:uFillTx/>
                <a:latin typeface="Arial"/>
                <a:cs typeface="Monotype Koufi"/>
              </a:rPr>
              <a:t>نموذج (</a:t>
            </a:r>
            <a:r>
              <a:rPr b="0" lang="ar-AE" sz="2400" spc="-1" strike="noStrike" u="sng">
                <a:solidFill>
                  <a:srgbClr val="ff0000"/>
                </a:solidFill>
                <a:uFillTx/>
                <a:latin typeface="Arial"/>
                <a:ea typeface="Monotype Koufi"/>
              </a:rPr>
              <a:t>3</a:t>
            </a:r>
            <a:r>
              <a:rPr b="0" lang="ar-AE" sz="2400" spc="-1" strike="noStrike" u="sng">
                <a:solidFill>
                  <a:srgbClr val="ff0000"/>
                </a:solidFill>
                <a:uFillTx/>
                <a:latin typeface="Arial"/>
                <a:ea typeface="Monotype Koufi"/>
              </a:rPr>
              <a:t>) تخطيط الدرس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800080"/>
                </a:solidFill>
                <a:latin typeface="Arial"/>
                <a:cs typeface="Monotype Koufi"/>
              </a:rPr>
              <a:t>مستفيداً من المهمة الأولى (سياق التعلم)، حدد استراتيجيات التعليم والتعلم بما يشمل أيضاً الأنشطة وتقنيات التعليم وأدوات التقويم بحيث تعكس احتياجات الطلبة واهتماماتهم وخلفياتهم المتنوعة</a:t>
            </a:r>
            <a:r>
              <a:rPr b="1" lang="ar-AE" sz="1000" spc="-1" strike="noStrike">
                <a:solidFill>
                  <a:srgbClr val="800080"/>
                </a:solidFill>
                <a:latin typeface="Arial"/>
                <a:ea typeface="Monotype Koufi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14200" y="357120"/>
          <a:ext cx="8643960" cy="6008760"/>
        </p:xfrm>
        <a:graphic>
          <a:graphicData uri="http://schemas.openxmlformats.org/drawingml/2006/table">
            <a:tbl>
              <a:tblPr/>
              <a:tblGrid>
                <a:gridCol w="677880"/>
                <a:gridCol w="876240"/>
                <a:gridCol w="704880"/>
                <a:gridCol w="1052640"/>
                <a:gridCol w="1054080"/>
                <a:gridCol w="750960"/>
                <a:gridCol w="1957320"/>
                <a:gridCol w="1569960"/>
              </a:tblGrid>
              <a:tr h="91800"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زم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أساليب التقو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تدري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نوعية التعزي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عناصر الدرس (المفاهيم والمهارات والقيم)- </a:t>
                      </a:r>
                      <a:r>
                        <a:rPr b="1" lang="ar-AE" sz="1600" spc="-1" strike="noStrike">
                          <a:solidFill>
                            <a:srgbClr val="ff0000"/>
                          </a:solidFill>
                          <a:latin typeface="Arial"/>
                          <a:cs typeface="Monotype Koufi"/>
                        </a:rPr>
                        <a:t>توضيح لما سيشرح</a:t>
                      </a: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ea typeface="Monotype Koufi"/>
                        </a:rPr>
                        <a:t>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أهداف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في ضوء أهداف الوحدة/ مجموعة الدرو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2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تقنيات التعل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أنشطة المقترح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أساليب التدري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5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 دقائ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ااسم والدك ,والدتك 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قطعة موكيت ,مساند أرضية 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بطاقات كتاب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تجهيز مجلس مصغر وإستضافة  الطالبات في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مناقش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غذائي /حبات من الت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تقوم المعلمة بعرض مجموعة من الصور لأفراد العائلة وتترك الحرية للطالبة في التعبير عن تلك الصو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عبر الطالبة عن محتوى الصور المعطاة لها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5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 دقائ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قراءة البطاقا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متازة/إش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بعد التعرف على الصور تعرض المعلمة أسماء أفراد الأسرة   وتتطلب من الطالبات قرائتها بعد أن تقوم هي بقرائتها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قرأ الطالبة  الكلما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ين حرف الميم من الحروف المقصوصة 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rowSpan="3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قصات ,أوراق عمل,صلصال ,خيوط ملونة ,صمغ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 rowSpan="3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قيام بقص كل حرف على ح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كذلك تشكيل حرف م وإحاطت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 rowSpan="3"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تعلم تعاو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متازة/إش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قوم بإعطاء الطالبات  كلمات مطبوعة (عمر ,مهند ,مشعل ) وتقوم بقص كل حرف على ح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حلل الطالبة الكلمات إلى حرو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7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Monotype Koufi"/>
                        </a:rPr>
                        <a:t>دقائ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تشكيل الصحي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متازة/إش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طلب من كل مجموعة تشكيل حرف الميم بالصلصا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شكل الطالبة حرف الميم بالصلصا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10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 دقائ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إحاطة الصحيح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متازة/إش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طلب من كل مجموعة إحاطة حرف الميم بالخيوط وذلك للكلمات ( جمل-مسجد- علم – أقلام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حيط الطالبة حرف الميم في الكلمة بالخيط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825560"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10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ea typeface="Monotype Koufi"/>
                        </a:rPr>
                        <a:t> دقائ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 خلال عرض مجموعة من أسماء الذكور والإناث لتحديد اسم الإشارة المناس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شماغ,طرح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 خلال وضع كل هذه  مع الط</a:t>
                      </a:r>
                      <a:r>
                        <a:rPr b="1" lang="ar-SA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ر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حة ,وهذا مع الشما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ستكشا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رمزي / لوحة التعزي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عرض على الطالبات الطرحة والخاصة بالإناث وأوضح أن الاسم "هذه" مخصص </a:t>
                      </a:r>
                      <a:r>
                        <a:rPr b="1" lang="ar-SA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ل</a:t>
                      </a: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لإناث ,ثم أعرض الشماغ والخاصة بالذكوروأوضح أن الاسم "هذا" مخصص للذكو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2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ميز الطالبة بين اسمي الإشارة (هذا ,هذه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357200" y="1785960"/>
          <a:ext cx="7072560" cy="3527280"/>
        </p:xfrm>
        <a:graphic>
          <a:graphicData uri="http://schemas.openxmlformats.org/drawingml/2006/table">
            <a:tbl>
              <a:tblPr/>
              <a:tblGrid>
                <a:gridCol w="4673880"/>
                <a:gridCol w="2398680"/>
              </a:tblGrid>
              <a:tr h="274680">
                <a:tc>
                  <a:txBody>
                    <a:bodyPr lIns="56520" rIns="5652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توضيـــ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عنصــ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49000">
                <a:tc>
                  <a:txBody>
                    <a:bodyPr lIns="56520" rIns="565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نواحي المهار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نواحي التي كان فيها الدرس فعالا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49000">
                <a:tc>
                  <a:txBody>
                    <a:bodyPr lIns="56520" rIns="565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عرض الدرس على عرض باوربوين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إجراءات تحسين الدر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823320"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AE" sz="18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عرفة الطالبة بحرف الميم بجميع أوجهه الكتابي والإشاري</a:t>
                      </a:r>
                      <a:r>
                        <a:rPr b="1" lang="ar-AE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ما تم تنفيذه من الخطة/ هل حققت أهداف الدرس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823320">
                <a:tc>
                  <a:txBody>
                    <a:bodyPr lIns="56520" rIns="56520" tIns="0" bIns="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أوراق العمل , النماذج العملية ,الأسئلة </a:t>
                      </a:r>
                      <a:r>
                        <a:rPr b="1" lang="ar-SA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cs typeface="Times New Roman"/>
                        </a:rPr>
                        <a:t>الشفوية</a:t>
                      </a: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أساليب التقويم المتبعة للتأكد من مدى تحقق الأهدا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097640">
                <a:tc>
                  <a:txBody>
                    <a:bodyPr lIns="56520" rIns="5652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تحديد الطالبات الضعيفات "هند ,سارا " في فصل </a:t>
                      </a: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ب  والاتي لم يتقن كتابة حرف الميم ومحاولة تدريبهن على ذلك في بداية الحصة الدراسية القادم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إجراءات</a:t>
                      </a:r>
                      <a:r>
                        <a:rPr b="1" lang="ar-SA" sz="18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AE" sz="18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تحسين مستوى التلامي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2714760" y="643320"/>
            <a:ext cx="42861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تابع نموذج (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3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) التفكر في تنفيذ ال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85840" y="1807200"/>
            <a:ext cx="842940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بعد الانتهاء من تدريسك الوحدة  قدم ما ي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800080"/>
              </a:buClr>
              <a:buFont typeface="Arial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ثلاثة نماذج متنوعة من أعمال المتعلمين تشمل المستويات الثلاثة: عال، متوسط، ضعيف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"تدبس في الملف"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800080"/>
              </a:buClr>
              <a:buFont typeface="Arial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نتائج تحليل إجابات المتعلمين لأداتين أحدهما قاست هدف معرفي وأخرى قاست هدف مهاري."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Monotype Koufi"/>
              </a:rPr>
              <a:t>التعليق على ا؟لإجابات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800080"/>
              </a:buClr>
              <a:buFont typeface="Arial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مقارنة بين أداء المتعلمين في الاختبارين القبلي والبعدي.      "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 مقارنة نقدية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800080"/>
              </a:buClr>
              <a:buFont typeface="Arial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حدد عدد 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المتعلمين 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الذين حققوا ال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أهداف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بدرجة عالية 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Monotype Koufi"/>
              </a:rPr>
              <a:t>طالبتين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        الذين حققوا ال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أهداف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بدرجة متوسطة :                     </a:t>
            </a:r>
            <a:r>
              <a:rPr b="1" lang="ar-AE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3</a:t>
            </a:r>
            <a:r>
              <a:rPr b="1" lang="ar-AE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 طالبات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       الذين حققوا ال</a:t>
            </a:r>
            <a:r>
              <a:rPr b="1" lang="ar-SA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أهداف</a:t>
            </a:r>
            <a:r>
              <a:rPr b="1" lang="ar-AE" sz="1800" spc="-1" strike="noStrike">
                <a:solidFill>
                  <a:srgbClr val="800080"/>
                </a:solidFill>
                <a:latin typeface="Arial"/>
                <a:ea typeface="Monotype Koufi"/>
              </a:rPr>
              <a:t> بدرجه ضعيفة    :</a:t>
            </a:r>
            <a:r>
              <a:rPr b="1" lang="ar-AE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Monotype Koufi"/>
              </a:rPr>
              <a:t>                     طالب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ستطيل 2"/>
          <p:cNvSpPr/>
          <p:nvPr/>
        </p:nvSpPr>
        <p:spPr>
          <a:xfrm>
            <a:off x="3535200" y="857160"/>
            <a:ext cx="2376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نموذج (</a:t>
            </a: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</a:t>
            </a:r>
            <a:r>
              <a:rPr b="1" lang="ar-AE" sz="1800" spc="-1" strike="noStrike" u="sng">
                <a:solidFill>
                  <a:srgbClr val="000000"/>
                </a:solidFill>
                <a:uFillTx/>
                <a:latin typeface="Calibri"/>
              </a:rPr>
              <a:t>تقـويـ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14200" y="1278360"/>
            <a:ext cx="85726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نموذج (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1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): سياق التعلم</a:t>
            </a:r>
            <a:r>
              <a:rPr b="1" lang="ar-AE" sz="2000" spc="-1" strike="noStrike" u="sng">
                <a:solidFill>
                  <a:srgbClr val="ff0000"/>
                </a:solidFill>
                <a:uFillTx/>
                <a:latin typeface="Arial"/>
                <a:ea typeface="Monotype Koufi"/>
              </a:rPr>
              <a:t>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Arial"/>
                <a:cs typeface="Monotype Koufi"/>
              </a:rPr>
              <a:t>عام للفص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e36c0a"/>
                </a:solidFill>
                <a:latin typeface="Arial"/>
                <a:cs typeface="Monotype Koufi"/>
              </a:rPr>
              <a:t>الصف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r>
              <a:rPr b="1" lang="ar-AE" sz="2000" spc="-1" strike="noStrike">
                <a:solidFill>
                  <a:srgbClr val="336699"/>
                </a:solidFill>
                <a:latin typeface="Arial"/>
                <a:ea typeface="Monotype Koufi"/>
              </a:rPr>
              <a:t>:الأول  </a:t>
            </a:r>
            <a:r>
              <a:rPr b="1" lang="ar-AE" sz="2000" spc="-1" strike="noStrike">
                <a:solidFill>
                  <a:srgbClr val="333399"/>
                </a:solidFill>
                <a:latin typeface="Arial"/>
                <a:cs typeface="Monotype Koufi"/>
              </a:rPr>
              <a:t>الابتدائي    </a:t>
            </a:r>
            <a:r>
              <a:rPr b="1" lang="ar-AE" sz="2000" spc="-1" strike="noStrike">
                <a:solidFill>
                  <a:srgbClr val="e36c0a"/>
                </a:solidFill>
                <a:latin typeface="Arial"/>
                <a:cs typeface="Monotype Koufi"/>
              </a:rPr>
              <a:t>المادة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:</a:t>
            </a:r>
            <a:r>
              <a:rPr b="1" lang="ar-SA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لغتي </a:t>
            </a:r>
            <a:r>
              <a:rPr b="1" lang="ar-AE" sz="2000" spc="-1" strike="noStrike">
                <a:solidFill>
                  <a:srgbClr val="e36c0a"/>
                </a:solidFill>
                <a:latin typeface="Arial"/>
                <a:cs typeface="Monotype Koufi"/>
              </a:rPr>
              <a:t>المدرسة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:</a:t>
            </a:r>
            <a:r>
              <a:rPr b="1" lang="ar-AE" sz="2000" spc="-1" strike="noStrike">
                <a:solidFill>
                  <a:srgbClr val="333399"/>
                </a:solidFill>
                <a:latin typeface="Arial"/>
                <a:cs typeface="Monotype Koufi"/>
              </a:rPr>
              <a:t>الابتدائية </a:t>
            </a:r>
            <a:r>
              <a:rPr b="1" lang="ar-AE" sz="2000" spc="-1" strike="noStrike">
                <a:solidFill>
                  <a:srgbClr val="333399"/>
                </a:solidFill>
                <a:latin typeface="Arial"/>
                <a:ea typeface="Monotype Koufi"/>
              </a:rPr>
              <a:t>92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  </a:t>
            </a:r>
            <a:r>
              <a:rPr b="1" lang="ar-AE" sz="2000" spc="-1" strike="noStrike">
                <a:solidFill>
                  <a:srgbClr val="e36c0a"/>
                </a:solidFill>
                <a:latin typeface="Arial"/>
                <a:cs typeface="Monotype Koufi"/>
              </a:rPr>
              <a:t>المنطقة التعليمية</a:t>
            </a:r>
            <a:r>
              <a:rPr b="1" lang="ar-AE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: </a:t>
            </a:r>
            <a:r>
              <a:rPr b="1" lang="ar-AE" sz="2000" spc="-1" strike="noStrike">
                <a:solidFill>
                  <a:srgbClr val="333399"/>
                </a:solidFill>
                <a:latin typeface="Arial"/>
                <a:cs typeface="Monotype Koufi"/>
              </a:rPr>
              <a:t>الريا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جدول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50428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14200" y="2166120"/>
            <a:ext cx="835848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                                                                                            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نموذج (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2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)  : </a:t>
            </a:r>
            <a:r>
              <a:rPr b="1" lang="ar-AE" sz="1600" spc="-1" strike="noStrike" u="sng">
                <a:solidFill>
                  <a:srgbClr val="800080"/>
                </a:solidFill>
                <a:uFillTx/>
                <a:latin typeface="Arial"/>
                <a:cs typeface="Monotype Koufi"/>
              </a:rPr>
              <a:t>التخطيط 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   </a:t>
            </a:r>
            <a:r>
              <a:rPr b="1" lang="ar-AE" sz="1600" spc="-1" strike="noStrike">
                <a:solidFill>
                  <a:srgbClr val="ff0000"/>
                </a:solidFill>
                <a:latin typeface="Arial"/>
                <a:ea typeface="Monotype Koufi"/>
              </a:rPr>
              <a:t>- للوحدة  الدراسية -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                                            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	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المادة :  </a:t>
            </a:r>
            <a:r>
              <a:rPr b="1" lang="ar-AE" sz="1600" spc="-1" strike="noStrike">
                <a:solidFill>
                  <a:srgbClr val="333399"/>
                </a:solidFill>
                <a:latin typeface="Arial"/>
                <a:cs typeface="Monotype Koufi"/>
              </a:rPr>
              <a:t>لغتي 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	</a:t>
            </a: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الوحدة الدراسية: </a:t>
            </a:r>
            <a:r>
              <a:rPr b="1" lang="ar-AE" sz="1600" spc="-1" strike="noStrike">
                <a:solidFill>
                  <a:srgbClr val="333399"/>
                </a:solidFill>
                <a:latin typeface="Arial"/>
                <a:cs typeface="Monotype Koufi"/>
              </a:rPr>
              <a:t>أسر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صورة 1" descr="IMG_0002.jpg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8640" y="428760"/>
          <a:ext cx="8471160" cy="5746680"/>
        </p:xfrm>
        <a:graphic>
          <a:graphicData uri="http://schemas.openxmlformats.org/drawingml/2006/table">
            <a:tbl>
              <a:tblPr/>
              <a:tblGrid>
                <a:gridCol w="5608800"/>
                <a:gridCol w="2862360"/>
              </a:tblGrid>
              <a:tr h="243720">
                <a:tc>
                  <a:txBody>
                    <a:bodyPr lIns="46440" rIns="4644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توضي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6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جان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2660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سرت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عنوان الوحدة أو مجموعة الدرو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292356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2.2.1</a:t>
                      </a: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 الأهداف المعرفية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مييز الطالبة مواقع الأحرف المختلفة في الكلمات – أن تذكر الأحداث والمعلومات والشخصيات في النص ا</a:t>
                      </a:r>
                      <a:r>
                        <a:rPr b="1" lang="ar-AE" sz="14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cs typeface="Times New Roman"/>
                        </a:rPr>
                        <a:t>لمؤشر</a:t>
                      </a:r>
                      <a:r>
                        <a:rPr b="1" lang="ar-AE" sz="14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-  أن تعبر الطالبة  عن محتوى الصور – أن تسرد الطالبة قصة بعد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إلقائها مؤشرة – أن تعرف الطالبة بنفسها وأسرتها – أن تقرأ الطالبة الحروف (م ,ب,ل,د ,ن ,ر ) – أن تقرأ كلمات اشتملت على الحروف م ,ب,ل,د ,ن ,ر )- أن تقرأ الطالبة الحروف (م ,ب,ل,د ,ن ,ر ) – أن تقرأ كلمات اشتملت على الحروف م ,ب,ل,د ,ن ,ر ) قرأة بصرية – أن تحلل الطالبة الجمل إلى كلمات والكلمات إلى حروف – أن تكون الطالبة كلمات مفيدة من حروف درسها -  أن تتهجئ  الطالبة كلمات جديدة مكونة من الحروف المستهدفة -  أن تستظهر الطالبة عدد ستة أبيات من الأناشيد القصيرة  - أن تتعرف الطالبة على اسمي الأشارة هذا وهذه - أن تتعرف الطالبة على الضمائر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3"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أهداف الوحدة أو مجموعة الدروس (كما حددتها الوزارة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00548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2.2.2</a:t>
                      </a: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 الأهداف المهارية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-  أن تكتب الطالبة الحروف المستهدفة  بشكل مفردة ,وحسب مواضعها باستخدام الصلصال – تحليل كلمة درس التلميذ باستخدام نشاط التلميذ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48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2.2.3</a:t>
                      </a:r>
                      <a:r>
                        <a:rPr b="1" lang="ar-AE" sz="1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 الأهداف الوجدانية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اكتساب قيم واتجاهات تتصل بـ أداب الأكل كالتسمية ,غسل اليدين قبل الأكل وبعده –الأكل باليد اليمنى – العمل بروح الفريق – صلة الرحم – توقير الكبير –آداب زيارة المريض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هذي هي الوحدة الأولى في المحتوى المدرسي في الفصل الدراسي الأو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علاقة الوحدة بالوحدات الأخرى في المحتوى الدراس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26600"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ar-AE" sz="1400" spc="-1" strike="noStrike">
                          <a:solidFill>
                            <a:srgbClr val="c0504d"/>
                          </a:solidFill>
                          <a:latin typeface="Arial"/>
                          <a:cs typeface="Times New Roman"/>
                        </a:rPr>
                        <a:t>يكون جانب نقدي 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– الوحدات تعتمد على جانب الانتقال من الكل للجزء وكل وحدة متضمنة مجموعة من الحروف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2.4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توضيح مدى تتابع موضوعات الوحدة واتساق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pic>
        <p:nvPicPr>
          <p:cNvPr id="46" name="مربع نص 2" descr=""/>
          <p:cNvPicPr/>
          <p:nvPr/>
        </p:nvPicPr>
        <p:blipFill>
          <a:blip r:embed="rId1"/>
          <a:stretch/>
        </p:blipFill>
        <p:spPr>
          <a:xfrm>
            <a:off x="4552920" y="-49320"/>
            <a:ext cx="154944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571760" y="1507680"/>
            <a:ext cx="63579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 u="sng">
                <a:solidFill>
                  <a:srgbClr val="800080"/>
                </a:solidFill>
                <a:uFillTx/>
                <a:latin typeface="Arial"/>
                <a:cs typeface="Monotype Koufi"/>
              </a:rPr>
              <a:t>تابع نموذج (</a:t>
            </a:r>
            <a:r>
              <a:rPr b="1" lang="ar-AE" sz="18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2</a:t>
            </a:r>
            <a:r>
              <a:rPr b="1" lang="ar-AE" sz="18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): التخطيط لتدريس الوحدة الدراسية-  </a:t>
            </a:r>
            <a:r>
              <a:rPr b="1" lang="ar-AE" sz="1800" spc="-1" strike="noStrike" u="sng">
                <a:solidFill>
                  <a:srgbClr val="ff0000"/>
                </a:solidFill>
                <a:uFillTx/>
                <a:latin typeface="Arial"/>
                <a:cs typeface="Monotype Koufi"/>
              </a:rPr>
              <a:t>بشكل إجمالي</a:t>
            </a:r>
            <a:r>
              <a:rPr b="1" lang="ar-AE" sz="18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800080"/>
                </a:solidFill>
                <a:latin typeface="Arial"/>
                <a:cs typeface="Monotype Koufi"/>
              </a:rPr>
              <a:t>عنوان الوحدة/مجموعة الدروس :</a:t>
            </a:r>
            <a:r>
              <a:rPr b="1" lang="ar-AE" sz="1800" spc="-1" strike="noStrike">
                <a:solidFill>
                  <a:srgbClr val="333399"/>
                </a:solidFill>
                <a:latin typeface="Arial"/>
                <a:cs typeface="Monotype Koufi"/>
              </a:rPr>
              <a:t>أسرت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2"/>
          <p:cNvSpPr/>
          <p:nvPr/>
        </p:nvSpPr>
        <p:spPr>
          <a:xfrm>
            <a:off x="3564000" y="9079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80"/>
                </a:solidFill>
                <a:uFillTx/>
                <a:latin typeface="Wingdings"/>
                <a:ea typeface="Wingdings"/>
              </a:rPr>
              <a:t>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مربع نص 3" descr=""/>
          <p:cNvPicPr/>
          <p:nvPr/>
        </p:nvPicPr>
        <p:blipFill>
          <a:blip r:embed="rId1"/>
          <a:stretch/>
        </p:blipFill>
        <p:spPr>
          <a:xfrm>
            <a:off x="5126040" y="933480"/>
            <a:ext cx="15559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57120" y="214200"/>
          <a:ext cx="8572680" cy="6188040"/>
        </p:xfrm>
        <a:graphic>
          <a:graphicData uri="http://schemas.openxmlformats.org/drawingml/2006/table">
            <a:tbl>
              <a:tblPr/>
              <a:tblGrid>
                <a:gridCol w="1511280"/>
                <a:gridCol w="1281240"/>
                <a:gridCol w="792000"/>
                <a:gridCol w="995400"/>
                <a:gridCol w="995400"/>
                <a:gridCol w="2112840"/>
                <a:gridCol w="884520"/>
              </a:tblGrid>
              <a:tr h="91800"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زمن"حصة دراسية 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أدوات التقو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600" spc="-1" strike="noStrike">
                          <a:solidFill>
                            <a:srgbClr val="800080"/>
                          </a:solidFill>
                          <a:latin typeface="Arial"/>
                          <a:cs typeface="Monotype Koufi"/>
                        </a:rPr>
                        <a:t>التدري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عناصر المحتو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"الأهداف السلوك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عنوان الدر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تقن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لأنشطة المقتر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cs typeface="Times New Roman"/>
                        </a:rPr>
                        <a:t>استراتيجيات التدري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e0e0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748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من خلال  بطاقات مختلفة للأحرف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مجموعة من الصو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توزيع صور أفراد العائلة على الطالب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اقش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وحو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1f497d"/>
                          </a:solidFill>
                          <a:latin typeface="Arial"/>
                          <a:cs typeface="Times New Roman"/>
                        </a:rPr>
                        <a:t>أن تعبر الطالبة  عن محتوى الصور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تعرف الطالبة بنفسها وأسرتها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أن تمييز الطالبة موقع حرف"م"  المختلف في الكل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درس الأو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01060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 خلال أنشطة موجودة على الحاسو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مصادر الموجودة في المكتبة "الحاسوب – الكتب 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ذهاب إلى مكتبة المدرس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لتحقيق الأهدا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بحث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-  أن تقرأ الطالبة الكلمات المشتملة على حرف "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-أن تحلل الطالبة الكلمات  المشتملة على حرف "ب"إلى أحر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- أن تتعرف الطالبة على الضمير " أنا "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درس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الثا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43684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ستكشاف طريقة للتقييم من قبل الطالبة المتميز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سبورة الذك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ذهاب إلى حديقة المدرسة وتفعيل مابها من ورود لتحقيق أهداف الدر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وحو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3399"/>
                          </a:solidFill>
                          <a:latin typeface="Arial"/>
                          <a:cs typeface="Times New Roman"/>
                        </a:rPr>
                        <a:t>أن تكتب الطالبة حرف –ل-   بشكل مفرد ,وبإختلاف مواضعها باستخدام الصلصا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أن  تتهجئ  الطالبة كلمات جديدة مكونة من الحروف المستهدف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- أن تتعرف الطالبة على الضمير هو ,هي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الدرس</a:t>
                      </a: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 الثالث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3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80008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 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 الدرس الراب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26600"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3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 rtl="1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AE" sz="1400" spc="-1" strike="noStrike">
                          <a:solidFill>
                            <a:srgbClr val="333399"/>
                          </a:solidFill>
                          <a:latin typeface="Arial"/>
                          <a:cs typeface="Times New Roman"/>
                        </a:rPr>
                        <a:t>الدرس الخام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3500280" y="1428840"/>
            <a:ext cx="381240" cy="552240"/>
          </a:xfrm>
          <a:custGeom>
            <a:avLst/>
            <a:gdLst>
              <a:gd name="textAreaLeft" fmla="*/ 243720 w 381240"/>
              <a:gd name="textAreaRight" fmla="*/ 381600 w 381240"/>
              <a:gd name="textAreaTop" fmla="*/ 14400 h 552240"/>
              <a:gd name="textAreaBottom" fmla="*/ 537840 h 55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4786200" y="1114560"/>
            <a:ext cx="400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800080"/>
                </a:solidFill>
                <a:latin typeface="Arial"/>
                <a:cs typeface="Monotype Koufi"/>
              </a:rPr>
              <a:t>فيما يلي صمم/حدد أدوات التقويم المناسبة للكشف عن معلومات المتعلمين الساب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800080"/>
                </a:solidFill>
                <a:latin typeface="Arial"/>
                <a:ea typeface="Monotype Koufi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Calibri"/>
                <a:cs typeface="Monotype Koufi"/>
              </a:rPr>
              <a:t>أذكري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onotype Koufi"/>
              </a:rPr>
              <a:t>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Calibri"/>
                <a:cs typeface="Monotype Koufi"/>
              </a:rPr>
              <a:t>صنفي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onotype Koufi"/>
              </a:rPr>
              <a:t>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2"/>
          <p:cNvSpPr/>
          <p:nvPr/>
        </p:nvSpPr>
        <p:spPr>
          <a:xfrm>
            <a:off x="122760" y="1571760"/>
            <a:ext cx="370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قبلي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لما قبلها من الوحد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A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3357720" y="3071880"/>
            <a:ext cx="380880" cy="838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929040" y="2509920"/>
            <a:ext cx="4714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800080"/>
                </a:solidFill>
                <a:latin typeface="Arial"/>
                <a:cs typeface="Monotype Koufi"/>
              </a:rPr>
              <a:t>فيما يلي صمم/حدد أدوات تقويم مناسبة للكشف عن مدى تحقق كل هدف من أهداف الوحدة/ مجموعة الدرو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3399"/>
              </a:buClr>
              <a:buFont typeface="Arial"/>
              <a:buChar char="•"/>
              <a:tabLst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333399"/>
                </a:solidFill>
                <a:latin typeface="Arial"/>
                <a:cs typeface="Monotype Koufi"/>
              </a:rPr>
              <a:t>وضحي كيف 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3399"/>
              </a:buClr>
              <a:buFont typeface="Arial"/>
              <a:buChar char="•"/>
              <a:tabLst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333399"/>
                </a:solidFill>
                <a:latin typeface="Arial"/>
                <a:cs typeface="Monotype Koufi"/>
              </a:rPr>
              <a:t>رتبي بالتسلسل   ............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3399"/>
              </a:buClr>
              <a:buFont typeface="Arial"/>
              <a:buChar char="•"/>
              <a:tabLst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333399"/>
                </a:solidFill>
                <a:latin typeface="Arial"/>
                <a:cs typeface="Monotype Koufi"/>
              </a:rPr>
              <a:t>اختاري مجموعة 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3399"/>
              </a:buClr>
              <a:buFont typeface="Arial"/>
              <a:buChar char="•"/>
              <a:tabLst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333399"/>
                </a:solidFill>
                <a:latin typeface="Arial"/>
                <a:cs typeface="Monotype Koufi"/>
              </a:rPr>
              <a:t>ارسمي مثالاً 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8960"/>
                <a:tab algn="l" pos="1128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16"/>
          <p:cNvSpPr/>
          <p:nvPr/>
        </p:nvSpPr>
        <p:spPr>
          <a:xfrm>
            <a:off x="49320" y="3214800"/>
            <a:ext cx="32198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0066"/>
                </a:solidFill>
                <a:latin typeface="Arial"/>
                <a:cs typeface="Monotype Koufi"/>
              </a:rPr>
              <a:t>بعدي </a:t>
            </a:r>
            <a:r>
              <a:rPr b="0" lang="ar-AE" sz="1800" spc="-1" strike="noStrike">
                <a:solidFill>
                  <a:srgbClr val="333399"/>
                </a:solidFill>
                <a:latin typeface="Arial"/>
                <a:ea typeface="Monotype Koufi"/>
              </a:rPr>
              <a:t> لجميع دروس الوحد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3301200" y="286200"/>
            <a:ext cx="2331000" cy="307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 u="sng">
                <a:solidFill>
                  <a:srgbClr val="800080"/>
                </a:solidFill>
                <a:uFillTx/>
                <a:latin typeface="Arial"/>
                <a:cs typeface="Monotype Koufi"/>
              </a:rPr>
              <a:t>تابع نموذج (</a:t>
            </a:r>
            <a:r>
              <a:rPr b="1" lang="ar-AE" sz="14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2</a:t>
            </a:r>
            <a:r>
              <a:rPr b="1" lang="ar-AE" sz="1400" spc="-1" strike="noStrike" u="sng">
                <a:solidFill>
                  <a:srgbClr val="800080"/>
                </a:solidFill>
                <a:uFillTx/>
                <a:latin typeface="Arial"/>
                <a:ea typeface="Monotype Koufi"/>
              </a:rPr>
              <a:t>): التخط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مربع نص 10" descr=""/>
          <p:cNvPicPr/>
          <p:nvPr/>
        </p:nvPicPr>
        <p:blipFill>
          <a:blip r:embed="rId1"/>
          <a:stretch/>
        </p:blipFill>
        <p:spPr>
          <a:xfrm>
            <a:off x="5559480" y="285840"/>
            <a:ext cx="154764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9:25:26Z</dcterms:created>
  <dc:creator>MAHA</dc:creator>
  <dc:description/>
  <dc:language>en-US</dc:language>
  <cp:lastModifiedBy>DELL</cp:lastModifiedBy>
  <dcterms:modified xsi:type="dcterms:W3CDTF">2017-11-07T06:09:33Z</dcterms:modified>
  <cp:revision>22</cp:revision>
  <dc:subject/>
  <dc:title>الشريحة 1</dc:title>
</cp:coreProperties>
</file>