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6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3.jpeg" ContentType="image/jpeg"/>
  <Override PartName="/ppt/media/image20.gif" ContentType="image/gif"/>
  <Override PartName="/ppt/media/image23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2.wmf" ContentType="image/x-wmf"/>
  <Override PartName="/ppt/media/image21.jpeg" ContentType="image/jpeg"/>
  <Override PartName="/ppt/media/image16.jpeg" ContentType="image/jpeg"/>
  <Override PartName="/ppt/media/image19.gif" ContentType="image/gif"/>
  <Override PartName="/ppt/media/image15.wmf" ContentType="image/x-wmf"/>
  <Override PartName="/ppt/media/image1.jpeg" ContentType="image/jpeg"/>
  <Override PartName="/ppt/media/image6.jpeg" ContentType="image/jpeg"/>
  <Override PartName="/ppt/media/image10.png" ContentType="image/png"/>
  <Override PartName="/ppt/media/image17.png" ContentType="image/png"/>
  <Override PartName="/ppt/media/image4.jpeg" ContentType="image/jpeg"/>
  <Override PartName="/ppt/media/image14.wmf" ContentType="image/x-wmf"/>
  <Override PartName="/ppt/media/image5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d7a"/>
                </a:solidFill>
                <a:latin typeface="Impact"/>
              </a:rPr>
              <a:t>Click to move the slide</a:t>
            </a: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2E7C-5120-48FC-BAF1-A1881FD6768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398B-8B28-4FE5-AC5D-33C99A4C7FD8}" type="slidenum">
              <a:rPr b="0" lang="ar-SA" sz="1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D2D8-C6B5-4182-8CF5-7920EF671716}" type="slidenum">
              <a:rPr b="0" lang="ar-SA" sz="1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847A-0AEA-496D-BD21-03380244374A}" type="slidenum">
              <a:rPr b="0" lang="ar-SA" sz="1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C09D-0617-4925-B46B-B0F01AB26021}" type="slidenum">
              <a:rPr b="0" lang="ar-SA" sz="1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9143-4087-462D-9388-3B7D643FB4C6}" type="slidenum">
              <a:rPr b="0" lang="ar-SA" sz="1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Why do people have mental proble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Worries – loss of meaning in life – Fears – Anxiety - Biologic factors – Loss of emotional control – Ineffective communication – manipulation – excessive dependency – withdrawal from relationships – homelessness – sexism – ageism – poverty – violence – racism – lack of resources – substance abuse or depen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number of individuals who have mental problems is in the millions?  Majority of mental health individuals are not in mental hospitals.  Will see everyw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Mental Health or psychiatric nursing has come a long way over the last 50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0060-8C2B-4E0F-A66C-C35448CE851C}" type="slidenum">
              <a:rPr b="0" lang="ar-SA" sz="1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reud: conscious &amp; person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Conscious, subconscious, unconsci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ersonality: id – self (pleasure princip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ego – reality (reality princip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uperego – mor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nxiety needs defense mech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Erikson: developmental tasks not just from instinctual and biological to social and cultu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life-sp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5720-09F3-49F5-B28F-5976423F0401}" type="slidenum">
              <a:rPr b="0" lang="ar-SA" sz="1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50C3-4C01-4DDC-A2FA-456C0E384F3F}" type="slidenum">
              <a:rPr b="0" lang="ar-SA" sz="1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w do these theories relate to one anoth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Why do we even look at theor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Enables practice to be in a frame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Nursing uses these theories 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Guidelines for understanding clinical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rescriptions for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ides in predicting outcomes of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y are all a way of interpreting clinical 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24BC-33F3-423C-89AB-3B2EB6D50AF9}" type="slidenum">
              <a:rPr b="0" lang="ar-SA" sz="1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ome feel there is a pre-interaction phase – this is the time you find out about the patient before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Examine own feeling, fears and anxieties about working with mental diso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With intro and working phase may se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ransference – past feeling onto n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Counter-transference – nurse transfers feelings onto patient because of their pa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9C68-8FFE-4FB4-A712-BEB3266766B6}" type="slidenum">
              <a:rPr b="0" lang="ar-SA" sz="1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ositive Reg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on-judgmen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ccep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arm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mpat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uthent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4530-1390-452C-A504-496E3B019157}" type="slidenum">
              <a:rPr b="0" lang="ar-SA" sz="1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ink independently – use the knowledge we have to make our own deci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umility – we do not know it 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Courage – willingness to look at other views ways of doing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egrity – question our own beliefs as quickly as we do 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erseverance – seek to come to right answer not the quick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Empathy – understanding the other per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air-mindedness – look at all the view points before making a dec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6800-5C3A-43BD-84C0-AEE990C0B0C2}" type="slidenum">
              <a:rPr b="0" lang="ar-SA" sz="1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ecause there is such a variation in the definition of mental health/illness there can be confli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ecause of the cultural, family and individual difference defining or putting a label on individual can be mislea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first step in understanding and working with mentally ill patients is to understand your 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What is mental health to you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What is mental illness to you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One nurse described mental illness as the mind expressing it discomfort through thoughts, feelings, and behavi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able to work with the mentally ill patient the must must under stand 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We are a product of our beliefs and values  and those beliefs and values can impact how we respond to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Give me examples of how your beliefs impact your reaction to 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Mental illness has a stigma attached to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Each person is a composite of the mind, body, spirit and environ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06CA-C993-4050-970D-16AFB6AF9BBE}" type="slidenum">
              <a:rPr b="0" lang="ar-SA" sz="1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General Appea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hysical appearance – grooming – posture – speech – respon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Expressive behavi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general movement  - gait – ges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Level of Consciousn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t process and percep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0C5D-D88D-4359-8818-ECA952808A1B}" type="slidenum">
              <a:rPr b="0" lang="ar-SA" sz="1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Not concr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Life long process that includes sense of harmony and balance for the individual, family and friends and commun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is an increase in the world today of mental behavioral and social health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8B83-A97B-45FF-9FAB-FE0C31F52623}" type="slidenum">
              <a:rPr b="0" lang="ar-SA" sz="1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7471-3965-425A-A806-9C0037217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81672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34B1-0D0D-4975-B1B1-32D8E440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8600" y="990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816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88600" y="3816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7103-D8D6-4970-BE1C-D783F771D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0600" y="9907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4520" y="9907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8167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0600" y="38167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4520" y="38167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23FD-C54C-4F41-B5C7-61DDF6B72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1A7F4-136C-4D31-AF7D-6596DC5D0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68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FAAC-2B58-4996-8E3A-CA4AD956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CB99D-5C38-46D8-8A5B-ECB7C2AD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88600" y="99072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992BB-FAB2-48EC-B509-45F7114D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37A6-DBD2-4068-BD24-AE831938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76320"/>
            <a:ext cx="9144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0A2BC-D893-42B8-8DF7-03063B82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88600" y="99072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680" y="3816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DC7BF-134F-4EFD-AEED-68775923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1E37-6A48-4C57-A04C-56F12184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990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88600" y="3816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ED63-6355-4A4C-85F2-C4E65B6C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990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381672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4862-EA27-451E-99EF-4E34E9A1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680" y="381672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B569-5C03-4F69-874F-9EA5210B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88600" y="990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680" y="3816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88600" y="3816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4341-7786-4ABD-A3B7-1846B2F91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0600" y="9907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74520" y="9907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680" y="38167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20600" y="38167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74520" y="38167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B9120-DFC7-4E38-8E2F-E5BCCD3F2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26A0-6F4A-4A7C-96A1-E37A4325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88600" y="99072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5670-137D-4FFB-9E29-8DA1775A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F79D-D0A7-4BF8-8B98-9927FD43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76320"/>
            <a:ext cx="9144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7A28-2EDD-4C9B-A249-FB630915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88600" y="99072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816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0915-EC53-4896-9E3E-10E53403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88600" y="990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88600" y="3816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1049-D102-48E9-A919-C6E42F3B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88600" y="990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81672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0A4C-4282-4929-99C0-D63E49FF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d7a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0808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80808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80808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844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9FD7-C28F-4A56-B1DF-7B9CF86419A6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E031-C252-4FBE-97ED-62ECAE5A14B5}" type="slidenum">
              <a:rPr b="0" lang="ar-SA" sz="10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d7a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68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0808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80808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80808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111A-2AEA-437B-8148-54E54A27F5F2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80808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436B-8047-4DE8-89CB-F3F947948BF0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facebook.com/photo.php?pid=3077867&amp;id=775056648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3"/>
          <p:cNvSpPr txBox="1"/>
          <p:nvPr/>
        </p:nvSpPr>
        <p:spPr>
          <a:xfrm>
            <a:off x="1293840" y="857160"/>
            <a:ext cx="6553080" cy="3467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 Black"/>
              </a:rPr>
              <a:t>Mental Healt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 Black"/>
              <a:ea typeface="Arial Black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905120" y="5334120"/>
            <a:ext cx="533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91" name="Picture 2" descr="C:\Users\Strawberry\Documents\Level 8\CHS 446, Communication skills\images (4).jpg"/>
          <p:cNvPicPr/>
          <p:nvPr/>
        </p:nvPicPr>
        <p:blipFill>
          <a:blip r:embed="rId1"/>
          <a:stretch/>
        </p:blipFill>
        <p:spPr>
          <a:xfrm>
            <a:off x="2527200" y="1612800"/>
            <a:ext cx="3954600" cy="3645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6"/>
          <p:cNvSpPr/>
          <p:nvPr/>
        </p:nvSpPr>
        <p:spPr>
          <a:xfrm>
            <a:off x="1747800" y="5460840"/>
            <a:ext cx="5931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f3d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1f3d"/>
                </a:solidFill>
                <a:latin typeface="Tahoma"/>
              </a:rPr>
              <a:t>PROF. DR.ELHAM FAYAD</a:t>
            </a:r>
            <a:endParaRPr b="0" lang="en-US" sz="3200" spc="-1" strike="noStrike">
              <a:solidFill>
                <a:srgbClr val="80808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f3d"/>
                </a:solidFill>
                <a:latin typeface="Tahoma"/>
              </a:rPr>
              <a:t>Professor of Psychiatric &amp; Mental Health</a:t>
            </a:r>
            <a:endParaRPr b="0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93" name="Date Placeholder 1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4637-D2CB-4D1B-800C-1255C2F4E743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94" name="Footer Placeholder 2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E843-CE74-428C-9CB1-161DC1BC6626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1008000" y="604800"/>
            <a:ext cx="7182000" cy="568800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1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D219-8366-411A-9ED9-23A20862CDC0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43" name="Footer Placeholder 2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08D4-A03C-47AB-9339-302746AEEC0B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257040" y="673200"/>
            <a:ext cx="8429760" cy="5770440"/>
          </a:xfrm>
          <a:prstGeom prst="rect">
            <a:avLst/>
          </a:prstGeom>
          <a:ln w="0">
            <a:noFill/>
          </a:ln>
        </p:spPr>
      </p:pic>
      <p:sp>
        <p:nvSpPr>
          <p:cNvPr id="146" name="Date Placeholder 1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9800-E096-4A1D-AC79-EBEFC452E260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47" name="Footer Placeholder 2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5E22-E41B-4E2E-8F89-D783E0B42895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09320" y="1177920"/>
            <a:ext cx="4559400" cy="445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d7a"/>
                </a:solidFill>
                <a:latin typeface="Impact"/>
              </a:rPr>
              <a:t>What  are the components of a mentally healthy person??</a:t>
            </a:r>
            <a:endParaRPr b="0" lang="en-US" sz="48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150" name="Date Placeholder 1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E7C7-8301-4363-8D52-7FDFF056A4B3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51" name="Footer Placeholder 2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06E1-EB80-40D2-80A0-0B781EFD7A86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6720" y="422280"/>
            <a:ext cx="820728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d7a"/>
                </a:solidFill>
                <a:latin typeface="Impact"/>
              </a:rPr>
              <a:t>Emotional Intelligence</a:t>
            </a: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1682640"/>
            <a:ext cx="784872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d7a"/>
                </a:solidFill>
                <a:latin typeface="Tahoma"/>
              </a:rPr>
              <a:t>Managing your own emotions internally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d7a"/>
                </a:solidFill>
                <a:latin typeface="Tahoma"/>
              </a:rPr>
              <a:t>Emotional self control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d7a"/>
                </a:solidFill>
                <a:latin typeface="Tahoma"/>
              </a:rPr>
              <a:t>Recognizing emotions in others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d7a"/>
                </a:solidFill>
                <a:latin typeface="Tahoma"/>
              </a:rPr>
              <a:t>Handling Relationships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55" name="Date Placeholder 1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2435-182C-4259-8C0D-6E95EBD9584C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56" name="Footer Placeholder 2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DD57-C862-4CB5-8422-9B0A117B0E49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77680" y="569880"/>
            <a:ext cx="8265960" cy="117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d7a"/>
                </a:solidFill>
                <a:latin typeface="Impact"/>
              </a:rPr>
              <a:t>Resiliency</a:t>
            </a:r>
            <a:endParaRPr b="0" lang="en-US" sz="48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52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d7a"/>
                </a:solidFill>
                <a:latin typeface="Tahoma"/>
              </a:rPr>
              <a:t>Insight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d7a"/>
                </a:solidFill>
                <a:latin typeface="Tahoma"/>
              </a:rPr>
              <a:t>Independence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d7a"/>
                </a:solidFill>
                <a:latin typeface="Tahoma"/>
              </a:rPr>
              <a:t>Relationships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d7a"/>
                </a:solidFill>
                <a:latin typeface="Tahoma"/>
              </a:rPr>
              <a:t>Initiative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d7a"/>
                </a:solidFill>
                <a:latin typeface="Tahoma"/>
              </a:rPr>
              <a:t>Creativity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d7a"/>
                </a:solidFill>
                <a:latin typeface="Tahoma"/>
              </a:rPr>
              <a:t>Humor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d7a"/>
                </a:solidFill>
                <a:latin typeface="Tahoma"/>
              </a:rPr>
              <a:t>Optimistic approach to life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d7a"/>
                </a:solidFill>
                <a:latin typeface="Tahoma"/>
              </a:rPr>
              <a:t>Morality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60" name="Date Placeholder 1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BF96-8945-4772-8D0A-B4149CD32BCB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61" name="Footer Placeholder 2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A6F4-502E-4975-B411-DBD0CE1C2891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02800" y="201600"/>
            <a:ext cx="3272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d7a"/>
                </a:solidFill>
                <a:latin typeface="Impact"/>
              </a:rPr>
              <a:t>Spirituality</a:t>
            </a:r>
            <a:endParaRPr b="0" lang="en-US" sz="48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0600" y="1088640"/>
            <a:ext cx="85248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d7a"/>
                </a:solidFill>
                <a:latin typeface="Tahoma"/>
              </a:rPr>
              <a:t>Relationships, values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d7a"/>
                </a:solidFill>
                <a:latin typeface="Tahoma"/>
              </a:rPr>
              <a:t>Questions of purpose of meaning in life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165" name="Picture 2" descr="http://sphotos.ak.fbcdn.net/hphotos-ak-snc3/hs003.snc3/11044_200046016648_775056648_3077865_5484628_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2836800"/>
            <a:ext cx="8643960" cy="3778200"/>
          </a:xfrm>
          <a:prstGeom prst="rect">
            <a:avLst/>
          </a:prstGeom>
          <a:ln w="0">
            <a:noFill/>
          </a:ln>
        </p:spPr>
      </p:pic>
      <p:sp>
        <p:nvSpPr>
          <p:cNvPr id="166" name="Date Placeholder 1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E328-0A11-45F1-8464-F672A25EDFB9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67" name="Footer Placeholder 2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598F-1E55-4531-96E1-E3E7DED1752A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Tahoma"/>
              </a:rPr>
              <a:t>Concepts of positive mental health</a:t>
            </a: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75840" y="990720"/>
            <a:ext cx="8566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1f3d"/>
                </a:solidFill>
                <a:latin typeface="Tahoma"/>
              </a:rPr>
              <a:t>1- Positive attitude towards self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1f3d"/>
                </a:solidFill>
                <a:latin typeface="Tahoma"/>
              </a:rPr>
              <a:t>2- Growth, development &amp; self-actualisation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1f3d"/>
                </a:solidFill>
                <a:latin typeface="Tahoma"/>
              </a:rPr>
              <a:t>3- Integrative capacity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1f3d"/>
                </a:solidFill>
                <a:latin typeface="Tahoma"/>
              </a:rPr>
              <a:t>4- Autonomous behaviour : (self-governance)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1f3d"/>
                </a:solidFill>
                <a:latin typeface="Tahoma"/>
              </a:rPr>
              <a:t>5- Perceiving reality accurately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1f3d"/>
                </a:solidFill>
                <a:latin typeface="Tahoma"/>
              </a:rPr>
              <a:t>6- Mastery of one’s environment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1f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71" name="Date Placeholder 1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08C3-A915-4FCF-AAE8-3CCD58B3804D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72" name="Footer Placeholder 3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40A9-3118-4B34-9038-302D85971F21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00000"/>
                </a:solidFill>
                <a:latin typeface="Impact"/>
              </a:rPr>
              <a:t>Characteristics of mentally healthy persons</a:t>
            </a: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8200" y="1371600"/>
            <a:ext cx="8377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1f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f3d"/>
                </a:solidFill>
                <a:latin typeface="Tahoma"/>
              </a:rPr>
              <a:t>Perceive self, others, &amp; events correctly.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1f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f3d"/>
                </a:solidFill>
                <a:latin typeface="Tahoma"/>
              </a:rPr>
              <a:t>Recognize own strengths, weaknesses, capabilities and limitations.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1f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f3d"/>
                </a:solidFill>
                <a:latin typeface="Tahoma"/>
              </a:rPr>
              <a:t>Separate fantasy from reality.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1f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1f3d"/>
                </a:solidFill>
                <a:latin typeface="Times New Roman"/>
                <a:ea typeface="Times New Roman"/>
              </a:rPr>
              <a:t>Develop and demonstrate appropriate sense of humour.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1f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1f3d"/>
                </a:solidFill>
                <a:latin typeface="Times New Roman"/>
                <a:ea typeface="Times New Roman"/>
              </a:rPr>
              <a:t>Express emotions.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1f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1f3d"/>
                </a:solidFill>
                <a:latin typeface="Times New Roman"/>
                <a:ea typeface="Times New Roman"/>
              </a:rPr>
              <a:t>Exhibit congruent behaviours.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1f3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76" name="Date Placeholder 1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E5A9-8B44-4D12-B556-1F6031EBC1F5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88DD-7714-49F4-85AF-71C8F636436E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"/>
          <p:cNvSpPr/>
          <p:nvPr/>
        </p:nvSpPr>
        <p:spPr>
          <a:xfrm>
            <a:off x="538200" y="282600"/>
            <a:ext cx="80136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001f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1f3d"/>
                </a:solidFill>
                <a:latin typeface="Tahoma"/>
              </a:rPr>
              <a:t>Accept self &amp; others as uniquely different, but humanly similar.</a:t>
            </a:r>
            <a:endParaRPr b="0" lang="en-US" sz="3600" spc="-1" strike="noStrike">
              <a:solidFill>
                <a:srgbClr val="808080"/>
              </a:solidFill>
              <a:latin typeface="Tahoma"/>
            </a:endParaRPr>
          </a:p>
          <a:p>
            <a:pPr marL="571680" indent="-571680">
              <a:buClr>
                <a:srgbClr val="001f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1f3d"/>
                </a:solidFill>
                <a:latin typeface="Tahoma"/>
              </a:rPr>
              <a:t>Find beauty, joy, goodness in self, others, environment.</a:t>
            </a:r>
            <a:endParaRPr b="0" lang="en-US" sz="3600" spc="-1" strike="noStrike">
              <a:solidFill>
                <a:srgbClr val="808080"/>
              </a:solidFill>
              <a:latin typeface="Tahoma"/>
            </a:endParaRPr>
          </a:p>
          <a:p>
            <a:pPr marL="571680" indent="-571680">
              <a:buClr>
                <a:srgbClr val="001f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1f3d"/>
                </a:solidFill>
                <a:latin typeface="Tahoma"/>
              </a:rPr>
              <a:t>Be creative.</a:t>
            </a:r>
            <a:endParaRPr b="0" lang="en-US" sz="3600" spc="-1" strike="noStrike">
              <a:solidFill>
                <a:srgbClr val="808080"/>
              </a:solidFill>
              <a:latin typeface="Tahoma"/>
            </a:endParaRPr>
          </a:p>
          <a:p>
            <a:pPr marL="571680" indent="-571680">
              <a:buClr>
                <a:srgbClr val="001f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1f3d"/>
                </a:solidFill>
                <a:latin typeface="Tahoma"/>
              </a:rPr>
              <a:t>Be optimistic but realistic</a:t>
            </a:r>
            <a:r>
              <a:rPr b="0" lang="en-GB" sz="3600" spc="-1" strike="noStrike">
                <a:solidFill>
                  <a:srgbClr val="001f3d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80808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buClr>
                <a:srgbClr val="001f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1f3d"/>
                </a:solidFill>
                <a:latin typeface="Times New Roman"/>
                <a:ea typeface="Times New Roman"/>
              </a:rPr>
              <a:t>Use talents to fullest.</a:t>
            </a:r>
            <a:endParaRPr b="0" lang="en-US" sz="3600" spc="-1" strike="noStrike">
              <a:solidFill>
                <a:srgbClr val="80808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buClr>
                <a:srgbClr val="001f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1f3d"/>
                </a:solidFill>
                <a:latin typeface="Times New Roman"/>
                <a:ea typeface="Times New Roman"/>
              </a:rPr>
              <a:t>Involve self in purposeful, meaningful life work .</a:t>
            </a:r>
            <a:endParaRPr b="0" lang="en-US" sz="3600" spc="-1" strike="noStrike">
              <a:solidFill>
                <a:srgbClr val="80808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buClr>
                <a:srgbClr val="001f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1f3d"/>
                </a:solidFill>
                <a:latin typeface="Times New Roman"/>
                <a:ea typeface="Times New Roman"/>
              </a:rPr>
              <a:t>Engage in play.</a:t>
            </a:r>
            <a:endParaRPr b="0" lang="en-US" sz="36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80" name="Date Placeholder 2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15CA-F066-415C-BF4F-A6F78C4D4F99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81" name="Footer Placeholder 3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0976-3B15-49B7-A2F7-46449B0DAD7B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>
            <a:off x="162000" y="523800"/>
            <a:ext cx="5230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1f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f3d"/>
                </a:solidFill>
                <a:latin typeface="Times New Roman"/>
                <a:ea typeface="Times New Roman"/>
              </a:rPr>
              <a:t>Accept responsibility for actions.</a:t>
            </a:r>
            <a:endParaRPr b="0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457200" indent="-457200">
              <a:buClr>
                <a:srgbClr val="001f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1f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f3d"/>
                </a:solidFill>
                <a:latin typeface="Times New Roman"/>
                <a:ea typeface="Times New Roman"/>
              </a:rPr>
              <a:t>Control impulses and behaviour.</a:t>
            </a:r>
            <a:endParaRPr b="0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457200" indent="-457200">
              <a:buClr>
                <a:srgbClr val="001f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1f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f3d"/>
                </a:solidFill>
                <a:latin typeface="Times New Roman"/>
                <a:ea typeface="Times New Roman"/>
              </a:rPr>
              <a:t>Delay gratification.</a:t>
            </a:r>
            <a:endParaRPr b="0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457200" indent="-457200">
              <a:buClr>
                <a:srgbClr val="001f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1f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f3d"/>
                </a:solidFill>
                <a:latin typeface="Times New Roman"/>
                <a:ea typeface="Times New Roman"/>
              </a:rPr>
              <a:t>Function independently.</a:t>
            </a:r>
            <a:endParaRPr b="0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457200" indent="-457200">
              <a:buClr>
                <a:srgbClr val="001f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1f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f3d"/>
                </a:solidFill>
                <a:latin typeface="Times New Roman"/>
                <a:ea typeface="Times New Roman"/>
              </a:rPr>
              <a:t>Relate to others</a:t>
            </a:r>
            <a:endParaRPr b="0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457200" indent="-457200">
              <a:buClr>
                <a:srgbClr val="001f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1f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f3d"/>
                </a:solidFill>
                <a:latin typeface="Times New Roman"/>
                <a:ea typeface="Times New Roman"/>
              </a:rPr>
              <a:t>Seek self-actualisation</a:t>
            </a:r>
            <a:endParaRPr b="0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1f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graphicFrame>
        <p:nvGraphicFramePr>
          <p:cNvPr id="184" name="Object 4"/>
          <p:cNvGraphicFramePr/>
          <p:nvPr/>
        </p:nvGraphicFramePr>
        <p:xfrm>
          <a:off x="5110200" y="282600"/>
          <a:ext cx="4033800" cy="657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0200" y="282600"/>
                    <a:ext cx="4033800" cy="657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Date Placeholder 2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FE67-BC9B-402A-ACB2-F98A8A471046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87" name="Footer Placeholder 3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3BB6-C112-4C1A-9A28-4045134AF9DB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0840" y="537840"/>
            <a:ext cx="81882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d7a"/>
                </a:solidFill>
                <a:latin typeface="Impact"/>
              </a:rPr>
              <a:t>What is the ultimate goal of psychiatric client care</a:t>
            </a: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9800" y="1936800"/>
            <a:ext cx="8445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b6bc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6bcf"/>
                </a:solidFill>
                <a:latin typeface="Tahoma"/>
              </a:rPr>
              <a:t>To promote client toward mental health….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98" name="Picture 3" descr="EB_March_A06_Fig01.jpg"/>
          <p:cNvPicPr/>
          <p:nvPr/>
        </p:nvPicPr>
        <p:blipFill>
          <a:blip r:embed="rId1"/>
          <a:stretch/>
        </p:blipFill>
        <p:spPr>
          <a:xfrm>
            <a:off x="4908600" y="2635200"/>
            <a:ext cx="3414600" cy="3967200"/>
          </a:xfrm>
          <a:prstGeom prst="rect">
            <a:avLst/>
          </a:prstGeom>
          <a:ln cap="sq" w="38160">
            <a:solidFill>
              <a:srgbClr val="cc66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99" name="Date Placeholder 1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B1A2-4FA3-48A4-B5CB-49467C9E785B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76D9-1AED-45FD-B7E5-81E8E288C9AE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5640" y="75960"/>
            <a:ext cx="4422600" cy="161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d7a"/>
                </a:solidFill>
                <a:latin typeface="Impact"/>
              </a:rPr>
              <a:t>Mental Health</a:t>
            </a:r>
            <a:endParaRPr b="0" lang="en-US" sz="48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67840" y="1411200"/>
            <a:ext cx="455940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d7a"/>
                </a:solidFill>
                <a:latin typeface="Tahoma"/>
                <a:ea typeface="Times New Roman"/>
              </a:rPr>
              <a:t>Why do people have mental problems?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d7a"/>
                </a:solidFill>
                <a:latin typeface="Tahoma"/>
                <a:ea typeface="Times New Roman"/>
              </a:rPr>
              <a:t>How do we come to an understanding of mental illness?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191" name="Picture 3" descr="EB_March_A06_Fig01.jpg"/>
          <p:cNvPicPr/>
          <p:nvPr/>
        </p:nvPicPr>
        <p:blipFill>
          <a:blip r:embed="rId1"/>
          <a:stretch/>
        </p:blipFill>
        <p:spPr>
          <a:xfrm>
            <a:off x="4908600" y="1035000"/>
            <a:ext cx="3898800" cy="5567400"/>
          </a:xfrm>
          <a:prstGeom prst="rect">
            <a:avLst/>
          </a:prstGeom>
          <a:ln cap="sq" w="38160">
            <a:solidFill>
              <a:srgbClr val="cc66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92" name="Date Placeholder 1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B6D1-4644-49CF-AA06-AFC3C1FD5F3A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93" name="Footer Placeholder 2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94" name="Slide Number Placeholder 4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A6AB-A73D-4C49-AF39-21E39A1D1F35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66720" y="706320"/>
            <a:ext cx="8477280" cy="12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d7a"/>
                </a:solidFill>
                <a:latin typeface="Impact"/>
              </a:rPr>
              <a:t>Mental Health Theories</a:t>
            </a:r>
            <a:endParaRPr b="0" lang="en-US" sz="54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47240" y="2066400"/>
            <a:ext cx="7412040" cy="412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d7a"/>
                </a:solidFill>
                <a:latin typeface="Tahoma"/>
              </a:rPr>
              <a:t>Intrapersonal</a:t>
            </a:r>
            <a:endParaRPr b="1" lang="en-US" sz="48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d7a"/>
                </a:solidFill>
                <a:latin typeface="Tahoma"/>
              </a:rPr>
              <a:t>Freud</a:t>
            </a:r>
            <a:endParaRPr b="1" lang="en-US" sz="36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d7a"/>
                </a:solidFill>
                <a:latin typeface="Tahoma"/>
              </a:rPr>
              <a:t>Erikson</a:t>
            </a:r>
            <a:endParaRPr b="1" lang="en-US" sz="36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d7a"/>
                </a:solidFill>
                <a:latin typeface="Tahoma"/>
              </a:rPr>
              <a:t>Social-Interpersonal</a:t>
            </a:r>
            <a:endParaRPr b="1" lang="en-US" sz="48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d7a"/>
                </a:solidFill>
                <a:latin typeface="Tahoma"/>
              </a:rPr>
              <a:t>Sullivan</a:t>
            </a:r>
            <a:endParaRPr b="1" lang="en-US" sz="36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d7a"/>
                </a:solidFill>
                <a:latin typeface="Tahoma"/>
              </a:rPr>
              <a:t>Maslow</a:t>
            </a:r>
            <a:endParaRPr b="1" lang="en-US" sz="36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97" name="Date Placeholder 1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3B65-B5D2-46A6-832A-071C06C9A472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98" name="Footer Placeholder 2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977B-7F17-4F17-A149-E78DDC618EAC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48276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Impact"/>
              </a:rPr>
              <a:t>Game Time!!</a:t>
            </a:r>
            <a:endParaRPr b="0" lang="en-US" sz="48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2003040"/>
            <a:ext cx="38480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d7a"/>
                </a:solidFill>
                <a:latin typeface="Tahoma"/>
              </a:rPr>
              <a:t>Compensation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d7a"/>
                </a:solidFill>
                <a:latin typeface="Tahoma"/>
              </a:rPr>
              <a:t>Denial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d7a"/>
                </a:solidFill>
                <a:latin typeface="Tahoma"/>
              </a:rPr>
              <a:t>Displacement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d7a"/>
                </a:solidFill>
                <a:latin typeface="Tahoma"/>
              </a:rPr>
              <a:t>Identification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d7a"/>
                </a:solidFill>
                <a:latin typeface="Tahoma"/>
              </a:rPr>
              <a:t>Intellectualization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d7a"/>
                </a:solidFill>
                <a:latin typeface="Tahoma"/>
              </a:rPr>
              <a:t>Introjections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d7a"/>
                </a:solidFill>
                <a:latin typeface="Tahoma"/>
              </a:rPr>
              <a:t>Minimization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d7a"/>
                </a:solidFill>
                <a:latin typeface="Tahoma"/>
              </a:rPr>
              <a:t>Projection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437000" y="2219040"/>
            <a:ext cx="44784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d7a"/>
                </a:solidFill>
                <a:latin typeface="Tahoma"/>
              </a:rPr>
              <a:t>Reaction Formation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d7a"/>
                </a:solidFill>
                <a:latin typeface="Tahoma"/>
              </a:rPr>
              <a:t>Regression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d7a"/>
                </a:solidFill>
                <a:latin typeface="Tahoma"/>
              </a:rPr>
              <a:t>Repression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d7a"/>
                </a:solidFill>
                <a:latin typeface="Tahoma"/>
              </a:rPr>
              <a:t>Sublimation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d7a"/>
                </a:solidFill>
                <a:latin typeface="Tahoma"/>
              </a:rPr>
              <a:t>Substitution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d7a"/>
                </a:solidFill>
                <a:latin typeface="Tahoma"/>
              </a:rPr>
              <a:t>Undoing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d7a"/>
                </a:solidFill>
                <a:latin typeface="Tahoma"/>
              </a:rPr>
              <a:t>Rationalization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203" name="Picture 20" descr="MCj03971880000[1]"/>
          <p:cNvPicPr/>
          <p:nvPr/>
        </p:nvPicPr>
        <p:blipFill>
          <a:blip r:embed="rId1"/>
          <a:stretch/>
        </p:blipFill>
        <p:spPr>
          <a:xfrm>
            <a:off x="4894200" y="162000"/>
            <a:ext cx="3940200" cy="2043000"/>
          </a:xfrm>
          <a:prstGeom prst="rect">
            <a:avLst/>
          </a:prstGeom>
          <a:ln w="0">
            <a:noFill/>
          </a:ln>
        </p:spPr>
      </p:pic>
      <p:sp>
        <p:nvSpPr>
          <p:cNvPr id="204" name="Date Placeholder 1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8ACF-8994-41C8-BB47-6E8DA97B502E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05" name="Footer Placeholder 2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7F43-3F52-4A47-A8C9-8C1A3A85EDAA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68080" y="282600"/>
            <a:ext cx="85755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d7a"/>
                </a:solidFill>
                <a:latin typeface="Impact"/>
              </a:rPr>
              <a:t>Mental Health Theories</a:t>
            </a:r>
            <a:endParaRPr b="0" lang="en-US" sz="48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5240" y="1224000"/>
            <a:ext cx="865980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d7a"/>
                </a:solidFill>
                <a:latin typeface="Tahoma"/>
              </a:rPr>
              <a:t>Behavioral</a:t>
            </a:r>
            <a:endParaRPr b="1" lang="en-US" sz="44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d7a"/>
                </a:solidFill>
                <a:latin typeface="Tahoma"/>
              </a:rPr>
              <a:t>Skinner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d7a"/>
                </a:solidFill>
                <a:latin typeface="Tahoma"/>
              </a:rPr>
              <a:t>Cognitive</a:t>
            </a:r>
            <a:endParaRPr b="1" lang="en-US" sz="44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d7a"/>
                </a:solidFill>
                <a:latin typeface="Tahoma"/>
              </a:rPr>
              <a:t>Piaget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d7a"/>
                </a:solidFill>
                <a:latin typeface="Tahoma"/>
              </a:rPr>
              <a:t>Beck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209" name="Picture 2" descr="H:\Alexandria\PALACE.JPG"/>
          <p:cNvPicPr/>
          <p:nvPr/>
        </p:nvPicPr>
        <p:blipFill>
          <a:blip r:embed="rId1"/>
          <a:stretch/>
        </p:blipFill>
        <p:spPr>
          <a:xfrm>
            <a:off x="3724200" y="1384200"/>
            <a:ext cx="5419800" cy="5473800"/>
          </a:xfrm>
          <a:prstGeom prst="rect">
            <a:avLst/>
          </a:prstGeom>
          <a:ln w="0">
            <a:noFill/>
          </a:ln>
        </p:spPr>
      </p:pic>
      <p:sp>
        <p:nvSpPr>
          <p:cNvPr id="210" name="Date Placeholder 1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5115-6621-4310-994E-A641F3663AE4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11" name="Footer Placeholder 2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7C9D-E181-4C9A-89BC-4C9CEEB7294B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8200" y="188640"/>
            <a:ext cx="6764400" cy="107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61645"/>
                </a:solidFill>
                <a:latin typeface="Impact"/>
              </a:rPr>
              <a:t>Mental Health Theories</a:t>
            </a:r>
            <a:endParaRPr b="0" lang="en-US" sz="48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89000" y="1304640"/>
            <a:ext cx="501480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d7a"/>
                </a:solidFill>
                <a:latin typeface="Tahoma"/>
              </a:rPr>
              <a:t>Neurobiological  Theory</a:t>
            </a:r>
            <a:endParaRPr b="1" lang="en-US" sz="4000" spc="-1" strike="noStrike">
              <a:solidFill>
                <a:srgbClr val="80808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3d7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d7a"/>
                </a:solidFill>
                <a:latin typeface="Tahoma"/>
              </a:rPr>
              <a:t>Genetic Factors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3d7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d7a"/>
                </a:solidFill>
                <a:latin typeface="Tahoma"/>
              </a:rPr>
              <a:t>Neurotransmission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3d7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d7a"/>
                </a:solidFill>
                <a:latin typeface="Tahoma"/>
              </a:rPr>
              <a:t>Gender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215" name="Picture 5" descr="MCj04395990000[1]"/>
          <p:cNvPicPr/>
          <p:nvPr/>
        </p:nvPicPr>
        <p:blipFill>
          <a:blip r:embed="rId1"/>
          <a:stretch/>
        </p:blipFill>
        <p:spPr>
          <a:xfrm>
            <a:off x="5181480" y="1359000"/>
            <a:ext cx="3598920" cy="5014800"/>
          </a:xfrm>
          <a:prstGeom prst="rect">
            <a:avLst/>
          </a:prstGeom>
          <a:ln w="0">
            <a:noFill/>
          </a:ln>
        </p:spPr>
      </p:pic>
      <p:sp>
        <p:nvSpPr>
          <p:cNvPr id="216" name="Date Placeholder 1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697E-A58B-48C5-BA78-EFC96F1AE9FD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17" name="Footer Placeholder 2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D903-267F-4B35-923E-1DE322F05209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294840"/>
            <a:ext cx="631980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d7a"/>
                </a:solidFill>
                <a:latin typeface="Impact"/>
              </a:rPr>
              <a:t>Mental Health Nursing</a:t>
            </a:r>
            <a:endParaRPr b="0" lang="en-US" sz="48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9600" y="1479240"/>
            <a:ext cx="39672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d7a"/>
                </a:solidFill>
                <a:latin typeface="Tahoma"/>
              </a:rPr>
              <a:t>Therapeutic Relationship</a:t>
            </a:r>
            <a:endParaRPr b="1" lang="en-US" sz="40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ahoma"/>
              </a:rPr>
              <a:t>Caring 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45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161645"/>
                </a:solidFill>
                <a:latin typeface="Tahoma"/>
              </a:rPr>
              <a:t>Basis for nursing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45"/>
                </a:solidFill>
                <a:latin typeface="Tahoma"/>
              </a:rPr>
              <a:t>Compassion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45"/>
                </a:solidFill>
                <a:latin typeface="Tahoma"/>
              </a:rPr>
              <a:t>Sensitivity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3517920" y="993600"/>
            <a:ext cx="6143760" cy="6261120"/>
          </a:xfrm>
          <a:prstGeom prst="rect">
            <a:avLst/>
          </a:prstGeom>
          <a:ln w="0">
            <a:noFill/>
          </a:ln>
        </p:spPr>
      </p:pic>
      <p:sp>
        <p:nvSpPr>
          <p:cNvPr id="222" name="Date Placeholder 1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8AB3-D054-49BB-A081-1D2BDA8BD47B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23" name="Footer Placeholder 2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8E84-8B9D-4147-9463-5E25AEAE207E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44680" y="274320"/>
            <a:ext cx="79819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d7a"/>
                </a:solidFill>
                <a:latin typeface="Impact"/>
              </a:rPr>
              <a:t>Mental Health Nursing</a:t>
            </a:r>
            <a:endParaRPr b="0" lang="en-US" sz="48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33080" y="1994040"/>
            <a:ext cx="845172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d7a"/>
                </a:solidFill>
                <a:latin typeface="Tahoma"/>
              </a:rPr>
              <a:t>Hildegard Peplau identified the</a:t>
            </a:r>
            <a:r>
              <a:rPr b="1" lang="en-US" sz="3600" spc="-1" strike="noStrike">
                <a:solidFill>
                  <a:srgbClr val="003d7a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3d7a"/>
                </a:solidFill>
                <a:latin typeface="Tahoma"/>
              </a:rPr>
              <a:t>Nurse-Patient Relationship</a:t>
            </a:r>
            <a:endParaRPr b="1" lang="en-US" sz="4000" spc="-1" strike="noStrike">
              <a:solidFill>
                <a:srgbClr val="80808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003d7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d7a"/>
                </a:solidFill>
                <a:latin typeface="Tahoma"/>
              </a:rPr>
              <a:t>Introductory Phase</a:t>
            </a:r>
            <a:endParaRPr b="1" lang="en-US" sz="4000" spc="-1" strike="noStrike">
              <a:solidFill>
                <a:srgbClr val="80808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003d7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d7a"/>
                </a:solidFill>
                <a:latin typeface="Tahoma"/>
              </a:rPr>
              <a:t>Working Phase</a:t>
            </a:r>
            <a:endParaRPr b="1" lang="en-US" sz="4000" spc="-1" strike="noStrike">
              <a:solidFill>
                <a:srgbClr val="80808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003d7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d7a"/>
                </a:solidFill>
                <a:latin typeface="Tahoma"/>
              </a:rPr>
              <a:t>Termination Phase</a:t>
            </a:r>
            <a:endParaRPr b="1" lang="en-US" sz="4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27" name="Date Placeholder 1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E753-65D4-469C-A03E-7E071448D0FE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28" name="Footer Placeholder 2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7656-6C44-4CAE-9F2E-5224E8916BFC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554040" y="1301400"/>
            <a:ext cx="814392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d7a"/>
                </a:solidFill>
                <a:latin typeface="Tahoma"/>
              </a:rPr>
              <a:t>Conditions Essential for a</a:t>
            </a:r>
            <a:endParaRPr b="1" lang="en-US" sz="5400" spc="-1" strike="noStrike">
              <a:solidFill>
                <a:srgbClr val="808080"/>
              </a:solidFill>
              <a:latin typeface="Tahoma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d7a"/>
                </a:solidFill>
                <a:latin typeface="Tahoma"/>
              </a:rPr>
              <a:t>Therapeutic Relationship</a:t>
            </a:r>
            <a:endParaRPr b="1" lang="en-US" sz="5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31" name="Date Placeholder 1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93D5-B27F-46C8-850A-08E9BD5E9674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32" name="Footer Placeholder 2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BEF5-307A-432F-9260-0E00BF552942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685800" y="415440"/>
            <a:ext cx="77724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d7a"/>
                </a:solidFill>
                <a:latin typeface="Tahoma"/>
              </a:rPr>
              <a:t>Positive Regard</a:t>
            </a:r>
            <a:endParaRPr b="1" lang="en-US" sz="4800" spc="-1" strike="noStrike">
              <a:solidFill>
                <a:srgbClr val="808080"/>
              </a:solidFill>
              <a:latin typeface="Tahoma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d7a"/>
                </a:solidFill>
                <a:latin typeface="Tahoma"/>
              </a:rPr>
              <a:t>Trust</a:t>
            </a:r>
            <a:endParaRPr b="1" lang="en-US" sz="4800" spc="-1" strike="noStrike">
              <a:solidFill>
                <a:srgbClr val="808080"/>
              </a:solidFill>
              <a:latin typeface="Tahoma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d7a"/>
                </a:solidFill>
                <a:latin typeface="Tahoma"/>
              </a:rPr>
              <a:t>Non-judgmental </a:t>
            </a:r>
            <a:endParaRPr b="1" lang="en-US" sz="4800" spc="-1" strike="noStrike">
              <a:solidFill>
                <a:srgbClr val="808080"/>
              </a:solidFill>
              <a:latin typeface="Tahoma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d7a"/>
                </a:solidFill>
                <a:latin typeface="Tahoma"/>
              </a:rPr>
              <a:t>Acceptance</a:t>
            </a:r>
            <a:endParaRPr b="1" lang="en-US" sz="4800" spc="-1" strike="noStrike">
              <a:solidFill>
                <a:srgbClr val="808080"/>
              </a:solidFill>
              <a:latin typeface="Tahoma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d7a"/>
                </a:solidFill>
                <a:latin typeface="Tahoma"/>
              </a:rPr>
              <a:t>Warmth</a:t>
            </a:r>
            <a:endParaRPr b="1" lang="en-US" sz="4800" spc="-1" strike="noStrike">
              <a:solidFill>
                <a:srgbClr val="808080"/>
              </a:solidFill>
              <a:latin typeface="Tahoma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d7a"/>
                </a:solidFill>
                <a:latin typeface="Tahoma"/>
              </a:rPr>
              <a:t>Empathy</a:t>
            </a:r>
            <a:endParaRPr b="1" lang="en-US" sz="4800" spc="-1" strike="noStrike">
              <a:solidFill>
                <a:srgbClr val="808080"/>
              </a:solidFill>
              <a:latin typeface="Tahoma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d7a"/>
                </a:solidFill>
                <a:latin typeface="Tahoma"/>
              </a:rPr>
              <a:t>Authenticity</a:t>
            </a:r>
            <a:endParaRPr b="1" lang="en-US" sz="4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35" name="Date Placeholder 1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F9E2-905B-4E1F-AA87-CC921401113E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36" name="Footer Placeholder 2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0EE2-667C-4D39-A533-4D28F3AF62CE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0" y="863280"/>
            <a:ext cx="9144000" cy="57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d7a"/>
                </a:solidFill>
                <a:latin typeface="Tahoma"/>
              </a:rPr>
              <a:t>Nursing Process-Critical Thinking</a:t>
            </a:r>
            <a:endParaRPr b="1" lang="en-US" sz="4000" spc="-1" strike="noStrike">
              <a:solidFill>
                <a:srgbClr val="80808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3d7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d7a"/>
                </a:solidFill>
                <a:latin typeface="Tahoma"/>
              </a:rPr>
              <a:t>Think independently</a:t>
            </a:r>
            <a:endParaRPr b="1" lang="en-US" sz="4000" spc="-1" strike="noStrike">
              <a:solidFill>
                <a:srgbClr val="80808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3d7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d7a"/>
                </a:solidFill>
                <a:latin typeface="Tahoma"/>
              </a:rPr>
              <a:t>Humility</a:t>
            </a:r>
            <a:endParaRPr b="1" lang="en-US" sz="4000" spc="-1" strike="noStrike">
              <a:solidFill>
                <a:srgbClr val="80808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3d7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d7a"/>
                </a:solidFill>
                <a:latin typeface="Tahoma"/>
              </a:rPr>
              <a:t>Courage</a:t>
            </a:r>
            <a:endParaRPr b="1" lang="en-US" sz="4000" spc="-1" strike="noStrike">
              <a:solidFill>
                <a:srgbClr val="80808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3d7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d7a"/>
                </a:solidFill>
                <a:latin typeface="Tahoma"/>
              </a:rPr>
              <a:t>Integrity </a:t>
            </a:r>
            <a:endParaRPr b="1" lang="en-US" sz="4000" spc="-1" strike="noStrike">
              <a:solidFill>
                <a:srgbClr val="80808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3d7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d7a"/>
                </a:solidFill>
                <a:latin typeface="Tahoma"/>
              </a:rPr>
              <a:t>Perseverance </a:t>
            </a:r>
            <a:endParaRPr b="1" lang="en-US" sz="4000" spc="-1" strike="noStrike">
              <a:solidFill>
                <a:srgbClr val="80808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3d7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d7a"/>
                </a:solidFill>
                <a:latin typeface="Tahoma"/>
              </a:rPr>
              <a:t>Empathy</a:t>
            </a:r>
            <a:endParaRPr b="1" lang="en-US" sz="4000" spc="-1" strike="noStrike">
              <a:solidFill>
                <a:srgbClr val="80808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3d7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d7a"/>
                </a:solidFill>
                <a:latin typeface="Tahoma"/>
              </a:rPr>
              <a:t>Fair-mindedness</a:t>
            </a:r>
            <a:endParaRPr b="1" lang="en-US" sz="4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39" name="Date Placeholder 1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58D3-632A-423A-9D49-5DB908B03014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40" name="Footer Placeholder 2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D28F-3A7F-4C69-B3F4-C7EC7A46B68E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2880" y="544680"/>
            <a:ext cx="824076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d7a"/>
                </a:solidFill>
                <a:latin typeface="Impact"/>
              </a:rPr>
              <a:t>Mental Health</a:t>
            </a:r>
            <a:endParaRPr b="0" lang="en-US" sz="48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89000" y="295200"/>
            <a:ext cx="4921200" cy="61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d7a"/>
                </a:solidFill>
                <a:latin typeface="Tahoma"/>
              </a:rPr>
              <a:t>What Is Mental Health?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d7a"/>
                </a:solidFill>
                <a:latin typeface="Tahoma"/>
              </a:rPr>
              <a:t>What Is Mental Illness?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104" name="Picture 2" descr="F:\pictures elham\ayman_z__15_.JPG"/>
          <p:cNvPicPr/>
          <p:nvPr/>
        </p:nvPicPr>
        <p:blipFill>
          <a:blip r:embed="rId1"/>
          <a:stretch/>
        </p:blipFill>
        <p:spPr>
          <a:xfrm>
            <a:off x="5365800" y="0"/>
            <a:ext cx="37782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Date Placeholder 1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463F-0697-4829-BEC7-6E7877685A94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06" name="Footer Placeholder 2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A360-E277-4267-B907-094EB3AA6244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85800" y="438120"/>
            <a:ext cx="7772400" cy="600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d7a"/>
                </a:solidFill>
                <a:latin typeface="Tahoma"/>
              </a:rPr>
              <a:t>	</a:t>
            </a:r>
            <a:r>
              <a:rPr b="1" lang="en-US" sz="4800" spc="-1" strike="noStrike">
                <a:solidFill>
                  <a:srgbClr val="003d7a"/>
                </a:solidFill>
                <a:latin typeface="Tahoma"/>
              </a:rPr>
              <a:t>	</a:t>
            </a:r>
            <a:r>
              <a:rPr b="1" lang="en-US" sz="4800" spc="-1" strike="noStrike">
                <a:solidFill>
                  <a:srgbClr val="003d7a"/>
                </a:solidFill>
                <a:latin typeface="Tahoma"/>
              </a:rPr>
              <a:t>	</a:t>
            </a:r>
            <a:r>
              <a:rPr b="1" lang="en-US" sz="4800" spc="-1" strike="noStrike">
                <a:solidFill>
                  <a:srgbClr val="003d7a"/>
                </a:solidFill>
                <a:latin typeface="Tahoma"/>
              </a:rPr>
              <a:t>Assessment</a:t>
            </a:r>
            <a:endParaRPr b="1" lang="en-US" sz="4800" spc="-1" strike="noStrike">
              <a:solidFill>
                <a:srgbClr val="808080"/>
              </a:solidFill>
              <a:latin typeface="Tahoma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243" name="Picture 4" descr="j0234673"/>
          <p:cNvPicPr/>
          <p:nvPr/>
        </p:nvPicPr>
        <p:blipFill>
          <a:blip r:embed="rId1"/>
          <a:stretch/>
        </p:blipFill>
        <p:spPr>
          <a:xfrm>
            <a:off x="2536920" y="2290680"/>
            <a:ext cx="3760560" cy="251928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5"/>
          <p:cNvSpPr/>
          <p:nvPr/>
        </p:nvSpPr>
        <p:spPr>
          <a:xfrm>
            <a:off x="324000" y="954000"/>
            <a:ext cx="186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7a"/>
                </a:solidFill>
                <a:latin typeface="Times New Roman"/>
              </a:rPr>
              <a:t>General Appearance</a:t>
            </a:r>
            <a:endParaRPr b="0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527040" y="2131920"/>
            <a:ext cx="16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7a"/>
                </a:solidFill>
                <a:latin typeface="Times New Roman"/>
              </a:rPr>
              <a:t>Attitude</a:t>
            </a:r>
            <a:endParaRPr b="0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6786720" y="2519280"/>
            <a:ext cx="178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7a"/>
                </a:solidFill>
                <a:latin typeface="Times New Roman"/>
              </a:rPr>
              <a:t>Expressive Aspects of Behavior</a:t>
            </a:r>
            <a:endParaRPr b="0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264960" y="390204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7a"/>
                </a:solidFill>
                <a:latin typeface="Times New Roman"/>
              </a:rPr>
              <a:t>Consciousness</a:t>
            </a:r>
            <a:endParaRPr b="0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1684440" y="5746680"/>
            <a:ext cx="290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7a"/>
                </a:solidFill>
                <a:latin typeface="Times New Roman"/>
              </a:rPr>
              <a:t>Thought Processes and perception</a:t>
            </a:r>
            <a:endParaRPr b="0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6786720" y="4267080"/>
            <a:ext cx="207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7a"/>
                </a:solidFill>
                <a:latin typeface="Times New Roman"/>
              </a:rPr>
              <a:t>Thought Content</a:t>
            </a:r>
            <a:endParaRPr b="0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6121440" y="1235160"/>
            <a:ext cx="256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7a"/>
                </a:solidFill>
                <a:latin typeface="Times New Roman"/>
              </a:rPr>
              <a:t>Mood or Affect</a:t>
            </a:r>
            <a:endParaRPr b="0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184320" y="5527800"/>
            <a:ext cx="17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7a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52" name="Text Box 13"/>
          <p:cNvSpPr/>
          <p:nvPr/>
        </p:nvSpPr>
        <p:spPr>
          <a:xfrm>
            <a:off x="4840200" y="6016680"/>
            <a:ext cx="20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7a"/>
                </a:solidFill>
                <a:latin typeface="Times New Roman"/>
              </a:rPr>
              <a:t>Judgment</a:t>
            </a:r>
            <a:endParaRPr b="0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3006720" y="1530360"/>
            <a:ext cx="19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7a"/>
                </a:solidFill>
                <a:latin typeface="Times New Roman"/>
              </a:rPr>
              <a:t>Awareness</a:t>
            </a:r>
            <a:endParaRPr b="0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3292560" y="4897440"/>
            <a:ext cx="19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7a"/>
                </a:solidFill>
                <a:latin typeface="Times New Roman"/>
              </a:rPr>
              <a:t>Intelligence</a:t>
            </a:r>
            <a:endParaRPr b="0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6421320" y="1828800"/>
            <a:ext cx="27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7a"/>
                </a:solidFill>
                <a:latin typeface="Times New Roman"/>
              </a:rPr>
              <a:t>Sensory Ability</a:t>
            </a:r>
            <a:endParaRPr b="0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5689440" y="5384880"/>
            <a:ext cx="317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7a"/>
                </a:solidFill>
                <a:latin typeface="Times New Roman"/>
              </a:rPr>
              <a:t>Developmental level</a:t>
            </a:r>
            <a:endParaRPr b="0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0" y="2946240"/>
            <a:ext cx="23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7a"/>
                </a:solidFill>
                <a:latin typeface="Times New Roman"/>
              </a:rPr>
              <a:t>Lifestyle patterns</a:t>
            </a:r>
            <a:endParaRPr b="0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304920" y="4611600"/>
            <a:ext cx="21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7a"/>
                </a:solidFill>
                <a:latin typeface="Times New Roman"/>
              </a:rPr>
              <a:t>Coping devices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59" name="Date Placeholder 1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BA0A-8097-44AB-9BB1-74CAE76E9ABF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60" name="Footer Placeholder 2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5BBD-AF3C-42C2-8DE9-4AD723E69999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4" descr="j0282788"/>
          <p:cNvPicPr/>
          <p:nvPr/>
        </p:nvPicPr>
        <p:blipFill>
          <a:blip r:embed="rId1"/>
          <a:stretch/>
        </p:blipFill>
        <p:spPr>
          <a:xfrm>
            <a:off x="2627280" y="1944720"/>
            <a:ext cx="3645000" cy="2743200"/>
          </a:xfrm>
          <a:prstGeom prst="rect">
            <a:avLst/>
          </a:prstGeom>
          <a:ln w="0">
            <a:noFill/>
          </a:ln>
        </p:spPr>
      </p:pic>
      <p:sp>
        <p:nvSpPr>
          <p:cNvPr id="263" name="WordArt 5"/>
          <p:cNvSpPr txBox="1"/>
          <p:nvPr/>
        </p:nvSpPr>
        <p:spPr>
          <a:xfrm>
            <a:off x="1650960" y="4981680"/>
            <a:ext cx="55785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Nursing Diagnosis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4" name="Date Placeholder 1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93EB-40AE-4D72-AB7B-A7644C863D92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65" name="Footer Placeholder 2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6F27-F5D5-4FA5-B81C-7338477676E0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17120" y="693720"/>
            <a:ext cx="842652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d7a"/>
                </a:solidFill>
                <a:latin typeface="Impact"/>
              </a:rPr>
              <a:t>Nursing Diagnosis vs DSM-IV-TR</a:t>
            </a: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58800" y="1905120"/>
            <a:ext cx="4254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d7a"/>
                </a:solidFill>
                <a:latin typeface="Tahoma"/>
              </a:rPr>
              <a:t>Hopelessness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d7a"/>
                </a:solidFill>
                <a:latin typeface="Tahoma"/>
              </a:rPr>
              <a:t>Self-Care deficit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d7a"/>
                </a:solidFill>
                <a:latin typeface="Tahoma"/>
              </a:rPr>
              <a:t>Impaired verbal communication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d7a"/>
                </a:solidFill>
                <a:latin typeface="Tahoma"/>
              </a:rPr>
              <a:t>Altered family process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62280" y="1819440"/>
            <a:ext cx="435276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d7a"/>
                </a:solidFill>
                <a:latin typeface="Tahoma"/>
              </a:rPr>
              <a:t>Axis I: Major illnesses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d7a"/>
                </a:solidFill>
                <a:latin typeface="Tahoma"/>
              </a:rPr>
              <a:t>Axis II: Personality and Developmental 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d7a"/>
                </a:solidFill>
                <a:latin typeface="Tahoma"/>
              </a:rPr>
              <a:t>Axis III: physical problems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d7a"/>
                </a:solidFill>
                <a:latin typeface="Tahoma"/>
              </a:rPr>
              <a:t>Axis IV: psychosocial stressors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70" name="Date Placeholder 1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AE9F-6420-41FA-953C-B2223D18A629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71" name="Footer Placeholder 2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6A8D-CC44-4978-BF57-0A7C6ABBFE9F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6800" y="977400"/>
            <a:ext cx="8377200" cy="104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d7a"/>
                </a:solidFill>
                <a:latin typeface="Impact"/>
              </a:rPr>
              <a:t>Roles of Psychiatric Nurse</a:t>
            </a: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28600" y="2016000"/>
            <a:ext cx="778680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d7a"/>
                </a:solidFill>
                <a:latin typeface="Tahoma"/>
              </a:rPr>
              <a:t>Socializing Agent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d7a"/>
                </a:solidFill>
                <a:latin typeface="Tahoma"/>
              </a:rPr>
              <a:t>Teacher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d7a"/>
                </a:solidFill>
                <a:latin typeface="Tahoma"/>
              </a:rPr>
              <a:t>Model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d7a"/>
                </a:solidFill>
                <a:latin typeface="Tahoma"/>
              </a:rPr>
              <a:t>Advocate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d7a"/>
                </a:solidFill>
                <a:latin typeface="Tahoma"/>
              </a:rPr>
              <a:t>Counselor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d7a"/>
                </a:solidFill>
                <a:latin typeface="Tahoma"/>
              </a:rPr>
              <a:t>Role Player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d7a"/>
                </a:solidFill>
                <a:latin typeface="Tahoma"/>
              </a:rPr>
              <a:t>Milieu Manager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75" name="Date Placeholder 1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E4B8-E491-4045-93E5-3218C51538D7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76" name="Footer Placeholder 2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4EDE-A396-4E77-A672-6D779F4036F7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6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D789-F349-4D73-B741-A8A91DC860CF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06240" y="-360"/>
            <a:ext cx="64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Showcard Gothic"/>
              </a:rPr>
              <a:t>GOOD LUCK</a:t>
            </a: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pic>
        <p:nvPicPr>
          <p:cNvPr id="280" name="Picture 2" descr="H:\Alexandria\Stanly-new15_2.JPG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281" name="Date Placeholder 2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715D-9361-40AF-AABB-194893812607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82" name="Footer Placeholder 2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 advTm="60000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oup 6"/>
          <p:cNvGrpSpPr/>
          <p:nvPr/>
        </p:nvGrpSpPr>
        <p:grpSpPr>
          <a:xfrm>
            <a:off x="2340000" y="282600"/>
            <a:ext cx="4571640" cy="6386040"/>
            <a:chOff x="2340000" y="282600"/>
            <a:chExt cx="4571640" cy="6386040"/>
          </a:xfrm>
        </p:grpSpPr>
        <p:pic>
          <p:nvPicPr>
            <p:cNvPr id="284" name="Picture 3" descr="pe01496_"/>
            <p:cNvPicPr/>
            <p:nvPr/>
          </p:nvPicPr>
          <p:blipFill>
            <a:blip r:embed="rId1"/>
            <a:stretch/>
          </p:blipFill>
          <p:spPr>
            <a:xfrm>
              <a:off x="2680560" y="282600"/>
              <a:ext cx="3998520" cy="599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WordArt 5"/>
            <p:cNvSpPr txBox="1"/>
            <p:nvPr/>
          </p:nvSpPr>
          <p:spPr>
            <a:xfrm>
              <a:off x="2340000" y="5426640"/>
              <a:ext cx="4571640" cy="124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Break</a:t>
              </a:r>
              <a:endPara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86" name="Date Placeholder 2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1628-E39E-46BC-A561-ACF0DB9F3ADD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87" name="Footer Placeholder 3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88" name="Slide Number Placeholder 4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6005-B6D7-4730-8DE4-62D9EBFE6796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1200" y="174600"/>
            <a:ext cx="47880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mpact"/>
              </a:rPr>
              <a:t>Mental Health</a:t>
            </a:r>
            <a:endParaRPr b="0" lang="en-US" sz="44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7680" y="874800"/>
            <a:ext cx="81327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d7a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3d7a"/>
                </a:solidFill>
                <a:latin typeface="Tahoma"/>
              </a:rPr>
              <a:t>A life long process a sense of harmony and balance for the individual, family, friends and community.</a:t>
            </a:r>
            <a:endParaRPr b="1" lang="en-US" sz="3600" spc="-1" strike="noStrike">
              <a:solidFill>
                <a:srgbClr val="808080"/>
              </a:solidFill>
              <a:latin typeface="Tahoma"/>
            </a:endParaRPr>
          </a:p>
          <a:p>
            <a:pPr lvl="2" marL="11430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8080"/>
              </a:solidFill>
              <a:latin typeface="Tahoma"/>
            </a:endParaRPr>
          </a:p>
          <a:p>
            <a:pPr lvl="2" marL="11430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110" name="Picture 2" descr="H:\Alexandria\QAITBAY2.JPG"/>
          <p:cNvPicPr/>
          <p:nvPr/>
        </p:nvPicPr>
        <p:blipFill>
          <a:blip r:embed="rId1"/>
          <a:stretch/>
        </p:blipFill>
        <p:spPr>
          <a:xfrm>
            <a:off x="0" y="3389400"/>
            <a:ext cx="9036000" cy="3468600"/>
          </a:xfrm>
          <a:prstGeom prst="rect">
            <a:avLst/>
          </a:prstGeom>
          <a:ln w="0">
            <a:noFill/>
          </a:ln>
        </p:spPr>
      </p:pic>
      <p:sp>
        <p:nvSpPr>
          <p:cNvPr id="111" name="Date Placeholder 1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E62E-7BFA-479D-9E1E-5A573144160B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12" name="Footer Placeholder 2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4FCB-4A82-4B6A-AEB6-4AF327491E33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99840" y="348840"/>
            <a:ext cx="476100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3d7a"/>
                </a:solidFill>
                <a:latin typeface="Impact"/>
              </a:rPr>
              <a:t>Mental Health</a:t>
            </a: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11200" y="1841040"/>
            <a:ext cx="821520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-15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73"/>
                </a:solidFill>
                <a:latin typeface="Tahoma"/>
              </a:rPr>
              <a:t>      </a:t>
            </a:r>
            <a:r>
              <a:rPr b="1" lang="en-US" sz="3200" spc="-1" strike="noStrike">
                <a:solidFill>
                  <a:srgbClr val="262673"/>
                </a:solidFill>
                <a:latin typeface="Tahoma"/>
              </a:rPr>
              <a:t>M. Health is the balance between all aspects of life, social, physical, spiritual &amp; emotional.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154080" indent="-15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73"/>
                </a:solidFill>
                <a:latin typeface="Tahoma"/>
              </a:rPr>
              <a:t>      </a:t>
            </a:r>
            <a:r>
              <a:rPr b="1" lang="en-US" sz="3200" spc="-1" strike="noStrike">
                <a:solidFill>
                  <a:srgbClr val="262673"/>
                </a:solidFill>
                <a:latin typeface="Tahoma"/>
              </a:rPr>
              <a:t>It is impact on how we manage surroundings &amp; make choices in our lives. 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154080" indent="-15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73"/>
                </a:solidFill>
                <a:latin typeface="Tahoma"/>
              </a:rPr>
              <a:t>      </a:t>
            </a:r>
            <a:r>
              <a:rPr b="1" lang="en-US" sz="3200" spc="-1" strike="noStrike">
                <a:solidFill>
                  <a:srgbClr val="262673"/>
                </a:solidFill>
                <a:latin typeface="Tahoma"/>
              </a:rPr>
              <a:t>It is integral part of our over all health.  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154080" indent="-154080">
              <a:spcBef>
                <a:spcPts val="799"/>
              </a:spcBef>
              <a:buClr>
                <a:srgbClr val="26267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154080" indent="-154080"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154080" indent="-154080"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154080" indent="-154080"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154080" indent="-15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154080" indent="-154080"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154080" indent="-154080"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154080" indent="-154080"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154080" indent="-154080"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154080" indent="-154080"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154080" indent="-154080"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154080" indent="-154080"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7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16" name="Date Placeholder 1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B427-C3BD-441A-B827-662EE7788F2F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00EA-8858-42DA-9D11-05206BE0B48C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47800" y="75960"/>
            <a:ext cx="39528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Mental Health</a:t>
            </a: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94840" y="712800"/>
            <a:ext cx="47214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Is far more than the absence of mental illness &amp; has to do with many aspects: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33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How to feel about our selves.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33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How to feel about others.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33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How we are able to meet our demands. 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121" name="Picture 4" descr="C:\Users\Abeer\Desktop\Reading_body_language_3_1307834.jpg"/>
          <p:cNvPicPr/>
          <p:nvPr/>
        </p:nvPicPr>
        <p:blipFill>
          <a:blip r:embed="rId1"/>
          <a:srcRect l="0" t="7845" r="0" b="0"/>
          <a:stretch/>
        </p:blipFill>
        <p:spPr>
          <a:xfrm>
            <a:off x="5137200" y="739800"/>
            <a:ext cx="4006800" cy="6118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22" name="Date Placeholder 1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981D-F302-4730-8760-EB72220965E9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23" name="Footer Placeholder 3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24" name="Slide Number Placeholder 5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9619-D242-4FA3-B94D-8B2CD9758812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6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C165-2FE5-4F56-BC9F-4F8D739AB984}" type="slidenum">
              <a:rPr b="0" lang="en-US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12440" y="-360"/>
            <a:ext cx="6294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What is mental illness?</a:t>
            </a: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317600"/>
            <a:ext cx="4670280" cy="52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f3d"/>
                </a:solidFill>
                <a:latin typeface="Tahoma"/>
              </a:rPr>
              <a:t>      </a:t>
            </a:r>
            <a:r>
              <a:rPr b="1" lang="en-US" sz="2800" spc="-1" strike="noStrike">
                <a:solidFill>
                  <a:srgbClr val="001f3d"/>
                </a:solidFill>
                <a:latin typeface="Tahoma"/>
              </a:rPr>
              <a:t>A mental disorder or illness is a psychological or behavioral pattern that occurs in an individual &amp; is thought to cause distress or disability that not expected as part of normal development or culture.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128" name="Picture 6" descr="anxiety_1"/>
          <p:cNvPicPr/>
          <p:nvPr/>
        </p:nvPicPr>
        <p:blipFill>
          <a:blip r:embed="rId1"/>
          <a:stretch/>
        </p:blipFill>
        <p:spPr>
          <a:xfrm>
            <a:off x="4989600" y="1467000"/>
            <a:ext cx="3952800" cy="4919400"/>
          </a:xfrm>
          <a:prstGeom prst="rect">
            <a:avLst/>
          </a:prstGeom>
          <a:ln w="0">
            <a:noFill/>
          </a:ln>
        </p:spPr>
      </p:pic>
      <p:sp>
        <p:nvSpPr>
          <p:cNvPr id="129" name="Date Placeholder 1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B3E2-AE0A-4EAD-A47F-9FEA63ED9491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30" name="Footer Placeholder 2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67840"/>
            <a:ext cx="914400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      </a:t>
            </a: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What is mental illness?</a:t>
            </a:r>
            <a:br>
              <a:rPr sz="4000"/>
            </a:b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67840" y="980640"/>
            <a:ext cx="4613400" cy="54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Georgia"/>
              </a:rPr>
              <a:t>       </a:t>
            </a:r>
            <a:r>
              <a:rPr b="1" lang="en-US" sz="3200" spc="-1" strike="noStrike">
                <a:solidFill>
                  <a:srgbClr val="808080"/>
                </a:solidFill>
                <a:latin typeface="Georgia"/>
              </a:rPr>
              <a:t>A group of mental disorders that causes severe disturbances in </a:t>
            </a: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thinking</a:t>
            </a:r>
            <a:r>
              <a:rPr b="1" lang="en-US" sz="3200" spc="-1" strike="noStrike">
                <a:solidFill>
                  <a:srgbClr val="808080"/>
                </a:solidFill>
                <a:latin typeface="Georgia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feeling</a:t>
            </a:r>
            <a:r>
              <a:rPr b="1" lang="en-US" sz="3200" spc="-1" strike="noStrike">
                <a:solidFill>
                  <a:srgbClr val="808080"/>
                </a:solidFill>
                <a:latin typeface="Georgia"/>
              </a:rPr>
              <a:t> &amp; </a:t>
            </a: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relating</a:t>
            </a:r>
            <a:r>
              <a:rPr b="1" lang="en-US" sz="3200" spc="-1" strike="noStrike">
                <a:solidFill>
                  <a:srgbClr val="808080"/>
                </a:solidFill>
                <a:latin typeface="Georgia"/>
              </a:rPr>
              <a:t>. People with a mental illness often have difficulty dealing with daily life. 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133" name="Picture 7" descr="180px-The_Scream"/>
          <p:cNvPicPr/>
          <p:nvPr/>
        </p:nvPicPr>
        <p:blipFill>
          <a:blip r:embed="rId1"/>
          <a:stretch/>
        </p:blipFill>
        <p:spPr>
          <a:xfrm>
            <a:off x="4800600" y="1155600"/>
            <a:ext cx="4019400" cy="5191200"/>
          </a:xfrm>
          <a:prstGeom prst="rect">
            <a:avLst/>
          </a:prstGeom>
          <a:ln w="0">
            <a:noFill/>
          </a:ln>
        </p:spPr>
      </p:pic>
      <p:sp>
        <p:nvSpPr>
          <p:cNvPr id="134" name="Date Placeholder 1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8F3C-EDFB-4189-B9F4-E0270B690A7F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35" name="Footer Placeholder 2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6FD3-85D6-4843-B786-147A44F03C45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1265400" y="1035000"/>
            <a:ext cx="6453000" cy="4210200"/>
          </a:xfrm>
          <a:prstGeom prst="rect">
            <a:avLst/>
          </a:prstGeom>
          <a:ln w="0">
            <a:noFill/>
          </a:ln>
        </p:spPr>
      </p:pic>
      <p:sp>
        <p:nvSpPr>
          <p:cNvPr id="138" name="Date Placeholder 1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9604-39F3-479C-98AD-D17B36E5015C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39" name="Footer Placeholder 2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4D8D-4816-4996-A278-6C64EFA55C93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5T02:21:32Z</dcterms:created>
  <dc:creator>kendrixc</dc:creator>
  <dc:description/>
  <dc:language>en-US</dc:language>
  <cp:lastModifiedBy>Elham Fayad</cp:lastModifiedBy>
  <dcterms:modified xsi:type="dcterms:W3CDTF">2015-09-01T05:24:16Z</dcterms:modified>
  <cp:revision>8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F140FCCA-5F80-46A8-BFDE-757AA99062DB</vt:lpwstr>
  </property>
  <property fmtid="{D5CDD505-2E9C-101B-9397-08002B2CF9AE}" pid="3" name="ArticulatePath">
    <vt:lpwstr>MHealth%20introduction[1]</vt:lpwstr>
  </property>
  <property fmtid="{D5CDD505-2E9C-101B-9397-08002B2CF9AE}" pid="4" name="PublishingExpirationDate">
    <vt:lpwstr/>
  </property>
  <property fmtid="{D5CDD505-2E9C-101B-9397-08002B2CF9AE}" pid="5" name="PublishingStartDate">
    <vt:lpwstr/>
  </property>
</Properties>
</file>