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gif" ContentType="image/gif"/>
  <Override PartName="/ppt/media/image15.wmf" ContentType="image/x-wmf"/>
  <Override PartName="/ppt/media/image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7968-C615-444F-A0DA-88E882ED592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279-95E1-4B08-AAE3-BD70E601B74F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C4A1-5389-470F-A572-0D1BFF24745A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7884-D965-47FE-92CC-8C4FC146153E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0197-1861-4CCC-88AB-94CC0788B51C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1CAC-2DFD-480F-8A85-9FC6AF9832A2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people have mental 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ries – loss of meaning in life – Fears – Anxiety - Biologic factors – Loss of emotional control – Ineffective communication – manipulation – excessive dependency – withdrawal from relationships – homelessness – sexism – ageism – poverty – violence – racism – lack of resources – substance abuse or 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number of individuals who have mental problems is in the millions?  Majority of mental health individuals are not in mental hospitals.  Will see everyw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ental Health or psychiatric nursing has come a long way over the last 5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32A-F5CD-4F27-AF41-B54F084EAC26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eud: conscious &amp;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nscious, subconscious, unconsc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ersonality: id – self (pleasure princi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go – reality (reality princi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uperego – mo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xiety needs defense mech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rikson: developmental tasks not just from instinctual and biological to social and cul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rough life-s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750-0DC3-4D38-9A11-C52C63BFF9D5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D24E-C09B-49B5-8C4A-6BEC30DCE974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ow do these theories relate to one ano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y do we even look at theor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nables practice to be in a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ursing uses these theories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uidelines for understanding clinical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rescriptions for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ides in predicting outcomes of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y are all a way of interpreting clinical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EE14-51D6-4414-92D3-62E2711FD128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me feel there is a pre-interaction phase – this is the time you find out about the patient befor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xamine own feeling, fears and anxieties about working with mental dis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ith intro and working phase may se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ransference – past feeling onto n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unter-transference – nurse transfers feelings onto patient because of their pa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8C0-7766-433D-B539-DAFA6746D924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ositive Reg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n-judgm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cep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2073-8400-4A5B-A921-6534D145F369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ink independently – use the knowledge we have to make our own deci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umility – we do not know it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urage – willingness to look at other views ways of do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egrity – question our own beliefs as quickly as we do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erseverance – seek to come to right answer not the quick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mpathy – understanding the other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ir-mindedness – look at all the view points before making a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5738-BF00-4BD1-863D-0B82F1FD7363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there is such a variation in the definition of mental health/illness there can be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ecause of the cultural, family and individual difference defining or putting a label on individual can be misl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first step in understanding and working with mentally ill patients is to understand your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mental health to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hat is mental illness to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ne nurse described mental illness as the mind expressing it discomfort through thoughts, feelings, and behavi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able to work with the mentally ill patient the must must under stand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e are a product of our beliefs and values  and those beliefs and values can impact how we respond to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ive me examples of how your beliefs impact your reaction to 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ental illness has a stigma attached to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ach person is a composite of the mind, body, spirit and environ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3737-1D9C-4170-90D3-BA3E0BB8B97B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ner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hysical appearance – grooming – posture – speech – respo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Expressive behavi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general movement  - gait – ges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of Conscious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ought process and percep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028A-1E3F-40F2-92E3-FDE611BE25B1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t conc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ife long process that includes sense of harmony and balance for the individual, family and friends and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re is an increase in the world today of mental behavioral and social health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ECF-9555-4DDA-AC9D-D6183F9416B1}" type="slidenum">
              <a:rPr b="0" lang="ar-SA" sz="1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7C11-9826-4366-BD98-C168CA1E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2F9A-6A8F-47DE-B634-A7EB5145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9B6B-B0E9-4B3D-BF10-FB9C51BE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65C-E336-4583-9CFB-3DA9B9A94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F5F2-2784-422D-9599-6E282F25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B3FF-23CA-45D9-947A-C5A858EE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5B28-5E1E-43C8-868A-25A5AC5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5A71-2C77-42EF-BEC2-D415972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0B5E-2265-4F04-962E-9A37B75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D1AC-9B04-4C14-BCFE-2074215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1DDA-0EFA-40EF-B2DF-23736F31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896F-F380-4B93-B613-065E1F0C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3CE7-0603-4222-9BA5-AFFFB116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7384-8E7B-4870-BC5E-17B69D3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C465-E6B7-4800-BE4C-D72C1207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2B9B-8163-4F1D-864B-C3420E2D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A50B-EDE5-4DE9-9C13-B8B7B9C6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63A-86CE-4FC4-954A-B25543CC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396-4933-446E-B13C-17FBEFF7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487-2F18-4602-BC2E-F87B53FD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05A-0FCB-4E11-85E4-F400678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AE8-254B-4591-845E-E3F3039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512-BCA9-45BF-93CC-1E63A4A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0DE-363E-4BCA-A031-94140520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0522-E2E7-40F3-97C7-BFAE395FAD2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75C6-49C5-4DE1-8D57-6F0775F5D52F}" type="slidenum">
              <a:rPr b="0" lang="ar-SA" sz="10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676A-51C6-4B6A-A0B1-02D535B31CB6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808080"/>
                </a:solidFill>
                <a:latin typeface="Tahoma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B9CE-7A43-46E2-B5E8-281A6E444551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facebook.com/photo.php?pid=3077867&amp;id=77505664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1293840" y="857160"/>
            <a:ext cx="6553080" cy="3467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Arial Black"/>
              </a:rPr>
              <a:t>Mental Healt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Arial Black"/>
              <a:ea typeface="Arial Black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905120" y="53341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1" name="Picture 2" descr="C:\Users\Strawberry\Documents\Level 8\CHS 446, Communication skills\images (4).jpg"/>
          <p:cNvPicPr/>
          <p:nvPr/>
        </p:nvPicPr>
        <p:blipFill>
          <a:blip r:embed="rId1"/>
          <a:stretch/>
        </p:blipFill>
        <p:spPr>
          <a:xfrm>
            <a:off x="2527200" y="1612800"/>
            <a:ext cx="3954600" cy="3645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1747800" y="5460840"/>
            <a:ext cx="593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f3d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1f3d"/>
                </a:solidFill>
                <a:latin typeface="Tahoma"/>
              </a:rPr>
              <a:t>PROF. DR.ELHAM FAYAD</a:t>
            </a:r>
            <a:endParaRPr b="0" lang="en-US" sz="3200" spc="-1" strike="noStrike">
              <a:solidFill>
                <a:srgbClr val="80808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1f3d"/>
                </a:solidFill>
                <a:latin typeface="Tahoma"/>
              </a:rPr>
              <a:t>Professor of Psychiatric &amp; Mental Health</a:t>
            </a:r>
            <a:endParaRPr b="0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3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447-A5BC-41B2-A005-2012DC1C342A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81FA-BE4C-459B-880A-DE2EEB19335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008000" y="604800"/>
            <a:ext cx="7182000" cy="56880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6EC1-4039-4AF7-94EB-768D1E70C6F2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AA6C-C2C7-40E1-9BFA-49F3B6E5A25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57040" y="673200"/>
            <a:ext cx="8429760" cy="5770440"/>
          </a:xfrm>
          <a:prstGeom prst="rect">
            <a:avLst/>
          </a:prstGeom>
          <a:ln w="0">
            <a:noFill/>
          </a:ln>
        </p:spPr>
      </p:pic>
      <p:sp>
        <p:nvSpPr>
          <p:cNvPr id="14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6B7-BA73-482D-A59C-0FA345DA586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E76-3601-4EB1-8AB0-49B3410EBDA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09320" y="1177920"/>
            <a:ext cx="4559400" cy="445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What  are the components of a mentally healthy person??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80A-9DDB-4D71-A93C-FAE9BD428690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6652-3459-4E9D-860D-8D78306AAD2A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6720" y="422280"/>
            <a:ext cx="820728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Emotional Intelligenc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682640"/>
            <a:ext cx="784872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anaging your own emotions internall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Emotional self contro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cognizing emotions in other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Handling Relationship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A02D-FBD5-4CF1-B939-AAA5C31F9CE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4FD-6C63-4EED-9A53-929DC7BF3D9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77680" y="569880"/>
            <a:ext cx="826596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Resiliency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36560"/>
            <a:ext cx="77724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sigh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dependenc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lationship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Initiativ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Creativ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Hum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Optimistic approach to lif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oral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A91B-4EC0-4E5E-99FA-3D60BD0F7AB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C088-E131-47B0-8FA4-A85C9330221E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02800" y="201600"/>
            <a:ext cx="3272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Spirituality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0600" y="1088640"/>
            <a:ext cx="8524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elationships, valu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Questions of purpose of meaning in lif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65" name="Picture 2" descr="http://sphotos.ak.fbcdn.net/hphotos-ak-snc3/hs003.snc3/11044_200046016648_775056648_3077865_5484628_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36800"/>
            <a:ext cx="8643960" cy="3778200"/>
          </a:xfrm>
          <a:prstGeom prst="rect">
            <a:avLst/>
          </a:prstGeom>
          <a:ln w="0">
            <a:noFill/>
          </a:ln>
        </p:spPr>
      </p:pic>
      <p:sp>
        <p:nvSpPr>
          <p:cNvPr id="16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6B10-0486-4ADE-95D6-45C665F2896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09B3-002E-4E9D-82FC-0AC1F85855A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Tahoma"/>
              </a:rPr>
              <a:t>Concepts of positive 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5840" y="990720"/>
            <a:ext cx="8566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1- Positive attitude towards self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2- Growth, development &amp; self-actualisat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3- Integrative capac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4- Autonomous behaviour : (self-governance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5- Perceiving reality accuratel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ahoma"/>
              </a:rPr>
              <a:t>6- Mastery of one’s environmen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3E0A-E985-4A61-AE54-D9ED507739A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8E08-F1AC-49D6-9B36-A42DACAC5019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Impact"/>
              </a:rPr>
              <a:t>Characteristics of mentally healthy persons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8200" y="1371600"/>
            <a:ext cx="8377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Perceive self, others, &amp; events correctly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Recognize own strengths, weaknesses, capabilities and limitations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1f3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ahoma"/>
              </a:rPr>
              <a:t>Separate fantasy from reality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Develop and demonstrate appropriate sense of humour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xpress emotion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xhibit congruent behaviour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1f3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F2CB-46AF-4775-A1E5-8B103552E381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A65D-DB52-47D6-BA07-1AEE2C730B78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538200" y="282600"/>
            <a:ext cx="8013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Accept self &amp; others as uniquely different, but humanly similar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Find beauty, joy, goodness in self, others, environment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Be creative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ahoma"/>
              </a:rPr>
              <a:t>Be optimistic but realistic</a:t>
            </a:r>
            <a:r>
              <a:rPr b="0" lang="en-GB" sz="3600" spc="-1" strike="noStrike">
                <a:solidFill>
                  <a:srgbClr val="001f3d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Use talents to fullest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Involve self in purposeful, meaningful life work 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571680" indent="-57168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Engage in play.</a:t>
            </a:r>
            <a:endParaRPr b="0" lang="en-US" sz="3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0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CB9-7585-4CA9-8E04-1B009779C5AD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D7C-6AD8-4C5D-9485-8424D46ACCA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162000" y="523800"/>
            <a:ext cx="5230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Accept responsibility for actions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Control impulses and behaviour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Delay gratification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Function independently.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Relate to others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f3d"/>
                </a:solidFill>
                <a:latin typeface="Times New Roman"/>
                <a:ea typeface="Times New Roman"/>
              </a:rPr>
              <a:t>Seek self-actualisation</a:t>
            </a: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buClr>
                <a:srgbClr val="001f3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graphicFrame>
        <p:nvGraphicFramePr>
          <p:cNvPr id="184" name="Object 4"/>
          <p:cNvGraphicFramePr/>
          <p:nvPr/>
        </p:nvGraphicFramePr>
        <p:xfrm>
          <a:off x="5110200" y="282600"/>
          <a:ext cx="4033800" cy="657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0200" y="282600"/>
                    <a:ext cx="4033800" cy="65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85A8-916D-474F-832F-12273BD97485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6B87-F3E2-4E4F-94C0-F5F80551067A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0840" y="537840"/>
            <a:ext cx="8188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What is the ultimate goal of psychiatric client car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9800" y="1936800"/>
            <a:ext cx="8445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6bcf"/>
                </a:solidFill>
                <a:latin typeface="Tahoma"/>
              </a:rPr>
              <a:t>To promote client toward mental health…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8" name="Picture 3" descr="EB_March_A06_Fig01.jpg"/>
          <p:cNvPicPr/>
          <p:nvPr/>
        </p:nvPicPr>
        <p:blipFill>
          <a:blip r:embed="rId1"/>
          <a:stretch/>
        </p:blipFill>
        <p:spPr>
          <a:xfrm>
            <a:off x="4908600" y="2635200"/>
            <a:ext cx="3414600" cy="3967200"/>
          </a:xfrm>
          <a:prstGeom prst="rect">
            <a:avLst/>
          </a:prstGeom>
          <a:ln cap="sq" w="38160">
            <a:solidFill>
              <a:srgbClr val="cc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190-C223-4C92-9F1F-E21A725E587C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170-9EBB-4852-A542-1864D8448D3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640" y="75960"/>
            <a:ext cx="4422600" cy="16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7840" y="1411200"/>
            <a:ext cx="4559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  <a:ea typeface="Times New Roman"/>
              </a:rPr>
              <a:t>Why do people have mental problem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  <a:ea typeface="Times New Roman"/>
              </a:rPr>
              <a:t>How do we come to an understanding of mental illnes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91" name="Picture 3" descr="EB_March_A06_Fig01.jpg"/>
          <p:cNvPicPr/>
          <p:nvPr/>
        </p:nvPicPr>
        <p:blipFill>
          <a:blip r:embed="rId1"/>
          <a:stretch/>
        </p:blipFill>
        <p:spPr>
          <a:xfrm>
            <a:off x="4908600" y="1035000"/>
            <a:ext cx="3898800" cy="5567400"/>
          </a:xfrm>
          <a:prstGeom prst="rect">
            <a:avLst/>
          </a:prstGeom>
          <a:ln cap="sq" w="38160">
            <a:solidFill>
              <a:srgbClr val="cc66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AAAD-77CA-42A8-9446-D6F0AA65571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6FC8-C8B1-4063-B4BC-1D2EA797B17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66720" y="706320"/>
            <a:ext cx="847728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d7a"/>
                </a:solidFill>
                <a:latin typeface="Impact"/>
              </a:rPr>
              <a:t>Mental Health Theories</a:t>
            </a:r>
            <a:endParaRPr b="0" lang="en-US" sz="5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47240" y="2066400"/>
            <a:ext cx="7412040" cy="41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Intrapersonal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Freud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Erikson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Social-Interpersonal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Sullivan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Maslow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7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92D1-BD3A-405D-9F42-5237FEDFE37A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6B7D-A289-4667-8201-46838002E898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4827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Impact"/>
              </a:rPr>
              <a:t>Game Time!!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2003040"/>
            <a:ext cx="3848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Compens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Denial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Displacemen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dentific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ntellectual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ntrojection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Minim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Projec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37000" y="2219040"/>
            <a:ext cx="44784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action Form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gress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epress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ublim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ubstitu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Undoing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Rationaliz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03" name="Picture 20" descr="MCj03971880000[1]"/>
          <p:cNvPicPr/>
          <p:nvPr/>
        </p:nvPicPr>
        <p:blipFill>
          <a:blip r:embed="rId1"/>
          <a:stretch/>
        </p:blipFill>
        <p:spPr>
          <a:xfrm>
            <a:off x="4894200" y="162000"/>
            <a:ext cx="3940200" cy="204300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CBB-A7DC-4D1E-B865-5E6C200EF266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FC9A-7611-4D50-B0EF-8122116DAC9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68080" y="282600"/>
            <a:ext cx="8575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Theories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5240" y="1224000"/>
            <a:ext cx="86598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Behavioral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Skinn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Cognitive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Piage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Beck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09" name="Picture 2" descr="H:\Alexandria\PALACE.JPG"/>
          <p:cNvPicPr/>
          <p:nvPr/>
        </p:nvPicPr>
        <p:blipFill>
          <a:blip r:embed="rId1"/>
          <a:stretch/>
        </p:blipFill>
        <p:spPr>
          <a:xfrm>
            <a:off x="3724200" y="1384200"/>
            <a:ext cx="5419800" cy="5473800"/>
          </a:xfrm>
          <a:prstGeom prst="rect">
            <a:avLst/>
          </a:prstGeom>
          <a:ln w="0">
            <a:noFill/>
          </a:ln>
        </p:spPr>
      </p:pic>
      <p:sp>
        <p:nvSpPr>
          <p:cNvPr id="21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9B08-B8A9-4A0B-9627-FFEC8FAA5EF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99A7-FE59-4358-A831-468BED5523E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8200" y="188640"/>
            <a:ext cx="67644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61645"/>
                </a:solidFill>
                <a:latin typeface="Impact"/>
              </a:rPr>
              <a:t>Mental Health Theories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9000" y="1304640"/>
            <a:ext cx="5014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eurobiological  Theor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Genetic Factor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Neurotransmiss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Gend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15" name="Picture 5" descr="MCj04395990000[1]"/>
          <p:cNvPicPr/>
          <p:nvPr/>
        </p:nvPicPr>
        <p:blipFill>
          <a:blip r:embed="rId1"/>
          <a:stretch/>
        </p:blipFill>
        <p:spPr>
          <a:xfrm>
            <a:off x="5181480" y="1359000"/>
            <a:ext cx="3598920" cy="5014800"/>
          </a:xfrm>
          <a:prstGeom prst="rect">
            <a:avLst/>
          </a:prstGeom>
          <a:ln w="0">
            <a:noFill/>
          </a:ln>
        </p:spPr>
      </p:pic>
      <p:sp>
        <p:nvSpPr>
          <p:cNvPr id="21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59AE-A2EE-4425-B799-D7899552FC8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7303-7130-47CF-8F8B-376902F68366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294840"/>
            <a:ext cx="63198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Nursing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9600" y="1479240"/>
            <a:ext cx="39672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herapeutic Relationship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Caring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Basis for nursing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Compassion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61645"/>
                </a:solidFill>
                <a:latin typeface="Tahoma"/>
              </a:rPr>
              <a:t>Sensitivity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517920" y="993600"/>
            <a:ext cx="6143760" cy="6261120"/>
          </a:xfrm>
          <a:prstGeom prst="rect">
            <a:avLst/>
          </a:prstGeom>
          <a:ln w="0">
            <a:noFill/>
          </a:ln>
        </p:spPr>
      </p:pic>
      <p:sp>
        <p:nvSpPr>
          <p:cNvPr id="22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8AD3-8AD5-4AAD-AF2A-EB5A927415D1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78F0-D7E0-427B-B398-205DE205307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44680" y="274320"/>
            <a:ext cx="79819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 Nursing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3080" y="1994040"/>
            <a:ext cx="845172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Hildegard Peplau identified the</a:t>
            </a: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urse-Patient Relationship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Introductory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Working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003d7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ermination Phas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7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6F9-16CB-4757-86EE-58F6D1AE7E7C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8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AFC8-47B2-48EC-9CB1-A77C91288A91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54040" y="1301400"/>
            <a:ext cx="81439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7a"/>
                </a:solidFill>
                <a:latin typeface="Tahoma"/>
              </a:rPr>
              <a:t>Conditions Essential for a</a:t>
            </a:r>
            <a:endParaRPr b="1" lang="en-US" sz="5400" spc="-1" strike="noStrike">
              <a:solidFill>
                <a:srgbClr val="808080"/>
              </a:solidFill>
              <a:latin typeface="Tahoma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d7a"/>
                </a:solidFill>
                <a:latin typeface="Tahoma"/>
              </a:rPr>
              <a:t>Therapeutic Relationship</a:t>
            </a:r>
            <a:endParaRPr b="1" lang="en-US" sz="5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33A-C79D-470D-A4E6-F36580F05CBD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F5A4-4B2C-4952-A449-A179909C123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800" y="415440"/>
            <a:ext cx="77724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Positive Regard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Trust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Non-judgmental 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Acceptance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Warmth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Empathy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d7a"/>
                </a:solidFill>
                <a:latin typeface="Tahoma"/>
              </a:rPr>
              <a:t>Authenticity</a:t>
            </a:r>
            <a:endParaRPr b="1" lang="en-US" sz="4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FA44-6401-49D8-A2B2-9249CC87675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9926-AF14-4F42-A397-D97F0BCB507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863280"/>
            <a:ext cx="914400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Nursing Process-Critical Thinking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Think independentl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Humilit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Courage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Integrity 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Perseverance 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Empathy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3d7a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Fair-mindedness</a:t>
            </a: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3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31BB-9747-4DC5-BCD6-FC51FF359D0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F196-8EDC-410D-A299-21DBFB4E050F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2880" y="544680"/>
            <a:ext cx="824076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8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9000" y="295200"/>
            <a:ext cx="4921200" cy="61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What Is Mental Health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What Is Mental Illness?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04" name="Picture 2" descr="F:\pictures elham\ayman_z__15_.JPG"/>
          <p:cNvPicPr/>
          <p:nvPr/>
        </p:nvPicPr>
        <p:blipFill>
          <a:blip r:embed="rId1"/>
          <a:stretch/>
        </p:blipFill>
        <p:spPr>
          <a:xfrm>
            <a:off x="5365800" y="0"/>
            <a:ext cx="37782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1AE-CDA0-4EF5-8F02-5B7983BEC907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A41C-8ABC-4670-B185-0D97EC7E67C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85800" y="438120"/>
            <a:ext cx="7772400" cy="60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	</a:t>
            </a:r>
            <a:r>
              <a:rPr b="1" lang="en-US" sz="4800" spc="-1" strike="noStrike">
                <a:solidFill>
                  <a:srgbClr val="003d7a"/>
                </a:solidFill>
                <a:latin typeface="Tahoma"/>
              </a:rPr>
              <a:t>Assessment</a:t>
            </a: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243" name="Picture 4" descr="j0234673"/>
          <p:cNvPicPr/>
          <p:nvPr/>
        </p:nvPicPr>
        <p:blipFill>
          <a:blip r:embed="rId1"/>
          <a:stretch/>
        </p:blipFill>
        <p:spPr>
          <a:xfrm>
            <a:off x="2536920" y="2290680"/>
            <a:ext cx="3760560" cy="2519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324000" y="954000"/>
            <a:ext cx="18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General Appearanc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27040" y="2131920"/>
            <a:ext cx="1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Attitud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786720" y="2519280"/>
            <a:ext cx="178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Expressive Aspects of Behavior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64960" y="390204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Consciousnes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1684440" y="5746680"/>
            <a:ext cx="29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Thought Processes and perception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786720" y="42670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Thought Conten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121440" y="1235160"/>
            <a:ext cx="25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Mood or Affec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84320" y="5527800"/>
            <a:ext cx="17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4840200" y="6016680"/>
            <a:ext cx="20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Judgment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3006720" y="153036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Awarenes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292560" y="489744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Intelligence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6421320" y="182880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Sensory Ability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689440" y="5384880"/>
            <a:ext cx="317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Developmental level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0" y="294624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Lifestyle patterns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304920" y="4611600"/>
            <a:ext cx="21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7a"/>
                </a:solidFill>
                <a:latin typeface="Times New Roman"/>
              </a:rPr>
              <a:t>Coping device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ED6C-10B0-4C8A-A262-9DDC75A9933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B101-4BFC-4450-B745-C30166704CBD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j0282788"/>
          <p:cNvPicPr/>
          <p:nvPr/>
        </p:nvPicPr>
        <p:blipFill>
          <a:blip r:embed="rId1"/>
          <a:stretch/>
        </p:blipFill>
        <p:spPr>
          <a:xfrm>
            <a:off x="2627280" y="1944720"/>
            <a:ext cx="3645000" cy="2743200"/>
          </a:xfrm>
          <a:prstGeom prst="rect">
            <a:avLst/>
          </a:prstGeom>
          <a:ln w="0">
            <a:noFill/>
          </a:ln>
        </p:spPr>
      </p:pic>
      <p:sp>
        <p:nvSpPr>
          <p:cNvPr id="263" name="WordArt 5"/>
          <p:cNvSpPr txBox="1"/>
          <p:nvPr/>
        </p:nvSpPr>
        <p:spPr>
          <a:xfrm>
            <a:off x="1650960" y="4981680"/>
            <a:ext cx="5578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Nursing Diagnosis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33D8-4022-48BB-9A26-BAC90ACF2EF9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2BC-B90F-4464-AD1A-1756BA11E3D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7120" y="693720"/>
            <a:ext cx="842652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Nursing Diagnosis vs DSM-IV-TR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8800" y="1905120"/>
            <a:ext cx="425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Hopelessnes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Self-Care deficit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Impaired verbal communication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ltered family proces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62280" y="1819440"/>
            <a:ext cx="43527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: Major illness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I: Personality and Developmental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II: physical problem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7a"/>
                </a:solidFill>
                <a:latin typeface="Tahoma"/>
              </a:rPr>
              <a:t>Axis IV: psychosocial stressor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0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1A11-7B45-4205-8D61-B4B5FE2C5414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1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3E6F-0777-4CBB-882E-A8A8C2F3A1A1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977400"/>
            <a:ext cx="8377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Roles of Psychiatric Nurs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28600" y="2016000"/>
            <a:ext cx="77868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Socializing Agen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Teach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od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Advocat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Counsel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Role Play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3d7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d7a"/>
                </a:solidFill>
                <a:latin typeface="Tahoma"/>
              </a:rPr>
              <a:t>Milieu Manage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5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CECE-3C4D-4041-B1FF-FAC099570B7F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6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0FF-DC06-46C6-8FA1-66C1AC6B95C2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D5CE-E0FC-429B-AA97-669683585C8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06240" y="-360"/>
            <a:ext cx="64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Showcard Gothic"/>
              </a:rPr>
              <a:t>GOOD LUCK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pic>
        <p:nvPicPr>
          <p:cNvPr id="280" name="Picture 2" descr="H:\Alexandria\Stanly-new15_2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81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5A7-6B77-4E76-9F84-55112B65CC02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 advTm="60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6"/>
          <p:cNvGrpSpPr/>
          <p:nvPr/>
        </p:nvGrpSpPr>
        <p:grpSpPr>
          <a:xfrm>
            <a:off x="2340000" y="282600"/>
            <a:ext cx="4571640" cy="6386040"/>
            <a:chOff x="2340000" y="282600"/>
            <a:chExt cx="4571640" cy="6386040"/>
          </a:xfrm>
        </p:grpSpPr>
        <p:pic>
          <p:nvPicPr>
            <p:cNvPr id="284" name="Picture 3" descr="pe01496_"/>
            <p:cNvPicPr/>
            <p:nvPr/>
          </p:nvPicPr>
          <p:blipFill>
            <a:blip r:embed="rId1"/>
            <a:stretch/>
          </p:blipFill>
          <p:spPr>
            <a:xfrm>
              <a:off x="2680560" y="282600"/>
              <a:ext cx="3998520" cy="59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WordArt 5"/>
            <p:cNvSpPr txBox="1"/>
            <p:nvPr/>
          </p:nvSpPr>
          <p:spPr>
            <a:xfrm>
              <a:off x="2340000" y="5426640"/>
              <a:ext cx="4571640" cy="124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Break</a:t>
              </a:r>
              <a:endPara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86" name="Date Placeholder 2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E9D-8F01-4E05-A431-19C517D64800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C0A-C2B5-4EAC-A5EF-92BEB72B9498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1200" y="174600"/>
            <a:ext cx="47880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Mental Health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874800"/>
            <a:ext cx="81327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d7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d7a"/>
                </a:solidFill>
                <a:latin typeface="Tahoma"/>
              </a:rPr>
              <a:t>A life long process a sense of harmony and balance for the individual, family, friends and community.</a:t>
            </a:r>
            <a:endParaRPr b="1" lang="en-US" sz="36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0" name="Picture 2" descr="H:\Alexandria\QAITBAY2.JPG"/>
          <p:cNvPicPr/>
          <p:nvPr/>
        </p:nvPicPr>
        <p:blipFill>
          <a:blip r:embed="rId1"/>
          <a:stretch/>
        </p:blipFill>
        <p:spPr>
          <a:xfrm>
            <a:off x="0" y="3389400"/>
            <a:ext cx="9036000" cy="3468600"/>
          </a:xfrm>
          <a:prstGeom prst="rect">
            <a:avLst/>
          </a:prstGeom>
          <a:ln w="0">
            <a:noFill/>
          </a:ln>
        </p:spPr>
      </p:pic>
      <p:sp>
        <p:nvSpPr>
          <p:cNvPr id="111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2D28-2404-4412-BE86-F289A4CD770C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2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3205-060B-4140-A9B3-41C12A6A86F7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48840"/>
            <a:ext cx="47610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11200" y="1841040"/>
            <a:ext cx="82152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M. Health is the balance between all aspects of life, social, physical, spiritual &amp; emotional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It is impact on how we manage surroundings &amp; make choices in our lives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It is integral part of our over all health. 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26267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154080" indent="-154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7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6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2C98-70B6-4DAA-9264-CD849C838795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4F95-98B0-48BE-8C65-0E99F7D671E2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47800" y="75960"/>
            <a:ext cx="3952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Mental Health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94840" y="712800"/>
            <a:ext cx="4721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Is far more than the absence of mental illness &amp; has to do with many aspects: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to feel about our selve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to feel about others.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How we are able to meet our demands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21" name="Picture 4" descr="C:\Users\Abeer\Desktop\Reading_body_language_3_1307834.jpg"/>
          <p:cNvPicPr/>
          <p:nvPr/>
        </p:nvPicPr>
        <p:blipFill>
          <a:blip r:embed="rId1"/>
          <a:srcRect l="0" t="7845" r="0" b="0"/>
          <a:stretch/>
        </p:blipFill>
        <p:spPr>
          <a:xfrm>
            <a:off x="5137200" y="739800"/>
            <a:ext cx="4006800" cy="6118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2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15B9-6495-45A0-897F-34498239A20B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3865-02F4-49B7-B86A-22E26D11CA6C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ACB5-6D76-4F28-841E-72651EF10BAC}" type="slidenum">
              <a:rPr b="0" lang="en-US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12440" y="-360"/>
            <a:ext cx="6294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Tahoma"/>
              </a:rPr>
              <a:t>What is mental illness?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317600"/>
            <a:ext cx="46702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f3d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1f3d"/>
                </a:solidFill>
                <a:latin typeface="Tahoma"/>
              </a:rPr>
              <a:t>A mental disorder or illness is a psychological or behavioral pattern that occurs in an individual &amp; is thought to cause distress or disability that not expected as part of normal development or culture.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28" name="Picture 6" descr="anxiety_1"/>
          <p:cNvPicPr/>
          <p:nvPr/>
        </p:nvPicPr>
        <p:blipFill>
          <a:blip r:embed="rId1"/>
          <a:stretch/>
        </p:blipFill>
        <p:spPr>
          <a:xfrm>
            <a:off x="4989600" y="1467000"/>
            <a:ext cx="3952800" cy="4919400"/>
          </a:xfrm>
          <a:prstGeom prst="rect">
            <a:avLst/>
          </a:prstGeom>
          <a:ln w="0">
            <a:noFill/>
          </a:ln>
        </p:spPr>
      </p:pic>
      <p:sp>
        <p:nvSpPr>
          <p:cNvPr id="129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94A8-3C58-4B0E-A1FD-C6C6A6EEEEA6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0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      </a:t>
            </a: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What is mental illness?</a:t>
            </a:r>
            <a:br>
              <a:rPr sz="4000"/>
            </a:b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7840" y="980640"/>
            <a:ext cx="4613400" cy="54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       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A group of mental disorders that causes severe disturbances in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think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,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feel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 &amp;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</a:rPr>
              <a:t>relating</a:t>
            </a:r>
            <a:r>
              <a:rPr b="1" lang="en-US" sz="3200" spc="-1" strike="noStrike">
                <a:solidFill>
                  <a:srgbClr val="808080"/>
                </a:solidFill>
                <a:latin typeface="Georgia"/>
              </a:rPr>
              <a:t>. People with a mental illness often have difficulty dealing with daily life.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33" name="Picture 7" descr="180px-The_Scream"/>
          <p:cNvPicPr/>
          <p:nvPr/>
        </p:nvPicPr>
        <p:blipFill>
          <a:blip r:embed="rId1"/>
          <a:stretch/>
        </p:blipFill>
        <p:spPr>
          <a:xfrm>
            <a:off x="4800600" y="1155600"/>
            <a:ext cx="4019400" cy="5191200"/>
          </a:xfrm>
          <a:prstGeom prst="rect">
            <a:avLst/>
          </a:prstGeom>
          <a:ln w="0">
            <a:noFill/>
          </a:ln>
        </p:spPr>
      </p:pic>
      <p:sp>
        <p:nvSpPr>
          <p:cNvPr id="134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B24E-55B1-45B0-BC31-830D619BD2F0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5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3C7D-AA41-44CC-B0C9-01EFDEDA73F8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1265400" y="1035000"/>
            <a:ext cx="6453000" cy="4210200"/>
          </a:xfrm>
          <a:prstGeom prst="rect">
            <a:avLst/>
          </a:prstGeom>
          <a:ln w="0">
            <a:noFill/>
          </a:ln>
        </p:spPr>
      </p:pic>
      <p:sp>
        <p:nvSpPr>
          <p:cNvPr id="138" name="Date Placeholder 1"/>
          <p:cNvSpPr/>
          <p:nvPr/>
        </p:nvSpPr>
        <p:spPr>
          <a:xfrm>
            <a:off x="1828800" y="6661080"/>
            <a:ext cx="213372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4DB-3482-4461-8F9D-B6FBFEFBA883}" type="datetime">
              <a:rPr b="0" lang="en-US" sz="1000" spc="-1" strike="noStrike">
                <a:solidFill>
                  <a:srgbClr val="80808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39" name="Footer Placeholder 2"/>
          <p:cNvSpPr/>
          <p:nvPr/>
        </p:nvSpPr>
        <p:spPr>
          <a:xfrm>
            <a:off x="40384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ahoma"/>
              </a:rPr>
              <a:t>professor dr. Elham fayad</a:t>
            </a:r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153-D925-4E8A-A808-B4C8DA53C470}" type="slidenum">
              <a:rPr b="0" lang="ar-SA" sz="1000" spc="-1" strike="noStrike">
                <a:solidFill>
                  <a:srgbClr val="808080"/>
                </a:solidFill>
                <a:latin typeface="Tahoma"/>
                <a:ea typeface="Tahoma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02:21:32Z</dcterms:created>
  <dc:creator>kendrixc</dc:creator>
  <dc:description/>
  <dc:language>en-US</dc:language>
  <cp:lastModifiedBy>Elham Fayad</cp:lastModifiedBy>
  <dcterms:modified xsi:type="dcterms:W3CDTF">2015-09-01T05:24:16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F140FCCA-5F80-46A8-BFDE-757AA99062DB</vt:lpwstr>
  </property>
  <property fmtid="{D5CDD505-2E9C-101B-9397-08002B2CF9AE}" pid="3" name="ArticulatePath">
    <vt:lpwstr>MHealth%20introduction[1]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