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635DC-B641-4483-93D0-4ECE51B0AFE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380880" y="685800"/>
            <a:ext cx="609624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رقابة الداخلية الحكومية ، فيما يتعلق بالمعلومات والاتصال ، تركز اهتمامها الأساسي على الاستخدامات الداخلية لتمكين الإدارة من فرض الرقابة على العمليات والأنشطة والموارد</a:t>
            </a:r>
            <a:endParaRPr b="0" lang="en-US" sz="24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08CA8-7021-4267-BB88-8F773F7B54CD}"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380880" y="685800"/>
            <a:ext cx="609624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عمل المراجع</a:t>
            </a:r>
            <a:endParaRPr b="0" lang="en-US" sz="1200" spc="-1" strike="noStrike">
              <a:solidFill>
                <a:srgbClr val="000000"/>
              </a:solidFill>
              <a:latin typeface="Calibri"/>
            </a:endParaRPr>
          </a:p>
        </p:txBody>
      </p:sp>
      <p:sp>
        <p:nvSpPr>
          <p:cNvPr id="5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D7BB7-C87F-4376-8976-6F1AEF9D90F6}"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380880" y="685800"/>
            <a:ext cx="609624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ستخدام نوع معين من أنواع المراجعة يعتمد على الوضع التنظيمي للمراجعة الداخلية والأهداف المنوطة بها. </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لمراجعة الداخلية لا تعمل في شكل "قوالب جاهزة" بل ينبغي أن تكون من نوع "التفصيل بحسب الحاجة" لكل عملية حتى تكون فعالة وقادرة على خدمة أهداف الإدار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DF571-1739-44D5-AD63-EABDF0D55C0D}"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380880" y="685800"/>
            <a:ext cx="609624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يتضح مما سبق أن المراجعة التشغيلية وتقويم الأداء المالي والتشغيلي يكون التركيز فيها على الكفاءة والفاعلية في الأداء.</a:t>
            </a:r>
            <a:endParaRPr b="0" lang="en-US" sz="1200" spc="-1" strike="noStrike">
              <a:solidFill>
                <a:srgbClr val="000000"/>
              </a:solidFill>
              <a:latin typeface="Calibri"/>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والمقصود بالكفاءة هو الحصول علي نفس القدر من المخرجات باستخدام أقل قدر ممكن من المدخلات. </a:t>
            </a:r>
            <a:endParaRPr b="0" lang="en-US" sz="1200" spc="-1" strike="noStrike">
              <a:solidFill>
                <a:srgbClr val="000000"/>
              </a:solidFill>
              <a:latin typeface="Calibri"/>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أما الفاعلية فهي علاقة الأهداف المحققة بالأهداف المستهدف تحقيقها أو هي مدي تحقيق الأهداف المخططة.</a:t>
            </a:r>
            <a:endParaRPr b="0" lang="en-US" sz="1200" spc="-1" strike="noStrike">
              <a:solidFill>
                <a:srgbClr val="000000"/>
              </a:solidFill>
              <a:latin typeface="Calibri"/>
            </a:endParaRPr>
          </a:p>
        </p:txBody>
      </p:sp>
      <p:sp>
        <p:nvSpPr>
          <p:cNvPr id="5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03D5A-1965-411E-80C1-80CDB8205065}"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380880" y="685800"/>
            <a:ext cx="609624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كمن مشكلة تقويم الأداء في الوحدات الحكومية في أن مخرجات أو أهداف لكثير من هذه الوحدات لا يمكن قياسها بالمقاييس المالية أو الكم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B510B-3E50-400F-B270-D33DA1B0259B}"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380880" y="685800"/>
            <a:ext cx="609624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في القطاع الخاص أسهل ..</a:t>
            </a:r>
            <a:endParaRPr b="0" lang="en-US" sz="1200" spc="-1" strike="noStrike">
              <a:solidFill>
                <a:srgbClr val="000000"/>
              </a:solidFill>
              <a:latin typeface="Calibri"/>
            </a:endParaRPr>
          </a:p>
        </p:txBody>
      </p:sp>
      <p:sp>
        <p:nvSpPr>
          <p:cNvPr id="5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681AB-6AA4-47CB-9B5A-472D5FA44735}"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34878-27F7-429C-863B-478ECAB94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E415C-414B-45C9-8CFD-896EA177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13593-00F9-41BB-AF1A-6344E41EE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321B1-9E15-4257-B72B-23F2F1473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9F223-F849-4D40-858D-4837469DC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11F14-142A-44B6-AFED-85BF6C2CC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7B86B-84B3-4967-9522-C54697D27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6D354-4899-401E-BFAD-13FBD0F2F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26A9F-3939-4570-B5E2-9AF79B9D2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20005-5E1E-4353-9D40-6C3CE2842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AADB8-1686-4FA3-ACFD-89C6940B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924B-565E-42EF-ABAC-0E21DB9B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58A6-0E1A-414B-BBD0-1C224701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35771-C4B9-4D65-B423-30F709CF0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94570-B629-4018-B708-1827FE982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6C96F-5895-4BD0-9F30-06C09DC02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90C07-C6FE-4393-8532-DDA969700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22C15-B464-4355-A7D1-539FDC397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076A5-F18F-4754-958D-D8F3D826A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5E0CA-50E3-4D3A-94A4-0E3900849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FE40C-C068-4746-A888-DE1B9399A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64B8D-20E7-4366-9D9C-427641124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05CE-C7B7-4DB7-B4C8-3A4528E6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3413D-3932-4BF8-AA2F-923E82CD3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5FB9B-6E18-4ADE-AF26-C2A48E473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BACDE-629B-489E-B69C-C603755D2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22377-2DCC-4D03-84F5-ED320ED99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1AEDC-D131-4ABA-8959-5D8274016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70D7C-C280-4124-B685-BBAEAB5C94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E4470B-E455-428C-B4F7-7CBBCE4A5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8B307-A8D0-4BCB-9216-1C38B06219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14394-CABE-4D0B-AD37-E9667C9AC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ECD1EB-7133-4099-8A28-44DA3FD00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E8998-6780-4EEF-954C-58C38E48B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0EC28-8556-438C-A5C3-E1FD61B98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89446-3DD7-4B8D-A360-7FFA1E8703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45F9A-E380-417B-B447-5E5485A6B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4CED8-8D85-48C5-91D3-B86BD7D3A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0E103-113E-4865-9F03-D2B861BFC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F511C-3841-4D8E-9FCC-4E0D18A78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7E80B-B58B-4B35-A0DC-2446A4037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E8B6D-DF8E-4BE0-A396-50D7026E10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73906-B6F3-46BF-9F1B-48A0F059DE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F7A131-4078-4BFA-A73B-5521DA4E3F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0F01-5D22-480E-A243-99BBF124E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B5FAF-B91D-4744-B39C-5232663E3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D4F9A2-E51C-4A7B-B4AB-B5E95C9F5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C2C5E-D6DC-4289-BA18-62C3EE79A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DD09F-2F91-49E8-90B8-B7C583DFD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559A5-70DD-4111-B865-20A02280D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06328-3726-4EA0-AC84-2D52E10D8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049A7-D6C9-474E-B7D1-3137085E9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0BE60-0327-40F8-8959-989E9EB5E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E3569-2D59-4632-BE03-E54D543BA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2988AC-F9C3-4BCE-B526-B2D6E4C618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F548-B060-4426-9101-F48B9328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706CA2-46D6-4E01-A448-4A5E2EE6EE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907A44-D69D-4C62-BF74-B314F1559A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1E7919-CB38-4D0B-A1B5-49DF87452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2F4A2-B1A2-488F-A5C9-A6A9BCEDFE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E3647-2C52-43A9-B789-7F1CAFCF4B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67E95-ACE5-42F8-8102-2B13EA3BD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378E9-AA3B-4EA7-869B-3A155788C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D3696-4A73-4669-BA41-640F886EC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05007-6D93-4FEB-8DAD-F87EAAAAB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55B2C-1C1F-4C89-BD2F-0D7E63388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6214-A764-49CE-B8E6-DB056A773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B7206-63CE-4987-8771-A15F890E0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6C9942-0715-4591-8204-537E96F5EE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A6D046-498D-4C3D-B630-A298EADEC4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05E4D6-CCCF-48C7-95C6-61F380F111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A665D-96E2-4DCD-B719-C33072928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73AB78-A8C3-4F29-AC92-9AD5EECD4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7951FB-CBCF-4393-94C8-5BC2AF6517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0A993-318A-4A71-ADAC-1370BD639B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D6360-215D-407A-B2FD-A42AAB44F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00926-7D7A-4664-8D8E-623676168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D35B-0CC0-4DB4-8D74-A55CF0296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A48DD-BEAD-40F1-8E33-9E5A44E6C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E8923-213E-4414-8C00-6979DCAAC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94D1D-A66E-45D6-A243-85EF9B3C7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016A3F-E7EC-4131-B916-98A44E88D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406B01-5134-4C12-A5DF-48AEA72B57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5F2C-076A-4B68-B976-2DEB2B3DC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E3226-2DCC-44C8-8F65-409A5173EF1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4CD99-C83C-40B1-A082-F98BB319FE29}"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D5CEE-1675-4B50-8598-E12CF2B67A3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99F0B-DCF2-46BE-BAE3-13D152B3E40D}"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8280C-F644-434A-B626-66A12B32C119}"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652B5-62F3-4DB8-8C49-D9C28BE821C6}"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87B14-2719-4EFA-A14A-76B0F55F918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64840" y="1782720"/>
            <a:ext cx="987588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نفيذ مهام المراجعة الداخلية</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858680" y="3614760"/>
            <a:ext cx="9875880" cy="1752480"/>
          </a:xfrm>
          <a:prstGeom prst="rect">
            <a:avLst/>
          </a:prstGeom>
          <a:noFill/>
          <a:ln w="0">
            <a:noFill/>
          </a:ln>
        </p:spPr>
        <p:txBody>
          <a:bodyPr tIns="0" anchor="t">
            <a:noAutofit/>
          </a:bodyPr>
          <a:p>
            <a:pPr marL="270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ea typeface="Majalla UI"/>
              </a:rPr>
              <a:t>      الفصل السادس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4" name=""/>
          <p:cNvSpPr txBox="1"/>
          <p:nvPr/>
        </p:nvSpPr>
        <p:spPr>
          <a:xfrm>
            <a:off x="1914480" y="1625400"/>
            <a:ext cx="9996480" cy="462276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مكونات نظم الرقابة الداخلية :</a:t>
            </a:r>
            <a:endParaRPr b="0" lang="en-US" sz="2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a:t>
            </a:r>
            <a:r>
              <a:rPr b="0" lang="ar-SA" sz="2400" spc="-1" strike="noStrike">
                <a:solidFill>
                  <a:srgbClr val="404040"/>
                </a:solidFill>
                <a:latin typeface="Gill Sans MT"/>
                <a:cs typeface="Majalla UI"/>
              </a:rPr>
              <a:t>البيئة الرقابية </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تقدير المخاطر </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المعلومات والاتصال </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الأنشطة الرقابية</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مراقبة الأنشطة الرقابي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6" name=""/>
          <p:cNvSpPr txBox="1"/>
          <p:nvPr/>
        </p:nvSpPr>
        <p:spPr>
          <a:xfrm>
            <a:off x="1566720" y="1744560"/>
            <a:ext cx="1005840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بيئة الرقاب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د البيئة الرقابية اتجاهات المنشأة ، وتؤثر على مدى وعي الأفراد الذين ينتمون إليها بالأنشطة الرقاب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الأساس لجميع مكونات الرقابة الداخلية الأخرى.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ن أهم العوامل البيئية الرقابية ما يلي :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طرق الرقابة المتعلقة بالإشراف والمتابع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هيكل التنظيمي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سلوب الفلسفي والعملي المتبع بواسطة الادار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جنة المراجع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سياسات والإجراءات المتعلقة بالأفراد (العاملين)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ؤثرات الخارجية</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مانة والقيم الأخلاقية التي يتصف بها الأفراد والعاملون في الجه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طرق الاتصال</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7680" y="20592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8" name=""/>
          <p:cNvSpPr txBox="1"/>
          <p:nvPr/>
        </p:nvSpPr>
        <p:spPr>
          <a:xfrm>
            <a:off x="1846440" y="1846440"/>
            <a:ext cx="10058400" cy="4579920"/>
          </a:xfrm>
          <a:prstGeom prst="rect">
            <a:avLst/>
          </a:prstGeom>
          <a:noFill/>
          <a:ln w="0">
            <a:noFill/>
          </a:ln>
        </p:spPr>
        <p:txBody>
          <a:bodyPr anchor="t">
            <a:normAutofit/>
          </a:bodyPr>
          <a:p>
            <a:pPr marL="457200" indent="-457200" algn="r"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تقديـر المخاطـر : </a:t>
            </a:r>
            <a:endParaRPr b="0" lang="en-US" sz="2400" spc="-1" strike="noStrike">
              <a:solidFill>
                <a:srgbClr val="000000"/>
              </a:solidFill>
              <a:latin typeface="Gill Sans MT"/>
            </a:endParaRPr>
          </a:p>
          <a:p>
            <a:pPr lvl="1" marL="617400" indent="-3427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تقدير المخاطر هو تقدير احتمال حدوث غش أو أخطاء أثناء تنفيذ العمليات المالية أو غير المالية.</a:t>
            </a:r>
            <a:endParaRPr b="0" lang="en-US" sz="2400" spc="-1" strike="noStrike">
              <a:solidFill>
                <a:srgbClr val="000000"/>
              </a:solidFill>
              <a:latin typeface="Gill Sans MT"/>
            </a:endParaRPr>
          </a:p>
          <a:p>
            <a:pPr lvl="1" marL="617400" indent="-3427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ماذا عن ادارة المخاطر ؟</a:t>
            </a:r>
            <a:endParaRPr b="0" lang="en-US" sz="2400" spc="-1" strike="noStrike">
              <a:solidFill>
                <a:srgbClr val="000000"/>
              </a:solidFill>
              <a:latin typeface="Gill Sans MT"/>
            </a:endParaRPr>
          </a:p>
          <a:p>
            <a:pPr lvl="2" marL="863640" indent="-34308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وضع الإجراءات التي تؤدي إلى تقليل إحتمال حدوث هذه الأخطار</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50" name=""/>
          <p:cNvSpPr txBox="1"/>
          <p:nvPr/>
        </p:nvSpPr>
        <p:spPr>
          <a:xfrm>
            <a:off x="1452600" y="1846440"/>
            <a:ext cx="1005840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علومات والاتصال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r>
              <a:rPr b="0" lang="ar-SA" sz="2400" spc="-1" strike="noStrike">
                <a:solidFill>
                  <a:srgbClr val="000000"/>
                </a:solidFill>
                <a:latin typeface="Gill Sans MT"/>
                <a:cs typeface="Majalla UI"/>
              </a:rPr>
              <a:t>تختلف احتياجات المعلومات من نشاط لآخر ومن وحدة لأخرى ، كما تختلف وسائل الاتصال والتقرير تبعا لاختلاف المعلومات ودورية الحاجة إليها </a:t>
            </a:r>
            <a:endParaRPr b="0" lang="en-US" sz="2400" spc="-1" strike="noStrike">
              <a:solidFill>
                <a:srgbClr val="000000"/>
              </a:solidFill>
              <a:latin typeface="Gill Sans MT"/>
            </a:endParaRPr>
          </a:p>
          <a:p>
            <a:pPr lvl="1" marL="617400" indent="-342720" algn="just" rtl="1">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يتكون نظام المعلومات المتعلق بأهداف التقارير المالية بما في ذلك النظام المحاسبي من الآتي:</a:t>
            </a:r>
            <a:endParaRPr b="0" lang="en-US" sz="2400" spc="-1" strike="noStrike">
              <a:solidFill>
                <a:srgbClr val="000000"/>
              </a:solidFill>
              <a:latin typeface="Gill Sans MT"/>
            </a:endParaRPr>
          </a:p>
          <a:p>
            <a:pPr lvl="3" marL="960480" indent="-173160" algn="r"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dvertisingLight"/>
              </a:rPr>
              <a:t>الطرق المحاسبية المستخدمة.</a:t>
            </a:r>
            <a:endParaRPr b="0" lang="en-US" sz="1800" spc="-1" strike="noStrike">
              <a:solidFill>
                <a:srgbClr val="000000"/>
              </a:solidFill>
              <a:latin typeface="Gill Sans MT"/>
            </a:endParaRPr>
          </a:p>
          <a:p>
            <a:pPr lvl="3" marL="960480" indent="-173160" algn="r"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abic Transparent"/>
              </a:rPr>
              <a:t>السجلات.</a:t>
            </a:r>
            <a:endParaRPr b="0" lang="en-US" sz="1800" spc="-1" strike="noStrike">
              <a:solidFill>
                <a:srgbClr val="000000"/>
              </a:solidFill>
              <a:latin typeface="Gill Sans MT"/>
            </a:endParaRPr>
          </a:p>
          <a:p>
            <a:pPr lvl="3" marL="960480" indent="-173160" algn="r"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abic Transparent"/>
              </a:rPr>
              <a:t>التقرير عن العمليات .</a:t>
            </a:r>
            <a:endParaRPr b="0" lang="en-US" sz="1800" spc="-1" strike="noStrike">
              <a:solidFill>
                <a:srgbClr val="000000"/>
              </a:solidFill>
              <a:latin typeface="Gill Sans MT"/>
            </a:endParaRPr>
          </a:p>
          <a:p>
            <a:pPr lvl="3" marL="960480" indent="-173160" algn="just"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dvertisingLight"/>
              </a:rPr>
              <a:t>مسئولية المحاسبة موارد الوحدة وأصولها وخصومها</a:t>
            </a:r>
            <a:r>
              <a:rPr b="0" lang="ar-SA" sz="800" spc="-1" strike="noStrike">
                <a:solidFill>
                  <a:srgbClr val="000000"/>
                </a:solidFill>
                <a:latin typeface="Times New Roman"/>
                <a:ea typeface="AdvertisingLight"/>
              </a:rPr>
              <a:t>.</a:t>
            </a:r>
            <a:endParaRPr b="0" lang="en-US" sz="800" spc="-1" strike="noStrike">
              <a:solidFill>
                <a:srgbClr val="000000"/>
              </a:solidFill>
              <a:latin typeface="Gill Sans MT"/>
            </a:endParaRPr>
          </a:p>
          <a:p>
            <a:pPr lvl="1" marL="617400" indent="-342720" algn="just" rtl="1">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52" name=""/>
          <p:cNvSpPr txBox="1"/>
          <p:nvPr/>
        </p:nvSpPr>
        <p:spPr>
          <a:xfrm>
            <a:off x="1554120" y="1846440"/>
            <a:ext cx="1005840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الأنشطـة الرقابيـ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أنشطة الرقابية هي السياسات والإجراءات التي تساعد في التأكد من أن تعليمات الجهات العليا يتم تنفيذ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لها أهداف عديدة ويتم تطبيقها عند مستويات تنظيمية ووظيفية متعدد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يجب على المراجع الداخلي أن يكون على دراية تامة بالانشطة الرقابية المطبقة بالجهة التابع ل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54" name=""/>
          <p:cNvSpPr txBox="1"/>
          <p:nvPr/>
        </p:nvSpPr>
        <p:spPr>
          <a:xfrm>
            <a:off x="1841040" y="1795320"/>
            <a:ext cx="972036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راقبة الانشطة الرقاب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قبة الأنشطة الرقابية هي عملية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ويم جودة أداء الرقابة الداخلية بصفة مستمرة للتحقق من أن الأنشطة الرقابية تعمل وفق ما هو مخطط لها أن تعمل و أنها تتعامل بفاعلية مع المخاطر التي تنشأ عن الأحداث والظروف الطارئة ،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وصي باتخاذ أي إجراءات تصحيحية في حالة وجود أي قصور في هذه الأنشطة</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ر مدي ملائمة الأنشطة الرقابية الحالية وهل مازلت فاعلة في تخفيض المخاطر ، وهل هناك مخاطر جديدة لم تكن متوقعة عند تخطيط الأنشطة الرقابية الحالية ، وما هي الأنشطة الرقابية الإضافية التي يجب تصميمها للتعامل مع الأنواع الجديدة من المخاطر.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حقيق مراقبة الأنشطة الرقابية عن طريق أنشطة مستمرة ، أو إجراء تقويمات مستقلة أو عن طريق الجمع بين الأسلوبين.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65200" y="131760"/>
            <a:ext cx="10058400" cy="1442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graphicFrame>
        <p:nvGraphicFramePr>
          <p:cNvPr id="356" name=""/>
          <p:cNvGraphicFramePr/>
          <p:nvPr/>
        </p:nvGraphicFramePr>
        <p:xfrm>
          <a:off x="1587600" y="2630520"/>
          <a:ext cx="10342440" cy="3787920"/>
        </p:xfrm>
        <a:graphic>
          <a:graphicData uri="http://schemas.openxmlformats.org/drawingml/2006/table">
            <a:tbl>
              <a:tblPr/>
              <a:tblGrid>
                <a:gridCol w="1836720"/>
                <a:gridCol w="2066760"/>
                <a:gridCol w="1868400"/>
                <a:gridCol w="2098800"/>
                <a:gridCol w="2471760"/>
              </a:tblGrid>
              <a:tr h="482760">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مراقبة الأنشطة الرقابية</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المعلومات والاتصال</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الأنشطة الرقابية</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تقدير المخاطر</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البيئة الرقابية</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64280">
                <a:tc>
                  <a:txBody>
                    <a:bodyPr lIns="68760" rIns="68760" tIns="0" bIns="0" anchor="t">
                      <a:noAutofit/>
                    </a:bodyPr>
                    <a:p>
                      <a:pPr algn="r" rtl="1">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وتتكون من :</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1</a:t>
                      </a:r>
                      <a:r>
                        <a:rPr b="0" lang="ar-SA" sz="1600" spc="-1" strike="noStrike">
                          <a:solidFill>
                            <a:srgbClr val="000000"/>
                          </a:solidFill>
                          <a:latin typeface="Times New Roman"/>
                          <a:ea typeface="Arabic Transparent"/>
                        </a:rPr>
                        <a:t>- تقويم تصميم وتنفيذ الأنشطة الرقابية.</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اتخاذ أي إجراءات تصحيحية.</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يتكون نظام المعلومات المتعلق بأهداف التقارير المالية بما في ذلك النظام المحاسبي من الآتي:</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dvertisingLight"/>
                        </a:rPr>
                        <a:t>1</a:t>
                      </a:r>
                      <a:r>
                        <a:rPr b="0" lang="ar-SA" sz="1600" spc="-1" strike="noStrike">
                          <a:solidFill>
                            <a:srgbClr val="000000"/>
                          </a:solidFill>
                          <a:latin typeface="Times New Roman"/>
                          <a:ea typeface="AdvertisingLight"/>
                        </a:rPr>
                        <a:t>- الطرق المحاسبية المستخدمة.</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السجلات.</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التقرير عن العمليات .</a:t>
                      </a:r>
                      <a:endParaRPr b="0" lang="en-US" sz="1600" spc="-1" strike="noStrike">
                        <a:solidFill>
                          <a:srgbClr val="000000"/>
                        </a:solidFill>
                        <a:latin typeface="Calibri"/>
                      </a:endParaRPr>
                    </a:p>
                    <a:p>
                      <a:pPr algn="just"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dvertisingLight"/>
                        </a:rPr>
                        <a:t>4</a:t>
                      </a:r>
                      <a:r>
                        <a:rPr b="0" lang="ar-SA" sz="1600" spc="-1" strike="noStrike">
                          <a:solidFill>
                            <a:srgbClr val="000000"/>
                          </a:solidFill>
                          <a:latin typeface="Times New Roman"/>
                          <a:ea typeface="AdvertisingLight"/>
                        </a:rPr>
                        <a:t>-مسئولية المحاسبة موارد الوحدة وأصولها وخصومها</a:t>
                      </a:r>
                      <a:r>
                        <a:rPr b="0" lang="ar-SA" sz="1300" spc="-1" strike="noStrike">
                          <a:solidFill>
                            <a:srgbClr val="000000"/>
                          </a:solidFill>
                          <a:latin typeface="Times New Roman"/>
                          <a:ea typeface="AdvertisingLight"/>
                        </a:rPr>
                        <a:t>.</a:t>
                      </a:r>
                      <a:endParaRPr b="0" lang="en-US" sz="13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هي السياسات والإجراءات التي تتعلق بما يلي :</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1</a:t>
                      </a:r>
                      <a:r>
                        <a:rPr b="0" lang="ar-SA" sz="1600" spc="-1" strike="noStrike">
                          <a:solidFill>
                            <a:srgbClr val="000000"/>
                          </a:solidFill>
                          <a:latin typeface="Times New Roman"/>
                          <a:ea typeface="Arabic Transparent"/>
                        </a:rPr>
                        <a:t>- فحص الأداء.</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معالجة المعلومات.</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الإجراءات الرقابية التي تعتمد على التحقق الوجود الفعلي.</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4</a:t>
                      </a:r>
                      <a:r>
                        <a:rPr b="0" lang="ar-SA" sz="1600" spc="-1" strike="noStrike">
                          <a:solidFill>
                            <a:srgbClr val="000000"/>
                          </a:solidFill>
                          <a:latin typeface="Times New Roman"/>
                          <a:ea typeface="Arabic Transparent"/>
                        </a:rPr>
                        <a:t>- الفصل بين الواجبات.</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82520" indent="-179280"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Times New Roman"/>
                          <a:ea typeface="Arabic Transparent"/>
                        </a:rPr>
                        <a:t>1</a:t>
                      </a:r>
                      <a:r>
                        <a:rPr b="0" lang="ar-SA" sz="1600" spc="-1" strike="noStrike">
                          <a:solidFill>
                            <a:srgbClr val="000000"/>
                          </a:solidFill>
                          <a:latin typeface="Times New Roman"/>
                          <a:ea typeface="Arabic Transparent"/>
                        </a:rPr>
                        <a:t>- تحديد المخاطر بموارد وأصول الوحدة الحكومية.</a:t>
                      </a:r>
                      <a:endParaRPr b="0" lang="en-US" sz="1600" spc="-1" strike="noStrike">
                        <a:solidFill>
                          <a:srgbClr val="000000"/>
                        </a:solidFill>
                        <a:latin typeface="Calibri"/>
                      </a:endParaRPr>
                    </a:p>
                    <a:p>
                      <a:pPr marL="182520" indent="-179280"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تحليل المخاطر المتعلقة بموارد وأصول الوحدة الحكومية.</a:t>
                      </a:r>
                      <a:endParaRPr b="0" lang="en-US" sz="1600" spc="-1" strike="noStrike">
                        <a:solidFill>
                          <a:srgbClr val="000000"/>
                        </a:solidFill>
                        <a:latin typeface="Calibri"/>
                      </a:endParaRPr>
                    </a:p>
                    <a:p>
                      <a:pPr marL="182520" indent="-179280"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أساليب إدارة المخاطر بموارد الوحدة الحكومية</a:t>
                      </a:r>
                      <a:r>
                        <a:rPr b="0" lang="ar-SA" sz="1100" spc="-1" strike="noStrike">
                          <a:solidFill>
                            <a:srgbClr val="000000"/>
                          </a:solidFill>
                          <a:latin typeface="Times New Roman"/>
                          <a:ea typeface="Arabic Transparent"/>
                        </a:rPr>
                        <a:t>.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Times New Roman"/>
                          <a:ea typeface="Arabic Transparent"/>
                        </a:rPr>
                        <a:t>1</a:t>
                      </a:r>
                      <a:r>
                        <a:rPr b="0" lang="ar-SA" sz="1100" spc="-1" strike="noStrike">
                          <a:solidFill>
                            <a:srgbClr val="000000"/>
                          </a:solidFill>
                          <a:latin typeface="Times New Roman"/>
                          <a:ea typeface="Arabic Transparent"/>
                        </a:rPr>
                        <a:t>- </a:t>
                      </a:r>
                      <a:r>
                        <a:rPr b="0" lang="ar-SA" sz="1600" spc="-1" strike="noStrike">
                          <a:solidFill>
                            <a:srgbClr val="000000"/>
                          </a:solidFill>
                          <a:latin typeface="Times New Roman"/>
                          <a:cs typeface="Arabic Transparent"/>
                        </a:rPr>
                        <a:t>طرق الرقابة المتعلقة بالإشراف والمتابعة.</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الهيكل التنظيمي للمنشأة</a:t>
                      </a:r>
                      <a:r>
                        <a:rPr b="0" lang="en-US" sz="1600" spc="-1" strike="noStrike">
                          <a:solidFill>
                            <a:srgbClr val="000000"/>
                          </a:solidFill>
                          <a:latin typeface="Times New Roman"/>
                          <a:ea typeface="Arabic Transparent"/>
                        </a:rPr>
                        <a:t>.</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طرق الاتصال.</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4</a:t>
                      </a:r>
                      <a:r>
                        <a:rPr b="0" lang="ar-SA" sz="1600" spc="-1" strike="noStrike">
                          <a:solidFill>
                            <a:srgbClr val="000000"/>
                          </a:solidFill>
                          <a:latin typeface="Times New Roman"/>
                          <a:ea typeface="Arabic Transparent"/>
                        </a:rPr>
                        <a:t>-  الأسلوب الفلسفي والعملي المتبع بواسطة الادارة</a:t>
                      </a:r>
                      <a:r>
                        <a:rPr b="0" lang="en-US" sz="1600" spc="-1" strike="noStrike">
                          <a:solidFill>
                            <a:srgbClr val="000000"/>
                          </a:solidFill>
                          <a:latin typeface="Times New Roman"/>
                          <a:ea typeface="Arabic Transparent"/>
                        </a:rPr>
                        <a:t>.</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5</a:t>
                      </a:r>
                      <a:r>
                        <a:rPr b="0" lang="ar-SA" sz="1600" spc="-1" strike="noStrike">
                          <a:solidFill>
                            <a:srgbClr val="000000"/>
                          </a:solidFill>
                          <a:latin typeface="Times New Roman"/>
                          <a:ea typeface="Arabic Transparent"/>
                        </a:rPr>
                        <a:t>-  لجنة المراجعة واشتراكها مع مجلس الإدارة في المسئولية..</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6</a:t>
                      </a:r>
                      <a:r>
                        <a:rPr b="0" lang="ar-SA" sz="1600" spc="-1" strike="noStrike">
                          <a:solidFill>
                            <a:srgbClr val="000000"/>
                          </a:solidFill>
                          <a:latin typeface="Times New Roman"/>
                          <a:ea typeface="Arabic Transparent"/>
                        </a:rPr>
                        <a:t>-  السياسات والإجراءات المتعلقة بالأفراد (العاملين).</a:t>
                      </a:r>
                      <a:endParaRPr b="0" lang="en-US" sz="1600" spc="-1" strike="noStrike">
                        <a:solidFill>
                          <a:srgbClr val="000000"/>
                        </a:solidFill>
                        <a:latin typeface="Calibri"/>
                      </a:endParaRPr>
                    </a:p>
                    <a:p>
                      <a:pPr marL="184320" indent="-179640" algn="r" rtl="1">
                        <a:lnSpc>
                          <a:spcPct val="100000"/>
                        </a:lnSpc>
                        <a:spcAft>
                          <a:spcPts val="300"/>
                        </a:spcAf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المؤثرات الخارجية.</a:t>
                      </a:r>
                      <a:r>
                        <a:rPr b="0" lang="en-US" sz="1600" spc="-1" strike="noStrike">
                          <a:solidFill>
                            <a:srgbClr val="000000"/>
                          </a:solidFill>
                          <a:latin typeface="Times New Roman"/>
                          <a:ea typeface="Arabic Transparent"/>
                        </a:rPr>
                        <a:t>  </a:t>
                      </a:r>
                      <a:endParaRPr b="0" lang="en-US" sz="1600" spc="-1" strike="noStrike">
                        <a:solidFill>
                          <a:srgbClr val="000000"/>
                        </a:solidFill>
                        <a:latin typeface="Calibri"/>
                      </a:endParaRPr>
                    </a:p>
                    <a:p>
                      <a:pPr marL="184320" indent="-179640" algn="r" rtl="1">
                        <a:lnSpc>
                          <a:spcPct val="100000"/>
                        </a:lnSpc>
                        <a:spcAft>
                          <a:spcPts val="300"/>
                        </a:spcAf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الأمانة والقيم الأخلاقية</a:t>
                      </a:r>
                      <a:r>
                        <a:rPr b="0" lang="ar-SA" sz="1100" spc="-1" strike="noStrike">
                          <a:solidFill>
                            <a:srgbClr val="000000"/>
                          </a:solidFill>
                          <a:latin typeface="Times New Roman"/>
                          <a:ea typeface="Arabic Transparent"/>
                        </a:rPr>
                        <a:t>.</a:t>
                      </a:r>
                      <a:endParaRPr b="0" lang="en-US" sz="1100" spc="-1" strike="noStrike">
                        <a:solidFill>
                          <a:srgbClr val="000000"/>
                        </a:solidFill>
                        <a:latin typeface="Calibri"/>
                      </a:endParaRPr>
                    </a:p>
                    <a:p>
                      <a:pPr marL="184320" indent="-179640" algn="r" rtl="1">
                        <a:lnSpc>
                          <a:spcPts val="12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abic Transparent"/>
                        </a:rPr>
                        <a:t>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7" name="AutoShape 2"/>
          <p:cNvSpPr/>
          <p:nvPr/>
        </p:nvSpPr>
        <p:spPr>
          <a:xfrm>
            <a:off x="4633920" y="1803240"/>
            <a:ext cx="3543120" cy="5716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ransparent"/>
                <a:cs typeface="Majalla UI"/>
              </a:rPr>
              <a:t>ملخص مكونات الرقابة الداخلية</a:t>
            </a:r>
            <a:endParaRPr b="0" lang="en-US" sz="2400" spc="-1" strike="noStrike">
              <a:solidFill>
                <a:srgbClr val="000000"/>
              </a:solidFill>
              <a:latin typeface="Calibri"/>
            </a:endParaRPr>
          </a:p>
        </p:txBody>
      </p:sp>
      <p:sp>
        <p:nvSpPr>
          <p:cNvPr id="358" name="Line 1"/>
          <p:cNvSpPr/>
          <p:nvPr/>
        </p:nvSpPr>
        <p:spPr>
          <a:xfrm>
            <a:off x="6494400" y="240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Rectangle 3"/>
          <p:cNvSpPr/>
          <p:nvPr/>
        </p:nvSpPr>
        <p:spPr>
          <a:xfrm>
            <a:off x="1104840" y="1574640"/>
            <a:ext cx="121921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0" name="Rectangle 5"/>
          <p:cNvSpPr/>
          <p:nvPr/>
        </p:nvSpPr>
        <p:spPr>
          <a:xfrm>
            <a:off x="9307440" y="2316960"/>
            <a:ext cx="180720" cy="1084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62" name=""/>
          <p:cNvSpPr txBox="1"/>
          <p:nvPr/>
        </p:nvSpPr>
        <p:spPr>
          <a:xfrm>
            <a:off x="1554120" y="1833480"/>
            <a:ext cx="10058400" cy="45799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حدود الرقابة الداخل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ea typeface="Majalla UI"/>
              </a:rPr>
              <a:t> </a:t>
            </a:r>
            <a:r>
              <a:rPr b="0" lang="ar-SA" sz="2400" spc="-1" strike="noStrike">
                <a:solidFill>
                  <a:srgbClr val="404040"/>
                </a:solidFill>
                <a:latin typeface="Gill Sans MT"/>
                <a:cs typeface="Majalla UI"/>
              </a:rPr>
              <a:t>نظام الرقابة الداخلية الجيد يقدم تأكيدا معقولا و لا يقدم ضمانا مطلقا على تحقيق الأهداف نتيجة لوجود معوقات تحد من فعالية أي نظام رقابة داخ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هذه المعوقات تشمل :</a:t>
            </a:r>
            <a:endParaRPr b="0" lang="en-US" sz="24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إساءة فهم التعليمات. </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خطأ في التقديـر.</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لامبــــالاة.</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عدم التركيـــز.</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تعــــــب. </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تواطـــــؤ.</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تجاوزات الادارة </a:t>
            </a:r>
            <a:endParaRPr b="0" lang="en-US" sz="18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51080" y="134640"/>
            <a:ext cx="10058400" cy="145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ar-SA" sz="3900" spc="-1" strike="noStrike">
                <a:solidFill>
                  <a:srgbClr val="611617"/>
                </a:solidFill>
                <a:latin typeface="Gill Sans MT"/>
                <a:cs typeface="Majalla UI"/>
              </a:rPr>
              <a:t>تقويم الرقابة الداخلية</a:t>
            </a:r>
            <a:br>
              <a:rPr sz="3900"/>
            </a:br>
            <a:r>
              <a:rPr b="1" lang="ar-SA" sz="3900" spc="-1" strike="noStrike">
                <a:solidFill>
                  <a:srgbClr val="611617"/>
                </a:solidFill>
                <a:latin typeface="Gill Sans MT"/>
                <a:ea typeface="Majalla UI"/>
              </a:rPr>
              <a:t> في ظل التشغيل اليدوي للبيانات المحاسبية</a:t>
            </a:r>
            <a:br>
              <a:rPr sz="3900"/>
            </a:br>
            <a:br>
              <a:rPr sz="3900"/>
            </a:br>
            <a:endParaRPr b="0" lang="en-US" sz="3900" spc="-1" strike="noStrike">
              <a:solidFill>
                <a:srgbClr val="572314"/>
              </a:solidFill>
              <a:latin typeface="Gill Sans MT"/>
            </a:endParaRPr>
          </a:p>
        </p:txBody>
      </p:sp>
      <p:sp>
        <p:nvSpPr>
          <p:cNvPr id="364" name=""/>
          <p:cNvSpPr txBox="1"/>
          <p:nvPr/>
        </p:nvSpPr>
        <p:spPr>
          <a:xfrm>
            <a:off x="1521000" y="17650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ولا : الحصول على فهم كاف لنظام الرقابة الداخلية وتوثيق ذلك الفهم:</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يام بدراسة المكونات الخمس لنظام الرقابة الداخلية</a:t>
            </a:r>
            <a:endParaRPr b="0" lang="en-US" sz="2000" spc="-1" strike="noStrike">
              <a:solidFill>
                <a:srgbClr val="000000"/>
              </a:solidFill>
              <a:latin typeface="Gill Sans MT"/>
            </a:endParaRPr>
          </a:p>
          <a:p>
            <a:pPr lvl="1" marL="86040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تخاذ قرار فيما يختص بإجراء او عدم إجراء اختبارات رقابة في مرحلة الفهم (مرحلة التقييم المبدئي).</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عملية فهم النظام باستخدام خرائط التدفق ، المذكرات ، قوائم الاستقصاء (الاستبيان) جداول القرارات ، ...  الخ.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 تقييم مخاطر الرقابة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ذا لم يتم إجراء اختبارات رقابة فان مخاطر الرقابة يجب تحديدها عند الحد الأقصى. </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ذا تم إجراء اختبارات رقابة فان مستوى معين من مستويات مخاطر الرقابة يمكن تحديده بأقل من الحد الأقصى. </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ا اذا كان هناك حاجة لإجراء المزيد من اختبارات الرقابة</a:t>
            </a:r>
            <a:endParaRPr b="0" lang="en-US" sz="2000" spc="-1" strike="noStrike">
              <a:solidFill>
                <a:srgbClr val="000000"/>
              </a:solidFill>
              <a:latin typeface="Gill Sans MT"/>
            </a:endParaRPr>
          </a:p>
          <a:p>
            <a:pPr lvl="1" marL="86040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40000" y="274320"/>
            <a:ext cx="10058400" cy="1312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ar-SA" sz="3900" spc="-1" strike="noStrike">
                <a:solidFill>
                  <a:srgbClr val="611617"/>
                </a:solidFill>
                <a:latin typeface="Gill Sans MT"/>
                <a:cs typeface="Majalla UI"/>
              </a:rPr>
              <a:t>تقويم الرقابة الداخلية</a:t>
            </a:r>
            <a:br>
              <a:rPr sz="3900"/>
            </a:br>
            <a:r>
              <a:rPr b="1" lang="ar-SA" sz="3900" spc="-1" strike="noStrike">
                <a:solidFill>
                  <a:srgbClr val="611617"/>
                </a:solidFill>
                <a:latin typeface="Gill Sans MT"/>
                <a:ea typeface="Majalla UI"/>
              </a:rPr>
              <a:t> في ظل التشغيل اليدوي للبيانات المحاسبية</a:t>
            </a:r>
            <a:br>
              <a:rPr sz="3900"/>
            </a:br>
            <a:br>
              <a:rPr sz="3900"/>
            </a:br>
            <a:endParaRPr b="0" lang="en-US" sz="3900" spc="-1" strike="noStrike">
              <a:solidFill>
                <a:srgbClr val="572314"/>
              </a:solidFill>
              <a:latin typeface="Gill Sans MT"/>
            </a:endParaRPr>
          </a:p>
        </p:txBody>
      </p:sp>
      <p:sp>
        <p:nvSpPr>
          <p:cNvPr id="366" name=""/>
          <p:cNvSpPr txBox="1"/>
          <p:nvPr/>
        </p:nvSpPr>
        <p:spPr>
          <a:xfrm>
            <a:off x="1812960" y="16380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اختبارات الرقابة </a:t>
            </a:r>
            <a:endParaRPr b="0" lang="en-US" sz="24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راء اختبارات رقابة لمعرفة ما اذا كانت الأساليب الرقابية (السياسات والإجراءات) تعمل بكفاءة  و تتم باستخدام الاستفسارات ، فحص المستندات ، ملاحظة الموظفين خلال تأدية أعمالهم، وإعادة تنفيذ الأساليب الرقابية</a:t>
            </a:r>
            <a:endParaRPr b="0" lang="en-US" sz="20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نتائج اختبارات الرقابة حسب نوع العملية وحسب تأكيدات القوائم المال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رابعا : إعادة تقييم مخاطر الرقابة الداخلية </a:t>
            </a:r>
            <a:endParaRPr b="0" lang="en-US" sz="24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ييم مخاطر الرقابة الداخلية في ضوء اختبارات الرقابة. </a:t>
            </a:r>
            <a:endParaRPr b="0" lang="en-US" sz="20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ذا كانت نتيجة التقييم هي أن مخاطر الرقابة أقل من الحد الأقصى فيجب توثيق الأسس التي قام عليها هذا الاستنتاج. </a:t>
            </a:r>
            <a:endParaRPr b="0" lang="en-US" sz="20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تابة التقرير.</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أجندة </a:t>
            </a:r>
            <a:endParaRPr b="0" lang="en-US" sz="43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هام وحدة المراجعة الداخل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ه النظم  </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رقابة الداخلية في ظل التشغيل اليدوي للبيانات المحاسب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cs typeface="Majalla UI"/>
              </a:rPr>
              <a:t>تقويم</a:t>
            </a:r>
            <a:r>
              <a:rPr b="0" lang="ar-SA" sz="2000" spc="-1" strike="noStrike">
                <a:solidFill>
                  <a:srgbClr val="000000"/>
                </a:solidFill>
                <a:latin typeface="Gill Sans MT"/>
                <a:ea typeface="Majalla UI"/>
              </a:rPr>
              <a:t> الرقابة الداخلية في ظل التشغيل اليدوي للبيانات المحاسب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رقابة الداخلية في ظل التشغيل الآلي للبيانات المحاسب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cs typeface="Majalla UI"/>
              </a:rPr>
              <a:t>تقويم</a:t>
            </a:r>
            <a:r>
              <a:rPr b="0" lang="ar-SA" sz="2000" spc="-1" strike="noStrike">
                <a:solidFill>
                  <a:srgbClr val="000000"/>
                </a:solidFill>
                <a:latin typeface="Gill Sans MT"/>
                <a:ea typeface="Majalla UI"/>
              </a:rPr>
              <a:t> الرقابة الداخلية في ظل التشغيل الآلي للبيانات المحاسب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تشغيلية وتقويم الأداء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ة الالتزام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ة السلوك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ديم المشورة والدعم للإدارة </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389240" y="274680"/>
            <a:ext cx="10058400" cy="3408480"/>
          </a:xfrm>
          <a:prstGeom prst="rect">
            <a:avLst/>
          </a:prstGeom>
          <a:noFill/>
          <a:ln w="0">
            <a:noFill/>
          </a:ln>
        </p:spPr>
        <p:txBody>
          <a:bodyPr lIns="90000" rIns="90000" tIns="9144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br>
              <a:rPr sz="3900"/>
            </a:br>
            <a:br>
              <a:rPr sz="3900"/>
            </a:br>
            <a:r>
              <a:rPr b="0" lang="ar-SA" sz="3900" spc="-1" strike="noStrike">
                <a:solidFill>
                  <a:srgbClr val="404040"/>
                </a:solidFill>
                <a:latin typeface="Gill Sans MT"/>
                <a:cs typeface="Majalla UI"/>
              </a:rPr>
              <a:t>التالي : مثال عن </a:t>
            </a:r>
            <a:r>
              <a:rPr b="0" lang="ar-SA" sz="3600" spc="-1" strike="noStrike">
                <a:solidFill>
                  <a:srgbClr val="404040"/>
                </a:solidFill>
                <a:latin typeface="Gill Sans MT"/>
                <a:cs typeface="Majalla UI"/>
              </a:rPr>
              <a:t>خريطة تدفق توضح كيفية دراسة وتقييم  نظام</a:t>
            </a:r>
            <a:br>
              <a:rPr sz="3600"/>
            </a:br>
            <a:r>
              <a:rPr b="0" lang="ar-SA" sz="3600" spc="-1" strike="noStrike">
                <a:solidFill>
                  <a:srgbClr val="404040"/>
                </a:solidFill>
                <a:latin typeface="Gill Sans MT"/>
                <a:cs typeface="Majalla UI"/>
              </a:rPr>
              <a:t>الرقابة الداخلية بواسطة المراجع الداخلي في </a:t>
            </a:r>
            <a:r>
              <a:rPr b="0" lang="ar-SA" sz="3600" spc="-1" strike="noStrike" u="sng">
                <a:solidFill>
                  <a:srgbClr val="404040"/>
                </a:solidFill>
                <a:uFillTx/>
                <a:latin typeface="Gill Sans MT"/>
                <a:cs typeface="Majalla UI"/>
              </a:rPr>
              <a:t>الوحدات الحكومية</a:t>
            </a:r>
            <a:br>
              <a:rPr sz="3600"/>
            </a:br>
            <a:br>
              <a:rPr sz="3900"/>
            </a:br>
            <a:br>
              <a:rPr sz="3900"/>
            </a:br>
            <a:br>
              <a:rPr sz="39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Line 15"/>
          <p:cNvSpPr/>
          <p:nvPr/>
        </p:nvSpPr>
        <p:spPr>
          <a:xfrm flipH="1">
            <a:off x="9599400" y="3306600"/>
            <a:ext cx="6120" cy="441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ectangle 7"/>
          <p:cNvSpPr/>
          <p:nvPr/>
        </p:nvSpPr>
        <p:spPr>
          <a:xfrm>
            <a:off x="7567560" y="2309760"/>
            <a:ext cx="27612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PT Bold Heading"/>
              </a:rPr>
              <a:t>لا</a:t>
            </a:r>
            <a:endParaRPr b="0" lang="en-US" sz="1200" spc="-1" strike="noStrike">
              <a:solidFill>
                <a:srgbClr val="000000"/>
              </a:solidFill>
              <a:latin typeface="Calibri"/>
            </a:endParaRPr>
          </a:p>
        </p:txBody>
      </p:sp>
      <p:grpSp>
        <p:nvGrpSpPr>
          <p:cNvPr id="370" name="Group 4"/>
          <p:cNvGrpSpPr/>
          <p:nvPr/>
        </p:nvGrpSpPr>
        <p:grpSpPr>
          <a:xfrm>
            <a:off x="1609560" y="363600"/>
            <a:ext cx="10366560" cy="5799240"/>
            <a:chOff x="1609560" y="363600"/>
            <a:chExt cx="10366560" cy="5799240"/>
          </a:xfrm>
        </p:grpSpPr>
        <p:sp>
          <p:nvSpPr>
            <p:cNvPr id="371" name="Rectangle 18"/>
            <p:cNvSpPr/>
            <p:nvPr/>
          </p:nvSpPr>
          <p:spPr>
            <a:xfrm>
              <a:off x="7413840" y="5612040"/>
              <a:ext cx="4519440" cy="550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قدم تقريرك بأن نظام الرقابة الداخلية فعال وإن كان لك ملاحظات لتحسينه أذكرها</a:t>
              </a:r>
              <a:endParaRPr b="0" lang="en-US" sz="1600" spc="-1" strike="noStrike">
                <a:solidFill>
                  <a:srgbClr val="000000"/>
                </a:solidFill>
                <a:latin typeface="Calibri"/>
              </a:endParaRPr>
            </a:p>
          </p:txBody>
        </p:sp>
        <p:sp>
          <p:nvSpPr>
            <p:cNvPr id="372" name="Line 13"/>
            <p:cNvSpPr/>
            <p:nvPr/>
          </p:nvSpPr>
          <p:spPr>
            <a:xfrm flipH="1">
              <a:off x="9614520" y="5027760"/>
              <a:ext cx="5760" cy="58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Text Box 5"/>
            <p:cNvSpPr/>
            <p:nvPr/>
          </p:nvSpPr>
          <p:spPr>
            <a:xfrm>
              <a:off x="8647200" y="5105520"/>
              <a:ext cx="5464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grpSp>
          <p:nvGrpSpPr>
            <p:cNvPr id="374" name="Group 3"/>
            <p:cNvGrpSpPr/>
            <p:nvPr/>
          </p:nvGrpSpPr>
          <p:grpSpPr>
            <a:xfrm>
              <a:off x="1609560" y="363600"/>
              <a:ext cx="10366560" cy="4592880"/>
              <a:chOff x="1609560" y="363600"/>
              <a:chExt cx="10366560" cy="4592880"/>
            </a:xfrm>
          </p:grpSpPr>
          <p:sp>
            <p:nvSpPr>
              <p:cNvPr id="375" name="Rectangle 17"/>
              <p:cNvSpPr/>
              <p:nvPr/>
            </p:nvSpPr>
            <p:spPr>
              <a:xfrm>
                <a:off x="7418520" y="4520160"/>
                <a:ext cx="4519440" cy="436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هل هناك التزام بالإجراءات الرقابي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6" name="Group 2"/>
              <p:cNvGrpSpPr/>
              <p:nvPr/>
            </p:nvGrpSpPr>
            <p:grpSpPr>
              <a:xfrm>
                <a:off x="1609560" y="363600"/>
                <a:ext cx="10366560" cy="4088160"/>
                <a:chOff x="1609560" y="363600"/>
                <a:chExt cx="10366560" cy="4088160"/>
              </a:xfrm>
            </p:grpSpPr>
            <p:sp>
              <p:nvSpPr>
                <p:cNvPr id="377" name="AutoShape 20"/>
                <p:cNvSpPr/>
                <p:nvPr/>
              </p:nvSpPr>
              <p:spPr>
                <a:xfrm>
                  <a:off x="8484840" y="1880640"/>
                  <a:ext cx="2259720" cy="145116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هـل مخاطر الرقابة أقل من الحد الأقصى ؟</a:t>
                  </a:r>
                  <a:endParaRPr b="0" lang="en-US" sz="1600" spc="-1" strike="noStrike">
                    <a:solidFill>
                      <a:srgbClr val="000000"/>
                    </a:solidFill>
                    <a:latin typeface="Calibri"/>
                  </a:endParaRPr>
                </a:p>
              </p:txBody>
            </p:sp>
            <p:sp>
              <p:nvSpPr>
                <p:cNvPr id="378" name="Rectangle 19"/>
                <p:cNvSpPr/>
                <p:nvPr/>
              </p:nvSpPr>
              <p:spPr>
                <a:xfrm>
                  <a:off x="1609560" y="2245680"/>
                  <a:ext cx="4812840" cy="54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المخاطر الرقابية عند مستوى مرتفع ويجب اقتراح وسائل التصحيح</a:t>
                  </a:r>
                  <a:endParaRPr b="0" lang="en-US" sz="1600" spc="-1" strike="noStrike">
                    <a:solidFill>
                      <a:srgbClr val="000000"/>
                    </a:solidFill>
                    <a:latin typeface="Calibri"/>
                  </a:endParaRPr>
                </a:p>
              </p:txBody>
            </p:sp>
            <p:sp>
              <p:nvSpPr>
                <p:cNvPr id="379" name="Rectangle 16"/>
                <p:cNvSpPr/>
                <p:nvPr/>
              </p:nvSpPr>
              <p:spPr>
                <a:xfrm>
                  <a:off x="1609560" y="3041640"/>
                  <a:ext cx="4812840" cy="485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p:txBody>
            </p:sp>
            <p:sp>
              <p:nvSpPr>
                <p:cNvPr id="380" name="Line 14"/>
                <p:cNvSpPr/>
                <p:nvPr/>
              </p:nvSpPr>
              <p:spPr>
                <a:xfrm flipH="1">
                  <a:off x="9598680" y="4143240"/>
                  <a:ext cx="3240" cy="30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Rectangle 12"/>
                <p:cNvSpPr/>
                <p:nvPr/>
              </p:nvSpPr>
              <p:spPr>
                <a:xfrm>
                  <a:off x="7419960" y="3714120"/>
                  <a:ext cx="4519440" cy="439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قم بإجراء اختبارات الرقابة</a:t>
                  </a:r>
                  <a:endParaRPr b="0" lang="en-US" sz="1600" spc="-1" strike="noStrike">
                    <a:solidFill>
                      <a:srgbClr val="000000"/>
                    </a:solidFill>
                    <a:latin typeface="Calibri"/>
                  </a:endParaRPr>
                </a:p>
              </p:txBody>
            </p:sp>
            <p:sp>
              <p:nvSpPr>
                <p:cNvPr id="382" name="Line 11"/>
                <p:cNvSpPr/>
                <p:nvPr/>
              </p:nvSpPr>
              <p:spPr>
                <a:xfrm>
                  <a:off x="4019760" y="2791080"/>
                  <a:ext cx="16560" cy="25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Line 10"/>
                <p:cNvSpPr/>
                <p:nvPr/>
              </p:nvSpPr>
              <p:spPr>
                <a:xfrm>
                  <a:off x="9602640" y="1666800"/>
                  <a:ext cx="11880" cy="213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Line 9"/>
                <p:cNvSpPr/>
                <p:nvPr/>
              </p:nvSpPr>
              <p:spPr>
                <a:xfrm flipH="1" flipV="1">
                  <a:off x="6438960" y="2590920"/>
                  <a:ext cx="2045520" cy="5760"/>
                </a:xfrm>
                <a:prstGeom prst="line">
                  <a:avLst/>
                </a:prstGeom>
                <a:ln w="1908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grpSp>
              <p:nvGrpSpPr>
                <p:cNvPr id="385" name="Group 1"/>
                <p:cNvGrpSpPr/>
                <p:nvPr/>
              </p:nvGrpSpPr>
              <p:grpSpPr>
                <a:xfrm>
                  <a:off x="1624680" y="363600"/>
                  <a:ext cx="10351440" cy="1306080"/>
                  <a:chOff x="1624680" y="363600"/>
                  <a:chExt cx="10351440" cy="1306080"/>
                </a:xfrm>
              </p:grpSpPr>
              <p:sp>
                <p:nvSpPr>
                  <p:cNvPr id="386" name="Rectangle 25"/>
                  <p:cNvSpPr/>
                  <p:nvPr/>
                </p:nvSpPr>
                <p:spPr>
                  <a:xfrm>
                    <a:off x="1624680" y="363600"/>
                    <a:ext cx="482328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قد تتضمن هذة الخطوة اختبارات رقابة في بعض الاحيان</a:t>
                    </a:r>
                    <a:endParaRPr b="0" lang="en-US" sz="1600" spc="-1" strike="noStrike">
                      <a:solidFill>
                        <a:srgbClr val="000000"/>
                      </a:solidFill>
                      <a:latin typeface="Calibri"/>
                    </a:endParaRPr>
                  </a:p>
                </p:txBody>
              </p:sp>
              <p:sp>
                <p:nvSpPr>
                  <p:cNvPr id="387" name="Rectangle 24"/>
                  <p:cNvSpPr/>
                  <p:nvPr/>
                </p:nvSpPr>
                <p:spPr>
                  <a:xfrm>
                    <a:off x="1624680" y="1141200"/>
                    <a:ext cx="482328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ما لم تتم اختبارات رقابة فإن مخاطر الرقابة تحدد عند الحد الأقصى (المستوى الأعلى)</a:t>
                    </a:r>
                    <a:endParaRPr b="0" lang="en-US" sz="1600" spc="-1" strike="noStrike">
                      <a:solidFill>
                        <a:srgbClr val="000000"/>
                      </a:solidFill>
                      <a:latin typeface="Calibri"/>
                    </a:endParaRPr>
                  </a:p>
                </p:txBody>
              </p:sp>
              <p:sp>
                <p:nvSpPr>
                  <p:cNvPr id="388" name="Line 23"/>
                  <p:cNvSpPr/>
                  <p:nvPr/>
                </p:nvSpPr>
                <p:spPr>
                  <a:xfrm flipH="1">
                    <a:off x="6479640" y="627840"/>
                    <a:ext cx="786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Rectangle 22"/>
                  <p:cNvSpPr/>
                  <p:nvPr/>
                </p:nvSpPr>
                <p:spPr>
                  <a:xfrm>
                    <a:off x="7227000" y="363600"/>
                    <a:ext cx="474912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احصل على فهم كاف لنظام الرقابة الداخلية ووثقه</a:t>
                    </a:r>
                    <a:r>
                      <a:rPr b="1" lang="ar-SA" sz="1600" spc="-1" strike="noStrike">
                        <a:solidFill>
                          <a:srgbClr val="ff0000"/>
                        </a:solidFill>
                        <a:latin typeface="Arabic Transparent"/>
                        <a:ea typeface="Majalla UI"/>
                      </a:rPr>
                      <a:t> </a:t>
                    </a:r>
                    <a:r>
                      <a:rPr b="1" lang="ar-SA" sz="1600" spc="-1" strike="noStrike">
                        <a:solidFill>
                          <a:srgbClr val="000000"/>
                        </a:solidFill>
                        <a:latin typeface="Arabic Transparent"/>
                        <a:cs typeface="Majalla UI"/>
                      </a:rPr>
                      <a:t>لغرض تقويمه</a:t>
                    </a:r>
                    <a:endParaRPr b="0" lang="en-US" sz="1600" spc="-1" strike="noStrike">
                      <a:solidFill>
                        <a:srgbClr val="000000"/>
                      </a:solidFill>
                      <a:latin typeface="Calibri"/>
                    </a:endParaRPr>
                  </a:p>
                </p:txBody>
              </p:sp>
              <p:sp>
                <p:nvSpPr>
                  <p:cNvPr id="390" name="Rectangle 21"/>
                  <p:cNvSpPr/>
                  <p:nvPr/>
                </p:nvSpPr>
                <p:spPr>
                  <a:xfrm>
                    <a:off x="7193880" y="1137960"/>
                    <a:ext cx="474732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قم بتقييم مخاطر الرقابة وحــدد مستــوى المخاطـر</a:t>
                    </a:r>
                    <a:endParaRPr b="0" lang="en-US" sz="1600" spc="-1" strike="noStrike">
                      <a:solidFill>
                        <a:srgbClr val="000000"/>
                      </a:solidFill>
                      <a:latin typeface="Calibri"/>
                    </a:endParaRPr>
                  </a:p>
                </p:txBody>
              </p:sp>
              <p:sp>
                <p:nvSpPr>
                  <p:cNvPr id="391" name="Line 8"/>
                  <p:cNvSpPr/>
                  <p:nvPr/>
                </p:nvSpPr>
                <p:spPr>
                  <a:xfrm flipH="1">
                    <a:off x="6507000" y="1419120"/>
                    <a:ext cx="680040" cy="10440"/>
                  </a:xfrm>
                  <a:prstGeom prst="line">
                    <a:avLst/>
                  </a:prstGeom>
                  <a:ln w="19080">
                    <a:solidFill>
                      <a:srgbClr val="000000"/>
                    </a:solidFill>
                    <a:prstDash val="dash"/>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392" name="Rectangle 6"/>
                <p:cNvSpPr/>
                <p:nvPr/>
              </p:nvSpPr>
              <p:spPr>
                <a:xfrm>
                  <a:off x="9032400" y="3289320"/>
                  <a:ext cx="410040" cy="26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grpSp>
          <p:sp>
            <p:nvSpPr>
              <p:cNvPr id="393" name="Line 4"/>
              <p:cNvSpPr/>
              <p:nvPr/>
            </p:nvSpPr>
            <p:spPr>
              <a:xfrm flipH="1">
                <a:off x="6480000" y="4785120"/>
                <a:ext cx="93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Text Box 3"/>
              <p:cNvSpPr/>
              <p:nvPr/>
            </p:nvSpPr>
            <p:spPr>
              <a:xfrm>
                <a:off x="1609560" y="4451760"/>
                <a:ext cx="481284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Text Box 2"/>
              <p:cNvSpPr/>
              <p:nvPr/>
            </p:nvSpPr>
            <p:spPr>
              <a:xfrm>
                <a:off x="6762600" y="4348440"/>
                <a:ext cx="3279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ل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grpSp>
      <p:sp>
        <p:nvSpPr>
          <p:cNvPr id="396" name="Line 1"/>
          <p:cNvSpPr/>
          <p:nvPr/>
        </p:nvSpPr>
        <p:spPr>
          <a:xfrm>
            <a:off x="9599760" y="912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Rectangle 26"/>
          <p:cNvSpPr/>
          <p:nvPr/>
        </p:nvSpPr>
        <p:spPr>
          <a:xfrm>
            <a:off x="774720" y="231840"/>
            <a:ext cx="9671040" cy="20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Rectangle 42"/>
          <p:cNvSpPr/>
          <p:nvPr/>
        </p:nvSpPr>
        <p:spPr>
          <a:xfrm>
            <a:off x="7615080" y="34380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0" name=""/>
          <p:cNvSpPr txBox="1"/>
          <p:nvPr/>
        </p:nvSpPr>
        <p:spPr>
          <a:xfrm>
            <a:off x="1647720" y="15616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صبح الأن استخدام الحاسبات الآلية فى المنشأت فى المملكة حقيقة ملموسة وقد أثر هذا على معالجة البيانات المحاسبية في عمل المراجع من ناحيتين: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ناحية الأولى: تطوير أساليب الرقابة الداخلية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فقد ترتب على استخدام الحاسبات الآلية في معالجة البيانات المحاسبية ضرورة تطوير أساليب الرقابة الداخلية التي كانت قائمة في ظل نظام التشغيل اليدوي للبيانات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ناحية الثانية: أساليب المراجعة التي يعتمد عليها المراجع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أساليب الفنية وإجراءات المراجعة التي كان يعتمد عليها المراجع لتجميع الأدلة والقرائن في ظل النظم التقليدية لتشغيل البيانات أصبحت غير مناسبة في ظل استخدام الحاسب الآلي في تشغيل البيانات المحاسبية.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24040" y="2617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2" name=""/>
          <p:cNvSpPr txBox="1"/>
          <p:nvPr/>
        </p:nvSpPr>
        <p:spPr>
          <a:xfrm>
            <a:off x="1914480" y="1663560"/>
            <a:ext cx="9996480" cy="4305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وف نركز في هذا الجزء على الموضوعات التا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شاكل المرتبطة بنظم معالجة البيانات المحاسبية آلي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راءات الرقابة الداخلية في ظل التشغيل الآلي للبيانات المحاسب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ساليب المراجعة في ظل نظام التشغيل الالكتروني للبيانات المحاسب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4" name=""/>
          <p:cNvSpPr txBox="1"/>
          <p:nvPr/>
        </p:nvSpPr>
        <p:spPr>
          <a:xfrm>
            <a:off x="1914480" y="1587240"/>
            <a:ext cx="9996480" cy="43434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ولا : المشاكل التي اثرت على عمل المراجع و المرتبطة بنظم معالجة البيانات المحاسبية آلي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وسع فى استخدام الحاسب الآلي فى التطبيقات المحاسب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وجود مستندات للمدخل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وجود مسار مستندي ل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وجود مخرجات مرئ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ضعف الحماية حول البيانات وبرامج الحاسب الآلى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روسات الحاسب</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6" name=""/>
          <p:cNvSpPr txBox="1"/>
          <p:nvPr/>
        </p:nvSpPr>
        <p:spPr>
          <a:xfrm>
            <a:off x="1901880" y="1612440"/>
            <a:ext cx="9996480" cy="4800600"/>
          </a:xfrm>
          <a:prstGeom prst="rect">
            <a:avLst/>
          </a:prstGeom>
          <a:noFill/>
          <a:ln w="0">
            <a:noFill/>
          </a:ln>
        </p:spPr>
        <p:txBody>
          <a:bodyPr anchor="t">
            <a:normAutofit/>
          </a:bodyPr>
          <a:p>
            <a:pPr lvl="1"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إجراءات الرقابة الداخلية في ظل نظم التشغيل الالكتروني للبيانات المحاسبية و التي تنقسم الى ثلاث مجموعات رئيسية</a:t>
            </a:r>
            <a:endParaRPr b="0" lang="en-US" sz="24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جموعة الاولى:الإجراءات الرقابية العامة.</a:t>
            </a:r>
            <a:endParaRPr b="0" lang="en-US" sz="20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مجموعة الثانية:الإجراءات الرقابية على التطبيقات .</a:t>
            </a:r>
            <a:endParaRPr b="0" lang="en-US" sz="20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جموعة الثالثة:الإجراءات الرقابية على نظم قاعدة البيانات.</a:t>
            </a:r>
            <a:endParaRPr b="0" lang="en-US" sz="20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8" name=""/>
          <p:cNvSpPr txBox="1"/>
          <p:nvPr/>
        </p:nvSpPr>
        <p:spPr>
          <a:xfrm>
            <a:off x="1863720" y="15616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جموعة الاولى: الإجراءات الرقابية العام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الإجراءات التي تتصل بجميع (أو معظم) التطبيقات المحاسبية التي تتم بواسطة الحاسب الآلي.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تتعلق تلك الإجراءات بالرقابة على :</a:t>
            </a:r>
            <a:endParaRPr b="0" lang="en-US" sz="20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صل الوظائف</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فويض واختبار وتصديق عمليات تطوير , شراء , وتغيير البرامج قبل استخدامها فى معالجة البيانات.</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وصول الى ملفات البيانات</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إجراءات الرقابية العامة المبنية فى النظام نفسه.</a:t>
            </a:r>
            <a:endParaRPr b="0" lang="en-US" sz="1600" spc="-1" strike="noStrike">
              <a:solidFill>
                <a:srgbClr val="000000"/>
              </a:solidFill>
              <a:latin typeface="Gill Sans MT"/>
            </a:endParaRPr>
          </a:p>
          <a:p>
            <a:pPr lvl="2" marL="1000080" indent="-342720" algn="just" rtl="1">
              <a:spcBef>
                <a:spcPts val="60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إجراءات رقابية عامة أخرى</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2" marL="1000080" indent="-342720" algn="just"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0" name=""/>
          <p:cNvSpPr txBox="1"/>
          <p:nvPr/>
        </p:nvSpPr>
        <p:spPr>
          <a:xfrm>
            <a:off x="1800360" y="154908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فصل الوظائف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أن يتم فصل الوظائف بين قسم المعالجة الالكترونية والأقسام المستخدمة للمعلومات.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صلاحيات تفويض واختبار وتصديق عمليات تطوير , شراء , وتغيير البرامج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أن تتم مشاركة  الاقسام المستخدمة للمعلومات فى تصميم النظم جنبا الى جنب مع قسم المعالجة الالكترون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أن يشارك موظفو الاقسام المستخدمة للمعلومات مع موظفى قسم المعالجة الاليكترونية فى تجربة النظم الجديد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الحصول على موافقة كل من الإدارة , الاقسام المستخدمة للمعلومات , وقسم المعالجة الالكترونية على ادخال النظم الجديدة  قبل البدء فى استخدام تلك النظم</a:t>
            </a:r>
            <a:r>
              <a:rPr b="0" lang="ar-SA" sz="2800" spc="-1" strike="noStrike">
                <a:solidFill>
                  <a:srgbClr val="404040"/>
                </a:solidFill>
                <a:latin typeface="Gill Sans MT"/>
                <a:ea typeface="Majalla UI"/>
              </a:rPr>
              <a:t>.</a:t>
            </a:r>
            <a:endParaRPr b="0" lang="en-US" sz="28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4960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2" name=""/>
          <p:cNvSpPr txBox="1"/>
          <p:nvPr/>
        </p:nvSpPr>
        <p:spPr>
          <a:xfrm>
            <a:off x="1914480" y="165060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وصول الى البرامج والبيانات والاجهز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تحديد صلاحية الوصول الى البرامج وملفات البيانات وأجهزة الحاسب فى الاشخاص المفوضين بالتعامل معها  كموظفى التشغيل والمشرفين عليهم وغيرهم من المسموح لهم بالوصول الى الاجهزة والبرامج والبيان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التحكم فى الدخول الى غرفة الحاسب الآلى لمنع غير المصرح لهم من دخول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جب أن يقوم فريق المراقبة بمراقبة نشاطات المشغلين وجدولة أعماله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4" name=""/>
          <p:cNvSpPr txBox="1"/>
          <p:nvPr/>
        </p:nvSpPr>
        <p:spPr>
          <a:xfrm>
            <a:off x="1787400" y="157428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العامة المبنية فى النظام نفس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جراءات المبنية فى نظام الحاسب عبارة عن وسائل تشخيص ذاتى لاكتشاف ومنع أعطال الاجهزة. </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a:t>
            </a: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اجراءات تزيد من ثقة من يستخدم النظام وترجع هذه الثقة بشكل اساسى الى تقدم وتطور تقنية الرقائق. </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جراءات رقابية عامة أخرى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تخدام نظام الاحتفاظ بملفات احتياطية لاسترجاع البيانات عند التلف ، وإجراءات المعالجة فى الحالات الطارئة ، وبطاقات التمييز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مهام وحدة المراجعة الداخلية </a:t>
            </a:r>
            <a:endParaRPr b="0" lang="en-US" sz="44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مهام وحدة المراجعة الداخلية (مجالات عمل المراجع الداخلي) تشمل على الأقل المهام التا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راجعة النظم</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مراجعة التشغي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راجعة الإلتزام</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مراجعة الما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راجعة السلوك</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تقديم المشورة والدعم للإدار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6" name=""/>
          <p:cNvSpPr txBox="1"/>
          <p:nvPr/>
        </p:nvSpPr>
        <p:spPr>
          <a:xfrm>
            <a:off x="1787400" y="16254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جموعة الثانية : الإجراءات الرقابية على التطبيقات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علق هذا النوع من الإجراءات الرقابية باستخدام الحاسب الآلي للقيام بتطبيقات محاسبية محدد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ان تكون هذه الإجراءات إجراءات يدوية أو إجراءات  الكترون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سم هذه الإجراءات إلى ثلاثة أنواع هي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إجراءات الرقابية على المدخلات</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إجراءات الرقابية على التشغيل (المعالجة الالكترونية)</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إجراءات الرقابية على المخرج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8" name=""/>
          <p:cNvSpPr txBox="1"/>
          <p:nvPr/>
        </p:nvSpPr>
        <p:spPr>
          <a:xfrm>
            <a:off x="1727280" y="1714680"/>
            <a:ext cx="10183680" cy="45338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على المدخلات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صميم الاجراءات الرقابية على المدخلات بحيث يتم التأكد من أن البيانات التى يتم استلامها للمعالجة بالحاسب الآلى تمثل عمليات تم التصديق عليها بصورة سليم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يضا ان تلك البيانات دقيقة وصحيحة ومكتملة حين ادخالها فى الحاسب.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 الاجراءات مهمة جدا لأن معظم الاخطاء تحدث فى مرحلة ادخال البيانات فى الحاسب.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على التشغيل (المعالج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غرض من هذا النوع من الاجراءات الرقابية هو التأكيد على مصداقية ودقة المعالجة الالكترونية للبيانات الخاصة بالتطبيق المعين.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تلك الاجراءات الى التأكيد بأن جميع العمليات قد تمت معالجتها بموجب تفويض محدد , وأن جميع العمليات التى تم التصديق على معالجتها آليا قد تمت معالجتها ولم يحذف منها شيء ; وأنه لم تتم اضافة أى عمليات غير مصرح بمعالجتها الى العمليات التى تم التصريح بمعالجتها.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0" name=""/>
          <p:cNvSpPr txBox="1"/>
          <p:nvPr/>
        </p:nvSpPr>
        <p:spPr>
          <a:xfrm>
            <a:off x="1650960" y="1625400"/>
            <a:ext cx="1026000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على المخرجات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الاجراءات الرقابية على المخرجات الى التأكد من مصداقية وصحة المخرجات (المعلومات) التى يتم انتاجها بعد المعالجة الالكترونية للبيانات.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أيضا الى التأكيد بأن تلك المخرجات قد تم تسليمها الى الموظفين المفوضين باستخدامها فقط وليس الى أشخاص غير مصرح لهم باستخدام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جراءات الرقابية على المخرجات ذات طبيعة يدوية وليست آلية ولذلك يطلق عليها أحيانا مسمى الاجراءات اليدوية او اجراءات المتابعة اليدوية، وتتضمن تلك الاجراءات المتابعة اليدوية للمخرجات والتى يقوم بها المشغل أو فريق المراقب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774800" y="23616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جموعة الثالثة:الإجراءات الرقابية على نظم قاعدة البيانات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تختلف الأهداف الأساسية للاجراءات الرقابية فى نظام قاعدة المعلومات عنها فى النظم التى لا تستخدم قاعدة المعلومات. ولكن نظرا لأن البيانات فى نظام قاعدة المعلومات تكون مركزية ويتم اشتراك عدد كبير ومتنوع من المستخدمين فى هذه البيانات ; فان هناك بعض الاجراءات الرقابية الخاصة بنظم قاعدة البيانات.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ن تلك الاجراءات الرقابية :</a:t>
            </a:r>
            <a:endParaRPr b="0" lang="en-US" sz="20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وجود اجراءات رقابية تحدد حرية الوصول الى قاعدة البيانات فقط عن طريق الاشخاص المصرح لهم</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نسيق أنشطة مستخدمى قاعدة البيانات والتحكم فيها بحيث تكون الرقابة على البيانات متناسبة مع أهمية تلك البيانات</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قتضي اشتراك عدد كبير من المستخدمين فى نفس ملفات البيانات ان تكون هناك رقابة محكمة على تلك الملفات لمنع التغيير أو الضياع.</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تخاذ الإجراءات الاحتياطية اللازمة للمحافظة على استمرار النظام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4" name=""/>
          <p:cNvSpPr txBox="1"/>
          <p:nvPr/>
        </p:nvSpPr>
        <p:spPr>
          <a:xfrm>
            <a:off x="1952640" y="1828440"/>
            <a:ext cx="9996480" cy="396252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أساليب المراجعة في ظل نظام التشغيل الالكتروني للبيانات المحاسبية </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لوب المراجعة حول الحاسب</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لوب المراجعة بأستخدام الحاسب</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6" name=""/>
          <p:cNvSpPr txBox="1"/>
          <p:nvPr/>
        </p:nvSpPr>
        <p:spPr>
          <a:xfrm>
            <a:off x="1838160" y="159984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هدف الأساسي الذي يسعى المراجع إلى تحقيقه من دراسة وتقويم نظام الرقابة الداخلية 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ولاً: الدراسة المبدئية للنظام</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ثانيا: تقدير نتائج الدراسة المبدئ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ثالثا: إجراء اختبارات مدى تنفيذ النظام والالتزام به</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8" name=""/>
          <p:cNvSpPr txBox="1"/>
          <p:nvPr/>
        </p:nvSpPr>
        <p:spPr>
          <a:xfrm>
            <a:off x="1876320" y="16506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أولاً: الدراسة المبدئية للنظام</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وم المراجع بدراسة مبدئية للنظام بهدف تفهمه وتحديد معالمه الرقاب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شمل دراسة المراجع المبدئية لنظام الرقابة الداخلية جميع النشاطات اليدوية ، والمالية ، والإلكترونية الهامة و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شمل الدراسة المبدئية التي يقوم بها المراجع عادة الإجراءات الرقابية التي سبق الإشارة إليها . ويقوم المراجع بتجميع المعلومات الخاصة بدراسة النظام من خلال الاستفسارات من الموظفين ، وملاحظة توزيع الأعمال وإجراءات التشغيل ، والرجوع إلى الوثائق المكتوبة كما في حالة النظام اليدوي. ودراسة النظام تتم عادة باستخدام قائمة استقصاء خاصة عن نظام الرقابة الداخلية مصممة لأغراض الأنظمة الإلكترون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0" name=""/>
          <p:cNvSpPr txBox="1"/>
          <p:nvPr/>
        </p:nvSpPr>
        <p:spPr>
          <a:xfrm>
            <a:off x="1812960" y="16380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تقدير نتائج الدراسة المبدئ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ستطيع المراجع أن يقرر من خلال تقييمه للمعلومات التي حصل عليها من الدراسة المبدئية ما إذا كان سيستمر في دراسته لنظام الرقابة الداخلية أو يتوقف عن ذلك. </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إذا قرر الاستمرار فإنه ينتقل إلى مرحلة استكمال الدراسة حيث يقوم باختبارات مدى تنفيذ الأنظمة الرقابية ، وتقويم الإجراءات الرقابية لتحديد مدى اعتماده عليها والمدى الذي ستقتصر عليه اختباراته لتحقيق العمليات.</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إذا أشارت نتائج الدراسة المبدئية للنظام إلى أن هناك ضعفاً في إجراءات الرقابة المتعلقة بنظام معالجة البيانات إلكترونيا في هذه الحالة لا يجب الاستمرار في دراسة نظام الرقابة الداخلية ويجب على المراجع أن يعد تقريره بأن النظام الرقابي المصمم غير جيد ويجب تضمين تقريره توصيات ومقترحات لتحسينه. </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أما إذا أشارت نتائج الدراسة المبدئية للنظام إلى أن النظام الرقابي مصمم بشكل جيد فيجب على المراجع الإنتقال إلى مرحلة التأكد من مدى الالتزام به عن طريق إجراء اختبارات مدى تنفيذ النظام والالتزام به.</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2" name=""/>
          <p:cNvSpPr txBox="1"/>
          <p:nvPr/>
        </p:nvSpPr>
        <p:spPr>
          <a:xfrm>
            <a:off x="1498320" y="1688760"/>
            <a:ext cx="1033596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إجراء اختبارات مدى تنفيذ النظام والالتزام ب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قرر المراجع الاستمرار في دراسة النظام بناءا على تقييمه لنتائج الدراسة المبدئية فإنه يقوم بإجراء اختبارات مدى تنفيذ النظام والالتزام به ليتأكد من أن الإجراءات الرقابية المصممة يتم تطبيقها فعلا وأنها تؤدي وظيفتها بطريقة مرض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شمل هذه المرحلة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ختبار تنفيذ الإجراءات الرقابية العامة و الإجراءات الرقابية على قاعدة البيانات</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ختبار إجراءات الرقابة التطبيقية</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ات تنفيذ الإجراءات الرقابية :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الغرض من اختبارات تنفيذ أنظمة الرقابة الداخلية هو إعطاء تأكيد معقول بأن الإجراءات الرقابية يتم تنفيذها كما هي موضو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علق اختبارات تنفيذ أنظمة الرقابة الداخلية أساساً بالأسئلة الآتية :</a:t>
            </a:r>
            <a:endParaRPr b="0" lang="en-US" sz="20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هل تم تنفيذ الإجراءات الرقابية الضرورية ؟</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كيف تم تنفيذها ؟</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من الذي قام بالتنفيذ ؟</a:t>
            </a:r>
            <a:endParaRPr b="0" lang="en-US" sz="1600" spc="-1" strike="noStrike">
              <a:solidFill>
                <a:srgbClr val="000000"/>
              </a:solidFill>
              <a:latin typeface="Gill Sans MT"/>
            </a:endParaRPr>
          </a:p>
          <a:p>
            <a:pPr lvl="1" marL="639720" indent="-236520" algn="just"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النسبة للإجراءات الرقابية العامة والإجراءات الرقابية على قاعدة البيانات فإن اختبارات المراجع لها تتم أساسا عن طريق الاستفسار والملاحظة وفحص الوثائق المختلفة. </a:t>
            </a:r>
            <a:endParaRPr b="0" lang="en-US" sz="2000" spc="-1" strike="noStrike">
              <a:solidFill>
                <a:srgbClr val="000000"/>
              </a:solidFill>
              <a:latin typeface="Gill Sans MT"/>
            </a:endParaRPr>
          </a:p>
          <a:p>
            <a:pPr lvl="1" marL="639720" indent="-236520" algn="just"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ما إجراءات الرقابة التطبيقية فإنها تركز على إختبار تنفيذ برامج الحاسب الآلي المستخدمة </a:t>
            </a:r>
            <a:endParaRPr b="0" lang="en-US" sz="2000" spc="-1" strike="noStrike">
              <a:solidFill>
                <a:srgbClr val="000000"/>
              </a:solidFill>
              <a:latin typeface="Gill Sans MT"/>
            </a:endParaRPr>
          </a:p>
          <a:p>
            <a:pPr lvl="2" marL="1000080" indent="-342720" algn="just" rtl="1">
              <a:spcBef>
                <a:spcPts val="4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شمل إجراءات الرقابة على مراحل البرنامج الثلاثة (المدخلات ، عمليات التشغيل ، المخرجات). </a:t>
            </a:r>
            <a:endParaRPr b="0" lang="en-US" sz="1600" spc="-1" strike="noStrike">
              <a:solidFill>
                <a:srgbClr val="000000"/>
              </a:solidFill>
              <a:latin typeface="Gill Sans MT"/>
            </a:endParaRPr>
          </a:p>
          <a:p>
            <a:pPr lvl="1" marL="639720" indent="-236520" algn="just"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مهام وحدة المراجعة الداخلية </a:t>
            </a:r>
            <a:endParaRPr b="0" lang="en-US" sz="4400" spc="-1" strike="noStrike">
              <a:solidFill>
                <a:srgbClr val="572314"/>
              </a:solidFill>
              <a:latin typeface="Gill Sans MT"/>
            </a:endParaRPr>
          </a:p>
        </p:txBody>
      </p:sp>
      <p:sp>
        <p:nvSpPr>
          <p:cNvPr id="33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ناك نوعين من أنواع المراجعة  يمكن استخدامها عند تنفيذ مهام المراجعة :</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مستمرة </a:t>
            </a:r>
            <a:endParaRPr b="0" lang="en-US" sz="2400" spc="-1" strike="noStrike">
              <a:solidFill>
                <a:srgbClr val="000000"/>
              </a:solidFill>
              <a:latin typeface="Gill Sans MT"/>
            </a:endParaRPr>
          </a:p>
          <a:p>
            <a:pPr lvl="3" marL="1316160" indent="-457200" algn="just" rtl="1">
              <a:spcBef>
                <a:spcPts val="451"/>
              </a:spcBef>
              <a:buClr>
                <a:srgbClr val="c32d2e"/>
              </a:buClr>
              <a:buFont typeface="Gill Sans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r>
              <a:rPr b="0" lang="ar-SA" sz="1800" spc="-1" strike="noStrike">
                <a:solidFill>
                  <a:srgbClr val="000000"/>
                </a:solidFill>
                <a:latin typeface="Gill Sans MT"/>
                <a:cs typeface="Majalla UI"/>
              </a:rPr>
              <a:t>المراجعة السابقة</a:t>
            </a:r>
            <a:endParaRPr b="0" lang="en-US" sz="1800" spc="-1" strike="noStrike">
              <a:solidFill>
                <a:srgbClr val="000000"/>
              </a:solidFill>
              <a:latin typeface="Gill Sans MT"/>
            </a:endParaRPr>
          </a:p>
          <a:p>
            <a:pPr lvl="3" marL="1316160" indent="-457200" algn="just" rtl="1">
              <a:spcBef>
                <a:spcPts val="451"/>
              </a:spcBef>
              <a:buClr>
                <a:srgbClr val="c32d2e"/>
              </a:buClr>
              <a:buFont typeface="Gill Sans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راجعة اللاحقة</a:t>
            </a:r>
            <a:endParaRPr b="0" lang="en-US" sz="18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دوري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6" name=""/>
          <p:cNvSpPr txBox="1"/>
          <p:nvPr/>
        </p:nvSpPr>
        <p:spPr>
          <a:xfrm>
            <a:off x="1574640" y="1752120"/>
            <a:ext cx="10196640" cy="47372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 تنفيذ إجراءات الرقابة التطبيقية (مراجعة برامج الحاسب الآلي)</a:t>
            </a:r>
            <a:endParaRPr b="0" lang="en-US" sz="2400" spc="-1" strike="noStrike">
              <a:solidFill>
                <a:srgbClr val="000000"/>
              </a:solidFill>
              <a:latin typeface="Gill Sans MT"/>
            </a:endParaRPr>
          </a:p>
          <a:p>
            <a:pPr lvl="1" marL="674640" indent="-399960" algn="just" rtl="1">
              <a:spcBef>
                <a:spcPts val="550"/>
              </a:spcBef>
              <a:buClr>
                <a:srgbClr val="3891a7"/>
              </a:buClr>
              <a:buFont typeface="Gill Sans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ختبار تنفيذ إجراءات الرقابة التطبيقية (مراجعة برامج الحاسب) بدون الحاسب</a:t>
            </a:r>
            <a:endParaRPr b="0" lang="en-US" sz="1800" spc="-1" strike="noStrike">
              <a:solidFill>
                <a:srgbClr val="000000"/>
              </a:solidFill>
              <a:latin typeface="Gill Sans MT"/>
            </a:endParaRPr>
          </a:p>
          <a:p>
            <a:pPr lvl="1" marL="674640" indent="-399960" algn="just" rtl="1">
              <a:spcBef>
                <a:spcPts val="550"/>
              </a:spcBef>
              <a:buClr>
                <a:srgbClr val="3891a7"/>
              </a:buClr>
              <a:buFont typeface="Gill Sans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ختبار إجراءات الرقابة التطبيقية (مراجعة برامج الحاسب) بالحاسب</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8" name=""/>
          <p:cNvSpPr txBox="1"/>
          <p:nvPr/>
        </p:nvSpPr>
        <p:spPr>
          <a:xfrm>
            <a:off x="1927080" y="1777680"/>
            <a:ext cx="9996480" cy="4660920"/>
          </a:xfrm>
          <a:prstGeom prst="rect">
            <a:avLst/>
          </a:prstGeom>
          <a:noFill/>
          <a:ln w="0">
            <a:noFill/>
          </a:ln>
        </p:spPr>
        <p:txBody>
          <a:bodyPr anchor="t">
            <a:normAutofit/>
          </a:bodyPr>
          <a:p>
            <a:pPr marL="514440" indent="-514440" algn="just" rtl="1">
              <a:spcBef>
                <a:spcPts val="601"/>
              </a:spcBef>
              <a:buClr>
                <a:srgbClr val="3891a7"/>
              </a:buClr>
              <a:buSzPct val="80000"/>
              <a:buFont typeface="Gill Sans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 تنفيذ إجراءات الرقابة التطبيقية (مراجعة برامج الحاسب) بدون الحاسب</a:t>
            </a:r>
            <a:endParaRPr b="0" lang="en-US" sz="2400" spc="-1" strike="noStrike">
              <a:solidFill>
                <a:srgbClr val="000000"/>
              </a:solidFill>
              <a:latin typeface="Gill Sans MT"/>
            </a:endParaRPr>
          </a:p>
          <a:p>
            <a:pPr lvl="1" marL="698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بعض نظم معالجة المعلومات إذا كان هناك مسار مستندي يمكن الاعتماد عليه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000" spc="-1" strike="noStrike">
              <a:solidFill>
                <a:srgbClr val="000000"/>
              </a:solidFill>
              <a:latin typeface="Gill Sans MT"/>
            </a:endParaRPr>
          </a:p>
          <a:p>
            <a:pPr lvl="2" marL="944640" indent="-34308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تم ذلك بالحصول على المستندات الأصلية وتشغيلها يدويا ثم يقوم المراجع بمقارنة النتائج التي توصل إليها بمخرجات الحاسب المطبوعة ، </a:t>
            </a:r>
            <a:endParaRPr b="0" lang="en-US" sz="1600" spc="-1" strike="noStrike">
              <a:solidFill>
                <a:srgbClr val="000000"/>
              </a:solidFill>
              <a:latin typeface="Gill Sans MT"/>
            </a:endParaRPr>
          </a:p>
          <a:p>
            <a:pPr lvl="1" marL="698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طلق على هذا النوع من المراجعة في بعض الأحيان "</a:t>
            </a:r>
            <a:r>
              <a:rPr b="1" lang="ar-SA" sz="2000" spc="-1" strike="noStrike">
                <a:solidFill>
                  <a:srgbClr val="000000"/>
                </a:solidFill>
                <a:latin typeface="Gill Sans MT"/>
                <a:cs typeface="Majalla UI"/>
              </a:rPr>
              <a:t>المراجعة حول الحاسب"</a:t>
            </a:r>
            <a:r>
              <a:rPr b="0" lang="ar-SA" sz="2000" spc="-1" strike="noStrike">
                <a:solidFill>
                  <a:srgbClr val="000000"/>
                </a:solidFill>
                <a:latin typeface="Gill Sans MT"/>
                <a:ea typeface="Majalla UI"/>
              </a:rPr>
              <a:t> ولا تختلف أساليب المراجع في هذه الحالة عن الأساليب المتبعة في مراجعة الأنظمة المحاسبية اليدو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0" name=""/>
          <p:cNvSpPr txBox="1"/>
          <p:nvPr/>
        </p:nvSpPr>
        <p:spPr>
          <a:xfrm>
            <a:off x="1914480" y="1587240"/>
            <a:ext cx="9996480" cy="4660920"/>
          </a:xfrm>
          <a:prstGeom prst="rect">
            <a:avLst/>
          </a:prstGeom>
          <a:noFill/>
          <a:ln w="0">
            <a:noFill/>
          </a:ln>
        </p:spPr>
        <p:txBody>
          <a:bodyPr anchor="t">
            <a:normAutofit/>
          </a:bodyPr>
          <a:p>
            <a:pPr marL="514440" indent="-514440" algn="just" rtl="1">
              <a:spcBef>
                <a:spcPts val="601"/>
              </a:spcBef>
              <a:buClr>
                <a:srgbClr val="3891a7"/>
              </a:buClr>
              <a:buSzPct val="80000"/>
              <a:buFont typeface="Gill Sans M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 إجراءات الرقابة التطبيقية (مراجعة برامج الحاسب) بالحاسب</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حالة نظم معالجة البيانات إلكترونياً التي لا يصاحبها وجود مستندات، او إذا كان حجم العمليات المراد اختبارها ضخما ، فأننا نستخدم المراجعة بالحاسب.</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ساليب التي يمكن للمراجع استخدامها عند استخدام الحاسب في اختبار إجراءات الرقابة التطبيقية : </a:t>
            </a:r>
            <a:endParaRPr b="0" lang="en-US" sz="20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لوب البيانات الاختبارية </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برامج الخاضعة لرقابة المراجع </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لوب المحاكاة المتوازية كأحد تطبيقات برامج المراجعة العامة</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سلوب فحص تعليمات البرامج </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سلوب تحقيق خريطة التدفق </a:t>
            </a:r>
            <a:endParaRPr b="0" lang="en-US" sz="1600" spc="-1" strike="noStrike">
              <a:solidFill>
                <a:srgbClr val="000000"/>
              </a:solidFill>
              <a:latin typeface="Gill Sans MT"/>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2" name=""/>
          <p:cNvSpPr txBox="1"/>
          <p:nvPr/>
        </p:nvSpPr>
        <p:spPr>
          <a:xfrm>
            <a:off x="1762200" y="153648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سلوب البيانات الاختبارية :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استخدام هذا الأسلوب يقوم المراجع بتحضير عمليات وهمية (مشابهة للعمليات التي تقوم الأقسام الأخرى بتشغيلها عادة) ثم يتم تشغيل هذه العمليات تحت رقابة المراجع بواسطة البرنامج الذي تطبقه الأقسام الأخرى</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شتمل البيانات الاختبارية على عمليات تعكس الأوضاع الصحيحة وغير الصحيحة التي يريد المراجع اختبار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لاحظ أن اسلوب البيانات الاختبارية يختبر البرنامج المطبق في نقطة معينة من الزمن وليس خلال مدة المراجعة بأكمل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660680" y="2869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4" name=""/>
          <p:cNvSpPr txBox="1"/>
          <p:nvPr/>
        </p:nvSpPr>
        <p:spPr>
          <a:xfrm>
            <a:off x="1630440" y="1736640"/>
            <a:ext cx="10058400" cy="4022640"/>
          </a:xfrm>
          <a:prstGeom prst="rect">
            <a:avLst/>
          </a:prstGeom>
          <a:noFill/>
          <a:ln w="0">
            <a:noFill/>
          </a:ln>
        </p:spPr>
        <p:txBody>
          <a:bodyPr anchor="t">
            <a:normAutofit/>
          </a:bodyPr>
          <a:p>
            <a:pPr marL="596880" indent="-51444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برامج الخاضعة لرقابة المراجع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تستخدم هذه الطريقة كبديل أو كمكمل لمدخل البيانات الاختبار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هذه الطريقة يقوم المراجع تحت ظروف خاضعة لرقابته بإعادة تشغيل عينات من البيانات الفعلية الخاصة بالفترة محل الفحص.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كي يقوم المراجع بعملية إعادة تشغيل البيانات فإما أن يستخدم أحد البرامج المطبقة التي سبق اختبارها أو يستخدم نسخة من برنامج يكون خاضعا لرقابته. بعد إكمال عملية إعادة التشغيل تتم مقارنة نتائج العينة مع البيانات الأصلية المقيدة في سجلات العميل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 الطريقة تتميز عن اسلوب البيانات الاختبارية في أنها تمكن المراجع من الحكم على برنامج العميل و صحة بعض العمليات محل المراجعة ، أيضا يمكن استخدامها على كمبيوتر خارجي دون استخدام الكمبيوتر الخاص بالأقسام التي تتم المراجعة عليها أو الاستعانة بموظفيها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6" name=""/>
          <p:cNvSpPr txBox="1"/>
          <p:nvPr/>
        </p:nvSpPr>
        <p:spPr>
          <a:xfrm>
            <a:off x="1838160" y="1574280"/>
            <a:ext cx="9996480" cy="4800600"/>
          </a:xfrm>
          <a:prstGeom prst="rect">
            <a:avLst/>
          </a:prstGeom>
          <a:noFill/>
          <a:ln w="0">
            <a:noFill/>
          </a:ln>
        </p:spPr>
        <p:txBody>
          <a:bodyPr anchor="t">
            <a:normAutofit/>
          </a:bodyPr>
          <a:p>
            <a:pPr marL="514440" indent="-514440" algn="just" rtl="1">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Gill Sans MT"/>
                <a:ea typeface="Majalla UI"/>
              </a:rPr>
              <a:t> أسلوب المحاكاة المتوازية </a:t>
            </a:r>
            <a:endParaRPr b="0" lang="en-US" sz="22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السبب في إطلاق تعبير "المحاكاة المتوازية" هو أن البرنامج مصمم لإعادة إنتاج (أو محاكاة) البيانات الحقيقية للأقسام الأخرى التي تم تشغيلها.</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مكن إجراء المحاكاة المتوازية في أوقات مختلفة خلال السنة المالية محل المراجعة ويمكن أيضا استخدامها في إعادة تشغيل بيانات تاريخية .</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هذا المدخل لا يؤدي إلى تلوث ملفات العميل (ببيانات وهمية إذ ربما يحدث ذلك في حالة البيانات الاختبارية) ويمكن إجراؤه في مركز كمبيوتر خارجي مستقل</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هذا المدخل يتمتع بالمزايا الآتية :</a:t>
            </a:r>
            <a:endParaRPr b="0" lang="en-US" sz="2000" spc="-1" strike="noStrike">
              <a:solidFill>
                <a:srgbClr val="000000"/>
              </a:solidFill>
              <a:latin typeface="Gill Sans MT"/>
            </a:endParaRPr>
          </a:p>
          <a:p>
            <a:pPr lvl="2" marL="977760" indent="-457200" algn="just" rtl="1">
              <a:lnSpc>
                <a:spcPct val="80000"/>
              </a:lnSpc>
              <a:spcBef>
                <a:spcPts val="425"/>
              </a:spcBef>
              <a:buClr>
                <a:srgbClr val="feb80a"/>
              </a:buClr>
              <a:buFont typeface="Gill Sans MT"/>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404040"/>
                </a:solidFill>
                <a:latin typeface="Gill Sans MT"/>
                <a:cs typeface="Majalla UI"/>
              </a:rPr>
              <a:t>بما أن البيانات الحقيقية هي التي تستخدم فيستطيع المراجع تحقيق العمليات بمتابعتها إلى مصادرها الأصلية (المستندات) المعتمدة .</a:t>
            </a:r>
            <a:endParaRPr b="0" lang="en-US" sz="1700" spc="-1" strike="noStrike">
              <a:solidFill>
                <a:srgbClr val="000000"/>
              </a:solidFill>
              <a:latin typeface="Gill Sans MT"/>
            </a:endParaRPr>
          </a:p>
          <a:p>
            <a:pPr lvl="2" marL="977760" indent="-457200" algn="just" rtl="1">
              <a:lnSpc>
                <a:spcPct val="80000"/>
              </a:lnSpc>
              <a:spcBef>
                <a:spcPts val="425"/>
              </a:spcBef>
              <a:buClr>
                <a:srgbClr val="feb80a"/>
              </a:buClr>
              <a:buFont typeface="Gill Sans MT"/>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404040"/>
                </a:solidFill>
                <a:latin typeface="Gill Sans MT"/>
                <a:cs typeface="Majalla UI"/>
              </a:rPr>
              <a:t>يمكن زيادة حجم العينة زيادة كبيرة بتكاليف ضئيلة نسبيا .</a:t>
            </a:r>
            <a:endParaRPr b="0" lang="en-US" sz="1700" spc="-1" strike="noStrike">
              <a:solidFill>
                <a:srgbClr val="000000"/>
              </a:solidFill>
              <a:latin typeface="Gill Sans MT"/>
            </a:endParaRPr>
          </a:p>
          <a:p>
            <a:pPr lvl="2" marL="977760" indent="-457200" algn="just" rtl="1">
              <a:lnSpc>
                <a:spcPct val="80000"/>
              </a:lnSpc>
              <a:spcBef>
                <a:spcPts val="425"/>
              </a:spcBef>
              <a:buClr>
                <a:srgbClr val="feb80a"/>
              </a:buClr>
              <a:buFont typeface="Gill Sans MT"/>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404040"/>
                </a:solidFill>
                <a:latin typeface="Gill Sans MT"/>
                <a:cs typeface="Majalla UI"/>
              </a:rPr>
              <a:t>يستطيع المراجع أن يقوم بتشغيل الاختبار بنفسه بطريقة مستقلة .</a:t>
            </a:r>
            <a:endParaRPr b="0" lang="en-US" sz="17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إذا تقرر استخدام طريقة المحاكاة المتوازية فيجب التأكد من أن تكون البيانات المختارة للمحاكاة ممثلة للعمليات الفعلية </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لاحظ أنه من الممكن أن يقوم النظام المطبق بالوحدة بعمليات تخرج عن نطاق برامج المراجعة العامة التي تستخدم في عملية المحاكاة بحيث لا تستطيع هذه البرامج محاكاتها.</a:t>
            </a:r>
            <a:endParaRPr b="0" lang="en-US" sz="2000" spc="-1" strike="noStrike">
              <a:solidFill>
                <a:srgbClr val="000000"/>
              </a:solidFill>
              <a:latin typeface="Gill Sans MT"/>
            </a:endParaRPr>
          </a:p>
          <a:p>
            <a:pPr marL="514440" indent="-514440" algn="just"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8" name=""/>
          <p:cNvSpPr txBox="1"/>
          <p:nvPr/>
        </p:nvSpPr>
        <p:spPr>
          <a:xfrm>
            <a:off x="1609560" y="162540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أسلوب فحص تعليمات البرامج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فقاً لهذا الأسلوب يتم فحص وتعديل التعليمات التي يتضمنها البرنامج الخاص بمعالجة عملية معينة للتحقق من أن هذه التعليمات تؤدي إلى المعالجة المطلوب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ا الأسلوب يتطلب توافر درجة كافية من الخبرة لدى المراجع  بكيفية إعداد البرامج وكيفية صياغتها ,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ستغرق وقت أطول من أي أسلوب آخر سبق عرضه ولاسيما في ظل النظم المعقدة لمعالجة البيانات حيث يكون من الصعب فحص كل سطر في مختلف البرامج المكتوبة </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50" name=""/>
          <p:cNvSpPr txBox="1"/>
          <p:nvPr/>
        </p:nvSpPr>
        <p:spPr>
          <a:xfrm>
            <a:off x="1673280" y="162540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أسلوب تحقيق خريطة التدفق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فحص خريطة التدفق والتي تعكس منطق المعالجة الخاصة بتطبيق معين بدلاً من فحص كل سطر من سطور البرنامج المكتوب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ا الأسلوب يعتبر تطوير لأسلوب فحص تعليمات البرنامج.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عداد خرائط التدفق إما يدوياً (الأكثر انتشاراً)  أو  باستخدام الحاسب في إعداد خرائط تدفق آلية مقابلة للبرنامج الموضوع.</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طلب ذلك معرفة من المراجع في إعداد البرامج وخرائط التدفق.</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2" name=""/>
          <p:cNvSpPr txBox="1"/>
          <p:nvPr/>
        </p:nvSpPr>
        <p:spPr>
          <a:xfrm>
            <a:off x="1825560" y="15364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u="sng">
                <a:solidFill>
                  <a:srgbClr val="000000"/>
                </a:solidFill>
                <a:uFillTx/>
                <a:latin typeface="Gill Sans MT"/>
                <a:cs typeface="Majalla UI"/>
              </a:rPr>
              <a:t>الرقابة التشغيلية وتقويم الأداء </a:t>
            </a:r>
            <a:r>
              <a:rPr b="0" lang="ar-SA" sz="2400" spc="-1" strike="noStrike">
                <a:solidFill>
                  <a:srgbClr val="000000"/>
                </a:solidFill>
                <a:latin typeface="Gill Sans MT"/>
                <a:cs typeface="Majalla UI"/>
              </a:rPr>
              <a:t>هي عملية فحص هادف ومنتظم بغرض تقديم تقويم مستقل لجهة معينة أو برنامج أو نشاط لكي يمكن من توفير معلومات تؤدي إلى تحسين المسائلة وتسهيل إتخاذ القرار.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تضمن المراجعة التشغيلية وتقويم الأداء المالي والتشغيلي التأكد من الالتزام بالقوانين والأوامر والأنظم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u="sng">
                <a:solidFill>
                  <a:srgbClr val="000000"/>
                </a:solidFill>
                <a:uFillTx/>
                <a:latin typeface="Gill Sans MT"/>
                <a:cs typeface="Majalla UI"/>
              </a:rPr>
              <a:t>المراجعة التشغيلية </a:t>
            </a:r>
            <a:r>
              <a:rPr b="0" lang="ar-SA" sz="2400" spc="-1" strike="noStrike">
                <a:solidFill>
                  <a:srgbClr val="000000"/>
                </a:solidFill>
                <a:latin typeface="Gill Sans MT"/>
                <a:cs typeface="Majalla UI"/>
              </a:rPr>
              <a:t>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ن الأمثلة على المراجعة التشغيلية وتقويم الأداء قيام المراجع الداخلي بفحص المستودعات للتحقق من سلامة إجراءات الصرف وسلامة إجراءات الحفظ والتخزين.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جال المراجعة التشغيلية وتقويم الاداء يغطي الخطط التشغيلية الموضوعة في إطار نظم التخطيط والموازنات بالوحدة الحكومية، كما يغطي أيضا المقاييس المالية وغير المالية الناتجة عن عمليات التشغيل المختلفة</a:t>
            </a:r>
            <a:endParaRPr b="0" lang="en-US" sz="24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مهام وحدة المراجعة الداخلية </a:t>
            </a:r>
            <a:endParaRPr b="0" lang="en-US" sz="4400" spc="-1" strike="noStrike">
              <a:solidFill>
                <a:srgbClr val="572314"/>
              </a:solidFill>
              <a:latin typeface="Gill Sans MT"/>
            </a:endParaRPr>
          </a:p>
        </p:txBody>
      </p:sp>
      <p:sp>
        <p:nvSpPr>
          <p:cNvPr id="33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مراجعة المستمرة السابق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a:t>
            </a: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عند الرغبة في التحقق من جميع العمليات بشكل مستقل قبل الانتهاء من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القيام بهذا الشكل من المراجعة عند تنفيذ المراجعة الداخلية على مستوى إدارة أو قسم معين</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مراجعة المستمرة اللاحق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ختلف عن سابقتها من حيث توقيت القيام بها فقط إذ يقوم بها المراجع بعد الانتهاء من العملية المراد فحصه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راجعة الدور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وم بها المراجع الداخلي بشكل دوري لتحقيق الفحص الدوري للعمليات او أرصدة الحسابات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أي نوع يستخدم المراجع الداخلي  ؟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6"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مكن المراجعة التشغيلية من الوقوف على أوجه القصور في الإجراءات العملية والتقرير عنها لاتخاذ القرار المناسب بصورة فوري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لاحظات التي قد يبديها المراجع الداخلي سوف تتمثل ف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صور الخطط والسياسات التي تبنتها الإدار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مناسبة السياسات والخطط التي تبنتها الإدار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صور طرق تنفيذ السياسات والخطط التي تبنتها الإدار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نحرافات سالبة في تقويم الأداء</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8" name=""/>
          <p:cNvSpPr txBox="1"/>
          <p:nvPr/>
        </p:nvSpPr>
        <p:spPr>
          <a:xfrm>
            <a:off x="1676160" y="1447560"/>
            <a:ext cx="1023444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وصيات المراجع الداخلي في هذا المجال فقد تشمل واحدا مما يل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تخاذ إجراءات تصحيحية فورية لتعديل مسار التشغيل حتى لا ينحرف عن الأهداف المرسوم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قتراح إدخال تعديلات على الخطط والأهداف حتى تكون أكثر واقعية بصورة تتفق مع الموارد المالية والبشرية والمادية المتاح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قتراح إجراءات تنفيذية أكثر فعالية</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0"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هناك عدة جوانب تركز المراجعة التشغيلية وتقويم الأداء على فحصها هي:</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إقتصاد: </a:t>
            </a:r>
            <a:endParaRPr b="0" lang="en-US" sz="20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ني ذلك 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كفاءة: </a:t>
            </a:r>
            <a:endParaRPr b="0" lang="en-US" sz="20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نى القيام بالفحص للتأكد من تحقيق الاستفادة القصوى من الموارد المتاحة للجهة والحصول على أكبر منفعة ممكنة منه .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2"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فعا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نى الفعالية مدى تحقيق الجهة للأهداف المحددة لها ويركز الفحص بهدف التحقق من الفعالية على فحص أثر السياسات والإجراءات المطبقة بالجهة على تحقيق أهدافها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حافظة على البيئة وتنميته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تطبيق معايير الكفاءة والفعالية والإقتصاد لا يجب اهمال عنصر هام جدا وهو مدى تأثير النشاط محل الفحص على البيئة وا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كان النشاط لا بد أن يصاحبه تأثير سلبي على البيئة فيجب البحث في ما اتخذته الجهة من إجراءات للتقليل من الأثار السلبية.</a:t>
            </a: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4"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ناءا على ما تقدم فإن عملية </a:t>
            </a:r>
            <a:r>
              <a:rPr b="0" lang="ar-SA" sz="2400" spc="-1" strike="noStrike" u="sng">
                <a:solidFill>
                  <a:srgbClr val="000000"/>
                </a:solidFill>
                <a:uFillTx/>
                <a:latin typeface="Gill Sans MT"/>
                <a:cs typeface="Majalla UI"/>
              </a:rPr>
              <a:t>تقويم الأداء </a:t>
            </a:r>
            <a:r>
              <a:rPr b="0" lang="ar-SA" sz="2400" spc="-1" strike="noStrike">
                <a:solidFill>
                  <a:srgbClr val="000000"/>
                </a:solidFill>
                <a:latin typeface="Gill Sans MT"/>
                <a:cs typeface="Majalla UI"/>
              </a:rPr>
              <a:t>تتطلب وجود مقومات أهمها:</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جود أهداف محددة للوحد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مكانية قياس الأداء باستخدام مؤشرات أو مقاييس مقبول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جود مجموعة من المؤشرات والمعايير تساعد فى المقار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كم على الأداء</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6"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مثال على تقويم الاداء </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قياس المالي الحالي للإيرادات والنفقات في </a:t>
            </a:r>
            <a:r>
              <a:rPr b="0" lang="ar-SA" sz="2400" spc="-1" strike="noStrike" u="sng">
                <a:solidFill>
                  <a:srgbClr val="000000"/>
                </a:solidFill>
                <a:uFillTx/>
                <a:latin typeface="Gill Sans MT"/>
                <a:cs typeface="Majalla UI"/>
              </a:rPr>
              <a:t>الوحدات الحكومية </a:t>
            </a:r>
            <a:r>
              <a:rPr b="0" lang="ar-SA" sz="2400" spc="-1" strike="noStrike">
                <a:solidFill>
                  <a:srgbClr val="000000"/>
                </a:solidFill>
                <a:latin typeface="Gill Sans MT"/>
                <a:cs typeface="Majalla UI"/>
              </a:rPr>
              <a:t>و الذي يحقق الأهداف الآتية:</a:t>
            </a:r>
            <a:endParaRPr b="0" lang="en-US" sz="24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تحقق من أن الإنفاق تم في حدود الاعتمادات.</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مساءلة المسئولين عن الإنفاق.</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طبيق نظام مساءلة بالثواب والعقاب.</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صحيح مسار الأداء إذا دعت الضرورة لذلك أو تعديل الأهداف عندما لا يمكن تحقيقها أو أنها لم تعد واقعية.</a:t>
            </a:r>
            <a:endParaRPr b="0" lang="en-US" sz="18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كي يمكن للمراجع الداخلي أن ينفذ المراجعة التشغيلية وتقويم الأداء يجب أن يكون على علم تام بطرق قياس الأداء التي تتناسب مع طبيعة الجهة ثم يختار منها ما يتناسب</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طبيعة الجهة  : حكومية / قطاع عام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مثلة على طرق قياس الأداء في الوحدات الحكوم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استخدام عدد المخرجات كمقياس</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ياس الانتاج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ؤشرات الاجتماع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علاقة بين التدفقات النقدية الداخلة والتدفقات النقدية الخارج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0"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بيعة الأنشطة الحكومية ومقاييس الأداء المستخدم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التمييز بين ثلاثة أنواع من الأنشطة الحكومية ، من حيث إمكانية قياس المخرجات هي:</a:t>
            </a:r>
            <a:endParaRPr b="0" lang="en-US" sz="20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نشطة التي يمكن قياس مخرجاتها نقدا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هي التي تقدم خدماتها للمواطنين بمقابل نقدي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فضل تسعير الخدمة المقدمة في ضوء اعتبارات التكلفة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مكن تقييم كل من فعالية وكفاءة الأنشطة لان المخرجات والمدخلات كلاهما تقاس فى صورة نقدية. </a:t>
            </a:r>
            <a:endParaRPr b="0" lang="en-US" sz="16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نشطة التي تقاس مخرجاتها بصورة كمية فقط ،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ثل أنشطة الخدمات التعليمية.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بالتالي وحدة القياس للمخرجات يختلف عن وحدة قياس المدخلات. </a:t>
            </a:r>
            <a:endParaRPr b="0" lang="en-US" sz="1600" spc="-1" strike="noStrike">
              <a:solidFill>
                <a:srgbClr val="000000"/>
              </a:solidFill>
              <a:latin typeface="Gill Sans MT"/>
            </a:endParaRPr>
          </a:p>
          <a:p>
            <a:pPr lvl="1" marL="617400" indent="-342720" algn="just" rtl="1">
              <a:spcBef>
                <a:spcPts val="550"/>
              </a:spcBef>
              <a:buClr>
                <a:srgbClr val="3891a7"/>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نشطة التى لا يمكن قياس مخرجاتها نقديا أو كميا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ثل خدمات الأمن العام والدفاع.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كون تقييم كفاءة وفاعلية تلك الأنشطة صعبا.</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2"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رق قياس الأنشطة التي يمكن قياس مخرجاتها في شكل كمي:</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قياس النتائج : هو قياس المخرجات معبراً عنها في شكل عناصر مرتبطة بأهداف المشروع</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قياس الوسائل:استخدام مقياس بديل للهدف ، ويرتبط هذا المقياس بالنشاط المنفذ بواسطة الوحدة ومن أمثلة ذلك عدد المستفيدين من أماكن الترفية يوميا</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دخلات كمقياس للمخرجات: مع أن المدخلات لا تعتبر مقياس مرضى وحقيقي لمخرجات الأنشطة الحكومية إلا أنها تعتبر أفضل مقياس إذا تعذر وجود مقياس آخر ، مثل مشروعات الأبحاث</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4"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رق قياس الأنشطة التي يصعب قياس مخرجاتها في شكل نقدي أو كمي</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موذج المقارنة السابقة واللاحقة: </a:t>
            </a:r>
            <a:endParaRPr b="0" lang="en-US" sz="20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الأوضاع والظروف السائدة قبل وبعد إدخال البرنامج </a:t>
            </a:r>
            <a:endParaRPr b="0" lang="en-US" sz="16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عرفة ما اذا كان التغير الذي سيحدث على الظروف أو الأوضاع بعد إدخال البرنامج يعتبر أثر البرنامج</a:t>
            </a:r>
            <a:endParaRPr b="0" lang="en-US" sz="16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كثرها استخداما لسهولتها وقلة تكفتها</a:t>
            </a:r>
            <a:endParaRPr b="0" lang="en-US" sz="16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موذج المقارنة بالسلاسل الزمنية: </a:t>
            </a:r>
            <a:endParaRPr b="0" lang="en-US" sz="20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قارنة على أساس السلاسل الزمنية لفترة زمنية معينة قبل وبعد إدخال البرنامج لتحديد أثر البرنامج في تحقيق أهدافه.</a:t>
            </a:r>
            <a:endParaRPr b="0" lang="en-US" sz="1600" spc="-1" strike="noStrike">
              <a:solidFill>
                <a:srgbClr val="000000"/>
              </a:solidFill>
              <a:latin typeface="Gill Sans MT"/>
            </a:endParaRPr>
          </a:p>
          <a:p>
            <a:pPr lvl="1" marL="731880" indent="-457200" algn="just" rtl="1">
              <a:spcBef>
                <a:spcPts val="550"/>
              </a:spcBef>
              <a:buClr>
                <a:srgbClr val="3891a7"/>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موذج المقارنة بين المجموعات المتشابهة: </a:t>
            </a:r>
            <a:endParaRPr b="0" lang="en-US" sz="20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بين مجموعتين أو أكثر متشابهتين  أحداهما طبقت برنامجاً معيناً يراد تقييمه ـ في حين أن المجموعة الأخرى لم تقم بتطبيقه </a:t>
            </a:r>
            <a:endParaRPr b="0" lang="en-US" sz="1600" spc="-1" strike="noStrike">
              <a:solidFill>
                <a:srgbClr val="000000"/>
              </a:solidFill>
              <a:latin typeface="Gill Sans MT"/>
            </a:endParaRPr>
          </a:p>
          <a:p>
            <a:pPr lvl="1" marL="731880" indent="-4572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22480" y="345600"/>
            <a:ext cx="10058400" cy="1203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611617"/>
                </a:solidFill>
                <a:latin typeface="Gill Sans MT"/>
                <a:cs typeface="Majalla UI"/>
              </a:rPr>
              <a:t>مراجعة النظم</a:t>
            </a:r>
            <a:br>
              <a:rPr sz="4000"/>
            </a:br>
            <a:r>
              <a:rPr b="0" lang="en-US" sz="4000" spc="-1" strike="noStrike">
                <a:solidFill>
                  <a:srgbClr val="611617"/>
                </a:solidFill>
                <a:latin typeface="Gill Sans MT"/>
              </a:rPr>
              <a:t>Systems Audit</a:t>
            </a:r>
            <a:r>
              <a:rPr b="0" lang="en-US" sz="4000" spc="-1" strike="noStrike">
                <a:solidFill>
                  <a:srgbClr val="611617"/>
                </a:solidFill>
                <a:latin typeface="Gill Sans MT"/>
              </a:rPr>
              <a:t> </a:t>
            </a:r>
            <a:br>
              <a:rPr sz="4000"/>
            </a:br>
            <a:endParaRPr b="0" lang="en-US" sz="4000" spc="-1" strike="noStrike">
              <a:solidFill>
                <a:srgbClr val="572314"/>
              </a:solidFill>
              <a:latin typeface="Gill Sans MT"/>
            </a:endParaRPr>
          </a:p>
        </p:txBody>
      </p:sp>
      <p:sp>
        <p:nvSpPr>
          <p:cNvPr id="336" name=""/>
          <p:cNvSpPr txBox="1"/>
          <p:nvPr/>
        </p:nvSpPr>
        <p:spPr>
          <a:xfrm>
            <a:off x="1663200" y="2158920"/>
            <a:ext cx="10247400" cy="4089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مهمة الأولى لنشاط المراجعة الداخلية هي تقويم النظم وعلى رأسها </a:t>
            </a:r>
            <a:r>
              <a:rPr b="1" lang="ar-SA" sz="2400" spc="-1" strike="noStrike">
                <a:solidFill>
                  <a:srgbClr val="404040"/>
                </a:solidFill>
                <a:latin typeface="Gill Sans MT"/>
                <a:cs typeface="Majalla UI"/>
              </a:rPr>
              <a:t>نظام الرقابة الداخلية</a:t>
            </a:r>
            <a:r>
              <a:rPr b="0" lang="ar-SA" sz="2400" spc="-1" strike="noStrike">
                <a:solidFill>
                  <a:srgbClr val="404040"/>
                </a:solidFill>
                <a:latin typeface="Gill Sans MT"/>
                <a:ea typeface="Majalla UI"/>
              </a:rPr>
              <a:t>.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لكي يستطيع المراجع تقويم نظم الرقابة الداخلية يجب أن يكون لديه إلمام كافي بالمتطلبات المهنية التي يجب توافرها في نظم الرقابة الداخلية لكي تكون فعال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6" name=""/>
          <p:cNvSpPr txBox="1"/>
          <p:nvPr/>
        </p:nvSpPr>
        <p:spPr>
          <a:xfrm>
            <a:off x="1891800" y="1558800"/>
            <a:ext cx="9704520" cy="38815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ؤشرات تقويم الأداء للحكم على كفاءة وفاعلية الأنشطة الحكوم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ؤشرات هي علاقة بين عنصرين وهذه العلاقة قد تكون علاقة بين قيمة بند فى سنة وقيمة نفس البند فى سنوات سابقة وتقيس نمو وتطور عنصر معين لعدة سنوات، أو قد تكون علاقة بين قيمتين لعنصرين مترابطين أو بينهما علاقة مالية أو اقتصاد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فيد هذه العلاقات في عملية تقييم أداء الأنشطة الحكومية، وتختلف هذه المؤشرات باختلاف طبيعة الأنشطة الحكومية، فنجد أن المؤشرات التي تلائم برنامج تعليمي تختلف عن تلك التي تلائم برنامج أمنى</a:t>
            </a:r>
            <a:r>
              <a:rPr b="0" lang="ar-SA" sz="2000" spc="-1" strike="noStrike">
                <a:solidFill>
                  <a:srgbClr val="ff0000"/>
                </a:solidFill>
                <a:latin typeface="Gill Sans MT"/>
                <a:ea typeface="Majalla UI"/>
              </a:rPr>
              <a: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8" name=""/>
          <p:cNvSpPr txBox="1"/>
          <p:nvPr/>
        </p:nvSpPr>
        <p:spPr>
          <a:xfrm>
            <a:off x="2873520" y="1520640"/>
            <a:ext cx="8596080" cy="388116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نقسم مؤشرات تقييم أداء الأنشطة الحكومية إلى نوعين رئيسيين هما </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ؤشرات تقييم كفاءة الأنشطة</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مؤشرات تقييم فعالية الأنشطة</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80" name=""/>
          <p:cNvSpPr txBox="1"/>
          <p:nvPr/>
        </p:nvSpPr>
        <p:spPr>
          <a:xfrm>
            <a:off x="2403000" y="1660320"/>
            <a:ext cx="8596440" cy="388116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ؤشرات تقويم كفاءة الأنشطة الحكوم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ختص هذه المؤشرات بالحكم على كفاءة استخدام الموارد الاقتصادية المستخدمة فى تنفيذ الأنشطة الحكوم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 طريق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82" name=""/>
          <p:cNvSpPr txBox="1"/>
          <p:nvPr/>
        </p:nvSpPr>
        <p:spPr>
          <a:xfrm>
            <a:off x="2682360" y="1609560"/>
            <a:ext cx="8596440" cy="38815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ؤشرات تقويم فعالية الأنشط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مؤشرات الفعالية إلى التحقق من أن الأنشطة قد نجحت في تحقيق الأهداف المرسومة لها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مراجعة الالتزام </a:t>
            </a:r>
            <a:endParaRPr b="0" lang="en-US" sz="4000" spc="-1" strike="noStrike">
              <a:solidFill>
                <a:srgbClr val="572314"/>
              </a:solidFill>
              <a:latin typeface="Gill Sans MT"/>
            </a:endParaRPr>
          </a:p>
        </p:txBody>
      </p:sp>
      <p:sp>
        <p:nvSpPr>
          <p:cNvPr id="484" name=""/>
          <p:cNvSpPr txBox="1"/>
          <p:nvPr/>
        </p:nvSpPr>
        <p:spPr>
          <a:xfrm>
            <a:off x="1714680" y="1558800"/>
            <a:ext cx="9983520" cy="388152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مراجعة الالتزام بالمتطلبات النظامية والقانونية، وأيضاً ضمان الالتزام بالسياسات والإجراءات التي ترسمها الإدارة ومجلس المديرين</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نشآت تعمل في إطار نظامي خارجي و إطار تنظيمي داخلي وتعتبر مراجعة مدي التزام الإدارة وكل فرد في المنشأة بالأطر الداخلية والخارجية أحد الأدوار الأساسية للمراجع الداخلي</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مراجعة الالتزام </a:t>
            </a:r>
            <a:endParaRPr b="0" lang="en-US" sz="4000" spc="-1" strike="noStrike">
              <a:solidFill>
                <a:srgbClr val="572314"/>
              </a:solidFill>
              <a:latin typeface="Gill Sans MT"/>
            </a:endParaRPr>
          </a:p>
        </p:txBody>
      </p:sp>
      <p:sp>
        <p:nvSpPr>
          <p:cNvPr id="486" name=""/>
          <p:cNvSpPr txBox="1"/>
          <p:nvPr/>
        </p:nvSpPr>
        <p:spPr>
          <a:xfrm>
            <a:off x="1676520" y="1800000"/>
            <a:ext cx="9958320" cy="38811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حقق من التزام العاملين بالأطر الداخلية والخارجية يتم لمصلحة الإدارة ويتم التقرير عنه للمستوي الإداري المناسب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ة التزام الإدارة بالأطر هو أمر مشكوك فيه من الناحية العملية والنظرية. فالمراجعة الداخلية أساسا هي وظيفة معاونة للإدار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آليات الحوكمة – التي بدأت كثيرا من التشريعات تتبناها - حاولت دعم هذه الجانب من عمل المراجعين الداخليين بتشكيل لجنة مستقلة يتم التقرير إليها عن مثل هذه التجاوزات هي لجنة المراجعة.</a:t>
            </a:r>
            <a:endParaRPr b="0" lang="en-US" sz="20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مراجعة السلوك </a:t>
            </a:r>
            <a:endParaRPr b="0" lang="en-US" sz="4000" spc="-1" strike="noStrike">
              <a:solidFill>
                <a:srgbClr val="572314"/>
              </a:solidFill>
              <a:latin typeface="Gill Sans MT"/>
            </a:endParaRPr>
          </a:p>
        </p:txBody>
      </p:sp>
      <p:sp>
        <p:nvSpPr>
          <p:cNvPr id="488" name=""/>
          <p:cNvSpPr txBox="1"/>
          <p:nvPr/>
        </p:nvSpPr>
        <p:spPr>
          <a:xfrm>
            <a:off x="1689120" y="1825560"/>
            <a:ext cx="9918720" cy="38815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قصد بمراجعة السلوك التأكد من إلتزام العاملين بالوحدة بالقواعد السلوكية التي تتبناها الوحد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مثل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عدم التدخين في المكاتب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لتزام بزي معين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تقديم المشورة والدعم</a:t>
            </a:r>
            <a:endParaRPr b="0" lang="en-US" sz="4000" spc="-1" strike="noStrike">
              <a:solidFill>
                <a:srgbClr val="572314"/>
              </a:solidFill>
              <a:latin typeface="Gill Sans MT"/>
            </a:endParaRPr>
          </a:p>
        </p:txBody>
      </p:sp>
      <p:sp>
        <p:nvSpPr>
          <p:cNvPr id="490" name=""/>
          <p:cNvSpPr txBox="1"/>
          <p:nvPr/>
        </p:nvSpPr>
        <p:spPr>
          <a:xfrm>
            <a:off x="1714320" y="1698120"/>
            <a:ext cx="9816840" cy="42656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عايير المهنية أجازت للمراجع الداخلي تقديم الخدمات الإدارية التي تحتاج إليها المنشأ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ثل عمليات تقديم المشورة وإعداد الدراسات الاستشارية والدعم للإدارة ولا يجب أن يتحمل فيها المراجع الداخلي مسئولية الإدار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طلب المنشآت للخدمات الاستشارية الإدارية قد تزايد بسبب:</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قد وتطور العمليات التشغيلية والبيئة المالية و البيئة القانونية</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زيادة حدة المنافسة بين الشركات وتضخم احجامها.</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زايد الأعباء الإدارية.</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طور الهائل في أساليب التحليل الكمي.</a:t>
            </a:r>
            <a:endParaRPr b="0" lang="en-US" sz="2000" spc="-1" strike="noStrike">
              <a:solidFill>
                <a:srgbClr val="000000"/>
              </a:solidFill>
              <a:latin typeface="Gill Sans MT"/>
            </a:endParaRPr>
          </a:p>
          <a:p>
            <a:pPr lvl="1" marL="731880" indent="-4572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تقديم المشورة والدعم</a:t>
            </a:r>
            <a:endParaRPr b="0" lang="en-US" sz="4000" spc="-1" strike="noStrike">
              <a:solidFill>
                <a:srgbClr val="572314"/>
              </a:solidFill>
              <a:latin typeface="Gill Sans MT"/>
            </a:endParaRPr>
          </a:p>
        </p:txBody>
      </p:sp>
      <p:sp>
        <p:nvSpPr>
          <p:cNvPr id="492" name=""/>
          <p:cNvSpPr txBox="1"/>
          <p:nvPr/>
        </p:nvSpPr>
        <p:spPr>
          <a:xfrm>
            <a:off x="1714320" y="1584360"/>
            <a:ext cx="9893160" cy="38815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صادر تقديم هذه الخدمات قد يكون داخليا،أو خارجيا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فضل الإدارة عادة الحصول على الخدمة من المراجعة الداخلية للاسباب التا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دمة تتعلق بأمور تشغيلية أو إستراتيجية داخلية لا تحتاج إلى خبرات ومعارف ومهارات غير عاد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ول اعتبارات التكلفة مقارنة بالعائد المنتظر منها دون طلب الخدمة من المكاتب الخارج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ن يعتمد على نتيجتها طرف ثالث خارجي يحتاج إلى درجة عالية من الاستقلال فيمن يعد مثل هذه الخدمات.</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واجب - </a:t>
            </a:r>
            <a:r>
              <a:rPr b="0" lang="ar-SA" sz="4300" spc="-1" strike="noStrike">
                <a:solidFill>
                  <a:srgbClr val="572314"/>
                </a:solidFill>
                <a:latin typeface="Gill Sans MT"/>
                <a:ea typeface="Majalla UI"/>
              </a:rPr>
              <a:t>2</a:t>
            </a:r>
            <a:endParaRPr b="0" lang="en-US" sz="4300" spc="-1" strike="noStrike">
              <a:solidFill>
                <a:srgbClr val="572314"/>
              </a:solidFill>
              <a:latin typeface="Gill Sans MT"/>
            </a:endParaRPr>
          </a:p>
        </p:txBody>
      </p:sp>
      <p:sp>
        <p:nvSpPr>
          <p:cNvPr id="494"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حل السؤال – بصورة فردية - الذي سيحمل على الموقع بعد المحاضرة و ارساله الكترونيا.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440" y="244080"/>
            <a:ext cx="932652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38" name=""/>
          <p:cNvSpPr txBox="1"/>
          <p:nvPr/>
        </p:nvSpPr>
        <p:spPr>
          <a:xfrm>
            <a:off x="1596960" y="1752120"/>
            <a:ext cx="9996480" cy="48006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حتى يمكن تكوين فكرة كاملة عن نظم الرقابة الداخلية سوف نستعرض النقاط التا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فهوم الرقابة الداخلية وأهداف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كونات نظام الرقابة الداخ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حدود نظام الرقابة الداخ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مصادر </a:t>
            </a:r>
            <a:endParaRPr b="0" lang="en-US" sz="4300" spc="-1" strike="noStrike">
              <a:solidFill>
                <a:srgbClr val="572314"/>
              </a:solidFill>
              <a:latin typeface="Gill Sans MT"/>
            </a:endParaRPr>
          </a:p>
        </p:txBody>
      </p:sp>
      <p:sp>
        <p:nvSpPr>
          <p:cNvPr id="496"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0" name=""/>
          <p:cNvSpPr txBox="1"/>
          <p:nvPr/>
        </p:nvSpPr>
        <p:spPr>
          <a:xfrm>
            <a:off x="1863720" y="1625400"/>
            <a:ext cx="9996480" cy="4800600"/>
          </a:xfrm>
          <a:prstGeom prst="rect">
            <a:avLst/>
          </a:prstGeom>
          <a:noFill/>
          <a:ln w="0">
            <a:noFill/>
          </a:ln>
        </p:spPr>
        <p:txBody>
          <a:bodyPr anchor="t">
            <a:normAutofit/>
          </a:bodyPr>
          <a:p>
            <a:pPr marL="343080" indent="-343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مفهوم الرقابة الداخلية وأهدافها:</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هي الطرق أو الأساليب التي تتبناها </a:t>
            </a:r>
            <a:r>
              <a:rPr b="0" lang="ar-SA" sz="2400" spc="-1" strike="noStrike" u="sng">
                <a:solidFill>
                  <a:srgbClr val="404040"/>
                </a:solidFill>
                <a:uFillTx/>
                <a:latin typeface="Gill Sans MT"/>
                <a:cs typeface="Majalla UI"/>
              </a:rPr>
              <a:t>إدارة المنشأة </a:t>
            </a:r>
            <a:r>
              <a:rPr b="0" lang="ar-SA" sz="2400" spc="-1" strike="noStrike">
                <a:solidFill>
                  <a:srgbClr val="404040"/>
                </a:solidFill>
                <a:latin typeface="Gill Sans MT"/>
                <a:cs typeface="Majalla UI"/>
              </a:rPr>
              <a:t>بما في ذلك مجلس إدارتها ومديروها وموظفوها لتوفير تأكيد معقولا بتحقق أهداف المنشأة التالية:</a:t>
            </a:r>
            <a:endParaRPr b="0" lang="en-US" sz="24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a:t>
            </a:r>
            <a:r>
              <a:rPr b="0" lang="ar-SA" sz="2000" spc="-1" strike="noStrike">
                <a:solidFill>
                  <a:srgbClr val="404040"/>
                </a:solidFill>
                <a:latin typeface="Gill Sans MT"/>
                <a:cs typeface="Majalla UI"/>
              </a:rPr>
              <a:t>حماية أصول المنشأة ، والحد من وقوع الغش والأخطاء واكتشافها فور وقوعها ودقة السجلات المحاسبية واكتمالها.</a:t>
            </a:r>
            <a:endParaRPr b="0" lang="en-US" sz="20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فاعلية وكفاءة الأحداث والعمليات أو الظروف التي تتأثر بها المنشأة بما في ذلك استخدام الموارد بكفاءة وبشكل ملائم وزيادة الإنتاجية</a:t>
            </a:r>
            <a:endParaRPr b="0" lang="en-US" sz="20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التقيد بالأنظمة والتعليمات والسياسات التي تتبناها الإدارة لتحقيق أهداف المنشأة بكفاءة وبطريقة منتظمة</a:t>
            </a:r>
            <a:endParaRPr b="0" lang="en-US" sz="20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2" name=""/>
          <p:cNvSpPr txBox="1"/>
          <p:nvPr/>
        </p:nvSpPr>
        <p:spPr>
          <a:xfrm>
            <a:off x="1749600" y="175212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فهوم </a:t>
            </a:r>
            <a:r>
              <a:rPr b="1" lang="ar-SA" sz="2400" spc="-1" strike="noStrike">
                <a:solidFill>
                  <a:srgbClr val="404040"/>
                </a:solidFill>
                <a:latin typeface="Gill Sans MT"/>
                <a:ea typeface="Majalla UI"/>
              </a:rPr>
              <a:t>(تأكيدا معقولا) </a:t>
            </a:r>
            <a:r>
              <a:rPr b="0" lang="ar-SA" sz="2400" spc="-1" strike="noStrike">
                <a:solidFill>
                  <a:srgbClr val="404040"/>
                </a:solidFill>
                <a:latin typeface="Gill Sans MT"/>
                <a:cs typeface="Majalla UI"/>
              </a:rPr>
              <a:t>هنا يأخذ في الاعتبار عدم زيادة تكاليف نظام الرقابة الداخلية عن المنافع المتوقعة منه.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التعريف يأخذ في الاعتبار حقيقة أن وجود نظام للرقابة الداخلية لا يوفر  ضمان أو تأكيد مطلق على تحقيق الأهداف التى وضع من اجلها ذلك النظام</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تعريف اخر لأنظمة الرقابة الداخ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هي مجموعة الوسائل والإجراءات والأساليب التي تستخدم بقصد حماية النقدية وغيرها من الأصول وضمان الدقة المحاسبية وتنمية الكفاية الإنتاجية وتشجيع الالتزام بالسياسات الإدارية المرسومة.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4-03-26T17:33:23Z</dcterms:modified>
  <cp:revision>251</cp:revision>
  <dc:subject/>
  <dc:title>تنفيذ مهام المراجعة الداخلية</dc:title>
</cp:coreProperties>
</file>