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EA6C7-53B6-4BA0-9714-FB3D2FDE1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CC578-3CB7-4EB9-BA32-368A9095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A0147-B8BA-4048-8C87-188820060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3A278-02BA-4791-81BA-CB016B2CF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F5F35-C750-487A-9FA1-C4222D838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B6340-C16B-4374-A775-3D7E56FF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84441-A4FD-4D4A-B8B8-C73D5E293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DC569-5260-4E7F-A2B8-983F9102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7C135-ED36-4262-8A61-44099B990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93A84-EAA4-4D32-98BD-472A97568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B1C7D-C7F5-442A-B929-21C29C6B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7D83-F580-4293-B3BD-EC0B53DF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E72C0-48DF-4547-AF1A-0BE7FDAF0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55C1-C7AA-49F9-B29F-49A65BD45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ABD6D-FECB-4BFF-B142-A3D6077F5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9AA77-043C-4CCF-B30D-151F0CD8D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AEC0D-2266-4EFF-A987-CC540A74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13414-6BA6-4ADB-B9B8-4EB63FBDB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E2DBE-B023-434A-9C99-D3FA77222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6D19-DEBB-4BC6-BD82-6261B646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8E26-F1AB-4A98-95D2-6FA25F43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9F44-5816-4412-9095-94EC3943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C7593-ACEC-4290-80E6-AD8148279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FB72-0761-434E-AD0B-2CF8824E4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B3EE-5865-4373-89DB-E948C567C1E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8CEA-9DD0-4AFB-B746-1C8E42C4299A}" type="slidenum">
              <a:rPr b="0" lang="ar-SA"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02DB-2AD5-4E68-A060-45355E77A4A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65" name="Picture 4" descr=""/>
          <p:cNvPicPr/>
          <p:nvPr/>
        </p:nvPicPr>
        <p:blipFill>
          <a:blip r:embed="rId1"/>
          <a:stretch/>
        </p:blipFill>
        <p:spPr>
          <a:xfrm>
            <a:off x="0" y="0"/>
            <a:ext cx="9144000" cy="6858000"/>
          </a:xfrm>
          <a:prstGeom prst="rect">
            <a:avLst/>
          </a:prstGeom>
          <a:ln w="0">
            <a:noFill/>
          </a:ln>
        </p:spPr>
      </p:pic>
      <p:sp>
        <p:nvSpPr>
          <p:cNvPr id="166" name="Rectangle 5"/>
          <p:cNvSpPr/>
          <p:nvPr/>
        </p:nvSpPr>
        <p:spPr>
          <a:xfrm>
            <a:off x="3962520" y="0"/>
            <a:ext cx="5181480" cy="762120"/>
          </a:xfrm>
          <a:prstGeom prst="rect">
            <a:avLst/>
          </a:prstGeom>
          <a:gradFill rotWithShape="0">
            <a:gsLst>
              <a:gs pos="0">
                <a:srgbClr val="6699ff"/>
              </a:gs>
              <a:gs pos="100000">
                <a:srgbClr val="cdde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80"/>
                </a:solidFill>
                <a:latin typeface="Arial"/>
                <a:cs typeface="Arial"/>
              </a:rPr>
              <a:t>مهارات الاستقبال ( الانصات )</a:t>
            </a:r>
            <a:endParaRPr b="0" lang="en-US" sz="40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03A8-CC7C-4568-8145-8F70D741035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رابع: ( التعاطفي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قصد به ليس فقط الاستماع بتركيز جيد لكل الكلمات بل وحتى قراءة واستشفاف ما تحمله هذه الكلمات من قيمة عاطفية وشعورية لصاحبها ومحاولة تبني موقفه بالكامل وفهم مرجعياته الثقافية والاجتماعية وإدراك وضعه النفسي الراهن.</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م</a:t>
            </a:r>
            <a:r>
              <a:rPr b="0" lang="ar-SA" sz="2400" spc="-1" strike="noStrike">
                <a:solidFill>
                  <a:srgbClr val="ffffff"/>
                </a:solidFill>
                <a:latin typeface="Arial"/>
                <a:cs typeface="Arial"/>
              </a:rPr>
              <a:t>ن هنا كان الاستماع التعاطفي هو أعلى درجات الاستماع ولاشك أن هذا المستوى يحتاج إلى استعداد ذهني واستقرار نفسي جيد، ومن غير المعقول أن نتوقع أن هناك من سيمارس هذا النوع من الاستماع طوال الوقت لأننا في النهاية بشر ومعرضون دائما لتقلبات المزاج وتعكر الحالة النفسية مما يجعلنا نمارس مستويات متفاوتة من الاستماع بين الحين والآخر. </a:t>
            </a:r>
            <a:endParaRPr b="0" lang="en-US" sz="2400" spc="-1" strike="noStrike">
              <a:solidFill>
                <a:srgbClr val="ffffff"/>
              </a:solidFill>
              <a:latin typeface="Arial"/>
            </a:endParaRPr>
          </a:p>
          <a:p>
            <a:pPr lvl="1" marL="705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228" dur="500"/>
                                        <p:tgtEl>
                                          <p:spTgt spid="19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233" dur="500"/>
                                        <p:tgtEl>
                                          <p:spTgt spid="19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3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AC2D-B037-4BC2-9B69-DA9E5515DB8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عوائق الذهنية</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تفكير في غير الرسالة التي تستمع اليها وانشغال الذهن بمواضيع اخرى يجعل من الانصات سماعا مجردا لا يؤدي في الغالب الى فهم الرسالة</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لكي تتغلب على ذلك فرغ ذهنك واجمع عنايتك على كلام متحدثك لتتمكن من الانصات. </a:t>
            </a:r>
            <a:endParaRPr b="0" lang="en-US" sz="2400" spc="-1" strike="noStrike">
              <a:solidFill>
                <a:srgbClr val="ffffff"/>
              </a:solidFill>
              <a:latin typeface="Arial"/>
            </a:endParaRPr>
          </a:p>
          <a:p>
            <a:pPr lvl="1" marL="66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انطباع والحكم السابق</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حكم السابق على المتحدث يؤدي الى الحكم السابق على حديثة سواء اكان ايجابيا او سلبيا ولن يكون انصات ما لم تقاوم الرغبة في الحكم المبني على انطباع سابق. فتستمع الى الحديث حتى نهايتة فيكون حكمك شئيا انت استنتجتة بنفسك. </a:t>
            </a:r>
            <a:endParaRPr b="0" lang="en-US" sz="2400" spc="-1" strike="noStrike">
              <a:solidFill>
                <a:srgbClr val="ffffff"/>
              </a:solidFill>
              <a:latin typeface="Arial"/>
            </a:endParaRPr>
          </a:p>
        </p:txBody>
      </p:sp>
    </p:spTree>
  </p:cSld>
  <p:transition>
    <p:cover dir="ld"/>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45" dur="500"/>
                                        <p:tgtEl>
                                          <p:spTgt spid="19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50" dur="500"/>
                                        <p:tgtEl>
                                          <p:spTgt spid="19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55" dur="500"/>
                                        <p:tgtEl>
                                          <p:spTgt spid="19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60" dur="500"/>
                                        <p:tgtEl>
                                          <p:spTgt spid="196">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265"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E1D6-10B7-4278-A438-742AA2993FD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حالات النفس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قلق، الخوف، الاضطراب والضغط اوالاجهاد كلها تؤدي الى ضعف الانصات</a:t>
            </a:r>
            <a:endParaRPr b="0" lang="en-US" sz="24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مشوشات البيئ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ضوضاء في المكان او كثرة المثيرات للانتباة في نفس المكان.</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سماع ما نريد او نحب سماعة فقط</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ا ما يميل الشخص الى انتقاء ما يريد سماعة مما يجعلة غير منصت لكامل الرسالة. </a:t>
            </a:r>
            <a:endParaRPr b="0" lang="en-US" sz="24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ختلاف اللهجة او اللغة بين الطرفين</a:t>
            </a:r>
            <a:endParaRPr b="0" lang="en-US" sz="2800" spc="-1" strike="noStrike">
              <a:solidFill>
                <a:srgbClr val="ffffff"/>
              </a:solidFill>
              <a:latin typeface="Arial"/>
            </a:endParaRPr>
          </a:p>
        </p:txBody>
      </p:sp>
    </p:spTree>
  </p:cSld>
  <p:transition>
    <p:cover dir="l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72" dur="500"/>
                                        <p:tgtEl>
                                          <p:spTgt spid="19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277" dur="500"/>
                                        <p:tgtEl>
                                          <p:spTgt spid="199">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282" dur="500"/>
                                        <p:tgtEl>
                                          <p:spTgt spid="199">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287" dur="500"/>
                                        <p:tgtEl>
                                          <p:spTgt spid="199">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292" dur="500"/>
                                        <p:tgtEl>
                                          <p:spTgt spid="199">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297" dur="500"/>
                                        <p:tgtEl>
                                          <p:spTgt spid="199">
                                            <p:txEl>
                                              <p:pRg st="5" end="5"/>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302"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7F4B-7A78-4687-877D-959C7E6E700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عد للانصات وقبل ان تبدا الانصات تهيأ بما يلي:</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وقف عن الحديث واستمع بعقل مفتوح للمتحد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خلص من المشتتات التي تعوق الانصات وهى:</a:t>
            </a:r>
            <a:endParaRPr b="0" lang="en-US" sz="2400" spc="-1" strike="noStrike">
              <a:solidFill>
                <a:srgbClr val="ffffff"/>
              </a:solidFill>
              <a:latin typeface="Arial"/>
            </a:endParaRPr>
          </a:p>
          <a:p>
            <a:pPr lvl="2" marL="1074240" indent="-214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شتتات داخلية: ( الانشغال، شرود الذهن، والاحكام المسبقة)</a:t>
            </a:r>
            <a:endParaRPr b="0" lang="en-US" sz="2400" spc="-1" strike="noStrike">
              <a:solidFill>
                <a:srgbClr val="ffffff"/>
              </a:solidFill>
              <a:latin typeface="Arial"/>
            </a:endParaRPr>
          </a:p>
          <a:p>
            <a:pPr lvl="2" marL="1074240" indent="-214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خارجية: ( الضوضاء واي شئ يشتت الانتباه)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عر المتحدث باستعدادك للانصات باستعمال وسائل الاتصال غير اللفظية كالجلسة المريحة والنظرة المتحفزة والمنتظرة.</a:t>
            </a:r>
            <a:endParaRPr b="0" lang="en-US" sz="2400" spc="-1" strike="noStrike">
              <a:solidFill>
                <a:srgbClr val="ffffff"/>
              </a:solidFill>
              <a:latin typeface="Arial"/>
            </a:endParaRPr>
          </a:p>
          <a:p>
            <a:pPr marL="322200" indent="-32220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مع بانتباه: فالانتباه للحديث والعناية هى لب الانصات</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لكل كلمة ولكل فكرة ولا تحكم او تُقوم حتى ينتهي الحديث فالمتحدث يريدك ان تستمع الية وتتفهم موقفة.</a:t>
            </a:r>
            <a:endParaRPr b="0" lang="en-US" sz="2400" spc="-1" strike="noStrike">
              <a:solidFill>
                <a:srgbClr val="ffffff"/>
              </a:solidFill>
              <a:latin typeface="Arial"/>
            </a:endParaRPr>
          </a:p>
        </p:txBody>
      </p:sp>
    </p:spTree>
  </p:cSld>
  <p:transition>
    <p:cover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309" dur="500"/>
                                        <p:tgtEl>
                                          <p:spTgt spid="20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314" dur="500"/>
                                        <p:tgtEl>
                                          <p:spTgt spid="20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319" dur="500"/>
                                        <p:tgtEl>
                                          <p:spTgt spid="202">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324" dur="500"/>
                                        <p:tgtEl>
                                          <p:spTgt spid="202">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329" dur="500"/>
                                        <p:tgtEl>
                                          <p:spTgt spid="202">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34" dur="500"/>
                                        <p:tgtEl>
                                          <p:spTgt spid="202">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39" dur="500"/>
                                        <p:tgtEl>
                                          <p:spTgt spid="202">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344"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92DD-F61E-49D5-94F5-358533637FD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دون ملاحظاتك ان احتجت الى ذلك ولا تكتب كل شيء بل اكتب اهم النقاط لتلخص الحديث وتعود الية عند المناقش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حتفظ بذهنك حاضرا وناقش رسالة المتحدث بالاسئلة المناسبة لا ستيضاح الرسالة عند الحاجة لذ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قب اسلوب المتحدث لتتبين حقيقة الحديث ( مبالغ – منطقي – متعص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ع الاشارات غير الفظية ( درجة الصوت - تعابير الوجة - الايماءات ) وفسر مدلولاتها مع الكلا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المتحدث واذا اقتضى الامر المقاطعة فكن لبقا في ذلك ويمكنك ذكر بعض العبارات مثل ( رجاء انتظر دقيقة حتى انتهي من امر ما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351" dur="500"/>
                                        <p:tgtEl>
                                          <p:spTgt spid="20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356" dur="500"/>
                                        <p:tgtEl>
                                          <p:spTgt spid="20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361" dur="500"/>
                                        <p:tgtEl>
                                          <p:spTgt spid="20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366" dur="500"/>
                                        <p:tgtEl>
                                          <p:spTgt spid="205">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371"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029A-2AA3-4D0E-931E-7913E3AA5C6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8"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فسر مضمون الرسالة بعد استماعك للرسالة كاملة، حلل ما سمعت لفهم المعنى الذي اراد المتحدث ايصالة اليك وفق خلفيتة وليست خلفيتك.</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cs typeface="Arial"/>
              </a:rPr>
              <a:t>قوم الرسالة، كون رأيك وانطباعك عن اهمية الرسالة وحقيقتها وهدفها وذلك لمنطق الحديث وصحة المعلومات والادلة والاستنتاجات.</a:t>
            </a:r>
            <a:endParaRPr b="0" lang="en-US" sz="2800" spc="-1" strike="noStrike">
              <a:solidFill>
                <a:srgbClr val="ffffff"/>
              </a:solidFill>
              <a:latin typeface="Arial"/>
            </a:endParaRPr>
          </a:p>
        </p:txBody>
      </p:sp>
    </p:spTree>
  </p:cSld>
  <p:transition>
    <p:cover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78" dur="500"/>
                                        <p:tgtEl>
                                          <p:spTgt spid="2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83"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BC6A-ECCD-4228-AD84-67E7D71EC93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1" name="PlaceHolder 2"/>
          <p:cNvSpPr>
            <a:spLocks noGrp="1"/>
          </p:cNvSpPr>
          <p:nvPr>
            <p:ph/>
          </p:nvPr>
        </p:nvSpPr>
        <p:spPr>
          <a:xfrm>
            <a:off x="457200" y="1371240"/>
            <a:ext cx="8229600" cy="4530600"/>
          </a:xfrm>
          <a:prstGeom prst="rect">
            <a:avLst/>
          </a:prstGeom>
          <a:noFill/>
          <a:ln w="0">
            <a:noFill/>
          </a:ln>
        </p:spPr>
        <p:txBody>
          <a:bodyPr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حذر من بعض الاعمال التي تؤدي الى اثارة المتحدث اودفعة الى انهاء الحديث ومنها:</a:t>
            </a:r>
            <a:endParaRPr b="0" lang="en-US" sz="28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قاطعة المتحد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يحاء بالضجر او الملل من خلال الكلمات او الايحاء غير اللفظي</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عمال عبارات محبطة ( معلومات معروفة- كلام مكرر- انت دائم الخطأ-تريد ان تعلمني )  </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بادرة بالحديث عن المتحدث.</a:t>
            </a:r>
            <a:endParaRPr b="0" lang="en-US" sz="24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قم بالاستجابة المناسبة اثناء الحديث وبعدة على النحو التالي:</a:t>
            </a:r>
            <a:endParaRPr b="0" lang="en-US" sz="2800" spc="-1" strike="noStrike">
              <a:solidFill>
                <a:srgbClr val="ffffff"/>
              </a:solidFill>
              <a:latin typeface="Arial"/>
            </a:endParaRPr>
          </a:p>
          <a:p>
            <a:pPr lvl="1" marL="683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اثناء الحي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هز الراس او الايماء وهو علامة على الاهتمام والمتابعة </a:t>
            </a:r>
            <a:r>
              <a:rPr b="1"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390" dur="500"/>
                                        <p:tgtEl>
                                          <p:spTgt spid="21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395" dur="500"/>
                                        <p:tgtEl>
                                          <p:spTgt spid="211">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400" dur="500"/>
                                        <p:tgtEl>
                                          <p:spTgt spid="211">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405" dur="500"/>
                                        <p:tgtEl>
                                          <p:spTgt spid="211">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410" dur="500"/>
                                        <p:tgtEl>
                                          <p:spTgt spid="211">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415" dur="500"/>
                                        <p:tgtEl>
                                          <p:spTgt spid="211">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420" dur="500"/>
                                        <p:tgtEl>
                                          <p:spTgt spid="211">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425" dur="500"/>
                                        <p:tgtEl>
                                          <p:spTgt spid="2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B9E5-4995-47E2-B0CD-BBC8908D3CD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800600"/>
          </a:xfrm>
          <a:prstGeom prst="rect">
            <a:avLst/>
          </a:prstGeom>
          <a:noFill/>
          <a:ln w="0">
            <a:noFill/>
          </a:ln>
        </p:spPr>
        <p:txBody>
          <a:bodyPr anchor="t">
            <a:normAutofit fontScale="95000"/>
          </a:bodyPr>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صمت والنظر الى المتحدث بتشوق واهتمام او الاقتراب منة او امالة الصدر قليلا الى الامام.</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لاحظة العابرة مثل: نعم، هكذا، وهو كذلك، حقآ، صحيح.</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كس الصورة مثل القول: اشعر من كلامك ان كذا وكذا... ، اشعر انك تريد ان تقول.. .الخ.</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عد الصياغة: مثل ان تقول: انت قلت كذا وكذا،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تابة بعض عبارات المتحدث المهمة وهو امر يشعر المتكلم بالتقدير وذلك بحسب مستوى ومحتوى الاتصال.</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بعد الحديث</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كرة على الحديث معك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لة الرسالة لتتاكد من استيفائك للموضوع وفهمك لرسالتة.</a:t>
            </a:r>
            <a:endParaRPr b="0" lang="en-US" sz="2400" spc="-1" strike="noStrike">
              <a:solidFill>
                <a:srgbClr val="ffffff"/>
              </a:solidFill>
              <a:latin typeface="Arial"/>
            </a:endParaRPr>
          </a:p>
        </p:txBody>
      </p:sp>
    </p:spTree>
  </p:cSld>
  <p:transition>
    <p:cover dir="ld"/>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432" dur="500"/>
                                        <p:tgtEl>
                                          <p:spTgt spid="21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437" dur="500"/>
                                        <p:tgtEl>
                                          <p:spTgt spid="214">
                                            <p:txEl>
                                              <p:pRg st="1" end="1"/>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440" dur="500"/>
                                        <p:tgtEl>
                                          <p:spTgt spid="214">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445" dur="500"/>
                                        <p:tgtEl>
                                          <p:spTgt spid="214">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450" dur="500"/>
                                        <p:tgtEl>
                                          <p:spTgt spid="214">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455" dur="500"/>
                                        <p:tgtEl>
                                          <p:spTgt spid="21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460" dur="500"/>
                                        <p:tgtEl>
                                          <p:spTgt spid="214">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465"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B268-B335-4368-8E99-B7DDAF166B0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معي</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بصري</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حسي</a:t>
            </a:r>
            <a:endParaRPr b="0" lang="en-US" sz="2800" spc="-1" strike="noStrike">
              <a:solidFill>
                <a:srgbClr val="ffffff"/>
              </a:solidFill>
              <a:latin typeface="Arial"/>
            </a:endParaRPr>
          </a:p>
        </p:txBody>
      </p:sp>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472" dur="500"/>
                                        <p:tgtEl>
                                          <p:spTgt spid="217">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477" dur="500"/>
                                        <p:tgtEl>
                                          <p:spTgt spid="217">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482"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269E-C22D-45A3-981E-28950BE9738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ه البصريه (أرني)</a:t>
            </a:r>
            <a:endParaRPr b="0" lang="en-US" sz="28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سريع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عن المستقب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ديه القدره على القراءه السريع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نفس بشكل سريع</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لاحظ الغلطات الاملائي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شاهدك ليسمعك جيد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كتب او يرسم ما يسمعه ليفهم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ب ان يعرف الموضوع بشكل عام قبل الدخول في التفاصي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ضعيف في حفظ المعلومات الشفويه</a:t>
            </a:r>
            <a:endParaRPr b="0" lang="en-US" sz="2400" spc="-1" strike="noStrike">
              <a:solidFill>
                <a:srgbClr val="ffffff"/>
              </a:solidFill>
              <a:latin typeface="Arial"/>
            </a:endParaRPr>
          </a:p>
        </p:txBody>
      </p:sp>
    </p:spTree>
  </p:cSld>
  <p:transition>
    <p:cover dir="l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89" dur="500"/>
                                        <p:tgtEl>
                                          <p:spTgt spid="220">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94" dur="500"/>
                                        <p:tgtEl>
                                          <p:spTgt spid="220">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499" dur="500"/>
                                        <p:tgtEl>
                                          <p:spTgt spid="220">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504" dur="500"/>
                                        <p:tgtEl>
                                          <p:spTgt spid="220">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509" dur="500"/>
                                        <p:tgtEl>
                                          <p:spTgt spid="220">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514" dur="500"/>
                                        <p:tgtEl>
                                          <p:spTgt spid="220">
                                            <p:txEl>
                                              <p:pRg st="5" end="5"/>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519" dur="500"/>
                                        <p:tgtEl>
                                          <p:spTgt spid="220">
                                            <p:txEl>
                                              <p:pRg st="6" end="6"/>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524" dur="500"/>
                                        <p:tgtEl>
                                          <p:spTgt spid="220">
                                            <p:txEl>
                                              <p:pRg st="7" end="7"/>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529" dur="500"/>
                                        <p:tgtEl>
                                          <p:spTgt spid="220">
                                            <p:txEl>
                                              <p:pRg st="8" end="8"/>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534" dur="500"/>
                                        <p:tgtEl>
                                          <p:spTgt spid="2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44B7-B677-4652-86E5-8BA3EDFDBF8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فرق بين "السمع" و"الاستماع" و"الإصغاء” و"الإنصات</a:t>
            </a:r>
            <a:r>
              <a:rPr b="1" lang="ar-SA"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9" name="PlaceHolder 2"/>
          <p:cNvSpPr>
            <a:spLocks noGrp="1"/>
          </p:cNvSpPr>
          <p:nvPr>
            <p:ph/>
          </p:nvPr>
        </p:nvSpPr>
        <p:spPr>
          <a:xfrm>
            <a:off x="380880" y="1599840"/>
            <a:ext cx="830592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ع: حاسة التقاط الصوت عفويا بدون قصد المستمع</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مثل سماعك صوت موسيقى تنبعث من السيارة بقربك). </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فعل يقصد منه استراق السمع وتمييزه جيدا</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كأن تفتح نافذة سيارتك كي تستمع للموسيقى السابقة).</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صغاء: في حال أعجبك الصوت ستدخل مرحلة "الإصغاء" حيث التركيز وتفاعل القلب والمشاعر.. اما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إنصات: شرط للإصغاء الجيد يتطلب إلغاء الضوضاء وإسكات بقية الأصوات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400" spc="-1" strike="noStrike">
                <a:solidFill>
                  <a:srgbClr val="ffffff"/>
                </a:solidFill>
                <a:latin typeface="Arial"/>
                <a:ea typeface="Arial"/>
              </a:rPr>
              <a:t>(كأن تطلب من الأطفال السكوت حتى تستمع بشكل أفضل)!</a:t>
            </a:r>
            <a:r>
              <a:rPr b="0" lang="ar-SA" sz="2400" spc="-1" strike="noStrike">
                <a:solidFill>
                  <a:srgbClr val="ffffff"/>
                </a:solidFill>
                <a:latin typeface="Arial"/>
              </a:rPr>
              <a:t>  </a:t>
            </a: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 dur="500"/>
                                        <p:tgtEl>
                                          <p:spTgt spid="1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2" dur="500"/>
                                        <p:tgtEl>
                                          <p:spTgt spid="1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7" dur="500"/>
                                        <p:tgtEl>
                                          <p:spTgt spid="16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 dur="500"/>
                                        <p:tgtEl>
                                          <p:spTgt spid="16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27" dur="500"/>
                                        <p:tgtEl>
                                          <p:spTgt spid="169">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32" dur="500"/>
                                        <p:tgtEl>
                                          <p:spTgt spid="169">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37"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FB56-66E5-41CE-9052-B05B2BD3DA9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ة السمعية ( اسمعني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مع الاخرين كثير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 الاسئله ويحب المناقش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ه القدره على الحفظ</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التعليمات الشفويه بسهول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تبه لاي صوت</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فضل الا يراك ليسمعك جيد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تدل التنفس</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ما يسمعه اكثر مما يشاهده</a:t>
            </a:r>
            <a:endParaRPr b="0" lang="en-US" sz="2400" spc="-1" strike="noStrike">
              <a:solidFill>
                <a:srgbClr val="ffffff"/>
              </a:solidFill>
              <a:latin typeface="Arial"/>
            </a:endParaRPr>
          </a:p>
        </p:txBody>
      </p:sp>
    </p:spTree>
  </p:cSld>
  <p:transition>
    <p:cover dir="l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41" dur="500"/>
                                        <p:tgtEl>
                                          <p:spTgt spid="223">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546" dur="500"/>
                                        <p:tgtEl>
                                          <p:spTgt spid="223">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551" dur="500"/>
                                        <p:tgtEl>
                                          <p:spTgt spid="223">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556" dur="500"/>
                                        <p:tgtEl>
                                          <p:spTgt spid="223">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561" dur="500"/>
                                        <p:tgtEl>
                                          <p:spTgt spid="223">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566" dur="500"/>
                                        <p:tgtEl>
                                          <p:spTgt spid="223">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571" dur="500"/>
                                        <p:tgtEl>
                                          <p:spTgt spid="223">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576" dur="500"/>
                                        <p:tgtEl>
                                          <p:spTgt spid="223">
                                            <p:txEl>
                                              <p:pRg st="7" end="7"/>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23">
                                            <p:txEl>
                                              <p:pRg st="8" end="8"/>
                                            </p:txEl>
                                          </p:spTgt>
                                        </p:tgtEl>
                                        <p:attrNameLst>
                                          <p:attrName>style.visibility</p:attrName>
                                        </p:attrNameLst>
                                      </p:cBhvr>
                                      <p:to>
                                        <p:strVal val="visible"/>
                                      </p:to>
                                    </p:set>
                                    <p:animEffect filter="blinds(horizontal)" transition="in">
                                      <p:cBhvr additive="repl">
                                        <p:cTn id="581"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F75A-B3BB-4DC3-BD5F-F231535C994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شخصية الحسية ( اشعرني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ميق التنفس</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صامت معظم الاحيا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بنبرة هاد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ثر بأي اشارة من زملائ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تخدم اليد كمؤشر</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يل في التفكير الى الماض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دخل في التفاصي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كم على الاشياء من خلال احساسه الداخل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رك كثيرا</a:t>
            </a:r>
            <a:endParaRPr b="0" lang="en-US" sz="2400" spc="-1" strike="noStrike">
              <a:solidFill>
                <a:srgbClr val="ffffff"/>
              </a:solidFill>
              <a:latin typeface="Arial"/>
            </a:endParaRPr>
          </a:p>
        </p:txBody>
      </p:sp>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588" dur="500"/>
                                        <p:tgtEl>
                                          <p:spTgt spid="22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593" dur="500"/>
                                        <p:tgtEl>
                                          <p:spTgt spid="226">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598" dur="500"/>
                                        <p:tgtEl>
                                          <p:spTgt spid="226">
                                            <p:txEl>
                                              <p:pRg st="2" end="2"/>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03" dur="500"/>
                                        <p:tgtEl>
                                          <p:spTgt spid="226">
                                            <p:txEl>
                                              <p:pRg st="3" end="3"/>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608" dur="500"/>
                                        <p:tgtEl>
                                          <p:spTgt spid="226">
                                            <p:txEl>
                                              <p:pRg st="4" end="4"/>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13" dur="500"/>
                                        <p:tgtEl>
                                          <p:spTgt spid="22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618" dur="500"/>
                                        <p:tgtEl>
                                          <p:spTgt spid="226">
                                            <p:txEl>
                                              <p:pRg st="6" end="6"/>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23" dur="500"/>
                                        <p:tgtEl>
                                          <p:spTgt spid="226">
                                            <p:txEl>
                                              <p:pRg st="7" end="7"/>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xEl>
                                              <p:pRg st="8" end="8"/>
                                            </p:txEl>
                                          </p:spTgt>
                                        </p:tgtEl>
                                        <p:attrNameLst>
                                          <p:attrName>style.visibility</p:attrName>
                                        </p:attrNameLst>
                                      </p:cBhvr>
                                      <p:to>
                                        <p:strVal val="visible"/>
                                      </p:to>
                                    </p:set>
                                    <p:animEffect filter="blinds(horizontal)" transition="in">
                                      <p:cBhvr additive="repl">
                                        <p:cTn id="628" dur="500"/>
                                        <p:tgtEl>
                                          <p:spTgt spid="226">
                                            <p:txEl>
                                              <p:pRg st="8" end="8"/>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6">
                                            <p:txEl>
                                              <p:pRg st="9" end="9"/>
                                            </p:txEl>
                                          </p:spTgt>
                                        </p:tgtEl>
                                        <p:attrNameLst>
                                          <p:attrName>style.visibility</p:attrName>
                                        </p:attrNameLst>
                                      </p:cBhvr>
                                      <p:to>
                                        <p:strVal val="visible"/>
                                      </p:to>
                                    </p:set>
                                    <p:animEffect filter="blinds(horizontal)" transition="in">
                                      <p:cBhvr additive="repl">
                                        <p:cTn id="63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3186-C2AF-4E85-AAAC-FA4533C6FDA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كيف تكون مستمعا متميزا؟</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عشر للاستماع الناجح:</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استمع ا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جهز الرد في نفسك وأنت تستمع له</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تجه بجسمك كله لمن يتحدث لك</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ين للمتحدث أنك ت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أبدا ً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كلامه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فسر كلام المتحدث من وجهة نظرك أنت</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يتكلم أحدنا عن مشكلة أو أحزان فإنه يعبر عن مشاعر</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اول أن تتوافق مع حالة المتحدث النفسية،</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ر المكان والزمان المناسب دائما ....</a:t>
            </a:r>
            <a:endParaRPr b="0" lang="en-US" sz="2400" spc="-1" strike="noStrike">
              <a:solidFill>
                <a:srgbClr val="ffffff"/>
              </a:solidFill>
              <a:latin typeface="Arial"/>
            </a:endParaRPr>
          </a:p>
        </p:txBody>
      </p:sp>
    </p:spTree>
  </p:cSld>
  <p:transition>
    <p:cover dir="ld"/>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40" dur="500"/>
                                        <p:tgtEl>
                                          <p:spTgt spid="22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45" dur="500"/>
                                        <p:tgtEl>
                                          <p:spTgt spid="22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50" dur="500"/>
                                        <p:tgtEl>
                                          <p:spTgt spid="229">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55" dur="500"/>
                                        <p:tgtEl>
                                          <p:spTgt spid="229">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60" dur="500"/>
                                        <p:tgtEl>
                                          <p:spTgt spid="229">
                                            <p:txEl>
                                              <p:pRg st="4" end="4"/>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65" dur="500"/>
                                        <p:tgtEl>
                                          <p:spTgt spid="229">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70" dur="500"/>
                                        <p:tgtEl>
                                          <p:spTgt spid="229">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75" dur="500"/>
                                        <p:tgtEl>
                                          <p:spTgt spid="229">
                                            <p:txEl>
                                              <p:pRg st="7" end="7"/>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80" dur="500"/>
                                        <p:tgtEl>
                                          <p:spTgt spid="229">
                                            <p:txEl>
                                              <p:pRg st="8" end="8"/>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29">
                                            <p:txEl>
                                              <p:pRg st="9" end="9"/>
                                            </p:txEl>
                                          </p:spTgt>
                                        </p:tgtEl>
                                        <p:attrNameLst>
                                          <p:attrName>style.visibility</p:attrName>
                                        </p:attrNameLst>
                                      </p:cBhvr>
                                      <p:to>
                                        <p:strVal val="visible"/>
                                      </p:to>
                                    </p:set>
                                    <p:animEffect filter="blinds(horizontal)" transition="in">
                                      <p:cBhvr additive="repl">
                                        <p:cTn id="685" dur="500"/>
                                        <p:tgtEl>
                                          <p:spTgt spid="229">
                                            <p:txEl>
                                              <p:pRg st="9" end="9"/>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90"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81E0-691F-47AD-85FC-92F0216ECE8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لحظة تأمل</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233" name="Picture 5" descr=""/>
          <p:cNvPicPr/>
          <p:nvPr/>
        </p:nvPicPr>
        <p:blipFill>
          <a:blip r:embed="rId1"/>
          <a:stretch/>
        </p:blipFill>
        <p:spPr>
          <a:xfrm>
            <a:off x="457200" y="990720"/>
            <a:ext cx="8229600" cy="561312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891F-CFAE-4418-8038-5D5EC395426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تعامل مع أنواع المتحدثين معك</a:t>
            </a:r>
            <a:endParaRPr b="0" lang="en-US" sz="40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رض:</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صاحب شخصیة قتالی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یتحدى بأسئلته التي یلقیها علیك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بما لدیه مشاكل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فظ على أعصابك</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ول أن تجد أن </a:t>
            </a:r>
            <a:r>
              <a:rPr b="0" lang="ar-SA" sz="2400" spc="-1" strike="noStrike">
                <a:solidFill>
                  <a:srgbClr val="ffffff"/>
                </a:solidFill>
                <a:latin typeface="Arial"/>
                <a:cs typeface="Arial"/>
              </a:rPr>
              <a:t>هناك </a:t>
            </a:r>
            <a:r>
              <a:rPr b="0" lang="ar-SA" sz="2400" spc="-1" strike="noStrike">
                <a:solidFill>
                  <a:srgbClr val="ffffff"/>
                </a:solidFill>
                <a:latin typeface="Arial"/>
              </a:rPr>
              <a:t>صوابا فیما یقول</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شرك من معك في نقاشه معك .</a:t>
            </a:r>
            <a:endParaRPr b="0" lang="en-US" sz="2400" spc="-1" strike="noStrike">
              <a:solidFill>
                <a:srgbClr val="ffffff"/>
              </a:solidFill>
              <a:latin typeface="Arial"/>
            </a:endParaRPr>
          </a:p>
        </p:txBody>
      </p:sp>
    </p:spTree>
  </p:cSld>
  <p:transition>
    <p:cover dir="ld"/>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97" dur="500"/>
                                        <p:tgtEl>
                                          <p:spTgt spid="23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02" dur="500"/>
                                        <p:tgtEl>
                                          <p:spTgt spid="236">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07" dur="500"/>
                                        <p:tgtEl>
                                          <p:spTgt spid="236">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36">
                                            <p:txEl>
                                              <p:pRg st="3" end="3"/>
                                            </p:txEl>
                                          </p:spTgt>
                                        </p:tgtEl>
                                        <p:attrNameLst>
                                          <p:attrName>style.visibility</p:attrName>
                                        </p:attrNameLst>
                                      </p:cBhvr>
                                      <p:to>
                                        <p:strVal val="visible"/>
                                      </p:to>
                                    </p:set>
                                    <p:animEffect filter="blinds(horizontal)" transition="in">
                                      <p:cBhvr additive="repl">
                                        <p:cTn id="712" dur="500"/>
                                        <p:tgtEl>
                                          <p:spTgt spid="236">
                                            <p:txEl>
                                              <p:pRg st="3" end="3"/>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717" dur="500"/>
                                        <p:tgtEl>
                                          <p:spTgt spid="236">
                                            <p:txEl>
                                              <p:pRg st="5" end="5"/>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36">
                                            <p:txEl>
                                              <p:pRg st="6" end="6"/>
                                            </p:txEl>
                                          </p:spTgt>
                                        </p:tgtEl>
                                        <p:attrNameLst>
                                          <p:attrName>style.visibility</p:attrName>
                                        </p:attrNameLst>
                                      </p:cBhvr>
                                      <p:to>
                                        <p:strVal val="visible"/>
                                      </p:to>
                                    </p:set>
                                    <p:animEffect filter="blinds(horizontal)" transition="in">
                                      <p:cBhvr additive="repl">
                                        <p:cTn id="722" dur="500"/>
                                        <p:tgtEl>
                                          <p:spTgt spid="236">
                                            <p:txEl>
                                              <p:pRg st="6" end="6"/>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6">
                                            <p:txEl>
                                              <p:pRg st="7" end="7"/>
                                            </p:txEl>
                                          </p:spTgt>
                                        </p:tgtEl>
                                        <p:attrNameLst>
                                          <p:attrName>style.visibility</p:attrName>
                                        </p:attrNameLst>
                                      </p:cBhvr>
                                      <p:to>
                                        <p:strVal val="visible"/>
                                      </p:to>
                                    </p:set>
                                    <p:animEffect filter="blinds(horizontal)" transition="in">
                                      <p:cBhvr additive="repl">
                                        <p:cTn id="727" dur="500"/>
                                        <p:tgtEl>
                                          <p:spTgt spid="236">
                                            <p:txEl>
                                              <p:pRg st="7" end="7"/>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36">
                                            <p:txEl>
                                              <p:pRg st="8" end="8"/>
                                            </p:txEl>
                                          </p:spTgt>
                                        </p:tgtEl>
                                        <p:attrNameLst>
                                          <p:attrName>style.visibility</p:attrName>
                                        </p:attrNameLst>
                                      </p:cBhvr>
                                      <p:to>
                                        <p:strVal val="visible"/>
                                      </p:to>
                                    </p:set>
                                    <p:animEffect filter="blinds(horizontal)" transition="in">
                                      <p:cBhvr additive="repl">
                                        <p:cTn id="73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375C-D7A8-453D-B65F-D40541BC4BB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ثرثا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ستهدف الاستعراض.</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حتمال أنه مثقف جد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متعطش للكلام فقط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رجه أو تسخر من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جه إلیه بعض الاسئلة الصعبة.</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اطعه بلطف وأشرك من حولك .</a:t>
            </a:r>
            <a:endParaRPr b="0" lang="en-US" sz="2400" spc="-1" strike="noStrike">
              <a:solidFill>
                <a:srgbClr val="ffffff"/>
              </a:solidFill>
              <a:latin typeface="Arial"/>
            </a:endParaRPr>
          </a:p>
        </p:txBody>
      </p:sp>
    </p:spTree>
  </p:cSld>
  <p:transition>
    <p:cover dir="ld"/>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39" dur="500"/>
                                        <p:tgtEl>
                                          <p:spTgt spid="239">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44" dur="500"/>
                                        <p:tgtEl>
                                          <p:spTgt spid="239">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49" dur="500"/>
                                        <p:tgtEl>
                                          <p:spTgt spid="239">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754" dur="500"/>
                                        <p:tgtEl>
                                          <p:spTgt spid="239">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759" dur="500"/>
                                        <p:tgtEl>
                                          <p:spTgt spid="239">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764" dur="500"/>
                                        <p:tgtEl>
                                          <p:spTgt spid="239">
                                            <p:txEl>
                                              <p:pRg st="6" end="6"/>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39">
                                            <p:txEl>
                                              <p:pRg st="7" end="7"/>
                                            </p:txEl>
                                          </p:spTgt>
                                        </p:tgtEl>
                                        <p:attrNameLst>
                                          <p:attrName>style.visibility</p:attrName>
                                        </p:attrNameLst>
                                      </p:cBhvr>
                                      <p:to>
                                        <p:strVal val="visible"/>
                                      </p:to>
                                    </p:set>
                                    <p:animEffect filter="blinds(horizontal)" transition="in">
                                      <p:cBhvr additive="repl">
                                        <p:cTn id="769" dur="500"/>
                                        <p:tgtEl>
                                          <p:spTgt spid="239">
                                            <p:txEl>
                                              <p:pRg st="7" end="7"/>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39">
                                            <p:txEl>
                                              <p:pRg st="8" end="8"/>
                                            </p:txEl>
                                          </p:spTgt>
                                        </p:tgtEl>
                                        <p:attrNameLst>
                                          <p:attrName>style.visibility</p:attrName>
                                        </p:attrNameLst>
                                      </p:cBhvr>
                                      <p:to>
                                        <p:strVal val="visible"/>
                                      </p:to>
                                    </p:set>
                                    <p:animEffect filter="blinds(horizontal)" transition="in">
                                      <p:cBhvr additive="repl">
                                        <p:cTn id="774"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C4CF-7C4B-402C-84CF-C68DD092F91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تلعثم:</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حسن شرح أفكار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یحتاج إلى مساعدة</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عد صیاغة كلام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دل افكاره</a:t>
            </a:r>
            <a:endParaRPr b="0" lang="en-US" sz="2400" spc="-1" strike="noStrike">
              <a:solidFill>
                <a:srgbClr val="ffffff"/>
              </a:solidFill>
              <a:latin typeface="Arial"/>
            </a:endParaRPr>
          </a:p>
        </p:txBody>
      </p:sp>
    </p:spTree>
  </p:cSld>
  <p:transition>
    <p:cover dir="ld"/>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81" dur="500"/>
                                        <p:tgtEl>
                                          <p:spTgt spid="24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786" dur="500"/>
                                        <p:tgtEl>
                                          <p:spTgt spid="242">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791" dur="500"/>
                                        <p:tgtEl>
                                          <p:spTgt spid="242">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796" dur="500"/>
                                        <p:tgtEl>
                                          <p:spTgt spid="24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801" dur="500"/>
                                        <p:tgtEl>
                                          <p:spTgt spid="24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80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8066-6B1E-4F4C-898C-D7C0A0EA481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ستق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رید إحراجك بإتخاذ موقف معی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یبحث عن نصیحه</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اول حل مشكلت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خذ موقفا علنیا</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شرك الحضور في المناقشة</a:t>
            </a:r>
            <a:endParaRPr b="0" lang="en-US" sz="2400" spc="-1" strike="noStrike">
              <a:solidFill>
                <a:srgbClr val="ffffff"/>
              </a:solidFill>
              <a:latin typeface="Arial"/>
            </a:endParaRPr>
          </a:p>
        </p:txBody>
      </p:sp>
    </p:spTree>
  </p:cSld>
  <p:transition>
    <p:cover dir="ld"/>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13" dur="500"/>
                                        <p:tgtEl>
                                          <p:spTgt spid="2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818" dur="500"/>
                                        <p:tgtEl>
                                          <p:spTgt spid="2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823" dur="500"/>
                                        <p:tgtEl>
                                          <p:spTgt spid="2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828" dur="500"/>
                                        <p:tgtEl>
                                          <p:spTgt spid="245">
                                            <p:txEl>
                                              <p:pRg st="4" end="4"/>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245">
                                            <p:txEl>
                                              <p:pRg st="5" end="5"/>
                                            </p:txEl>
                                          </p:spTgt>
                                        </p:tgtEl>
                                        <p:attrNameLst>
                                          <p:attrName>style.visibility</p:attrName>
                                        </p:attrNameLst>
                                      </p:cBhvr>
                                      <p:to>
                                        <p:strVal val="visible"/>
                                      </p:to>
                                    </p:set>
                                    <p:animEffect filter="blinds(horizontal)" transition="in">
                                      <p:cBhvr additive="repl">
                                        <p:cTn id="833" dur="500"/>
                                        <p:tgtEl>
                                          <p:spTgt spid="245">
                                            <p:txEl>
                                              <p:pRg st="5" end="5"/>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45">
                                            <p:txEl>
                                              <p:pRg st="6" end="6"/>
                                            </p:txEl>
                                          </p:spTgt>
                                        </p:tgtEl>
                                        <p:attrNameLst>
                                          <p:attrName>style.visibility</p:attrName>
                                        </p:attrNameLst>
                                      </p:cBhvr>
                                      <p:to>
                                        <p:strVal val="visible"/>
                                      </p:to>
                                    </p:set>
                                    <p:animEffect filter="blinds(horizontal)" transition="in">
                                      <p:cBhvr additive="repl">
                                        <p:cTn id="838" dur="500"/>
                                        <p:tgtEl>
                                          <p:spTgt spid="245">
                                            <p:txEl>
                                              <p:pRg st="6" end="6"/>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5">
                                            <p:txEl>
                                              <p:pRg st="7" end="7"/>
                                            </p:txEl>
                                          </p:spTgt>
                                        </p:tgtEl>
                                        <p:attrNameLst>
                                          <p:attrName>style.visibility</p:attrName>
                                        </p:attrNameLst>
                                      </p:cBhvr>
                                      <p:to>
                                        <p:strVal val="visible"/>
                                      </p:to>
                                    </p:set>
                                    <p:animEffect filter="blinds(horizontal)" transition="in">
                                      <p:cBhvr additive="repl">
                                        <p:cTn id="843" dur="500"/>
                                        <p:tgtEl>
                                          <p:spTgt spid="2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2E03-90D9-430E-86F3-2F20228EA32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ند:</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تنازل عن رأی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ستوعب قو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تحیز</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طرح كلامه على الحضور.</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خبره عن ضیق الوقت أو أنك مشغول .</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طلب مناقشته لاحقا .</a:t>
            </a:r>
            <a:endParaRPr b="0" lang="en-US" sz="2400" spc="-1" strike="noStrike">
              <a:solidFill>
                <a:srgbClr val="ffffff"/>
              </a:solidFill>
              <a:latin typeface="Arial"/>
            </a:endParaRPr>
          </a:p>
        </p:txBody>
      </p:sp>
    </p:spTree>
  </p:cSld>
  <p:transition>
    <p:cover dir="ld"/>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850" dur="500"/>
                                        <p:tgtEl>
                                          <p:spTgt spid="248">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855" dur="500"/>
                                        <p:tgtEl>
                                          <p:spTgt spid="248">
                                            <p:txEl>
                                              <p:pRg st="1" end="1"/>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860" dur="500"/>
                                        <p:tgtEl>
                                          <p:spTgt spid="248">
                                            <p:txEl>
                                              <p:pRg st="2" end="2"/>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865" dur="500"/>
                                        <p:tgtEl>
                                          <p:spTgt spid="248">
                                            <p:txEl>
                                              <p:pRg st="3" end="3"/>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870" dur="500"/>
                                        <p:tgtEl>
                                          <p:spTgt spid="248">
                                            <p:txEl>
                                              <p:pRg st="5" end="5"/>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875" dur="500"/>
                                        <p:tgtEl>
                                          <p:spTgt spid="248">
                                            <p:txEl>
                                              <p:pRg st="6" end="6"/>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 presetSubtype="10">
                                  <p:stCondLst>
                                    <p:cond delay="0"/>
                                  </p:stCondLst>
                                  <p:childTnLst>
                                    <p:set>
                                      <p:cBhvr>
                                        <p:cTn id="879"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880" dur="500"/>
                                        <p:tgtEl>
                                          <p:spTgt spid="248">
                                            <p:txEl>
                                              <p:pRg st="7" end="7"/>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248">
                                            <p:txEl>
                                              <p:pRg st="8" end="8"/>
                                            </p:txEl>
                                          </p:spTgt>
                                        </p:tgtEl>
                                        <p:attrNameLst>
                                          <p:attrName>style.visibility</p:attrName>
                                        </p:attrNameLst>
                                      </p:cBhvr>
                                      <p:to>
                                        <p:strVal val="visible"/>
                                      </p:to>
                                    </p:set>
                                    <p:animEffect filter="blinds(horizontal)" transition="in">
                                      <p:cBhvr additive="repl">
                                        <p:cTn id="885"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B6D8-A32F-47A0-B7E2-E5D7E9B53E2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هل هناك فرق بين الرجال والنساء في طريقة الاستماع؟</a:t>
            </a:r>
            <a:endParaRPr b="0" lang="en-US" sz="4000" spc="-1" strike="noStrike">
              <a:solidFill>
                <a:srgbClr val="ffffff"/>
              </a:solidFill>
              <a:latin typeface="Arial"/>
            </a:endParaRPr>
          </a:p>
        </p:txBody>
      </p:sp>
      <p:graphicFrame>
        <p:nvGraphicFramePr>
          <p:cNvPr id="251" name=""/>
          <p:cNvGraphicFramePr/>
          <p:nvPr/>
        </p:nvGraphicFramePr>
        <p:xfrm>
          <a:off x="457200" y="2362320"/>
          <a:ext cx="8229600" cy="3624120"/>
        </p:xfrm>
        <a:graphic>
          <a:graphicData uri="http://schemas.openxmlformats.org/drawingml/2006/table">
            <a:tbl>
              <a:tblPr/>
              <a:tblGrid>
                <a:gridCol w="4114800"/>
                <a:gridCol w="4114800"/>
              </a:tblGrid>
              <a:tr h="90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رأ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رج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2" name="Text Box 34"/>
          <p:cNvSpPr/>
          <p:nvPr/>
        </p:nvSpPr>
        <p:spPr>
          <a:xfrm>
            <a:off x="4825800" y="3429000"/>
            <a:ext cx="37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ل بسرعة من الاستماع</a:t>
            </a:r>
            <a:endParaRPr b="0" lang="en-US" sz="2400" spc="-1" strike="noStrike">
              <a:solidFill>
                <a:srgbClr val="ffffff"/>
              </a:solidFill>
              <a:latin typeface="Arial"/>
            </a:endParaRPr>
          </a:p>
        </p:txBody>
      </p:sp>
      <p:sp>
        <p:nvSpPr>
          <p:cNvPr id="253" name="Rectangle 35"/>
          <p:cNvSpPr/>
          <p:nvPr/>
        </p:nvSpPr>
        <p:spPr>
          <a:xfrm>
            <a:off x="92880" y="3429000"/>
            <a:ext cx="497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ب أن یستمع لها الرجل وینصت</a:t>
            </a:r>
            <a:endParaRPr b="0" lang="en-US" sz="2400" spc="-1" strike="noStrike">
              <a:solidFill>
                <a:srgbClr val="ffffff"/>
              </a:solidFill>
              <a:latin typeface="Arial"/>
            </a:endParaRPr>
          </a:p>
        </p:txBody>
      </p:sp>
      <p:sp>
        <p:nvSpPr>
          <p:cNvPr id="254" name="Rectangle 36"/>
          <p:cNvSpPr/>
          <p:nvPr/>
        </p:nvSpPr>
        <p:spPr>
          <a:xfrm>
            <a:off x="4680360" y="4343400"/>
            <a:ext cx="41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ركز على مصدر واحد فقط</a:t>
            </a:r>
            <a:endParaRPr b="0" lang="en-US" sz="2400" spc="-1" strike="noStrike">
              <a:solidFill>
                <a:srgbClr val="ffffff"/>
              </a:solidFill>
              <a:latin typeface="Arial"/>
            </a:endParaRPr>
          </a:p>
        </p:txBody>
      </p:sp>
      <p:sp>
        <p:nvSpPr>
          <p:cNvPr id="255" name="Rectangle 37"/>
          <p:cNvSpPr/>
          <p:nvPr/>
        </p:nvSpPr>
        <p:spPr>
          <a:xfrm>
            <a:off x="106200" y="4343400"/>
            <a:ext cx="48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كنها أن تستمع لأكثر من مصدر</a:t>
            </a:r>
            <a:endParaRPr b="0" lang="en-US" sz="2400" spc="-1" strike="noStrike">
              <a:solidFill>
                <a:srgbClr val="ffffff"/>
              </a:solidFill>
              <a:latin typeface="Arial"/>
            </a:endParaRPr>
          </a:p>
        </p:txBody>
      </p:sp>
      <p:sp>
        <p:nvSpPr>
          <p:cNvPr id="256" name="Rectangle 38"/>
          <p:cNvSpPr/>
          <p:nvPr/>
        </p:nvSpPr>
        <p:spPr>
          <a:xfrm>
            <a:off x="5348880" y="518148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أخذ الأمور بجدیة</a:t>
            </a:r>
            <a:endParaRPr b="0" lang="en-US" sz="2400" spc="-1" strike="noStrike">
              <a:solidFill>
                <a:srgbClr val="ffffff"/>
              </a:solidFill>
              <a:latin typeface="Arial"/>
            </a:endParaRPr>
          </a:p>
        </p:txBody>
      </p:sp>
      <p:sp>
        <p:nvSpPr>
          <p:cNvPr id="257" name="Rectangle 39"/>
          <p:cNvSpPr/>
          <p:nvPr/>
        </p:nvSpPr>
        <p:spPr>
          <a:xfrm>
            <a:off x="644040" y="5257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هتم بمعاني الكلام كثیرا</a:t>
            </a:r>
            <a:endParaRPr b="0" lang="en-US" sz="2400" spc="-1" strike="noStrike">
              <a:solidFill>
                <a:srgbClr val="ffffff"/>
              </a:solidFill>
              <a:latin typeface="Arial"/>
            </a:endParaRPr>
          </a:p>
        </p:txBody>
      </p:sp>
    </p:spTree>
  </p:cSld>
  <p:transition>
    <p:cover dir="ld"/>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251"/>
                                        </p:tgtEl>
                                        <p:attrNameLst>
                                          <p:attrName>style.visibility</p:attrName>
                                        </p:attrNameLst>
                                      </p:cBhvr>
                                      <p:to>
                                        <p:strVal val="visible"/>
                                      </p:to>
                                    </p:set>
                                    <p:animEffect filter="blinds(horizontal)" transition="in">
                                      <p:cBhvr additive="repl">
                                        <p:cTn id="892" dur="500"/>
                                        <p:tgtEl>
                                          <p:spTgt spid="25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252"/>
                                        </p:tgtEl>
                                        <p:attrNameLst>
                                          <p:attrName>style.visibility</p:attrName>
                                        </p:attrNameLst>
                                      </p:cBhvr>
                                      <p:to>
                                        <p:strVal val="visible"/>
                                      </p:to>
                                    </p:set>
                                    <p:animEffect filter="blinds(horizontal)" transition="in">
                                      <p:cBhvr additive="repl">
                                        <p:cTn id="897" dur="500"/>
                                        <p:tgtEl>
                                          <p:spTgt spid="25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253"/>
                                        </p:tgtEl>
                                        <p:attrNameLst>
                                          <p:attrName>style.visibility</p:attrName>
                                        </p:attrNameLst>
                                      </p:cBhvr>
                                      <p:to>
                                        <p:strVal val="visible"/>
                                      </p:to>
                                    </p:set>
                                    <p:animEffect filter="blinds(horizontal)" transition="in">
                                      <p:cBhvr additive="repl">
                                        <p:cTn id="902" dur="500"/>
                                        <p:tgtEl>
                                          <p:spTgt spid="253"/>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54"/>
                                        </p:tgtEl>
                                        <p:attrNameLst>
                                          <p:attrName>style.visibility</p:attrName>
                                        </p:attrNameLst>
                                      </p:cBhvr>
                                      <p:to>
                                        <p:strVal val="visible"/>
                                      </p:to>
                                    </p:set>
                                    <p:animEffect filter="blinds(horizontal)" transition="in">
                                      <p:cBhvr additive="repl">
                                        <p:cTn id="907" dur="500"/>
                                        <p:tgtEl>
                                          <p:spTgt spid="254"/>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255"/>
                                        </p:tgtEl>
                                        <p:attrNameLst>
                                          <p:attrName>style.visibility</p:attrName>
                                        </p:attrNameLst>
                                      </p:cBhvr>
                                      <p:to>
                                        <p:strVal val="visible"/>
                                      </p:to>
                                    </p:set>
                                    <p:animEffect filter="blinds(horizontal)" transition="in">
                                      <p:cBhvr additive="repl">
                                        <p:cTn id="912" dur="500"/>
                                        <p:tgtEl>
                                          <p:spTgt spid="25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256"/>
                                        </p:tgtEl>
                                        <p:attrNameLst>
                                          <p:attrName>style.visibility</p:attrName>
                                        </p:attrNameLst>
                                      </p:cBhvr>
                                      <p:to>
                                        <p:strVal val="visible"/>
                                      </p:to>
                                    </p:set>
                                    <p:animEffect filter="blinds(horizontal)" transition="in">
                                      <p:cBhvr additive="repl">
                                        <p:cTn id="917" dur="500"/>
                                        <p:tgtEl>
                                          <p:spTgt spid="25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257"/>
                                        </p:tgtEl>
                                        <p:attrNameLst>
                                          <p:attrName>style.visibility</p:attrName>
                                        </p:attrNameLst>
                                      </p:cBhvr>
                                      <p:to>
                                        <p:strVal val="visible"/>
                                      </p:to>
                                    </p:set>
                                    <p:animEffect filter="blinds(horizontal)" transition="in">
                                      <p:cBhvr additive="repl">
                                        <p:cTn id="9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7A18-88F4-4049-B6ED-6078BB8FB3D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ريف الانصات</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هو الاستماع للرسائل اللفظية والتنبة الى التعبيرات اللغوية والحركات الجسدية مع ادراك المعاني والخلوص الى مراد المتحدث والاستجابة الملائمة لرسالتة.</a:t>
            </a:r>
            <a:endParaRPr b="0" lang="en-US" sz="2800" spc="-1" strike="noStrike">
              <a:solidFill>
                <a:srgbClr val="ffffff"/>
              </a:solidFill>
              <a:latin typeface="Arial"/>
            </a:endParaRPr>
          </a:p>
          <a:p>
            <a:pPr marL="322200" indent="-3222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ضح من هذا المفهوم ان الانصات يختلف عن السماع من عدة جوانب: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نصات يتطلب الارادة والجهد</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اع جزء من الانصات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تنبة والتقويم للعبارات عكس السماع</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انتباة للحركات والاشارات غير اللفظية المصاحبة للحدي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جابة مطلوبة في الانصات</a:t>
            </a:r>
            <a:endParaRPr b="0" lang="en-US" sz="2400" spc="-1" strike="noStrike">
              <a:solidFill>
                <a:srgbClr val="ffffff"/>
              </a:solidFill>
              <a:latin typeface="Arial"/>
            </a:endParaRPr>
          </a:p>
        </p:txBody>
      </p:sp>
    </p:spTree>
  </p:cSld>
  <p:transition>
    <p:cover dir="l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44" dur="5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49" dur="500"/>
                                        <p:tgtEl>
                                          <p:spTgt spid="1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4" dur="500"/>
                                        <p:tgtEl>
                                          <p:spTgt spid="17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 dur="500"/>
                                        <p:tgtEl>
                                          <p:spTgt spid="17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64" dur="500"/>
                                        <p:tgtEl>
                                          <p:spTgt spid="17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9" dur="500"/>
                                        <p:tgtEl>
                                          <p:spTgt spid="172">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7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757B-CEEF-4F04-AC49-446E90362C4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p:nvPr>
        </p:nvSpPr>
        <p:spPr>
          <a:xfrm>
            <a:off x="457200" y="2743200"/>
            <a:ext cx="8229600" cy="83808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endParaRPr b="0" lang="en-US" sz="4000" spc="-1" strike="noStrike">
              <a:solidFill>
                <a:srgbClr val="ffffff"/>
              </a:solidFill>
              <a:latin typeface="Arial"/>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F6ED-F84E-427E-9C08-17ABE46706C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2" name="PlaceHolder 2"/>
          <p:cNvSpPr>
            <a:spLocks noGrp="1"/>
          </p:cNvSpPr>
          <p:nvPr>
            <p:ph/>
          </p:nvPr>
        </p:nvSpPr>
        <p:spPr>
          <a:xfrm>
            <a:off x="609120" y="1599840"/>
            <a:ext cx="8077320" cy="4530600"/>
          </a:xfrm>
          <a:prstGeom prst="rect">
            <a:avLst/>
          </a:prstGeom>
          <a:noFill/>
          <a:ln w="0">
            <a:noFill/>
          </a:ln>
        </p:spPr>
        <p:txBody>
          <a:bodyPr anchor="t">
            <a:normAutofit fontScale="98000"/>
          </a:bodyPr>
          <a:p>
            <a:pPr marL="335880" indent="-3358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قراءة:</a:t>
            </a:r>
            <a:endParaRPr b="0" lang="en-US" sz="28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اءة مهارة، وهي فعل بصري صوتي أو صامت يستخدمه الإنسان لكي يفهم ويعبر، ويؤثّر في الآخرين.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قراءة جهرية</a:t>
            </a:r>
            <a:r>
              <a:rPr b="0" lang="ar-SA" sz="2400" spc="-1" strike="noStrike">
                <a:solidFill>
                  <a:srgbClr val="ffffff"/>
                </a:solidFill>
                <a:latin typeface="Arial"/>
                <a:ea typeface="Arial"/>
              </a:rPr>
              <a:t> أو </a:t>
            </a:r>
            <a:r>
              <a:rPr b="0" lang="ar-SA" sz="2400" spc="-1" strike="noStrike">
                <a:solidFill>
                  <a:srgbClr val="ffffff"/>
                </a:solidFill>
                <a:latin typeface="Arial"/>
              </a:rPr>
              <a:t>صامتة</a:t>
            </a:r>
            <a:r>
              <a:rPr b="0" lang="ar-SA" sz="2400" spc="-1" strike="noStrike">
                <a:solidFill>
                  <a:srgbClr val="ffffff"/>
                </a:solidFill>
                <a:latin typeface="Arial"/>
                <a:ea typeface="Arial"/>
              </a:rPr>
              <a:t> و</a:t>
            </a:r>
            <a:r>
              <a:rPr b="0" lang="ar-SA" sz="2400" spc="-1" strike="noStrike">
                <a:solidFill>
                  <a:srgbClr val="ffffff"/>
                </a:solidFill>
                <a:latin typeface="Arial"/>
              </a:rPr>
              <a:t>بطيئة أو سريعة. </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خدم القراءة </a:t>
            </a:r>
            <a:r>
              <a:rPr b="0" lang="ar-SA" sz="2400" spc="-1" strike="noStrike">
                <a:solidFill>
                  <a:srgbClr val="ffffff"/>
                </a:solidFill>
                <a:latin typeface="Arial"/>
              </a:rPr>
              <a:t>الصامتة للفهم</a:t>
            </a:r>
            <a:r>
              <a:rPr b="0" lang="ar-SA" sz="2400" spc="-1" strike="noStrike">
                <a:solidFill>
                  <a:srgbClr val="ffffff"/>
                </a:solidFill>
                <a:latin typeface="Arial"/>
                <a:ea typeface="Arial"/>
              </a:rPr>
              <a:t>...</a:t>
            </a:r>
            <a:r>
              <a:rPr b="0" lang="ar-SA" sz="2400" spc="-1" strike="noStrike">
                <a:solidFill>
                  <a:srgbClr val="ffffff"/>
                </a:solidFill>
                <a:latin typeface="Arial"/>
              </a:rPr>
              <a:t> </a:t>
            </a:r>
            <a:r>
              <a:rPr b="0" lang="ar-SA" sz="2400" spc="-1" strike="noStrike">
                <a:solidFill>
                  <a:srgbClr val="ffffff"/>
                </a:solidFill>
                <a:latin typeface="Arial"/>
                <a:cs typeface="Arial"/>
              </a:rPr>
              <a:t>اما...</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a:t>
            </a:r>
            <a:r>
              <a:rPr b="0" lang="ar-SA" sz="2400" spc="-1" strike="noStrike">
                <a:solidFill>
                  <a:srgbClr val="ffffff"/>
                </a:solidFill>
                <a:latin typeface="Arial"/>
              </a:rPr>
              <a:t>الجهرية</a:t>
            </a:r>
            <a:r>
              <a:rPr b="0" lang="ar-SA" sz="2400" spc="-1" strike="noStrike">
                <a:solidFill>
                  <a:srgbClr val="ffffff"/>
                </a:solidFill>
                <a:latin typeface="Arial"/>
                <a:cs typeface="Arial"/>
              </a:rPr>
              <a:t>، ت</a:t>
            </a:r>
            <a:r>
              <a:rPr b="0" lang="ar-SA" sz="2400" spc="-1" strike="noStrike">
                <a:solidFill>
                  <a:srgbClr val="ffffff"/>
                </a:solidFill>
                <a:latin typeface="Arial"/>
              </a:rPr>
              <a:t>ستخدم للاتصال بالآخرين والتأثير فيهم، </a:t>
            </a:r>
            <a:endParaRPr b="0" lang="en-US" sz="2400" spc="-1" strike="noStrike">
              <a:solidFill>
                <a:srgbClr val="ffffff"/>
              </a:solidFill>
              <a:latin typeface="Arial"/>
            </a:endParaRPr>
          </a:p>
          <a:p>
            <a:pPr lvl="2" marL="111996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وهي لذلك تحتاج إلى حركات الأيدي و</a:t>
            </a:r>
            <a:r>
              <a:rPr b="0" lang="ar-SA" sz="2400" spc="-1" strike="noStrike">
                <a:solidFill>
                  <a:srgbClr val="ffffff"/>
                </a:solidFill>
                <a:latin typeface="Arial"/>
                <a:ea typeface="Arial"/>
              </a:rPr>
              <a:t> </a:t>
            </a:r>
            <a:r>
              <a:rPr b="0" lang="ar-SA" sz="2400" spc="-1" strike="noStrike">
                <a:solidFill>
                  <a:srgbClr val="ffffff"/>
                </a:solidFill>
                <a:latin typeface="Arial"/>
              </a:rPr>
              <a:t>تعابير الوجه والتنويع في الصوت، والشدّ علـى مخارج الحروف. </a:t>
            </a: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ضمن مفهوم القراءة الأداء اللفظي السليم، وفهم القار</a:t>
            </a:r>
            <a:r>
              <a:rPr b="0" lang="ar-SA" sz="2400" spc="-1" strike="noStrike">
                <a:solidFill>
                  <a:srgbClr val="ffffff"/>
                </a:solidFill>
                <a:latin typeface="Arial"/>
                <a:cs typeface="Arial"/>
              </a:rPr>
              <a:t>ئ</a:t>
            </a:r>
            <a:r>
              <a:rPr b="0" lang="ar-SA" sz="2400" spc="-1" strike="noStrike">
                <a:solidFill>
                  <a:srgbClr val="ffffff"/>
                </a:solidFill>
                <a:latin typeface="Arial"/>
              </a:rPr>
              <a:t> لما يقرأ .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929" dur="500"/>
                                        <p:tgtEl>
                                          <p:spTgt spid="26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934" dur="500"/>
                                        <p:tgtEl>
                                          <p:spTgt spid="262">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939" dur="500"/>
                                        <p:tgtEl>
                                          <p:spTgt spid="262">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944" dur="500"/>
                                        <p:tgtEl>
                                          <p:spTgt spid="262">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949" dur="500"/>
                                        <p:tgtEl>
                                          <p:spTgt spid="262">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954" dur="500"/>
                                        <p:tgtEl>
                                          <p:spTgt spid="262">
                                            <p:txEl>
                                              <p:pRg st="6" end="6"/>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959"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8EEB-7469-41A3-A21B-80F3F5A1310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همية القراء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a:t>
            </a:r>
            <a:r>
              <a:rPr b="0" lang="ar-SA" sz="2400" spc="-1" strike="noStrike">
                <a:solidFill>
                  <a:srgbClr val="ffffff"/>
                </a:solidFill>
                <a:latin typeface="Arial"/>
              </a:rPr>
              <a:t>لقراءة ذات أهمية كبيرة في حياة الإنسان، فهي العامل الأساسي في اكتساب الخبرات والمعارف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a:t>
            </a:r>
            <a:r>
              <a:rPr b="0" lang="ar-SA" sz="2400" spc="-1" strike="noStrike">
                <a:solidFill>
                  <a:srgbClr val="ffffff"/>
                </a:solidFill>
                <a:latin typeface="Arial"/>
                <a:cs typeface="Arial"/>
              </a:rPr>
              <a:t>ال</a:t>
            </a:r>
            <a:r>
              <a:rPr b="0" lang="ar-SA" sz="2400" spc="-1" strike="noStrike">
                <a:solidFill>
                  <a:srgbClr val="ffffff"/>
                </a:solidFill>
                <a:latin typeface="Arial"/>
              </a:rPr>
              <a:t>حكمة تقول: إن الشخص الذي لا يقرأ ليس أفضل حالاً من الشخص الذي لا يعرف</a:t>
            </a:r>
            <a:r>
              <a:rPr b="0" lang="en-US" sz="2400" spc="-1" strike="noStrike">
                <a:solidFill>
                  <a:srgbClr val="ffffff"/>
                </a:solidFill>
                <a:latin typeface="Arial"/>
              </a:rPr>
              <a:t> </a:t>
            </a:r>
            <a:r>
              <a:rPr b="0" lang="ar-SA" sz="2400" spc="-1" strike="noStrike">
                <a:solidFill>
                  <a:srgbClr val="ffffff"/>
                </a:solidFill>
                <a:latin typeface="Arial"/>
              </a:rPr>
              <a:t>كيف يقرأ ؟</a:t>
            </a:r>
            <a:endParaRPr b="0" lang="en-US" sz="2400" spc="-1" strike="noStrike">
              <a:solidFill>
                <a:srgbClr val="ffffff"/>
              </a:solidFill>
              <a:latin typeface="Arial"/>
            </a:endParaRPr>
          </a:p>
        </p:txBody>
      </p:sp>
    </p:spTree>
  </p:cSld>
  <p:transition>
    <p:cover dir="ld"/>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966" dur="500"/>
                                        <p:tgtEl>
                                          <p:spTgt spid="265">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971" dur="500"/>
                                        <p:tgtEl>
                                          <p:spTgt spid="265">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976"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D2DE-81AF-4F0C-9EB5-BE8DC6BEA1B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علومة</a:t>
            </a: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ي القراءة تتداخل ثلاث عناصر للوصول الى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عنى الذهن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لفظ الذي تؤدي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رمز المكتوب</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م القراءة على ثلاث مراح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رور العين على النص المكتو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فسير الكتاب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نتاج المعاني</a:t>
            </a:r>
            <a:endParaRPr b="0" lang="en-US" sz="2400" spc="-1" strike="noStrike">
              <a:solidFill>
                <a:srgbClr val="ffffff"/>
              </a:solidFill>
              <a:latin typeface="Arial"/>
            </a:endParaRPr>
          </a:p>
        </p:txBody>
      </p:sp>
    </p:spTree>
  </p:cSld>
  <p:transition>
    <p:cover dir="ld"/>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983" dur="500"/>
                                        <p:tgtEl>
                                          <p:spTgt spid="26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988" dur="500"/>
                                        <p:tgtEl>
                                          <p:spTgt spid="26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993" dur="500"/>
                                        <p:tgtEl>
                                          <p:spTgt spid="26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998" dur="500"/>
                                        <p:tgtEl>
                                          <p:spTgt spid="26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003" dur="500"/>
                                        <p:tgtEl>
                                          <p:spTgt spid="26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008" dur="500"/>
                                        <p:tgtEl>
                                          <p:spTgt spid="26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013" dur="500"/>
                                        <p:tgtEl>
                                          <p:spTgt spid="26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1018" dur="5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9885-AF1C-45C8-A939-AFD2CB5E4AC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يح العناية بتحليل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ذلك باعادة النظر والتأمل في النص المكتوب كلة وتحليلة من غير ان تهمل منة كلمة وهو ما لا يتأتى اثناء الاستماع للرسائل الصوتية احيانا.</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نها مجردة من مؤثرات الاتصال اللفظ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الرسالة المكتوبة محكومة بدقة الكلمات وبلاغتها و وضوح معانيها، مجردة من مؤثرات الصوت او الاداء الذي قد يوجه التأثير في الاتصال الصوتي الى حد كبير. </a:t>
            </a:r>
            <a:endParaRPr b="0" lang="en-US" sz="2400" spc="-1" strike="noStrike">
              <a:solidFill>
                <a:srgbClr val="ffffff"/>
              </a:solidFill>
              <a:latin typeface="Arial"/>
            </a:endParaRPr>
          </a:p>
        </p:txBody>
      </p:sp>
    </p:spTree>
  </p:cSld>
  <p:transition>
    <p:cover dir="ld"/>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025" dur="500"/>
                                        <p:tgtEl>
                                          <p:spTgt spid="271">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030" dur="500"/>
                                        <p:tgtEl>
                                          <p:spTgt spid="271">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1035" dur="500"/>
                                        <p:tgtEl>
                                          <p:spTgt spid="271">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childTnLst>
                                    <p:set>
                                      <p:cBhvr>
                                        <p:cTn id="1039"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1040"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CCA8-F34C-461B-9B7E-28F51B3A5A6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ثبات الرسال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كن الرجوع اليها في كل وقت وتأجيل الاطلاع عليها الى الوقت الانسب دون تغيير او تحريف.</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اج الى التعل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هارة لا تتأتى للاميين او غير المتعلمين</a:t>
            </a:r>
            <a:endParaRPr b="0" lang="en-US" sz="2400" spc="-1" strike="noStrike">
              <a:solidFill>
                <a:srgbClr val="ffffff"/>
              </a:solidFill>
              <a:latin typeface="Arial"/>
            </a:endParaRPr>
          </a:p>
        </p:txBody>
      </p:sp>
    </p:spTree>
  </p:cSld>
  <p:transition>
    <p:cover dir="ld"/>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047" dur="500"/>
                                        <p:tgtEl>
                                          <p:spTgt spid="274">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052" dur="500"/>
                                        <p:tgtEl>
                                          <p:spTgt spid="274">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057" dur="500"/>
                                        <p:tgtEl>
                                          <p:spTgt spid="274">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1062"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F784-68CB-4755-9EA0-8E8CB2ABA48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غة المادة المقرو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قد تكون المادة مكتوبة بلغة سهلة واضحة او بلغة صعبة لا يفهمها إلا المتخصص وقد تكون ضعيفة غير مترابطة ويصعب فهمها وقد تستعمل فيها مصطلحات ورموز متخصصة ينبغي الكشف عنها في المعاجم والكتب المتخصصة.  </a:t>
            </a:r>
            <a:endParaRPr b="0" lang="en-US" sz="2400" spc="-1" strike="noStrike">
              <a:solidFill>
                <a:srgbClr val="ffffff"/>
              </a:solidFill>
              <a:latin typeface="Arial"/>
            </a:endParaRPr>
          </a:p>
          <a:p>
            <a:pPr marL="312120" indent="-31212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غرض من القرا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من اجل الحصول على معلومة محددة: يحسن في هذا النوع استعمال 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م والاستيعاب: يقرأ فيها بعناية ومراجعة </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نقدية: تحتاج الى تأمل مع تحليل ومعرفة سابقة بمجال المقروء</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للمتعة: كقراءة الروايات والقصص.</a:t>
            </a:r>
            <a:endParaRPr b="0" lang="en-US" sz="2400" spc="-1" strike="noStrike">
              <a:solidFill>
                <a:srgbClr val="ffffff"/>
              </a:solidFill>
              <a:latin typeface="Arial"/>
            </a:endParaRPr>
          </a:p>
        </p:txBody>
      </p:sp>
    </p:spTree>
  </p:cSld>
  <p:transition>
    <p:cover dir="ld"/>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069" dur="500"/>
                                        <p:tgtEl>
                                          <p:spTgt spid="277">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74" dur="500"/>
                                        <p:tgtEl>
                                          <p:spTgt spid="277">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079" dur="500"/>
                                        <p:tgtEl>
                                          <p:spTgt spid="277">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084" dur="500"/>
                                        <p:tgtEl>
                                          <p:spTgt spid="277">
                                            <p:txEl>
                                              <p:pRg st="3" end="3"/>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1089" dur="500"/>
                                        <p:tgtEl>
                                          <p:spTgt spid="277">
                                            <p:txEl>
                                              <p:pRg st="4" end="4"/>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277">
                                            <p:txEl>
                                              <p:pRg st="5" end="5"/>
                                            </p:txEl>
                                          </p:spTgt>
                                        </p:tgtEl>
                                        <p:attrNameLst>
                                          <p:attrName>style.visibility</p:attrName>
                                        </p:attrNameLst>
                                      </p:cBhvr>
                                      <p:to>
                                        <p:strVal val="visible"/>
                                      </p:to>
                                    </p:set>
                                    <p:animEffect filter="blinds(horizontal)" transition="in">
                                      <p:cBhvr additive="repl">
                                        <p:cTn id="1094" dur="500"/>
                                        <p:tgtEl>
                                          <p:spTgt spid="277">
                                            <p:txEl>
                                              <p:pRg st="5" end="5"/>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277">
                                            <p:txEl>
                                              <p:pRg st="6" end="6"/>
                                            </p:txEl>
                                          </p:spTgt>
                                        </p:tgtEl>
                                        <p:attrNameLst>
                                          <p:attrName>style.visibility</p:attrName>
                                        </p:attrNameLst>
                                      </p:cBhvr>
                                      <p:to>
                                        <p:strVal val="visible"/>
                                      </p:to>
                                    </p:set>
                                    <p:animEffect filter="blinds(horizontal)" transition="in">
                                      <p:cBhvr additive="repl">
                                        <p:cTn id="1099"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CCD7-0A7A-4886-A34B-84FC43D4BB6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تعليمية والثقاف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لما زاد علم القارئ واتسعت ثقافتة و زادت ثروتة اللغوية كلما كانت مهارتة في القراءة وتحليل ما يقرأ اعظم.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نفس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تاج القارئ الى نشاط الذهن وحضور العقل أثناء قراءتة، فشرود الذهن والخمول والارهاق كلها تقلل الاستيعاب وتجعل القارئ يمر على السطور دون وعي.   </a:t>
            </a:r>
            <a:endParaRPr b="0" lang="en-US" sz="2400" spc="-1" strike="noStrike">
              <a:solidFill>
                <a:srgbClr val="ffffff"/>
              </a:solidFill>
              <a:latin typeface="Arial"/>
            </a:endParaRPr>
          </a:p>
        </p:txBody>
      </p:sp>
    </p:spTree>
  </p:cSld>
  <p:transition>
    <p:cover dir="ld"/>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106" dur="500"/>
                                        <p:tgtEl>
                                          <p:spTgt spid="280">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111" dur="500"/>
                                        <p:tgtEl>
                                          <p:spTgt spid="280">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116" dur="500"/>
                                        <p:tgtEl>
                                          <p:spTgt spid="280">
                                            <p:txEl>
                                              <p:pRg st="3" end="3"/>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121"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BD24-4B14-4EF9-8B58-3F23D2F428E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بي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تحتاج الى هدوء وراحة، ويؤثر فيها ما حول القارئ من إضاءة وضجيج وحرارة وبرودة كما يؤثر فيها نوع المادة التي كتب عليها المقروء</a:t>
            </a: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حيث جودتة و وضوح خطة سواء اكان المكتوب علية آلة الكترونية ام ورقآ.  </a:t>
            </a:r>
            <a:endParaRPr b="0" lang="en-US" sz="2400" spc="-1" strike="noStrike">
              <a:solidFill>
                <a:srgbClr val="ffffff"/>
              </a:solidFill>
              <a:latin typeface="Arial"/>
            </a:endParaRPr>
          </a:p>
        </p:txBody>
      </p:sp>
    </p:spTree>
  </p:cSld>
  <p:transition>
    <p:cover dir="ld"/>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128" dur="500"/>
                                        <p:tgtEl>
                                          <p:spTgt spid="283">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133" dur="500"/>
                                        <p:tgtEl>
                                          <p:spTgt spid="283">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113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C543-0D19-45E5-9365-CB83C1EEBA0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راءة الاستكشاف او المسح:</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يُستعمل في طلب معلومة يريدها القارئ فلا ينظر الى سواها في اثناء مرورة السريع على النص ويستعمل هذا النوع من القراءة غالبا في البحث في المراجع والمعاجم.</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هذا الاسلوب من القراءة استحضار صورة المعلومة وهيئتها وفهم طريقة الصف وتنسيق الاخراج واساليب عرض المعلومات في الكتاب،</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نى القارئ عند المرور على الاشكال المشابهة لها ويمر سريعا على ما سواها دون توقف او تاني للوصول للهدف</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بغي التركيز على هدف المعلومة دون الالتفات لغيرها لان كثير من القراء قد يستطردون مع معلومات الكتاب الممتعة وينصرفون عن البحث الى قراءة الكتاب مما يضيع عليهم الوقت.</a:t>
            </a:r>
            <a:endParaRPr b="0" lang="en-US" sz="2400" spc="-1" strike="noStrike">
              <a:solidFill>
                <a:srgbClr val="ffffff"/>
              </a:solidFill>
              <a:latin typeface="Arial"/>
            </a:endParaRPr>
          </a:p>
        </p:txBody>
      </p:sp>
    </p:spTree>
  </p:cSld>
  <p:transition>
    <p:cover dir="ld"/>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1143" dur="500"/>
                                        <p:tgtEl>
                                          <p:spTgt spid="286">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1148" dur="500"/>
                                        <p:tgtEl>
                                          <p:spTgt spid="286">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1153" dur="500"/>
                                        <p:tgtEl>
                                          <p:spTgt spid="286">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1158" dur="500"/>
                                        <p:tgtEl>
                                          <p:spTgt spid="286">
                                            <p:txEl>
                                              <p:pRg st="3" end="3"/>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116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29BF-CA6F-408E-815E-CD74660FDE7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5" name="PlaceHolder 2"/>
          <p:cNvSpPr>
            <a:spLocks noGrp="1"/>
          </p:cNvSpPr>
          <p:nvPr>
            <p:ph/>
          </p:nvPr>
        </p:nvSpPr>
        <p:spPr>
          <a:xfrm>
            <a:off x="609120" y="1599840"/>
            <a:ext cx="807732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انصات الجيد لدى الطالب وكيفية استقبالة لرسائل المعلم من اهم مقومات التعلم.</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خذ الانصات اشكالا مختلفة في المؤسسات وبيئة العمل مثل:</a:t>
            </a:r>
            <a:endParaRPr b="0" lang="en-US" sz="24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المقابلات، تلقي التوجيهات، الاجتماعات، التفاوض، المحادثات) </a:t>
            </a:r>
            <a:endParaRPr b="0" lang="en-US" sz="20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هذا يجعل مهارة الانصات من الاولويات التي يحرص عليها الموظف لا سيما موظفي الخطوط الامامية في خدمة العملاء ومراكز الاتصال وغيرهم من اصحاب الوظائف التي تعد مهارة الاتصال امرا اساسيا فيها. </a:t>
            </a:r>
            <a:endParaRPr b="0" lang="en-US" sz="20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81" dur="500"/>
                                        <p:tgtEl>
                                          <p:spTgt spid="1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86" dur="500"/>
                                        <p:tgtEl>
                                          <p:spTgt spid="1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91" dur="500"/>
                                        <p:tgtEl>
                                          <p:spTgt spid="17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96"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097-5382-45DA-89F9-F7370E2C8D9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تصفحية:</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عمل للحصول على الصورة او الفهم العام للنص وللقراءة التصفحية ينصح بما يلي:</a:t>
            </a:r>
            <a:endParaRPr b="0" lang="en-US" sz="2400" spc="-1" strike="noStrike">
              <a:solidFill>
                <a:srgbClr val="ffffff"/>
              </a:solidFill>
              <a:latin typeface="Arial"/>
            </a:endParaRPr>
          </a:p>
          <a:p>
            <a:pPr lvl="2" marL="1051560" indent="-21024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قراءة مقدمة النص ويبين فيها الكاتب غالبا الهدف من الكتابة والدافع لها والنهج فيها</a:t>
            </a:r>
            <a:endParaRPr b="0" lang="en-US" sz="2400" spc="-1" strike="noStrike">
              <a:solidFill>
                <a:srgbClr val="ffffff"/>
              </a:solidFill>
              <a:latin typeface="Arial"/>
            </a:endParaRPr>
          </a:p>
          <a:p>
            <a:pPr lvl="2" marL="1051560" indent="-21024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رس: من اجل الاطلاع على موضوعات الكتاب ومعرفة موضوعة الرئيسي</a:t>
            </a:r>
            <a:endParaRPr b="0" lang="en-US" sz="2400" spc="-1" strike="noStrike">
              <a:solidFill>
                <a:srgbClr val="ffffff"/>
              </a:solidFill>
              <a:latin typeface="Arial"/>
            </a:endParaRPr>
          </a:p>
          <a:p>
            <a:pPr lvl="2" marL="1051560" indent="-21024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فقرة او فقرتين من اهم الفصول والاطلاع على بعض موضوعات الكتاب من اجل تكوين راي عن المكتوب</a:t>
            </a:r>
            <a:endParaRPr b="0" lang="en-US" sz="2400" spc="-1" strike="noStrike">
              <a:solidFill>
                <a:srgbClr val="ffffff"/>
              </a:solidFill>
              <a:latin typeface="Arial"/>
            </a:endParaRPr>
          </a:p>
          <a:p>
            <a:pPr lvl="2" marL="1051560" indent="-21024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عض الكتاب يضع ملخصا عاما في الخاتمة او ملخصات مختصرة في نهايات الفصول او بداياتها والاطلاع عليها مفيد جدا للقراءة التصفحية.</a:t>
            </a:r>
            <a:endParaRPr b="0" lang="en-US" sz="2400" spc="-1" strike="noStrike">
              <a:solidFill>
                <a:srgbClr val="ffffff"/>
              </a:solidFill>
              <a:latin typeface="Arial"/>
            </a:endParaRPr>
          </a:p>
        </p:txBody>
      </p:sp>
    </p:spTree>
  </p:cSld>
  <p:transition>
    <p:cover dir="l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170" dur="500"/>
                                        <p:tgtEl>
                                          <p:spTgt spid="289">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175" dur="500"/>
                                        <p:tgtEl>
                                          <p:spTgt spid="289">
                                            <p:txEl>
                                              <p:pRg st="1" end="1"/>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180" dur="500"/>
                                        <p:tgtEl>
                                          <p:spTgt spid="289">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185" dur="500"/>
                                        <p:tgtEl>
                                          <p:spTgt spid="289">
                                            <p:txEl>
                                              <p:pRg st="3" end="3"/>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190" dur="500"/>
                                        <p:tgtEl>
                                          <p:spTgt spid="289">
                                            <p:txEl>
                                              <p:pRg st="4" end="4"/>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1195"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15E3-424E-42C9-B828-2EF008732CD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دراسية:</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ن اهم انواع القراءة، فهى لا تهدف إلى تكوين فكرة عامة او البحث عن معلومة معينة فحسب بل إلى فهم محتوى الكتاب واستيعابه.</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الخطوات الخمس للقراءة الدراسية:</a:t>
            </a:r>
            <a:endParaRPr b="0" lang="en-US" sz="2400" spc="-1" strike="noStrike">
              <a:solidFill>
                <a:srgbClr val="ffffff"/>
              </a:solidFill>
              <a:latin typeface="Arial"/>
            </a:endParaRPr>
          </a:p>
          <a:p>
            <a:pPr lvl="2" marL="1062720" indent="-2124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اولى:</a:t>
            </a:r>
            <a:r>
              <a:rPr b="1" lang="ar-SA" sz="2400" spc="-1" strike="noStrike" u="sng">
                <a:solidFill>
                  <a:srgbClr val="ffffff"/>
                </a:solidFill>
                <a:uFillTx/>
                <a:latin typeface="Arial"/>
                <a:ea typeface="Arial"/>
              </a:rPr>
              <a:t> استطلع</a:t>
            </a:r>
            <a:r>
              <a:rPr b="1" lang="ar-SA" sz="2400" spc="-1" strike="noStrike">
                <a:solidFill>
                  <a:srgbClr val="ffffff"/>
                </a:solidFill>
                <a:latin typeface="Arial"/>
                <a:ea typeface="Arial"/>
              </a:rPr>
              <a:t> </a:t>
            </a:r>
            <a:r>
              <a:rPr b="0" lang="ar-SA" sz="2400" spc="-1" strike="noStrike">
                <a:solidFill>
                  <a:srgbClr val="ffffff"/>
                </a:solidFill>
                <a:latin typeface="Arial"/>
                <a:cs typeface="Arial"/>
              </a:rPr>
              <a:t>وتعني المرور على المادة العلمية لتصورها بطريقة التصفح كما في الاسلوب السابق. </a:t>
            </a:r>
            <a:endParaRPr b="0" lang="en-US" sz="2400" spc="-1" strike="noStrike">
              <a:solidFill>
                <a:srgbClr val="ffffff"/>
              </a:solidFill>
              <a:latin typeface="Arial"/>
            </a:endParaRPr>
          </a:p>
          <a:p>
            <a:pPr lvl="2" marL="1062720" indent="-2124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نية: </a:t>
            </a:r>
            <a:r>
              <a:rPr b="1" lang="ar-SA" sz="2400" spc="-1" strike="noStrike" u="sng">
                <a:solidFill>
                  <a:srgbClr val="ffffff"/>
                </a:solidFill>
                <a:uFillTx/>
                <a:latin typeface="Arial"/>
                <a:cs typeface="Arial"/>
              </a:rPr>
              <a:t>اسأل </a:t>
            </a:r>
            <a:r>
              <a:rPr b="0" lang="ar-SA" sz="2400" spc="-1" strike="noStrike">
                <a:solidFill>
                  <a:srgbClr val="ffffff"/>
                </a:solidFill>
                <a:latin typeface="Arial"/>
                <a:cs typeface="Arial"/>
              </a:rPr>
              <a:t>ضع اسئلة تجيب عنها قراءتك للكتاب.</a:t>
            </a:r>
            <a:endParaRPr b="0" lang="en-US" sz="2400" spc="-1" strike="noStrike">
              <a:solidFill>
                <a:srgbClr val="ffffff"/>
              </a:solidFill>
              <a:latin typeface="Arial"/>
            </a:endParaRPr>
          </a:p>
          <a:p>
            <a:pPr lvl="2" marL="1062720" indent="-2124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لثة: </a:t>
            </a:r>
            <a:r>
              <a:rPr b="1" lang="ar-SA" sz="2400" spc="-1" strike="noStrike" u="sng">
                <a:solidFill>
                  <a:srgbClr val="ffffff"/>
                </a:solidFill>
                <a:uFillTx/>
                <a:latin typeface="Arial"/>
                <a:cs typeface="Arial"/>
              </a:rPr>
              <a:t>اقراء</a:t>
            </a:r>
            <a:r>
              <a:rPr b="0" lang="ar-SA" sz="2400" spc="-1" strike="noStrike">
                <a:solidFill>
                  <a:srgbClr val="ffffff"/>
                </a:solidFill>
                <a:latin typeface="Arial"/>
                <a:ea typeface="Arial"/>
              </a:rPr>
              <a:t> بعد ان تصورت المنهج و وضعت الاسئلة قم بقراءة الكتاب وابحث عن اجابة لاسئلتك. في اثناء قراءتك حاول ان تاتي بامثلة وشواهد على افكار الكتاب وملاحظاتة. لخص ما قرأتة باسلوبك.</a:t>
            </a:r>
            <a:endParaRPr b="0" lang="en-US" sz="2400" spc="-1" strike="noStrike">
              <a:solidFill>
                <a:srgbClr val="ffffff"/>
              </a:solidFill>
              <a:latin typeface="Arial"/>
            </a:endParaRPr>
          </a:p>
        </p:txBody>
      </p:sp>
    </p:spTree>
  </p:cSld>
  <p:transition>
    <p:cover dir="ld"/>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202" dur="500"/>
                                        <p:tgtEl>
                                          <p:spTgt spid="292">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207" dur="500"/>
                                        <p:tgtEl>
                                          <p:spTgt spid="292">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1212" dur="500"/>
                                        <p:tgtEl>
                                          <p:spTgt spid="292">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92">
                                            <p:txEl>
                                              <p:pRg st="3" end="3"/>
                                            </p:txEl>
                                          </p:spTgt>
                                        </p:tgtEl>
                                        <p:attrNameLst>
                                          <p:attrName>style.visibility</p:attrName>
                                        </p:attrNameLst>
                                      </p:cBhvr>
                                      <p:to>
                                        <p:strVal val="visible"/>
                                      </p:to>
                                    </p:set>
                                    <p:animEffect filter="blinds(horizontal)" transition="in">
                                      <p:cBhvr additive="repl">
                                        <p:cTn id="1217" dur="500"/>
                                        <p:tgtEl>
                                          <p:spTgt spid="292">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1222" dur="500"/>
                                        <p:tgtEl>
                                          <p:spTgt spid="292">
                                            <p:txEl>
                                              <p:pRg st="4" end="4"/>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92">
                                            <p:txEl>
                                              <p:pRg st="5" end="5"/>
                                            </p:txEl>
                                          </p:spTgt>
                                        </p:tgtEl>
                                        <p:attrNameLst>
                                          <p:attrName>style.visibility</p:attrName>
                                        </p:attrNameLst>
                                      </p:cBhvr>
                                      <p:to>
                                        <p:strVal val="visible"/>
                                      </p:to>
                                    </p:set>
                                    <p:animEffect filter="blinds(horizontal)" transition="in">
                                      <p:cBhvr additive="repl">
                                        <p:cTn id="1227"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E99F-347B-44C5-BC7A-7B7A4883025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رابعة: </a:t>
            </a:r>
            <a:r>
              <a:rPr b="1" lang="ar-SA" sz="2400" spc="-1" strike="noStrike" u="sng">
                <a:solidFill>
                  <a:srgbClr val="ffffff"/>
                </a:solidFill>
                <a:uFillTx/>
                <a:latin typeface="Arial"/>
                <a:cs typeface="Arial"/>
              </a:rPr>
              <a:t>استذكر </a:t>
            </a:r>
            <a:r>
              <a:rPr b="0" lang="ar-SA" sz="2400" spc="-1" strike="noStrike">
                <a:solidFill>
                  <a:srgbClr val="ffffff"/>
                </a:solidFill>
                <a:latin typeface="Arial"/>
                <a:cs typeface="Arial"/>
              </a:rPr>
              <a:t>ضع الكتاب وحاول ان تستذكر ما قرأت، تذكر اسئلتك والاجابات التي حصلت عليها بعبارات واضحة واجابات مكتملة.</a:t>
            </a:r>
            <a:endParaRPr b="0" lang="en-US" sz="2400" spc="-1" strike="noStrike">
              <a:solidFill>
                <a:srgbClr val="ffffff"/>
              </a:solidFill>
              <a:latin typeface="Arial"/>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خامسة: </a:t>
            </a:r>
            <a:r>
              <a:rPr b="1" lang="ar-SA" sz="2400" spc="-1" strike="noStrike" u="sng">
                <a:solidFill>
                  <a:srgbClr val="ffffff"/>
                </a:solidFill>
                <a:uFillTx/>
                <a:latin typeface="Arial"/>
                <a:cs typeface="Arial"/>
              </a:rPr>
              <a:t>راجع </a:t>
            </a:r>
            <a:r>
              <a:rPr b="0" lang="ar-SA" sz="2400" spc="-1" strike="noStrike">
                <a:solidFill>
                  <a:srgbClr val="ffffff"/>
                </a:solidFill>
                <a:latin typeface="Arial"/>
                <a:cs typeface="Arial"/>
              </a:rPr>
              <a:t>هذة الخطوة مهمة لتجنب النسيان والحفاظ على المعلومة. والمراجعة نوعان:</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راجعة الفورية: </a:t>
            </a:r>
            <a:r>
              <a:rPr b="0" lang="ar-SA" sz="2400" spc="-1" strike="noStrike">
                <a:solidFill>
                  <a:srgbClr val="ffffff"/>
                </a:solidFill>
                <a:latin typeface="Arial"/>
                <a:cs typeface="Arial"/>
              </a:rPr>
              <a:t>بعد الانتهاء من القراءة مباشرة </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راجعة الدورية:</a:t>
            </a:r>
            <a:r>
              <a:rPr b="0" lang="ar-SA" sz="2400" spc="-1" strike="noStrike">
                <a:solidFill>
                  <a:srgbClr val="ffffff"/>
                </a:solidFill>
                <a:latin typeface="Arial"/>
                <a:ea typeface="Arial"/>
              </a:rPr>
              <a:t> بين الفينة والفينة لشحذ الذهن وترسيخ المعلومة</a:t>
            </a:r>
            <a:endParaRPr b="0" lang="en-US" sz="2400" spc="-1" strike="noStrike">
              <a:solidFill>
                <a:srgbClr val="ffffff"/>
              </a:solidFill>
              <a:latin typeface="Arial"/>
            </a:endParaRPr>
          </a:p>
        </p:txBody>
      </p:sp>
    </p:spTree>
  </p:cSld>
  <p:transition>
    <p:cover dir="ld"/>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234" dur="500"/>
                                        <p:tgtEl>
                                          <p:spTgt spid="295">
                                            <p:txEl>
                                              <p:pRg st="0" end="0"/>
                                            </p:txEl>
                                          </p:spTgt>
                                        </p:tgtEl>
                                      </p:cBhvr>
                                    </p:animEffect>
                                  </p:childTnLst>
                                </p:cTn>
                              </p:par>
                              <p:par>
                                <p:cTn id="1235" nodeType="withEffect" fill="hold" presetClass="entr" presetID="3" presetSubtype="10">
                                  <p:stCondLst>
                                    <p:cond delay="0"/>
                                  </p:stCondLst>
                                  <p:childTnLst>
                                    <p:set>
                                      <p:cBhvr>
                                        <p:cTn id="1236"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237" dur="500"/>
                                        <p:tgtEl>
                                          <p:spTgt spid="295">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242" dur="500"/>
                                        <p:tgtEl>
                                          <p:spTgt spid="295">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247" dur="500"/>
                                        <p:tgtEl>
                                          <p:spTgt spid="295">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1252"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CF06-2F39-4C4F-A301-F470E14ECFC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ستعمل لمعرفة التفاصيل الدقيقة ولكنها مفيدة جدا في فهم السياق العام وتسلسل النص والمعنى الاجمالي له.</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وات تحسين القراءة السريعة:</a:t>
            </a:r>
            <a:endParaRPr b="0" lang="en-US" sz="2400" spc="-1" strike="noStrike">
              <a:solidFill>
                <a:srgbClr val="ffffff"/>
              </a:solidFill>
              <a:latin typeface="Arial"/>
            </a:endParaRPr>
          </a:p>
          <a:p>
            <a:pPr lvl="2" marL="1040040" indent="-2077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ال</a:t>
            </a:r>
            <a:r>
              <a:rPr b="0" lang="ar-SA" sz="2400" spc="-1" strike="noStrike">
                <a:solidFill>
                  <a:srgbClr val="ffffff"/>
                </a:solidFill>
                <a:latin typeface="Arial"/>
                <a:cs typeface="Arial"/>
              </a:rPr>
              <a:t>قراءة </a:t>
            </a:r>
            <a:r>
              <a:rPr b="0" lang="ar-SA" sz="2400" spc="-1" strike="noStrike">
                <a:solidFill>
                  <a:srgbClr val="ffffff"/>
                </a:solidFill>
                <a:latin typeface="Arial"/>
              </a:rPr>
              <a:t>جمل</a:t>
            </a:r>
            <a:r>
              <a:rPr b="0" lang="ar-SA" sz="2400" spc="-1" strike="noStrike">
                <a:solidFill>
                  <a:srgbClr val="ffffff"/>
                </a:solidFill>
                <a:latin typeface="Arial"/>
                <a:cs typeface="Arial"/>
              </a:rPr>
              <a:t>ة جملة وليس كلمة ك</a:t>
            </a:r>
            <a:r>
              <a:rPr b="0" lang="ar-SA" sz="2400" spc="-1" strike="noStrike">
                <a:solidFill>
                  <a:srgbClr val="ffffff"/>
                </a:solidFill>
                <a:latin typeface="Arial"/>
              </a:rPr>
              <a:t>لم</a:t>
            </a:r>
            <a:r>
              <a:rPr b="0" lang="ar-SA" sz="2400" spc="-1" strike="noStrike">
                <a:solidFill>
                  <a:srgbClr val="ffffff"/>
                </a:solidFill>
                <a:latin typeface="Arial"/>
                <a:cs typeface="Arial"/>
              </a:rPr>
              <a:t>ة اي التركيز على المعنى التام وعدم التوقف على الكلمات</a:t>
            </a:r>
            <a:r>
              <a:rPr b="0" lang="ar-SA" sz="2400" spc="-1" strike="noStrike">
                <a:solidFill>
                  <a:srgbClr val="ffffff"/>
                </a:solidFill>
                <a:latin typeface="Arial"/>
              </a:rPr>
              <a:t>.</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040040" indent="-2077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سريعة ليست للحفظ فلا ترفع صوتك وتحريك شفتيك.</a:t>
            </a:r>
            <a:endParaRPr b="0" lang="en-US" sz="2400" spc="-1" strike="noStrike">
              <a:solidFill>
                <a:srgbClr val="ffffff"/>
              </a:solidFill>
              <a:latin typeface="Arial"/>
            </a:endParaRPr>
          </a:p>
          <a:p>
            <a:pPr lvl="2" marL="1040040" indent="-2077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اخطاء حركة العين مثل القفز على اسطر او تضييع موضع القراءة </a:t>
            </a:r>
            <a:endParaRPr b="0" lang="en-US" sz="2400" spc="-1" strike="noStrike">
              <a:solidFill>
                <a:srgbClr val="ffffff"/>
              </a:solidFill>
              <a:latin typeface="Arial"/>
            </a:endParaRPr>
          </a:p>
          <a:p>
            <a:pPr lvl="2" marL="1040040" indent="-2077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رك اصبعك على النص اسرع قليلا من سرعة قراءة العين وبوضع مريح.</a:t>
            </a:r>
            <a:endParaRPr b="0" lang="en-US" sz="2400" spc="-1" strike="noStrike">
              <a:solidFill>
                <a:srgbClr val="ffffff"/>
              </a:solidFill>
              <a:latin typeface="Arial"/>
            </a:endParaRPr>
          </a:p>
          <a:p>
            <a:pPr lvl="2" marL="10400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259" dur="500"/>
                                        <p:tgtEl>
                                          <p:spTgt spid="29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64" dur="500"/>
                                        <p:tgtEl>
                                          <p:spTgt spid="29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269" dur="500"/>
                                        <p:tgtEl>
                                          <p:spTgt spid="298">
                                            <p:txEl>
                                              <p:pRg st="2" end="2"/>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1274" dur="500"/>
                                        <p:tgtEl>
                                          <p:spTgt spid="298">
                                            <p:txEl>
                                              <p:pRg st="3" end="3"/>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1279" dur="500"/>
                                        <p:tgtEl>
                                          <p:spTgt spid="298">
                                            <p:txEl>
                                              <p:pRg st="4" end="4"/>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1284" dur="500"/>
                                        <p:tgtEl>
                                          <p:spTgt spid="298">
                                            <p:txEl>
                                              <p:pRg st="5" end="5"/>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98">
                                            <p:txEl>
                                              <p:pRg st="6" end="6"/>
                                            </p:txEl>
                                          </p:spTgt>
                                        </p:tgtEl>
                                        <p:attrNameLst>
                                          <p:attrName>style.visibility</p:attrName>
                                        </p:attrNameLst>
                                      </p:cBhvr>
                                      <p:to>
                                        <p:strVal val="visible"/>
                                      </p:to>
                                    </p:set>
                                    <p:animEffect filter="blinds(horizontal)" transition="in">
                                      <p:cBhvr additive="repl">
                                        <p:cTn id="1289"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1D5F-6612-47CD-904F-F4795387D81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سع مجال رؤية العين على الصفحة واجعل التركيز اثناء النظر في منتصف الصفحة.</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من توقف العين على الكلمات واستمر بالقراءة قدر الامكان</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زمنا لانهاء القراءة فإن ذلك يستحث على الانهاء</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وقف عند الكلمات المعتادة ( مثل لكن )</a:t>
            </a:r>
            <a:endParaRPr b="0" lang="en-US" sz="2400" spc="-1" strike="noStrike">
              <a:solidFill>
                <a:srgbClr val="ffffff"/>
              </a:solidFill>
              <a:latin typeface="Arial"/>
            </a:endParaRPr>
          </a:p>
          <a:p>
            <a:pPr lvl="2" marL="1143000" indent="-22860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درب على توقع النص التالي لما تقرأ</a:t>
            </a:r>
            <a:endParaRPr b="0" lang="en-US" sz="2400" spc="-1" strike="noStrike">
              <a:solidFill>
                <a:srgbClr val="ffffff"/>
              </a:solidFill>
              <a:latin typeface="Arial"/>
            </a:endParaRPr>
          </a:p>
          <a:p>
            <a:pPr lvl="2" marL="1143000" indent="-228600" algn="r" rtl="1">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قرأ ثم اقرأ فكثرة القراءة وممارستها هى افضل سبيل لتسريع القراءة   </a:t>
            </a:r>
            <a:endParaRPr b="0" lang="en-US" sz="2400" spc="-1" strike="noStrike">
              <a:solidFill>
                <a:srgbClr val="ffffff"/>
              </a:solidFill>
              <a:latin typeface="Arial"/>
            </a:endParaRPr>
          </a:p>
        </p:txBody>
      </p:sp>
    </p:spTree>
  </p:cSld>
  <p:transition>
    <p:cover dir="ld"/>
  </p:transition>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3" presetSubtype="10">
                                  <p:stCondLst>
                                    <p:cond delay="0"/>
                                  </p:stCondLst>
                                  <p:childTnLst>
                                    <p:set>
                                      <p:cBhvr>
                                        <p:cTn id="1295"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1296" dur="500"/>
                                        <p:tgtEl>
                                          <p:spTgt spid="301">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3" presetSubtype="10">
                                  <p:stCondLst>
                                    <p:cond delay="0"/>
                                  </p:stCondLst>
                                  <p:childTnLst>
                                    <p:set>
                                      <p:cBhvr>
                                        <p:cTn id="1300"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1301" dur="500"/>
                                        <p:tgtEl>
                                          <p:spTgt spid="301">
                                            <p:txEl>
                                              <p:pRg st="1" end="1"/>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 presetSubtype="10">
                                  <p:stCondLst>
                                    <p:cond delay="0"/>
                                  </p:stCondLst>
                                  <p:childTnLst>
                                    <p:set>
                                      <p:cBhvr>
                                        <p:cTn id="1305"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1306" dur="500"/>
                                        <p:tgtEl>
                                          <p:spTgt spid="301">
                                            <p:txEl>
                                              <p:pRg st="2" end="2"/>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1311" dur="500"/>
                                        <p:tgtEl>
                                          <p:spTgt spid="301">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1316" dur="500"/>
                                        <p:tgtEl>
                                          <p:spTgt spid="301">
                                            <p:txEl>
                                              <p:pRg st="4" end="4"/>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1321" dur="500"/>
                                        <p:tgtEl>
                                          <p:spTgt spid="3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6571-2168-4C5E-AE62-D99FFA0F23F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نقدي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واعية تحلل عمل الكاتب وتحكم في الافكار والاستنتاجات والادلة وتوافق المعلومات وصحته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حتاج القراءة النقدية الى المعرفة الواسعة بموضوع الكتاب والقدرة على فهم النص وتحليلة كما تتطلب التركيز في اثناء القراءة واستخلاص المعلومات وتلخيصها والحكم فيها في رأي ا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ينبغي في القراءة النقدية معرفة اتجاهات الكاتب وخلفياتة والمصادر التي اعتمد عليها كما ينبغي معرفة المنهج الذي يسير علية في كتابتة. </a:t>
            </a:r>
            <a:endParaRPr b="0" lang="en-US" sz="2400" spc="-1" strike="noStrike">
              <a:solidFill>
                <a:srgbClr val="ffffff"/>
              </a:solidFill>
              <a:latin typeface="Arial"/>
            </a:endParaRPr>
          </a:p>
        </p:txBody>
      </p:sp>
    </p:spTree>
  </p:cSld>
  <p:transition>
    <p:cover dir="ld"/>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328" dur="500"/>
                                        <p:tgtEl>
                                          <p:spTgt spid="304">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333" dur="500"/>
                                        <p:tgtEl>
                                          <p:spTgt spid="304">
                                            <p:txEl>
                                              <p:pRg st="1" end="1"/>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338" dur="500"/>
                                        <p:tgtEl>
                                          <p:spTgt spid="304">
                                            <p:txEl>
                                              <p:pRg st="2" end="2"/>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134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F3C3-6332-45DE-B8D6-D634CA9C096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وصيات للقراءة الإلكترونية</a:t>
            </a:r>
            <a:endParaRPr b="0" lang="en-US" sz="40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طريقة عرض القراءة التي توفرها المتصفحات ومعالجات النصوص لرؤية اشمل.</a:t>
            </a:r>
            <a:endParaRPr b="0" lang="en-US" sz="2400" spc="-1" strike="noStrike">
              <a:solidFill>
                <a:srgbClr val="ffffff"/>
              </a:solidFill>
              <a:latin typeface="Arial"/>
            </a:endParaRPr>
          </a:p>
          <a:p>
            <a:pPr marL="291600" indent="-2916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خطآ يتناسب مع عرض اكبر قدر من الصفحة بدون ازعاج للبصر.</a:t>
            </a:r>
            <a:endParaRPr b="0" lang="en-US" sz="2400" spc="-1" strike="noStrike">
              <a:solidFill>
                <a:srgbClr val="ffffff"/>
              </a:solidFill>
              <a:latin typeface="Arial"/>
            </a:endParaRPr>
          </a:p>
          <a:p>
            <a:pPr marL="291600" indent="-29160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راءة المسحية لمعرفة الكاتب وموضوع الكتابة والمحتوى.</a:t>
            </a:r>
            <a:endParaRPr b="0" lang="en-US" sz="2400" spc="-1" strike="noStrike">
              <a:solidFill>
                <a:srgbClr val="ffffff"/>
              </a:solidFill>
              <a:latin typeface="Arial"/>
            </a:endParaRPr>
          </a:p>
          <a:p>
            <a:pPr marL="291600" indent="-29160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ي البريد الإلكتروني افرز بريدك مستخدما عنوان الرسالة والكاتب لتحديد اولويات القراءة واولويات الرد.</a:t>
            </a:r>
            <a:endParaRPr b="0" lang="en-US" sz="2400" spc="-1" strike="noStrike">
              <a:solidFill>
                <a:srgbClr val="ffffff"/>
              </a:solidFill>
              <a:latin typeface="Arial"/>
            </a:endParaRPr>
          </a:p>
          <a:p>
            <a:pPr marL="291600" indent="-29160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لم مصطلحات الإنترنت واختصاراتة مثل استخدام الارقام الانجليزية بدلآ من بعض الحروف العربية وبعض الاختصارات المتعارف عليها في لغة الإنترنت.</a:t>
            </a:r>
            <a:endParaRPr b="0" lang="en-US" sz="2400" spc="-1" strike="noStrike">
              <a:solidFill>
                <a:srgbClr val="ffffff"/>
              </a:solidFill>
              <a:latin typeface="Arial"/>
            </a:endParaRPr>
          </a:p>
          <a:p>
            <a:pPr marL="291600" indent="-29160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شاشة بإشعاع ملائم للعين وليس له اضرار طبية او استخدام المنقي المرشح.</a:t>
            </a:r>
            <a:endParaRPr b="0" lang="en-US" sz="2400" spc="-1" strike="noStrike">
              <a:solidFill>
                <a:srgbClr val="ffffff"/>
              </a:solidFill>
              <a:latin typeface="Arial"/>
            </a:endParaRPr>
          </a:p>
          <a:p>
            <a:pPr marL="291600" indent="-29160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صح بإبعاد النظر عن الشاشة كل </a:t>
            </a:r>
            <a:r>
              <a:rPr b="0" lang="ar-SA" sz="2400" spc="-1" strike="noStrike">
                <a:solidFill>
                  <a:srgbClr val="ffffff"/>
                </a:solidFill>
                <a:latin typeface="Arial"/>
                <a:ea typeface="Arial"/>
              </a:rPr>
              <a:t>15</a:t>
            </a:r>
            <a:r>
              <a:rPr b="0" lang="ar-SA" sz="2400" spc="-1" strike="noStrike">
                <a:solidFill>
                  <a:srgbClr val="ffffff"/>
                </a:solidFill>
                <a:latin typeface="Arial"/>
                <a:cs typeface="Arial"/>
              </a:rPr>
              <a:t>دقيقة لثوان معدودة حتى لا تصاب العين با لإعياء.</a:t>
            </a:r>
            <a:endParaRPr b="0" lang="en-US" sz="2400" spc="-1" strike="noStrike">
              <a:solidFill>
                <a:srgbClr val="ffffff"/>
              </a:solidFill>
              <a:latin typeface="Arial"/>
            </a:endParaRPr>
          </a:p>
        </p:txBody>
      </p:sp>
    </p:spTree>
  </p:cSld>
  <p:transition>
    <p:cover dir="ld"/>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350" dur="500"/>
                                        <p:tgtEl>
                                          <p:spTgt spid="30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1355" dur="500"/>
                                        <p:tgtEl>
                                          <p:spTgt spid="307">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1360" dur="500"/>
                                        <p:tgtEl>
                                          <p:spTgt spid="307">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10">
                                  <p:stCondLst>
                                    <p:cond delay="0"/>
                                  </p:stCondLst>
                                  <p:childTnLst>
                                    <p:set>
                                      <p:cBhvr>
                                        <p:cTn id="1364" dur="1" fill="hold">
                                          <p:stCondLst>
                                            <p:cond delay="0"/>
                                          </p:stCondLst>
                                        </p:cTn>
                                        <p:tgtEl>
                                          <p:spTgt spid="307">
                                            <p:txEl>
                                              <p:pRg st="3" end="3"/>
                                            </p:txEl>
                                          </p:spTgt>
                                        </p:tgtEl>
                                        <p:attrNameLst>
                                          <p:attrName>style.visibility</p:attrName>
                                        </p:attrNameLst>
                                      </p:cBhvr>
                                      <p:to>
                                        <p:strVal val="visible"/>
                                      </p:to>
                                    </p:set>
                                    <p:animEffect filter="blinds(horizontal)" transition="in">
                                      <p:cBhvr additive="repl">
                                        <p:cTn id="1365" dur="500"/>
                                        <p:tgtEl>
                                          <p:spTgt spid="307">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1370" dur="500"/>
                                        <p:tgtEl>
                                          <p:spTgt spid="307">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307">
                                            <p:txEl>
                                              <p:pRg st="5" end="5"/>
                                            </p:txEl>
                                          </p:spTgt>
                                        </p:tgtEl>
                                        <p:attrNameLst>
                                          <p:attrName>style.visibility</p:attrName>
                                        </p:attrNameLst>
                                      </p:cBhvr>
                                      <p:to>
                                        <p:strVal val="visible"/>
                                      </p:to>
                                    </p:set>
                                    <p:animEffect filter="blinds(horizontal)" transition="in">
                                      <p:cBhvr additive="repl">
                                        <p:cTn id="1375" dur="500"/>
                                        <p:tgtEl>
                                          <p:spTgt spid="307">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307">
                                            <p:txEl>
                                              <p:pRg st="6" end="6"/>
                                            </p:txEl>
                                          </p:spTgt>
                                        </p:tgtEl>
                                        <p:attrNameLst>
                                          <p:attrName>style.visibility</p:attrName>
                                        </p:attrNameLst>
                                      </p:cBhvr>
                                      <p:to>
                                        <p:strVal val="visible"/>
                                      </p:to>
                                    </p:set>
                                    <p:animEffect filter="blinds(horizontal)" transition="in">
                                      <p:cBhvr additive="repl">
                                        <p:cTn id="1380" dur="5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2D1D-4E18-44F8-9877-07AB767943E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وجد الكثير من الاسباب التي تشتت الذهن وتحول بينة وبين الاستيعاب ومنها:</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مشتتات تتعلق بمحيط القراءة:</a:t>
            </a:r>
            <a:endParaRPr b="0" lang="en-US" sz="2400" spc="-1" strike="noStrike">
              <a:solidFill>
                <a:srgbClr val="ffffff"/>
              </a:solidFill>
              <a:latin typeface="Arial"/>
            </a:endParaRPr>
          </a:p>
          <a:p>
            <a:pPr lvl="2" marL="1028520" indent="-205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ضجيج في مكان القراءة وان يكون المكان غير ملائم للقراءة العميقة والجلوس على هيئة غير مريحة اثناء القراءة وكون الورق غير جيد وكون الطباعة غير مريحة.</a:t>
            </a:r>
            <a:endParaRPr b="0" lang="en-US" sz="2400" spc="-1" strike="noStrike">
              <a:solidFill>
                <a:srgbClr val="ffffff"/>
              </a:solidFill>
              <a:latin typeface="Arial"/>
            </a:endParaRPr>
          </a:p>
          <a:p>
            <a:pPr lvl="2" marL="1028520" indent="-205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ضاءة غير المناسبة فالاضاءة المتوهجة او المعتمة او المتذبذبة تزعج العين وتشتت الانتباه.  </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شخصية:</a:t>
            </a:r>
            <a:endParaRPr b="0" lang="en-US" sz="2400" spc="-1" strike="noStrike">
              <a:solidFill>
                <a:srgbClr val="ffffff"/>
              </a:solidFill>
              <a:latin typeface="Arial"/>
            </a:endParaRPr>
          </a:p>
          <a:p>
            <a:pPr lvl="2" marL="1028520" indent="-20556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تعلق بنفسية القارئ او ذهنيتة كأن يسرح بفكرة في اثناء القراءة ويستطرد في فكرة جانبية من النص او ان يكون منشغل البال بقضية ما مما يحول دون جمع القلب والعقل على القراءة.</a:t>
            </a:r>
            <a:endParaRPr b="0" lang="en-US" sz="2400" spc="-1" strike="noStrike">
              <a:solidFill>
                <a:srgbClr val="ffffff"/>
              </a:solidFill>
              <a:latin typeface="Arial"/>
            </a:endParaRPr>
          </a:p>
        </p:txBody>
      </p:sp>
    </p:spTree>
  </p:cSld>
  <p:transition>
    <p:cover dir="ld"/>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1387" dur="500"/>
                                        <p:tgtEl>
                                          <p:spTgt spid="310">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3" presetSubtype="10">
                                  <p:stCondLst>
                                    <p:cond delay="0"/>
                                  </p:stCondLst>
                                  <p:childTnLst>
                                    <p:set>
                                      <p:cBhvr>
                                        <p:cTn id="139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1392" dur="500"/>
                                        <p:tgtEl>
                                          <p:spTgt spid="310">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3" presetSubtype="10">
                                  <p:stCondLst>
                                    <p:cond delay="0"/>
                                  </p:stCondLst>
                                  <p:childTnLst>
                                    <p:set>
                                      <p:cBhvr>
                                        <p:cTn id="139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1397" dur="500"/>
                                        <p:tgtEl>
                                          <p:spTgt spid="310">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3" presetSubtype="10">
                                  <p:stCondLst>
                                    <p:cond delay="0"/>
                                  </p:stCondLst>
                                  <p:childTnLst>
                                    <p:set>
                                      <p:cBhvr>
                                        <p:cTn id="140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1402" dur="500"/>
                                        <p:tgtEl>
                                          <p:spTgt spid="310">
                                            <p:txEl>
                                              <p:pRg st="3" end="3"/>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3" presetSubtype="10">
                                  <p:stCondLst>
                                    <p:cond delay="0"/>
                                  </p:stCondLst>
                                  <p:childTnLst>
                                    <p:set>
                                      <p:cBhvr>
                                        <p:cTn id="140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1407" dur="500"/>
                                        <p:tgtEl>
                                          <p:spTgt spid="310">
                                            <p:txEl>
                                              <p:pRg st="4" end="4"/>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141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DA1B-F201-455D-8DAA-6141022EA6B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يف تكتسب التركيز:</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جيد الاضاءة وهادئ ومريح للقرءة</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يار الاوقات المناسبة للقراءة التي تشعر فيها بالحيوية والنشاط</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لم للتدوين واستخلاص الافكار</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اهدافا للقراءة وحاول الوصول اليها.   </a:t>
            </a:r>
            <a:endParaRPr b="0" lang="en-US" sz="2400" spc="-1" strike="noStrike">
              <a:solidFill>
                <a:srgbClr val="ffffff"/>
              </a:solidFill>
              <a:latin typeface="Arial"/>
            </a:endParaRPr>
          </a:p>
        </p:txBody>
      </p:sp>
    </p:spTree>
  </p:cSld>
  <p:transition>
    <p:cover dir="ld"/>
  </p:transition>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1419" dur="500"/>
                                        <p:tgtEl>
                                          <p:spTgt spid="313">
                                            <p:txEl>
                                              <p:pRg st="1" end="1"/>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1424" dur="500"/>
                                        <p:tgtEl>
                                          <p:spTgt spid="313">
                                            <p:txEl>
                                              <p:pRg st="2" end="2"/>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1429" dur="500"/>
                                        <p:tgtEl>
                                          <p:spTgt spid="313">
                                            <p:txEl>
                                              <p:pRg st="3" end="3"/>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3" presetSubtype="10">
                                  <p:stCondLst>
                                    <p:cond delay="0"/>
                                  </p:stCondLst>
                                  <p:childTnLst>
                                    <p:set>
                                      <p:cBhvr>
                                        <p:cTn id="1433" dur="1" fill="hold">
                                          <p:stCondLst>
                                            <p:cond delay="0"/>
                                          </p:stCondLst>
                                        </p:cTn>
                                        <p:tgtEl>
                                          <p:spTgt spid="313">
                                            <p:txEl>
                                              <p:pRg st="4" end="4"/>
                                            </p:txEl>
                                          </p:spTgt>
                                        </p:tgtEl>
                                        <p:attrNameLst>
                                          <p:attrName>style.visibility</p:attrName>
                                        </p:attrNameLst>
                                      </p:cBhvr>
                                      <p:to>
                                        <p:strVal val="visible"/>
                                      </p:to>
                                    </p:set>
                                    <p:animEffect filter="blinds(horizontal)" transition="in">
                                      <p:cBhvr additive="repl">
                                        <p:cTn id="1434" dur="500"/>
                                        <p:tgtEl>
                                          <p:spTgt spid="313">
                                            <p:txEl>
                                              <p:pRg st="4" end="4"/>
                                            </p:txEl>
                                          </p:spTgt>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313">
                                            <p:txEl>
                                              <p:pRg st="5" end="5"/>
                                            </p:txEl>
                                          </p:spTgt>
                                        </p:tgtEl>
                                        <p:attrNameLst>
                                          <p:attrName>style.visibility</p:attrName>
                                        </p:attrNameLst>
                                      </p:cBhvr>
                                      <p:to>
                                        <p:strVal val="visible"/>
                                      </p:to>
                                    </p:set>
                                    <p:animEffect filter="blinds(horizontal)" transition="in">
                                      <p:cBhvr additive="repl">
                                        <p:cTn id="143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DFEB-864D-4448-A18A-28893268963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قول الدراسات ان المديرين يقضون من </a:t>
            </a:r>
            <a:r>
              <a:rPr b="0" lang="ar-SA" sz="2400" spc="-1" strike="noStrike">
                <a:solidFill>
                  <a:srgbClr val="ffffff"/>
                </a:solidFill>
                <a:latin typeface="Arial"/>
                <a:ea typeface="Arial"/>
              </a:rPr>
              <a:t>65</a:t>
            </a:r>
            <a:r>
              <a:rPr b="0" lang="ar-SA" sz="2400" spc="-1" strike="noStrike">
                <a:solidFill>
                  <a:srgbClr val="ffffff"/>
                </a:solidFill>
                <a:latin typeface="Arial"/>
                <a:ea typeface="Arial"/>
              </a:rPr>
              <a:t>% الى </a:t>
            </a:r>
            <a:r>
              <a:rPr b="0" lang="ar-SA" sz="2400" spc="-1" strike="noStrike">
                <a:solidFill>
                  <a:srgbClr val="ffffff"/>
                </a:solidFill>
                <a:latin typeface="Arial"/>
                <a:ea typeface="Arial"/>
              </a:rPr>
              <a:t>90</a:t>
            </a:r>
            <a:r>
              <a:rPr b="0" lang="ar-SA" sz="2400" spc="-1" strike="noStrike">
                <a:solidFill>
                  <a:srgbClr val="ffffff"/>
                </a:solidFill>
                <a:latin typeface="Arial"/>
                <a:ea typeface="Arial"/>
              </a:rPr>
              <a:t>% من وقت عملهم في الانصات للاخرين ويقضي الانسان العادي نصف وقتة الاتصالي منصتا الى الاخرين.</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اعد الانصات الجيد على تكوين البيئة الاسرية الامنة فالانصات اساسي في تربية الابناء ومهم في استقرار العلاقات الزوج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عتمد الانسان في بداية حياتة على الانصات للاخرين للتواصل والتعلم وتلقي الرسائل والتنبيهات.    </a:t>
            </a:r>
            <a:endParaRPr b="0" lang="en-US" sz="2400" spc="-1" strike="noStrike">
              <a:solidFill>
                <a:srgbClr val="ffffff"/>
              </a:solidFill>
              <a:latin typeface="Arial"/>
            </a:endParaRPr>
          </a:p>
        </p:txBody>
      </p:sp>
    </p:spTree>
  </p:cSld>
  <p:transition>
    <p:cover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03" dur="500"/>
                                        <p:tgtEl>
                                          <p:spTgt spid="17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08" dur="500"/>
                                        <p:tgtEl>
                                          <p:spTgt spid="178">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13"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89FD-A62E-4842-89C8-152BE1CDA90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شروط الاستماع الجيد</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صعوبة مهارة الاستماع ، واعتمادها على عدد من أجهزة الاستقبال ، لا يمكن تحققها إلا بتوفر عدة شروط ، أهمها: ـ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بعيد عن الضوضاء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نظر باهتمام إلى المتحدث ، وإبداء الرغبة في مشاركته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كيف ذهنيا مع سرعة المتحدث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دقة السمعية التي بدونها تتعطل جميع مهارات الاستماع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فسير ، والتمثيل اللذين عن طريقهما يفهم المستمع ما يقال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صوات المتعددة ، والإيماءات المختلفة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فكار الرئيسة ، والأفكار الثانوية في الحديث . </a:t>
            </a:r>
            <a:endParaRPr b="0" lang="en-US" sz="2400" spc="-1" strike="noStrike">
              <a:solidFill>
                <a:srgbClr val="ffffff"/>
              </a:solidFill>
              <a:latin typeface="Arial"/>
            </a:endParaRPr>
          </a:p>
          <a:p>
            <a:pPr lvl="1" marL="653760" indent="-25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احتفاظ بالأفكار الرئيسة حية في الذهن . </a:t>
            </a:r>
            <a:r>
              <a:rPr b="0" lang="ar-SA" sz="2000" spc="-1" strike="noStrike">
                <a:solidFill>
                  <a:srgbClr val="ffffff"/>
                </a:solidFill>
                <a:latin typeface="Arial"/>
                <a:ea typeface="Arial"/>
              </a:rPr>
              <a:t> </a:t>
            </a:r>
            <a:endParaRPr b="0" lang="en-US" sz="2000" spc="-1" strike="noStrike">
              <a:solidFill>
                <a:srgbClr val="ffffff"/>
              </a:solidFill>
              <a:latin typeface="Arial"/>
            </a:endParaRPr>
          </a:p>
        </p:txBody>
      </p:sp>
    </p:spTree>
  </p:cSld>
  <p:transition>
    <p:cover dir="l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20" dur="500"/>
                                        <p:tgtEl>
                                          <p:spTgt spid="1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25" dur="500"/>
                                        <p:tgtEl>
                                          <p:spTgt spid="18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30" dur="500"/>
                                        <p:tgtEl>
                                          <p:spTgt spid="18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35" dur="500"/>
                                        <p:tgtEl>
                                          <p:spTgt spid="181">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40" dur="500"/>
                                        <p:tgtEl>
                                          <p:spTgt spid="181">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45" dur="500"/>
                                        <p:tgtEl>
                                          <p:spTgt spid="181">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50" dur="500"/>
                                        <p:tgtEl>
                                          <p:spTgt spid="181">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155" dur="500"/>
                                        <p:tgtEl>
                                          <p:spTgt spid="181">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16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6422-4BD3-451E-A34A-A071A4C400E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ستوى الصفر: ( السلبي )</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نعني بها عدم الالتفات نهائيا للمتحدث بشكل مقصود، إما لعدم أهمية الموضوع بالنسبة للشخص أو بهدف إرسال رسالة واضحة للمتكلم بأن الموضوع غير مهم وغير مرغوب.</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اول: ( التظاهري )</a:t>
            </a:r>
            <a:endParaRPr b="0" lang="en-US" sz="2400" spc="-1" strike="noStrike">
              <a:solidFill>
                <a:srgbClr val="ffffff"/>
              </a:solidFill>
              <a:latin typeface="Arial"/>
            </a:endParaRPr>
          </a:p>
          <a:p>
            <a:pPr lvl="1" marL="713160" indent="-2743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تظاهري حيث يمكن أن يهز المستمع رأسه متظاهرا بالموافقة على الكلام بينما هو في الحقيقة لا يعي جيدا ما يسمع أو هو شارد الذهن وقد يفاجئه المتحدث بسؤال عن ما كان يتحدث عنه فيكتشف أنه كان في أوقات معينة يتظاهر بالاستماع فقط.</a:t>
            </a:r>
            <a:r>
              <a:rPr b="0" lang="ar-SA" sz="2000" spc="-1" strike="noStrike">
                <a:solidFill>
                  <a:srgbClr val="ffffff"/>
                </a:solidFill>
                <a:latin typeface="Arial"/>
                <a:ea typeface="Arial"/>
              </a:rPr>
              <a:t> </a:t>
            </a:r>
            <a:br>
              <a:rPr sz="2000"/>
            </a:br>
            <a:r>
              <a:rPr b="0"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cover dir="l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67" dur="500"/>
                                        <p:tgtEl>
                                          <p:spTgt spid="18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72" dur="500"/>
                                        <p:tgtEl>
                                          <p:spTgt spid="184">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77" dur="500"/>
                                        <p:tgtEl>
                                          <p:spTgt spid="18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82"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635F-558B-4235-8415-18ACD1200FE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ني: ( الانتقائي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انتقائي وهو الشائع جدا عند الكثيرين</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قصود به أن الشخص ينتقي جزئيات معينة من الحوار ويركز عليها مهملا إما بقصد أو دون قصد ما سواها.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دث ذلك كثيرا في الحوارات الجدلية مثلا عندما يبدأ كل طرف بالتركيز فقط على الزاوية التي تخدم قضيته من كلام الشخص الآخر فيتحول ما يفترض أن يكون حوار بناء إلى جدل عقيم بلا نهاية.</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برز هذا النوع من الاستماع لدينا لاشعوريا أيضا عندما يكون لدى الشخص افتراض أو حكم مسبق يجعله يميل تلقائيا لانتقاء ما يخدم افتراضه أو حكمه المسبق من الكلام مهملا تماما ما قد يشير إلى عكسه أو ضده.</a:t>
            </a:r>
            <a:endParaRPr b="0" lang="en-US" sz="2400" spc="-1" strike="noStrike">
              <a:solidFill>
                <a:srgbClr val="ffffff"/>
              </a:solidFill>
              <a:latin typeface="Arial"/>
            </a:endParaRPr>
          </a:p>
        </p:txBody>
      </p:sp>
    </p:spTree>
  </p:cSld>
  <p:transition>
    <p:cover dir="l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89" dur="500"/>
                                        <p:tgtEl>
                                          <p:spTgt spid="18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94" dur="500"/>
                                        <p:tgtEl>
                                          <p:spTgt spid="18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99" dur="500"/>
                                        <p:tgtEl>
                                          <p:spTgt spid="18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204" dur="500"/>
                                        <p:tgtEl>
                                          <p:spTgt spid="18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209"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36E7-65B7-4482-8D25-2FD45517299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لث: ( النشط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بتركيز كامل وهذا بلا شك يحتاج مجهودا أكبر بحيث يمكن للمستمع من هذا النوع أن يعيد صياغة ما سمعه بالكامل فهو يعيه جيدا ولكن بشكل أفكار ومعلومات مجردة، ولذلك فحتى هذا المستوى من الاستماع ورغم صعوبته إلا أنه ليس المستوى الأعلى.</a:t>
            </a:r>
            <a:endParaRPr b="0" lang="en-US" sz="2400" spc="-1" strike="noStrike">
              <a:solidFill>
                <a:srgbClr val="ffffff"/>
              </a:solidFill>
              <a:latin typeface="Arial"/>
            </a:endParaRPr>
          </a:p>
        </p:txBody>
      </p:sp>
    </p:spTree>
  </p:cSld>
  <p:transition>
    <p:cover dir="ld"/>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4:15:57Z</dcterms:created>
  <dc:creator>For You</dc:creator>
  <dc:description/>
  <dc:language>en-US</dc:language>
  <cp:lastModifiedBy>MansourAlshammari</cp:lastModifiedBy>
  <dcterms:modified xsi:type="dcterms:W3CDTF">2016-09-30T16:00:10Z</dcterms:modified>
  <cp:revision>99</cp:revision>
  <dc:subject/>
  <dc:title>Barriers to communication</dc:title>
</cp:coreProperties>
</file>