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9592-9502-4214-BB90-A051CAA8DFD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0649-0203-40C5-81DB-6A1A840CA22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تقيم سرعة القراءة لدى الطالبات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FBE1-0B36-4AA5-9903-4C3E2E850D9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CB6B-D064-4ED1-BF73-A3EA8D56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2166-2534-44F6-8DDE-1DE9A2F3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FD17-5278-4FEA-9554-4337FB18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7A7D-3738-4682-BD39-F772F68E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C1C3-40B3-4EA5-AB3A-6302EB79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A5CF-9549-443D-981F-F4A2E77A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3130-BBFC-42E7-8D27-2611B1E2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515B-E6DF-48F9-939E-62CA56C8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6FDE-3A17-4DFA-B232-8A87930C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AB71-A5D8-4927-9D87-A673C3EB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4A8B-E0B6-412F-A54D-51865F09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553B-1D68-46EF-9AEC-178C57F4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5EC6-581F-44A3-BC3C-2809B693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29CF-B801-4175-AA9C-FB7C3858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48E4-D9F4-4C73-8046-36F49F48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A788-95CE-4033-A42B-77A1C03BC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ACDE-9736-4F47-9217-F837B6F7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16226-CB67-4AE1-8773-FCF41631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5170F-3267-423F-B452-A0DFC896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97C02-9DF5-4806-B477-1BED6484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1A662-CD7A-4E47-A021-895E7A2D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5EBEA-3C38-4DAF-B8F2-A6439E3F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C728-1FBA-4B07-AC24-720782B5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65FDE-CEDF-40D7-8C38-B519ABF3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F04DD-4B99-4559-A2D4-E42BE677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9DAAB-F698-420E-966D-6B7C3469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EA6D0-8C30-420F-B1B3-AB5E0DFA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D5BA1-EB2D-4BA7-9540-6F1160E4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81343-B2F4-4A66-BB4E-C18039F3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6E628-4968-4EBA-ABAE-A42B7376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15C9E-CF35-4667-97B5-0BD4FF0D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DD1E2-288C-404D-9786-B6915DF5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C2A1E-865F-4DF3-AA76-7BC860F3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3AE-3F33-4104-93C6-C113547D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61B05-4705-4375-9A24-9E462E54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E0FDD-9F2E-4ADD-8365-F558F77F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CA60A-0AAF-407F-9989-F7D42C2C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AB9CA-6386-438E-8F3F-AF96B96C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2F798-C6B1-40C4-8ABA-1818D095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68B0F-DEF9-4047-A4F2-29D16ED6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84ED3-3552-4F06-B339-E91CD8A8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692EC-A773-4EC8-838D-75821376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FF809-B189-47B0-A8CF-03D80F26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617-D798-411D-830D-94DCB6F0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7284-78E9-494B-8E35-D3DAC609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006F-4ABA-4714-9EDF-47505F61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BE01-0DD0-4F77-91EA-82A3ECBA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D0FB-2D24-4104-90F6-472FEBBF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BC4C-813C-4B1B-B360-21EAE950B6C9}" type="slidenum">
              <a:rPr b="0" lang="ar-SA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35FC-2BE5-43A6-9040-9332A55E154E}" type="slidenum">
              <a:rPr b="0" lang="ar-SA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840A-4ACB-42C4-AF18-591159CA6346}" type="slidenum">
              <a:rPr b="0" lang="ar-SA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4C76-E2AE-428A-85F0-2BB036DC4712}" type="slidenum">
              <a:rPr b="0" lang="ar-SA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واجب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829080" y="2133720"/>
            <a:ext cx="8272440" cy="18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100" spc="-1" strike="noStrike">
                <a:solidFill>
                  <a:srgbClr val="404040"/>
                </a:solidFill>
                <a:latin typeface="Trebuchet MS"/>
              </a:rPr>
              <a:t>تعرفي على معنى </a:t>
            </a:r>
            <a:r>
              <a:rPr b="0" lang="en-US" sz="2100" spc="-1" strike="noStrike">
                <a:solidFill>
                  <a:srgbClr val="404040"/>
                </a:solidFill>
                <a:latin typeface="Trebuchet MS"/>
              </a:rPr>
              <a:t>SQ3R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100" spc="-1" strike="noStrike">
                <a:solidFill>
                  <a:srgbClr val="404040"/>
                </a:solidFill>
                <a:latin typeface="Trebuchet MS"/>
              </a:rPr>
              <a:t>ماهي الطريقة التي تتبعيها عند اختيارك كتاب للقراءة؟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933480" y="3689280"/>
            <a:ext cx="30765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رسم تخطيطي 3" descr=""/>
          <p:cNvPicPr/>
          <p:nvPr/>
        </p:nvPicPr>
        <p:blipFill>
          <a:blip r:embed="rId1"/>
          <a:stretch/>
        </p:blipFill>
        <p:spPr>
          <a:xfrm>
            <a:off x="176040" y="731880"/>
            <a:ext cx="74930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7238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757575"/>
                </a:solidFill>
                <a:latin typeface="Trebuchet MS"/>
              </a:rPr>
              <a:t>شرح نموذج تطبيقي من سيرة الرسول صلى الله عليه وسلم  لمهارة الأنصات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24360" y="320400"/>
            <a:ext cx="7239240" cy="13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عوائق الانصات</a:t>
            </a: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181440" y="1608120"/>
            <a:ext cx="72392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عوائق ذهنية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r" rtl="1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الانطباع والحكم السابق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r" rtl="1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الحالات النفسية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r" rtl="1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المشوشات البيئية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r" rtl="1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انتقائية المستمع.</a:t>
            </a:r>
            <a:br>
              <a:rPr sz="2400"/>
            </a:br>
            <a:br>
              <a:rPr sz="2400"/>
            </a:b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عنوان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6345360" cy="1322640"/>
          </a:xfrm>
          <a:prstGeom prst="rect">
            <a:avLst/>
          </a:prstGeom>
          <a:ln w="0">
            <a:noFill/>
          </a:ln>
        </p:spPr>
      </p:pic>
      <p:pic>
        <p:nvPicPr>
          <p:cNvPr id="239" name="Diagram 1" descr=""/>
          <p:cNvPicPr/>
          <p:nvPr/>
        </p:nvPicPr>
        <p:blipFill>
          <a:blip r:embed="rId2"/>
          <a:stretch/>
        </p:blipFill>
        <p:spPr>
          <a:xfrm>
            <a:off x="858960" y="2346480"/>
            <a:ext cx="60958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24360" y="260280"/>
            <a:ext cx="72406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3f7819"/>
                </a:solidFill>
                <a:latin typeface="Trebuchet MS"/>
              </a:rPr>
              <a:t>مراحل القراءة</a:t>
            </a:r>
            <a:r>
              <a:rPr b="0" lang="ar-SA" sz="3200" spc="-1" strike="noStrike">
                <a:solidFill>
                  <a:srgbClr val="3f7819"/>
                </a:solidFill>
                <a:latin typeface="Trebuchet MS"/>
              </a:rPr>
              <a:t>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1" name="Diagram 2" descr=""/>
          <p:cNvPicPr/>
          <p:nvPr/>
        </p:nvPicPr>
        <p:blipFill>
          <a:blip r:embed="rId1"/>
          <a:stretch/>
        </p:blipFill>
        <p:spPr>
          <a:xfrm>
            <a:off x="-19080" y="695160"/>
            <a:ext cx="724212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108360" y="896760"/>
            <a:ext cx="724212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3f7819"/>
                </a:solidFill>
                <a:latin typeface="Trebuchet MS"/>
              </a:rPr>
              <a:t>سمات القراءة:</a:t>
            </a:r>
            <a:br>
              <a:rPr sz="3600"/>
            </a:br>
            <a:br>
              <a:rPr sz="3600"/>
            </a:b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-تتيح العناية بتحليل الرسالة.</a:t>
            </a:r>
            <a:br>
              <a:rPr sz="2800"/>
            </a:b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-مجردة من مؤثرات الصوت.</a:t>
            </a:r>
            <a:br>
              <a:rPr sz="2800"/>
            </a:b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-ثبات الرسالة.</a:t>
            </a:r>
            <a:br>
              <a:rPr sz="2800"/>
            </a:b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-تحتاج لتعلم</a:t>
            </a: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عنوان 2" descr=""/>
          <p:cNvPicPr/>
          <p:nvPr/>
        </p:nvPicPr>
        <p:blipFill>
          <a:blip r:embed="rId1"/>
          <a:stretch/>
        </p:blipFill>
        <p:spPr>
          <a:xfrm>
            <a:off x="-324000" y="334800"/>
            <a:ext cx="7237440" cy="1030320"/>
          </a:xfrm>
          <a:prstGeom prst="rect">
            <a:avLst/>
          </a:prstGeom>
          <a:ln w="0">
            <a:noFill/>
          </a:ln>
        </p:spPr>
      </p:pic>
      <p:pic>
        <p:nvPicPr>
          <p:cNvPr id="244" name="عنصر نائب للمحتوى 3" descr=""/>
          <p:cNvPicPr/>
          <p:nvPr/>
        </p:nvPicPr>
        <p:blipFill>
          <a:blip r:embed="rId2"/>
          <a:stretch/>
        </p:blipFill>
        <p:spPr>
          <a:xfrm>
            <a:off x="884160" y="1474920"/>
            <a:ext cx="74059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عنوان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6345360" cy="1957680"/>
          </a:xfrm>
          <a:prstGeom prst="rect">
            <a:avLst/>
          </a:prstGeom>
          <a:ln w="0">
            <a:noFill/>
          </a:ln>
        </p:spPr>
      </p:pic>
      <p:pic>
        <p:nvPicPr>
          <p:cNvPr id="246" name="عنصر نائب للمحتوى 3" descr=""/>
          <p:cNvPicPr/>
          <p:nvPr/>
        </p:nvPicPr>
        <p:blipFill>
          <a:blip r:embed="rId2"/>
          <a:stretch/>
        </p:blipFill>
        <p:spPr>
          <a:xfrm>
            <a:off x="414360" y="2639880"/>
            <a:ext cx="7235640" cy="352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6348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ar-SA" sz="3200" spc="-1" strike="noStrike">
                <a:solidFill>
                  <a:srgbClr val="90c226"/>
                </a:solidFill>
                <a:latin typeface="Trebuchet MS"/>
              </a:rPr>
              <a:t>تمرين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90c226"/>
                </a:solidFill>
                <a:latin typeface="Trebuchet MS"/>
              </a:rPr>
              <a:t>اقرأي القصة خلال </a:t>
            </a:r>
            <a:r>
              <a:rPr b="1" lang="ar-SA" sz="3200" spc="-1" strike="noStrike">
                <a:solidFill>
                  <a:srgbClr val="90c226"/>
                </a:solidFill>
                <a:latin typeface="Trebuchet MS"/>
              </a:rPr>
              <a:t>30</a:t>
            </a:r>
            <a:r>
              <a:rPr b="1" lang="ar-SA" sz="3200" spc="-1" strike="noStrike">
                <a:solidFill>
                  <a:srgbClr val="90c226"/>
                </a:solidFill>
                <a:latin typeface="Trebuchet MS"/>
              </a:rPr>
              <a:t> ثانية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108000" y="5516280"/>
            <a:ext cx="9072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7242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ar-SA" sz="3200" spc="-1" strike="noStrike">
                <a:solidFill>
                  <a:srgbClr val="90c226"/>
                </a:solidFill>
                <a:latin typeface="Trebuchet MS"/>
              </a:rPr>
              <a:t>ثانياً: أساليب القراءة وفقاً لسرعة القراءة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90c226"/>
                </a:solidFill>
                <a:latin typeface="Trebuchet MS"/>
              </a:rPr>
              <a:t>ثانياً : وفقا لسرعة القراءة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0" name="عنصر نائب للمحتوى 3" descr=""/>
          <p:cNvPicPr/>
          <p:nvPr/>
        </p:nvPicPr>
        <p:blipFill>
          <a:blip r:embed="rId1"/>
          <a:stretch/>
        </p:blipFill>
        <p:spPr>
          <a:xfrm>
            <a:off x="-19080" y="1255680"/>
            <a:ext cx="827244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11280" y="90792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404040"/>
                </a:solidFill>
                <a:latin typeface="Trebuchet MS"/>
              </a:rPr>
              <a:t>المحاضرة الثالثة</a:t>
            </a:r>
            <a:r>
              <a:rPr b="1" lang="ar-SA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Trebuchet MS"/>
              </a:rPr>
              <a:t>الوحدة الثالثة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800" spc="-1" strike="noStrike">
                <a:solidFill>
                  <a:srgbClr val="404040"/>
                </a:solidFill>
                <a:latin typeface="Trebuchet MS"/>
              </a:rPr>
              <a:t>مهارات الاستقبال</a:t>
            </a:r>
            <a:br>
              <a:rPr sz="2000"/>
            </a:b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كيف تحسن سرعتك في القراءة</a:t>
            </a:r>
            <a:br>
              <a:rPr sz="3600"/>
            </a:b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ص </a:t>
            </a: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65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ثالثاً: أساليب القراءة وفقاً لاستعمال الصوت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4070160" y="2492280"/>
            <a:ext cx="303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قراءة الصام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قراءة الجه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عنوان 2" descr=""/>
          <p:cNvPicPr/>
          <p:nvPr/>
        </p:nvPicPr>
        <p:blipFill>
          <a:blip r:embed="rId1"/>
          <a:stretch/>
        </p:blipFill>
        <p:spPr>
          <a:xfrm>
            <a:off x="901800" y="378000"/>
            <a:ext cx="6346800" cy="1322280"/>
          </a:xfrm>
          <a:prstGeom prst="rect">
            <a:avLst/>
          </a:prstGeom>
          <a:ln w="0">
            <a:noFill/>
          </a:ln>
        </p:spPr>
      </p:pic>
      <p:pic>
        <p:nvPicPr>
          <p:cNvPr id="255" name="عنصر نائب للمحتوى 3" descr=""/>
          <p:cNvPicPr/>
          <p:nvPr/>
        </p:nvPicPr>
        <p:blipFill>
          <a:blip r:embed="rId2"/>
          <a:stretch/>
        </p:blipFill>
        <p:spPr>
          <a:xfrm>
            <a:off x="-66600" y="1500120"/>
            <a:ext cx="834552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مشتتات الانتباه في القراءة</a:t>
            </a: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184464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Trebuchet MS"/>
              </a:rPr>
              <a:t>مشتتات تتعلق بمحيط القراءة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 algn="r" rtl="1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Trebuchet MS"/>
              </a:rPr>
              <a:t>مشتتات شخصية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90c226"/>
                </a:solidFill>
                <a:latin typeface="Trebuchet MS"/>
              </a:rPr>
              <a:t>القراءة و المحتوى الالكتروني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9" name="Diagram 2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85345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تطبيق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TextBox 2"/>
          <p:cNvSpPr/>
          <p:nvPr/>
        </p:nvSpPr>
        <p:spPr>
          <a:xfrm>
            <a:off x="1289160" y="1930320"/>
            <a:ext cx="5668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buClr>
                <a:srgbClr val="2a50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a5010"/>
                </a:solidFill>
                <a:latin typeface="Arial"/>
              </a:rPr>
              <a:t>ماهي اكثر اهم وسائل التواصل الاجتماعي قبل </a:t>
            </a:r>
            <a:r>
              <a:rPr b="0" lang="ar-SA" sz="2400" spc="-1" strike="noStrike">
                <a:solidFill>
                  <a:srgbClr val="2a501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2a5010"/>
                </a:solidFill>
                <a:latin typeface="Arial"/>
              </a:rPr>
              <a:t> سنوات , </a:t>
            </a:r>
            <a:r>
              <a:rPr b="0" lang="ar-SA" sz="2400" spc="-1" strike="noStrike">
                <a:solidFill>
                  <a:srgbClr val="2a501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2a5010"/>
                </a:solidFill>
                <a:latin typeface="Arial"/>
              </a:rPr>
              <a:t> سنوات ,الان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2a50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a5010"/>
                </a:solidFill>
                <a:latin typeface="Arial"/>
              </a:rPr>
              <a:t>بإجابة الان: اذكري ثلاث طرق يمكن استخدامها سلبيا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a5010"/>
                </a:solidFill>
                <a:latin typeface="Arial"/>
              </a:rPr>
              <a:t>وثلاث طرق يمكن استخدامها للدعوة الى الاسل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2a50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التعامل مع المحتوى الالكتروني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3" name="Diagram 2" descr=""/>
          <p:cNvPicPr/>
          <p:nvPr/>
        </p:nvPicPr>
        <p:blipFill>
          <a:blip r:embed="rId1"/>
          <a:stretch/>
        </p:blipFill>
        <p:spPr>
          <a:xfrm>
            <a:off x="1103400" y="969840"/>
            <a:ext cx="65595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6778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3f7819"/>
                </a:solidFill>
                <a:latin typeface="Trebuchet MS"/>
              </a:rPr>
              <a:t>توصيات للقراءة الالكترونية الفعالة</a:t>
            </a:r>
            <a:r>
              <a:rPr b="0" lang="ar-SA" sz="3600" spc="-1" strike="noStrike">
                <a:solidFill>
                  <a:srgbClr val="3f7819"/>
                </a:solidFill>
                <a:latin typeface="Trebuchet MS"/>
              </a:rPr>
              <a:t>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162864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استخدام طريقة عرض مناسبة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استخدام خط مناسب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استخدام القراءة التصفحية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في البريد الالكتروني افرز البريد مستخدماً عنوان الرسالة ، والكاتب 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تعلم مصطلحات الانترنت واختصاراته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استخدام شاشة مناسبة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ابعاد النظر عن الشاشة كل </a:t>
            </a: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15</a:t>
            </a: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دقيقة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6347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عند زيارة المكتبة و عند تصفحك الكتاب ,كيف يتم اختيارك للكتاب المناسب ؟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353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عند زيارة المكتبة و عند تصفحك الكتاب ,كيف يتم اختيارك للكتاب المناسب ؟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826920" y="1197000"/>
            <a:ext cx="6653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1-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سهيل الشراء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أختر المكتبات التي تسهل عليك عملية الشراء ، حيث هناك مكتبات تمتلك الفهارس الالكترونية ، وتقسم الكتب بشكل مواضيع رئيسية و فرعية ، مما يسهل عملية السؤال و البحث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2-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ستشير الخبراء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عليك استشارة أصحاب الخبرة ، ليدلك على الكتاب المفيد و النافع و المناسب ، وقم بتسجيل أسماء الكتب التي يقترحها عليك ،و أسماء الكتب التي تريدها أن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-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قم بتصفح استكشافي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و يعنى هذا التصفح السريع لتستكشف محتوى الكتاب ، و لا تحاول أخذ وقت في القراءة حتى لا تتحول الى نوع آخر من القراءة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-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قم بعمل خريطة ذهنية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حاول عمل خريطة ذهنية لكل كتاب تتصفحه و تقرأه ، وذلك لتسهيل عملية القراءة فيما بعد ، و تدوين أهم النقاط و الأفكار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-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ستوى التعليمي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عرف على الكتاب و اكتشف مستواه العلمي من خلال قراءة المقدمة و الخاتمة و الكلمات التي يتضمنها الغلاف ، و الفهرس العام و التفصيلي المصاحب للكتاب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كتاب القدي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539640" y="1484280"/>
            <a:ext cx="6723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مقدار الوقت المبذول في الاتصال بالوظائف السكرتار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5%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في الكتا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10%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في القراء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35%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في الحدي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في الانص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353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عند زيارة المكتبة و عند تصفحك الكتاب ,كيف يتم اختيارك للكتاب المناسب ؟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TextBox 1"/>
          <p:cNvSpPr/>
          <p:nvPr/>
        </p:nvSpPr>
        <p:spPr>
          <a:xfrm>
            <a:off x="539640" y="1484280"/>
            <a:ext cx="6651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6-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عرف على تاريخ النشر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عليك معرفة تاريخ النشر ، و خاصة في الفنون العلمية و التكنلوجية التي تتطور بسرعة أو هي وليدة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7-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صادر و المراجع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إطلع على المصادر و المراجع لتتعرف على موارد صيغة المعلومات للمؤلف ، واكتشاف الخلفية الثقافية و العلمية للكاتب أو يشير المؤلف إلى طبيعة معالجته للموضوعات التي في كتبه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8-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درج المعرفي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بعض الكتب قد كتبت بتسلسل معين ، ففيها يترقى القارئ من الأنى إلى الأعلى حتى تكون الفائدة منها كاملة غير منقوصة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9-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تحديد السنوي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حدد لك سنوياً أو شهرياً لما تريد من إنجازه من قراءة كتب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10-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أقرأ الكتاب القدي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قراءة الكتاب القديم الفريد من نوعه و شراؤه ، و عدم الاعتماد على الكتب الجديدة فقط ، لأن العلم الحقيقي في بعض المجلات هو البحث عنه في الكتاب القدي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252720" y="-612720"/>
            <a:ext cx="724212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90c226"/>
                </a:solidFill>
                <a:latin typeface="Trebuchet MS"/>
              </a:rPr>
              <a:t>أولاً:مهارات الانصات </a:t>
            </a:r>
            <a:br>
              <a:rPr sz="3200"/>
            </a:br>
            <a:r>
              <a:rPr b="0" lang="ar-SA" sz="3200" spc="-1" strike="noStrike">
                <a:solidFill>
                  <a:srgbClr val="90c226"/>
                </a:solidFill>
                <a:latin typeface="Trebuchet MS"/>
              </a:rPr>
              <a:t>أهمية الانصات</a:t>
            </a:r>
            <a:r>
              <a:rPr b="0" lang="ar-SA" sz="3200" spc="-1" strike="noStrike">
                <a:solidFill>
                  <a:srgbClr val="90c226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Content Placeholder 2"/>
          <p:cNvSpPr/>
          <p:nvPr/>
        </p:nvSpPr>
        <p:spPr>
          <a:xfrm>
            <a:off x="611280" y="1700280"/>
            <a:ext cx="6777000" cy="40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2c3c4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ebuchet MS"/>
                <a:cs typeface="Tahoma"/>
              </a:rPr>
              <a:t>انه من أهم مقومات التعل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2c3c4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ebuchet MS"/>
                <a:cs typeface="Tahoma"/>
              </a:rPr>
              <a:t>يعد أمراً اساسياً في معظم الوظائ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2c3c4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ebuchet MS"/>
                <a:cs typeface="Tahoma"/>
              </a:rPr>
              <a:t>تقول الدراسات ان الانسان يمضي نصف وقته الاتصال منصتاً.(المدراء </a:t>
            </a:r>
            <a:r>
              <a:rPr b="0" lang="ar-SA" sz="2600" spc="-1" strike="noStrike">
                <a:solidFill>
                  <a:srgbClr val="000000"/>
                </a:solidFill>
                <a:latin typeface="Trebuchet MS"/>
                <a:ea typeface="Tahoma"/>
              </a:rPr>
              <a:t>60</a:t>
            </a:r>
            <a:r>
              <a:rPr b="0" lang="ar-SA" sz="2600" spc="-1" strike="noStrike">
                <a:solidFill>
                  <a:srgbClr val="000000"/>
                </a:solidFill>
                <a:latin typeface="Trebuchet MS"/>
                <a:ea typeface="Tahoma"/>
              </a:rPr>
              <a:t>-</a:t>
            </a:r>
            <a:r>
              <a:rPr b="0" lang="ar-SA" sz="2600" spc="-1" strike="noStrike">
                <a:solidFill>
                  <a:srgbClr val="000000"/>
                </a:solidFill>
                <a:latin typeface="Trebuchet MS"/>
                <a:ea typeface="Tahoma"/>
              </a:rPr>
              <a:t>9</a:t>
            </a:r>
            <a:r>
              <a:rPr b="0" lang="ar-SA" sz="2600" spc="-1" strike="noStrike">
                <a:solidFill>
                  <a:srgbClr val="000000"/>
                </a:solidFill>
                <a:latin typeface="Trebuchet MS"/>
                <a:ea typeface="Tahoma"/>
              </a:rPr>
              <a:t>-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2c3c4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ebuchet MS"/>
                <a:cs typeface="Tahoma"/>
              </a:rPr>
              <a:t>يساعد الانصات الجيد على تكوين البيئة الاسرية الآمن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2c3c4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ebuchet MS"/>
                <a:cs typeface="Tahoma"/>
              </a:rPr>
              <a:t>الانصات الجيد يساعد في بناء العلاقات بالآخرين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2c3c4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196640"/>
            <a:ext cx="72421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(</a:t>
            </a: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السماع, الأستماع والأنصات</a:t>
            </a: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)</a:t>
            </a:r>
            <a:br>
              <a:rPr sz="3600"/>
            </a:b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برأيك هل هناك فرق بينها أم هي مجرد مرادفات لبعضها ؟ </a:t>
            </a:r>
            <a:r>
              <a:rPr b="0" lang="ar-SA" sz="3600" spc="-1" strike="noStrike" u="sng">
                <a:solidFill>
                  <a:srgbClr val="90c226"/>
                </a:solidFill>
                <a:uFillTx/>
                <a:latin typeface="Trebuchet MS"/>
              </a:rPr>
              <a:t>ناقشي مع زميلاتك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7" name="Picture 4" descr="RF4781227"/>
          <p:cNvPicPr/>
          <p:nvPr/>
        </p:nvPicPr>
        <p:blipFill>
          <a:blip r:embed="rId1"/>
          <a:stretch/>
        </p:blipFill>
        <p:spPr>
          <a:xfrm>
            <a:off x="457200" y="4148280"/>
            <a:ext cx="375120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72421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ar-SA" sz="3200" spc="-1" strike="noStrike">
                <a:solidFill>
                  <a:srgbClr val="90c226"/>
                </a:solidFill>
                <a:latin typeface="Trebuchet MS"/>
              </a:rPr>
              <a:t>ماهو الفرق بين السماع والاستماع والإنصات؟</a:t>
            </a:r>
            <a:r>
              <a:rPr b="0" lang="ar-SA" sz="3200" spc="-1" strike="noStrike">
                <a:solidFill>
                  <a:srgbClr val="90c226"/>
                </a:solidFill>
                <a:latin typeface="Trebuchet MS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689040" y="1916280"/>
            <a:ext cx="67784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مستطيل 3"/>
          <p:cNvSpPr/>
          <p:nvPr/>
        </p:nvSpPr>
        <p:spPr>
          <a:xfrm>
            <a:off x="714240" y="1357200"/>
            <a:ext cx="712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757575"/>
                </a:solidFill>
                <a:latin typeface="Simplified Arabic"/>
                <a:cs typeface="Simplified Arabic"/>
              </a:rPr>
              <a:t>الإنصات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هو الاستماع للرسائل اللفظية و التنبيه للتعبيرات اللغوية و الجسدية مع ادراك المعاني والخلوص الى مراد المتحدث و الاستجابة الملائم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Content Placeholder 3" descr=""/>
          <p:cNvPicPr/>
          <p:nvPr/>
        </p:nvPicPr>
        <p:blipFill>
          <a:blip r:embed="rId1"/>
          <a:stretch/>
        </p:blipFill>
        <p:spPr>
          <a:xfrm>
            <a:off x="609480" y="2152800"/>
            <a:ext cx="634536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من واقع تجربتك في الحياة:</a:t>
            </a:r>
            <a:br>
              <a:rPr sz="3600"/>
            </a:br>
            <a:br>
              <a:rPr sz="3600"/>
            </a:b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هل تعتقدين بوجود مهارات للأنصات؟ </a:t>
            </a:r>
            <a:br>
              <a:rPr sz="3600"/>
            </a:b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ناقشيها مع زميلاتك.</a:t>
            </a:r>
            <a:br>
              <a:rPr sz="3600"/>
            </a:br>
            <a:br>
              <a:rPr sz="3600"/>
            </a:b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هاتف عطلان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3" name="Picture 1" descr=""/>
          <p:cNvPicPr/>
          <p:nvPr/>
        </p:nvPicPr>
        <p:blipFill>
          <a:blip r:embed="rId1"/>
          <a:stretch/>
        </p:blipFill>
        <p:spPr>
          <a:xfrm>
            <a:off x="1908000" y="3860640"/>
            <a:ext cx="2951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4:35:09Z</dcterms:created>
  <dc:creator>toshiba</dc:creator>
  <dc:description/>
  <dc:language>en-US</dc:language>
  <cp:lastModifiedBy>ahmed albuhamad</cp:lastModifiedBy>
  <dcterms:modified xsi:type="dcterms:W3CDTF">2016-10-10T21:47:51Z</dcterms:modified>
  <cp:revision>140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AB2DD17AFC1B7478A4B8147BFF72CF7</vt:lpwstr>
  </property>
</Properties>
</file>