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5F63-6DBB-46ED-95A7-312BF0CBD65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EFD8-FDD3-48FF-842D-32AF98ACBB4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تقيم سرعة القراءة لدى الطالبات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1956-54C9-4127-A8A6-DF1AEFBE9B9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E722-15BE-48B1-859F-3143F1331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7E84-7039-4647-B1ED-7DC93F6C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69C7-6B9D-47A1-B183-7412431F3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A68C-E284-488B-B2C4-0C7E33660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8309-D436-4C65-9595-60CF632F7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34E0-1F1B-40AC-928D-1EF64A77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6C63-57E8-4B30-A5D4-2A015E30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F432-5D2B-475F-B60D-A5BEC731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A0E1-A6EF-4CD6-BDEB-4B99279A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404B-57F1-4FF0-8587-E8943FBB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442F-B76D-4B04-8F7C-56830FBD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ACC6-220C-44CF-A5A9-61D2F02E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57A2-0048-423F-868A-7C6E95FC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9DC2-A9F7-4FE2-9612-DA3DD02D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4535-3CCB-423C-B994-B3D39ABB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49F0-972D-4E9B-9A4A-4C3BE47FE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4253-0E7A-43BB-B9A6-58C702F8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B60B5-A6B9-42D0-B241-8AFB48D3B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6BAD8-3299-4217-8D63-3023246B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6A6B9-5B4D-46CF-A98A-B4C0DF74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AFF08-C3F3-4BE0-A055-B6FDFF0C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7E181-C52B-42A7-9E15-088B5527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D4B1-E810-4748-ACFE-2AA38665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3E521-E798-4261-91AB-40FD0F36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6B78F-469A-4F5B-B5DC-2934FF75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2CC06-35A5-41C9-A888-4EB9C219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E6C1E-77D5-4BFC-A403-9089CBE7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F9F65-288B-4780-9345-DC0517EE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89B92-5E26-4B6E-BF5E-E627BBD75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5FA00-2683-44D2-92F7-B6C5A66C2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ABEF1-B0A5-4573-A7BC-BD56B4FC7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FC44B-B66B-41E8-AEEC-127D945F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739D0-6DD3-4D22-95E9-66D7184D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AB89-E574-4809-96E0-3FBBFB69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1EEFC-571B-4DFD-876D-44966696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C5E39-F542-4D8B-A039-54F6AE3E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E13CB-64AE-4DCF-A475-EF5B45B6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B50B9-1540-4A46-BDB0-3E3C5BBD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E0872-9EDC-4356-8E81-A0E3F046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89D25-E3C6-4550-A77E-B2AD0BA7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2A92C-BB10-4836-91E3-4F940B85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D1AA7-464F-4467-A01C-A5262D11B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18C6D-681F-4C20-958F-35508E5EE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E4BF-68F1-4D28-AC1D-3D0D16C9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A463-5319-4B81-B22C-1ED15850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A56C-42CC-47F2-95E9-7A8D83E9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754A-9AEB-40EA-BFBA-FB756B84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B6E2-1AC5-4C23-AAED-32252BEA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2AE5-75B7-4896-B813-78F31D1862E0}" type="slidenum">
              <a:rPr b="0" lang="ar-SA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799D-250A-4E4A-AA6B-764FC1E92795}" type="slidenum">
              <a:rPr b="0" lang="ar-SA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01EE-C54B-408D-9A63-B543B3491167}" type="slidenum">
              <a:rPr b="0" lang="ar-SA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1633-7512-4268-9342-75A35EC44492}" type="slidenum">
              <a:rPr b="0" lang="ar-SA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90c226"/>
                </a:solidFill>
                <a:latin typeface="Trebuchet MS"/>
              </a:rPr>
              <a:t>واجب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829080" y="2133720"/>
            <a:ext cx="8272440" cy="18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100" spc="-1" strike="noStrike">
                <a:solidFill>
                  <a:srgbClr val="404040"/>
                </a:solidFill>
                <a:latin typeface="Trebuchet MS"/>
              </a:rPr>
              <a:t>تعرفي على معنى </a:t>
            </a:r>
            <a:r>
              <a:rPr b="0" lang="en-US" sz="2100" spc="-1" strike="noStrike">
                <a:solidFill>
                  <a:srgbClr val="404040"/>
                </a:solidFill>
                <a:latin typeface="Trebuchet MS"/>
              </a:rPr>
              <a:t>SQ3R</a:t>
            </a: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100" spc="-1" strike="noStrike">
                <a:solidFill>
                  <a:srgbClr val="404040"/>
                </a:solidFill>
                <a:latin typeface="Trebuchet MS"/>
              </a:rPr>
              <a:t>ماهي الطريقة التي تتبعيها عند اختيارك كتاب للقراءة؟</a:t>
            </a: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1"/>
          <a:stretch/>
        </p:blipFill>
        <p:spPr>
          <a:xfrm>
            <a:off x="933480" y="3689280"/>
            <a:ext cx="30765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رسم تخطيطي 3" descr=""/>
          <p:cNvPicPr/>
          <p:nvPr/>
        </p:nvPicPr>
        <p:blipFill>
          <a:blip r:embed="rId1"/>
          <a:stretch/>
        </p:blipFill>
        <p:spPr>
          <a:xfrm>
            <a:off x="176040" y="731880"/>
            <a:ext cx="74930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72388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br>
              <a:rPr sz="4000"/>
            </a:br>
            <a:r>
              <a:rPr b="0" lang="ar-SA" sz="4000" spc="-1" strike="noStrike">
                <a:solidFill>
                  <a:srgbClr val="757575"/>
                </a:solidFill>
                <a:latin typeface="Trebuchet MS"/>
              </a:rPr>
              <a:t>شرح نموذج تطبيقي من سيرة الرسول صلى الله عليه وسلم  لمهارة الأنصات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24360" y="320400"/>
            <a:ext cx="7239240" cy="130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90c226"/>
                </a:solidFill>
                <a:latin typeface="Trebuchet MS"/>
              </a:rPr>
              <a:t>عوائق الانصات</a:t>
            </a:r>
            <a:r>
              <a:rPr b="0" lang="ar-SA" sz="3600" spc="-1" strike="noStrike">
                <a:solidFill>
                  <a:srgbClr val="90c226"/>
                </a:solidFill>
                <a:latin typeface="Trebuchet MS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181440" y="1608120"/>
            <a:ext cx="723924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Trebuchet MS"/>
              </a:rPr>
              <a:t>عوائق ذهنية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 algn="r" rtl="1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Trebuchet MS"/>
              </a:rPr>
              <a:t>الانطباع والحكم السابق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 algn="r" rtl="1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Trebuchet MS"/>
              </a:rPr>
              <a:t>الحالات النفسية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 algn="r" rtl="1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Trebuchet MS"/>
              </a:rPr>
              <a:t>المشوشات البيئية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 algn="r" rtl="1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Trebuchet MS"/>
              </a:rPr>
              <a:t>انتقائية المستمع.</a:t>
            </a:r>
            <a:br>
              <a:rPr sz="2400"/>
            </a:br>
            <a:br>
              <a:rPr sz="2400"/>
            </a:br>
            <a:r>
              <a:rPr b="0" lang="ar-SA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عنوان 2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6345360" cy="1322640"/>
          </a:xfrm>
          <a:prstGeom prst="rect">
            <a:avLst/>
          </a:prstGeom>
          <a:ln w="0">
            <a:noFill/>
          </a:ln>
        </p:spPr>
      </p:pic>
      <p:pic>
        <p:nvPicPr>
          <p:cNvPr id="239" name="Diagram 1" descr=""/>
          <p:cNvPicPr/>
          <p:nvPr/>
        </p:nvPicPr>
        <p:blipFill>
          <a:blip r:embed="rId2"/>
          <a:stretch/>
        </p:blipFill>
        <p:spPr>
          <a:xfrm>
            <a:off x="858960" y="2346480"/>
            <a:ext cx="609588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24360" y="260280"/>
            <a:ext cx="72406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3f7819"/>
                </a:solidFill>
                <a:latin typeface="Trebuchet MS"/>
              </a:rPr>
              <a:t>مراحل القراءة</a:t>
            </a:r>
            <a:r>
              <a:rPr b="0" lang="ar-SA" sz="3200" spc="-1" strike="noStrike">
                <a:solidFill>
                  <a:srgbClr val="3f7819"/>
                </a:solidFill>
                <a:latin typeface="Trebuchet MS"/>
              </a:rPr>
              <a:t>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1" name="Diagram 2" descr=""/>
          <p:cNvPicPr/>
          <p:nvPr/>
        </p:nvPicPr>
        <p:blipFill>
          <a:blip r:embed="rId1"/>
          <a:stretch/>
        </p:blipFill>
        <p:spPr>
          <a:xfrm>
            <a:off x="-19080" y="695160"/>
            <a:ext cx="724212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108360" y="896760"/>
            <a:ext cx="724212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3f7819"/>
                </a:solidFill>
                <a:latin typeface="Trebuchet MS"/>
              </a:rPr>
              <a:t>سمات القراءة:</a:t>
            </a:r>
            <a:br>
              <a:rPr sz="3600"/>
            </a:br>
            <a:br>
              <a:rPr sz="3600"/>
            </a:br>
            <a:r>
              <a:rPr b="0" lang="ar-SA" sz="2800" spc="-1" strike="noStrike">
                <a:solidFill>
                  <a:srgbClr val="000000"/>
                </a:solidFill>
                <a:latin typeface="Trebuchet MS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Trebuchet MS"/>
              </a:rPr>
              <a:t>-تتيح العناية بتحليل الرسالة.</a:t>
            </a:r>
            <a:br>
              <a:rPr sz="2800"/>
            </a:b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Trebuchet MS"/>
              </a:rPr>
              <a:t>-مجردة من مؤثرات الصوت.</a:t>
            </a:r>
            <a:br>
              <a:rPr sz="2800"/>
            </a:b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Trebuchet MS"/>
              </a:rPr>
              <a:t>-ثبات الرسالة.</a:t>
            </a:r>
            <a:br>
              <a:rPr sz="2800"/>
            </a:b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Trebuchet MS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Trebuchet MS"/>
              </a:rPr>
              <a:t>-تحتاج لتعلم</a:t>
            </a:r>
            <a:r>
              <a:rPr b="0" lang="ar-SA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عنوان 2" descr=""/>
          <p:cNvPicPr/>
          <p:nvPr/>
        </p:nvPicPr>
        <p:blipFill>
          <a:blip r:embed="rId1"/>
          <a:stretch/>
        </p:blipFill>
        <p:spPr>
          <a:xfrm>
            <a:off x="-324000" y="334800"/>
            <a:ext cx="7237440" cy="1030320"/>
          </a:xfrm>
          <a:prstGeom prst="rect">
            <a:avLst/>
          </a:prstGeom>
          <a:ln w="0">
            <a:noFill/>
          </a:ln>
        </p:spPr>
      </p:pic>
      <p:pic>
        <p:nvPicPr>
          <p:cNvPr id="244" name="عنصر نائب للمحتوى 3" descr=""/>
          <p:cNvPicPr/>
          <p:nvPr/>
        </p:nvPicPr>
        <p:blipFill>
          <a:blip r:embed="rId2"/>
          <a:stretch/>
        </p:blipFill>
        <p:spPr>
          <a:xfrm>
            <a:off x="884160" y="1474920"/>
            <a:ext cx="740592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عنوان 2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6345360" cy="1957680"/>
          </a:xfrm>
          <a:prstGeom prst="rect">
            <a:avLst/>
          </a:prstGeom>
          <a:ln w="0">
            <a:noFill/>
          </a:ln>
        </p:spPr>
      </p:pic>
      <p:pic>
        <p:nvPicPr>
          <p:cNvPr id="246" name="عنصر نائب للمحتوى 3" descr=""/>
          <p:cNvPicPr/>
          <p:nvPr/>
        </p:nvPicPr>
        <p:blipFill>
          <a:blip r:embed="rId2"/>
          <a:stretch/>
        </p:blipFill>
        <p:spPr>
          <a:xfrm>
            <a:off x="414360" y="2639880"/>
            <a:ext cx="7235640" cy="352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6348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ar-SA" sz="3200" spc="-1" strike="noStrike">
                <a:solidFill>
                  <a:srgbClr val="90c226"/>
                </a:solidFill>
                <a:latin typeface="Trebuchet MS"/>
              </a:rPr>
              <a:t>تمرين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90c226"/>
                </a:solidFill>
                <a:latin typeface="Trebuchet MS"/>
              </a:rPr>
              <a:t>اقرأي القصة خلال </a:t>
            </a:r>
            <a:r>
              <a:rPr b="1" lang="ar-SA" sz="3200" spc="-1" strike="noStrike">
                <a:solidFill>
                  <a:srgbClr val="90c226"/>
                </a:solidFill>
                <a:latin typeface="Trebuchet MS"/>
              </a:rPr>
              <a:t>30</a:t>
            </a:r>
            <a:r>
              <a:rPr b="1" lang="ar-SA" sz="3200" spc="-1" strike="noStrike">
                <a:solidFill>
                  <a:srgbClr val="90c226"/>
                </a:solidFill>
                <a:latin typeface="Trebuchet MS"/>
              </a:rPr>
              <a:t> ثانية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108000" y="5516280"/>
            <a:ext cx="907272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-360" y="-27360"/>
            <a:ext cx="7242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ar-SA" sz="3200" spc="-1" strike="noStrike">
                <a:solidFill>
                  <a:srgbClr val="90c226"/>
                </a:solidFill>
                <a:latin typeface="Trebuchet MS"/>
              </a:rPr>
              <a:t>ثانياً: أساليب القراءة وفقاً لسرعة القراءة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ar-SA" sz="3200" spc="-1" strike="noStrike">
                <a:solidFill>
                  <a:srgbClr val="90c226"/>
                </a:solidFill>
                <a:latin typeface="Trebuchet MS"/>
              </a:rPr>
              <a:t>ثانياً : وفقا لسرعة القراءة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0" name="عنصر نائب للمحتوى 3" descr=""/>
          <p:cNvPicPr/>
          <p:nvPr/>
        </p:nvPicPr>
        <p:blipFill>
          <a:blip r:embed="rId1"/>
          <a:stretch/>
        </p:blipFill>
        <p:spPr>
          <a:xfrm>
            <a:off x="-19080" y="1255680"/>
            <a:ext cx="827244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11280" y="907920"/>
            <a:ext cx="63482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404040"/>
                </a:solidFill>
                <a:latin typeface="Trebuchet MS"/>
              </a:rPr>
              <a:t>المحاضرة الثالثة</a:t>
            </a:r>
            <a:r>
              <a:rPr b="1" lang="ar-SA" sz="3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Trebuchet MS"/>
              </a:rPr>
              <a:t>الوحدة الثالثة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800" spc="-1" strike="noStrike">
                <a:solidFill>
                  <a:srgbClr val="404040"/>
                </a:solidFill>
                <a:latin typeface="Trebuchet MS"/>
              </a:rPr>
              <a:t>مهارات الاستقبال</a:t>
            </a:r>
            <a:br>
              <a:rPr sz="2000"/>
            </a:b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90c226"/>
                </a:solidFill>
                <a:latin typeface="Trebuchet MS"/>
              </a:rPr>
              <a:t>كيف تحسن سرعتك في القراءة</a:t>
            </a:r>
            <a:br>
              <a:rPr sz="3600"/>
            </a:br>
            <a:r>
              <a:rPr b="0" lang="ar-SA" sz="3600" spc="-1" strike="noStrike">
                <a:solidFill>
                  <a:srgbClr val="90c226"/>
                </a:solidFill>
                <a:latin typeface="Trebuchet MS"/>
              </a:rPr>
              <a:t>ص </a:t>
            </a:r>
            <a:r>
              <a:rPr b="0" lang="ar-SA" sz="3600" spc="-1" strike="noStrike">
                <a:solidFill>
                  <a:srgbClr val="90c226"/>
                </a:solidFill>
                <a:latin typeface="Trebuchet MS"/>
              </a:rPr>
              <a:t>65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90c226"/>
                </a:solidFill>
                <a:latin typeface="Trebuchet MS"/>
              </a:rPr>
              <a:t>ثالثاً: أساليب القراءة وفقاً لاستعمال الصوت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TextBox 2"/>
          <p:cNvSpPr/>
          <p:nvPr/>
        </p:nvSpPr>
        <p:spPr>
          <a:xfrm>
            <a:off x="4070160" y="2492280"/>
            <a:ext cx="303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r" rtl="1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القراءة الصامت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القراءة الجه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عنوان 2" descr=""/>
          <p:cNvPicPr/>
          <p:nvPr/>
        </p:nvPicPr>
        <p:blipFill>
          <a:blip r:embed="rId1"/>
          <a:stretch/>
        </p:blipFill>
        <p:spPr>
          <a:xfrm>
            <a:off x="901800" y="378000"/>
            <a:ext cx="6346800" cy="1322280"/>
          </a:xfrm>
          <a:prstGeom prst="rect">
            <a:avLst/>
          </a:prstGeom>
          <a:ln w="0">
            <a:noFill/>
          </a:ln>
        </p:spPr>
      </p:pic>
      <p:pic>
        <p:nvPicPr>
          <p:cNvPr id="255" name="عنصر نائب للمحتوى 3" descr=""/>
          <p:cNvPicPr/>
          <p:nvPr/>
        </p:nvPicPr>
        <p:blipFill>
          <a:blip r:embed="rId2"/>
          <a:stretch/>
        </p:blipFill>
        <p:spPr>
          <a:xfrm>
            <a:off x="-66600" y="1500120"/>
            <a:ext cx="834552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90c226"/>
                </a:solidFill>
                <a:latin typeface="Trebuchet MS"/>
              </a:rPr>
              <a:t>مشتتات الانتباه في القراءة</a:t>
            </a:r>
            <a:r>
              <a:rPr b="0" lang="ar-SA" sz="3600" spc="-1" strike="noStrike">
                <a:solidFill>
                  <a:srgbClr val="90c226"/>
                </a:solidFill>
                <a:latin typeface="Trebuchet MS"/>
              </a:rPr>
              <a:t>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09120" y="184464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Trebuchet MS"/>
              </a:rPr>
              <a:t>مشتتات تتعلق بمحيط القراءة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 algn="r" rtl="1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Trebuchet MS"/>
              </a:rPr>
              <a:t>مشتتات شخصية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90c226"/>
                </a:solidFill>
                <a:latin typeface="Trebuchet MS"/>
              </a:rPr>
              <a:t>القراءة و المحتوى الالكتروني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9" name="Diagram 2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853452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90c226"/>
                </a:solidFill>
                <a:latin typeface="Trebuchet MS"/>
              </a:rPr>
              <a:t>تطبيق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1" name="TextBox 2"/>
          <p:cNvSpPr/>
          <p:nvPr/>
        </p:nvSpPr>
        <p:spPr>
          <a:xfrm>
            <a:off x="1289160" y="1930320"/>
            <a:ext cx="5668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buClr>
                <a:srgbClr val="2a50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a5010"/>
                </a:solidFill>
                <a:latin typeface="Arial"/>
              </a:rPr>
              <a:t>ماهي اكثر اهم وسائل التواصل الاجتماعي قبل </a:t>
            </a:r>
            <a:r>
              <a:rPr b="0" lang="ar-SA" sz="2400" spc="-1" strike="noStrike">
                <a:solidFill>
                  <a:srgbClr val="2a5010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2a5010"/>
                </a:solidFill>
                <a:latin typeface="Arial"/>
              </a:rPr>
              <a:t> سنوات , </a:t>
            </a:r>
            <a:r>
              <a:rPr b="0" lang="ar-SA" sz="2400" spc="-1" strike="noStrike">
                <a:solidFill>
                  <a:srgbClr val="2a5010"/>
                </a:solidFill>
                <a:latin typeface="Arial"/>
              </a:rPr>
              <a:t>3</a:t>
            </a:r>
            <a:r>
              <a:rPr b="0" lang="ar-SA" sz="2400" spc="-1" strike="noStrike">
                <a:solidFill>
                  <a:srgbClr val="2a5010"/>
                </a:solidFill>
                <a:latin typeface="Arial"/>
              </a:rPr>
              <a:t> سنوات ,الان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2a50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a5010"/>
                </a:solidFill>
                <a:latin typeface="Arial"/>
              </a:rPr>
              <a:t>بإجابة الان: اذكري ثلاث طرق يمكن استخدامها سلبيا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a5010"/>
                </a:solidFill>
                <a:latin typeface="Arial"/>
              </a:rPr>
              <a:t>وثلاث طرق يمكن استخدامها للدعوة الى الاسل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2a50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90c226"/>
                </a:solidFill>
                <a:latin typeface="Trebuchet MS"/>
              </a:rPr>
              <a:t>التعامل مع المحتوى الالكتروني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3" name="Diagram 2" descr=""/>
          <p:cNvPicPr/>
          <p:nvPr/>
        </p:nvPicPr>
        <p:blipFill>
          <a:blip r:embed="rId1"/>
          <a:stretch/>
        </p:blipFill>
        <p:spPr>
          <a:xfrm>
            <a:off x="1103400" y="969840"/>
            <a:ext cx="655956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79280" y="609120"/>
            <a:ext cx="6778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3f7819"/>
                </a:solidFill>
                <a:latin typeface="Trebuchet MS"/>
              </a:rPr>
              <a:t>توصيات للقراءة الالكترونية الفعالة</a:t>
            </a:r>
            <a:r>
              <a:rPr b="0" lang="ar-SA" sz="3600" spc="-1" strike="noStrike">
                <a:solidFill>
                  <a:srgbClr val="3f7819"/>
                </a:solidFill>
                <a:latin typeface="Trebuchet MS"/>
              </a:rPr>
              <a:t>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09120" y="162864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Trebuchet MS"/>
              </a:rPr>
              <a:t>استخدام طريقة عرض مناسبة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Trebuchet MS"/>
              </a:rPr>
              <a:t>استخدام خط مناسب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Trebuchet MS"/>
              </a:rPr>
              <a:t>استخدام القراءة التصفحية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Trebuchet MS"/>
              </a:rPr>
              <a:t>في البريد الالكتروني افرز البريد مستخدماً عنوان الرسالة ، والكاتب 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Trebuchet MS"/>
              </a:rPr>
              <a:t>تعلم مصطلحات الانترنت واختصاراته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Trebuchet MS"/>
              </a:rPr>
              <a:t>استخدام شاشة مناسبة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Trebuchet MS"/>
              </a:rPr>
              <a:t>ابعاد النظر عن الشاشة كل </a:t>
            </a:r>
            <a:r>
              <a:rPr b="0" lang="ar-SA" sz="2400" spc="-1" strike="noStrike">
                <a:solidFill>
                  <a:srgbClr val="404040"/>
                </a:solidFill>
                <a:latin typeface="Trebuchet MS"/>
              </a:rPr>
              <a:t>15</a:t>
            </a:r>
            <a:r>
              <a:rPr b="0" lang="ar-SA" sz="2400" spc="-1" strike="noStrike">
                <a:solidFill>
                  <a:srgbClr val="404040"/>
                </a:solidFill>
                <a:latin typeface="Trebuchet MS"/>
              </a:rPr>
              <a:t>دقيقة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47280" y="691920"/>
            <a:ext cx="634716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90c226"/>
                </a:solidFill>
                <a:latin typeface="Trebuchet MS"/>
              </a:rPr>
              <a:t>عند زيارة المكتبة و عند تصفحك الكتاب ,كيف يتم اختيارك للكتاب المناسب ؟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353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90c226"/>
                </a:solidFill>
                <a:latin typeface="Trebuchet MS"/>
              </a:rPr>
              <a:t>عند زيارة المكتبة و عند تصفحك الكتاب ,كيف يتم اختيارك للكتاب المناسب ؟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8" name="TextBox 1"/>
          <p:cNvSpPr/>
          <p:nvPr/>
        </p:nvSpPr>
        <p:spPr>
          <a:xfrm>
            <a:off x="826920" y="1197000"/>
            <a:ext cx="66535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1-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تسهيل الشراء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أختر المكتبات التي تسهل عليك عملية الشراء ، حيث هناك مكتبات تمتلك الفهارس الالكترونية ، وتقسم الكتب بشكل مواضيع رئيسية و فرعية ، مما يسهل عملية السؤال و البحث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2-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ستشير الخبراء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عليك استشارة أصحاب الخبرة ، ليدلك على الكتاب المفيد و النافع و المناسب ، وقم بتسجيل أسماء الكتب التي يقترحها عليك ،و أسماء الكتب التي تريدها أنت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3-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قم بتصفح استكشافي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و يعنى هذا التصفح السريع لتستكشف محتوى الكتاب ، و لا تحاول أخذ وقت في القراءة حتى لا تتحول الى نوع آخر من القراءة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4-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قم بعمل خريطة ذهنية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حاول عمل خريطة ذهنية لكل كتاب تتصفحه و تقرأه ، وذلك لتسهيل عملية القراءة فيما بعد ، و تدوين أهم النقاط و الأفكار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5-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ستوى التعليمي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تعرف على الكتاب و اكتشف مستواه العلمي من خلال قراءة المقدمة و الخاتمة و الكلمات التي يتضمنها الغلاف ، و الفهرس العام و التفصيلي المصاحب للكتاب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كتاب القديم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539640" y="1484280"/>
            <a:ext cx="6723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مقدار الوقت المبذول في الاتصال بالوظائف السكرتار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5%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في الكتا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10%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في القراء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35%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في الحدي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50%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في الانص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353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90c226"/>
                </a:solidFill>
                <a:latin typeface="Trebuchet MS"/>
              </a:rPr>
              <a:t>عند زيارة المكتبة و عند تصفحك الكتاب ,كيف يتم اختيارك للكتاب المناسب ؟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0" name="TextBox 1"/>
          <p:cNvSpPr/>
          <p:nvPr/>
        </p:nvSpPr>
        <p:spPr>
          <a:xfrm>
            <a:off x="539640" y="1484280"/>
            <a:ext cx="6651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6-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تعرف على تاريخ النشر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عليك معرفة تاريخ النشر ، و خاصة في الفنون العلمية و التكنلوجية التي تتطور بسرعة أو هي وليدة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7-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صادر و المراجع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إطلع على المصادر و المراجع لتتعرف على موارد صيغة المعلومات للمؤلف ، واكتشاف الخلفية الثقافية و العلمية للكاتب أو يشير المؤلف إلى طبيعة معالجته للموضوعات التي في كتبه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8-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درج المعرفي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بعض الكتب قد كتبت بتسلسل معين ، ففيها يترقى القارئ من الأنى إلى الأعلى حتى تكون الفائدة منها كاملة غير منقوصة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9-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تحديد السنوي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حدد لك سنوياً أو شهرياً لما تريد من إنجازه من قراءة كتب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10-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أقرأ الكتاب القديم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قراءة الكتاب القديم الفريد من نوعه و شراؤه ، و عدم الاعتماد على الكتب الجديدة فقط ، لأن العلم الحقيقي في بعض المجلات هو البحث عنه في الكتاب القديم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252720" y="-612720"/>
            <a:ext cx="724212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r>
              <a:rPr b="0" lang="ar-SA" sz="3200" spc="-1" strike="noStrike">
                <a:solidFill>
                  <a:srgbClr val="90c226"/>
                </a:solidFill>
                <a:latin typeface="Trebuchet MS"/>
              </a:rPr>
              <a:t>أولاً:مهارات الانصات </a:t>
            </a:r>
            <a:br>
              <a:rPr sz="3200"/>
            </a:br>
            <a:r>
              <a:rPr b="0" lang="ar-SA" sz="3200" spc="-1" strike="noStrike">
                <a:solidFill>
                  <a:srgbClr val="90c226"/>
                </a:solidFill>
                <a:latin typeface="Trebuchet MS"/>
              </a:rPr>
              <a:t>أهمية الانصات</a:t>
            </a:r>
            <a:r>
              <a:rPr b="0" lang="ar-SA" sz="3200" spc="-1" strike="noStrike">
                <a:solidFill>
                  <a:srgbClr val="90c226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Content Placeholder 2"/>
          <p:cNvSpPr/>
          <p:nvPr/>
        </p:nvSpPr>
        <p:spPr>
          <a:xfrm>
            <a:off x="611280" y="1700280"/>
            <a:ext cx="6777000" cy="40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2c3c43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rebuchet MS"/>
                <a:cs typeface="Tahoma"/>
              </a:rPr>
              <a:t>انه من أهم مقومات التعل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2c3c43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rebuchet MS"/>
                <a:cs typeface="Tahoma"/>
              </a:rPr>
              <a:t>يعد أمراً اساسياً في معظم الوظائف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2c3c43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rebuchet MS"/>
                <a:cs typeface="Tahoma"/>
              </a:rPr>
              <a:t>تقول الدراسات ان الانسان يمضي نصف وقته الاتصال منصتاً.(المدراء </a:t>
            </a:r>
            <a:r>
              <a:rPr b="0" lang="ar-SA" sz="2600" spc="-1" strike="noStrike">
                <a:solidFill>
                  <a:srgbClr val="000000"/>
                </a:solidFill>
                <a:latin typeface="Trebuchet MS"/>
                <a:ea typeface="Tahoma"/>
              </a:rPr>
              <a:t>60</a:t>
            </a:r>
            <a:r>
              <a:rPr b="0" lang="ar-SA" sz="2600" spc="-1" strike="noStrike">
                <a:solidFill>
                  <a:srgbClr val="000000"/>
                </a:solidFill>
                <a:latin typeface="Trebuchet MS"/>
                <a:ea typeface="Tahoma"/>
              </a:rPr>
              <a:t>-</a:t>
            </a:r>
            <a:r>
              <a:rPr b="0" lang="ar-SA" sz="2600" spc="-1" strike="noStrike">
                <a:solidFill>
                  <a:srgbClr val="000000"/>
                </a:solidFill>
                <a:latin typeface="Trebuchet MS"/>
                <a:ea typeface="Tahoma"/>
              </a:rPr>
              <a:t>9</a:t>
            </a:r>
            <a:r>
              <a:rPr b="0" lang="ar-SA" sz="2600" spc="-1" strike="noStrike">
                <a:solidFill>
                  <a:srgbClr val="000000"/>
                </a:solidFill>
                <a:latin typeface="Trebuchet MS"/>
                <a:ea typeface="Tahoma"/>
              </a:rPr>
              <a:t>-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2c3c43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rebuchet MS"/>
                <a:cs typeface="Tahoma"/>
              </a:rPr>
              <a:t>يساعد الانصات الجيد على تكوين البيئة الاسرية الآمنة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2c3c43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rebuchet MS"/>
                <a:cs typeface="Tahoma"/>
              </a:rPr>
              <a:t>الانصات الجيد يساعد في بناء العلاقات بالآخرين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2c3c43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196640"/>
            <a:ext cx="72421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90c226"/>
                </a:solidFill>
                <a:latin typeface="Trebuchet MS"/>
              </a:rPr>
              <a:t>(</a:t>
            </a:r>
            <a:r>
              <a:rPr b="0" lang="ar-SA" sz="3600" spc="-1" strike="noStrike">
                <a:solidFill>
                  <a:srgbClr val="90c226"/>
                </a:solidFill>
                <a:latin typeface="Trebuchet MS"/>
              </a:rPr>
              <a:t>السماع, الأستماع والأنصات</a:t>
            </a:r>
            <a:r>
              <a:rPr b="0" lang="ar-SA" sz="3600" spc="-1" strike="noStrike">
                <a:solidFill>
                  <a:srgbClr val="90c226"/>
                </a:solidFill>
                <a:latin typeface="Trebuchet MS"/>
              </a:rPr>
              <a:t>)</a:t>
            </a:r>
            <a:br>
              <a:rPr sz="3600"/>
            </a:br>
            <a:r>
              <a:rPr b="0" lang="ar-SA" sz="3600" spc="-1" strike="noStrike">
                <a:solidFill>
                  <a:srgbClr val="90c226"/>
                </a:solidFill>
                <a:latin typeface="Trebuchet MS"/>
              </a:rPr>
              <a:t>برأيك هل هناك فرق بينها أم هي مجرد مرادفات لبعضها ؟ </a:t>
            </a:r>
            <a:r>
              <a:rPr b="0" lang="ar-SA" sz="3600" spc="-1" strike="noStrike" u="sng">
                <a:solidFill>
                  <a:srgbClr val="90c226"/>
                </a:solidFill>
                <a:uFillTx/>
                <a:latin typeface="Trebuchet MS"/>
              </a:rPr>
              <a:t>ناقشي مع زميلاتك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7" name="Picture 4" descr="RF4781227"/>
          <p:cNvPicPr/>
          <p:nvPr/>
        </p:nvPicPr>
        <p:blipFill>
          <a:blip r:embed="rId1"/>
          <a:stretch/>
        </p:blipFill>
        <p:spPr>
          <a:xfrm>
            <a:off x="457200" y="4148280"/>
            <a:ext cx="375120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15560"/>
            <a:ext cx="724212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ar-SA" sz="3200" spc="-1" strike="noStrike">
                <a:solidFill>
                  <a:srgbClr val="90c226"/>
                </a:solidFill>
                <a:latin typeface="Trebuchet MS"/>
              </a:rPr>
              <a:t>ماهو الفرق بين السماع والاستماع والإنصات؟</a:t>
            </a:r>
            <a:r>
              <a:rPr b="0" lang="ar-SA" sz="3200" spc="-1" strike="noStrike">
                <a:solidFill>
                  <a:srgbClr val="90c226"/>
                </a:solidFill>
                <a:latin typeface="Trebuchet MS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689040" y="1916280"/>
            <a:ext cx="67784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مستطيل 3"/>
          <p:cNvSpPr/>
          <p:nvPr/>
        </p:nvSpPr>
        <p:spPr>
          <a:xfrm>
            <a:off x="714240" y="1357200"/>
            <a:ext cx="7129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757575"/>
                </a:solidFill>
                <a:latin typeface="Simplified Arabic"/>
                <a:cs typeface="Simplified Arabic"/>
              </a:rPr>
              <a:t>الإنصات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هو الاستماع للرسائل اللفظية و التنبيه للتعبيرات اللغوية و الجسدية مع ادراك المعاني والخلوص الى مراد المتحدث و الاستجابة الملائم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Content Placeholder 3" descr=""/>
          <p:cNvPicPr/>
          <p:nvPr/>
        </p:nvPicPr>
        <p:blipFill>
          <a:blip r:embed="rId1"/>
          <a:stretch/>
        </p:blipFill>
        <p:spPr>
          <a:xfrm>
            <a:off x="609480" y="2152800"/>
            <a:ext cx="6345360" cy="39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320400"/>
            <a:ext cx="7242120" cy="49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90c226"/>
                </a:solidFill>
                <a:latin typeface="Trebuchet MS"/>
              </a:rPr>
              <a:t>من واقع تجربتك في الحياة:</a:t>
            </a:r>
            <a:br>
              <a:rPr sz="3600"/>
            </a:br>
            <a:br>
              <a:rPr sz="3600"/>
            </a:br>
            <a:r>
              <a:rPr b="0" lang="ar-SA" sz="3600" spc="-1" strike="noStrike">
                <a:solidFill>
                  <a:srgbClr val="90c226"/>
                </a:solidFill>
                <a:latin typeface="Trebuchet MS"/>
              </a:rPr>
              <a:t>هل تعتقدين بوجود مهارات للأنصات؟ </a:t>
            </a:r>
            <a:br>
              <a:rPr sz="3600"/>
            </a:br>
            <a:r>
              <a:rPr b="0" lang="ar-SA" sz="3600" spc="-1" strike="noStrike">
                <a:solidFill>
                  <a:srgbClr val="90c226"/>
                </a:solidFill>
                <a:latin typeface="Trebuchet MS"/>
              </a:rPr>
              <a:t>ناقشيها مع زميلاتك.</a:t>
            </a:r>
            <a:br>
              <a:rPr sz="3600"/>
            </a:br>
            <a:br>
              <a:rPr sz="3600"/>
            </a:br>
            <a:r>
              <a:rPr b="0" lang="ar-SA" sz="3600" spc="-1" strike="noStrike">
                <a:solidFill>
                  <a:srgbClr val="90c226"/>
                </a:solidFill>
                <a:latin typeface="Trebuchet MS"/>
              </a:rPr>
              <a:t>هاتف عطلان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3" name="Picture 1" descr=""/>
          <p:cNvPicPr/>
          <p:nvPr/>
        </p:nvPicPr>
        <p:blipFill>
          <a:blip r:embed="rId1"/>
          <a:stretch/>
        </p:blipFill>
        <p:spPr>
          <a:xfrm>
            <a:off x="1908000" y="3860640"/>
            <a:ext cx="29512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6T14:35:09Z</dcterms:created>
  <dc:creator>toshiba</dc:creator>
  <dc:description/>
  <dc:language>en-US</dc:language>
  <cp:lastModifiedBy>ahmed albuhamad</cp:lastModifiedBy>
  <dcterms:modified xsi:type="dcterms:W3CDTF">2016-10-10T21:47:51Z</dcterms:modified>
  <cp:revision>140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CAB2DD17AFC1B7478A4B8147BFF72CF7</vt:lpwstr>
  </property>
</Properties>
</file>