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985E6-593D-408B-84D7-E656AF693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6F766-D44B-4314-B3BA-3B568D533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1F6D0-C809-4EBF-8EB5-026639406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DC5BA-4AD7-4F91-875C-ED1C7D580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54DAA-D8B5-4874-A477-B10863E50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FB673-874D-4FB0-B707-21B562BC1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934FC-DABD-41FE-A83C-652149B86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0DE56-6D5C-4F17-805A-1667041F5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FA125-9773-4198-BF86-AA8A45F52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2FCA4-C104-4F91-864A-879405944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7BC55-FF00-4108-9674-FE1865614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C4C8D-0D02-4601-B0B2-0FBCD06F4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227AB-37A2-4A82-AF4C-7841EB9DB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68483-D8F5-4DF1-AC7C-2604CD320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E80FF-D0B3-4A67-AC24-55FE8C575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E9D02-979D-4BC8-BB2C-B2AF6FE9F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76858-C62C-453B-8A5F-6E9C849F8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06144C-51B3-40D9-8FC6-A51804BA4B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9FB6C5-0C7D-42A8-B70C-86FF02A394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2F0F77-6091-488D-95BF-6E98EDBE2D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F68442-45E4-426E-9905-4A76C86828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E1F3E8-2760-40FE-806A-B657B7B68C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5B20E-2888-4EA4-A280-FCA6CA5D2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AE089C-D960-4152-AC80-B0D56404A2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D4AAC-4D62-4980-BD24-2C8B8C501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A6E322-5A0D-4458-ADED-7C8480FC09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4AF0F-87E4-40BF-9D38-90E8EABA1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B30AEF-9832-4A0B-839F-409FB19E95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C23335-FE8C-4EE0-BFF8-C7B80BF70D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6C2443-2498-48D8-921F-A34F099A57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C8EADD-4CC4-4A37-83C0-215755A1D5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F16802-3EC4-4C7F-9513-046356185E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0B278F-6536-4767-BDA6-7CF5636D82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2F215-DE13-40C4-83DB-768DF4204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DE115C-F9A9-45D2-94BD-55CA4857C4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173AF3-7E56-46A2-B16E-EEFC9FE347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DF5116-81F5-4555-BFD3-9EF7B6F601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8A0A0-137C-4F03-A79C-19923B9F8E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79CFA2-A813-427B-9EA4-6C10ACAD47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485005-8C0A-4E76-824B-E53F97F299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39DCBE-4FE3-46F8-817D-8480227201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95A258-C95D-46F1-966A-5CF39B58EC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57197D-2448-4662-9480-F35980FA07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4F5AB-56FD-462F-85EC-BA1CDFDF6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636A6-4B7A-4302-8807-ADD52F3CE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3B8F6-D7C1-41FE-9D97-6910E97D6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B10DB-4D8C-42AB-9406-F2877B5E8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21CD2-2B8D-4CDF-81AC-FD59E98E2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C82C-F0BB-4C2B-8865-97215D64B2EC}"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952A-72BC-4120-A3D5-2149AC75754F}"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2DED-4503-474F-B963-465B2331BB39}"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مثلث قائم الزاوية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شكل حر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شكل حر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AF90-4D4E-4970-8FDD-1A6FFF726447}"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عنوان 1" descr=""/>
          <p:cNvPicPr/>
          <p:nvPr/>
        </p:nvPicPr>
        <p:blipFill>
          <a:blip r:embed="rId2"/>
          <a:stretch/>
        </p:blipFill>
        <p:spPr>
          <a:xfrm>
            <a:off x="-30240" y="1365120"/>
            <a:ext cx="8425080" cy="19209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marL="914400" indent="-914400" algn="r" rtl="1">
              <a:spcBef>
                <a:spcPts val="134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ff"/>
                </a:solidFill>
                <a:latin typeface="Constantia"/>
              </a:rPr>
              <a:t>الاتصال الغير لفظى</a:t>
            </a:r>
            <a:endParaRPr b="0" lang="en-US" sz="5400" spc="-1" strike="noStrike">
              <a:solidFill>
                <a:srgbClr val="ffffff"/>
              </a:solidFill>
              <a:latin typeface="Constantia"/>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000" spc="-1" strike="noStrike">
                <a:solidFill>
                  <a:srgbClr val="04617b"/>
                </a:solidFill>
                <a:latin typeface="Calibri"/>
              </a:rPr>
              <a:t>مفهوم الاتصال اللفظي:</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onstantia"/>
              </a:rPr>
              <a:t>الاتصال غير اللفظي يشمل  كافة السلوكيات , والتصرفات , والحركات  التي يمكن أن تستخدم  لإيصال  الرسائل للآخرين بشكل له معنى. الاتصال  غير اللفظي يشمل نبرة الصوت وتعبيرات الوجه وقوام الجسم والمظهر الخارجي وغيرها من الامور التي لها دور هام في عملية الاتصال . والاتصال اللفظي في الأساس  يجب ا ن  يكون  مكملا للاتصال اللفظي وداعما له ,إلا أنه من الممكن أيضا أن يغير بعض المعاني اللفظية سواء بقصد , أو بغير قصد</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همية الاتصال غير اللفظي:</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إن  إدراج  الاتصال غير اللفظي ضمن مهارات الاتصال يعتبر حديثا بعض الشئ , فقد كان يعتبر في السابق انه امر طبيعي لا يتطلب الكثير من الاهتمام , الا ان دراسات حديثة أكدت على أننا نتواصل بشكل غير لفظي أكثر من تواصلنا اللفظي مع الاخرين , وبعد الدراسات أشارات الي أن الانسان في المتوسط يتحدث مابين </a:t>
            </a:r>
            <a:r>
              <a:rPr b="0" lang="ar-SA" sz="2600" spc="-1" strike="noStrike">
                <a:solidFill>
                  <a:srgbClr val="000000"/>
                </a:solidFill>
                <a:latin typeface="Constantia"/>
              </a:rPr>
              <a:t>10</a:t>
            </a:r>
            <a:r>
              <a:rPr b="0" lang="ar-SA" sz="2600" spc="-1" strike="noStrike">
                <a:solidFill>
                  <a:srgbClr val="000000"/>
                </a:solidFill>
                <a:latin typeface="Constantia"/>
              </a:rPr>
              <a:t>-</a:t>
            </a:r>
            <a:r>
              <a:rPr b="0" lang="ar-SA" sz="2600" spc="-1" strike="noStrike">
                <a:solidFill>
                  <a:srgbClr val="000000"/>
                </a:solidFill>
                <a:latin typeface="Constantia"/>
              </a:rPr>
              <a:t>11</a:t>
            </a:r>
            <a:r>
              <a:rPr b="0" lang="ar-SA" sz="2600" spc="-1" strike="noStrike">
                <a:solidFill>
                  <a:srgbClr val="000000"/>
                </a:solidFill>
                <a:latin typeface="Constantia"/>
              </a:rPr>
              <a:t> دقيقة في المتوسط لعملية الاتصال الواحدة مع شخص اخر, وأن الجملة المنطوقة الواحدة تستغرق مايقارب </a:t>
            </a:r>
            <a:r>
              <a:rPr b="0" lang="ar-SA" sz="2600" spc="-1" strike="noStrike">
                <a:solidFill>
                  <a:srgbClr val="000000"/>
                </a:solidFill>
                <a:latin typeface="Constantia"/>
              </a:rPr>
              <a:t>2.5</a:t>
            </a:r>
            <a:r>
              <a:rPr b="0" lang="ar-SA" sz="2600" spc="-1" strike="noStrike">
                <a:solidFill>
                  <a:srgbClr val="000000"/>
                </a:solidFill>
                <a:latin typeface="Constantia"/>
              </a:rPr>
              <a:t> ثانية في المتوسط , وتنة مايقارب مابين </a:t>
            </a:r>
            <a:r>
              <a:rPr b="0" lang="ar-SA" sz="2600" spc="-1" strike="noStrike">
                <a:solidFill>
                  <a:srgbClr val="000000"/>
                </a:solidFill>
                <a:latin typeface="Constantia"/>
              </a:rPr>
              <a:t>60</a:t>
            </a:r>
            <a:r>
              <a:rPr b="0" lang="ar-SA" sz="2600" spc="-1" strike="noStrike">
                <a:solidFill>
                  <a:srgbClr val="000000"/>
                </a:solidFill>
                <a:latin typeface="Constantia"/>
              </a:rPr>
              <a:t>-</a:t>
            </a:r>
            <a:r>
              <a:rPr b="0" lang="ar-SA" sz="2600" spc="-1" strike="noStrike">
                <a:solidFill>
                  <a:srgbClr val="000000"/>
                </a:solidFill>
                <a:latin typeface="Constantia"/>
              </a:rPr>
              <a:t>93</a:t>
            </a:r>
            <a:r>
              <a:rPr b="0" lang="ar-SA" sz="2600" spc="-1" strike="noStrike">
                <a:solidFill>
                  <a:srgbClr val="000000"/>
                </a:solidFill>
                <a:latin typeface="Constantia"/>
              </a:rPr>
              <a:t> بالميه من التواصل في ذللك الموقف سيكون من خلا الاتصال غير اللفظي , الا أنه من المهم التعامل مع هذه الأرقام  بشيئ من الحذر واعتبارها مؤشرات وليست حقائق قاطعة.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طرق فك ترميز اللغة غير اللفظية:</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fontScale="90000"/>
          </a:bodyPr>
          <a:p>
            <a:pPr marL="245520" indent="-2455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مفيد والممتع أن  نتعرف على كيفية فهم رموز اللغة غير اللفظية, حيث يمكن ذلك من خلا ل طريقتين مختلفتين هما </a:t>
            </a:r>
            <a:endParaRPr b="0" lang="en-US" sz="2600" spc="-1" strike="noStrike">
              <a:solidFill>
                <a:srgbClr val="000000"/>
              </a:solidFill>
              <a:latin typeface="Constantia"/>
            </a:endParaRPr>
          </a:p>
          <a:p>
            <a:pPr marL="245520" indent="-2455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طريقة تحليل المكونات :</a:t>
            </a:r>
            <a:endParaRPr b="0" lang="en-US" sz="2600" spc="-1" strike="noStrike">
              <a:solidFill>
                <a:srgbClr val="000000"/>
              </a:solidFill>
              <a:latin typeface="Constantia"/>
            </a:endParaRPr>
          </a:p>
          <a:p>
            <a:pPr marL="245520" indent="-2455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هذه الطريقة على قياس  ودراسة العناصر التي تشكل ماهو غير لفظي والتي تظهر في موقف محدد, وذلل على عينة من الناس يتم اختيارها جيد .</a:t>
            </a:r>
            <a:endParaRPr b="0" lang="en-US" sz="2600" spc="-1" strike="noStrike">
              <a:solidFill>
                <a:srgbClr val="000000"/>
              </a:solidFill>
              <a:latin typeface="Constantia"/>
            </a:endParaRPr>
          </a:p>
          <a:p>
            <a:pPr marL="245520" indent="-2455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طريقة الحكم أو التمييز:</a:t>
            </a:r>
            <a:endParaRPr b="0" lang="en-US" sz="2600" spc="-1" strike="noStrike">
              <a:solidFill>
                <a:srgbClr val="000000"/>
              </a:solidFill>
              <a:latin typeface="Constantia"/>
            </a:endParaRPr>
          </a:p>
          <a:p>
            <a:pPr marL="245520" indent="-2455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ذه الطريقة تعتمد على تحديد العناصر وتفسيرها أو اعتبارها هامة أو غير هامة من خلال عدد من الحكام والمراقبين , حيث يراقب الحكام مجموعات من البشر بشكل مباشر من خلف جدران زجاجية أو على أشرطة فيديو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نواع الاتصال غير اللفظي</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بعد أن تعرفنا على الاتصال  غير اللفظي والدور والهام الذي يلعبه  في الاتصال  بين الناس , فيجب التأكيد على ان الاتصال غير اللفظي له تأثير السحر على الاخرين والجميل في هذه الجاذبية أنها ليست في خلقة الانسان , و لكن يمكن صناعتها عن طريق :</a:t>
            </a:r>
            <a:endParaRPr b="0" lang="en-US" sz="2600" spc="-1" strike="noStrike">
              <a:solidFill>
                <a:srgbClr val="000000"/>
              </a:solidFill>
              <a:latin typeface="Constantia"/>
            </a:endParaRPr>
          </a:p>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1</a:t>
            </a:r>
            <a:r>
              <a:rPr b="1" lang="ar-SA" sz="2600" spc="-1" strike="noStrike">
                <a:solidFill>
                  <a:srgbClr val="000000"/>
                </a:solidFill>
                <a:latin typeface="Constantia"/>
              </a:rPr>
              <a:t>- لغة الجسد  . </a:t>
            </a:r>
            <a:endParaRPr b="0" lang="en-US" sz="2600" spc="-1" strike="noStrike">
              <a:solidFill>
                <a:srgbClr val="000000"/>
              </a:solidFill>
              <a:latin typeface="Constantia"/>
            </a:endParaRPr>
          </a:p>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2</a:t>
            </a:r>
            <a:r>
              <a:rPr b="1" lang="ar-SA" sz="2600" spc="-1" strike="noStrike">
                <a:solidFill>
                  <a:srgbClr val="000000"/>
                </a:solidFill>
                <a:latin typeface="Constantia"/>
              </a:rPr>
              <a:t>-  اللبس والمظهر . </a:t>
            </a:r>
            <a:endParaRPr b="0" lang="en-US" sz="2600" spc="-1" strike="noStrike">
              <a:solidFill>
                <a:srgbClr val="000000"/>
              </a:solidFill>
              <a:latin typeface="Constantia"/>
            </a:endParaRPr>
          </a:p>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3</a:t>
            </a:r>
            <a:r>
              <a:rPr b="1" lang="ar-SA" sz="2600" spc="-1" strike="noStrike">
                <a:solidFill>
                  <a:srgbClr val="000000"/>
                </a:solidFill>
                <a:latin typeface="Constantia"/>
              </a:rPr>
              <a:t>-لغة المسافة . </a:t>
            </a:r>
            <a:endParaRPr b="0" lang="en-US" sz="2600" spc="-1" strike="noStrike">
              <a:solidFill>
                <a:srgbClr val="000000"/>
              </a:solidFill>
              <a:latin typeface="Constantia"/>
            </a:endParaRPr>
          </a:p>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4</a:t>
            </a:r>
            <a:r>
              <a:rPr b="1" lang="ar-SA" sz="2600" spc="-1" strike="noStrike">
                <a:solidFill>
                  <a:srgbClr val="000000"/>
                </a:solidFill>
                <a:latin typeface="Constantia"/>
              </a:rPr>
              <a:t>- اللمس . </a:t>
            </a:r>
            <a:endParaRPr b="0" lang="en-US" sz="2600" spc="-1" strike="noStrike">
              <a:solidFill>
                <a:srgbClr val="000000"/>
              </a:solidFill>
              <a:latin typeface="Constantia"/>
            </a:endParaRPr>
          </a:p>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5</a:t>
            </a:r>
            <a:r>
              <a:rPr b="1" lang="ar-SA" sz="2600" spc="-1" strike="noStrike">
                <a:solidFill>
                  <a:srgbClr val="000000"/>
                </a:solidFill>
                <a:latin typeface="Constantia"/>
              </a:rPr>
              <a:t>- الوقت .</a:t>
            </a:r>
            <a:endParaRPr b="0" lang="en-US" sz="2600" spc="-1" strike="noStrike">
              <a:solidFill>
                <a:srgbClr val="000000"/>
              </a:solidFill>
              <a:latin typeface="Constantia"/>
            </a:endParaRPr>
          </a:p>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6</a:t>
            </a:r>
            <a:r>
              <a:rPr b="1" lang="ar-SA" sz="2600" spc="-1" strike="noStrike">
                <a:solidFill>
                  <a:srgbClr val="000000"/>
                </a:solidFill>
                <a:latin typeface="Constantia"/>
              </a:rPr>
              <a:t>- الوجه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 العواطف الست الأساسية للوجه :</a:t>
            </a:r>
            <a:endParaRPr b="0" lang="en-US" sz="5000" spc="-1" strike="noStrike">
              <a:solidFill>
                <a:srgbClr val="04617b"/>
              </a:solidFill>
              <a:latin typeface="Calibri"/>
            </a:endParaRPr>
          </a:p>
        </p:txBody>
      </p:sp>
      <p:pic>
        <p:nvPicPr>
          <p:cNvPr id="206" name="عنصر نائب للمحتوى 2" descr=""/>
          <p:cNvPicPr/>
          <p:nvPr/>
        </p:nvPicPr>
        <p:blipFill>
          <a:blip r:embed="rId2"/>
          <a:stretch/>
        </p:blipFill>
        <p:spPr>
          <a:xfrm>
            <a:off x="2212920" y="1884240"/>
            <a:ext cx="8309160" cy="443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000" spc="-1" strike="noStrike">
                <a:solidFill>
                  <a:srgbClr val="04617b"/>
                </a:solidFill>
                <a:latin typeface="Calibri"/>
              </a:rPr>
              <a:t>الخلاصة: </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صال غير الفظي يشمل جميع المكونات التي نستخدمها للتواصل مع الآخرين باستثناء النطق بالكلمات , انه لا يشمل ما ننطق به , لكنه يشمل كيف ننطقه ؟, سواء من خلال لغة أجسادنا و نبرة صوتنا أو طريقة ملابسنا أو وقت الاتصال ...... الي غير ذلك من انواع الاتصال غير اللفظي التي تعرضنا لها في هذه الوحدة ومما يزيد الامور تعقيدا نجد هذه المكونات تتداخل مع بعضها البعض بدرجة كبيرة وتتغير بسرعة ولها أنماط مختلفة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7T04:55:48Z</dcterms:created>
  <dc:creator>DELL_USER</dc:creator>
  <dc:description/>
  <dc:language>en-US</dc:language>
  <cp:lastModifiedBy>Mariem</cp:lastModifiedBy>
  <dcterms:modified xsi:type="dcterms:W3CDTF">2014-11-04T15:40:19Z</dcterms:modified>
  <cp:revision>14</cp:revision>
  <dc:subject/>
  <dc:title>مهارات الاتصال</dc:title>
</cp:coreProperties>
</file>