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459-7C1A-4083-8355-7F12E759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8E25-B7A2-46EC-89EA-D7EB3534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458-3F96-4B80-85A1-D8749723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BDB-BD64-425A-928B-05B6BA91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E08-0D6D-4870-A316-8298C76B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DBA-BD3F-4805-B0AC-A3915191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2E3-8D55-46C7-85DE-258D952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E55-3477-4087-94B6-2C016390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223-1A9B-471D-B97D-DF67D718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2A6-7B4E-4FCB-A67A-E5E2E02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69C-2778-41C6-82F0-8084EB1F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32D-DB78-40DB-AAC0-ED0E520F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4D82-F80A-40DD-9403-84F571614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5943600" cy="84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3360" y="466560"/>
            <a:ext cx="6181920" cy="813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1:13:34Z</dcterms:created>
  <dc:creator/>
  <dc:description/>
  <dc:language>en-US</dc:language>
  <cp:lastModifiedBy/>
  <dcterms:modified xsi:type="dcterms:W3CDTF">2007-12-02T21:15:31Z</dcterms:modified>
  <cp:revision>1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