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A6B9-D775-4222-BE83-FF9B34176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ACF3-526A-49BF-963E-F766BDD7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1835-233D-426E-975A-98E45202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DE0F-7FDE-46E7-B906-86C8956A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4657-5B57-47F5-97F4-992F9365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BABB-3BDF-43AA-B839-671FE943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E4B8-F29C-4F14-90E0-333B784A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2F57-FF90-4D4B-A7F2-E32D0760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4281-AF55-475D-B24D-F3BB0B66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8C63-127D-4BCE-9B48-B6206C1C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7077-F336-4939-9DB3-D84984E9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0713-D8DD-4B21-9BAB-AC519351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9ACE-E930-47F3-9BA1-77AA47A7E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5943600" cy="84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3360" y="466560"/>
            <a:ext cx="6181920" cy="813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21:13:34Z</dcterms:created>
  <dc:creator/>
  <dc:description/>
  <dc:language>en-US</dc:language>
  <cp:lastModifiedBy/>
  <dcterms:modified xsi:type="dcterms:W3CDTF">2007-12-02T21:15:31Z</dcterms:modified>
  <cp:revision>1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