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083-6CFB-4874-93EA-3F8F60D3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325-F306-49F9-B3BB-04C11059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D82-322B-48A7-8DC2-478A05F7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3942-BB3B-45F1-B1CE-1D3BE1A0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C14-C7E7-4FEC-A4CD-8D33FA48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A4D-26FC-4ACB-B888-B1255EE0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05F-8B80-4015-BE05-F3ADE968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38C-67C2-4A15-AE52-A27FC185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F4D-9A39-41E3-ACD7-90EB42DF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0D9-3FD0-4DE3-9A47-20C0637A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26A-AE6D-4C90-9D1F-00C79082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3485-8BD0-443C-8964-B9A018B1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ECDB-0FC2-4AB6-A90E-6556774A55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aculty.ksu.edu.sa/hussein2007" TargetMode="External"/><Relationship Id="rId3" Type="http://schemas.openxmlformats.org/officeDocument/2006/relationships/hyperlink" Target="http://faculty.ksu.edu.sa/kalfaramawi" TargetMode="External"/><Relationship Id="rId4" Type="http://schemas.openxmlformats.org/officeDocument/2006/relationships/hyperlink" Target="http://faculty.ksu.edu.sa/kalfaramawi" TargetMode="External"/><Relationship Id="rId5" Type="http://schemas.openxmlformats.org/officeDocument/2006/relationships/hyperlink" Target="http://faculty.ksu.edu.sa/kalfaramawi" TargetMode="External"/><Relationship Id="rId6" Type="http://schemas.openxmlformats.org/officeDocument/2006/relationships/hyperlink" Target="http://faculty.ksu.edu.sa/kalfaramawi" TargetMode="External"/><Relationship Id="rId7" Type="http://schemas.openxmlformats.org/officeDocument/2006/relationships/hyperlink" Target="http://faculty.ksu.edu.sa/kalfaramawi" TargetMode="External"/><Relationship Id="rId8" Type="http://schemas.openxmlformats.org/officeDocument/2006/relationships/hyperlink" Target="http://faculty.ksu.edu.sa/kalfaramawi" TargetMode="External"/><Relationship Id="rId9" Type="http://schemas.openxmlformats.org/officeDocument/2006/relationships/hyperlink" Target="http://faculty.ksu.edu.sa/kalfaramawi" TargetMode="External"/><Relationship Id="rId10" Type="http://schemas.openxmlformats.org/officeDocument/2006/relationships/hyperlink" Target="http://faculty.ksu.edu.sa/kalfaramawi" TargetMode="External"/><Relationship Id="rId11" Type="http://schemas.openxmlformats.org/officeDocument/2006/relationships/hyperlink" Target="http://faculty.ksu.edu.sa/kalfaramawi" TargetMode="External"/><Relationship Id="rId12" Type="http://schemas.openxmlformats.org/officeDocument/2006/relationships/hyperlink" Target="http://faculty.ksu.edu.sa/kalfaramawi" TargetMode="External"/><Relationship Id="rId13" Type="http://schemas.openxmlformats.org/officeDocument/2006/relationships/hyperlink" Target="http://faculty.ksu.edu.sa/kalfaramawi" TargetMode="External"/><Relationship Id="rId14" Type="http://schemas.openxmlformats.org/officeDocument/2006/relationships/hyperlink" Target="http://faculty.ksu.edu.sa/74641" TargetMode="External"/><Relationship Id="rId15" Type="http://schemas.openxmlformats.org/officeDocument/2006/relationships/hyperlink" Target="http://faculty.ksu.edu.sa/74641" TargetMode="External"/><Relationship Id="rId16" Type="http://schemas.openxmlformats.org/officeDocument/2006/relationships/hyperlink" Target="http://faculty.ksu.edu.sa/74641" TargetMode="External"/><Relationship Id="rId17" Type="http://schemas.openxmlformats.org/officeDocument/2006/relationships/hyperlink" Target="http://faculty.ksu.edu.sa/74641" TargetMode="External"/><Relationship Id="rId18" Type="http://schemas.openxmlformats.org/officeDocument/2006/relationships/hyperlink" Target="http://faculty.ksu.edu.sa/74641" TargetMode="External"/><Relationship Id="rId19" Type="http://schemas.openxmlformats.org/officeDocument/2006/relationships/hyperlink" Target="http://faculty.ksu.edu.sa/74641" TargetMode="External"/><Relationship Id="rId20" Type="http://schemas.openxmlformats.org/officeDocument/2006/relationships/hyperlink" Target="http://faculty.ksu.edu.sa/74641" TargetMode="External"/><Relationship Id="rId21" Type="http://schemas.openxmlformats.org/officeDocument/2006/relationships/hyperlink" Target="http://faculty.ksu.edu.sa/74641" TargetMode="External"/><Relationship Id="rId22" Type="http://schemas.openxmlformats.org/officeDocument/2006/relationships/hyperlink" Target="http://faculty.ksu.edu.sa/74641" TargetMode="External"/><Relationship Id="rId23" Type="http://schemas.openxmlformats.org/officeDocument/2006/relationships/hyperlink" Target="http://faculty.ksu.edu.sa/74641" TargetMode="External"/><Relationship Id="rId24" Type="http://schemas.openxmlformats.org/officeDocument/2006/relationships/hyperlink" Target="http://faculty.ksu.edu.sa/74641" TargetMode="External"/><Relationship Id="rId25" Type="http://schemas.openxmlformats.org/officeDocument/2006/relationships/hyperlink" Target="http://faculty.ksu.edu.sa/74641" TargetMode="External"/><Relationship Id="rId26" Type="http://schemas.openxmlformats.org/officeDocument/2006/relationships/hyperlink" Target="http://faculty.ksu.edu.sa/Alattar/" TargetMode="External"/><Relationship Id="rId27" Type="http://schemas.openxmlformats.org/officeDocument/2006/relationships/hyperlink" Target="http://faculty.ksu.edu.sa/Alattar/" TargetMode="External"/><Relationship Id="rId28" Type="http://schemas.openxmlformats.org/officeDocument/2006/relationships/hyperlink" Target="http://faculty.ksu.edu.sa/Alattar/" TargetMode="External"/><Relationship Id="rId29" Type="http://schemas.openxmlformats.org/officeDocument/2006/relationships/hyperlink" Target="http://faculty.ksu.edu.sa/Alattar/" TargetMode="External"/><Relationship Id="rId30" Type="http://schemas.openxmlformats.org/officeDocument/2006/relationships/hyperlink" Target="http://faculty.ksu.edu.sa/Alattar/" TargetMode="External"/><Relationship Id="rId31" Type="http://schemas.openxmlformats.org/officeDocument/2006/relationships/hyperlink" Target="http://faculty.ksu.edu.sa/Alattar/" TargetMode="External"/><Relationship Id="rId32" Type="http://schemas.openxmlformats.org/officeDocument/2006/relationships/hyperlink" Target="http://faculty.ksu.edu.sa/Alattar/" TargetMode="External"/><Relationship Id="rId33" Type="http://schemas.openxmlformats.org/officeDocument/2006/relationships/hyperlink" Target="http://faculty.ksu.edu.sa/Alattar/" TargetMode="External"/><Relationship Id="rId34" Type="http://schemas.openxmlformats.org/officeDocument/2006/relationships/hyperlink" Target="http://faculty.ksu.edu.sa/Alattar/" TargetMode="External"/><Relationship Id="rId35" Type="http://schemas.openxmlformats.org/officeDocument/2006/relationships/hyperlink" Target="http://faculty.ksu.edu.sa/Alattar/" TargetMode="External"/><Relationship Id="rId36" Type="http://schemas.openxmlformats.org/officeDocument/2006/relationships/hyperlink" Target="http://faculty.ksu.edu.sa/Alattar/" TargetMode="External"/><Relationship Id="rId3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800" spc="-1" strike="noStrike">
                <a:solidFill>
                  <a:srgbClr val="3810e0"/>
                </a:solidFill>
                <a:latin typeface="Sylfaen"/>
                <a:cs typeface="Old Antic Bold"/>
              </a:rPr>
              <a:t>بسم الله الرحمن الرحيم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 rtl="1">
              <a:lnSpc>
                <a:spcPct val="80000"/>
              </a:lnSpc>
              <a:spcBef>
                <a:spcPts val="21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700" spc="-1" strike="noStrike">
                <a:solidFill>
                  <a:srgbClr val="9900cc"/>
                </a:solidFill>
                <a:latin typeface="Kunstler Script"/>
                <a:cs typeface="Monotype Koufi"/>
              </a:rPr>
              <a:t>مقدمة عن مقرر</a:t>
            </a: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 rtl="1">
              <a:lnSpc>
                <a:spcPct val="80000"/>
              </a:lnSpc>
              <a:spcBef>
                <a:spcPts val="21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79640" y="4292640"/>
            <a:ext cx="49672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فيزياء العامة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01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مربع نص 1"/>
          <p:cNvSpPr/>
          <p:nvPr/>
        </p:nvSpPr>
        <p:spPr>
          <a:xfrm>
            <a:off x="826920" y="71280"/>
            <a:ext cx="69598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وحد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كاينمتيكا ”علم الحركة المجردة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2"/>
          <p:cNvSpPr/>
          <p:nvPr/>
        </p:nvSpPr>
        <p:spPr>
          <a:xfrm>
            <a:off x="2071800" y="1500120"/>
            <a:ext cx="4857480" cy="78588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الحركة في خط مستق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شكل بيضاوي 3"/>
          <p:cNvSpPr/>
          <p:nvPr/>
        </p:nvSpPr>
        <p:spPr>
          <a:xfrm>
            <a:off x="7453440" y="2852640"/>
            <a:ext cx="1584360" cy="1656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Constantia"/>
                <a:cs typeface="Times New Roman"/>
              </a:rPr>
              <a:t>متوسط السر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شكل بيضاوي 4"/>
          <p:cNvSpPr/>
          <p:nvPr/>
        </p:nvSpPr>
        <p:spPr>
          <a:xfrm>
            <a:off x="5565600" y="2925720"/>
            <a:ext cx="1798920" cy="1655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Constantia"/>
                <a:cs typeface="Times New Roman"/>
              </a:rPr>
              <a:t>السرعة اللحظ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شكل بيضاوي 5"/>
          <p:cNvSpPr/>
          <p:nvPr/>
        </p:nvSpPr>
        <p:spPr>
          <a:xfrm>
            <a:off x="3751200" y="2924280"/>
            <a:ext cx="1728720" cy="1728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Constantia"/>
                <a:cs typeface="Times New Roman"/>
              </a:rPr>
              <a:t>متوسط التسار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شكل بيضاوي 6"/>
          <p:cNvSpPr/>
          <p:nvPr/>
        </p:nvSpPr>
        <p:spPr>
          <a:xfrm>
            <a:off x="1893960" y="2924280"/>
            <a:ext cx="1800000" cy="1728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Constantia"/>
                <a:cs typeface="Times New Roman"/>
              </a:rPr>
              <a:t>التسارع اللحظ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شكل بيضاوي 7"/>
          <p:cNvSpPr/>
          <p:nvPr/>
        </p:nvSpPr>
        <p:spPr>
          <a:xfrm>
            <a:off x="20520" y="3068640"/>
            <a:ext cx="1800360" cy="1655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Constantia"/>
                <a:cs typeface="Times New Roman"/>
              </a:rPr>
              <a:t>الحركة الخطية بتسارع ثاب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مستطيل 8"/>
          <p:cNvSpPr/>
          <p:nvPr/>
        </p:nvSpPr>
        <p:spPr>
          <a:xfrm>
            <a:off x="1042920" y="5286240"/>
            <a:ext cx="6842160" cy="78588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الحركة الدائرية بتسارع ثاب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رابط كسهم مستقيم 10"/>
          <p:cNvCxnSpPr>
            <a:stCxn id="64" idx="2"/>
          </p:cNvCxnSpPr>
          <p:nvPr/>
        </p:nvCxnSpPr>
        <p:spPr>
          <a:xfrm>
            <a:off x="4499640" y="2285640"/>
            <a:ext cx="3143880" cy="7866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2" name="رابط كسهم مستقيم 12"/>
          <p:cNvCxnSpPr>
            <a:stCxn id="64" idx="2"/>
          </p:cNvCxnSpPr>
          <p:nvPr/>
        </p:nvCxnSpPr>
        <p:spPr>
          <a:xfrm>
            <a:off x="4499640" y="2286000"/>
            <a:ext cx="1572120" cy="714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3" name="رابط كسهم مستقيم 14"/>
          <p:cNvCxnSpPr/>
          <p:nvPr/>
        </p:nvCxnSpPr>
        <p:spPr>
          <a:xfrm flipH="1">
            <a:off x="4498200" y="2197080"/>
            <a:ext cx="2520" cy="714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" name="رابط كسهم مستقيم 16"/>
          <p:cNvCxnSpPr>
            <a:stCxn id="64" idx="2"/>
            <a:endCxn id="68" idx="0"/>
          </p:cNvCxnSpPr>
          <p:nvPr/>
        </p:nvCxnSpPr>
        <p:spPr>
          <a:xfrm flipH="1">
            <a:off x="2793240" y="2298600"/>
            <a:ext cx="1707480" cy="613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" name="رابط كسهم مستقيم 18"/>
          <p:cNvCxnSpPr>
            <a:stCxn id="64" idx="2"/>
            <a:endCxn id="69" idx="0"/>
          </p:cNvCxnSpPr>
          <p:nvPr/>
        </p:nvCxnSpPr>
        <p:spPr>
          <a:xfrm flipH="1">
            <a:off x="920520" y="2298600"/>
            <a:ext cx="3580560" cy="758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مربع نص 1"/>
          <p:cNvSpPr/>
          <p:nvPr/>
        </p:nvSpPr>
        <p:spPr>
          <a:xfrm>
            <a:off x="380880" y="533520"/>
            <a:ext cx="82296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وحد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ديناميكا الجس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قانون نيوتن الأو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قانون نيوتن الثان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قانون نيوتن الثال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قانون الجذب العا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مربع نص 2"/>
          <p:cNvSpPr/>
          <p:nvPr/>
        </p:nvSpPr>
        <p:spPr>
          <a:xfrm>
            <a:off x="609480" y="838080"/>
            <a:ext cx="7848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وحد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Times New Roman"/>
              </a:rPr>
              <a:t>ميكانيكا السوائ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مفهوم الضغ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اللزوج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قانون ستوك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التوتر السطح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مربع نص 1"/>
          <p:cNvSpPr/>
          <p:nvPr/>
        </p:nvSpPr>
        <p:spPr>
          <a:xfrm>
            <a:off x="685800" y="609480"/>
            <a:ext cx="785808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وحدة الساد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مرو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الإجه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الانفع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معاملات المرو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ثابت القوة وقانون هو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مربع نص 2"/>
          <p:cNvSpPr/>
          <p:nvPr/>
        </p:nvSpPr>
        <p:spPr>
          <a:xfrm>
            <a:off x="533520" y="685800"/>
            <a:ext cx="8215200" cy="57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وحدة الس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حرارة والقياسات الحرار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درجة الحرارة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كمية الحرارة والحرارة النو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المكافئ الميكانيكي للحر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تمدد الاجسام بالحرارة (</a:t>
            </a:r>
            <a:r>
              <a:rPr b="1" lang="ar-SA" sz="3200" spc="-1" strike="noStrike">
                <a:solidFill>
                  <a:srgbClr val="9933ff"/>
                </a:solidFill>
                <a:latin typeface="Constantia"/>
                <a:cs typeface="Times New Roman"/>
              </a:rPr>
              <a:t>تمدد طولي</a:t>
            </a:r>
            <a:r>
              <a:rPr b="1" lang="ar-SA" sz="3200" spc="-1" strike="noStrike">
                <a:solidFill>
                  <a:srgbClr val="ffff00"/>
                </a:solidFill>
                <a:latin typeface="Constantia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 </a:t>
            </a:r>
            <a:r>
              <a:rPr b="1" lang="ar-SA" sz="3200" spc="-1" strike="noStrike">
                <a:solidFill>
                  <a:srgbClr val="009999"/>
                </a:solidFill>
                <a:latin typeface="Constantia"/>
                <a:cs typeface="Times New Roman"/>
              </a:rPr>
              <a:t>تمدد سطحي</a:t>
            </a:r>
            <a:r>
              <a:rPr b="1" lang="ar-SA" sz="3200" spc="-1" strike="noStrike">
                <a:solidFill>
                  <a:srgbClr val="00b050"/>
                </a:solidFill>
                <a:latin typeface="Constantia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</a:t>
            </a:r>
            <a:r>
              <a:rPr b="1" lang="ar-SA" sz="3200" spc="-1" strike="noStrike">
                <a:solidFill>
                  <a:srgbClr val="7030a0"/>
                </a:solidFill>
                <a:latin typeface="Constantia"/>
                <a:cs typeface="Times New Roman"/>
              </a:rPr>
              <a:t>تمدد حجمي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انتقال الحرارة ( </a:t>
            </a:r>
            <a:r>
              <a:rPr b="1" lang="ar-SA" sz="3200" spc="-1" strike="noStrike">
                <a:solidFill>
                  <a:srgbClr val="9900ff"/>
                </a:solidFill>
                <a:latin typeface="Arial"/>
                <a:cs typeface="Times New Roman"/>
              </a:rPr>
              <a:t>بالتوصيل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1" lang="ar-SA" sz="3200" spc="-1" strike="noStrike">
                <a:solidFill>
                  <a:srgbClr val="00b050"/>
                </a:solidFill>
                <a:latin typeface="Arial"/>
                <a:cs typeface="Times New Roman"/>
              </a:rPr>
              <a:t>بالحمل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1" lang="ar-SA" sz="3200" spc="-1" strike="noStrike">
                <a:solidFill>
                  <a:srgbClr val="7030a0"/>
                </a:solidFill>
                <a:latin typeface="Arial"/>
                <a:cs typeface="Times New Roman"/>
              </a:rPr>
              <a:t>بالإشعاع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مربع نص 2"/>
          <p:cNvSpPr/>
          <p:nvPr/>
        </p:nvSpPr>
        <p:spPr>
          <a:xfrm>
            <a:off x="1071720" y="380880"/>
            <a:ext cx="7500960" cy="62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وحدة الثامن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ضو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  <a:cs typeface="Times New Roman"/>
              </a:rPr>
              <a:t>نظريات الضو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لنظرية الجسي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لنظرية الموج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لنظرية الك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خصائص الضو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نعكاس الضو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نكسار الضو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لتداخ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لحي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لإستقطا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لتشت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0920" y="115920"/>
            <a:ext cx="8748720" cy="28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 ابن عباس رضي الله عنه قال: قال رسول الله صلى الله عليه وسل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من جاءه أجلُه وهو يطلب العلم لقي الله ولم يكن بينه وبين النَّبيين إلا درجة النبوَّة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رواه الطبراني في الأوسط)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50920" y="3141720"/>
            <a:ext cx="87487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-104760" y="2925360"/>
            <a:ext cx="935208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عن أبي موسى رضي الله عنه قال: قال رسول الله صلى الله عليه وسل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يبعث الله العباد يوم القيامة ثمَّ يميِّز العلماء فيقول: يا معشر العلماء إني لم أضع علمي فيكم لأعذِّبكم، اذهبوا فقد غفرت لك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(رواه الطبراني في الكبير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52280" y="5942520"/>
            <a:ext cx="58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صدق رسول الله صلى الله عليه وسلم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ستطيل 2"/>
          <p:cNvSpPr/>
          <p:nvPr/>
        </p:nvSpPr>
        <p:spPr>
          <a:xfrm>
            <a:off x="914400" y="152280"/>
            <a:ext cx="7238880" cy="19051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810e0"/>
                </a:solidFill>
                <a:latin typeface="Constantia"/>
                <a:cs typeface="Times New Roman"/>
              </a:rPr>
              <a:t>د. حسين عبد الحافظ عبد الرحمن محم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810e0"/>
                </a:solidFill>
                <a:latin typeface="Constantia"/>
                <a:cs typeface="Times New Roman"/>
              </a:rPr>
              <a:t>د. خالد محمد الفرما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810e0"/>
                </a:solidFill>
                <a:latin typeface="Constantia"/>
                <a:cs typeface="Times New Roman"/>
              </a:rPr>
              <a:t>د. وضاح محمد طشي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810e0"/>
                </a:solidFill>
                <a:latin typeface="Constantia"/>
                <a:cs typeface="Times New Roman"/>
              </a:rPr>
              <a:t>د. هشام محمد حسين العط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ستطيل مستدير الزوايا 3"/>
          <p:cNvSpPr/>
          <p:nvPr/>
        </p:nvSpPr>
        <p:spPr>
          <a:xfrm>
            <a:off x="838080" y="4114800"/>
            <a:ext cx="7643880" cy="2214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faculty.ksu.edu.sa/hussein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faculty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ksu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edu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sa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kalfaramawi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http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6"/>
              </a:rPr>
              <a:t>faculty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8"/>
              </a:rPr>
              <a:t>ksu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9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0"/>
              </a:rPr>
              <a:t>edu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1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2"/>
              </a:rPr>
              <a:t>sa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3"/>
              </a:rPr>
              <a:t>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4"/>
              </a:rPr>
              <a:t>74641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5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6"/>
              </a:rPr>
              <a:t>http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7"/>
              </a:rPr>
              <a:t>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8"/>
              </a:rPr>
              <a:t>faculty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9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0"/>
              </a:rPr>
              <a:t>ksu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1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2"/>
              </a:rPr>
              <a:t>edu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3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4"/>
              </a:rPr>
              <a:t>sa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5"/>
              </a:rPr>
              <a:t>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6"/>
              </a:rPr>
              <a:t>alattar</a:t>
            </a:r>
            <a:r>
              <a:rPr b="0" lang="en-US" sz="32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خطط انسيابي: رابط 4"/>
          <p:cNvSpPr/>
          <p:nvPr/>
        </p:nvSpPr>
        <p:spPr>
          <a:xfrm>
            <a:off x="3571920" y="2143080"/>
            <a:ext cx="2000160" cy="17859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Constantia"/>
                <a:cs typeface="Majalla UI"/>
              </a:rPr>
              <a:t>الموق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مربع نص 1"/>
          <p:cNvSpPr/>
          <p:nvPr/>
        </p:nvSpPr>
        <p:spPr>
          <a:xfrm>
            <a:off x="1981080" y="1676520"/>
            <a:ext cx="607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سم المقرر: 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فيزياء العام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مربع نص 2"/>
          <p:cNvSpPr/>
          <p:nvPr/>
        </p:nvSpPr>
        <p:spPr>
          <a:xfrm>
            <a:off x="2286000" y="2971800"/>
            <a:ext cx="580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رمز المقرر: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 فيز 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مربع نص 3"/>
          <p:cNvSpPr/>
          <p:nvPr/>
        </p:nvSpPr>
        <p:spPr>
          <a:xfrm>
            <a:off x="1600200" y="4267080"/>
            <a:ext cx="672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مرجع الرئيسي:  </a:t>
            </a: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فيزياء العام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مؤلف:  </a:t>
            </a: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د. محمد عطية سويلم وآخرو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552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مربع نص 1"/>
          <p:cNvSpPr/>
          <p:nvPr/>
        </p:nvSpPr>
        <p:spPr>
          <a:xfrm>
            <a:off x="243000" y="566640"/>
            <a:ext cx="85341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قر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عريف الطالب بالأسس  العامة للفيزياء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تعرف عن قرب على وحدات القي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اسة علم المتجهات وتطبيق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اسة علم الحركة المجردة وديناميكا الجس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اسة بعض خواص المادة مثل الخواص الميكانيكية – الخوا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الحرارية –  ميكانيكا السوائ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اسة البصريات الهند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إجراء مجموعة من التجارب العملية لدراسة بعض الظواهر الفيزيائية المتعلقة بالمعارف الساب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rial"/>
              </a:rPr>
              <a:t>محتويات المقر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مربع نص 2"/>
          <p:cNvSpPr/>
          <p:nvPr/>
        </p:nvSpPr>
        <p:spPr>
          <a:xfrm>
            <a:off x="685800" y="533520"/>
            <a:ext cx="74674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وحد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قيا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كميات الفيزيائ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رابط كسهم مستقيم 4"/>
          <p:cNvCxnSpPr/>
          <p:nvPr/>
        </p:nvCxnSpPr>
        <p:spPr>
          <a:xfrm flipH="1">
            <a:off x="2932920" y="2728800"/>
            <a:ext cx="1715400" cy="92952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59" name="رابط كسهم مستقيم 6"/>
          <p:cNvCxnSpPr/>
          <p:nvPr/>
        </p:nvCxnSpPr>
        <p:spPr>
          <a:xfrm>
            <a:off x="4648320" y="2738520"/>
            <a:ext cx="1286640" cy="107208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60" name="مربع نص 7"/>
          <p:cNvSpPr/>
          <p:nvPr/>
        </p:nvSpPr>
        <p:spPr>
          <a:xfrm>
            <a:off x="990720" y="3840120"/>
            <a:ext cx="751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كميات الأساسية           الكميات المشت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ربع نص 8"/>
          <p:cNvSpPr/>
          <p:nvPr/>
        </p:nvSpPr>
        <p:spPr>
          <a:xfrm>
            <a:off x="2214720" y="4600440"/>
            <a:ext cx="59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الوحدات الأساس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قياس الزوايا المست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مربع نص 1"/>
          <p:cNvSpPr/>
          <p:nvPr/>
        </p:nvSpPr>
        <p:spPr>
          <a:xfrm>
            <a:off x="457200" y="546120"/>
            <a:ext cx="79246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وحد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متجه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مفهوم الاتجا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لكميات العددية والكميات المتجه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20:31:26Z</dcterms:created>
  <dc:creator>khaled</dc:creator>
  <dc:description/>
  <dc:language>en-US</dc:language>
  <cp:lastModifiedBy>user</cp:lastModifiedBy>
  <dcterms:modified xsi:type="dcterms:W3CDTF">2010-02-26T17:18:14Z</dcterms:modified>
  <cp:revision>17</cp:revision>
  <dc:subject/>
  <dc:title>الفيزياء العامة - فيز 101</dc:title>
</cp:coreProperties>
</file>