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.wmf" ContentType="image/x-wmf"/>
  <Override PartName="/ppt/media/image18.jpeg" ContentType="image/jpeg"/>
  <Override PartName="/ppt/media/image15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13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12.png" ContentType="image/png"/>
  <Override PartName="/ppt/media/image23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BF5F-AF37-4449-82DE-0E85C86D5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E58B-5646-471A-AC83-D125D057DC9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5A2E-A174-42B9-8112-1C6535BD397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E0C7-73C0-46D0-BB85-B4FC6E852B4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A02E-C945-4A1F-92B1-503FF38CBA7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B537-D5BD-4526-8B40-5F30B66CC0C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A3B3-658A-4CCE-AB9C-724CD3949A6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2344-79EE-4FE0-BB9C-F9E1E28777C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748F-F79D-4D6E-BCAA-47DDC1B5C04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E5A3-CC85-4900-BC08-4ED41C31E2A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9E67-3176-439A-A494-2FC79CE77D4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F8CA-B999-47BC-890C-BC19BD8B718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F9FE-3BCE-40F3-A4DB-6A13EB54F60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EDFC-5691-4E4F-A87C-8FDC64C8A8F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BF9B-A0FB-4E7D-90F6-8A924604DFC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98A3-3C05-4555-A555-47AA173D74E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F869-EE93-4205-AFDD-BC49B1B4774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CEC2-82E8-4118-8467-BBD5DBB98A4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2133-E5E9-4283-98A1-452C9D108F5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9C8B-D213-4426-A186-70F1E9A5973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A7A8-9927-4167-8CE4-33FD326553C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200" spc="-1" strike="noStrike">
              <a:solidFill>
                <a:srgbClr val="000000"/>
              </a:solidFill>
              <a:latin typeface="Tahoma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BB93-6667-43A7-801E-B38F8EF4268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8C07-F1F9-451F-AB48-CDE95AEB0C8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CCA5-8EE3-425B-8641-7639DC8F550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6DC-31FB-4D5C-869F-8D050F55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2E3-6BE3-408B-9A17-987050BF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818-AB89-400E-AC43-A017C4AC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277-BE77-4325-9DC2-E8491781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E48F-6F64-4C8B-B5E2-025B2454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D2A2-B460-4904-B8C8-70CB8EB1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98C7-CCAA-46C5-ADC3-E2D4A61C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B910-6672-4E8E-A3C8-BB28F35F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6B28-FC41-4302-9BE0-97089D6C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F862-EE00-4C04-96E8-B4281F3D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9E05-E864-41B2-BFE3-C7813338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A61F-D51F-4B27-9BA5-755F4271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ADA6-A6B3-4FF6-920F-35AD0AB1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4A29-4E30-4677-98CA-C459D5ED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FD1B-0451-4F31-A2FF-1D56CFF0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60D6-41F9-4F1C-9A5F-17C96BF1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CFB3-810A-4B28-96F7-1691055E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08141-4501-422D-B147-22D4D0A9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4231-03C4-4E54-9393-539C7B21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08880-17FF-451C-8088-5F418700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C613-7321-4760-BFE4-8FD31731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07834-4A3C-4772-AFD5-DA1DE882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834-DE9F-42CC-94DC-675791D5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C3FC0-5136-4F15-B859-9B6CBAB2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F2F27-D6B9-4FB8-81A7-8EB7CACA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3C29A-EC2F-4818-B91E-06108E2A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4A433-5E97-44D2-8C69-BFA552BA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679E9-9707-48C5-BA74-93C5586F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E5EF6-365A-4B51-8AC9-57252A33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A7A6E-78C4-46BD-A82D-9DFE25F8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5CB60-B96C-4BBC-B1AA-05C6AE98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EAFBF-DA04-4C9F-955D-3DC3070F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C1B4B-148B-4D4F-B5BC-A54ADF6C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A882-3C4A-4CE2-9D59-9D2E27CC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A7CDD-6146-48D0-AF39-EAAC4350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1F5EA-C224-4468-AFD9-32B8705C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0BFB0-36A5-41D9-8743-77E03743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6E0D8-24A4-48A9-B798-F2D1EBAC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576B1-034B-4743-95BD-8BEBFF1C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548D7-64B6-4AF8-B0F8-8508436C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20CA4-DE5F-4399-96DF-7789EA4B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4F451-1DE3-46ED-AD1B-D095D624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39E03-A0DA-4D1B-B3D8-FD76167B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33A6-5F8D-4659-B754-53896FD5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356-EE53-40C6-874E-C8D0178F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FC8-5EF3-4B26-8224-E7E738F8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778-2685-46F9-88A9-ABAE81E0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1C9-3BB9-4EEB-8923-8ABE5D50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17D9-22FB-4F4D-AA38-1260F4B1D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0C10-2D78-40A3-B5A2-43843CF87BB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A88F-0AC0-4155-85EA-97F57BBACAB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99E7-9784-4649-AB4B-95AB27A5E81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  <a:cs typeface="Tahoma"/>
              </a:rPr>
              <a:t>تلوث التربة والميا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0D71-8036-4775-94B6-7E54A4DAB7F6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saline soils"/>
          <p:cNvPicPr/>
          <p:nvPr/>
        </p:nvPicPr>
        <p:blipFill>
          <a:blip r:embed="rId1"/>
          <a:stretch/>
        </p:blipFill>
        <p:spPr>
          <a:xfrm>
            <a:off x="228600" y="76320"/>
            <a:ext cx="8686800" cy="61228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2666880" y="457200"/>
            <a:ext cx="3733920" cy="459720"/>
          </a:xfrm>
          <a:prstGeom prst="rect">
            <a:avLst/>
          </a:prstGeom>
          <a:solidFill>
            <a:srgbClr val="ffc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طبقة ”قشرة“ ملح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7C6C-B701-48B8-8F20-6175904294B3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26" descr="DeSalt1_4b"/>
          <p:cNvPicPr/>
          <p:nvPr/>
        </p:nvPicPr>
        <p:blipFill>
          <a:blip r:embed="rId1"/>
          <a:stretch/>
        </p:blipFill>
        <p:spPr>
          <a:xfrm>
            <a:off x="2281320" y="76320"/>
            <a:ext cx="3967200" cy="61722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027"/>
          <p:cNvSpPr/>
          <p:nvPr/>
        </p:nvSpPr>
        <p:spPr>
          <a:xfrm>
            <a:off x="6705720" y="2514600"/>
            <a:ext cx="2057400" cy="143460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ثر معالجة ملوحة التر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1899-A7E2-48AF-A16C-8CD7E00A8202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Indian"/>
          <p:cNvPicPr/>
          <p:nvPr/>
        </p:nvPicPr>
        <p:blipFill>
          <a:blip r:embed="rId1"/>
          <a:stretch/>
        </p:blipFill>
        <p:spPr>
          <a:xfrm>
            <a:off x="380880" y="152280"/>
            <a:ext cx="4419720" cy="29196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6629400" y="457200"/>
            <a:ext cx="1981080" cy="375156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ثر سيادة نوع من معادن الطين قابل للانتفا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home"/>
          <p:cNvPicPr/>
          <p:nvPr/>
        </p:nvPicPr>
        <p:blipFill>
          <a:blip r:embed="rId2"/>
          <a:stretch/>
        </p:blipFill>
        <p:spPr>
          <a:xfrm>
            <a:off x="380880" y="3389400"/>
            <a:ext cx="4496040" cy="285732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5"/>
          <p:cNvSpPr/>
          <p:nvPr/>
        </p:nvSpPr>
        <p:spPr>
          <a:xfrm>
            <a:off x="533520" y="46483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77FF-9EE5-4A28-BBDE-2F8A20CE7B67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solidFill>
            <a:srgbClr val="fefc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ahoma"/>
                <a:cs typeface="Tahoma"/>
              </a:rPr>
              <a:t>التربة والبيئ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80060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لتربة مصدر الغذاء العالم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مراع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زراع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0" y="1371240"/>
            <a:ext cx="4114800" cy="480060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لتربة والهواء والماء يتأثرون ب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صرف الصحي ”السائلة والصلبة“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صرف الصناعي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النفاي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لتربة بيئة نمو النبات ”تختلف فيما بينها في توفير ذلك“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تعمل كداعم ومثب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تمد الجذور بالأكسجين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تمد النبات بالماء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تمد النبات بالعناصر الغذائية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272360" cy="762120"/>
          </a:xfrm>
          <a:prstGeom prst="rect">
            <a:avLst/>
          </a:prstGeom>
          <a:solidFill>
            <a:srgbClr val="ffff9d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Tahoma"/>
                <a:cs typeface="Tahoma"/>
              </a:rPr>
              <a:t>ما هي </a:t>
            </a:r>
            <a:r>
              <a:rPr b="1" lang="ar-SA" sz="3600" spc="-1" strike="noStrike">
                <a:solidFill>
                  <a:srgbClr val="ff3300"/>
                </a:solidFill>
                <a:latin typeface="Tahoma"/>
                <a:cs typeface="Tahoma"/>
              </a:rPr>
              <a:t>التربة</a:t>
            </a:r>
            <a:r>
              <a:rPr b="1" lang="ar-SA" sz="3600" spc="-1" strike="noStrike">
                <a:solidFill>
                  <a:srgbClr val="0000ff"/>
                </a:solidFill>
                <a:latin typeface="Tahoma"/>
                <a:cs typeface="Tahoma"/>
              </a:rPr>
              <a:t>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1" name="Object 3"/>
          <p:cNvGraphicFramePr/>
          <p:nvPr/>
        </p:nvGraphicFramePr>
        <p:xfrm>
          <a:off x="1476360" y="1197000"/>
          <a:ext cx="655308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55308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4"/>
          <p:cNvGraphicFramePr/>
          <p:nvPr/>
        </p:nvGraphicFramePr>
        <p:xfrm>
          <a:off x="0" y="3621240"/>
          <a:ext cx="2951280" cy="32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621240"/>
                    <a:ext cx="29512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5E93-6873-4B21-B244-36559B4B0B2E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soil_breakdown"/>
          <p:cNvPicPr/>
          <p:nvPr/>
        </p:nvPicPr>
        <p:blipFill>
          <a:blip r:embed="rId1"/>
          <a:stretch/>
        </p:blipFill>
        <p:spPr>
          <a:xfrm>
            <a:off x="76320" y="4056120"/>
            <a:ext cx="4190760" cy="2268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723920" y="304920"/>
            <a:ext cx="3962520" cy="586728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990033"/>
                </a:solidFill>
                <a:latin typeface="Tahoma"/>
                <a:cs typeface="Tahoma"/>
              </a:rPr>
              <a:t>التربة </a:t>
            </a:r>
            <a:r>
              <a:rPr b="1" lang="en-GB" sz="3000" spc="-1" strike="noStrike">
                <a:solidFill>
                  <a:srgbClr val="990033"/>
                </a:solidFill>
                <a:latin typeface="Tahoma"/>
                <a:ea typeface="Tahoma"/>
              </a:rPr>
              <a:t>Soil (Solum)</a:t>
            </a:r>
            <a:r>
              <a:rPr b="1" lang="ar-SA" sz="3000" spc="-1" strike="noStrike">
                <a:solidFill>
                  <a:srgbClr val="990033"/>
                </a:solidFill>
                <a:latin typeface="Tahoma"/>
                <a:ea typeface="Tahoma"/>
              </a:rPr>
              <a:t>:</a:t>
            </a:r>
            <a:r>
              <a:rPr b="1" lang="ar-SA" sz="3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ahoma"/>
                <a:cs typeface="Tahoma"/>
              </a:rPr>
              <a:t>جسم طبيعي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ff"/>
                </a:solidFill>
                <a:latin typeface="Tahoma"/>
                <a:ea typeface="Tahoma"/>
              </a:rPr>
              <a:t> مكون من مواد عضوية ومعدنية وحية (مفكك).</a:t>
            </a:r>
            <a:r>
              <a:rPr b="0" lang="ar-SA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0000"/>
                </a:solidFill>
                <a:latin typeface="Tahoma"/>
                <a:cs typeface="Tahoma"/>
              </a:rPr>
              <a:t>يغطي أجزاءً كبيرة من سطح الأرض.</a:t>
            </a:r>
            <a:r>
              <a:rPr b="0" lang="ar-SA" sz="2600" spc="-1" strike="noStrike">
                <a:solidFill>
                  <a:srgbClr val="990033"/>
                </a:solidFill>
                <a:latin typeface="Tahoma"/>
                <a:ea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6600"/>
                </a:solidFill>
                <a:latin typeface="Tahoma"/>
                <a:cs typeface="Tahoma"/>
              </a:rPr>
              <a:t>يحده من أعلى الهواء أو المياه الضحلة.</a:t>
            </a:r>
            <a:r>
              <a:rPr b="0" lang="ar-SA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800000"/>
                </a:solidFill>
                <a:latin typeface="Tahoma"/>
                <a:cs typeface="Tahoma"/>
              </a:rPr>
              <a:t>ومن الأسفل حيث تنتهي منطقة جذور النبات.</a:t>
            </a:r>
            <a:r>
              <a:rPr b="0" lang="ar-SA" sz="26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ahoma"/>
                <a:cs typeface="Tahoma"/>
              </a:rPr>
              <a:t>ويستطيع إمداد النبات بما يحتاجه في الحقل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8" descr="grassland_soil1"/>
          <p:cNvPicPr/>
          <p:nvPr/>
        </p:nvPicPr>
        <p:blipFill>
          <a:blip r:embed="rId2"/>
          <a:stretch/>
        </p:blipFill>
        <p:spPr>
          <a:xfrm>
            <a:off x="330120" y="76320"/>
            <a:ext cx="26053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3E57-A6F0-463D-A9EB-45B9946F86EA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efeba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ahoma"/>
                <a:cs typeface="Tahoma"/>
              </a:rPr>
              <a:t>أهمية دراسة الترب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91520" cy="165744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ctr" anchorCtr="1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التربة أحد مكونات أربعة هي أركان الحياة في الأر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solidFill>
            <a:srgbClr val="f2fa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  <a:cs typeface="Tahoma"/>
              </a:rPr>
              <a:t>مكونات الترب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71640" y="3284640"/>
            <a:ext cx="7129440" cy="196056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Tahoma"/>
                <a:cs typeface="Tahoma"/>
              </a:rPr>
              <a:t>الجزء المعدني (الصخور- المعادن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Tahoma"/>
                <a:cs typeface="Tahoma"/>
              </a:rPr>
              <a:t>المواد العض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Tahoma"/>
                <a:cs typeface="Tahoma"/>
              </a:rPr>
              <a:t>ماء التر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98989"/>
                </a:solidFill>
                <a:latin typeface="Tahoma"/>
                <a:cs typeface="Tahoma"/>
              </a:rPr>
              <a:t>هواء التر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584C-D142-476F-895C-6720DAEDA34C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مكونات الترب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2" name="Object 3"/>
          <p:cNvGraphicFramePr/>
          <p:nvPr/>
        </p:nvGraphicFramePr>
        <p:xfrm>
          <a:off x="552600" y="1700280"/>
          <a:ext cx="339408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3" descr="AWOM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700280"/>
                    <a:ext cx="33940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3300"/>
                </a:solidFill>
                <a:latin typeface="Tahoma"/>
                <a:cs typeface="Tahoma"/>
              </a:rPr>
              <a:t>التربة </a:t>
            </a:r>
            <a:r>
              <a:rPr b="0" lang="en-GB" sz="3600" spc="-1" strike="noStrike">
                <a:solidFill>
                  <a:srgbClr val="ff3300"/>
                </a:solidFill>
                <a:latin typeface="Tahoma"/>
                <a:ea typeface="Tahoma"/>
              </a:rPr>
              <a:t>Soil</a:t>
            </a:r>
            <a:r>
              <a:rPr b="0" lang="ar-SA" sz="3600" spc="-1" strike="noStrike">
                <a:solidFill>
                  <a:srgbClr val="ff3300"/>
                </a:solidFill>
                <a:latin typeface="Tahoma"/>
                <a:ea typeface="Tahoma"/>
              </a:rPr>
              <a:t>:</a:t>
            </a:r>
            <a:r>
              <a:rPr b="1" lang="ar-SA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ahoma"/>
                <a:ea typeface="Traditional Arabic"/>
              </a:rPr>
              <a:t>........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وسط لنمو النب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صخر في طريقه للبح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خليط من الموا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حبيبات صل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ثلاثي الأطو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تربة صناع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Picture 5" descr="soil_breakdown"/>
          <p:cNvPicPr/>
          <p:nvPr/>
        </p:nvPicPr>
        <p:blipFill>
          <a:blip r:embed="rId3"/>
          <a:stretch/>
        </p:blipFill>
        <p:spPr>
          <a:xfrm>
            <a:off x="395280" y="26370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DDE7-AD86-49F9-8DFA-8656CB234EF7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مكونات التربة </a:t>
            </a:r>
            <a:r>
              <a:rPr b="0" lang="ar-SA" sz="4000" spc="-1" strike="noStrike">
                <a:solidFill>
                  <a:srgbClr val="0000ff"/>
                </a:solidFill>
                <a:latin typeface="Tahoma"/>
                <a:cs typeface="Tahoma"/>
              </a:rPr>
              <a:t>أولاً: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4000" spc="-1" strike="noStrike">
                <a:solidFill>
                  <a:srgbClr val="800000"/>
                </a:solidFill>
                <a:latin typeface="Tahoma"/>
                <a:cs typeface="Tahoma"/>
              </a:rPr>
              <a:t>الجزء المعدن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4832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كونات الأرض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واة الداخلي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واة الخارجي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وشا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قشر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قشرة الأرضية: تمثل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30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كلم من الجزء الخارجي من الأرض، التي يصل قطرها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6400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كلم ”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4000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ميل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جزء الوحيد الذي تعامل معه الإنسان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حوي المواد الأخف ”الأقل كثافة“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عالية الديناميكية ”دورة الرسوبيات، تكون الصخور الرسوبية، وتحولها إلى صخور نارية ومتحولة، عمليات التجوية والتعرية ...“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4" descr="earthcut"/>
          <p:cNvPicPr/>
          <p:nvPr/>
        </p:nvPicPr>
        <p:blipFill>
          <a:blip r:embed="rId1"/>
          <a:stretch/>
        </p:blipFill>
        <p:spPr>
          <a:xfrm>
            <a:off x="466560" y="1523880"/>
            <a:ext cx="364824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7236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Tahoma"/>
                <a:cs typeface="Tahoma"/>
              </a:rPr>
              <a:t>ما هي </a:t>
            </a:r>
            <a:r>
              <a:rPr b="1" lang="ar-SA" sz="3600" spc="-1" strike="noStrike">
                <a:solidFill>
                  <a:srgbClr val="ff3300"/>
                </a:solidFill>
                <a:latin typeface="Tahoma"/>
                <a:cs typeface="Tahoma"/>
              </a:rPr>
              <a:t>التربة</a:t>
            </a:r>
            <a:r>
              <a:rPr b="1" lang="ar-SA" sz="3600" spc="-1" strike="noStrike">
                <a:solidFill>
                  <a:srgbClr val="0000ff"/>
                </a:solidFill>
                <a:latin typeface="Tahoma"/>
                <a:cs typeface="Tahoma"/>
              </a:rPr>
              <a:t>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1476360" y="1459080"/>
          <a:ext cx="655308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59080"/>
                    <a:ext cx="655308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5"/>
          <p:cNvGraphicFramePr/>
          <p:nvPr/>
        </p:nvGraphicFramePr>
        <p:xfrm>
          <a:off x="0" y="3720960"/>
          <a:ext cx="2951280" cy="323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720960"/>
                    <a:ext cx="2951280" cy="32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2C9A-F497-41C1-9406-AD58725F7AA8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العناصر المكونة للقشرة الأرض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6560" y="5373360"/>
            <a:ext cx="403884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00"/>
                </a:solidFill>
                <a:latin typeface="Calibri"/>
                <a:cs typeface="Traditional Arabic"/>
              </a:rPr>
              <a:t>معدن الكوارتز </a:t>
            </a: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Quartz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33760" y="1905120"/>
            <a:ext cx="3352680" cy="411480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عدد العناصر المكونة للقشرة الأرضية </a:t>
            </a:r>
            <a:r>
              <a:rPr b="1" lang="ar-SA" sz="2800" spc="-1" strike="noStrike">
                <a:solidFill>
                  <a:srgbClr val="cc3300"/>
                </a:solidFill>
                <a:latin typeface="Calibri"/>
                <a:ea typeface="Traditional Arabic"/>
              </a:rPr>
              <a:t>9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عنصراً من بين </a:t>
            </a:r>
            <a:r>
              <a:rPr b="1" lang="ar-SA" sz="2800" spc="-1" strike="noStrike">
                <a:solidFill>
                  <a:srgbClr val="cc3300"/>
                </a:solidFill>
                <a:latin typeface="Calibri"/>
                <a:ea typeface="Traditional Arabic"/>
              </a:rPr>
              <a:t>11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عنصراً معروفا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عناصر تكون المعادن، وقد ميز حتى الآن </a:t>
            </a:r>
            <a:r>
              <a:rPr b="1" lang="ar-SA" sz="2800" spc="-1" strike="noStrike">
                <a:solidFill>
                  <a:srgbClr val="cc3300"/>
                </a:solidFill>
                <a:latin typeface="Calibri"/>
                <a:ea typeface="Traditional Arabic"/>
              </a:rPr>
              <a:t>4000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معدنٍ تقريبا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عادن تكون الصخو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57200" y="1905120"/>
          <a:ext cx="4772160" cy="3047760"/>
        </p:xfrm>
        <a:graphic>
          <a:graphicData uri="http://schemas.openxmlformats.org/drawingml/2006/table">
            <a:tbl>
              <a:tblPr/>
              <a:tblGrid>
                <a:gridCol w="665280"/>
                <a:gridCol w="617400"/>
                <a:gridCol w="1069920"/>
                <a:gridCol w="825480"/>
                <a:gridCol w="546120"/>
                <a:gridCol w="1047960"/>
              </a:tblGrid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3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Arial"/>
                          <a:cs typeface="Traditional Arabic"/>
                        </a:rPr>
                        <a:t>الكالسيو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46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Arial"/>
                          <a:cs typeface="Traditional Arabic"/>
                        </a:rPr>
                        <a:t>الأكسج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Arial"/>
                          <a:cs typeface="Traditional Arabic"/>
                        </a:rPr>
                        <a:t>الصوديو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2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Arial"/>
                          <a:cs typeface="Traditional Arabic"/>
                        </a:rPr>
                        <a:t>السليكو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Arial"/>
                          <a:cs typeface="Traditional Arabic"/>
                        </a:rPr>
                        <a:t>البوتاسيو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8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Arial"/>
                          <a:cs typeface="Traditional Arabic"/>
                        </a:rPr>
                        <a:t>الألمونيو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Arial"/>
                          <a:cs typeface="Traditional Arabic"/>
                        </a:rPr>
                        <a:t>المغنسيو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f8f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Arial"/>
                          <a:cs typeface="Traditional Arabic"/>
                        </a:rPr>
                        <a:t>الحدي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cedb"/>
                    </a:solidFill>
                  </a:tcPr>
                </a:tc>
              </a:tr>
              <a:tr h="520560">
                <a:tc gridSpan="6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ahoma"/>
                          <a:cs typeface="Traditional Arabic"/>
                        </a:rPr>
                        <a:t>باقي العناصر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Traditional Arabic"/>
                        </a:rPr>
                        <a:t>           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ahoma"/>
                          <a:ea typeface="Traditional Arabic"/>
                        </a:rPr>
                        <a:t> </a:t>
                      </a:r>
                      <a:r>
                        <a:rPr b="1" lang="ar-SA" sz="2800" spc="-1" strike="noStrike">
                          <a:solidFill>
                            <a:srgbClr val="ff3300"/>
                          </a:solidFill>
                          <a:latin typeface="Tahoma"/>
                          <a:ea typeface="Traditional Arabic"/>
                        </a:rPr>
                        <a:t>1.5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8" dur="1" fill="hold"/>
                                  <p:tgtEl>
                                    <p:spTgt spid="3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B727-53E6-4AC7-BFA3-37A8573EC59D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6973920" y="0"/>
            <a:ext cx="2170080" cy="184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نيس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e “Gneis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شست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اردواز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كوارتزيت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z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رخام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fig04-02"/>
          <p:cNvPicPr/>
          <p:nvPr/>
        </p:nvPicPr>
        <p:blipFill>
          <a:blip r:embed="rId1"/>
          <a:stretch/>
        </p:blipFill>
        <p:spPr>
          <a:xfrm>
            <a:off x="1600200" y="685800"/>
            <a:ext cx="6324480" cy="4816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2025720" y="5589720"/>
            <a:ext cx="57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ahoma"/>
                <a:cs typeface="Tahoma"/>
              </a:rPr>
              <a:t>دورة الصخور في الأرض</a:t>
            </a:r>
            <a:r>
              <a:rPr b="1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Reeves, 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5257800"/>
            <a:ext cx="2362320" cy="100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حجر الرمل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ds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حجر الجير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es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طفل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1052640"/>
            <a:ext cx="2700360" cy="647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نقل وترسب نواتج التجوية بالماء والرياح والثلاجات والجادب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3924360" y="549360"/>
            <a:ext cx="1834920" cy="43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جوية الصخر الأصل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0" y="1773360"/>
            <a:ext cx="2303640" cy="718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نضغاط وتلاحم الرواسب لتكون الصخر الرسوب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9"/>
          <p:cNvSpPr/>
          <p:nvPr/>
        </p:nvSpPr>
        <p:spPr>
          <a:xfrm>
            <a:off x="380880" y="342900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0"/>
          <p:cNvSpPr/>
          <p:nvPr/>
        </p:nvSpPr>
        <p:spPr>
          <a:xfrm>
            <a:off x="380880" y="342900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1"/>
          <p:cNvSpPr/>
          <p:nvPr/>
        </p:nvSpPr>
        <p:spPr>
          <a:xfrm>
            <a:off x="395280" y="342900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2"/>
          <p:cNvSpPr/>
          <p:nvPr/>
        </p:nvSpPr>
        <p:spPr>
          <a:xfrm>
            <a:off x="8748720" y="1844640"/>
            <a:ext cx="0" cy="266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3"/>
          <p:cNvSpPr/>
          <p:nvPr/>
        </p:nvSpPr>
        <p:spPr>
          <a:xfrm flipH="1">
            <a:off x="3851280" y="450864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CC16-2A1F-412F-9D82-93600FAC6DD2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684000" y="260280"/>
            <a:ext cx="8070840" cy="122400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صخور النارية: صخور تكونت من تعرض المصهور الصخري للتبريد سواءً على سطح الأرض أو في الطبقات العليا من الكرة الأرض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ختلف حسب سرعة التبريد ومكوناته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3" descr="igneous_classification"/>
          <p:cNvPicPr/>
          <p:nvPr/>
        </p:nvPicPr>
        <p:blipFill>
          <a:blip r:embed="rId1"/>
          <a:stretch/>
        </p:blipFill>
        <p:spPr>
          <a:xfrm>
            <a:off x="898560" y="1557360"/>
            <a:ext cx="7561080" cy="5143320"/>
          </a:xfrm>
          <a:prstGeom prst="rect">
            <a:avLst/>
          </a:prstGeom>
          <a:ln w="0">
            <a:noFill/>
          </a:ln>
        </p:spPr>
      </p:pic>
      <p:sp>
        <p:nvSpPr>
          <p:cNvPr id="339" name="Oval 4"/>
          <p:cNvSpPr/>
          <p:nvPr/>
        </p:nvSpPr>
        <p:spPr>
          <a:xfrm>
            <a:off x="2286000" y="1905120"/>
            <a:ext cx="838080" cy="304560"/>
          </a:xfrm>
          <a:prstGeom prst="ellipse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5"/>
          <p:cNvSpPr/>
          <p:nvPr/>
        </p:nvSpPr>
        <p:spPr>
          <a:xfrm>
            <a:off x="6095880" y="1523880"/>
            <a:ext cx="838440" cy="304920"/>
          </a:xfrm>
          <a:prstGeom prst="ellipse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"/>
          <p:cNvSpPr/>
          <p:nvPr/>
        </p:nvSpPr>
        <p:spPr>
          <a:xfrm flipH="1">
            <a:off x="2895480" y="5105520"/>
            <a:ext cx="5105520" cy="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7"/>
          <p:cNvSpPr/>
          <p:nvPr/>
        </p:nvSpPr>
        <p:spPr>
          <a:xfrm flipH="1">
            <a:off x="2437920" y="2895480"/>
            <a:ext cx="3124440" cy="990720"/>
          </a:xfrm>
          <a:prstGeom prst="line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2057400" y="5410080"/>
            <a:ext cx="68580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9"/>
          <p:cNvSpPr/>
          <p:nvPr/>
        </p:nvSpPr>
        <p:spPr>
          <a:xfrm>
            <a:off x="7543800" y="5410080"/>
            <a:ext cx="68580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2286000" y="6324480"/>
            <a:ext cx="68580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1"/>
          <p:cNvSpPr/>
          <p:nvPr/>
        </p:nvSpPr>
        <p:spPr>
          <a:xfrm>
            <a:off x="7848720" y="6400800"/>
            <a:ext cx="68580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7238880" y="3681360"/>
            <a:ext cx="84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لوفي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5638680" y="4191120"/>
            <a:ext cx="99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بيروكسي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3886200" y="4648320"/>
            <a:ext cx="84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مفيبو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2286000" y="4572000"/>
            <a:ext cx="84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بيوتي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3117960" y="2309760"/>
            <a:ext cx="844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كوارت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2057400" y="2919240"/>
            <a:ext cx="1682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فلدسبارات بوتاس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2971800" y="3605040"/>
            <a:ext cx="1752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فلدسبارات صود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5327640" y="2971800"/>
            <a:ext cx="1682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فلدسبارات كلس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CC5F-9311-4AD4-92E2-855E98FE6273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الصخور الرسوب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6552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صخور تكونت في مكان آخر بعد نقلها من مكانها الأصل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راحل تكون الصخور الرسوب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جوية الصخر الأصل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نقل وترسب نواتج التجوية بالماء والرياح والثلاجات والجادب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نضغاط وتلاحم الرواسب لتكون الصخر الرسوب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مثلة للصخور الرسوب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حجر الرملي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dstone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حجر الجيري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estone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طف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le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" descr="lime stone cave"/>
          <p:cNvPicPr/>
          <p:nvPr/>
        </p:nvPicPr>
        <p:blipFill>
          <a:blip r:embed="rId1"/>
          <a:stretch/>
        </p:blipFill>
        <p:spPr>
          <a:xfrm>
            <a:off x="533520" y="3768840"/>
            <a:ext cx="3606840" cy="23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72BD-8F51-4E53-A467-F86741B72404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الصخور المتحول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80060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صخور نارية أو رسوبية طرأت عليها تغيرات طبيعية أو كيميائية أو هما معاً نتيجة الحرارة أو/والضغط تحت سطح التربة.</a:t>
            </a:r>
            <a:r>
              <a:rPr b="1" lang="ar-SA" sz="24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تتميز بأنها صلبة جداً كصلابة الصخور النارية أو الرسوبية، أو الصخور المتحولة التي تكونت منها تلك الصخور الحالية، أو أكث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Traditional Arabic"/>
              </a:rPr>
              <a:t>أمثلة الصخور المتحول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 algn="r" rtl="1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نيس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e “Gnei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”</a:t>
            </a:r>
            <a:r>
              <a:rPr b="0" lang="ar-SA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:</a:t>
            </a:r>
            <a:r>
              <a:rPr b="1" lang="ar-SA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 وهي صخور فاتحة اللون، المعادن تفرقت ثم ترتبت في عروق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Bands</a:t>
            </a:r>
            <a:r>
              <a:rPr b="1" lang="ar-SA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غامقة وفاتحة، تكونت بواسطة الحرارة والضغط معا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 algn="r" rtl="1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شست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ist</a:t>
            </a:r>
            <a:r>
              <a:rPr b="1" lang="ar-SA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: أكثر الصخور المتحولة شيوعا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 algn="r" rtl="1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اردواز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ate</a:t>
            </a:r>
            <a:r>
              <a:rPr b="1" lang="ar-SA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: ناتج عن تحول الطفل بواسطة الضغط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 algn="r" rtl="1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كوارتزايت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zite</a:t>
            </a:r>
            <a:r>
              <a:rPr b="1" lang="ar-SA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: عبارة عن إعادة تبلور للحجر الرملي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izitic</a:t>
            </a:r>
            <a:r>
              <a:rPr b="1" lang="ar-SA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 نتيجة للضغط والحرارة. وهو صخر بطيء التجوية، ينتج عنه ترب رملية ضحل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 algn="r" rtl="1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ahoma"/>
                <a:cs typeface="Traditional Arabic"/>
              </a:rPr>
              <a:t>الرخا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ble</a:t>
            </a:r>
            <a:r>
              <a:rPr b="1" lang="ar-SA" sz="2200" spc="-1" strike="noStrike">
                <a:solidFill>
                  <a:srgbClr val="000000"/>
                </a:solidFill>
                <a:latin typeface="Tahoma"/>
                <a:ea typeface="Traditional Arabic"/>
              </a:rPr>
              <a:t>: حجر جيري أو دولوميت صلب لدرجة تكفي لتنعيم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030F-E645-4B56-9339-370F550DC7C6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rock-cycles"/>
          <p:cNvPicPr/>
          <p:nvPr/>
        </p:nvPicPr>
        <p:blipFill>
          <a:blip r:embed="rId1"/>
          <a:stretch/>
        </p:blipFill>
        <p:spPr>
          <a:xfrm>
            <a:off x="1763640" y="115920"/>
            <a:ext cx="5780160" cy="569916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"/>
          <p:cNvSpPr/>
          <p:nvPr/>
        </p:nvSpPr>
        <p:spPr>
          <a:xfrm>
            <a:off x="5383080" y="1405080"/>
            <a:ext cx="1017720" cy="502920"/>
          </a:xfrm>
          <a:prstGeom prst="rect">
            <a:avLst/>
          </a:prstGeom>
          <a:noFill/>
          <a:ln cap="rnd" w="22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5410080" y="1450800"/>
            <a:ext cx="990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1280" y="566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الناتج النهائي لعمليات التجوية هي الترب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484360" y="1763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تح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 rot="20164800">
            <a:off x="5448240" y="433692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تبر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 rot="1656600">
            <a:off x="2894760" y="49528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إذا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196C-C9FD-4E9C-AB09-5496C70ECA03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soil_breakdown"/>
          <p:cNvPicPr/>
          <p:nvPr/>
        </p:nvPicPr>
        <p:blipFill>
          <a:blip r:embed="rId1"/>
          <a:stretch/>
        </p:blipFill>
        <p:spPr>
          <a:xfrm>
            <a:off x="380880" y="1819440"/>
            <a:ext cx="3903840" cy="26017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مكونات التربة </a:t>
            </a:r>
            <a:r>
              <a:rPr b="0" lang="ar-SA" sz="4000" spc="-1" strike="noStrike">
                <a:solidFill>
                  <a:srgbClr val="0000ff"/>
                </a:solidFill>
                <a:latin typeface="Tahoma"/>
                <a:cs typeface="Tahoma"/>
              </a:rPr>
              <a:t>أولاً: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4000" spc="-1" strike="noStrike">
                <a:solidFill>
                  <a:srgbClr val="800000"/>
                </a:solidFill>
                <a:latin typeface="Tahoma"/>
                <a:cs typeface="Tahoma"/>
              </a:rPr>
              <a:t>الجزء المعدن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0" y="1412640"/>
            <a:ext cx="4038480" cy="482436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عاد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ادة متاجنسة، غير حية، ذات تركيب كيميائي محدد، وصفات فيزيائية محددة ”الشكل، اللون، درجة الذوبان، الصلابة،...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نواتج عمليات تجوية وتعرية للصخو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ولية وثان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ولية: تكونت بواسطة تبريد الصخور الذائبة ”الصهير الصخري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8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ثانوية: ترسبت أو تبلورت مرة أخرى من محاليل تحوي عناصر نتجت من ذوبان معادن أخرى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5" descr="soil2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413000"/>
            <a:ext cx="411804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1CD6-4AF1-45CA-9533-6B8508CB50BD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  <a:cs typeface="Times New Roman"/>
              </a:rPr>
              <a:t>بعض أنواع المعاد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395280" y="404640"/>
          <a:ext cx="8229600" cy="5586480"/>
        </p:xfrm>
        <a:graphic>
          <a:graphicData uri="http://schemas.openxmlformats.org/drawingml/2006/table">
            <a:tbl>
              <a:tblPr/>
              <a:tblGrid>
                <a:gridCol w="5040360"/>
                <a:gridCol w="1871640"/>
                <a:gridCol w="182520"/>
                <a:gridCol w="182520"/>
                <a:gridCol w="9525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صفات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تركي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عد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عادن أول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7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صلب، بطيء التجوية، المكون الرئيسي للرمل، ومكون للسلت أيضاً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كوارتز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صلب، بطيء إلى متوسط التجوية، يمد التربة بالعناصر الغذائية والطين عند تجويته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ت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فلدسبار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صدر مهم للبوتاسيوم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ت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يك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صدر مهم للفسفور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Ca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O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F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باتي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عادن ثانو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f7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ناطق الجافة، قليل الذوبانية، مصدر للكالسيوم وأحياناً المغنسيوم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C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كالسيت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مناطق الجافة، متوسط الذوباني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H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جبس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صدر للحديد، ذات قدرة عالية على تلوين التر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H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كاسيد الحد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هم معادن التربة بالنسبة للزراعة، ولها استخدامات صناعية متعدد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ea typeface="Traditional Arabic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ت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معادن الط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cffc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9E2D-7A9B-44C1-A1EC-722D1A532FD4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85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ahoma"/>
              </a:rPr>
              <a:t>مكونات التربة </a:t>
            </a:r>
            <a:r>
              <a:rPr b="0" lang="ar-SA" sz="3600" spc="-1" strike="noStrike">
                <a:solidFill>
                  <a:srgbClr val="0000ff"/>
                </a:solidFill>
                <a:latin typeface="Tahoma"/>
                <a:cs typeface="Tahoma"/>
              </a:rPr>
              <a:t>ثانياً: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3600" spc="-1" strike="noStrike">
                <a:solidFill>
                  <a:srgbClr val="800000"/>
                </a:solidFill>
                <a:latin typeface="Tahoma"/>
                <a:cs typeface="Tahoma"/>
              </a:rPr>
              <a:t>المواد العضو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3" descr="soil_breakdown"/>
          <p:cNvPicPr/>
          <p:nvPr/>
        </p:nvPicPr>
        <p:blipFill>
          <a:blip r:embed="rId1"/>
          <a:stretch/>
        </p:blipFill>
        <p:spPr>
          <a:xfrm>
            <a:off x="228600" y="121752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495680" y="1217160"/>
            <a:ext cx="4114800" cy="251460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78000"/>
          </a:bodyPr>
          <a:p>
            <a:pPr marL="267480" indent="-267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ادة العضوية في التربة هي بقايا النباتات والحيوانات في التربة جذور النباتات والكائنات الحية الدقيقة في الترب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نسبة المادة العضوية في ترب العا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0.9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دبال هو المادة العضوية المتحلل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8000" y="3708000"/>
            <a:ext cx="8142120" cy="253836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رب العضوية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Soils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 تكونت من بقايا النبات والحيوان المتراكمة في برك ماء حيث يفقد الأكسجين، أو مناطق رطبة باردة جداً، حيث يكون تحلل المادة العضوية بطيء جدا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أهمية المادة العضوية في الترب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صدر للـ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N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الـ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P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والـ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S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raditional Arab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ادة لاحمة لتجمعات الترب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زيادة قدرة التربة على الاحتفاظ بالماء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AutoShape 6"/>
          <p:cNvSpPr/>
          <p:nvPr/>
        </p:nvSpPr>
        <p:spPr>
          <a:xfrm rot="12434400">
            <a:off x="2771280" y="2911320"/>
            <a:ext cx="719280" cy="144720"/>
          </a:xfrm>
          <a:prstGeom prst="rightArrow">
            <a:avLst>
              <a:gd name="adj1" fmla="val 50000"/>
              <a:gd name="adj2" fmla="val 124254"/>
            </a:avLst>
          </a:prstGeom>
          <a:solidFill>
            <a:srgbClr val="350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8B91-0460-4E71-A2BC-C357488B88B7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4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ahoma"/>
              </a:rPr>
              <a:t>مكونات التربة </a:t>
            </a:r>
            <a:r>
              <a:rPr b="0" lang="ar-SA" sz="3600" spc="-1" strike="noStrike">
                <a:solidFill>
                  <a:srgbClr val="0000ff"/>
                </a:solidFill>
                <a:latin typeface="Tahoma"/>
                <a:cs typeface="Tahoma"/>
              </a:rPr>
              <a:t>ثالثاً: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3600" spc="-1" strike="noStrike">
                <a:solidFill>
                  <a:srgbClr val="800000"/>
                </a:solidFill>
                <a:latin typeface="Tahoma"/>
                <a:cs typeface="Tahoma"/>
              </a:rPr>
              <a:t>ماء الترب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اء هو المذيب الأول بين المذيب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اء هو الناقل الرئيسي خلال وبين أنظم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رب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ماء متطلب أساسي في جميع مناشط الحيا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شارك في الدورات الجيوكيميائية عن طري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تج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غسيل المواد إلى المياه الجوف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نقل الأيونات والحبيبات خلال قطاع الترب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النباتات والكائنات الأخرى تغير حالة الذوائب في الماء المتسرب إلى الترب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4" descr="soil_breakdown"/>
          <p:cNvPicPr/>
          <p:nvPr/>
        </p:nvPicPr>
        <p:blipFill>
          <a:blip r:embed="rId1"/>
          <a:stretch/>
        </p:blipFill>
        <p:spPr>
          <a:xfrm>
            <a:off x="457200" y="1600200"/>
            <a:ext cx="3733920" cy="202104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5"/>
          <p:cNvSpPr/>
          <p:nvPr/>
        </p:nvSpPr>
        <p:spPr>
          <a:xfrm rot="18958800">
            <a:off x="423720" y="2590560"/>
            <a:ext cx="719280" cy="144360"/>
          </a:xfrm>
          <a:prstGeom prst="rightArrow">
            <a:avLst>
              <a:gd name="adj1" fmla="val 50000"/>
              <a:gd name="adj2" fmla="val 124564"/>
            </a:avLst>
          </a:prstGeom>
          <a:solidFill>
            <a:srgbClr val="350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EC02-F1DC-4E1C-8154-5CC148149B11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7fca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  <a:cs typeface="Tahoma"/>
              </a:rPr>
              <a:t>ورشة عم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لنحصر ما يمكن أن يوجد على سطح الأرض من مواد طبيعية غير ح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170000" y="3505320"/>
          <a:ext cx="7059600" cy="944280"/>
        </p:xfrm>
        <a:graphic>
          <a:graphicData uri="http://schemas.openxmlformats.org/drawingml/2006/table">
            <a:tbl>
              <a:tblPr/>
              <a:tblGrid>
                <a:gridCol w="1530360"/>
                <a:gridCol w="838080"/>
                <a:gridCol w="685800"/>
                <a:gridCol w="838440"/>
                <a:gridCol w="574560"/>
                <a:gridCol w="1292040"/>
                <a:gridCol w="1300320"/>
              </a:tblGrid>
              <a:tr h="1371600">
                <a:tc>
                  <a:txBody>
                    <a:bodyPr lIns="90000" rIns="90000" anchor="ctr" anchorCtr="1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صخور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ترا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غب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ط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ر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كثبان رم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جبال صما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Rectangle 101"/>
          <p:cNvSpPr/>
          <p:nvPr/>
        </p:nvSpPr>
        <p:spPr>
          <a:xfrm>
            <a:off x="457200" y="4618080"/>
            <a:ext cx="8229600" cy="140184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ما الذي يمكن استخدامه في الزراعة؟ يتأثر ويؤثر بالنشاط الإنساني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49F4-0690-48EC-B08B-B8191B7E6A4C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0040" y="333360"/>
            <a:ext cx="8229600" cy="797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Tahoma"/>
              </a:rPr>
              <a:t>مكونات التربة </a:t>
            </a:r>
            <a:r>
              <a:rPr b="0" lang="ar-SA" sz="3600" spc="-1" strike="noStrike">
                <a:solidFill>
                  <a:srgbClr val="0000ff"/>
                </a:solidFill>
                <a:latin typeface="Tahoma"/>
                <a:cs typeface="Tahoma"/>
              </a:rPr>
              <a:t>رابعاً: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3600" spc="-1" strike="noStrike">
                <a:solidFill>
                  <a:srgbClr val="800000"/>
                </a:solidFill>
                <a:latin typeface="Tahoma"/>
                <a:cs typeface="Tahoma"/>
              </a:rPr>
              <a:t>هواء الترب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شغل هواء التربة المسا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”الفراغات“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تركيب هواء التربة يختل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عن الهواء الجو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تأثر هواء التربة بالنشاط الحيوي لجذور النبات وميكروبات الترب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يتأثر هواء التربة بالمحتوى المائي في الترب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4" descr="soil_breakdown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sp>
        <p:nvSpPr>
          <p:cNvPr id="409" name="AutoShape 5"/>
          <p:cNvSpPr/>
          <p:nvPr/>
        </p:nvSpPr>
        <p:spPr>
          <a:xfrm>
            <a:off x="500040" y="1700280"/>
            <a:ext cx="719280" cy="144360"/>
          </a:xfrm>
          <a:prstGeom prst="rightArrow">
            <a:avLst>
              <a:gd name="adj1" fmla="val 50000"/>
              <a:gd name="adj2" fmla="val 124564"/>
            </a:avLst>
          </a:prstGeom>
          <a:solidFill>
            <a:srgbClr val="3508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0C57-3A69-4162-B688-53348DF4EF09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مصطلحا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0f5fe"/>
          </a:solidFill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 تربة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k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 صخر، وهو خليط من المعاد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eral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 معد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water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 ماء الترب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matt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 المادة العضو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air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 هواء التربة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”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cs typeface="Traditional Arabic"/>
              </a:rPr>
              <a:t>دب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“ بقايا النبات والحيوان في درجات تحلل مختلف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mass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  <a:ea typeface="Traditional Arabic"/>
              </a:rPr>
              <a:t>: الخلايا الحية ”الكائنات الحية الدقيقة في التربة“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8FD5-9248-4E15-AFCD-18C66775EC29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Alluvial fans"/>
          <p:cNvPicPr/>
          <p:nvPr/>
        </p:nvPicPr>
        <p:blipFill>
          <a:blip r:embed="rId1"/>
          <a:stretch/>
        </p:blipFill>
        <p:spPr>
          <a:xfrm>
            <a:off x="4876920" y="3581280"/>
            <a:ext cx="3657600" cy="2659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Exfoliation"/>
          <p:cNvPicPr/>
          <p:nvPr/>
        </p:nvPicPr>
        <p:blipFill>
          <a:blip r:embed="rId2"/>
          <a:stretch/>
        </p:blipFill>
        <p:spPr>
          <a:xfrm>
            <a:off x="457200" y="457200"/>
            <a:ext cx="3962520" cy="2724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Structureless soildust"/>
          <p:cNvPicPr/>
          <p:nvPr/>
        </p:nvPicPr>
        <p:blipFill>
          <a:blip r:embed="rId3"/>
          <a:stretch/>
        </p:blipFill>
        <p:spPr>
          <a:xfrm>
            <a:off x="457200" y="3581280"/>
            <a:ext cx="4038480" cy="2600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ev3240_S2000062090456_md"/>
          <p:cNvPicPr/>
          <p:nvPr/>
        </p:nvPicPr>
        <p:blipFill>
          <a:blip r:embed="rId4"/>
          <a:stretch/>
        </p:blipFill>
        <p:spPr>
          <a:xfrm>
            <a:off x="5029200" y="241200"/>
            <a:ext cx="35053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7974-15E5-42E4-9192-6B8AA96669D5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LETTUCE"/>
          <p:cNvPicPr/>
          <p:nvPr/>
        </p:nvPicPr>
        <p:blipFill>
          <a:blip r:embed="rId1"/>
          <a:stretch/>
        </p:blipFill>
        <p:spPr>
          <a:xfrm>
            <a:off x="0" y="1440"/>
            <a:ext cx="2843280" cy="2275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nswsydn"/>
          <p:cNvPicPr/>
          <p:nvPr/>
        </p:nvPicPr>
        <p:blipFill>
          <a:blip r:embed="rId2"/>
          <a:stretch/>
        </p:blipFill>
        <p:spPr>
          <a:xfrm>
            <a:off x="5796000" y="4740120"/>
            <a:ext cx="3348000" cy="211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Object 4"/>
          <p:cNvGraphicFramePr/>
          <p:nvPr/>
        </p:nvGraphicFramePr>
        <p:xfrm>
          <a:off x="6300720" y="2421000"/>
          <a:ext cx="2843280" cy="20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2421000"/>
                    <a:ext cx="284328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5"/>
          <p:cNvSpPr/>
          <p:nvPr/>
        </p:nvSpPr>
        <p:spPr>
          <a:xfrm>
            <a:off x="0" y="0"/>
            <a:ext cx="284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وسط لنمو النب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5867280" y="4797360"/>
            <a:ext cx="2971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الإنشاءات الهندس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dump"/>
          <p:cNvPicPr/>
          <p:nvPr/>
        </p:nvPicPr>
        <p:blipFill>
          <a:blip r:embed="rId5"/>
          <a:stretch/>
        </p:blipFill>
        <p:spPr>
          <a:xfrm>
            <a:off x="6275520" y="0"/>
            <a:ext cx="2868480" cy="1938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water1"/>
          <p:cNvPicPr/>
          <p:nvPr/>
        </p:nvPicPr>
        <p:blipFill>
          <a:blip r:embed="rId6"/>
          <a:stretch/>
        </p:blipFill>
        <p:spPr>
          <a:xfrm>
            <a:off x="0" y="4821120"/>
            <a:ext cx="3879720" cy="203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Object 9"/>
          <p:cNvGraphicFramePr/>
          <p:nvPr/>
        </p:nvGraphicFramePr>
        <p:xfrm>
          <a:off x="2843280" y="2205000"/>
          <a:ext cx="3024000" cy="234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2205000"/>
                    <a:ext cx="302400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10"/>
          <p:cNvSpPr/>
          <p:nvPr/>
        </p:nvSpPr>
        <p:spPr>
          <a:xfrm>
            <a:off x="6300720" y="2421000"/>
            <a:ext cx="284328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مسكن للكثير من الكائنات الح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5724360" y="3213000"/>
            <a:ext cx="648000" cy="505080"/>
          </a:xfrm>
          <a:prstGeom prst="rightArrow">
            <a:avLst>
              <a:gd name="adj1" fmla="val 50000"/>
              <a:gd name="adj2" fmla="val 3207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 rot="7946400">
            <a:off x="2196360" y="4292280"/>
            <a:ext cx="648000" cy="505080"/>
          </a:xfrm>
          <a:prstGeom prst="rightArrow">
            <a:avLst>
              <a:gd name="adj1" fmla="val 50000"/>
              <a:gd name="adj2" fmla="val 32074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3"/>
          <p:cNvSpPr/>
          <p:nvPr/>
        </p:nvSpPr>
        <p:spPr>
          <a:xfrm rot="2485200">
            <a:off x="5294160" y="4520880"/>
            <a:ext cx="757440" cy="504720"/>
          </a:xfrm>
          <a:prstGeom prst="rightArrow">
            <a:avLst>
              <a:gd name="adj1" fmla="val 50000"/>
              <a:gd name="adj2" fmla="val 3751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 rot="18519000">
            <a:off x="5507640" y="1845000"/>
            <a:ext cx="1081080" cy="504720"/>
          </a:xfrm>
          <a:prstGeom prst="rightArrow">
            <a:avLst>
              <a:gd name="adj1" fmla="val 50000"/>
              <a:gd name="adj2" fmla="val 5354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6381720" y="0"/>
            <a:ext cx="2762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مستودع للمخل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324000" y="4869000"/>
            <a:ext cx="2987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ahoma"/>
                <a:cs typeface="Tahoma"/>
              </a:rPr>
              <a:t>تخزين وتصريف الميا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7"/>
          <p:cNvSpPr/>
          <p:nvPr/>
        </p:nvSpPr>
        <p:spPr>
          <a:xfrm rot="12967200">
            <a:off x="1834920" y="2491560"/>
            <a:ext cx="938160" cy="505080"/>
          </a:xfrm>
          <a:prstGeom prst="rightArrow">
            <a:avLst>
              <a:gd name="adj1" fmla="val 50000"/>
              <a:gd name="adj2" fmla="val 4643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E63C-6951-4230-9360-5B4D7740A5E1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forest_land"/>
          <p:cNvPicPr/>
          <p:nvPr/>
        </p:nvPicPr>
        <p:blipFill>
          <a:blip r:embed="rId1"/>
          <a:stretch/>
        </p:blipFill>
        <p:spPr>
          <a:xfrm>
            <a:off x="4800600" y="3505320"/>
            <a:ext cx="3886200" cy="2647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grassland_land"/>
          <p:cNvPicPr/>
          <p:nvPr/>
        </p:nvPicPr>
        <p:blipFill>
          <a:blip r:embed="rId2"/>
          <a:stretch/>
        </p:blipFill>
        <p:spPr>
          <a:xfrm>
            <a:off x="76320" y="263520"/>
            <a:ext cx="4495680" cy="2936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Towering mesas of sandstone are formed by wind and water ero"/>
          <p:cNvPicPr/>
          <p:nvPr/>
        </p:nvPicPr>
        <p:blipFill>
          <a:blip r:embed="rId3"/>
          <a:stretch/>
        </p:blipFill>
        <p:spPr>
          <a:xfrm>
            <a:off x="4724280" y="316080"/>
            <a:ext cx="4038840" cy="2884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very dry land"/>
          <p:cNvPicPr/>
          <p:nvPr/>
        </p:nvPicPr>
        <p:blipFill>
          <a:blip r:embed="rId4"/>
          <a:stretch/>
        </p:blipFill>
        <p:spPr>
          <a:xfrm>
            <a:off x="152280" y="3733920"/>
            <a:ext cx="44197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E8C6-D108-476E-AF53-B635FEA39ABD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gelisol"/>
          <p:cNvPicPr/>
          <p:nvPr/>
        </p:nvPicPr>
        <p:blipFill>
          <a:blip r:embed="rId1"/>
          <a:stretch/>
        </p:blipFill>
        <p:spPr>
          <a:xfrm>
            <a:off x="7372440" y="96840"/>
            <a:ext cx="1771560" cy="2971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ult"/>
          <p:cNvPicPr/>
          <p:nvPr/>
        </p:nvPicPr>
        <p:blipFill>
          <a:blip r:embed="rId2"/>
          <a:stretch/>
        </p:blipFill>
        <p:spPr>
          <a:xfrm>
            <a:off x="4876920" y="96840"/>
            <a:ext cx="2450880" cy="2971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moll"/>
          <p:cNvPicPr/>
          <p:nvPr/>
        </p:nvPicPr>
        <p:blipFill>
          <a:blip r:embed="rId3"/>
          <a:stretch/>
        </p:blipFill>
        <p:spPr>
          <a:xfrm>
            <a:off x="0" y="76320"/>
            <a:ext cx="2427120" cy="2992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spod"/>
          <p:cNvPicPr/>
          <p:nvPr/>
        </p:nvPicPr>
        <p:blipFill>
          <a:blip r:embed="rId4"/>
          <a:stretch/>
        </p:blipFill>
        <p:spPr>
          <a:xfrm>
            <a:off x="2438280" y="96840"/>
            <a:ext cx="2417760" cy="2971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histosol"/>
          <p:cNvPicPr/>
          <p:nvPr/>
        </p:nvPicPr>
        <p:blipFill>
          <a:blip r:embed="rId5"/>
          <a:stretch/>
        </p:blipFill>
        <p:spPr>
          <a:xfrm>
            <a:off x="0" y="3141720"/>
            <a:ext cx="2192400" cy="3581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entisol"/>
          <p:cNvPicPr/>
          <p:nvPr/>
        </p:nvPicPr>
        <p:blipFill>
          <a:blip r:embed="rId6"/>
          <a:stretch/>
        </p:blipFill>
        <p:spPr>
          <a:xfrm>
            <a:off x="4952880" y="3141720"/>
            <a:ext cx="2135160" cy="3581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aridisol"/>
          <p:cNvPicPr/>
          <p:nvPr/>
        </p:nvPicPr>
        <p:blipFill>
          <a:blip r:embed="rId7"/>
          <a:stretch/>
        </p:blipFill>
        <p:spPr>
          <a:xfrm>
            <a:off x="7086600" y="3141720"/>
            <a:ext cx="2057400" cy="3581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inceptisol"/>
          <p:cNvPicPr/>
          <p:nvPr/>
        </p:nvPicPr>
        <p:blipFill>
          <a:blip r:embed="rId8"/>
          <a:stretch/>
        </p:blipFill>
        <p:spPr>
          <a:xfrm>
            <a:off x="2209680" y="3141720"/>
            <a:ext cx="26593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6E16-88B1-45EC-84E7-89C877D9D224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026" descr="fig04-01"/>
          <p:cNvPicPr/>
          <p:nvPr/>
        </p:nvPicPr>
        <p:blipFill>
          <a:blip r:embed="rId1"/>
          <a:stretch/>
        </p:blipFill>
        <p:spPr>
          <a:xfrm>
            <a:off x="304920" y="11160"/>
            <a:ext cx="8381880" cy="5246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027"/>
          <p:cNvSpPr/>
          <p:nvPr/>
        </p:nvSpPr>
        <p:spPr>
          <a:xfrm>
            <a:off x="395280" y="5378400"/>
            <a:ext cx="8508960" cy="1800360"/>
          </a:xfrm>
          <a:prstGeom prst="rect">
            <a:avLst/>
          </a:prstGeom>
          <a:solidFill>
            <a:srgbClr val="ebf6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تعمل </a:t>
            </a:r>
            <a:r>
              <a:rPr b="1" lang="ar-SA" sz="2200" spc="-1" strike="noStrike">
                <a:solidFill>
                  <a:srgbClr val="ff3300"/>
                </a:solidFill>
                <a:latin typeface="Tahoma"/>
                <a:cs typeface="Arial"/>
              </a:rPr>
              <a:t>عوامل تكوين التربة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خلال الزمن، فتحدد </a:t>
            </a:r>
            <a:r>
              <a:rPr b="1" lang="ar-SA" sz="2200" spc="-1" strike="noStrike">
                <a:solidFill>
                  <a:srgbClr val="008000"/>
                </a:solidFill>
                <a:latin typeface="Tahoma"/>
                <a:cs typeface="Arial"/>
              </a:rPr>
              <a:t>عمليات تكوين التربة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 التي تسود في </a:t>
            </a:r>
            <a:r>
              <a:rPr b="1" lang="ar-SA" sz="2800" spc="-1" strike="noStrike">
                <a:solidFill>
                  <a:srgbClr val="0033cc"/>
                </a:solidFill>
                <a:latin typeface="Tahoma"/>
                <a:cs typeface="Traditional Arabic"/>
              </a:rPr>
              <a:t>قطاع التربة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raditional Arabic"/>
              </a:rPr>
              <a:t>، والتي بدورها تحدد </a:t>
            </a:r>
            <a:r>
              <a:rPr b="1" lang="ar-SA" sz="2800" spc="-1" strike="noStrike">
                <a:solidFill>
                  <a:srgbClr val="996633"/>
                </a:solidFill>
                <a:latin typeface="Tahoma"/>
                <a:cs typeface="Traditional Arabic"/>
              </a:rPr>
              <a:t>خصائص التربة الكيميائية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30dee"/>
                </a:solidFill>
                <a:latin typeface="Tahoma"/>
                <a:cs typeface="Traditional Arabic"/>
              </a:rPr>
              <a:t>والفيزيائية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800080"/>
                </a:solidFill>
                <a:latin typeface="Tahoma"/>
                <a:cs typeface="Traditional Arabic"/>
              </a:rPr>
              <a:t>والحيوية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ea typeface="Traditional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28"/>
          <p:cNvSpPr/>
          <p:nvPr/>
        </p:nvSpPr>
        <p:spPr>
          <a:xfrm>
            <a:off x="3430440" y="2943360"/>
            <a:ext cx="22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05fd"/>
                </a:solidFill>
                <a:latin typeface="Times New Roman"/>
                <a:ea typeface="Arial"/>
              </a:rPr>
              <a:t>(cl, v, pm, r, o)</a:t>
            </a:r>
            <a:r>
              <a:rPr b="1" lang="en-US" sz="2400" spc="-1" strike="noStrike" baseline="-25000">
                <a:solidFill>
                  <a:srgbClr val="2e05fd"/>
                </a:solidFill>
                <a:latin typeface="Times New Roman"/>
                <a:ea typeface="Arial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29"/>
          <p:cNvSpPr/>
          <p:nvPr/>
        </p:nvSpPr>
        <p:spPr>
          <a:xfrm>
            <a:off x="7238880" y="4984920"/>
            <a:ext cx="15271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30"/>
          <p:cNvSpPr/>
          <p:nvPr/>
        </p:nvSpPr>
        <p:spPr>
          <a:xfrm>
            <a:off x="3809880" y="4952880"/>
            <a:ext cx="1527120" cy="459720"/>
          </a:xfrm>
          <a:prstGeom prst="rect">
            <a:avLst/>
          </a:prstGeom>
          <a:solidFill>
            <a:srgbClr val="fdd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الز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31"/>
          <p:cNvSpPr/>
          <p:nvPr/>
        </p:nvSpPr>
        <p:spPr>
          <a:xfrm>
            <a:off x="4038480" y="4495680"/>
            <a:ext cx="9144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33"/>
          <p:cNvSpPr/>
          <p:nvPr/>
        </p:nvSpPr>
        <p:spPr>
          <a:xfrm>
            <a:off x="468360" y="4952880"/>
            <a:ext cx="1589040" cy="825480"/>
          </a:xfrm>
          <a:prstGeom prst="rect">
            <a:avLst/>
          </a:prstGeom>
          <a:solidFill>
            <a:srgbClr val="ed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الكائنات الح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34"/>
          <p:cNvSpPr/>
          <p:nvPr/>
        </p:nvSpPr>
        <p:spPr>
          <a:xfrm>
            <a:off x="2130480" y="4952880"/>
            <a:ext cx="1527120" cy="825480"/>
          </a:xfrm>
          <a:prstGeom prst="rect">
            <a:avLst/>
          </a:prstGeom>
          <a:solidFill>
            <a:srgbClr val="ed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مادة الأص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35"/>
          <p:cNvSpPr/>
          <p:nvPr/>
        </p:nvSpPr>
        <p:spPr>
          <a:xfrm>
            <a:off x="5559480" y="4952880"/>
            <a:ext cx="1527120" cy="459720"/>
          </a:xfrm>
          <a:prstGeom prst="rect">
            <a:avLst/>
          </a:prstGeom>
          <a:solidFill>
            <a:srgbClr val="ed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المنا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36"/>
          <p:cNvSpPr/>
          <p:nvPr/>
        </p:nvSpPr>
        <p:spPr>
          <a:xfrm>
            <a:off x="7236000" y="4941720"/>
            <a:ext cx="1527120" cy="825480"/>
          </a:xfrm>
          <a:prstGeom prst="rect">
            <a:avLst/>
          </a:prstGeom>
          <a:solidFill>
            <a:srgbClr val="edf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الطبوغراف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4952880" y="1401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  <a:cs typeface="Arial"/>
              </a:rPr>
              <a:t>الانتق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3200400" y="1782720"/>
            <a:ext cx="84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  <a:cs typeface="Arial"/>
              </a:rPr>
              <a:t>التراك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39"/>
          <p:cNvSpPr/>
          <p:nvPr/>
        </p:nvSpPr>
        <p:spPr>
          <a:xfrm>
            <a:off x="4038480" y="163044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  <a:cs typeface="Arial"/>
              </a:rPr>
              <a:t>التح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40"/>
          <p:cNvSpPr/>
          <p:nvPr/>
        </p:nvSpPr>
        <p:spPr>
          <a:xfrm>
            <a:off x="2666880" y="7920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ahoma"/>
                <a:cs typeface="Arial"/>
              </a:rPr>
              <a:t>الإضا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41"/>
          <p:cNvSpPr/>
          <p:nvPr/>
        </p:nvSpPr>
        <p:spPr>
          <a:xfrm>
            <a:off x="4572000" y="27734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  <a:cs typeface="Arial"/>
              </a:rPr>
              <a:t>الفق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42"/>
          <p:cNvSpPr/>
          <p:nvPr/>
        </p:nvSpPr>
        <p:spPr>
          <a:xfrm>
            <a:off x="3581280" y="255744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  <a:cs typeface="Arial"/>
              </a:rPr>
              <a:t>الإضا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43"/>
          <p:cNvSpPr/>
          <p:nvPr/>
        </p:nvSpPr>
        <p:spPr>
          <a:xfrm>
            <a:off x="5334120" y="79200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الفق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تلوث التربة والمياه               د. عبدالله الفرا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AA61-7C40-4DD8-BF4B-588A480E292F}" type="slidenum">
              <a:rPr b="0" lang="ar-S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Pfert"/>
          <p:cNvPicPr/>
          <p:nvPr/>
        </p:nvPicPr>
        <p:blipFill>
          <a:blip r:embed="rId1"/>
          <a:stretch/>
        </p:blipFill>
        <p:spPr>
          <a:xfrm>
            <a:off x="152280" y="560520"/>
            <a:ext cx="8686800" cy="55353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4500720" y="333360"/>
            <a:ext cx="4248000" cy="882720"/>
          </a:xfrm>
          <a:prstGeom prst="rect">
            <a:avLst/>
          </a:prstGeom>
          <a:solidFill>
            <a:srgbClr val="eff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Tahoma"/>
                <a:cs typeface="Tahoma"/>
              </a:rPr>
              <a:t>غير مسمدة بالفسف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971640" y="333360"/>
            <a:ext cx="3598920" cy="882720"/>
          </a:xfrm>
          <a:prstGeom prst="rect">
            <a:avLst/>
          </a:prstGeom>
          <a:solidFill>
            <a:srgbClr val="eff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Tahoma"/>
                <a:cs typeface="Tahoma"/>
              </a:rPr>
              <a:t>مسمدة بالفسف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250920" y="333360"/>
            <a:ext cx="720720" cy="8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6:34:19Z</dcterms:created>
  <dc:creator>Dr. Abdullah</dc:creator>
  <dc:description/>
  <dc:language>en-US</dc:language>
  <cp:lastModifiedBy>Abdullah Al-Farraj</cp:lastModifiedBy>
  <dcterms:modified xsi:type="dcterms:W3CDTF">2014-09-14T04:05:40Z</dcterms:modified>
  <cp:revision>16</cp:revision>
  <dc:subject/>
  <dc:title>تلوث التربة والمياه</dc:title>
</cp:coreProperties>
</file>