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.wmf" ContentType="image/x-wmf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1D1-C8E5-4078-8F72-BBFA474B2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62CE-E7DC-4B57-887F-60C724636D5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1B3B-8FAA-4328-9C02-425CB08C9CD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FA23-B7DA-46F2-928C-56625F792DE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88A3-589F-44CB-8A3C-BB5C6486401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5C39-EDBA-4BB6-98BE-91EE204F850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CCAA-BB4D-44D1-BE86-BAFE80B9DED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434-00F2-41DD-B5BD-116D73470C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BBFC-9366-442B-BFFD-FF80E9272D2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90A6-FE38-4090-9F48-2F4134F1078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9B41-217A-432A-9868-43A2E914B8A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19AB-CEBE-4BF9-8059-7356D602C83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109D-3B92-4120-A559-441050B8E91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B9BF-A9F7-48CD-BCF8-1B31EED3D4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93E-77EC-49B3-B45C-66D0B1623B2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0505-21DF-4000-A832-617FDA929E6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8ABB-178E-4CFE-91EC-8D2EBA2B33B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C87B-C4D1-46EF-A8DE-47580EE443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7818-FC7B-4F6C-B66C-28B9CE1CE81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0D7D-1D00-48C1-B6D3-DDFEB33D4D5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6EED-26F5-49C7-A92C-8C23A13253F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48F2-C0EC-434B-A6E8-3715EF8603E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261-1806-4A7B-A685-1378B96B3C3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3F28-C0C3-4551-9E56-1994956CB1C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C54-85CB-4EC6-ABF5-988E5B42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875-18A0-405D-BE77-8F047443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073-665A-48B3-ACAF-AE55AE9E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056-6261-4E68-90C8-FCB639B2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DF92-683D-485C-9582-5651DE6C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7942-3D1D-471B-BD1B-902D37F1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69AC-4F53-42C3-94F9-6F119D72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028-1DA1-40E6-BE8B-1F17252B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A579-9B02-4689-B8D8-8CFC55F6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C907-B2D0-44E7-8CC0-C5E16A80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3A05-17BA-41CB-BE7B-D35900D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8CF-8919-4BA6-B9EB-EFC7DD13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BB18-6102-4795-95D1-A8D36E9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B16A-C2F6-447F-A048-7A4B79C2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AEC1-08E3-4769-9C9D-17FF9DE4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B4CC-B5D5-49E0-AF75-6B084BC5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0E56-14ED-4BCA-A8CC-30CB3315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4A08-86F6-495A-A1CE-5C0730D0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2D541-2D1D-4C64-92F6-AFF095C1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45FC-BED6-4A46-A9EB-49C95688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5327-6392-4A1F-A6C5-77EF8AA8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63B4-0023-4DB7-97C0-13C21A46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9FB-BCF5-4A3C-B03D-6D2DFF6F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2C1B-457A-4E82-B747-14D7D5A9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D420-C694-4809-B3FA-CF8E7D2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3F3E-51D9-4150-8237-2DB3FD9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FD772-93DC-453E-B170-1A4B5EF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7EEB-6E55-4FB2-B8E5-71D2C666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7C61-E989-4E01-963E-BEE168C7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9D94-D38B-44F4-B31F-C49D5C51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F699-686F-4FF5-8E19-9E12FF78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EF58-49F8-4F30-8316-0E09C664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08DA-17FB-4E25-8EEA-100B3AAB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A9A-F6B6-4ED7-8CCF-B53A3A6D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4CBB-2E0D-4E06-A5D6-EE64D0EC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24157-305A-4EAB-A620-94458B48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71085-98B6-491D-9D22-8C488D81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AABE-866E-4BE0-B6D7-06A4FBF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7477-475B-4011-95A2-E89564B2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7069-5F56-4F20-BF20-7FDA4CDD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6569E-B224-4B58-85CA-53F869F6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53F6-66C6-4572-9E74-20C06459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3C83-147E-4DDF-A365-E9B9A898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43D-C170-4E19-9200-AFBDA0B2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5F5-E4F5-4DFC-B2FE-02E328FB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F82-671D-47CB-A3F4-69BEA4A2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CFD-4F63-4FDD-84FF-5C661F1D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6DF-A8C4-41AB-9B99-A3AEA5D5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4E86-6D07-4478-A592-2D873922D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98F7-FEC9-43C1-B98D-F776AC04591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91F4-9207-4978-AAE9-33A15DDE90F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7161-853E-4A76-B856-F8E08010692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تلوث التربة والميا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BA43-3016-43C4-816F-41ED5F8CDBD5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saline soils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6122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2666880" y="457200"/>
            <a:ext cx="3733920" cy="459720"/>
          </a:xfrm>
          <a:prstGeom prst="rect">
            <a:avLst/>
          </a:prstGeom>
          <a:solidFill>
            <a:srgbClr val="ff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طبقة ”قشرة“ مل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7309-C646-48DB-BFEF-4F1597220E29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26" descr="DeSalt1_4b"/>
          <p:cNvPicPr/>
          <p:nvPr/>
        </p:nvPicPr>
        <p:blipFill>
          <a:blip r:embed="rId1"/>
          <a:stretch/>
        </p:blipFill>
        <p:spPr>
          <a:xfrm>
            <a:off x="2281320" y="76320"/>
            <a:ext cx="3967200" cy="61722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27"/>
          <p:cNvSpPr/>
          <p:nvPr/>
        </p:nvSpPr>
        <p:spPr>
          <a:xfrm>
            <a:off x="6705720" y="2514600"/>
            <a:ext cx="2057400" cy="1434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ثر معالجة ملوحة الت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7CB1-835D-4965-BFCA-29A289457179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Indian"/>
          <p:cNvPicPr/>
          <p:nvPr/>
        </p:nvPicPr>
        <p:blipFill>
          <a:blip r:embed="rId1"/>
          <a:stretch/>
        </p:blipFill>
        <p:spPr>
          <a:xfrm>
            <a:off x="380880" y="152280"/>
            <a:ext cx="441972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6629400" y="457200"/>
            <a:ext cx="1981080" cy="375156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ثر سيادة نوع من معادن الطين قابل للا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home"/>
          <p:cNvPicPr/>
          <p:nvPr/>
        </p:nvPicPr>
        <p:blipFill>
          <a:blip r:embed="rId2"/>
          <a:stretch/>
        </p:blipFill>
        <p:spPr>
          <a:xfrm>
            <a:off x="380880" y="3389400"/>
            <a:ext cx="4496040" cy="28573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5"/>
          <p:cNvSpPr/>
          <p:nvPr/>
        </p:nvSpPr>
        <p:spPr>
          <a:xfrm>
            <a:off x="533520" y="46483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3DD9-6F92-4FE4-8952-A695FD37E6B4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solidFill>
            <a:srgbClr val="fefc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التربة والبيئ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800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تربة مصدر الغذاء العالم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مراع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زرا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0" y="1371240"/>
            <a:ext cx="4114800" cy="4800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تربة والهواء والماء يتأثرون ب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صرف الصحي ”السائلة والصلبة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صرف الصناعي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النفاي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تربة بيئة نمو النبات ”تختلف فيما بينها في توفير ذلك“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تعمل كداعم ومثب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تمد الجذور بالأكسجين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تمد النبات بالماء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تمد النبات بالعناصر الغذائ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272360" cy="76212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ما هي </a:t>
            </a:r>
            <a:r>
              <a:rPr b="1" lang="ar-SA" sz="3600" spc="-1" strike="noStrike">
                <a:solidFill>
                  <a:srgbClr val="ff3300"/>
                </a:solidFill>
                <a:latin typeface="Tahoma"/>
                <a:cs typeface="Tahoma"/>
              </a:rPr>
              <a:t>التربة</a:t>
            </a:r>
            <a:r>
              <a:rPr b="1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1476360" y="1197000"/>
          <a:ext cx="65530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5530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"/>
          <p:cNvGraphicFramePr/>
          <p:nvPr/>
        </p:nvGraphicFramePr>
        <p:xfrm>
          <a:off x="0" y="3621240"/>
          <a:ext cx="2951280" cy="32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621240"/>
                    <a:ext cx="29512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DED5-43A8-4415-9611-AB687B5AF0E6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soil_breakdown"/>
          <p:cNvPicPr/>
          <p:nvPr/>
        </p:nvPicPr>
        <p:blipFill>
          <a:blip r:embed="rId1"/>
          <a:stretch/>
        </p:blipFill>
        <p:spPr>
          <a:xfrm>
            <a:off x="76320" y="4056120"/>
            <a:ext cx="4190760" cy="2268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723920" y="304920"/>
            <a:ext cx="3962520" cy="586728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990033"/>
                </a:solidFill>
                <a:latin typeface="Tahoma"/>
                <a:cs typeface="Tahoma"/>
              </a:rPr>
              <a:t>التربة </a:t>
            </a:r>
            <a:r>
              <a:rPr b="1" lang="en-GB" sz="3000" spc="-1" strike="noStrike">
                <a:solidFill>
                  <a:srgbClr val="990033"/>
                </a:solidFill>
                <a:latin typeface="Tahoma"/>
                <a:ea typeface="Tahoma"/>
              </a:rPr>
              <a:t>Soil (Solum)</a:t>
            </a:r>
            <a:r>
              <a:rPr b="1" lang="ar-SA" sz="3000" spc="-1" strike="noStrike">
                <a:solidFill>
                  <a:srgbClr val="990033"/>
                </a:solidFill>
                <a:latin typeface="Tahoma"/>
                <a:ea typeface="Tahoma"/>
              </a:rPr>
              <a:t>:</a:t>
            </a:r>
            <a:r>
              <a:rPr b="1" lang="ar-SA" sz="3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ahoma"/>
                <a:cs typeface="Tahoma"/>
              </a:rPr>
              <a:t>جسم طبيعي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Tahoma"/>
                <a:ea typeface="Tahoma"/>
              </a:rPr>
              <a:t> مكون من مواد عضوية ومعدنية وحية (مفكك).</a:t>
            </a:r>
            <a:r>
              <a:rPr b="0" lang="ar-SA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Tahoma"/>
                <a:cs typeface="Tahoma"/>
              </a:rPr>
              <a:t>يغطي أجزاءً كبيرة من سطح الأرض.</a:t>
            </a:r>
            <a:r>
              <a:rPr b="0" lang="ar-SA" sz="2600" spc="-1" strike="noStrike">
                <a:solidFill>
                  <a:srgbClr val="990033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00"/>
                </a:solidFill>
                <a:latin typeface="Tahoma"/>
                <a:cs typeface="Tahoma"/>
              </a:rPr>
              <a:t>يحده من أعلى الهواء أو المياه الضحلة.</a:t>
            </a:r>
            <a:r>
              <a:rPr b="0" lang="ar-SA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00000"/>
                </a:solidFill>
                <a:latin typeface="Tahoma"/>
                <a:cs typeface="Tahoma"/>
              </a:rPr>
              <a:t>ومن الأسفل حيث تنتهي منطقة جذور النبات.</a:t>
            </a:r>
            <a:r>
              <a:rPr b="0" lang="ar-SA" sz="26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ahoma"/>
                <a:cs typeface="Tahoma"/>
              </a:rPr>
              <a:t>ويستطيع إمداد النبات بما يحتاجه في الحقل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8" descr="grassland_soil1"/>
          <p:cNvPicPr/>
          <p:nvPr/>
        </p:nvPicPr>
        <p:blipFill>
          <a:blip r:embed="rId2"/>
          <a:stretch/>
        </p:blipFill>
        <p:spPr>
          <a:xfrm>
            <a:off x="330120" y="76320"/>
            <a:ext cx="2605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2B26-7C67-4A61-AB46-3AAF8FBD6759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efeba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أهمية دراسة التر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91520" cy="165744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ctr" anchorCtr="1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تربة أحد مكونات أربعة هي أركان الحياة في الأر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solidFill>
            <a:srgbClr val="f2fa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71640" y="3284640"/>
            <a:ext cx="7129440" cy="196056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Tahoma"/>
                <a:cs typeface="Tahoma"/>
              </a:rPr>
              <a:t>الجزء المعدني (الصخور- المعاد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Tahoma"/>
                <a:cs typeface="Tahoma"/>
              </a:rPr>
              <a:t>المواد العض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Tahoma"/>
                <a:cs typeface="Tahoma"/>
              </a:rPr>
              <a:t>ماء التر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Tahoma"/>
                <a:cs typeface="Tahoma"/>
              </a:rPr>
              <a:t>هواء التر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218F-F278-49CF-873E-18BB9C29604A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Object 3"/>
          <p:cNvGraphicFramePr/>
          <p:nvPr/>
        </p:nvGraphicFramePr>
        <p:xfrm>
          <a:off x="552600" y="1700280"/>
          <a:ext cx="3394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" descr="AWOM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700280"/>
                    <a:ext cx="3394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Tahoma"/>
                <a:cs typeface="Tahoma"/>
              </a:rPr>
              <a:t>التربة </a:t>
            </a:r>
            <a:r>
              <a:rPr b="0" lang="en-GB" sz="3600" spc="-1" strike="noStrike">
                <a:solidFill>
                  <a:srgbClr val="ff3300"/>
                </a:solidFill>
                <a:latin typeface="Tahoma"/>
                <a:ea typeface="Tahoma"/>
              </a:rPr>
              <a:t>Soil</a:t>
            </a:r>
            <a:r>
              <a:rPr b="0" lang="ar-SA" sz="3600" spc="-1" strike="noStrike">
                <a:solidFill>
                  <a:srgbClr val="ff3300"/>
                </a:solidFill>
                <a:latin typeface="Tahoma"/>
                <a:ea typeface="Tahoma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ahoma"/>
                <a:ea typeface="Traditional Arabic"/>
              </a:rPr>
              <a:t>.....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وسط لنمو النب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صخر في طريقه للبح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خليط من المو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حبيبات صل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لاثي الأطو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تربة صنا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5" descr="soil_breakdown"/>
          <p:cNvPicPr/>
          <p:nvPr/>
        </p:nvPicPr>
        <p:blipFill>
          <a:blip r:embed="rId3"/>
          <a:stretch/>
        </p:blipFill>
        <p:spPr>
          <a:xfrm>
            <a:off x="395280" y="26370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5F25-BF32-475C-8528-2C129AC8C013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4000" spc="-1" strike="noStrike">
                <a:solidFill>
                  <a:srgbClr val="0000ff"/>
                </a:solidFill>
                <a:latin typeface="Tahoma"/>
                <a:cs typeface="Tahoma"/>
              </a:rPr>
              <a:t>أولاً: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000" spc="-1" strike="noStrike">
                <a:solidFill>
                  <a:srgbClr val="800000"/>
                </a:solidFill>
                <a:latin typeface="Tahoma"/>
                <a:cs typeface="Tahoma"/>
              </a:rPr>
              <a:t>الجزء المعدن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483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كونات الأرض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واة الداخل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واة الخارج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شا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شر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شرة الأرضية: تمثل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كلم من الجزء الخارجي من الأرض، التي يصل قطرها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6400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كلم ”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4000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يل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جزء الوحيد الذي تعامل معه الإنسان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حوي المواد الأخف ”الأقل كثافة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عالية الديناميكية ”دورة الرسوبيات، تكون الصخور الرسوبية، وتحولها إلى صخور نارية ومتحولة، عمليات التجوية والتعرية ...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earthcut"/>
          <p:cNvPicPr/>
          <p:nvPr/>
        </p:nvPicPr>
        <p:blipFill>
          <a:blip r:embed="rId1"/>
          <a:stretch/>
        </p:blipFill>
        <p:spPr>
          <a:xfrm>
            <a:off x="466560" y="1523880"/>
            <a:ext cx="364824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723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ما هي </a:t>
            </a:r>
            <a:r>
              <a:rPr b="1" lang="ar-SA" sz="3600" spc="-1" strike="noStrike">
                <a:solidFill>
                  <a:srgbClr val="ff3300"/>
                </a:solidFill>
                <a:latin typeface="Tahoma"/>
                <a:cs typeface="Tahoma"/>
              </a:rPr>
              <a:t>التربة</a:t>
            </a:r>
            <a:r>
              <a:rPr b="1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1476360" y="1459080"/>
          <a:ext cx="65530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59080"/>
                    <a:ext cx="65530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5"/>
          <p:cNvGraphicFramePr/>
          <p:nvPr/>
        </p:nvGraphicFramePr>
        <p:xfrm>
          <a:off x="0" y="3720960"/>
          <a:ext cx="2951280" cy="323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20960"/>
                    <a:ext cx="295128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4CDA-663D-4E18-A68A-3CB2391727CF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العناصر المكونة للقشرة الأرض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6560" y="5373360"/>
            <a:ext cx="40388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Calibri"/>
                <a:cs typeface="Traditional Arabic"/>
              </a:rPr>
              <a:t>معدن الكوارتز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artz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3760" y="1905120"/>
            <a:ext cx="3352680" cy="41148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عدد العناصر المكونة للقشرة الأرضية </a:t>
            </a:r>
            <a:r>
              <a:rPr b="1" lang="ar-SA" sz="2800" spc="-1" strike="noStrike">
                <a:solidFill>
                  <a:srgbClr val="cc3300"/>
                </a:solidFill>
                <a:latin typeface="Calibri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عنصراً من بين </a:t>
            </a:r>
            <a:r>
              <a:rPr b="1" lang="ar-SA" sz="2800" spc="-1" strike="noStrike">
                <a:solidFill>
                  <a:srgbClr val="cc3300"/>
                </a:solidFill>
                <a:latin typeface="Calibri"/>
                <a:ea typeface="Traditional Arabic"/>
              </a:rPr>
              <a:t>11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عنصراً معروفا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عناصر تكون المعادن، وقد ميز حتى الآن </a:t>
            </a:r>
            <a:r>
              <a:rPr b="1" lang="ar-SA" sz="2800" spc="-1" strike="noStrike">
                <a:solidFill>
                  <a:srgbClr val="cc3300"/>
                </a:solidFill>
                <a:latin typeface="Calibri"/>
                <a:ea typeface="Traditional Arabic"/>
              </a:rPr>
              <a:t>4000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عدنٍ تقريبا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عادن تكون الصخو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905120"/>
          <a:ext cx="4772160" cy="3047760"/>
        </p:xfrm>
        <a:graphic>
          <a:graphicData uri="http://schemas.openxmlformats.org/drawingml/2006/table">
            <a:tbl>
              <a:tblPr/>
              <a:tblGrid>
                <a:gridCol w="665280"/>
                <a:gridCol w="617400"/>
                <a:gridCol w="1069920"/>
                <a:gridCol w="825480"/>
                <a:gridCol w="546120"/>
                <a:gridCol w="104796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كالس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46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أكسج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صود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سلي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بوتاس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ألمون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مغنس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حدي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</a:tr>
              <a:tr h="520560">
                <a:tc gridSpan="6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ahoma"/>
                          <a:cs typeface="Traditional Arabic"/>
                        </a:rPr>
                        <a:t>باقي العناصر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raditional Arabic"/>
                        </a:rPr>
                        <a:t>     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ahoma"/>
                          <a:ea typeface="Traditional Arabic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ff3300"/>
                          </a:solidFill>
                          <a:latin typeface="Tahoma"/>
                          <a:ea typeface="Traditional Arabic"/>
                        </a:rPr>
                        <a:t>1.5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3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41BD-1ECA-48A6-AB4B-2B5F7A739710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6973920" y="0"/>
            <a:ext cx="2170080" cy="184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نيس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 “Gnei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شست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ردواز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كوارتزيت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رخام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fig04-02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4816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2025720" y="5589720"/>
            <a:ext cx="57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ahoma"/>
              </a:rPr>
              <a:t>دورة الصخور في الأرض</a:t>
            </a:r>
            <a:r>
              <a:rPr b="1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Reeves,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5257800"/>
            <a:ext cx="236232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جر الرمل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جر الجير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e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طفل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052640"/>
            <a:ext cx="270036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قل وترسب نواتج التجوية بالماء والرياح والثلاجات والجادب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924360" y="549360"/>
            <a:ext cx="1834920" cy="43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جوية الصخر الأصل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0" y="1773360"/>
            <a:ext cx="2303640" cy="71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نضغاط وتلاحم الرواسب لتكون الصخر الرسوب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380880" y="342900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38088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395280" y="34290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8748720" y="1844640"/>
            <a:ext cx="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 flipH="1">
            <a:off x="3851280" y="45086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7A90-9D99-41F3-918C-B299DA894945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84000" y="260280"/>
            <a:ext cx="8070840" cy="12240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صخور النارية: صخور تكونت من تعرض المصهور الصخري للتبريد سواءً على سطح الأرض أو في الطبقات العليا من الكرة الأرض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ختلف حسب سرعة التبريد ومكونات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3" descr="igneous_classification"/>
          <p:cNvPicPr/>
          <p:nvPr/>
        </p:nvPicPr>
        <p:blipFill>
          <a:blip r:embed="rId1"/>
          <a:stretch/>
        </p:blipFill>
        <p:spPr>
          <a:xfrm>
            <a:off x="898560" y="1557360"/>
            <a:ext cx="7561080" cy="5143320"/>
          </a:xfrm>
          <a:prstGeom prst="rect">
            <a:avLst/>
          </a:prstGeom>
          <a:ln w="0">
            <a:noFill/>
          </a:ln>
        </p:spPr>
      </p:pic>
      <p:sp>
        <p:nvSpPr>
          <p:cNvPr id="339" name="Oval 4"/>
          <p:cNvSpPr/>
          <p:nvPr/>
        </p:nvSpPr>
        <p:spPr>
          <a:xfrm>
            <a:off x="2286000" y="1905120"/>
            <a:ext cx="838080" cy="304560"/>
          </a:xfrm>
          <a:prstGeom prst="ellipse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6095880" y="1523880"/>
            <a:ext cx="838440" cy="304920"/>
          </a:xfrm>
          <a:prstGeom prst="ellipse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 flipH="1">
            <a:off x="2895480" y="5105520"/>
            <a:ext cx="5105520" cy="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"/>
          <p:cNvSpPr/>
          <p:nvPr/>
        </p:nvSpPr>
        <p:spPr>
          <a:xfrm flipH="1">
            <a:off x="2437920" y="2895480"/>
            <a:ext cx="3124440" cy="990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2057400" y="5410080"/>
            <a:ext cx="68580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43800" y="5410080"/>
            <a:ext cx="68580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2286000" y="6324480"/>
            <a:ext cx="68580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7848720" y="6400800"/>
            <a:ext cx="68580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7238880" y="3681360"/>
            <a:ext cx="84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لوف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5638680" y="4191120"/>
            <a:ext cx="99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بيروكس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3886200" y="4648320"/>
            <a:ext cx="84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فيبو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2286000" y="4572000"/>
            <a:ext cx="84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بيوتي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3117960" y="2309760"/>
            <a:ext cx="84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كوارت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2057400" y="2919240"/>
            <a:ext cx="1682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فلدسبارات بوتاس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2971800" y="3605040"/>
            <a:ext cx="1752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فلدسبارات صود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5327640" y="2971800"/>
            <a:ext cx="1682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فلدسبارات كلس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2252-8AF7-4B15-B610-05B3991ACDCA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الصخور الرسوب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655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صخور تكونت في مكان آخر بعد نقلها من مكانها الأصل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راحل تكون الصخور الرسوب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جوية الصخر الأص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قل وترسب نواتج التجوية بالماء والرياح والثلاجات والجادب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نضغاط وتلاحم الرواسب لتكون الصخر الرسوب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ثلة للصخور الرسوب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جر الرمل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stone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جر الجيري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estone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طف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le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" descr="lime stone cave"/>
          <p:cNvPicPr/>
          <p:nvPr/>
        </p:nvPicPr>
        <p:blipFill>
          <a:blip r:embed="rId1"/>
          <a:stretch/>
        </p:blipFill>
        <p:spPr>
          <a:xfrm>
            <a:off x="533520" y="3768840"/>
            <a:ext cx="360684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4F09-694C-49BC-8209-BC937A3A38B1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الصخور المتحول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صخور نارية أو رسوبية طرأت عليها تغيرات طبيعية أو كيميائية أو هما معاً نتيجة الحرارة أو/والضغط تحت سطح التربة.</a:t>
            </a:r>
            <a:r>
              <a:rPr b="1" lang="ar-SA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تتميز بأنها صلبة جداً كصلابة الصخور النارية أو الرسوبية، أو الصخور المتحولة التي تكونت منها تلك الصخور الحالية، أو أكث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مثلة الصخور المتحول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نيس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 “Gnei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”</a:t>
            </a:r>
            <a:r>
              <a:rPr b="0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 وهي صخور فاتحة اللون، المعادن تفرقت ثم ترتبت في عروق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Bands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غامقة وفاتحة، تكونت بواسطة الحرارة والضغط معا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شست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ist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 أكثر الصخور المتحولة شيوعا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ردوا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te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 ناتج عن تحول الطفل بواسطة الضغ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كوارتزايت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ite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 عبارة عن إعادة تبلور للحجر الرملي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izitic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 نتيجة للضغط والحرارة. وهو صخر بطيء التجوية، ينتج عنه ترب رملية ضحل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رخا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ble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 حجر جيري أو دولوميت صلب لدرجة تكفي لتنعيم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7D2E-C283-484A-8CCB-D9B960A4B001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rock-cycles"/>
          <p:cNvPicPr/>
          <p:nvPr/>
        </p:nvPicPr>
        <p:blipFill>
          <a:blip r:embed="rId1"/>
          <a:stretch/>
        </p:blipFill>
        <p:spPr>
          <a:xfrm>
            <a:off x="1763640" y="115920"/>
            <a:ext cx="5780160" cy="56991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5383080" y="1405080"/>
            <a:ext cx="1017720" cy="502920"/>
          </a:xfrm>
          <a:prstGeom prst="rect">
            <a:avLst/>
          </a:prstGeom>
          <a:noFill/>
          <a:ln cap="rnd" w="22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5410080" y="1450800"/>
            <a:ext cx="990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1280" y="566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ناتج النهائي لعمليات التجوية هي التر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484360" y="1763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تح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 rot="20164800">
            <a:off x="5448240" y="433692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تبر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 rot="1656600">
            <a:off x="2894760" y="4952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إذ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C0FC-DD87-4674-B14E-99B557958E4C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soil_breakdown"/>
          <p:cNvPicPr/>
          <p:nvPr/>
        </p:nvPicPr>
        <p:blipFill>
          <a:blip r:embed="rId1"/>
          <a:stretch/>
        </p:blipFill>
        <p:spPr>
          <a:xfrm>
            <a:off x="380880" y="1819440"/>
            <a:ext cx="3903840" cy="26017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4000" spc="-1" strike="noStrike">
                <a:solidFill>
                  <a:srgbClr val="0000ff"/>
                </a:solidFill>
                <a:latin typeface="Tahoma"/>
                <a:cs typeface="Tahoma"/>
              </a:rPr>
              <a:t>أولاً: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000" spc="-1" strike="noStrike">
                <a:solidFill>
                  <a:srgbClr val="800000"/>
                </a:solidFill>
                <a:latin typeface="Tahoma"/>
                <a:cs typeface="Tahoma"/>
              </a:rPr>
              <a:t>الجزء المعدن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038480" cy="482436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عاد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ادة متاجنسة، غير حية، ذات تركيب كيميائي محدد، وصفات فيزيائية محددة ”الشكل، اللون، درجة الذوبان، الصلابة،...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واتج عمليات تجوية وتعرية للصخو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ولية وثان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ولية: تكونت بواسطة تبريد الصخور الذائبة ”الصهير الصخري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ثانوية: ترسبت أو تبلورت مرة أخرى من محاليل تحوي عناصر نتجت من ذوبان معادن أخر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5" descr="soil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413000"/>
            <a:ext cx="41180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3258-C8BD-400B-9583-3187B625A7FE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  <a:cs typeface="Times New Roman"/>
              </a:rPr>
              <a:t>بعض أنواع المعاد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95280" y="404640"/>
          <a:ext cx="8229600" cy="5586480"/>
        </p:xfrm>
        <a:graphic>
          <a:graphicData uri="http://schemas.openxmlformats.org/drawingml/2006/table">
            <a:tbl>
              <a:tblPr/>
              <a:tblGrid>
                <a:gridCol w="5040360"/>
                <a:gridCol w="1871640"/>
                <a:gridCol w="182520"/>
                <a:gridCol w="182520"/>
                <a:gridCol w="9525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صفات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ركي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عد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عادن أو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صلب، بطيء التجوية، المكون الرئيسي للرمل، ومكون للسلت أيضاً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كوارتز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صلب، بطيء إلى متوسط التجوية، يمد التربة بالعناصر الغذائية والطين عند تجويت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ت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فلدسبا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صدر مهم للبوتاسيوم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ت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يك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صدر مهم للفسف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Ca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F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بات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عادن ثانو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ناطق الجافة، قليل الذوبانية، مصدر للكالسيوم وأحياناً المغنسيوم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كالسيت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ناطق الجافة، متوسط الذوباني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جبس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صدر للحديد، ذات قدرة عالية على تلوين التر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كاسيد الحد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هم معادن التربة بالنسبة للزراعة، ولها استخدامات صناعية متعدد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ت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عادن الط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F70C-14CC-4074-9798-951ACC29FC74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5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ثانياً: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800000"/>
                </a:solidFill>
                <a:latin typeface="Tahoma"/>
                <a:cs typeface="Tahoma"/>
              </a:rPr>
              <a:t>المواد العضو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3" descr="soil_breakdown"/>
          <p:cNvPicPr/>
          <p:nvPr/>
        </p:nvPicPr>
        <p:blipFill>
          <a:blip r:embed="rId1"/>
          <a:stretch/>
        </p:blipFill>
        <p:spPr>
          <a:xfrm>
            <a:off x="228600" y="121752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495680" y="1217160"/>
            <a:ext cx="4114800" cy="2514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ادة العضوية في التربة هي بقايا النباتات والحيوانات في التربة جذور النباتات والكائنات الحية الدقيقة في الترب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سبة المادة العضوية في ترب العا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0.9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دبال هو المادة العضوية المتحلل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000" y="3708000"/>
            <a:ext cx="8142120" cy="253836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رب العضو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Soils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تكونت من بقايا النبات والحيوان المتراكمة في برك ماء حيث يفقد الأكسجين، أو مناطق رطبة باردة جداً، حيث يكون تحلل المادة العضوية بطيء جدا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همية المادة العضوية في الترب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صدر لل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N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ال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P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ال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S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ادة لاحمة لتجمعات الترب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زيادة قدرة التربة على الاحتفاظ بالما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AutoShape 6"/>
          <p:cNvSpPr/>
          <p:nvPr/>
        </p:nvSpPr>
        <p:spPr>
          <a:xfrm rot="12434400">
            <a:off x="2771280" y="291132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350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28C-0839-4B50-BB8A-A4972A3F6E51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4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ثالثاً: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800000"/>
                </a:solidFill>
                <a:latin typeface="Tahoma"/>
                <a:cs typeface="Tahoma"/>
              </a:rPr>
              <a:t>ماء الترب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اء هو المذيب الأول بين المذيب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اء هو الناقل الرئيسي خلال وبين أ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ر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اء متطلب أساسي في جميع مناشط الحيا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شارك في الدورات الجيوكيميائية عن طري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ج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غسيل المواد إلى المياه الجوف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قل الأيونات والحبيبات خلال قطاع الترب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باتات والكائنات الأخرى تغير حالة الذوائب في الماء المتسرب إلى التر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4" descr="soil_breakdown"/>
          <p:cNvPicPr/>
          <p:nvPr/>
        </p:nvPicPr>
        <p:blipFill>
          <a:blip r:embed="rId1"/>
          <a:stretch/>
        </p:blipFill>
        <p:spPr>
          <a:xfrm>
            <a:off x="457200" y="1600200"/>
            <a:ext cx="3733920" cy="202104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5"/>
          <p:cNvSpPr/>
          <p:nvPr/>
        </p:nvSpPr>
        <p:spPr>
          <a:xfrm rot="18958800">
            <a:off x="423720" y="259056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350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6060-C2BE-473A-AC42-10BE36DCBB70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7fca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ورشة عم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نحصر ما يمكن أن يوجد على سطح الأرض من مواد طبيعية غير ح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70000" y="3505320"/>
          <a:ext cx="7059600" cy="944280"/>
        </p:xfrm>
        <a:graphic>
          <a:graphicData uri="http://schemas.openxmlformats.org/drawingml/2006/table">
            <a:tbl>
              <a:tblPr/>
              <a:tblGrid>
                <a:gridCol w="1530360"/>
                <a:gridCol w="838080"/>
                <a:gridCol w="685800"/>
                <a:gridCol w="838440"/>
                <a:gridCol w="574560"/>
                <a:gridCol w="1292040"/>
                <a:gridCol w="1300320"/>
              </a:tblGrid>
              <a:tr h="1371600"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صخور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تر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غب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ط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ر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كثبان رم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جبال صم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101"/>
          <p:cNvSpPr/>
          <p:nvPr/>
        </p:nvSpPr>
        <p:spPr>
          <a:xfrm>
            <a:off x="457200" y="4618080"/>
            <a:ext cx="8229600" cy="140184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ا الذي يمكن استخدامه في الزراعة؟ يتأثر ويؤثر بالنشاط الإنسان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4158-9C16-4506-83D1-A9FD92FB451F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0040" y="333360"/>
            <a:ext cx="8229600" cy="797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رابعاً: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800000"/>
                </a:solidFill>
                <a:latin typeface="Tahoma"/>
                <a:cs typeface="Tahoma"/>
              </a:rPr>
              <a:t>هواء الترب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شغل هواء التربة المسا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”الفراغات“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ركيب هواء التربة يختل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عن الهواء الجو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تأثر هواء التربة بالنشاط الحيوي لجذور النبات وميكروبات التر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تأثر هواء التربة بالمحتوى المائي في التر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4" descr="soil_breakdown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5"/>
          <p:cNvSpPr/>
          <p:nvPr/>
        </p:nvSpPr>
        <p:spPr>
          <a:xfrm>
            <a:off x="500040" y="170028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350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7F15-FDAA-4C97-B0DA-6163F0AF56B4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مصطلح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تربة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k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صخر، وهو خليط من المعاد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معد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water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ماء الترب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matt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المادة العضو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air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هواء التربة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دب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“ بقايا النبات والحيوان في درجات تحلل مختل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ass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الخلايا الحية ”الكائنات الحية الدقيقة في التربة“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35DD-63F5-4DE0-ADF2-608FCA9A5B29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Alluvial fans"/>
          <p:cNvPicPr/>
          <p:nvPr/>
        </p:nvPicPr>
        <p:blipFill>
          <a:blip r:embed="rId1"/>
          <a:stretch/>
        </p:blipFill>
        <p:spPr>
          <a:xfrm>
            <a:off x="4876920" y="3581280"/>
            <a:ext cx="3657600" cy="265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Exfoliation"/>
          <p:cNvPicPr/>
          <p:nvPr/>
        </p:nvPicPr>
        <p:blipFill>
          <a:blip r:embed="rId2"/>
          <a:stretch/>
        </p:blipFill>
        <p:spPr>
          <a:xfrm>
            <a:off x="457200" y="457200"/>
            <a:ext cx="3962520" cy="272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Structureless soildust"/>
          <p:cNvPicPr/>
          <p:nvPr/>
        </p:nvPicPr>
        <p:blipFill>
          <a:blip r:embed="rId3"/>
          <a:stretch/>
        </p:blipFill>
        <p:spPr>
          <a:xfrm>
            <a:off x="457200" y="3581280"/>
            <a:ext cx="4038480" cy="2600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ev3240_S2000062090456_md"/>
          <p:cNvPicPr/>
          <p:nvPr/>
        </p:nvPicPr>
        <p:blipFill>
          <a:blip r:embed="rId4"/>
          <a:stretch/>
        </p:blipFill>
        <p:spPr>
          <a:xfrm>
            <a:off x="5029200" y="241200"/>
            <a:ext cx="35053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4EC7-5C45-4E46-B518-DFB0CA61C8E8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LETTUCE"/>
          <p:cNvPicPr/>
          <p:nvPr/>
        </p:nvPicPr>
        <p:blipFill>
          <a:blip r:embed="rId1"/>
          <a:stretch/>
        </p:blipFill>
        <p:spPr>
          <a:xfrm>
            <a:off x="0" y="1440"/>
            <a:ext cx="2843280" cy="2275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nswsydn"/>
          <p:cNvPicPr/>
          <p:nvPr/>
        </p:nvPicPr>
        <p:blipFill>
          <a:blip r:embed="rId2"/>
          <a:stretch/>
        </p:blipFill>
        <p:spPr>
          <a:xfrm>
            <a:off x="5796000" y="4740120"/>
            <a:ext cx="3348000" cy="21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Object 4"/>
          <p:cNvGraphicFramePr/>
          <p:nvPr/>
        </p:nvGraphicFramePr>
        <p:xfrm>
          <a:off x="6300720" y="2421000"/>
          <a:ext cx="2843280" cy="20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421000"/>
                    <a:ext cx="28432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5"/>
          <p:cNvSpPr/>
          <p:nvPr/>
        </p:nvSpPr>
        <p:spPr>
          <a:xfrm>
            <a:off x="0" y="0"/>
            <a:ext cx="284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وسط لنمو النب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5867280" y="4797360"/>
            <a:ext cx="297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إنشاءات الهند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dump"/>
          <p:cNvPicPr/>
          <p:nvPr/>
        </p:nvPicPr>
        <p:blipFill>
          <a:blip r:embed="rId5"/>
          <a:stretch/>
        </p:blipFill>
        <p:spPr>
          <a:xfrm>
            <a:off x="6275520" y="0"/>
            <a:ext cx="2868480" cy="1938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water1"/>
          <p:cNvPicPr/>
          <p:nvPr/>
        </p:nvPicPr>
        <p:blipFill>
          <a:blip r:embed="rId6"/>
          <a:stretch/>
        </p:blipFill>
        <p:spPr>
          <a:xfrm>
            <a:off x="0" y="4821120"/>
            <a:ext cx="3879720" cy="20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9"/>
          <p:cNvGraphicFramePr/>
          <p:nvPr/>
        </p:nvGraphicFramePr>
        <p:xfrm>
          <a:off x="2843280" y="2205000"/>
          <a:ext cx="3024000" cy="23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2205000"/>
                    <a:ext cx="30240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0"/>
          <p:cNvSpPr/>
          <p:nvPr/>
        </p:nvSpPr>
        <p:spPr>
          <a:xfrm>
            <a:off x="6300720" y="2421000"/>
            <a:ext cx="28432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مسكن للكثير من الكائنات الح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5724360" y="3213000"/>
            <a:ext cx="648000" cy="505080"/>
          </a:xfrm>
          <a:prstGeom prst="rightArrow">
            <a:avLst>
              <a:gd name="adj1" fmla="val 50000"/>
              <a:gd name="adj2" fmla="val 3207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7946400">
            <a:off x="2196360" y="4292280"/>
            <a:ext cx="648000" cy="505080"/>
          </a:xfrm>
          <a:prstGeom prst="rightArrow">
            <a:avLst>
              <a:gd name="adj1" fmla="val 50000"/>
              <a:gd name="adj2" fmla="val 3207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 rot="2485200">
            <a:off x="5294160" y="4520880"/>
            <a:ext cx="757440" cy="504720"/>
          </a:xfrm>
          <a:prstGeom prst="rightArrow">
            <a:avLst>
              <a:gd name="adj1" fmla="val 50000"/>
              <a:gd name="adj2" fmla="val 375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 rot="18519000">
            <a:off x="5507640" y="1845000"/>
            <a:ext cx="1081080" cy="504720"/>
          </a:xfrm>
          <a:prstGeom prst="rightArrow">
            <a:avLst>
              <a:gd name="adj1" fmla="val 50000"/>
              <a:gd name="adj2" fmla="val 5354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6381720" y="0"/>
            <a:ext cx="2762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مستودع للمخل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324000" y="4869000"/>
            <a:ext cx="298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  <a:cs typeface="Tahoma"/>
              </a:rPr>
              <a:t>تخزين وتصريف المي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 rot="12967200">
            <a:off x="1834920" y="2491560"/>
            <a:ext cx="938160" cy="505080"/>
          </a:xfrm>
          <a:prstGeom prst="rightArrow">
            <a:avLst>
              <a:gd name="adj1" fmla="val 50000"/>
              <a:gd name="adj2" fmla="val 4643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71C8-A7A8-4EEA-A434-E793730D5D69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forest_land"/>
          <p:cNvPicPr/>
          <p:nvPr/>
        </p:nvPicPr>
        <p:blipFill>
          <a:blip r:embed="rId1"/>
          <a:stretch/>
        </p:blipFill>
        <p:spPr>
          <a:xfrm>
            <a:off x="4800600" y="3505320"/>
            <a:ext cx="3886200" cy="2647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grassland_land"/>
          <p:cNvPicPr/>
          <p:nvPr/>
        </p:nvPicPr>
        <p:blipFill>
          <a:blip r:embed="rId2"/>
          <a:stretch/>
        </p:blipFill>
        <p:spPr>
          <a:xfrm>
            <a:off x="76320" y="263520"/>
            <a:ext cx="4495680" cy="2936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Towering mesas of sandstone are formed by wind and water ero"/>
          <p:cNvPicPr/>
          <p:nvPr/>
        </p:nvPicPr>
        <p:blipFill>
          <a:blip r:embed="rId3"/>
          <a:stretch/>
        </p:blipFill>
        <p:spPr>
          <a:xfrm>
            <a:off x="4724280" y="316080"/>
            <a:ext cx="4038840" cy="2884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very dry land"/>
          <p:cNvPicPr/>
          <p:nvPr/>
        </p:nvPicPr>
        <p:blipFill>
          <a:blip r:embed="rId4"/>
          <a:stretch/>
        </p:blipFill>
        <p:spPr>
          <a:xfrm>
            <a:off x="152280" y="3733920"/>
            <a:ext cx="44197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B72-2EB2-458D-9E52-ABBAE95D1084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gelisol"/>
          <p:cNvPicPr/>
          <p:nvPr/>
        </p:nvPicPr>
        <p:blipFill>
          <a:blip r:embed="rId1"/>
          <a:stretch/>
        </p:blipFill>
        <p:spPr>
          <a:xfrm>
            <a:off x="7372440" y="96840"/>
            <a:ext cx="1771560" cy="2971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ult"/>
          <p:cNvPicPr/>
          <p:nvPr/>
        </p:nvPicPr>
        <p:blipFill>
          <a:blip r:embed="rId2"/>
          <a:stretch/>
        </p:blipFill>
        <p:spPr>
          <a:xfrm>
            <a:off x="4876920" y="96840"/>
            <a:ext cx="2450880" cy="2971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moll"/>
          <p:cNvPicPr/>
          <p:nvPr/>
        </p:nvPicPr>
        <p:blipFill>
          <a:blip r:embed="rId3"/>
          <a:stretch/>
        </p:blipFill>
        <p:spPr>
          <a:xfrm>
            <a:off x="0" y="76320"/>
            <a:ext cx="2427120" cy="2992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pod"/>
          <p:cNvPicPr/>
          <p:nvPr/>
        </p:nvPicPr>
        <p:blipFill>
          <a:blip r:embed="rId4"/>
          <a:stretch/>
        </p:blipFill>
        <p:spPr>
          <a:xfrm>
            <a:off x="2438280" y="96840"/>
            <a:ext cx="2417760" cy="2971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histosol"/>
          <p:cNvPicPr/>
          <p:nvPr/>
        </p:nvPicPr>
        <p:blipFill>
          <a:blip r:embed="rId5"/>
          <a:stretch/>
        </p:blipFill>
        <p:spPr>
          <a:xfrm>
            <a:off x="0" y="3141720"/>
            <a:ext cx="2192400" cy="35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entisol"/>
          <p:cNvPicPr/>
          <p:nvPr/>
        </p:nvPicPr>
        <p:blipFill>
          <a:blip r:embed="rId6"/>
          <a:stretch/>
        </p:blipFill>
        <p:spPr>
          <a:xfrm>
            <a:off x="4952880" y="3141720"/>
            <a:ext cx="2135160" cy="3581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aridisol"/>
          <p:cNvPicPr/>
          <p:nvPr/>
        </p:nvPicPr>
        <p:blipFill>
          <a:blip r:embed="rId7"/>
          <a:stretch/>
        </p:blipFill>
        <p:spPr>
          <a:xfrm>
            <a:off x="7086600" y="3141720"/>
            <a:ext cx="2057400" cy="3581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inceptisol"/>
          <p:cNvPicPr/>
          <p:nvPr/>
        </p:nvPicPr>
        <p:blipFill>
          <a:blip r:embed="rId8"/>
          <a:stretch/>
        </p:blipFill>
        <p:spPr>
          <a:xfrm>
            <a:off x="2209680" y="3141720"/>
            <a:ext cx="265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0518-4486-4683-A4AF-9A66C22451F5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26" descr="fig04-01"/>
          <p:cNvPicPr/>
          <p:nvPr/>
        </p:nvPicPr>
        <p:blipFill>
          <a:blip r:embed="rId1"/>
          <a:stretch/>
        </p:blipFill>
        <p:spPr>
          <a:xfrm>
            <a:off x="304920" y="11160"/>
            <a:ext cx="8381880" cy="5246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27"/>
          <p:cNvSpPr/>
          <p:nvPr/>
        </p:nvSpPr>
        <p:spPr>
          <a:xfrm>
            <a:off x="395280" y="5378400"/>
            <a:ext cx="8508960" cy="1800360"/>
          </a:xfrm>
          <a:prstGeom prst="rect">
            <a:avLst/>
          </a:prstGeom>
          <a:solidFill>
            <a:srgbClr val="ebf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تعمل </a:t>
            </a:r>
            <a:r>
              <a:rPr b="1" lang="ar-SA" sz="2200" spc="-1" strike="noStrike">
                <a:solidFill>
                  <a:srgbClr val="ff3300"/>
                </a:solidFill>
                <a:latin typeface="Tahoma"/>
                <a:cs typeface="Arial"/>
              </a:rPr>
              <a:t>عوامل تكوين الترب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خلال الزمن، فتحدد </a:t>
            </a:r>
            <a:r>
              <a:rPr b="1" lang="ar-SA" sz="2200" spc="-1" strike="noStrike">
                <a:solidFill>
                  <a:srgbClr val="008000"/>
                </a:solidFill>
                <a:latin typeface="Tahoma"/>
                <a:cs typeface="Arial"/>
              </a:rPr>
              <a:t>عمليات تكوين الترب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التي تسود في </a:t>
            </a:r>
            <a:r>
              <a:rPr b="1" lang="ar-SA" sz="2800" spc="-1" strike="noStrike">
                <a:solidFill>
                  <a:srgbClr val="0033cc"/>
                </a:solidFill>
                <a:latin typeface="Tahoma"/>
                <a:cs typeface="Traditional Arabic"/>
              </a:rPr>
              <a:t>قطاع الترب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، والتي بدورها تحدد </a:t>
            </a:r>
            <a:r>
              <a:rPr b="1" lang="ar-SA" sz="2800" spc="-1" strike="noStrike">
                <a:solidFill>
                  <a:srgbClr val="996633"/>
                </a:solidFill>
                <a:latin typeface="Tahoma"/>
                <a:cs typeface="Traditional Arabic"/>
              </a:rPr>
              <a:t>خصائص التربة الكيميائي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30dee"/>
                </a:solidFill>
                <a:latin typeface="Tahoma"/>
                <a:cs typeface="Traditional Arabic"/>
              </a:rPr>
              <a:t>والفيزيائي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800080"/>
                </a:solidFill>
                <a:latin typeface="Tahoma"/>
                <a:cs typeface="Traditional Arabic"/>
              </a:rPr>
              <a:t>والحيوي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28"/>
          <p:cNvSpPr/>
          <p:nvPr/>
        </p:nvSpPr>
        <p:spPr>
          <a:xfrm>
            <a:off x="3430440" y="2943360"/>
            <a:ext cx="22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05fd"/>
                </a:solidFill>
                <a:latin typeface="Times New Roman"/>
                <a:ea typeface="Arial"/>
              </a:rPr>
              <a:t>(cl, v, pm, r, o)</a:t>
            </a:r>
            <a:r>
              <a:rPr b="1" lang="en-US" sz="2400" spc="-1" strike="noStrike" baseline="-25000">
                <a:solidFill>
                  <a:srgbClr val="2e05fd"/>
                </a:solidFill>
                <a:latin typeface="Times New Roman"/>
                <a:ea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29"/>
          <p:cNvSpPr/>
          <p:nvPr/>
        </p:nvSpPr>
        <p:spPr>
          <a:xfrm>
            <a:off x="7238880" y="4984920"/>
            <a:ext cx="15271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30"/>
          <p:cNvSpPr/>
          <p:nvPr/>
        </p:nvSpPr>
        <p:spPr>
          <a:xfrm>
            <a:off x="3809880" y="4952880"/>
            <a:ext cx="1527120" cy="459720"/>
          </a:xfrm>
          <a:prstGeom prst="rect">
            <a:avLst/>
          </a:prstGeom>
          <a:solidFill>
            <a:srgbClr val="fd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ز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31"/>
          <p:cNvSpPr/>
          <p:nvPr/>
        </p:nvSpPr>
        <p:spPr>
          <a:xfrm>
            <a:off x="4038480" y="4495680"/>
            <a:ext cx="9144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33"/>
          <p:cNvSpPr/>
          <p:nvPr/>
        </p:nvSpPr>
        <p:spPr>
          <a:xfrm>
            <a:off x="468360" y="4952880"/>
            <a:ext cx="1589040" cy="825480"/>
          </a:xfrm>
          <a:prstGeom prst="rect">
            <a:avLst/>
          </a:prstGeom>
          <a:solidFill>
            <a:srgbClr val="ed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كائنات ال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34"/>
          <p:cNvSpPr/>
          <p:nvPr/>
        </p:nvSpPr>
        <p:spPr>
          <a:xfrm>
            <a:off x="2130480" y="4952880"/>
            <a:ext cx="1527120" cy="825480"/>
          </a:xfrm>
          <a:prstGeom prst="rect">
            <a:avLst/>
          </a:prstGeom>
          <a:solidFill>
            <a:srgbClr val="ed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مادة الأ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35"/>
          <p:cNvSpPr/>
          <p:nvPr/>
        </p:nvSpPr>
        <p:spPr>
          <a:xfrm>
            <a:off x="5559480" y="4952880"/>
            <a:ext cx="1527120" cy="459720"/>
          </a:xfrm>
          <a:prstGeom prst="rect">
            <a:avLst/>
          </a:prstGeom>
          <a:solidFill>
            <a:srgbClr val="ed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من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36"/>
          <p:cNvSpPr/>
          <p:nvPr/>
        </p:nvSpPr>
        <p:spPr>
          <a:xfrm>
            <a:off x="7236000" y="4941720"/>
            <a:ext cx="1527120" cy="825480"/>
          </a:xfrm>
          <a:prstGeom prst="rect">
            <a:avLst/>
          </a:prstGeom>
          <a:solidFill>
            <a:srgbClr val="ed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طبوغرا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4952880" y="1401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انتق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3200400" y="1782720"/>
            <a:ext cx="8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تراك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39"/>
          <p:cNvSpPr/>
          <p:nvPr/>
        </p:nvSpPr>
        <p:spPr>
          <a:xfrm>
            <a:off x="4038480" y="163044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تح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40"/>
          <p:cNvSpPr/>
          <p:nvPr/>
        </p:nvSpPr>
        <p:spPr>
          <a:xfrm>
            <a:off x="2666880" y="7920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ahoma"/>
                <a:cs typeface="Arial"/>
              </a:rPr>
              <a:t>الإضا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41"/>
          <p:cNvSpPr/>
          <p:nvPr/>
        </p:nvSpPr>
        <p:spPr>
          <a:xfrm>
            <a:off x="4572000" y="27734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فق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42"/>
          <p:cNvSpPr/>
          <p:nvPr/>
        </p:nvSpPr>
        <p:spPr>
          <a:xfrm>
            <a:off x="3581280" y="255744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إضا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43"/>
          <p:cNvSpPr/>
          <p:nvPr/>
        </p:nvSpPr>
        <p:spPr>
          <a:xfrm>
            <a:off x="5334120" y="792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فق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4188-741F-45B2-A584-A520EB5A2FC8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Pfert"/>
          <p:cNvPicPr/>
          <p:nvPr/>
        </p:nvPicPr>
        <p:blipFill>
          <a:blip r:embed="rId1"/>
          <a:stretch/>
        </p:blipFill>
        <p:spPr>
          <a:xfrm>
            <a:off x="152280" y="560520"/>
            <a:ext cx="8686800" cy="5535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4500720" y="333360"/>
            <a:ext cx="4248000" cy="882720"/>
          </a:xfrm>
          <a:prstGeom prst="rect">
            <a:avLst/>
          </a:prstGeom>
          <a:solidFill>
            <a:srgbClr val="eff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Tahoma"/>
                <a:cs typeface="Tahoma"/>
              </a:rPr>
              <a:t>غير مسمدة بالفسف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971640" y="333360"/>
            <a:ext cx="3598920" cy="882720"/>
          </a:xfrm>
          <a:prstGeom prst="rect">
            <a:avLst/>
          </a:prstGeom>
          <a:solidFill>
            <a:srgbClr val="eff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Tahoma"/>
                <a:cs typeface="Tahoma"/>
              </a:rPr>
              <a:t>مسمدة بالفسف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50920" y="333360"/>
            <a:ext cx="7207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6:34:19Z</dcterms:created>
  <dc:creator>Dr. Abdullah</dc:creator>
  <dc:description/>
  <dc:language>en-US</dc:language>
  <cp:lastModifiedBy>Abdullah Al-Farraj</cp:lastModifiedBy>
  <dcterms:modified xsi:type="dcterms:W3CDTF">2014-09-14T04:05:40Z</dcterms:modified>
  <cp:revision>16</cp:revision>
  <dc:subject/>
  <dc:title>تلوث التربة والمياه</dc:title>
</cp:coreProperties>
</file>