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9945F-2107-4521-9F27-B31DEE541D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AC95-3AD7-489F-A1D5-3E5FF9F2DA24}" type="slidenum">
              <a:rPr b="1" lang="en-US" sz="1200" spc="-1" strike="noStrike">
                <a:solidFill>
                  <a:srgbClr val="ffffff"/>
                </a:solidFill>
                <a:latin typeface="Garamond"/>
                <a:ea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D2E53-3D78-4214-A1E4-A86402725456}" type="slidenum">
              <a:rPr b="1" lang="en-US" sz="1200" spc="-1" strike="noStrike">
                <a:solidFill>
                  <a:srgbClr val="ffffff"/>
                </a:solidFill>
                <a:latin typeface="Garamond"/>
                <a:ea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EC20D-4529-4978-85BA-033335451BD6}" type="slidenum">
              <a:rPr b="1" lang="en-US" sz="1200" spc="-1" strike="noStrike">
                <a:solidFill>
                  <a:srgbClr val="ffffff"/>
                </a:solidFill>
                <a:latin typeface="Garamond"/>
                <a:ea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32E1-45F9-4399-860D-80991A9EDF16}" type="slidenum">
              <a:rPr b="1" lang="en-US" sz="1200" spc="-1" strike="noStrike">
                <a:solidFill>
                  <a:srgbClr val="ffffff"/>
                </a:solidFill>
                <a:latin typeface="Garamond"/>
                <a:ea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F76C1-ADF8-44EC-A23F-69E2856A5A12}" type="slidenum">
              <a:rPr b="1" lang="en-US" sz="1200" spc="-1" strike="noStrike">
                <a:solidFill>
                  <a:srgbClr val="ffffff"/>
                </a:solidFill>
                <a:latin typeface="Garamond"/>
                <a:ea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874CB-7ABB-47E5-A1C4-847B884AE20A}" type="slidenum">
              <a:rPr b="1" lang="en-US" sz="1200" spc="-1" strike="noStrike">
                <a:solidFill>
                  <a:srgbClr val="ffffff"/>
                </a:solidFill>
                <a:latin typeface="Garamond"/>
                <a:ea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3B219-D516-42BF-9237-B8ADC5BFE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D963C-9745-41D9-81D9-252B89665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BDB28-51A7-42D5-9124-D7A055C00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C69A2-44FB-42C2-A20E-D00BB2DA6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AB06E-787E-4C59-9724-8B3096E55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B876B-6AA1-47B4-B1CB-777DA0F1F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CE294-1F99-44DD-B2A9-4593C3E7D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10FE4-F98D-4C17-8094-6E75DC7FF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5CDCE-781B-424B-9A09-EF2C77CB8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AAADB-B2CF-45AC-BA7D-2AE9E07A2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021FF-69FB-49E9-A088-7A22E296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96E8B-6667-435F-92C8-E23A44827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61862-4E58-4994-8FB9-4A8DC2DC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51814-2124-4E15-B9FB-CF614CA3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3BE4C-F451-457A-BEEA-CCD873836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A9A8B-3CEA-4D92-8C4A-B10075C3F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69C50-00E1-40EC-BB7E-C7876E81B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949CB-25F2-4A1D-8BA2-86BC2DB54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ABDD2-09B4-41B2-AF40-7706BD197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90A14-882C-4E3C-B9CF-1CDDB59A6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8CCD2-7157-4F0A-9A28-4C4B6F357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8542B-D53C-4758-BD22-58B448847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E7466-4749-47EA-8CA7-35E3A7882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DFB1B-820F-48CC-A04F-C5FCDE352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562B8-AD3B-4B37-A3C0-D0B9A29E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3E486-7BE2-41DE-98CC-D14E80E7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07E6E-3D16-4BF4-B20B-5C899FEB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B1C22-AD8A-45B3-A12D-6F8507F84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2245D-2F89-4888-BF02-27850AA96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0D3AF-6162-4D88-A40E-9C4D628A1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5FBBB-2F96-40C5-8880-AF58C4DEC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C4E67-6A04-4CF0-B1F5-12091A13F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FD0BC-1889-4F91-9DF3-BA150D982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C13ED-114C-49CB-BEB3-B56D59BD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141E1-2C39-4B87-A574-4997CF5B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5C59A-318F-4D3E-8CE1-92F40E9D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C0ED2-B504-45C3-BA00-EEE449DEE0E5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18979-F890-4589-AD99-A52F430EC800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0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0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0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2666520" y="594360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411444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162920" y="594360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804DB-1829-4D36-BCC9-B9322AC152A1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Microtubules" TargetMode="External"/><Relationship Id="rId2" Type="http://schemas.openxmlformats.org/officeDocument/2006/relationships/hyperlink" Target="http://en.wikipedia.org/wiki/Alkaloids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Horizontal Scroll 3"/>
          <p:cNvSpPr/>
          <p:nvPr/>
        </p:nvSpPr>
        <p:spPr>
          <a:xfrm>
            <a:off x="533520" y="1371600"/>
            <a:ext cx="8229600" cy="4038480"/>
          </a:xfrm>
          <a:prstGeom prst="horizontalScroll">
            <a:avLst>
              <a:gd name="adj" fmla="val 12500"/>
            </a:avLst>
          </a:prstGeom>
          <a:solidFill>
            <a:srgbClr val="00b0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Garamond"/>
              </a:rPr>
              <a:t>Microtubule inhibitors</a:t>
            </a: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Horizontal Scroll 3"/>
          <p:cNvSpPr/>
          <p:nvPr/>
        </p:nvSpPr>
        <p:spPr>
          <a:xfrm>
            <a:off x="685800" y="1219320"/>
            <a:ext cx="7924680" cy="3886200"/>
          </a:xfrm>
          <a:prstGeom prst="horizontalScroll">
            <a:avLst>
              <a:gd name="adj" fmla="val 125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V. Miscellaneous Anticancer Agents  </a:t>
            </a:r>
            <a:endParaRPr b="1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Comic Sans MS"/>
              </a:rPr>
              <a:t>V- Miscellaneous Agents</a:t>
            </a:r>
            <a:r>
              <a:rPr b="1" lang="en-US" sz="4400" spc="-1" strike="noStrike">
                <a:solidFill>
                  <a:srgbClr val="e5e5ff"/>
                </a:solidFill>
                <a:latin typeface="Comic Sans MS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L-Asparaginas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Hydroxyure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itotan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Retenoic acid derivativ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terferon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80520" y="456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L- Asparaginas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sparagine is amino acid required for protein synthesis)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Neoplastic cells require an external source of asparagine  (from the plasma) because of their limited capacity to make sufficient asparagine to support growth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L-Asparaginase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L-asparagina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Asparagine </a:t>
            </a: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aspartic acid        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+Ammon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-asparaginase hydrolyzes serum asparagine and thus deprives the tumor cells of this nutrient required for protein synthes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ost normal cells can synthesize asparagine and thus are less susceptible to the action of asparagina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2590920" y="2362320"/>
            <a:ext cx="3276360" cy="380880"/>
          </a:xfrm>
          <a:prstGeom prst="rightArrow">
            <a:avLst>
              <a:gd name="adj1" fmla="val 50000"/>
              <a:gd name="adj2" fmla="val 32508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Theraputic uses: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L-asparginase is used to treat childhood 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acute lymphocytic leukemia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in combination with vincristine and prednison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A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dverse effects: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Hypersensitivity reactions, liver affection and pancreatiti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Hydroxyurea</a:t>
            </a:r>
            <a:br>
              <a:rPr sz="5400"/>
            </a:br>
            <a:br>
              <a:rPr sz="5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ydroxyurea interferes with conversion of ribonucleotides to deoxyribonucleotides by inhibiting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Ribonucleotide Diphosphate Reductase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 In addition, hydroxyurea blocks the incorporation of the thymidine nucleotide into the DNA stran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elanoma; recurrent metastatic or inoperable carcinoma of the ova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Mitotane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 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  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drenal carcinom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Reduces excessive steroid secre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Retenoic acid derivativ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fr-FR" sz="3600" spc="-1" strike="noStrike">
                <a:solidFill>
                  <a:srgbClr val="ffffff"/>
                </a:solidFill>
                <a:latin typeface="Comic Sans MS"/>
              </a:rPr>
              <a:t>Remissions -- acute leukemi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Horizontal Scroll 3"/>
          <p:cNvSpPr/>
          <p:nvPr/>
        </p:nvSpPr>
        <p:spPr>
          <a:xfrm>
            <a:off x="533520" y="2057400"/>
            <a:ext cx="8076960" cy="2514600"/>
          </a:xfrm>
          <a:prstGeom prst="horizontalScroll">
            <a:avLst>
              <a:gd name="adj" fmla="val 125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Comic Sans MS"/>
              </a:rPr>
              <a:t>Drug combinations</a:t>
            </a:r>
            <a:br>
              <a:rPr sz="6600"/>
            </a:br>
            <a:endParaRPr b="1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228600" y="5335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administration of combinations of drugs in the treatment of cancer produces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better results than a single dru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 combination of drugs with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different  toxic effects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and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ffecting different biochemical pathways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as higher anti-tumour activity without additive toxic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rapy is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given intermittently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o allow recovery of normal tissue i.e. bone marrow and immune system that has been affected by the drug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Examples of drug combination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769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Comic Sans MS"/>
              </a:rPr>
              <a:t>Acute lymphocytic leukemia: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vincristine, methotrexate and 6-mercaptopur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Comic Sans MS"/>
              </a:rPr>
              <a:t>Hodgkin's disease: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vinblastine, doxorubicin and bleomyc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Comic Sans MS"/>
              </a:rPr>
              <a:t>Non-Hodgkin's lymphomas: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cyclophosphamide, doxorubicin, vincristin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Microtubules Inhibitor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47960" y="167652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se drugs disrupt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Comic Sans MS"/>
                <a:hlinkClick r:id="rId1"/>
              </a:rPr>
              <a:t>microtubules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which are structures that pull the cell apart when it divid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re derived from natural substances such as plant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Comic Sans MS"/>
                <a:hlinkClick r:id="rId2"/>
              </a:rPr>
              <a:t>alkaloid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Picture 5" descr="image19"/>
          <p:cNvPicPr/>
          <p:nvPr/>
        </p:nvPicPr>
        <p:blipFill>
          <a:blip r:embed="rId3"/>
          <a:stretch/>
        </p:blipFill>
        <p:spPr>
          <a:xfrm>
            <a:off x="4648320" y="4183200"/>
            <a:ext cx="4251240" cy="2827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image002' copy"/>
          <p:cNvPicPr/>
          <p:nvPr/>
        </p:nvPicPr>
        <p:blipFill>
          <a:blip r:embed="rId4"/>
          <a:stretch/>
        </p:blipFill>
        <p:spPr>
          <a:xfrm>
            <a:off x="380880" y="1676520"/>
            <a:ext cx="4084920" cy="48765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0" name="Picture 4" descr="Fleet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5"/>
          <p:cNvSpPr/>
          <p:nvPr/>
        </p:nvSpPr>
        <p:spPr>
          <a:xfrm>
            <a:off x="1432080" y="1150920"/>
            <a:ext cx="4740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0" y="0"/>
            <a:ext cx="6400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c000"/>
                </a:solidFill>
                <a:latin typeface="Vladimir Script"/>
              </a:rPr>
              <a:t>Thank you</a:t>
            </a:r>
            <a:endParaRPr b="1" lang="en-US" sz="1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ANTIMICROTUBULE AGENT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924680" cy="54100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Microtubules Inhibitors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3057480" y="1986120"/>
            <a:ext cx="28861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CCS</a:t>
            </a:r>
            <a:endParaRPr b="1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1660680" y="3322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235800" y="2743200"/>
            <a:ext cx="322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5"/>
                </a:solidFill>
                <a:latin typeface="Comic Sans MS"/>
              </a:rPr>
              <a:t>Vinca alkaloids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Vinblastine 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Vincristine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6482520" y="2868480"/>
            <a:ext cx="2309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5"/>
                </a:solidFill>
                <a:latin typeface="Comic Sans MS"/>
              </a:rPr>
              <a:t>Taxanes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aclitaxel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Docetaxel 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Rectangle 1"/>
          <p:cNvSpPr/>
          <p:nvPr/>
        </p:nvSpPr>
        <p:spPr>
          <a:xfrm>
            <a:off x="3435480" y="5572080"/>
            <a:ext cx="33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odophyllotoxine 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533520" y="4568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Vinblastine and Vincristin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ctr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Both drugs are cell cycle-specific because they block mitosis in metaphas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ctr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hey bind to the microtubular protein, tubulin and thus preventing the cell from making the spindles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ctr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his results in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arrest of mitosis at metaphas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Comic Sans MS"/>
              </a:rPr>
              <a:t>Therapeutic Uses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Vinblastine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s used in testicular carcinoma, Hodgkin’s diseas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Vincristine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is used in the treatment of acute leukemia in children, Wilm’s tumor, and Hodgkin’s and non-Hodgkin’s lympho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Comic Sans MS"/>
              </a:rPr>
              <a:t>Adverse Effects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mmon adverse effects for both drugs include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ellulitis or phlebitis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f the drugs extra vasate during inje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usea, vomiting, diarrhea, and alopec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 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Toxicity of Vinblastine &amp; Vincristine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635760" y="2438280"/>
            <a:ext cx="317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Vinblastine </a:t>
            </a: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4476960" y="2446200"/>
            <a:ext cx="380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Myelo-supression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304920" y="4343400"/>
            <a:ext cx="2971800" cy="19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Vincristine</a:t>
            </a: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NOT myelosuppressant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3701880" y="3962520"/>
            <a:ext cx="510552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Peripheral neuropathy: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Depressed deep tendon reflex, paresthesia, foot drop 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Comic Sans MS"/>
              </a:rPr>
              <a:t>Taxan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nterferes with cell division by keeping the spindles from being broken down (freez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aclitaxel (Taxol)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hows good activity against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metastatic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breast cancer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nd advanced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ovarian canc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ide effects;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neutropenia ‼, peripheral neuropat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Filgrastim ( granulocyte colony stimulating factor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http://1.bp.blogspot.com/_rgEdAv437-8/TKs3u4OwjpI/AAAAAAAAAFg/E5GGqQCodbc/s1600/pic4.JPG"/>
          <p:cNvPicPr/>
          <p:nvPr/>
        </p:nvPicPr>
        <p:blipFill>
          <a:blip r:embed="rId1"/>
          <a:stretch/>
        </p:blipFill>
        <p:spPr>
          <a:xfrm>
            <a:off x="-380880" y="-609480"/>
            <a:ext cx="10820160" cy="74674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assiouni</dc:creator>
  <dc:description/>
  <dc:language>en-US</dc:language>
  <cp:lastModifiedBy>User</cp:lastModifiedBy>
  <dcterms:modified xsi:type="dcterms:W3CDTF">2015-02-24T04:51:07Z</dcterms:modified>
  <cp:revision>35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