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EE05-B4AA-4B5B-AF33-6644F751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7A62-09B4-4725-819E-17F64C36C1BC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9BC5-25A4-4FD0-81D5-0B92DA15D46E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FF01-83F1-4594-A72A-985C7D834C53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D0B9-9B38-448D-AED0-5BA1C80F1B78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6A2D-65FC-48AB-BEB6-E80B959F9432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BF7A-581F-4AC3-AE6F-A7F20348468E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75CE-9D7C-4C30-8AE9-EB4B2285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C86A-87DB-4D55-985D-E850A58F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F07E-E25C-45D1-AE5E-A904C97B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E4F2-F57B-4A0F-9E1E-BEB8B3E8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91D4-64C6-46EE-A934-86792C29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9A3D-3656-4B4A-93F1-CE7A5AF1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6EAC-3383-40A0-95FF-7B9246F6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B24C-94FE-4223-B618-CE02A848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2D44-8C22-4763-9E87-A62F5B0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86EC-1916-4BD7-96D8-2F801DA0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9ED-EBA6-4C4B-BDC9-5B924AE3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61A3B-171B-423B-9B5D-08D4C424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F66E6-AFE2-4614-9D0A-5DACBFF5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990-B8A4-4DC9-A01A-EAAAB506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013F-7299-466C-9E7B-CC0E29AA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B30-2428-44DB-A814-94C6EEEA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8CD3-45CC-464E-9E4B-A6D0D955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D344-C0C9-4441-84E7-517ECF08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CECB-8E18-43C2-9989-59166829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47B6-93F1-404C-86BA-95F5E57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E7BB-C090-4F78-906E-DF85DADD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9D6E-AB33-474D-8939-3F24E0F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B4894-53E5-48B4-8D1D-15525CD6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37D67-E951-4355-99AA-DE99D9C0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89C6-B80B-4D82-BC5A-8A5FB32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8165-E772-4404-8B11-A3A3D4A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4855-F619-45AC-8BF2-4931EC9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419A1-E74F-4118-AE62-6893D28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C44C8-EBE1-4D37-A692-79435C38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DA63A-AD76-4F8E-BE84-1EEB39B9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E2A0-6E21-4F39-9E69-A84AD5B4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0095-99A2-42D8-8877-CC247EB7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C79F2-A9F8-45DF-BE57-0A31F23D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6609-0C55-4406-AB97-C98A973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55DE-E0F7-41D8-9AC3-76181DB7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40CF-A73A-414A-9ED9-2753D79E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1412-2906-4CE4-BF31-C6A9D0A7266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419-8B54-4FFA-84EB-C507145496E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465-0652-47A9-AD76-BD37F116717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icrotubules" TargetMode="External"/><Relationship Id="rId2" Type="http://schemas.openxmlformats.org/officeDocument/2006/relationships/hyperlink" Target="http://en.wikipedia.org/wiki/Alkaloids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Horizontal Scroll 3"/>
          <p:cNvSpPr/>
          <p:nvPr/>
        </p:nvSpPr>
        <p:spPr>
          <a:xfrm>
            <a:off x="533520" y="1371600"/>
            <a:ext cx="8229600" cy="4038480"/>
          </a:xfrm>
          <a:prstGeom prst="horizontalScroll">
            <a:avLst>
              <a:gd name="adj" fmla="val 12500"/>
            </a:avLst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Microtubule inhibitor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Horizontal Scroll 3"/>
          <p:cNvSpPr/>
          <p:nvPr/>
        </p:nvSpPr>
        <p:spPr>
          <a:xfrm>
            <a:off x="685800" y="1219320"/>
            <a:ext cx="7924680" cy="38862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V. Miscellaneous Anticancer Agents  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Comic Sans MS"/>
              </a:rPr>
              <a:t>V- Miscellaneous Agents</a:t>
            </a:r>
            <a:r>
              <a:rPr b="1" lang="en-US" sz="4400" spc="-1" strike="noStrike">
                <a:solidFill>
                  <a:srgbClr val="e5e5ff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-Asparagina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ydroxyure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Mitota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tenoic acid deriv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terfer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L- Asparagina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sparagine is amino acid required for protein synthesis)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eoplastic cells require an external source of asparagine  (from the plasma) because of their limited capacity to make sufficient asparagine to support growth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L-Asparaginas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-asparagin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paragine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spartic acid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Amm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-asparaginase hydrolyzes serum asparagine and thus deprives the tumor cells of this nutrient required for protein syn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st normal cells can synthesize asparagine and thus are less susceptible to the action of asparagin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590920" y="2362320"/>
            <a:ext cx="3276360" cy="380880"/>
          </a:xfrm>
          <a:prstGeom prst="rightArrow">
            <a:avLst>
              <a:gd name="adj1" fmla="val 50000"/>
              <a:gd name="adj2" fmla="val 3250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Theraputic uses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L-asparginase is used to treat childhood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cute lymphocytic leukemia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 combination with vincristine and prednison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dverse effects: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ypersensitivity reactions, liver affection and pancreatiti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Hydroxyurea</a:t>
            </a:r>
            <a:br>
              <a:rPr sz="5400"/>
            </a:br>
            <a:br>
              <a:rPr sz="5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ydroxyurea interferes with conversion of ribonucleotides to deoxyribonucleotides by inhibiting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ibonucleotide Diphosphate Reductas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In addition, hydroxyurea blocks the incorporation of the thymidine nucleotide into the DNA str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lanoma; recurrent metastatic or inoperable carcinoma of the ov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itotan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 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drenal carcinom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duces excessive steroid secre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etenoic acid derivativ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fr-FR" sz="3600" spc="-1" strike="noStrike">
                <a:solidFill>
                  <a:srgbClr val="ffffff"/>
                </a:solidFill>
                <a:latin typeface="Comic Sans MS"/>
              </a:rPr>
              <a:t>Remissions -- acute leukem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Horizontal Scroll 3"/>
          <p:cNvSpPr/>
          <p:nvPr/>
        </p:nvSpPr>
        <p:spPr>
          <a:xfrm>
            <a:off x="533520" y="2057400"/>
            <a:ext cx="8076960" cy="251460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Drug combinations</a:t>
            </a:r>
            <a:br>
              <a:rPr sz="6600"/>
            </a:br>
            <a:endParaRPr b="1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administration of combinations of drugs in the treatment of cancer produces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tter results than a single dru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combination of drugs wit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ifferent  toxic effect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ffecting different biochemical pathway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 higher anti-tumour activity without additive 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rapy i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iven intermittently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allow recovery of normal tissue i.e. bone marrow and immune system that has been affected by the dru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Examples of drug combina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76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Acute lymphocytic leukemia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vincristine, methotrexate and 6-mercaptopur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Hodgkin's disease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vinblastine, doxorubicin and bleomy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</a:rPr>
              <a:t>Non-Hodgkin's lymphomas: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yclophosphamide, doxorubicin, vincrist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icrotubules Inhibitor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se drugs disrupt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microtubule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which are structures that pull the cell apart when it divi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e derived from natural substances such as plant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Comic Sans MS"/>
                <a:hlinkClick r:id="rId2"/>
              </a:rPr>
              <a:t>alkaloid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5" descr="image19"/>
          <p:cNvPicPr/>
          <p:nvPr/>
        </p:nvPicPr>
        <p:blipFill>
          <a:blip r:embed="rId3"/>
          <a:stretch/>
        </p:blipFill>
        <p:spPr>
          <a:xfrm>
            <a:off x="4648320" y="4183200"/>
            <a:ext cx="4251240" cy="282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image002' copy"/>
          <p:cNvPicPr/>
          <p:nvPr/>
        </p:nvPicPr>
        <p:blipFill>
          <a:blip r:embed="rId4"/>
          <a:stretch/>
        </p:blipFill>
        <p:spPr>
          <a:xfrm>
            <a:off x="380880" y="1676520"/>
            <a:ext cx="408492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4" descr="Fle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1432080" y="1150920"/>
            <a:ext cx="474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0" y="0"/>
            <a:ext cx="6400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c000"/>
                </a:solidFill>
                <a:latin typeface="Vladimir Script"/>
              </a:rPr>
              <a:t>Thank you</a:t>
            </a:r>
            <a:endParaRPr b="1" lang="en-US" sz="1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ANTIMICROTUBULE AGEN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92468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Microtubules Inhibitor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057480" y="1986120"/>
            <a:ext cx="28861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CS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660680" y="33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235800" y="2743200"/>
            <a:ext cx="322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5"/>
                </a:solidFill>
                <a:latin typeface="Comic Sans MS"/>
              </a:rPr>
              <a:t>Vinca alkaloid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nblastine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Vincristin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482520" y="2868480"/>
            <a:ext cx="230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5"/>
                </a:solidFill>
                <a:latin typeface="Comic Sans MS"/>
              </a:rPr>
              <a:t>Taxan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aclitax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ocetaxel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3435480" y="5572080"/>
            <a:ext cx="33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dophyllotoxine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Vinblastine and Vincrist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oth drugs are cell cycle-specific because they block mitosis in metaphas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y bind to the microtubular protein, tubulin and thus preventing the cell from making the spindl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s results in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rrest of mitosis at metapha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Therapeutic Us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inblastine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used in testicular carcinoma, Hodgkin’s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Vincristin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used in the treatment of acute leukemia in children, Wilm’s tumor, and Hodgkin’s and non-Hodgkin’s lymphom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Adverse Effect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mon adverse effects for both drugs include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ellulitis or phlebiti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f the drugs extra vasate during inje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usea, vomiting, diarrhea, and alope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oxicity of Vinblastine &amp; Vincristine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35760" y="2438280"/>
            <a:ext cx="31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inblastine 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476960" y="2446200"/>
            <a:ext cx="380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Myelo-supress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04920" y="4343400"/>
            <a:ext cx="297180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Vincristine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OT myelosuppressan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701880" y="3962520"/>
            <a:ext cx="51055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Peripheral neuropathy: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pressed deep tendon reflex, paresthesia, foot drop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Comic Sans MS"/>
              </a:rPr>
              <a:t>Taxan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terferes with cell division by keeping the spindles from being broken down (freez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clitaxel (Taxol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hows good activity agains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tastatic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reast canc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 advance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varian canc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de effects;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eutropenia ‼, peripheral neuropat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Filgrastim ( granulocyte colony stimulating facto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1.bp.blogspot.com/_rgEdAv437-8/TKs3u4OwjpI/AAAAAAAAAFg/E5GGqQCodbc/s1600/pic4.JPG"/>
          <p:cNvPicPr/>
          <p:nvPr/>
        </p:nvPicPr>
        <p:blipFill>
          <a:blip r:embed="rId1"/>
          <a:stretch/>
        </p:blipFill>
        <p:spPr>
          <a:xfrm>
            <a:off x="-380880" y="-609480"/>
            <a:ext cx="10820160" cy="7467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ssiouni</dc:creator>
  <dc:description/>
  <dc:language>en-US</dc:language>
  <cp:lastModifiedBy>User</cp:lastModifiedBy>
  <dcterms:modified xsi:type="dcterms:W3CDTF">2015-02-24T04:51:07Z</dcterms:modified>
  <cp:revision>3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