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674-1E82-420E-B4A3-B587ACC7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045-82AD-48F2-9D95-5EBE42EC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099-D892-4113-BFB0-31B48C9A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C03-345A-4B95-B7EE-B48F108B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2F9-6E76-46D8-BC95-AB87DEF4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6C6-CFE5-4BAB-BCF7-124F10EF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F41-0715-48CD-9E29-4E5F9A48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6A95-F1B8-4B38-97E8-2821206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493-552A-4B5C-AE9A-81082543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6B48-DBFA-4ECE-9159-D357C171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DB4-AF08-4D89-BB4E-6B8588DE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DBC-C5DE-4CD6-BED2-221A72F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19B-FCB5-467E-A48F-EC455A536D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7&amp;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 Microb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iable count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ye reduc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rect microscopic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000160" y="500040"/>
            <a:ext cx="5548320" cy="4932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1785960" y="428760"/>
            <a:ext cx="6500880" cy="328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2960" y="1357200"/>
            <a:ext cx="77868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untabl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st accurate No of counted organism on 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lt; 20   - not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 200 - too hard to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5"/>
          <p:cNvSpPr/>
          <p:nvPr/>
        </p:nvSpPr>
        <p:spPr>
          <a:xfrm>
            <a:off x="2071800" y="5214960"/>
            <a:ext cx="428400" cy="14292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7"/>
          <p:cNvSpPr/>
          <p:nvPr/>
        </p:nvSpPr>
        <p:spPr>
          <a:xfrm>
            <a:off x="4214880" y="5143680"/>
            <a:ext cx="357120" cy="214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5857920" y="5143680"/>
            <a:ext cx="357120" cy="2142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255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able count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see cell morph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 viable cell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 to different types of samples( milk, milk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ke lo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of tubes , ted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e reduction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 quick test for determination of microbial load of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Use Methylene blue or resazurin dy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dd 0.5ml of dye to 5ml of milk, incubate 1 hr at 36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f there is change in color , it means high bact. Load  It is not good quality milk, shorten expiration d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f no change in color (still blue), low bact. Load  , good quality milk , expand expiration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A long history of use in the dairy industry, especially to measure microbial quality from raw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e reduction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214280"/>
            <a:ext cx="4040280" cy="96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857240"/>
            <a:ext cx="40402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Simple, rapid, and in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Only viable cells actively reduce the d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4720" y="1857240"/>
            <a:ext cx="40417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Not all organisms reduce the dyes eq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Not applicable to food specimens that contain reductive enzy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ordia New"/>
              </a:rPr>
              <a:t>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r" rtl="1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 microscopic 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21392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Deliver 0.01 ml of milk on slide ,air d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Stain with LW (Levowitz- Weber )stain for 10 m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Count bacterial clumps with the microsco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Reading resul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Bacterial clump: dark 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Protein, Leucocytes and somatic cells :light blue backgrou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Fat globules : color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ordia New"/>
              </a:rPr>
              <a:t>Dirt: br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* clump : is one cell or group of cells of same type separated by a distance from other clumps or ce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* No of somatic cells provide a measure of presence and extent of mastitis of udd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286000" y="255096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صورة 1" descr=""/>
          <p:cNvPicPr/>
          <p:nvPr/>
        </p:nvPicPr>
        <p:blipFill>
          <a:blip r:embed="rId1"/>
          <a:stretch/>
        </p:blipFill>
        <p:spPr>
          <a:xfrm>
            <a:off x="6440400" y="2521080"/>
            <a:ext cx="22748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Direct Microscopic Co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39974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2571480"/>
            <a:ext cx="403992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It is rapid and si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Cell morphology can be determ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Can see whole picture of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32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ordia New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4720" y="2500200"/>
            <a:ext cx="404172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Results depends on each analy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Both viable and nonviable are cou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ordia New"/>
              </a:rPr>
              <a:t>Some bact. may not take the stain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Diary Product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 Safety issue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breaks have been associated with cream, che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Salmonella serovar Zanzibar in goat milk che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. monocytogenes in Mexican-style che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ella and S. aureus sometimes die off during chee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antagonistic activity by starters, salt and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outbreaks associated with yog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lk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lk is a highly nutritious media for 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poil eas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ly milk may have few organisms , but bacteria  can enter milk during milking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rigeration improved milk industry, but still other improvements needed  to be  done to reduce No’s of non pathogenic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 pathogens in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ir borne contaminant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Pseudomonas, Flavobacterium, Alcaligenes ,Some coliforms, micrococcus, fung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sychrotroph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:more detrimental to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y are able to grow at 5°c and less and make up a large numb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microbes in milk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they are natural soil inhabitants and wide spread in environment esp.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oil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refrigerated milk consists usually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itter, rancid, fruity flavo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ilage of milk at room  temp. consists usually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iry products and typical type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ilage microorganis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57120" y="1714680"/>
          <a:ext cx="8456760" cy="4457520"/>
        </p:xfrm>
        <a:graphic>
          <a:graphicData uri="http://schemas.openxmlformats.org/drawingml/2006/table">
            <a:tbl>
              <a:tblPr/>
              <a:tblGrid>
                <a:gridCol w="3444840"/>
                <a:gridCol w="5011920"/>
              </a:tblGrid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w 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wide variety of different micro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teurized 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spore fo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ted mi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e-forming bacteria, osmophilic fun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ltured buttermilk, sour cr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coliforms, yeasts, lactic acid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tage 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coliforms, yeasts, m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gurt, yogurt-based drin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m cheese, processed che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gi, spore-forming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, fresh che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rotrophs, coliforms, fungi, lactic acid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pened che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gi, lactic acid bacteria, spore-forming bacte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fermented dairy fo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gi, colifo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urces of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Pathoge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in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imal itsel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Mycobacterium bovis, Brucella species, Coxiella burneti ,Campylobacter s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Salmonella, Shige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viron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Bacillus anthracis, Clostridium perfringens, Clostridium botulin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urization of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TL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: Low temp. Long time 63°c  30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HT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High  temp. Short time72°c  15 sec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H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: Ultra high temp.,130-135 °c 1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steuriz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lls and removes all pathogens(10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lls most non pathogens (99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ing organisms are spore formers, thermoduric and thermophilic organism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urization of 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on thermoduric organis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cillus, Micrococci, Lactococci, Arthrob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crobacteria, Coryne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steurization provide a product with average shelf life 7-10 days( LTLT-HT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nd numbers of bacteria  in milk depend on the microbial load before pasteu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urization of mi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f non pathogens in raw milk is 500,000 to 3,000,000 organisms/ml of mi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No of non pathogens in pasteurized milk is 2,000 to 20,000 organisms /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method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 count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non pathoge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ilk such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able count( pour plate meth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ye reduction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rect (clump) microscopic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able count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ur plate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 1ml of milk to 9ml of sterile saline tube( 10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mix and  transfer 1ml diluted milk from tube 1 to tube 2 ( 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 1ml of milk to an empty Petri dish ,1ml of diluted milk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⁻¹ , 10⁻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empty Petri dishe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ur 9ml of molten nutrient agar to each Petri dish, mix we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ve to solidify, then incubate at 37°c  48 h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 No of colonies and multiply by dilution factor to determine No of viable non pathogens o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late containing more than 300  colonies should not counted, plate with more dilution is counted inste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9T08:09:23Z</dcterms:created>
  <dc:creator>ksu</dc:creator>
  <dc:description/>
  <dc:language>en-US</dc:language>
  <cp:lastModifiedBy>Welcome</cp:lastModifiedBy>
  <dcterms:modified xsi:type="dcterms:W3CDTF">2016-09-02T23:01:36Z</dcterms:modified>
  <cp:revision>50</cp:revision>
  <dc:subject/>
  <dc:title>Milk microbiology</dc:title>
</cp:coreProperties>
</file>