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E7FF-4DF3-423D-BB2B-D71F74A51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507-B248-4C82-85A0-E83E87FE1745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nergy does not increase regularly 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lications with spin  V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neral properties = f(structure + chemistry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But not independent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structure = f(chem, T, P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mpositions are conventionally given a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t% oxid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unless sulfides, halides, etc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'd prefe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mo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% actually, but inherited this syste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fference between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 = Mg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= 51.5% 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48.5% Mg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7720" y="285480"/>
            <a:ext cx="3903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201" name="Group 101"/>
          <p:cNvGrpSpPr/>
          <p:nvPr/>
        </p:nvGrpSpPr>
        <p:grpSpPr>
          <a:xfrm>
            <a:off x="1887480" y="3813120"/>
            <a:ext cx="2693880" cy="2887560"/>
            <a:chOff x="1887480" y="3813120"/>
            <a:chExt cx="2693880" cy="2887560"/>
          </a:xfrm>
        </p:grpSpPr>
        <p:pic>
          <p:nvPicPr>
            <p:cNvPr id="202" name="Picture 32" descr=""/>
            <p:cNvPicPr/>
            <p:nvPr/>
          </p:nvPicPr>
          <p:blipFill>
            <a:blip r:embed="rId1"/>
            <a:srcRect l="21393" t="0" r="22679" b="0"/>
            <a:stretch/>
          </p:blipFill>
          <p:spPr>
            <a:xfrm>
              <a:off x="1887480" y="3865320"/>
              <a:ext cx="269388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13"/>
            <p:cNvSpPr/>
            <p:nvPr/>
          </p:nvSpPr>
          <p:spPr>
            <a:xfrm flipH="1">
              <a:off x="2001600" y="5533920"/>
              <a:ext cx="577800" cy="222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1995480" y="56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 flipV="1">
              <a:off x="4073040" y="5427720"/>
              <a:ext cx="452520" cy="126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4200840" y="5438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 flipH="1" flipV="1">
              <a:off x="3230640" y="4125600"/>
              <a:ext cx="936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2335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 flipH="1" flipV="1">
              <a:off x="3290400" y="5536800"/>
              <a:ext cx="972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 flipH="1">
              <a:off x="4044960" y="4686120"/>
              <a:ext cx="395280" cy="15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 flipH="1" flipV="1">
              <a:off x="1925280" y="4770000"/>
              <a:ext cx="452520" cy="127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12" name="Group 81"/>
            <p:cNvGrpSpPr/>
            <p:nvPr/>
          </p:nvGrpSpPr>
          <p:grpSpPr>
            <a:xfrm>
              <a:off x="1901160" y="3813120"/>
              <a:ext cx="1055880" cy="696240"/>
              <a:chOff x="1901160" y="3813120"/>
              <a:chExt cx="1055880" cy="696240"/>
            </a:xfrm>
          </p:grpSpPr>
          <p:sp>
            <p:nvSpPr>
              <p:cNvPr id="213" name="Text Box 79"/>
              <p:cNvSpPr/>
              <p:nvPr/>
            </p:nvSpPr>
            <p:spPr>
              <a:xfrm>
                <a:off x="1901160" y="3813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14" name="Text Box 80"/>
              <p:cNvSpPr/>
              <p:nvPr/>
            </p:nvSpPr>
            <p:spPr>
              <a:xfrm>
                <a:off x="2192400" y="4049640"/>
                <a:ext cx="76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-y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Group 100"/>
          <p:cNvGrpSpPr/>
          <p:nvPr/>
        </p:nvGrpSpPr>
        <p:grpSpPr>
          <a:xfrm>
            <a:off x="37440" y="717480"/>
            <a:ext cx="2985120" cy="2998800"/>
            <a:chOff x="37440" y="717480"/>
            <a:chExt cx="2985120" cy="2998800"/>
          </a:xfrm>
        </p:grpSpPr>
        <p:pic>
          <p:nvPicPr>
            <p:cNvPr id="216" name="Picture 38" descr=""/>
            <p:cNvPicPr/>
            <p:nvPr/>
          </p:nvPicPr>
          <p:blipFill>
            <a:blip r:embed="rId2"/>
            <a:srcRect l="19054" t="0" r="19779" b="0"/>
            <a:stretch/>
          </p:blipFill>
          <p:spPr>
            <a:xfrm>
              <a:off x="75960" y="880920"/>
              <a:ext cx="294660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Line 39"/>
            <p:cNvSpPr/>
            <p:nvPr/>
          </p:nvSpPr>
          <p:spPr>
            <a:xfrm flipH="1" flipV="1">
              <a:off x="1531440" y="1027080"/>
              <a:ext cx="17640" cy="620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1534680" y="71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V="1">
              <a:off x="1550880" y="3174480"/>
              <a:ext cx="0" cy="343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 flipH="1" flipV="1">
              <a:off x="2106000" y="2338200"/>
              <a:ext cx="58284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414520" y="24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 flipH="1" flipV="1">
              <a:off x="469440" y="1828440"/>
              <a:ext cx="219240" cy="5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 flipH="1">
              <a:off x="415800" y="2278080"/>
              <a:ext cx="10461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Text Box 46"/>
            <p:cNvSpPr/>
            <p:nvPr/>
          </p:nvSpPr>
          <p:spPr>
            <a:xfrm>
              <a:off x="409680" y="265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 flipH="1">
              <a:off x="2458800" y="1665360"/>
              <a:ext cx="395280" cy="152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26" name="Group 82"/>
            <p:cNvGrpSpPr/>
            <p:nvPr/>
          </p:nvGrpSpPr>
          <p:grpSpPr>
            <a:xfrm>
              <a:off x="37440" y="801720"/>
              <a:ext cx="746640" cy="696240"/>
              <a:chOff x="37440" y="801720"/>
              <a:chExt cx="746640" cy="696240"/>
            </a:xfrm>
          </p:grpSpPr>
          <p:sp>
            <p:nvSpPr>
              <p:cNvPr id="227" name="Text Box 83"/>
              <p:cNvSpPr/>
              <p:nvPr/>
            </p:nvSpPr>
            <p:spPr>
              <a:xfrm>
                <a:off x="37440" y="801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28" name="Text Box 84"/>
              <p:cNvSpPr/>
              <p:nvPr/>
            </p:nvSpPr>
            <p:spPr>
              <a:xfrm>
                <a:off x="315360" y="103824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Group 99"/>
          <p:cNvGrpSpPr/>
          <p:nvPr/>
        </p:nvGrpSpPr>
        <p:grpSpPr>
          <a:xfrm>
            <a:off x="3048120" y="866880"/>
            <a:ext cx="3006720" cy="2849040"/>
            <a:chOff x="3048120" y="866880"/>
            <a:chExt cx="3006720" cy="2849040"/>
          </a:xfrm>
        </p:grpSpPr>
        <p:pic>
          <p:nvPicPr>
            <p:cNvPr id="230" name="Picture 48" descr=""/>
            <p:cNvPicPr/>
            <p:nvPr/>
          </p:nvPicPr>
          <p:blipFill>
            <a:blip r:embed="rId3"/>
            <a:srcRect l="19218" t="0" r="18358" b="0"/>
            <a:stretch/>
          </p:blipFill>
          <p:spPr>
            <a:xfrm>
              <a:off x="3048120" y="880920"/>
              <a:ext cx="300672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49"/>
            <p:cNvSpPr/>
            <p:nvPr/>
          </p:nvSpPr>
          <p:spPr>
            <a:xfrm flipV="1">
              <a:off x="4526280" y="1177560"/>
              <a:ext cx="50760" cy="682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Text Box 50"/>
            <p:cNvSpPr/>
            <p:nvPr/>
          </p:nvSpPr>
          <p:spPr>
            <a:xfrm>
              <a:off x="4709880" y="903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Line 51"/>
            <p:cNvSpPr/>
            <p:nvPr/>
          </p:nvSpPr>
          <p:spPr>
            <a:xfrm flipV="1">
              <a:off x="4364280" y="3087720"/>
              <a:ext cx="42840" cy="515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Line 52"/>
            <p:cNvSpPr/>
            <p:nvPr/>
          </p:nvSpPr>
          <p:spPr>
            <a:xfrm flipH="1">
              <a:off x="3289680" y="2465280"/>
              <a:ext cx="785520" cy="24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Text Box 53"/>
            <p:cNvSpPr/>
            <p:nvPr/>
          </p:nvSpPr>
          <p:spPr>
            <a:xfrm>
              <a:off x="3343680" y="269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Line 54"/>
            <p:cNvSpPr/>
            <p:nvPr/>
          </p:nvSpPr>
          <p:spPr>
            <a:xfrm flipH="1">
              <a:off x="5565960" y="1895400"/>
              <a:ext cx="395280" cy="117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 flipH="1" flipV="1">
              <a:off x="5023080" y="2490480"/>
              <a:ext cx="582480" cy="212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Text Box 56"/>
            <p:cNvSpPr/>
            <p:nvPr/>
          </p:nvSpPr>
          <p:spPr>
            <a:xfrm>
              <a:off x="5539320" y="262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 flipH="1" flipV="1">
              <a:off x="3221280" y="1866240"/>
              <a:ext cx="263520" cy="83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40" name="Group 86"/>
            <p:cNvGrpSpPr/>
            <p:nvPr/>
          </p:nvGrpSpPr>
          <p:grpSpPr>
            <a:xfrm>
              <a:off x="3084120" y="866880"/>
              <a:ext cx="763920" cy="695880"/>
              <a:chOff x="3084120" y="866880"/>
              <a:chExt cx="763920" cy="695880"/>
            </a:xfrm>
          </p:grpSpPr>
          <p:sp>
            <p:nvSpPr>
              <p:cNvPr id="241" name="Text Box 87"/>
              <p:cNvSpPr/>
              <p:nvPr/>
            </p:nvSpPr>
            <p:spPr>
              <a:xfrm>
                <a:off x="3084120" y="866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42" name="Text Box 88"/>
              <p:cNvSpPr/>
              <p:nvPr/>
            </p:nvSpPr>
            <p:spPr>
              <a:xfrm>
                <a:off x="3362400" y="11030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02"/>
          <p:cNvGrpSpPr/>
          <p:nvPr/>
        </p:nvGrpSpPr>
        <p:grpSpPr>
          <a:xfrm>
            <a:off x="6080040" y="888840"/>
            <a:ext cx="3016440" cy="2827080"/>
            <a:chOff x="6080040" y="888840"/>
            <a:chExt cx="3016440" cy="2827080"/>
          </a:xfrm>
        </p:grpSpPr>
        <p:pic>
          <p:nvPicPr>
            <p:cNvPr id="244" name="Picture 96" descr=""/>
            <p:cNvPicPr/>
            <p:nvPr/>
          </p:nvPicPr>
          <p:blipFill>
            <a:blip r:embed="rId4"/>
            <a:srcRect l="19943" t="4672" r="17439" b="7618"/>
            <a:stretch/>
          </p:blipFill>
          <p:spPr>
            <a:xfrm>
              <a:off x="6080040" y="888840"/>
              <a:ext cx="301644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59"/>
            <p:cNvSpPr/>
            <p:nvPr/>
          </p:nvSpPr>
          <p:spPr>
            <a:xfrm flipH="1" flipV="1">
              <a:off x="7611840" y="2326680"/>
              <a:ext cx="1058760" cy="455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8671320" y="269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 flipH="1" flipV="1">
              <a:off x="6302160" y="161532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H="1">
              <a:off x="6407280" y="2369880"/>
              <a:ext cx="681120" cy="277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229440" y="260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Line 64"/>
            <p:cNvSpPr/>
            <p:nvPr/>
          </p:nvSpPr>
          <p:spPr>
            <a:xfrm flipH="1">
              <a:off x="8475840" y="1706400"/>
              <a:ext cx="395280" cy="142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Line 66"/>
            <p:cNvSpPr/>
            <p:nvPr/>
          </p:nvSpPr>
          <p:spPr>
            <a:xfrm flipV="1">
              <a:off x="7454880" y="1021680"/>
              <a:ext cx="15840" cy="476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7144920" y="920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V="1">
              <a:off x="7423200" y="3304800"/>
              <a:ext cx="0" cy="393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54" name="Group 90"/>
            <p:cNvGrpSpPr/>
            <p:nvPr/>
          </p:nvGrpSpPr>
          <p:grpSpPr>
            <a:xfrm>
              <a:off x="6098760" y="937800"/>
              <a:ext cx="746640" cy="696240"/>
              <a:chOff x="6098760" y="937800"/>
              <a:chExt cx="746640" cy="696240"/>
            </a:xfrm>
          </p:grpSpPr>
          <p:sp>
            <p:nvSpPr>
              <p:cNvPr id="255" name="Text Box 91"/>
              <p:cNvSpPr/>
              <p:nvPr/>
            </p:nvSpPr>
            <p:spPr>
              <a:xfrm>
                <a:off x="6098760" y="937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56" name="Text Box 92"/>
              <p:cNvSpPr/>
              <p:nvPr/>
            </p:nvSpPr>
            <p:spPr>
              <a:xfrm>
                <a:off x="6376680" y="1174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3"/>
          <p:cNvGrpSpPr/>
          <p:nvPr/>
        </p:nvGrpSpPr>
        <p:grpSpPr>
          <a:xfrm>
            <a:off x="5050800" y="3735360"/>
            <a:ext cx="2927880" cy="2995560"/>
            <a:chOff x="5050800" y="3735360"/>
            <a:chExt cx="2927880" cy="2995560"/>
          </a:xfrm>
        </p:grpSpPr>
        <p:pic>
          <p:nvPicPr>
            <p:cNvPr id="258" name="Picture 69" descr=""/>
            <p:cNvPicPr/>
            <p:nvPr/>
          </p:nvPicPr>
          <p:blipFill>
            <a:blip r:embed="rId5"/>
            <a:srcRect l="20339" t="-4304" r="18889" b="-1333"/>
            <a:stretch/>
          </p:blipFill>
          <p:spPr>
            <a:xfrm>
              <a:off x="5051160" y="3735360"/>
              <a:ext cx="2927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71"/>
            <p:cNvSpPr/>
            <p:nvPr/>
          </p:nvSpPr>
          <p:spPr>
            <a:xfrm>
              <a:off x="61081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 flipH="1" flipV="1">
              <a:off x="6432480" y="3846600"/>
              <a:ext cx="1440" cy="334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Line 72"/>
            <p:cNvSpPr/>
            <p:nvPr/>
          </p:nvSpPr>
          <p:spPr>
            <a:xfrm>
              <a:off x="6514920" y="6367320"/>
              <a:ext cx="7920" cy="363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Line 73"/>
            <p:cNvSpPr/>
            <p:nvPr/>
          </p:nvSpPr>
          <p:spPr>
            <a:xfrm flipH="1">
              <a:off x="5135040" y="5470560"/>
              <a:ext cx="490680" cy="198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Text Box 74"/>
            <p:cNvSpPr/>
            <p:nvPr/>
          </p:nvSpPr>
          <p:spPr>
            <a:xfrm>
              <a:off x="512136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7167240" y="4797360"/>
              <a:ext cx="39528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Line 76"/>
            <p:cNvSpPr/>
            <p:nvPr/>
          </p:nvSpPr>
          <p:spPr>
            <a:xfrm flipH="1" flipV="1">
              <a:off x="7187760" y="5464080"/>
              <a:ext cx="409320" cy="169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Text Box 77"/>
            <p:cNvSpPr/>
            <p:nvPr/>
          </p:nvSpPr>
          <p:spPr>
            <a:xfrm>
              <a:off x="7539120" y="556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Line 78"/>
            <p:cNvSpPr/>
            <p:nvPr/>
          </p:nvSpPr>
          <p:spPr>
            <a:xfrm flipH="1" flipV="1">
              <a:off x="5409720" y="489060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68" name="Group 93"/>
            <p:cNvGrpSpPr/>
            <p:nvPr/>
          </p:nvGrpSpPr>
          <p:grpSpPr>
            <a:xfrm>
              <a:off x="5050800" y="3882960"/>
              <a:ext cx="689400" cy="696240"/>
              <a:chOff x="5050800" y="3882960"/>
              <a:chExt cx="689400" cy="696240"/>
            </a:xfrm>
          </p:grpSpPr>
          <p:sp>
            <p:nvSpPr>
              <p:cNvPr id="269" name="Text Box 94"/>
              <p:cNvSpPr/>
              <p:nvPr/>
            </p:nvSpPr>
            <p:spPr>
              <a:xfrm>
                <a:off x="5050800" y="38829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70" name="Text Box 95"/>
              <p:cNvSpPr/>
              <p:nvPr/>
            </p:nvSpPr>
            <p:spPr>
              <a:xfrm>
                <a:off x="5335200" y="41194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475240" y="515880"/>
            <a:ext cx="29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ble 3.6 p. 51-52 shows the progressive filling of orbitals as energy increas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208080" y="934920"/>
            <a:ext cx="8830800" cy="5792400"/>
            <a:chOff x="208080" y="934920"/>
            <a:chExt cx="8830800" cy="5792400"/>
          </a:xfrm>
        </p:grpSpPr>
        <p:sp>
          <p:nvSpPr>
            <p:cNvPr id="275" name="Rectangle 5"/>
            <p:cNvSpPr/>
            <p:nvPr/>
          </p:nvSpPr>
          <p:spPr>
            <a:xfrm>
              <a:off x="208080" y="934920"/>
              <a:ext cx="8830800" cy="5792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276" name="Picture 4" descr="ptable"/>
            <p:cNvPicPr/>
            <p:nvPr/>
          </p:nvPicPr>
          <p:blipFill>
            <a:blip r:embed="rId1"/>
            <a:stretch/>
          </p:blipFill>
          <p:spPr>
            <a:xfrm>
              <a:off x="241560" y="1001160"/>
              <a:ext cx="8432280" cy="560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5160" y="587160"/>
            <a:ext cx="855972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otation:  Al = 1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oms may not look like thi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t's only a mode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it's a pretty good on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e'll see that these subshell shapes explain a lot of macroscopic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racteristics of an atom depend a lot on 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configuratio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is results in part from # p &amp; electrical neutrality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atoms with a different # of p &amp; e, but with similar e-configurations have similar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9400" y="587160"/>
            <a:ext cx="874548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t is the outermost shell o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s that are fundamenta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ilar outermost shell configurations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the Periodic Table (Table 4.8 p.188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lkali met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Ia) have a lonely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outer shell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haloge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a) have 7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ert gase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Ia) have 8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 magic #... filled s &amp; p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He only has  s  with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2000" y="379440"/>
            <a:ext cx="868356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ther elements try to gain this stable inert gas config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have one extra (alkalis) will readily lose it if it can find another way to attain charge bala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results in an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ith a +1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oup II metals will lose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+2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logens will capture a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ert gas config.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-1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ization Potenti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T 3.7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Electronegativit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s the ability of an at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 a cryst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to attract electrons into its outer shel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general, electronegativity  increas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xcept for inert gases which are very low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513160" y="5472000"/>
            <a:ext cx="96984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2513160" y="5627160"/>
            <a:ext cx="0" cy="75420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2000" y="587520"/>
            <a:ext cx="865836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lements are classified a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/ e-neg &lt; 1.9 thus los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at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&gt; 2.1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us gai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n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Metalloid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termediate (B, Si, Ge, As, Sb, Te, Po.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83" name="Picture 6" descr="periodic"/>
          <p:cNvPicPr/>
          <p:nvPr/>
        </p:nvPicPr>
        <p:blipFill>
          <a:blip r:embed="rId1"/>
          <a:stretch/>
        </p:blipFill>
        <p:spPr>
          <a:xfrm>
            <a:off x="1666800" y="2911320"/>
            <a:ext cx="608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107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7280" y="785520"/>
            <a:ext cx="873432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ectrical in nature- responsible for most mineral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)  Ionic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: low 1st IP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N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Ne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:  high e-neg takes e- &amp; = Cl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Ar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they have opposite charges &amp; attract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really a very unequal sharin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onding is strong (high melting point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t easily disrupted by polarized solvents (water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or electrical conductors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rength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/bond length) &amp;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-direction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more later), so symm. is a packing function and thus rather high (isometric common)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e-neg of 2 atoms differs by 2.0 or more will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onic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06200" y="785880"/>
            <a:ext cx="893304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)  Coval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ider 2 Cl atoms each trying to steal each other's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=  1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 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n't do, but if draw close until overlap an outer orbital, perhaps can share whereby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"fill" the remaining 3p shell of each C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tually fill it only 1/2 the time for each, but better than noth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 this compulsion to stay overlapped &amp; share results in a strong bo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l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is the covalent or shared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 (the Socialist bond)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uble bonds when 2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iple bonds when 3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99960" y="785880"/>
            <a:ext cx="863928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1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19162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258300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32670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3" name="Line 30"/>
          <p:cNvSpPr/>
          <p:nvPr/>
        </p:nvSpPr>
        <p:spPr>
          <a:xfrm>
            <a:off x="557856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625464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Line 34"/>
          <p:cNvSpPr/>
          <p:nvPr/>
        </p:nvSpPr>
        <p:spPr>
          <a:xfrm>
            <a:off x="68184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735480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796932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8" name="Group 69"/>
          <p:cNvGrpSpPr/>
          <p:nvPr/>
        </p:nvGrpSpPr>
        <p:grpSpPr>
          <a:xfrm>
            <a:off x="395280" y="2509920"/>
            <a:ext cx="8443800" cy="3921120"/>
            <a:chOff x="395280" y="2509920"/>
            <a:chExt cx="8443800" cy="3921120"/>
          </a:xfrm>
        </p:grpSpPr>
        <p:pic>
          <p:nvPicPr>
            <p:cNvPr id="299" name="Picture 46" descr="sp3"/>
            <p:cNvPicPr/>
            <p:nvPr/>
          </p:nvPicPr>
          <p:blipFill>
            <a:blip r:embed="rId1"/>
            <a:srcRect l="6500" t="4745" r="0" b="31860"/>
            <a:stretch/>
          </p:blipFill>
          <p:spPr>
            <a:xfrm>
              <a:off x="395280" y="2509920"/>
              <a:ext cx="8443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7"/>
            <p:cNvSpPr/>
            <p:nvPr/>
          </p:nvSpPr>
          <p:spPr>
            <a:xfrm>
              <a:off x="1290600" y="6164280"/>
              <a:ext cx="7174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866880" y="516888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2" name="Rectangle 49"/>
            <p:cNvSpPr/>
            <p:nvPr/>
          </p:nvSpPr>
          <p:spPr>
            <a:xfrm>
              <a:off x="4591080" y="60357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8271000" y="28749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304" name="Picture 51" descr=""/>
            <p:cNvPicPr/>
            <p:nvPr/>
          </p:nvPicPr>
          <p:blipFill>
            <a:blip r:embed="rId2"/>
            <a:stretch/>
          </p:blipFill>
          <p:spPr>
            <a:xfrm>
              <a:off x="5580000" y="335592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2" descr=""/>
            <p:cNvPicPr/>
            <p:nvPr/>
          </p:nvPicPr>
          <p:blipFill>
            <a:blip r:embed="rId3"/>
            <a:stretch/>
          </p:blipFill>
          <p:spPr>
            <a:xfrm>
              <a:off x="5199120" y="2608200"/>
              <a:ext cx="2887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4" descr=""/>
            <p:cNvPicPr/>
            <p:nvPr/>
          </p:nvPicPr>
          <p:blipFill>
            <a:blip r:embed="rId4"/>
            <a:stretch/>
          </p:blipFill>
          <p:spPr>
            <a:xfrm>
              <a:off x="4254480" y="2954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5" descr=""/>
            <p:cNvPicPr/>
            <p:nvPr/>
          </p:nvPicPr>
          <p:blipFill>
            <a:blip r:embed="rId5"/>
            <a:stretch/>
          </p:blipFill>
          <p:spPr>
            <a:xfrm>
              <a:off x="4254480" y="580248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6" descr=""/>
            <p:cNvPicPr/>
            <p:nvPr/>
          </p:nvPicPr>
          <p:blipFill>
            <a:blip r:embed="rId6"/>
            <a:stretch/>
          </p:blipFill>
          <p:spPr>
            <a:xfrm>
              <a:off x="6956280" y="586260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7" descr=""/>
            <p:cNvPicPr/>
            <p:nvPr/>
          </p:nvPicPr>
          <p:blipFill>
            <a:blip r:embed="rId7"/>
            <a:stretch/>
          </p:blipFill>
          <p:spPr>
            <a:xfrm>
              <a:off x="7908840" y="5456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8" descr=""/>
            <p:cNvPicPr/>
            <p:nvPr/>
          </p:nvPicPr>
          <p:blipFill>
            <a:blip r:embed="rId8"/>
            <a:stretch/>
          </p:blipFill>
          <p:spPr>
            <a:xfrm>
              <a:off x="7873920" y="261612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9" descr=""/>
            <p:cNvPicPr/>
            <p:nvPr/>
          </p:nvPicPr>
          <p:blipFill>
            <a:blip r:embed="rId9"/>
            <a:stretch/>
          </p:blipFill>
          <p:spPr>
            <a:xfrm>
              <a:off x="6956280" y="301464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60" descr=""/>
            <p:cNvPicPr/>
            <p:nvPr/>
          </p:nvPicPr>
          <p:blipFill>
            <a:blip r:embed="rId10"/>
            <a:stretch/>
          </p:blipFill>
          <p:spPr>
            <a:xfrm>
              <a:off x="6039000" y="2798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1" descr=""/>
            <p:cNvPicPr/>
            <p:nvPr/>
          </p:nvPicPr>
          <p:blipFill>
            <a:blip r:embed="rId11"/>
            <a:stretch/>
          </p:blipFill>
          <p:spPr>
            <a:xfrm>
              <a:off x="471312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2" descr=""/>
            <p:cNvPicPr/>
            <p:nvPr/>
          </p:nvPicPr>
          <p:blipFill>
            <a:blip r:embed="rId12"/>
            <a:stretch/>
          </p:blipFill>
          <p:spPr>
            <a:xfrm>
              <a:off x="6012000" y="563868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63" descr=""/>
            <p:cNvPicPr/>
            <p:nvPr/>
          </p:nvPicPr>
          <p:blipFill>
            <a:blip r:embed="rId13"/>
            <a:stretch/>
          </p:blipFill>
          <p:spPr>
            <a:xfrm>
              <a:off x="743256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64" descr=""/>
            <p:cNvPicPr/>
            <p:nvPr/>
          </p:nvPicPr>
          <p:blipFill>
            <a:blip r:embed="rId14"/>
            <a:stretch/>
          </p:blipFill>
          <p:spPr>
            <a:xfrm>
              <a:off x="5605560" y="4400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65" descr=""/>
            <p:cNvPicPr/>
            <p:nvPr/>
          </p:nvPicPr>
          <p:blipFill>
            <a:blip r:embed="rId15"/>
            <a:stretch/>
          </p:blipFill>
          <p:spPr>
            <a:xfrm>
              <a:off x="5137200" y="54482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6" descr=""/>
            <p:cNvPicPr/>
            <p:nvPr/>
          </p:nvPicPr>
          <p:blipFill>
            <a:blip r:embed="rId16"/>
            <a:stretch/>
          </p:blipFill>
          <p:spPr>
            <a:xfrm>
              <a:off x="5138640" y="496728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7" descr=""/>
            <p:cNvPicPr/>
            <p:nvPr/>
          </p:nvPicPr>
          <p:blipFill>
            <a:blip r:embed="rId17"/>
            <a:stretch/>
          </p:blipFill>
          <p:spPr>
            <a:xfrm>
              <a:off x="7035840" y="4829040"/>
              <a:ext cx="32364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68" descr=""/>
            <p:cNvPicPr/>
            <p:nvPr/>
          </p:nvPicPr>
          <p:blipFill>
            <a:blip r:embed="rId18"/>
            <a:stretch/>
          </p:blipFill>
          <p:spPr>
            <a:xfrm>
              <a:off x="6480000" y="3693960"/>
              <a:ext cx="3240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0"/>
          <p:cNvSpPr/>
          <p:nvPr/>
        </p:nvSpPr>
        <p:spPr>
          <a:xfrm>
            <a:off x="1242360" y="5683320"/>
            <a:ext cx="25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-C angle = 1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’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80376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43498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4" name="Text Box 77"/>
          <p:cNvSpPr/>
          <p:nvPr/>
        </p:nvSpPr>
        <p:spPr>
          <a:xfrm>
            <a:off x="522360" y="255888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omework Problem Handou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)  2 Pyroxene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vert wt% oxides to formula.  COOKBOOK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)  Unit cell dimensions &amp; density of olivin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lculate the Unit Cell Conte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mber ducky/fishy?  Z= # of motifs/u.c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motif = some "molecule"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method of Scientific Analysis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9960" y="785880"/>
            <a:ext cx="8639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is tetrahedrally shaped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energy is identical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rger overlap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strong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irectional: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each C is tetrahedrally coordinated with 4 others (&amp; each of them with 4 others...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-C-C bond angle fixed at 109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28' (max. overla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Face-centered Cubic latti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directional character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lower coordination &amp; symmetry, den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ternatively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1s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        2p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 most organic chemists know, C is a flexible ele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, many atoms in the center of the Periodic Table with partially filled valence shells are variable in how they attain stability (this includes Si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0667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73384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1784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721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39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98832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756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9988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578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82072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99960" y="785880"/>
            <a:ext cx="863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289160" y="2216160"/>
            <a:ext cx="7281720" cy="4349880"/>
            <a:chOff x="1289160" y="2216160"/>
            <a:chExt cx="7281720" cy="4349880"/>
          </a:xfrm>
        </p:grpSpPr>
        <p:pic>
          <p:nvPicPr>
            <p:cNvPr id="342" name="Picture 5" descr="sp2"/>
            <p:cNvPicPr/>
            <p:nvPr/>
          </p:nvPicPr>
          <p:blipFill>
            <a:blip r:embed="rId1"/>
            <a:srcRect l="3896" t="5493" r="0" b="2714"/>
            <a:stretch/>
          </p:blipFill>
          <p:spPr>
            <a:xfrm>
              <a:off x="1289160" y="2216160"/>
              <a:ext cx="728172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6"/>
            <p:cNvSpPr/>
            <p:nvPr/>
          </p:nvSpPr>
          <p:spPr>
            <a:xfrm>
              <a:off x="1714680" y="2216160"/>
              <a:ext cx="22255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1878120" y="5211720"/>
              <a:ext cx="32868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62640" y="6224760"/>
              <a:ext cx="3283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346" name="Text Box 9"/>
          <p:cNvSpPr/>
          <p:nvPr/>
        </p:nvSpPr>
        <p:spPr>
          <a:xfrm>
            <a:off x="1378080" y="230832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verlap similar to diamond w/in sheets (strong too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Hexagonal Crystal Cla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</a:t>
            </a: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-bonding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between remaining 2p'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results in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localiz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's in 2p which results in electrical conductivity only within she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47760" y="1400040"/>
            <a:ext cx="86389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re are other hybrids as well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d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CuO- planar 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may resonate in bonds of non-identical atoms &amp; give a partial ionic character if one much more e-neg than oth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fact most ionic crystals share to some extent while covalent may share unequal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is a result of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-ne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44440" y="1027080"/>
            <a:ext cx="874224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are on the left of the P.T.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 few, loosely held valenc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f closely pack them can get up to 12 "touching" nearest neighbo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 high density of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round any given atom &amp; also a high density of neighbor atoms around the loose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effect is to show such a general attraction for thes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that they become free to maintain an electrical neutrality in the xl as a whole... a sea of mobile electr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n the right side the e-neg is high &amp; atoms are trying to tak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4" name="Rectangle 1027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the right side the e-neg is high &amp; atoms are trying to tak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't, must share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ightl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left, w/ low e-neg &amp; low I.P.  they aren't trying to take, but to give, 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loosel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h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crystals thus conduct electricity and hea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050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6" name="Rectangle 2051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4)  Van der Waals Bon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es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ually between neutral molecules (even large ones like graphite sheet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ided by polar or partial polar covalent bond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en stable A-A bonds like O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 Cl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will  get slightly polar at low T &amp; condense to liquid &amp; ordered solid as vibration slows &amp;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polar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ness of the bond is apparent in graphite cleav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7" name="Picture 2052" descr=""/>
          <p:cNvPicPr/>
          <p:nvPr/>
        </p:nvPicPr>
        <p:blipFill>
          <a:blip r:embed="rId1"/>
          <a:stretch/>
        </p:blipFill>
        <p:spPr>
          <a:xfrm>
            <a:off x="185112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53" descr=""/>
          <p:cNvPicPr/>
          <p:nvPr/>
        </p:nvPicPr>
        <p:blipFill>
          <a:blip r:embed="rId2"/>
          <a:stretch/>
        </p:blipFill>
        <p:spPr>
          <a:xfrm>
            <a:off x="2525760" y="5562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54" descr=""/>
          <p:cNvPicPr/>
          <p:nvPr/>
        </p:nvPicPr>
        <p:blipFill>
          <a:blip r:embed="rId3"/>
          <a:stretch/>
        </p:blipFill>
        <p:spPr>
          <a:xfrm>
            <a:off x="358308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55" descr=""/>
          <p:cNvPicPr/>
          <p:nvPr/>
        </p:nvPicPr>
        <p:blipFill>
          <a:blip r:embed="rId4"/>
          <a:stretch/>
        </p:blipFill>
        <p:spPr>
          <a:xfrm>
            <a:off x="4257720" y="5562720"/>
            <a:ext cx="1104840" cy="11192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056"/>
          <p:cNvSpPr/>
          <p:nvPr/>
        </p:nvSpPr>
        <p:spPr>
          <a:xfrm>
            <a:off x="6376320" y="5634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densed C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2" name="Line 2057"/>
          <p:cNvSpPr/>
          <p:nvPr/>
        </p:nvSpPr>
        <p:spPr>
          <a:xfrm flipV="1">
            <a:off x="240840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3" name="Line 2058"/>
          <p:cNvSpPr/>
          <p:nvPr/>
        </p:nvSpPr>
        <p:spPr>
          <a:xfrm flipV="1">
            <a:off x="31179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Line 2059"/>
          <p:cNvSpPr/>
          <p:nvPr/>
        </p:nvSpPr>
        <p:spPr>
          <a:xfrm flipV="1">
            <a:off x="41403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5" name="Line 2060"/>
          <p:cNvSpPr/>
          <p:nvPr/>
        </p:nvSpPr>
        <p:spPr>
          <a:xfrm>
            <a:off x="2424240" y="5384880"/>
            <a:ext cx="67608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6" name="Line 2061"/>
          <p:cNvSpPr/>
          <p:nvPr/>
        </p:nvSpPr>
        <p:spPr>
          <a:xfrm>
            <a:off x="3152880" y="5384880"/>
            <a:ext cx="96192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Text Box 2062"/>
          <p:cNvSpPr/>
          <p:nvPr/>
        </p:nvSpPr>
        <p:spPr>
          <a:xfrm>
            <a:off x="2527560" y="508176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cov          VdW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't absolutely determine: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cloud is nebulous &amp; based on probability of encountering an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crystalline solids the center-to-center distance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ond length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&amp; is accepted to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um of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 get ionic radius of X &amp; Y in XY compound?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44440" y="1027080"/>
            <a:ext cx="87422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ed one pure element firs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tive Cu.  Atomic radius = 1/2 bond length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usually FCC or BC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1370160" y="3436920"/>
            <a:ext cx="75852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1914480" y="3956040"/>
            <a:ext cx="75888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2482920" y="4484520"/>
            <a:ext cx="7588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2443320" y="3406680"/>
            <a:ext cx="76824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Oval 20"/>
          <p:cNvSpPr/>
          <p:nvPr/>
        </p:nvSpPr>
        <p:spPr>
          <a:xfrm>
            <a:off x="1338120" y="4484520"/>
            <a:ext cx="7606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24040" y="3759120"/>
            <a:ext cx="1143000" cy="1138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220480" y="325116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033360" y="406404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4359240" y="3005280"/>
            <a:ext cx="267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-ray d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onic radius =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6407280" y="3868200"/>
            <a:ext cx="44280" cy="255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6451560" y="3876840"/>
            <a:ext cx="65160" cy="13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6524640" y="3619080"/>
            <a:ext cx="84240" cy="3891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6608880" y="3619440"/>
            <a:ext cx="5284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6372360" y="4125960"/>
            <a:ext cx="795240" cy="14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627240" y="3683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686280" y="417348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6981120" y="365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6811920" y="3683160"/>
            <a:ext cx="1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1722600" y="3774960"/>
            <a:ext cx="1135080" cy="11160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3360" y="1168200"/>
            <a:ext cx="857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ethod of Scientific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rite single equation to get from what have to what wa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:  u. c. Volume (in 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 &amp; formula A = 10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m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Z = # formula units/ u.c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ample 8 mi/hr = ? in ft/sec?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do all on one line with #'s and units,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units work # must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formula units/mole (Avocado’s #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4320" y="1027080"/>
            <a:ext cx="880236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 can do this on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our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ab!!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 look up lattice type (really space grou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CC us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diagonal rather than fac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th compounds, don't know what % of bondlength to which atom, but if know one can get oth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 can keep on as accumulate more &amp; more compounds from known s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ots of cations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84320" y="1027080"/>
            <a:ext cx="88023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ever there are varia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)  Variations in related to % ionic or covalent character (or VdW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2)  Variations in # of closest neighbors (coordination #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Handout of Atomic and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97000" y="1019160"/>
            <a:ext cx="8675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rrec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ons- usually for VI coordination (not 6-fold symm!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4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 (Si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03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12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XII (metal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Atoms given for XII (most common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8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6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alent bonds given for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rect for double, triple  (stronger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hort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84320" y="1027080"/>
            <a:ext cx="88023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ue radius will vary with actual bond-type, resonance (1x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x in covalent), structural causes (Na in Ab), &amp; coordination #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rpose of all this radii stuff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understand &amp; predict behavior of atoms in crystalline soli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rticularly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oordination Numb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rystals can be classified into 4 type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. Molecular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al molecules held together by weak van der Waals bo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re as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ly organi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eak and readliy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compose, melt, et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raphit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1" name="Picture 4" descr="PLOT022"/>
          <p:cNvPicPr/>
          <p:nvPr/>
        </p:nvPicPr>
        <p:blipFill>
          <a:blip r:embed="rId1"/>
          <a:srcRect l="9117" t="6104" r="8833" b="21309"/>
          <a:stretch/>
        </p:blipFill>
        <p:spPr>
          <a:xfrm>
            <a:off x="4108320" y="2901960"/>
            <a:ext cx="48024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. Covalent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high e-neg and toward righ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uncommon as minerals (but less so than molecular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twork of strong coval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nds with no weak link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rectional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low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4" name="Picture 6" descr="PLOT027"/>
          <p:cNvPicPr/>
          <p:nvPr/>
        </p:nvPicPr>
        <p:blipFill>
          <a:blip r:embed="rId1"/>
          <a:srcRect l="11392" t="5298" r="8833" b="3803"/>
          <a:stretch/>
        </p:blipFill>
        <p:spPr>
          <a:xfrm>
            <a:off x="4556160" y="2602080"/>
            <a:ext cx="4535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The diamond structur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l carbon atoms in IV coordination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7" name="Picture 5" descr="PLOT025"/>
          <p:cNvPicPr/>
          <p:nvPr/>
        </p:nvPicPr>
        <p:blipFill>
          <a:blip r:embed="rId1"/>
          <a:srcRect l="12251" t="4950" r="9117" b="3416"/>
          <a:stretch/>
        </p:blipFill>
        <p:spPr>
          <a:xfrm>
            <a:off x="247680" y="2243160"/>
            <a:ext cx="4838760" cy="4224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PLOT026"/>
          <p:cNvPicPr/>
          <p:nvPr/>
        </p:nvPicPr>
        <p:blipFill>
          <a:blip r:embed="rId2"/>
          <a:srcRect l="14265" t="7599" r="10818" b="5298"/>
          <a:stretch/>
        </p:blipFill>
        <p:spPr>
          <a:xfrm>
            <a:off x="5335560" y="3375000"/>
            <a:ext cx="3697200" cy="3220920"/>
          </a:xfrm>
          <a:prstGeom prst="rect">
            <a:avLst/>
          </a:prstGeom>
          <a:ln w="0">
            <a:noFill/>
          </a:ln>
        </p:spPr>
      </p:pic>
      <p:sp>
        <p:nvSpPr>
          <p:cNvPr id="409" name="Line 8"/>
          <p:cNvSpPr/>
          <p:nvPr/>
        </p:nvSpPr>
        <p:spPr>
          <a:xfrm>
            <a:off x="1090440" y="3792600"/>
            <a:ext cx="330480" cy="17319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0" name="Line 9"/>
          <p:cNvSpPr/>
          <p:nvPr/>
        </p:nvSpPr>
        <p:spPr>
          <a:xfrm flipV="1">
            <a:off x="1160640" y="3238200"/>
            <a:ext cx="726840" cy="415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1" name="Line 10"/>
          <p:cNvSpPr/>
          <p:nvPr/>
        </p:nvSpPr>
        <p:spPr>
          <a:xfrm flipV="1">
            <a:off x="2085840" y="30477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3714840" y="3152880"/>
            <a:ext cx="323640" cy="1685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3257640" y="4991040"/>
            <a:ext cx="714240" cy="4287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1542960" y="5486400"/>
            <a:ext cx="1486080" cy="1144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1533600" y="5124600"/>
            <a:ext cx="723960" cy="41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2457360" y="49431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2000160" y="3286080"/>
            <a:ext cx="162000" cy="819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209680" y="4324320"/>
            <a:ext cx="123840" cy="638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2809800" y="3686040"/>
            <a:ext cx="324000" cy="1619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1190520" y="359064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2886120" y="3105000"/>
            <a:ext cx="723960" cy="409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1480" y="64278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all-and-stick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578200" y="6426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olyhedral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24" name="Picture 23" descr="PLOT028"/>
          <p:cNvPicPr/>
          <p:nvPr/>
        </p:nvPicPr>
        <p:blipFill>
          <a:blip r:embed="rId3"/>
          <a:srcRect l="9692" t="3803" r="9692" b="8753"/>
          <a:stretch/>
        </p:blipFill>
        <p:spPr>
          <a:xfrm>
            <a:off x="5935680" y="960480"/>
            <a:ext cx="2914560" cy="2368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4"/>
          <p:cNvSpPr/>
          <p:nvPr/>
        </p:nvSpPr>
        <p:spPr>
          <a:xfrm>
            <a:off x="7665120" y="64087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blue C on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6739200" y="603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ard-sphere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267000" y="613404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CC unit cel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3. Metall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e-neg and toward lef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etallic bonds are directionless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high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ure metals have same sized atom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osest packing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12 nearest mutually-touching neighbor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ubic Closest Packing (CCP)   abcabcabc stacking = FCC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exagonal Closest Packing (HCP)  ababab  = hexagonal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BCC in metals, but this is not CP  (VII coordination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ore on coordination and closest packing a bit later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4. Ion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irst approximation: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losest-packed array of oxygen atoms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ations fit into interstices between oxygen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fferent types of interstitial sites availabl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certain types where can fi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enough of them to attain electric neutral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1159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omposition of the Earth’s Crus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2" name="Object 0"/>
          <p:cNvGraphicFramePr/>
          <p:nvPr/>
        </p:nvGraphicFramePr>
        <p:xfrm>
          <a:off x="1174680" y="965160"/>
          <a:ext cx="68518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965160"/>
                    <a:ext cx="68518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485640" y="4788000"/>
            <a:ext cx="8291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common silicates are from thes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 alone = 94 vol. % of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haps good to think of crust as a packed O array with interspersed metal cations in the interstices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alogy works for minerals too (they make up the crus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ohr model for the ato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ucleus = p + n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Z (Atomic #)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ives elements their identity (properties)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(~ all mas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 + n (variable)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atomic weight (isotope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. Wt. is real # due to average of isotop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spin around atom and give it it's size (statistical size) Atomic radii in the range 0.5-2.5 A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in special shells w/ particular Energy level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Quantiz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6014880" y="69840"/>
            <a:ext cx="2632320" cy="2685600"/>
            <a:chOff x="6014880" y="69840"/>
            <a:chExt cx="2632320" cy="2685600"/>
          </a:xfrm>
        </p:grpSpPr>
        <p:grpSp>
          <p:nvGrpSpPr>
            <p:cNvPr id="58" name="Group 5"/>
            <p:cNvGrpSpPr/>
            <p:nvPr/>
          </p:nvGrpSpPr>
          <p:grpSpPr>
            <a:xfrm>
              <a:off x="7182720" y="606240"/>
              <a:ext cx="444240" cy="195120"/>
              <a:chOff x="7182720" y="606240"/>
              <a:chExt cx="444240" cy="195120"/>
            </a:xfrm>
          </p:grpSpPr>
          <p:sp>
            <p:nvSpPr>
              <p:cNvPr id="59" name="Line 6"/>
              <p:cNvSpPr/>
              <p:nvPr/>
            </p:nvSpPr>
            <p:spPr>
              <a:xfrm flipH="1" flipV="1">
                <a:off x="7182720" y="606240"/>
                <a:ext cx="444240" cy="144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 flipH="1" flipV="1">
                <a:off x="7362000" y="728640"/>
                <a:ext cx="235440" cy="72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 flipH="1" flipV="1">
                <a:off x="7285680" y="671760"/>
                <a:ext cx="323280" cy="1011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9"/>
            <p:cNvGrpSpPr/>
            <p:nvPr/>
          </p:nvGrpSpPr>
          <p:grpSpPr>
            <a:xfrm>
              <a:off x="6618600" y="1712520"/>
              <a:ext cx="217080" cy="434880"/>
              <a:chOff x="6618600" y="1712520"/>
              <a:chExt cx="217080" cy="434880"/>
            </a:xfrm>
          </p:grpSpPr>
          <p:sp>
            <p:nvSpPr>
              <p:cNvPr id="63" name="Line 10"/>
              <p:cNvSpPr/>
              <p:nvPr/>
            </p:nvSpPr>
            <p:spPr>
              <a:xfrm>
                <a:off x="6618600" y="1727280"/>
                <a:ext cx="217080" cy="420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6675120" y="1712520"/>
                <a:ext cx="117360" cy="220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647040" y="1724040"/>
                <a:ext cx="160920" cy="303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8004600" y="2322360"/>
              <a:ext cx="411120" cy="267120"/>
              <a:chOff x="8004600" y="2322360"/>
              <a:chExt cx="411120" cy="267120"/>
            </a:xfrm>
          </p:grpSpPr>
          <p:sp>
            <p:nvSpPr>
              <p:cNvPr id="67" name="Line 14"/>
              <p:cNvSpPr/>
              <p:nvPr/>
            </p:nvSpPr>
            <p:spPr>
              <a:xfrm flipV="1">
                <a:off x="8025480" y="2322360"/>
                <a:ext cx="390240" cy="267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" name="Line 15"/>
              <p:cNvSpPr/>
              <p:nvPr/>
            </p:nvSpPr>
            <p:spPr>
              <a:xfrm flipV="1">
                <a:off x="8004600" y="2391840"/>
                <a:ext cx="203760" cy="14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" name="Line 16"/>
              <p:cNvSpPr/>
              <p:nvPr/>
            </p:nvSpPr>
            <p:spPr>
              <a:xfrm flipV="1">
                <a:off x="8019360" y="2365200"/>
                <a:ext cx="280800" cy="196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7"/>
            <p:cNvGrpSpPr/>
            <p:nvPr/>
          </p:nvGrpSpPr>
          <p:grpSpPr>
            <a:xfrm>
              <a:off x="7192800" y="69840"/>
              <a:ext cx="461880" cy="123120"/>
              <a:chOff x="7192800" y="69840"/>
              <a:chExt cx="461880" cy="123120"/>
            </a:xfrm>
          </p:grpSpPr>
          <p:sp>
            <p:nvSpPr>
              <p:cNvPr id="71" name="Line 18"/>
              <p:cNvSpPr/>
              <p:nvPr/>
            </p:nvSpPr>
            <p:spPr>
              <a:xfrm flipH="1" flipV="1">
                <a:off x="7192800" y="69840"/>
                <a:ext cx="461880" cy="68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 flipV="1">
                <a:off x="7390080" y="160200"/>
                <a:ext cx="244080" cy="32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H="1" flipV="1">
                <a:off x="7305480" y="117720"/>
                <a:ext cx="335160" cy="46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74" name="Picture 21" descr=""/>
            <p:cNvPicPr/>
            <p:nvPr/>
          </p:nvPicPr>
          <p:blipFill>
            <a:blip r:embed="rId1"/>
            <a:stretch/>
          </p:blipFill>
          <p:spPr>
            <a:xfrm>
              <a:off x="7016760" y="1172520"/>
              <a:ext cx="5634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22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Oval 23"/>
            <p:cNvSpPr/>
            <p:nvPr/>
          </p:nvSpPr>
          <p:spPr>
            <a:xfrm>
              <a:off x="6014880" y="133200"/>
              <a:ext cx="2632320" cy="262224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77" name="Picture 24" descr=""/>
            <p:cNvPicPr/>
            <p:nvPr/>
          </p:nvPicPr>
          <p:blipFill>
            <a:blip r:embed="rId2"/>
            <a:stretch/>
          </p:blipFill>
          <p:spPr>
            <a:xfrm>
              <a:off x="7603560" y="766440"/>
              <a:ext cx="81000" cy="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3"/>
            <a:stretch/>
          </p:blipFill>
          <p:spPr>
            <a:xfrm>
              <a:off x="6595920" y="1663920"/>
              <a:ext cx="8208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4"/>
            <a:stretch/>
          </p:blipFill>
          <p:spPr>
            <a:xfrm>
              <a:off x="7616880" y="133200"/>
              <a:ext cx="81000" cy="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7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81" name="Picture 28" descr=""/>
            <p:cNvPicPr/>
            <p:nvPr/>
          </p:nvPicPr>
          <p:blipFill>
            <a:blip r:embed="rId5"/>
            <a:stretch/>
          </p:blipFill>
          <p:spPr>
            <a:xfrm>
              <a:off x="7944840" y="2549880"/>
              <a:ext cx="81000" cy="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040" y="1168200"/>
            <a:ext cx="6534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Quantized energy levels 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Fig. 4.12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6188040" y="2949480"/>
            <a:ext cx="2840040" cy="2854440"/>
            <a:chOff x="6188040" y="2949480"/>
            <a:chExt cx="2840040" cy="2854440"/>
          </a:xfrm>
        </p:grpSpPr>
        <p:grpSp>
          <p:nvGrpSpPr>
            <p:cNvPr id="85" name="Group 2"/>
            <p:cNvGrpSpPr/>
            <p:nvPr/>
          </p:nvGrpSpPr>
          <p:grpSpPr>
            <a:xfrm>
              <a:off x="7448400" y="3519360"/>
              <a:ext cx="479520" cy="208080"/>
              <a:chOff x="7448400" y="3519360"/>
              <a:chExt cx="479520" cy="208080"/>
            </a:xfrm>
          </p:grpSpPr>
          <p:sp>
            <p:nvSpPr>
              <p:cNvPr id="86" name="Line 3"/>
              <p:cNvSpPr/>
              <p:nvPr/>
            </p:nvSpPr>
            <p:spPr>
              <a:xfrm flipH="1" flipV="1">
                <a:off x="7448400" y="3519360"/>
                <a:ext cx="479520" cy="153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7" name="Line 4"/>
              <p:cNvSpPr/>
              <p:nvPr/>
            </p:nvSpPr>
            <p:spPr>
              <a:xfrm flipH="1" flipV="1">
                <a:off x="7642080" y="3649680"/>
                <a:ext cx="254160" cy="77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8" name="Line 5"/>
              <p:cNvSpPr/>
              <p:nvPr/>
            </p:nvSpPr>
            <p:spPr>
              <a:xfrm flipH="1" flipV="1">
                <a:off x="7559640" y="3589560"/>
                <a:ext cx="349200" cy="1080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6841800" y="4694400"/>
              <a:ext cx="229320" cy="464400"/>
              <a:chOff x="6841800" y="4694400"/>
              <a:chExt cx="229320" cy="4644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6841800" y="4710240"/>
                <a:ext cx="229320" cy="448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6903000" y="4694400"/>
                <a:ext cx="123840" cy="235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6872760" y="4706640"/>
                <a:ext cx="169560" cy="32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0"/>
            <p:cNvGrpSpPr/>
            <p:nvPr/>
          </p:nvGrpSpPr>
          <p:grpSpPr>
            <a:xfrm>
              <a:off x="8335800" y="5344560"/>
              <a:ext cx="439920" cy="282600"/>
              <a:chOff x="8335800" y="5344560"/>
              <a:chExt cx="439920" cy="282600"/>
            </a:xfrm>
          </p:grpSpPr>
          <p:sp>
            <p:nvSpPr>
              <p:cNvPr id="94" name="Line 11"/>
              <p:cNvSpPr/>
              <p:nvPr/>
            </p:nvSpPr>
            <p:spPr>
              <a:xfrm flipV="1">
                <a:off x="8358840" y="5344560"/>
                <a:ext cx="416880" cy="2826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 flipV="1">
                <a:off x="8335800" y="5416560"/>
                <a:ext cx="218160" cy="15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 flipV="1">
                <a:off x="8351640" y="5388840"/>
                <a:ext cx="300240" cy="208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7459560" y="2949480"/>
              <a:ext cx="498240" cy="130680"/>
              <a:chOff x="7459560" y="2949480"/>
              <a:chExt cx="498240" cy="13068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7459560" y="2949480"/>
                <a:ext cx="498240" cy="71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 flipH="1" flipV="1">
                <a:off x="7671960" y="3045960"/>
                <a:ext cx="263160" cy="3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 flipV="1">
                <a:off x="7580520" y="3000240"/>
                <a:ext cx="362160" cy="482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20" descr=""/>
            <p:cNvPicPr/>
            <p:nvPr/>
          </p:nvPicPr>
          <p:blipFill>
            <a:blip r:embed="rId1"/>
            <a:stretch/>
          </p:blipFill>
          <p:spPr>
            <a:xfrm>
              <a:off x="7269120" y="4121280"/>
              <a:ext cx="608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21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188040" y="3016440"/>
              <a:ext cx="2840040" cy="27874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4" name="Picture 23" descr=""/>
            <p:cNvPicPr/>
            <p:nvPr/>
          </p:nvPicPr>
          <p:blipFill>
            <a:blip r:embed="rId2"/>
            <a:stretch/>
          </p:blipFill>
          <p:spPr>
            <a:xfrm>
              <a:off x="7902360" y="36896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3"/>
            <a:stretch/>
          </p:blipFill>
          <p:spPr>
            <a:xfrm>
              <a:off x="6815160" y="4643640"/>
              <a:ext cx="88920" cy="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"/>
            <p:cNvPicPr/>
            <p:nvPr/>
          </p:nvPicPr>
          <p:blipFill>
            <a:blip r:embed="rId4"/>
            <a:stretch/>
          </p:blipFill>
          <p:spPr>
            <a:xfrm>
              <a:off x="7916760" y="30164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6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8" name="Picture 27" descr=""/>
            <p:cNvPicPr/>
            <p:nvPr/>
          </p:nvPicPr>
          <p:blipFill>
            <a:blip r:embed="rId5"/>
            <a:stretch/>
          </p:blipFill>
          <p:spPr>
            <a:xfrm>
              <a:off x="8270640" y="5585040"/>
              <a:ext cx="87480" cy="8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Freeform 50"/>
          <p:cNvSpPr/>
          <p:nvPr/>
        </p:nvSpPr>
        <p:spPr>
          <a:xfrm>
            <a:off x="1228680" y="2112840"/>
            <a:ext cx="4822920" cy="404352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4043520"/>
              <a:gd name="textAreaBottom" fmla="*/ 4043880 h 4043520"/>
            </a:gdLst>
            <a:ahLst/>
            <a:rect l="textAreaLeft" t="textAreaTop" r="textAreaRight" b="textAreaBottom"/>
            <a:pathLst>
              <a:path w="2493" h="2285">
                <a:moveTo>
                  <a:pt x="0" y="0"/>
                </a:moveTo>
                <a:lnTo>
                  <a:pt x="0" y="2285"/>
                </a:lnTo>
                <a:lnTo>
                  <a:pt x="2493" y="2285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 rot="16200000">
            <a:off x="-126720" y="36676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lative Energ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53"/>
          <p:cNvSpPr/>
          <p:nvPr/>
        </p:nvSpPr>
        <p:spPr>
          <a:xfrm>
            <a:off x="831960" y="61848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 =    1 K     2 L   3 M     4 N     5 O     6 P     7 Q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1242000" y="2063880"/>
            <a:ext cx="4420440" cy="3922920"/>
            <a:chOff x="1242000" y="2063880"/>
            <a:chExt cx="4420440" cy="3922920"/>
          </a:xfrm>
        </p:grpSpPr>
        <p:grpSp>
          <p:nvGrpSpPr>
            <p:cNvPr id="113" name="Group 60"/>
            <p:cNvGrpSpPr/>
            <p:nvPr/>
          </p:nvGrpSpPr>
          <p:grpSpPr>
            <a:xfrm>
              <a:off x="1540800" y="2293920"/>
              <a:ext cx="4121640" cy="3516480"/>
              <a:chOff x="1540800" y="2293920"/>
              <a:chExt cx="4121640" cy="3516480"/>
            </a:xfrm>
          </p:grpSpPr>
          <p:sp>
            <p:nvSpPr>
              <p:cNvPr id="114" name="Line 28"/>
              <p:cNvSpPr/>
              <p:nvPr/>
            </p:nvSpPr>
            <p:spPr>
              <a:xfrm>
                <a:off x="1540800" y="5810400"/>
                <a:ext cx="328320" cy="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grpSp>
            <p:nvGrpSpPr>
              <p:cNvPr id="115" name="Group 54"/>
              <p:cNvGrpSpPr/>
              <p:nvPr/>
            </p:nvGrpSpPr>
            <p:grpSpPr>
              <a:xfrm>
                <a:off x="2171160" y="5049720"/>
                <a:ext cx="327960" cy="238320"/>
                <a:chOff x="2171160" y="5049720"/>
                <a:chExt cx="327960" cy="238320"/>
              </a:xfrm>
            </p:grpSpPr>
            <p:sp>
              <p:nvSpPr>
                <p:cNvPr id="116" name="Line 29"/>
                <p:cNvSpPr/>
                <p:nvPr/>
              </p:nvSpPr>
              <p:spPr>
                <a:xfrm>
                  <a:off x="2171160" y="52880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6"/>
                <p:cNvSpPr/>
                <p:nvPr/>
              </p:nvSpPr>
              <p:spPr>
                <a:xfrm>
                  <a:off x="2171160" y="50497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5"/>
              <p:cNvGrpSpPr/>
              <p:nvPr/>
            </p:nvGrpSpPr>
            <p:grpSpPr>
              <a:xfrm>
                <a:off x="2804040" y="4218120"/>
                <a:ext cx="327960" cy="531720"/>
                <a:chOff x="2804040" y="4218120"/>
                <a:chExt cx="327960" cy="531720"/>
              </a:xfrm>
            </p:grpSpPr>
            <p:sp>
              <p:nvSpPr>
                <p:cNvPr id="119" name="Line 30"/>
                <p:cNvSpPr/>
                <p:nvPr/>
              </p:nvSpPr>
              <p:spPr>
                <a:xfrm>
                  <a:off x="2804040" y="474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7"/>
                <p:cNvSpPr/>
                <p:nvPr/>
              </p:nvSpPr>
              <p:spPr>
                <a:xfrm>
                  <a:off x="2804040" y="4591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38"/>
                <p:cNvSpPr/>
                <p:nvPr/>
              </p:nvSpPr>
              <p:spPr>
                <a:xfrm>
                  <a:off x="2804040" y="4218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56"/>
              <p:cNvGrpSpPr/>
              <p:nvPr/>
            </p:nvGrpSpPr>
            <p:grpSpPr>
              <a:xfrm>
                <a:off x="3434400" y="3171960"/>
                <a:ext cx="327960" cy="1172880"/>
                <a:chOff x="3434400" y="3171960"/>
                <a:chExt cx="327960" cy="1172880"/>
              </a:xfrm>
            </p:grpSpPr>
            <p:sp>
              <p:nvSpPr>
                <p:cNvPr id="123" name="Line 31"/>
                <p:cNvSpPr/>
                <p:nvPr/>
              </p:nvSpPr>
              <p:spPr>
                <a:xfrm>
                  <a:off x="3434400" y="4344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3434400" y="41022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3434400" y="3524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41"/>
                <p:cNvSpPr/>
                <p:nvPr/>
              </p:nvSpPr>
              <p:spPr>
                <a:xfrm>
                  <a:off x="343440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7"/>
              <p:cNvGrpSpPr/>
              <p:nvPr/>
            </p:nvGrpSpPr>
            <p:grpSpPr>
              <a:xfrm>
                <a:off x="4066920" y="2698920"/>
                <a:ext cx="330480" cy="952200"/>
                <a:chOff x="4066920" y="2698920"/>
                <a:chExt cx="330480" cy="952200"/>
              </a:xfrm>
            </p:grpSpPr>
            <p:sp>
              <p:nvSpPr>
                <p:cNvPr id="128" name="Line 32"/>
                <p:cNvSpPr/>
                <p:nvPr/>
              </p:nvSpPr>
              <p:spPr>
                <a:xfrm>
                  <a:off x="4069440" y="3651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42"/>
                <p:cNvSpPr/>
                <p:nvPr/>
              </p:nvSpPr>
              <p:spPr>
                <a:xfrm>
                  <a:off x="4069440" y="3448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43"/>
                <p:cNvSpPr/>
                <p:nvPr/>
              </p:nvSpPr>
              <p:spPr>
                <a:xfrm>
                  <a:off x="406944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4"/>
                <p:cNvSpPr/>
                <p:nvPr/>
              </p:nvSpPr>
              <p:spPr>
                <a:xfrm>
                  <a:off x="406692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4699800" y="2349360"/>
                <a:ext cx="327960" cy="960480"/>
                <a:chOff x="4699800" y="2349360"/>
                <a:chExt cx="327960" cy="960480"/>
              </a:xfrm>
            </p:grpSpPr>
            <p:sp>
              <p:nvSpPr>
                <p:cNvPr id="133" name="Line 33"/>
                <p:cNvSpPr/>
                <p:nvPr/>
              </p:nvSpPr>
              <p:spPr>
                <a:xfrm>
                  <a:off x="4699800" y="330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5"/>
                <p:cNvSpPr/>
                <p:nvPr/>
              </p:nvSpPr>
              <p:spPr>
                <a:xfrm>
                  <a:off x="4699800" y="3065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6"/>
                <p:cNvSpPr/>
                <p:nvPr/>
              </p:nvSpPr>
              <p:spPr>
                <a:xfrm>
                  <a:off x="469980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7"/>
                <p:cNvSpPr/>
                <p:nvPr/>
              </p:nvSpPr>
              <p:spPr>
                <a:xfrm>
                  <a:off x="4699800" y="23493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59"/>
              <p:cNvGrpSpPr/>
              <p:nvPr/>
            </p:nvGrpSpPr>
            <p:grpSpPr>
              <a:xfrm>
                <a:off x="5332320" y="2293920"/>
                <a:ext cx="330120" cy="555480"/>
                <a:chOff x="5332320" y="2293920"/>
                <a:chExt cx="330120" cy="555480"/>
              </a:xfrm>
            </p:grpSpPr>
            <p:sp>
              <p:nvSpPr>
                <p:cNvPr id="138" name="Line 34"/>
                <p:cNvSpPr/>
                <p:nvPr/>
              </p:nvSpPr>
              <p:spPr>
                <a:xfrm>
                  <a:off x="5332320" y="2849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48"/>
                <p:cNvSpPr/>
                <p:nvPr/>
              </p:nvSpPr>
              <p:spPr>
                <a:xfrm>
                  <a:off x="5332320" y="2670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49"/>
                <p:cNvSpPr/>
                <p:nvPr/>
              </p:nvSpPr>
              <p:spPr>
                <a:xfrm>
                  <a:off x="5334120" y="2293920"/>
                  <a:ext cx="32832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Text Box 62"/>
            <p:cNvSpPr/>
            <p:nvPr/>
          </p:nvSpPr>
          <p:spPr>
            <a:xfrm>
              <a:off x="1242000" y="5587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Text Box 63"/>
            <p:cNvSpPr/>
            <p:nvPr/>
          </p:nvSpPr>
          <p:spPr>
            <a:xfrm>
              <a:off x="1848960" y="5059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Text Box 64"/>
            <p:cNvSpPr/>
            <p:nvPr/>
          </p:nvSpPr>
          <p:spPr>
            <a:xfrm>
              <a:off x="2472480" y="45226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Text Box 65"/>
            <p:cNvSpPr/>
            <p:nvPr/>
          </p:nvSpPr>
          <p:spPr>
            <a:xfrm>
              <a:off x="3129840" y="41241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Text Box 66"/>
            <p:cNvSpPr/>
            <p:nvPr/>
          </p:nvSpPr>
          <p:spPr>
            <a:xfrm>
              <a:off x="3780720" y="3430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Text Box 67"/>
            <p:cNvSpPr/>
            <p:nvPr/>
          </p:nvSpPr>
          <p:spPr>
            <a:xfrm>
              <a:off x="4393080" y="3084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Text Box 68"/>
            <p:cNvSpPr/>
            <p:nvPr/>
          </p:nvSpPr>
          <p:spPr>
            <a:xfrm>
              <a:off x="5031720" y="2608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Text Box 69"/>
            <p:cNvSpPr/>
            <p:nvPr/>
          </p:nvSpPr>
          <p:spPr>
            <a:xfrm>
              <a:off x="183708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Text Box 70"/>
            <p:cNvSpPr/>
            <p:nvPr/>
          </p:nvSpPr>
          <p:spPr>
            <a:xfrm>
              <a:off x="2454120" y="4313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Text Box 71"/>
            <p:cNvSpPr/>
            <p:nvPr/>
          </p:nvSpPr>
          <p:spPr>
            <a:xfrm>
              <a:off x="3112560" y="3890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Text Box 72"/>
            <p:cNvSpPr/>
            <p:nvPr/>
          </p:nvSpPr>
          <p:spPr>
            <a:xfrm>
              <a:off x="3763080" y="319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Text Box 73"/>
            <p:cNvSpPr/>
            <p:nvPr/>
          </p:nvSpPr>
          <p:spPr>
            <a:xfrm>
              <a:off x="4376160" y="284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Text Box 74"/>
            <p:cNvSpPr/>
            <p:nvPr/>
          </p:nvSpPr>
          <p:spPr>
            <a:xfrm>
              <a:off x="5014800" y="240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Text Box 75"/>
            <p:cNvSpPr/>
            <p:nvPr/>
          </p:nvSpPr>
          <p:spPr>
            <a:xfrm>
              <a:off x="2454120" y="3973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Text Box 76"/>
            <p:cNvSpPr/>
            <p:nvPr/>
          </p:nvSpPr>
          <p:spPr>
            <a:xfrm>
              <a:off x="3112560" y="330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Text Box 77"/>
            <p:cNvSpPr/>
            <p:nvPr/>
          </p:nvSpPr>
          <p:spPr>
            <a:xfrm>
              <a:off x="37630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Text Box 78"/>
            <p:cNvSpPr/>
            <p:nvPr/>
          </p:nvSpPr>
          <p:spPr>
            <a:xfrm>
              <a:off x="4376160" y="248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Text Box 79"/>
            <p:cNvSpPr/>
            <p:nvPr/>
          </p:nvSpPr>
          <p:spPr>
            <a:xfrm>
              <a:off x="5014800" y="206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Text Box 80"/>
            <p:cNvSpPr/>
            <p:nvPr/>
          </p:nvSpPr>
          <p:spPr>
            <a:xfrm>
              <a:off x="3138120" y="2955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Text Box 82"/>
            <p:cNvSpPr/>
            <p:nvPr/>
          </p:nvSpPr>
          <p:spPr>
            <a:xfrm>
              <a:off x="3790440" y="2462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01360" y="2141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62" name="Text Box 86"/>
          <p:cNvSpPr/>
          <p:nvPr/>
        </p:nvSpPr>
        <p:spPr>
          <a:xfrm>
            <a:off x="3863880" y="4343400"/>
            <a:ext cx="22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Note that the energy does not necessarily increase K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L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M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N etc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4s &lt; 3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nermost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1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lowest E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2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367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3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e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4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, f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generally higher E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levels not fill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6680" y="1143000"/>
            <a:ext cx="83358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s 2s and 3s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7" name="Picture 5" descr="1s2s3s"/>
          <p:cNvPicPr/>
          <p:nvPr/>
        </p:nvPicPr>
        <p:blipFill>
          <a:blip r:embed="rId1"/>
          <a:stretch/>
        </p:blipFill>
        <p:spPr>
          <a:xfrm>
            <a:off x="1984320" y="2664000"/>
            <a:ext cx="567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07720" y="285840"/>
            <a:ext cx="390348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p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9" name="Picture 5" descr="px"/>
          <p:cNvPicPr/>
          <p:nvPr/>
        </p:nvPicPr>
        <p:blipFill>
          <a:blip r:embed="rId1"/>
          <a:srcRect l="13988" t="0" r="18305" b="0"/>
          <a:stretch/>
        </p:blipFill>
        <p:spPr>
          <a:xfrm>
            <a:off x="4305240" y="131760"/>
            <a:ext cx="3535560" cy="2882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 flipH="1">
            <a:off x="4456080" y="170820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7257960" y="134604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5845320" y="269640"/>
            <a:ext cx="95040" cy="6476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134040" y="2136600"/>
            <a:ext cx="120600" cy="808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78280" y="1633680"/>
            <a:ext cx="1106640" cy="422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464600" y="90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73400" y="10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5320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8" name="Picture 16" descr="py"/>
          <p:cNvPicPr/>
          <p:nvPr/>
        </p:nvPicPr>
        <p:blipFill>
          <a:blip r:embed="rId2"/>
          <a:srcRect l="15746" t="0" r="19424" b="0"/>
          <a:stretch/>
        </p:blipFill>
        <p:spPr>
          <a:xfrm>
            <a:off x="322200" y="3252960"/>
            <a:ext cx="3389400" cy="307656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 flipH="1">
            <a:off x="528480" y="5167440"/>
            <a:ext cx="578160" cy="222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87440" y="526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401920" y="4645080"/>
            <a:ext cx="1023840" cy="14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368880" y="46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300480" y="4222800"/>
            <a:ext cx="301680" cy="109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 flipV="1">
            <a:off x="1860120" y="3395520"/>
            <a:ext cx="95400" cy="648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184480" y="5737320"/>
            <a:ext cx="75960" cy="488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1898280" y="3225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7" name="Picture 25" descr="pz"/>
          <p:cNvPicPr/>
          <p:nvPr/>
        </p:nvPicPr>
        <p:blipFill>
          <a:blip r:embed="rId3"/>
          <a:srcRect l="14831" t="0" r="18012" b="0"/>
          <a:stretch/>
        </p:blipFill>
        <p:spPr>
          <a:xfrm>
            <a:off x="4324320" y="3252960"/>
            <a:ext cx="3503520" cy="3070080"/>
          </a:xfrm>
          <a:prstGeom prst="rect">
            <a:avLst/>
          </a:prstGeom>
          <a:ln w="0">
            <a:noFill/>
          </a:ln>
        </p:spPr>
      </p:pic>
      <p:sp>
        <p:nvSpPr>
          <p:cNvPr id="188" name="Line 26"/>
          <p:cNvSpPr/>
          <p:nvPr/>
        </p:nvSpPr>
        <p:spPr>
          <a:xfrm flipH="1" flipV="1">
            <a:off x="5948280" y="3127320"/>
            <a:ext cx="52560" cy="311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408720" y="6121440"/>
            <a:ext cx="42840" cy="3049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5984640" y="298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694400" y="4889520"/>
            <a:ext cx="1139760" cy="473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600800" y="528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H="1">
            <a:off x="6581880" y="4205160"/>
            <a:ext cx="1125360" cy="490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Line 32"/>
          <p:cNvSpPr/>
          <p:nvPr/>
        </p:nvSpPr>
        <p:spPr>
          <a:xfrm flipH="1">
            <a:off x="4793760" y="4867200"/>
            <a:ext cx="971640" cy="1224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6435720" y="4575240"/>
            <a:ext cx="1179360" cy="166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7404120" y="458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4323960" y="-31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487080" y="3362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4419000" y="3327480"/>
            <a:ext cx="48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1:49Z</dcterms:modified>
  <cp:revision>87</cp:revision>
  <dc:subject/>
  <dc:title>Chapter 8: Major Elements</dc:title>
</cp:coreProperties>
</file>