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9132-A52F-4B4A-BA97-024AC36E3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309-81C2-4F67-B02A-E2396904C994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nergy does not increase regularly K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lications with spin  V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r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ineral properties = f(structure + chemistry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But not independent: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structure = f(chem, T, P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mpositions are conventionally given as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wt% oxid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unless sulfides, halides, etc.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'd prefer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mol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% actually, but inherited this system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ifference between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o = Mg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O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o= 51.5% SiO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48.5% MgO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07720" y="285480"/>
            <a:ext cx="39034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201" name="Group 101"/>
          <p:cNvGrpSpPr/>
          <p:nvPr/>
        </p:nvGrpSpPr>
        <p:grpSpPr>
          <a:xfrm>
            <a:off x="1887480" y="3813120"/>
            <a:ext cx="2693880" cy="2887560"/>
            <a:chOff x="1887480" y="3813120"/>
            <a:chExt cx="2693880" cy="2887560"/>
          </a:xfrm>
        </p:grpSpPr>
        <p:pic>
          <p:nvPicPr>
            <p:cNvPr id="202" name="Picture 32" descr=""/>
            <p:cNvPicPr/>
            <p:nvPr/>
          </p:nvPicPr>
          <p:blipFill>
            <a:blip r:embed="rId1"/>
            <a:srcRect l="21393" t="0" r="22679" b="0"/>
            <a:stretch/>
          </p:blipFill>
          <p:spPr>
            <a:xfrm>
              <a:off x="1887480" y="3865320"/>
              <a:ext cx="269388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Line 13"/>
            <p:cNvSpPr/>
            <p:nvPr/>
          </p:nvSpPr>
          <p:spPr>
            <a:xfrm flipH="1">
              <a:off x="2001600" y="5533920"/>
              <a:ext cx="577800" cy="2221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1995480" y="56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5" name="Line 15"/>
            <p:cNvSpPr/>
            <p:nvPr/>
          </p:nvSpPr>
          <p:spPr>
            <a:xfrm flipH="1" flipV="1">
              <a:off x="4073040" y="5427720"/>
              <a:ext cx="452520" cy="126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4200840" y="5438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7" name="Line 18"/>
            <p:cNvSpPr/>
            <p:nvPr/>
          </p:nvSpPr>
          <p:spPr>
            <a:xfrm flipH="1" flipV="1">
              <a:off x="3230640" y="4125600"/>
              <a:ext cx="9360" cy="888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233520" y="381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9" name="Line 33"/>
            <p:cNvSpPr/>
            <p:nvPr/>
          </p:nvSpPr>
          <p:spPr>
            <a:xfrm flipH="1" flipV="1">
              <a:off x="3290400" y="5536800"/>
              <a:ext cx="9720" cy="888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 flipH="1">
              <a:off x="4044960" y="4686120"/>
              <a:ext cx="395280" cy="15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 flipH="1" flipV="1">
              <a:off x="1925280" y="4770000"/>
              <a:ext cx="452520" cy="127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12" name="Group 81"/>
            <p:cNvGrpSpPr/>
            <p:nvPr/>
          </p:nvGrpSpPr>
          <p:grpSpPr>
            <a:xfrm>
              <a:off x="1901160" y="3813120"/>
              <a:ext cx="1055880" cy="696240"/>
              <a:chOff x="1901160" y="3813120"/>
              <a:chExt cx="1055880" cy="696240"/>
            </a:xfrm>
          </p:grpSpPr>
          <p:sp>
            <p:nvSpPr>
              <p:cNvPr id="213" name="Text Box 79"/>
              <p:cNvSpPr/>
              <p:nvPr/>
            </p:nvSpPr>
            <p:spPr>
              <a:xfrm>
                <a:off x="1901160" y="38131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14" name="Text Box 80"/>
              <p:cNvSpPr/>
              <p:nvPr/>
            </p:nvSpPr>
            <p:spPr>
              <a:xfrm>
                <a:off x="2192400" y="4049640"/>
                <a:ext cx="76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-y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Group 100"/>
          <p:cNvGrpSpPr/>
          <p:nvPr/>
        </p:nvGrpSpPr>
        <p:grpSpPr>
          <a:xfrm>
            <a:off x="37440" y="717480"/>
            <a:ext cx="2985120" cy="2998800"/>
            <a:chOff x="37440" y="717480"/>
            <a:chExt cx="2985120" cy="2998800"/>
          </a:xfrm>
        </p:grpSpPr>
        <p:pic>
          <p:nvPicPr>
            <p:cNvPr id="216" name="Picture 38" descr=""/>
            <p:cNvPicPr/>
            <p:nvPr/>
          </p:nvPicPr>
          <p:blipFill>
            <a:blip r:embed="rId2"/>
            <a:srcRect l="19054" t="0" r="19779" b="0"/>
            <a:stretch/>
          </p:blipFill>
          <p:spPr>
            <a:xfrm>
              <a:off x="75960" y="880920"/>
              <a:ext cx="294660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Line 39"/>
            <p:cNvSpPr/>
            <p:nvPr/>
          </p:nvSpPr>
          <p:spPr>
            <a:xfrm flipH="1" flipV="1">
              <a:off x="1531440" y="1027080"/>
              <a:ext cx="17640" cy="620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8" name="Text Box 40"/>
            <p:cNvSpPr/>
            <p:nvPr/>
          </p:nvSpPr>
          <p:spPr>
            <a:xfrm>
              <a:off x="1534680" y="717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9" name="Line 41"/>
            <p:cNvSpPr/>
            <p:nvPr/>
          </p:nvSpPr>
          <p:spPr>
            <a:xfrm flipV="1">
              <a:off x="1550880" y="3174480"/>
              <a:ext cx="0" cy="343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0" name="Line 42"/>
            <p:cNvSpPr/>
            <p:nvPr/>
          </p:nvSpPr>
          <p:spPr>
            <a:xfrm flipH="1" flipV="1">
              <a:off x="2106000" y="2338200"/>
              <a:ext cx="582840" cy="162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2414520" y="240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 flipH="1" flipV="1">
              <a:off x="469440" y="1828440"/>
              <a:ext cx="219240" cy="57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 flipH="1">
              <a:off x="415800" y="2278080"/>
              <a:ext cx="10461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4" name="Text Box 46"/>
            <p:cNvSpPr/>
            <p:nvPr/>
          </p:nvSpPr>
          <p:spPr>
            <a:xfrm>
              <a:off x="409680" y="2651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 flipH="1">
              <a:off x="2458800" y="1665360"/>
              <a:ext cx="395280" cy="1522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26" name="Group 82"/>
            <p:cNvGrpSpPr/>
            <p:nvPr/>
          </p:nvGrpSpPr>
          <p:grpSpPr>
            <a:xfrm>
              <a:off x="37440" y="801720"/>
              <a:ext cx="746640" cy="696240"/>
              <a:chOff x="37440" y="801720"/>
              <a:chExt cx="746640" cy="696240"/>
            </a:xfrm>
          </p:grpSpPr>
          <p:sp>
            <p:nvSpPr>
              <p:cNvPr id="227" name="Text Box 83"/>
              <p:cNvSpPr/>
              <p:nvPr/>
            </p:nvSpPr>
            <p:spPr>
              <a:xfrm>
                <a:off x="37440" y="8017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28" name="Text Box 84"/>
              <p:cNvSpPr/>
              <p:nvPr/>
            </p:nvSpPr>
            <p:spPr>
              <a:xfrm>
                <a:off x="315360" y="103824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z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Group 99"/>
          <p:cNvGrpSpPr/>
          <p:nvPr/>
        </p:nvGrpSpPr>
        <p:grpSpPr>
          <a:xfrm>
            <a:off x="3048120" y="866880"/>
            <a:ext cx="3006720" cy="2849040"/>
            <a:chOff x="3048120" y="866880"/>
            <a:chExt cx="3006720" cy="2849040"/>
          </a:xfrm>
        </p:grpSpPr>
        <p:pic>
          <p:nvPicPr>
            <p:cNvPr id="230" name="Picture 48" descr=""/>
            <p:cNvPicPr/>
            <p:nvPr/>
          </p:nvPicPr>
          <p:blipFill>
            <a:blip r:embed="rId3"/>
            <a:srcRect l="19218" t="0" r="18358" b="0"/>
            <a:stretch/>
          </p:blipFill>
          <p:spPr>
            <a:xfrm>
              <a:off x="3048120" y="880920"/>
              <a:ext cx="3006720" cy="28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Line 49"/>
            <p:cNvSpPr/>
            <p:nvPr/>
          </p:nvSpPr>
          <p:spPr>
            <a:xfrm flipV="1">
              <a:off x="4526280" y="1177560"/>
              <a:ext cx="50760" cy="682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2" name="Text Box 50"/>
            <p:cNvSpPr/>
            <p:nvPr/>
          </p:nvSpPr>
          <p:spPr>
            <a:xfrm>
              <a:off x="4709880" y="903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3" name="Line 51"/>
            <p:cNvSpPr/>
            <p:nvPr/>
          </p:nvSpPr>
          <p:spPr>
            <a:xfrm flipV="1">
              <a:off x="4364280" y="3087720"/>
              <a:ext cx="42840" cy="515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4" name="Line 52"/>
            <p:cNvSpPr/>
            <p:nvPr/>
          </p:nvSpPr>
          <p:spPr>
            <a:xfrm flipH="1">
              <a:off x="3289680" y="2465280"/>
              <a:ext cx="785520" cy="24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5" name="Text Box 53"/>
            <p:cNvSpPr/>
            <p:nvPr/>
          </p:nvSpPr>
          <p:spPr>
            <a:xfrm>
              <a:off x="3343680" y="269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6" name="Line 54"/>
            <p:cNvSpPr/>
            <p:nvPr/>
          </p:nvSpPr>
          <p:spPr>
            <a:xfrm flipH="1">
              <a:off x="5565960" y="1895400"/>
              <a:ext cx="395280" cy="117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 flipH="1" flipV="1">
              <a:off x="5023080" y="2490480"/>
              <a:ext cx="582480" cy="212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8" name="Text Box 56"/>
            <p:cNvSpPr/>
            <p:nvPr/>
          </p:nvSpPr>
          <p:spPr>
            <a:xfrm>
              <a:off x="5539320" y="262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 flipH="1" flipV="1">
              <a:off x="3221280" y="1866240"/>
              <a:ext cx="263520" cy="83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40" name="Group 86"/>
            <p:cNvGrpSpPr/>
            <p:nvPr/>
          </p:nvGrpSpPr>
          <p:grpSpPr>
            <a:xfrm>
              <a:off x="3084120" y="866880"/>
              <a:ext cx="763920" cy="695880"/>
              <a:chOff x="3084120" y="866880"/>
              <a:chExt cx="763920" cy="695880"/>
            </a:xfrm>
          </p:grpSpPr>
          <p:sp>
            <p:nvSpPr>
              <p:cNvPr id="241" name="Text Box 87"/>
              <p:cNvSpPr/>
              <p:nvPr/>
            </p:nvSpPr>
            <p:spPr>
              <a:xfrm>
                <a:off x="3084120" y="866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42" name="Text Box 88"/>
              <p:cNvSpPr/>
              <p:nvPr/>
            </p:nvSpPr>
            <p:spPr>
              <a:xfrm>
                <a:off x="3362400" y="11030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Group 102"/>
          <p:cNvGrpSpPr/>
          <p:nvPr/>
        </p:nvGrpSpPr>
        <p:grpSpPr>
          <a:xfrm>
            <a:off x="6080040" y="888840"/>
            <a:ext cx="3016440" cy="2827080"/>
            <a:chOff x="6080040" y="888840"/>
            <a:chExt cx="3016440" cy="2827080"/>
          </a:xfrm>
        </p:grpSpPr>
        <p:pic>
          <p:nvPicPr>
            <p:cNvPr id="244" name="Picture 96" descr=""/>
            <p:cNvPicPr/>
            <p:nvPr/>
          </p:nvPicPr>
          <p:blipFill>
            <a:blip r:embed="rId4"/>
            <a:srcRect l="19943" t="4672" r="17439" b="7618"/>
            <a:stretch/>
          </p:blipFill>
          <p:spPr>
            <a:xfrm>
              <a:off x="6080040" y="888840"/>
              <a:ext cx="301644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Line 59"/>
            <p:cNvSpPr/>
            <p:nvPr/>
          </p:nvSpPr>
          <p:spPr>
            <a:xfrm flipH="1" flipV="1">
              <a:off x="7611840" y="2326680"/>
              <a:ext cx="1058760" cy="455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6" name="Text Box 60"/>
            <p:cNvSpPr/>
            <p:nvPr/>
          </p:nvSpPr>
          <p:spPr>
            <a:xfrm>
              <a:off x="8671320" y="269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7" name="Line 61"/>
            <p:cNvSpPr/>
            <p:nvPr/>
          </p:nvSpPr>
          <p:spPr>
            <a:xfrm flipH="1" flipV="1">
              <a:off x="6302160" y="1615320"/>
              <a:ext cx="290520" cy="136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8" name="Line 62"/>
            <p:cNvSpPr/>
            <p:nvPr/>
          </p:nvSpPr>
          <p:spPr>
            <a:xfrm flipH="1">
              <a:off x="6407280" y="2369880"/>
              <a:ext cx="681120" cy="277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9" name="Text Box 63"/>
            <p:cNvSpPr/>
            <p:nvPr/>
          </p:nvSpPr>
          <p:spPr>
            <a:xfrm>
              <a:off x="6229440" y="2604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0" name="Line 64"/>
            <p:cNvSpPr/>
            <p:nvPr/>
          </p:nvSpPr>
          <p:spPr>
            <a:xfrm flipH="1">
              <a:off x="8475840" y="1706400"/>
              <a:ext cx="395280" cy="142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1" name="Line 66"/>
            <p:cNvSpPr/>
            <p:nvPr/>
          </p:nvSpPr>
          <p:spPr>
            <a:xfrm flipV="1">
              <a:off x="7454880" y="1021680"/>
              <a:ext cx="15840" cy="4762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7144920" y="920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3" name="Line 68"/>
            <p:cNvSpPr/>
            <p:nvPr/>
          </p:nvSpPr>
          <p:spPr>
            <a:xfrm flipV="1">
              <a:off x="7423200" y="3304800"/>
              <a:ext cx="0" cy="393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54" name="Group 90"/>
            <p:cNvGrpSpPr/>
            <p:nvPr/>
          </p:nvGrpSpPr>
          <p:grpSpPr>
            <a:xfrm>
              <a:off x="6098760" y="937800"/>
              <a:ext cx="746640" cy="696240"/>
              <a:chOff x="6098760" y="937800"/>
              <a:chExt cx="746640" cy="696240"/>
            </a:xfrm>
          </p:grpSpPr>
          <p:sp>
            <p:nvSpPr>
              <p:cNvPr id="255" name="Text Box 91"/>
              <p:cNvSpPr/>
              <p:nvPr/>
            </p:nvSpPr>
            <p:spPr>
              <a:xfrm>
                <a:off x="6098760" y="9378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56" name="Text Box 92"/>
              <p:cNvSpPr/>
              <p:nvPr/>
            </p:nvSpPr>
            <p:spPr>
              <a:xfrm>
                <a:off x="6376680" y="117432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03"/>
          <p:cNvGrpSpPr/>
          <p:nvPr/>
        </p:nvGrpSpPr>
        <p:grpSpPr>
          <a:xfrm>
            <a:off x="5050800" y="3735360"/>
            <a:ext cx="2927880" cy="2995560"/>
            <a:chOff x="5050800" y="3735360"/>
            <a:chExt cx="2927880" cy="2995560"/>
          </a:xfrm>
        </p:grpSpPr>
        <p:pic>
          <p:nvPicPr>
            <p:cNvPr id="258" name="Picture 69" descr=""/>
            <p:cNvPicPr/>
            <p:nvPr/>
          </p:nvPicPr>
          <p:blipFill>
            <a:blip r:embed="rId5"/>
            <a:srcRect l="20339" t="-4304" r="18889" b="-1333"/>
            <a:stretch/>
          </p:blipFill>
          <p:spPr>
            <a:xfrm>
              <a:off x="5051160" y="3735360"/>
              <a:ext cx="292752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71"/>
            <p:cNvSpPr/>
            <p:nvPr/>
          </p:nvSpPr>
          <p:spPr>
            <a:xfrm>
              <a:off x="6108120" y="381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0" name="Line 70"/>
            <p:cNvSpPr/>
            <p:nvPr/>
          </p:nvSpPr>
          <p:spPr>
            <a:xfrm flipH="1" flipV="1">
              <a:off x="6432480" y="3846600"/>
              <a:ext cx="1440" cy="334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1" name="Line 72"/>
            <p:cNvSpPr/>
            <p:nvPr/>
          </p:nvSpPr>
          <p:spPr>
            <a:xfrm>
              <a:off x="6514920" y="6367320"/>
              <a:ext cx="7920" cy="363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2" name="Line 73"/>
            <p:cNvSpPr/>
            <p:nvPr/>
          </p:nvSpPr>
          <p:spPr>
            <a:xfrm flipH="1">
              <a:off x="5135040" y="5470560"/>
              <a:ext cx="490680" cy="198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3" name="Text Box 74"/>
            <p:cNvSpPr/>
            <p:nvPr/>
          </p:nvSpPr>
          <p:spPr>
            <a:xfrm>
              <a:off x="512136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7167240" y="4797360"/>
              <a:ext cx="395280" cy="162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5" name="Line 76"/>
            <p:cNvSpPr/>
            <p:nvPr/>
          </p:nvSpPr>
          <p:spPr>
            <a:xfrm flipH="1" flipV="1">
              <a:off x="7187760" y="5464080"/>
              <a:ext cx="409320" cy="169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6" name="Text Box 77"/>
            <p:cNvSpPr/>
            <p:nvPr/>
          </p:nvSpPr>
          <p:spPr>
            <a:xfrm>
              <a:off x="7539120" y="556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7" name="Line 78"/>
            <p:cNvSpPr/>
            <p:nvPr/>
          </p:nvSpPr>
          <p:spPr>
            <a:xfrm flipH="1" flipV="1">
              <a:off x="5409720" y="4890600"/>
              <a:ext cx="290520" cy="136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68" name="Group 93"/>
            <p:cNvGrpSpPr/>
            <p:nvPr/>
          </p:nvGrpSpPr>
          <p:grpSpPr>
            <a:xfrm>
              <a:off x="5050800" y="3882960"/>
              <a:ext cx="689400" cy="696240"/>
              <a:chOff x="5050800" y="3882960"/>
              <a:chExt cx="689400" cy="696240"/>
            </a:xfrm>
          </p:grpSpPr>
          <p:sp>
            <p:nvSpPr>
              <p:cNvPr id="269" name="Text Box 94"/>
              <p:cNvSpPr/>
              <p:nvPr/>
            </p:nvSpPr>
            <p:spPr>
              <a:xfrm>
                <a:off x="5050800" y="38829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70" name="Text Box 95"/>
              <p:cNvSpPr/>
              <p:nvPr/>
            </p:nvSpPr>
            <p:spPr>
              <a:xfrm>
                <a:off x="5335200" y="41194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14240" y="0"/>
            <a:ext cx="39052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5475240" y="515880"/>
            <a:ext cx="297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ble 3.6 p. 51-52 shows the progressive filling of orbitals as energy increas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274" name="Group 7"/>
          <p:cNvGrpSpPr/>
          <p:nvPr/>
        </p:nvGrpSpPr>
        <p:grpSpPr>
          <a:xfrm>
            <a:off x="208080" y="934920"/>
            <a:ext cx="8830800" cy="5792400"/>
            <a:chOff x="208080" y="934920"/>
            <a:chExt cx="8830800" cy="5792400"/>
          </a:xfrm>
        </p:grpSpPr>
        <p:sp>
          <p:nvSpPr>
            <p:cNvPr id="275" name="Rectangle 5"/>
            <p:cNvSpPr/>
            <p:nvPr/>
          </p:nvSpPr>
          <p:spPr>
            <a:xfrm>
              <a:off x="208080" y="934920"/>
              <a:ext cx="8830800" cy="5792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276" name="Picture 4" descr="ptable"/>
            <p:cNvPicPr/>
            <p:nvPr/>
          </p:nvPicPr>
          <p:blipFill>
            <a:blip r:embed="rId1"/>
            <a:stretch/>
          </p:blipFill>
          <p:spPr>
            <a:xfrm>
              <a:off x="241560" y="1001160"/>
              <a:ext cx="8432280" cy="560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5160" y="587160"/>
            <a:ext cx="855972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Notation:  Al = 1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2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2p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3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3p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toms may not look like thi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t's only a mode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ut it's a pretty good on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e'll see that these subshell shapes explain a lot of macroscopic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haracteristics of an atom depend a lot on 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configuration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is results in part from # p &amp; electrical neutrality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ut atoms with a different # of p &amp; e, but with similar e-configurations have similar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9400" y="587160"/>
            <a:ext cx="874548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t is the outermost shell or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valenc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s that are fundamenta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milar outermost shell configurations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Group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 the Periodic Table (Table 4.8 p.188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lkali met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Ia) have a lonely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 outer shell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halogen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VIIa) have 7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nert gase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VIIIa) have 8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 magic #... filled s &amp; p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He only has  s  with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2000" y="379440"/>
            <a:ext cx="868356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ther elements try to gain this stable inert gas config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have one extra (alkalis) will readily lose it if it can find another way to attain charge bala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is results in an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with a +1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roup II metals will lose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+2 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logens will capture an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ert gas config.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-1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onization Potenti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T 3.7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Electronegativit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s the ability of an atom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n a cryst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to attract electrons into its outer shel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general, electronegativity  increas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except for inert gases which are very low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2513160" y="5472000"/>
            <a:ext cx="96984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1" name="Line 4"/>
          <p:cNvSpPr/>
          <p:nvPr/>
        </p:nvSpPr>
        <p:spPr>
          <a:xfrm flipV="1">
            <a:off x="2513160" y="5627160"/>
            <a:ext cx="0" cy="75420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2000" y="587520"/>
            <a:ext cx="865836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lements are classified as: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w/ e-neg &lt; 1.9 thus los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ation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Non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&gt; 2.1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us gain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nion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Metalloid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termediate (B, Si, Ge, As, Sb, Te, Po..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83" name="Picture 6" descr="periodic"/>
          <p:cNvPicPr/>
          <p:nvPr/>
        </p:nvPicPr>
        <p:blipFill>
          <a:blip r:embed="rId1"/>
          <a:stretch/>
        </p:blipFill>
        <p:spPr>
          <a:xfrm>
            <a:off x="1666800" y="2911320"/>
            <a:ext cx="608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93720" y="10764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7280" y="785520"/>
            <a:ext cx="873432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lectrical in nature- responsible for most mineral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1)  Ionic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a: low 1st IP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Na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Ne confi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l:  high e-neg takes e- &amp; = Cl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Ar confi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w they have opposite charges &amp; attract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really a very unequal sharin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onding is strong (high melting point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t easily disrupted by polarized solvents (water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oor electrical conductors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trength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/bond length) &amp; 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s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non-direction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more later), so symm. is a packing function and thus rather high (isometric common)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e-neg of 2 atoms differs by 2.0 or more will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onic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06200" y="785880"/>
            <a:ext cx="893304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2)  Coval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sider 2 Cl atoms each trying to steal each other's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=  1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 p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3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3p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n't do, but if draw close until overlap an outer orbital, perhaps can share whereby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"fill" the remaining 3p shell of each C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ctually fill it only 1/2 the time for each, but better than noth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fact this compulsion to stay overlapped &amp; share results in a strong bo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Cl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is is the covalent or shared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 (the Socialist bond) 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ouble bonds when 2 orbitals shar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riple bonds when 3 orbitals shar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99960" y="785880"/>
            <a:ext cx="863928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rbon: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s    2s       2p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1s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   2(sp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191628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1" name="Line 22"/>
          <p:cNvSpPr/>
          <p:nvPr/>
        </p:nvSpPr>
        <p:spPr>
          <a:xfrm>
            <a:off x="258300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2" name="Line 27"/>
          <p:cNvSpPr/>
          <p:nvPr/>
        </p:nvSpPr>
        <p:spPr>
          <a:xfrm>
            <a:off x="326700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3" name="Line 30"/>
          <p:cNvSpPr/>
          <p:nvPr/>
        </p:nvSpPr>
        <p:spPr>
          <a:xfrm>
            <a:off x="557856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>
            <a:off x="625464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Line 34"/>
          <p:cNvSpPr/>
          <p:nvPr/>
        </p:nvSpPr>
        <p:spPr>
          <a:xfrm>
            <a:off x="681840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6" name="Line 43"/>
          <p:cNvSpPr/>
          <p:nvPr/>
        </p:nvSpPr>
        <p:spPr>
          <a:xfrm>
            <a:off x="735480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7" name="Line 44"/>
          <p:cNvSpPr/>
          <p:nvPr/>
        </p:nvSpPr>
        <p:spPr>
          <a:xfrm>
            <a:off x="796932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98" name="Group 69"/>
          <p:cNvGrpSpPr/>
          <p:nvPr/>
        </p:nvGrpSpPr>
        <p:grpSpPr>
          <a:xfrm>
            <a:off x="395280" y="2509920"/>
            <a:ext cx="8443800" cy="3921120"/>
            <a:chOff x="395280" y="2509920"/>
            <a:chExt cx="8443800" cy="3921120"/>
          </a:xfrm>
        </p:grpSpPr>
        <p:pic>
          <p:nvPicPr>
            <p:cNvPr id="299" name="Picture 46" descr="sp3"/>
            <p:cNvPicPr/>
            <p:nvPr/>
          </p:nvPicPr>
          <p:blipFill>
            <a:blip r:embed="rId1"/>
            <a:srcRect l="6500" t="4745" r="0" b="31860"/>
            <a:stretch/>
          </p:blipFill>
          <p:spPr>
            <a:xfrm>
              <a:off x="395280" y="2509920"/>
              <a:ext cx="844380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47"/>
            <p:cNvSpPr/>
            <p:nvPr/>
          </p:nvSpPr>
          <p:spPr>
            <a:xfrm>
              <a:off x="1290600" y="6164280"/>
              <a:ext cx="71748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1" name="Rectangle 48"/>
            <p:cNvSpPr/>
            <p:nvPr/>
          </p:nvSpPr>
          <p:spPr>
            <a:xfrm>
              <a:off x="866880" y="516888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2" name="Rectangle 49"/>
            <p:cNvSpPr/>
            <p:nvPr/>
          </p:nvSpPr>
          <p:spPr>
            <a:xfrm>
              <a:off x="4591080" y="603576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3" name="Rectangle 50"/>
            <p:cNvSpPr/>
            <p:nvPr/>
          </p:nvSpPr>
          <p:spPr>
            <a:xfrm>
              <a:off x="8271000" y="287496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304" name="Picture 51" descr=""/>
            <p:cNvPicPr/>
            <p:nvPr/>
          </p:nvPicPr>
          <p:blipFill>
            <a:blip r:embed="rId2"/>
            <a:stretch/>
          </p:blipFill>
          <p:spPr>
            <a:xfrm>
              <a:off x="5580000" y="3355920"/>
              <a:ext cx="3240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52" descr=""/>
            <p:cNvPicPr/>
            <p:nvPr/>
          </p:nvPicPr>
          <p:blipFill>
            <a:blip r:embed="rId3"/>
            <a:stretch/>
          </p:blipFill>
          <p:spPr>
            <a:xfrm>
              <a:off x="5199120" y="2608200"/>
              <a:ext cx="28872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54" descr=""/>
            <p:cNvPicPr/>
            <p:nvPr/>
          </p:nvPicPr>
          <p:blipFill>
            <a:blip r:embed="rId4"/>
            <a:stretch/>
          </p:blipFill>
          <p:spPr>
            <a:xfrm>
              <a:off x="4254480" y="295416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55" descr=""/>
            <p:cNvPicPr/>
            <p:nvPr/>
          </p:nvPicPr>
          <p:blipFill>
            <a:blip r:embed="rId5"/>
            <a:stretch/>
          </p:blipFill>
          <p:spPr>
            <a:xfrm>
              <a:off x="4254480" y="580248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56" descr=""/>
            <p:cNvPicPr/>
            <p:nvPr/>
          </p:nvPicPr>
          <p:blipFill>
            <a:blip r:embed="rId6"/>
            <a:stretch/>
          </p:blipFill>
          <p:spPr>
            <a:xfrm>
              <a:off x="6956280" y="586260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7" descr=""/>
            <p:cNvPicPr/>
            <p:nvPr/>
          </p:nvPicPr>
          <p:blipFill>
            <a:blip r:embed="rId7"/>
            <a:stretch/>
          </p:blipFill>
          <p:spPr>
            <a:xfrm>
              <a:off x="7908840" y="545616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58" descr=""/>
            <p:cNvPicPr/>
            <p:nvPr/>
          </p:nvPicPr>
          <p:blipFill>
            <a:blip r:embed="rId8"/>
            <a:stretch/>
          </p:blipFill>
          <p:spPr>
            <a:xfrm>
              <a:off x="7873920" y="261612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59" descr=""/>
            <p:cNvPicPr/>
            <p:nvPr/>
          </p:nvPicPr>
          <p:blipFill>
            <a:blip r:embed="rId9"/>
            <a:stretch/>
          </p:blipFill>
          <p:spPr>
            <a:xfrm>
              <a:off x="6956280" y="301464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60" descr=""/>
            <p:cNvPicPr/>
            <p:nvPr/>
          </p:nvPicPr>
          <p:blipFill>
            <a:blip r:embed="rId10"/>
            <a:stretch/>
          </p:blipFill>
          <p:spPr>
            <a:xfrm>
              <a:off x="6039000" y="27986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61" descr=""/>
            <p:cNvPicPr/>
            <p:nvPr/>
          </p:nvPicPr>
          <p:blipFill>
            <a:blip r:embed="rId11"/>
            <a:stretch/>
          </p:blipFill>
          <p:spPr>
            <a:xfrm>
              <a:off x="4713120" y="421020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2" descr=""/>
            <p:cNvPicPr/>
            <p:nvPr/>
          </p:nvPicPr>
          <p:blipFill>
            <a:blip r:embed="rId12"/>
            <a:stretch/>
          </p:blipFill>
          <p:spPr>
            <a:xfrm>
              <a:off x="6012000" y="563868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63" descr=""/>
            <p:cNvPicPr/>
            <p:nvPr/>
          </p:nvPicPr>
          <p:blipFill>
            <a:blip r:embed="rId13"/>
            <a:stretch/>
          </p:blipFill>
          <p:spPr>
            <a:xfrm>
              <a:off x="7432560" y="421020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64" descr=""/>
            <p:cNvPicPr/>
            <p:nvPr/>
          </p:nvPicPr>
          <p:blipFill>
            <a:blip r:embed="rId14"/>
            <a:stretch/>
          </p:blipFill>
          <p:spPr>
            <a:xfrm>
              <a:off x="5605560" y="44006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65" descr=""/>
            <p:cNvPicPr/>
            <p:nvPr/>
          </p:nvPicPr>
          <p:blipFill>
            <a:blip r:embed="rId15"/>
            <a:stretch/>
          </p:blipFill>
          <p:spPr>
            <a:xfrm>
              <a:off x="5137200" y="54482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66" descr=""/>
            <p:cNvPicPr/>
            <p:nvPr/>
          </p:nvPicPr>
          <p:blipFill>
            <a:blip r:embed="rId16"/>
            <a:stretch/>
          </p:blipFill>
          <p:spPr>
            <a:xfrm>
              <a:off x="5138640" y="4967280"/>
              <a:ext cx="3240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7" descr=""/>
            <p:cNvPicPr/>
            <p:nvPr/>
          </p:nvPicPr>
          <p:blipFill>
            <a:blip r:embed="rId17"/>
            <a:stretch/>
          </p:blipFill>
          <p:spPr>
            <a:xfrm>
              <a:off x="7035840" y="4829040"/>
              <a:ext cx="323640" cy="3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68" descr=""/>
            <p:cNvPicPr/>
            <p:nvPr/>
          </p:nvPicPr>
          <p:blipFill>
            <a:blip r:embed="rId18"/>
            <a:stretch/>
          </p:blipFill>
          <p:spPr>
            <a:xfrm>
              <a:off x="6480000" y="3693960"/>
              <a:ext cx="3240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70"/>
          <p:cNvSpPr/>
          <p:nvPr/>
        </p:nvSpPr>
        <p:spPr>
          <a:xfrm>
            <a:off x="1242360" y="5683320"/>
            <a:ext cx="25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C-C angle = 10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’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Line 71"/>
          <p:cNvSpPr/>
          <p:nvPr/>
        </p:nvSpPr>
        <p:spPr>
          <a:xfrm>
            <a:off x="380376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3" name="Line 76"/>
          <p:cNvSpPr/>
          <p:nvPr/>
        </p:nvSpPr>
        <p:spPr>
          <a:xfrm>
            <a:off x="434988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4" name="Text Box 77"/>
          <p:cNvSpPr/>
          <p:nvPr/>
        </p:nvSpPr>
        <p:spPr>
          <a:xfrm>
            <a:off x="522360" y="2558880"/>
            <a:ext cx="29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Fig 8-8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of Bloss, Crystallography and Crystal Chemistry. © MSA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omework Problem Handou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)  2 Pyroxene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vert wt% oxides to formula.  COOKBOOK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)  Unit cell dimensions &amp; density of olivin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lculate the Unit Cell Content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mber ducky/fishy?  Z= # of motifs/u.c. 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w motif = some "molecule"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 method of Scientific Analysis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6" name="Rectangle 1027"/>
          <p:cNvSpPr/>
          <p:nvPr/>
        </p:nvSpPr>
        <p:spPr>
          <a:xfrm>
            <a:off x="399960" y="785880"/>
            <a:ext cx="86392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is tetrahedrally shaped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energy is identical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arger overlap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strong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irectional: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each C is tetrahedrally coordinated with 4 others (&amp; each of them with 4 others...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-C-C bond angle fixed at 109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28' (max. overlap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te Face-centered Cubic lattic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directional character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lower coordination &amp; symmetry, den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99960" y="785880"/>
            <a:ext cx="86392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ternatively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rbon: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s    2s          2p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 1s          2(sp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         2p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 most organic chemists know, C is a flexible ele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fact, many atoms in the center of the Periodic Table with partially filled valence shells are variable in how they attain stability (this includes Si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>
            <a:off x="20667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273384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1784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572148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63975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698832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75675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399888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Line 13"/>
          <p:cNvSpPr/>
          <p:nvPr/>
        </p:nvSpPr>
        <p:spPr>
          <a:xfrm>
            <a:off x="457848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820728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99960" y="785880"/>
            <a:ext cx="8639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3 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orbitals are coplanar &amp; 120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apa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Graphite stru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289160" y="2216160"/>
            <a:ext cx="7281720" cy="4349880"/>
            <a:chOff x="1289160" y="2216160"/>
            <a:chExt cx="7281720" cy="4349880"/>
          </a:xfrm>
        </p:grpSpPr>
        <p:pic>
          <p:nvPicPr>
            <p:cNvPr id="342" name="Picture 5" descr="sp2"/>
            <p:cNvPicPr/>
            <p:nvPr/>
          </p:nvPicPr>
          <p:blipFill>
            <a:blip r:embed="rId1"/>
            <a:srcRect l="3896" t="5493" r="0" b="2714"/>
            <a:stretch/>
          </p:blipFill>
          <p:spPr>
            <a:xfrm>
              <a:off x="1289160" y="2216160"/>
              <a:ext cx="728172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6"/>
            <p:cNvSpPr/>
            <p:nvPr/>
          </p:nvSpPr>
          <p:spPr>
            <a:xfrm>
              <a:off x="1714680" y="2216160"/>
              <a:ext cx="2225520" cy="70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>
              <a:off x="1878120" y="5211720"/>
              <a:ext cx="328680" cy="37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>
              <a:off x="4562640" y="6224760"/>
              <a:ext cx="328320" cy="31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346" name="Text Box 9"/>
          <p:cNvSpPr/>
          <p:nvPr/>
        </p:nvSpPr>
        <p:spPr>
          <a:xfrm>
            <a:off x="1378080" y="2308320"/>
            <a:ext cx="29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Fig 8-8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of Bloss, Crystallography and Crystal Chemistry. © MSA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9960" y="785880"/>
            <a:ext cx="86392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3 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orbitals are coplanar &amp; 120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apa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Graphite stru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verlap similar to diamond w/in sheets (strong too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ust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Hexagonal Crystal Clas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te </a:t>
            </a: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-bonding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between remaining 2p'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results in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elocalized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's in 2p which results in electrical conductivity only within shee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47760" y="1400040"/>
            <a:ext cx="86389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re are other hybrids as well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d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in CuO- planar 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may resonate in bonds of non-identical atoms &amp; give a partial ionic character if one much more e-neg than oth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fact most ionic crystals share to some extent while covalent may share unequall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is a result of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-ne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44440" y="1027080"/>
            <a:ext cx="874224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3)  Metallic Bond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s are on the left of the P.T.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ve few, loosely held valenc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f closely pack them can get up to 12 "touching" nearest neighbo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a high density of valenc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around any given atom &amp; also a high density of neighbor atoms around the loose valenc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e effect is to show such a general attraction for thes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that they become free to maintain an electrical neutrality in the xl as a whole... a sea of mobile electr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t's call it the left-side equivalent of the covalent bo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On the right side the e-neg is high &amp; atoms are trying to tak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26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4" name="Rectangle 1027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)  Metallic Bond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et's call it the left-side equivalent of the covalent bo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n the right side the e-neg is high &amp; atoms are trying to tak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can't, must share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ightl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n left, w/ low e-neg &amp; low I.P.  they aren't trying to take, but to give, s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loosel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har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lic crystals thus conduct electricity and hea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050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6" name="Rectangle 2051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4)  Van der Waals Bond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akest bo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ually between neutral molecules (even large ones like graphite sheet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ided by polar or partial polar covalent bonds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ven stable A-A bonds like O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or Cl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will  get slightly polar at low T &amp; condense to liquid &amp; ordered solid as vibration slows &amp;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polar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akness of the bond is apparent in graphite cleav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57" name="Picture 2052" descr=""/>
          <p:cNvPicPr/>
          <p:nvPr/>
        </p:nvPicPr>
        <p:blipFill>
          <a:blip r:embed="rId1"/>
          <a:stretch/>
        </p:blipFill>
        <p:spPr>
          <a:xfrm>
            <a:off x="1851120" y="5535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53" descr=""/>
          <p:cNvPicPr/>
          <p:nvPr/>
        </p:nvPicPr>
        <p:blipFill>
          <a:blip r:embed="rId2"/>
          <a:stretch/>
        </p:blipFill>
        <p:spPr>
          <a:xfrm>
            <a:off x="2525760" y="5562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54" descr=""/>
          <p:cNvPicPr/>
          <p:nvPr/>
        </p:nvPicPr>
        <p:blipFill>
          <a:blip r:embed="rId3"/>
          <a:stretch/>
        </p:blipFill>
        <p:spPr>
          <a:xfrm>
            <a:off x="3583080" y="5535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55" descr=""/>
          <p:cNvPicPr/>
          <p:nvPr/>
        </p:nvPicPr>
        <p:blipFill>
          <a:blip r:embed="rId4"/>
          <a:stretch/>
        </p:blipFill>
        <p:spPr>
          <a:xfrm>
            <a:off x="4257720" y="5562720"/>
            <a:ext cx="1104840" cy="11192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056"/>
          <p:cNvSpPr/>
          <p:nvPr/>
        </p:nvSpPr>
        <p:spPr>
          <a:xfrm>
            <a:off x="6376320" y="5634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densed C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2" name="Line 2057"/>
          <p:cNvSpPr/>
          <p:nvPr/>
        </p:nvSpPr>
        <p:spPr>
          <a:xfrm flipV="1">
            <a:off x="240840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3" name="Line 2058"/>
          <p:cNvSpPr/>
          <p:nvPr/>
        </p:nvSpPr>
        <p:spPr>
          <a:xfrm flipV="1">
            <a:off x="311796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Line 2059"/>
          <p:cNvSpPr/>
          <p:nvPr/>
        </p:nvSpPr>
        <p:spPr>
          <a:xfrm flipV="1">
            <a:off x="414036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5" name="Line 2060"/>
          <p:cNvSpPr/>
          <p:nvPr/>
        </p:nvSpPr>
        <p:spPr>
          <a:xfrm>
            <a:off x="2424240" y="5384880"/>
            <a:ext cx="676080" cy="0"/>
          </a:xfrm>
          <a:prstGeom prst="line">
            <a:avLst/>
          </a:prstGeom>
          <a:ln w="9360">
            <a:solidFill>
              <a:srgbClr val="ff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6" name="Line 2061"/>
          <p:cNvSpPr/>
          <p:nvPr/>
        </p:nvSpPr>
        <p:spPr>
          <a:xfrm>
            <a:off x="3152880" y="5384880"/>
            <a:ext cx="961920" cy="0"/>
          </a:xfrm>
          <a:prstGeom prst="line">
            <a:avLst/>
          </a:prstGeom>
          <a:ln w="9360">
            <a:solidFill>
              <a:srgbClr val="ff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7" name="Text Box 2062"/>
          <p:cNvSpPr/>
          <p:nvPr/>
        </p:nvSpPr>
        <p:spPr>
          <a:xfrm>
            <a:off x="2527560" y="508176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cov          VdW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an't absolutely determine: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cloud is nebulous &amp; based on probability of encountering an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crystalline solids the center-to-center distance =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bond length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&amp; is accepted to =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sum of ionic radi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ow get ionic radius of X &amp; Y in XY compound??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44440" y="1027080"/>
            <a:ext cx="874224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ed one pure element firs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ative Cu.  Atomic radius = 1/2 bond length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s usually FCC or BC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1370160" y="3436920"/>
            <a:ext cx="758520" cy="76680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1914480" y="3956040"/>
            <a:ext cx="758880" cy="76680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4" name="Oval 18"/>
          <p:cNvSpPr/>
          <p:nvPr/>
        </p:nvSpPr>
        <p:spPr>
          <a:xfrm>
            <a:off x="2482920" y="4484520"/>
            <a:ext cx="75888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5" name="Oval 19"/>
          <p:cNvSpPr/>
          <p:nvPr/>
        </p:nvSpPr>
        <p:spPr>
          <a:xfrm>
            <a:off x="2443320" y="3406680"/>
            <a:ext cx="76824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6" name="Oval 20"/>
          <p:cNvSpPr/>
          <p:nvPr/>
        </p:nvSpPr>
        <p:spPr>
          <a:xfrm>
            <a:off x="1338120" y="4484520"/>
            <a:ext cx="76068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1724040" y="3759120"/>
            <a:ext cx="1143000" cy="11383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2220480" y="3251160"/>
            <a:ext cx="18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3033360" y="4064040"/>
            <a:ext cx="18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4359240" y="3005280"/>
            <a:ext cx="2679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-ray d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onic radius =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1" name="Line 26"/>
          <p:cNvSpPr/>
          <p:nvPr/>
        </p:nvSpPr>
        <p:spPr>
          <a:xfrm flipV="1">
            <a:off x="6407280" y="3868200"/>
            <a:ext cx="44280" cy="2556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2" name="Line 27"/>
          <p:cNvSpPr/>
          <p:nvPr/>
        </p:nvSpPr>
        <p:spPr>
          <a:xfrm>
            <a:off x="6451560" y="3876840"/>
            <a:ext cx="65160" cy="131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6524640" y="3619080"/>
            <a:ext cx="84240" cy="38916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4" name="Line 29"/>
          <p:cNvSpPr/>
          <p:nvPr/>
        </p:nvSpPr>
        <p:spPr>
          <a:xfrm>
            <a:off x="6608880" y="3619440"/>
            <a:ext cx="528480" cy="180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5" name="Line 30"/>
          <p:cNvSpPr/>
          <p:nvPr/>
        </p:nvSpPr>
        <p:spPr>
          <a:xfrm>
            <a:off x="6372360" y="4125960"/>
            <a:ext cx="795240" cy="144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6" name="Rectangle 31"/>
          <p:cNvSpPr/>
          <p:nvPr/>
        </p:nvSpPr>
        <p:spPr>
          <a:xfrm>
            <a:off x="6627240" y="3683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7" name="Rectangle 32"/>
          <p:cNvSpPr/>
          <p:nvPr/>
        </p:nvSpPr>
        <p:spPr>
          <a:xfrm>
            <a:off x="6686280" y="417348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8" name="Rectangle 33"/>
          <p:cNvSpPr/>
          <p:nvPr/>
        </p:nvSpPr>
        <p:spPr>
          <a:xfrm>
            <a:off x="6981120" y="365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9" name="Rectangle 34"/>
          <p:cNvSpPr/>
          <p:nvPr/>
        </p:nvSpPr>
        <p:spPr>
          <a:xfrm>
            <a:off x="6811920" y="3683160"/>
            <a:ext cx="15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1722600" y="3774960"/>
            <a:ext cx="1135080" cy="11160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3360" y="1168200"/>
            <a:ext cx="857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ethod of Scientific Analysi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rite single equation to get from what have to what want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ve:  u. c. Volume (in A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) &amp; formula A = 10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8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cm. 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ant Z = # formula units/ u.c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xample 8 mi/hr = ? in ft/sec?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do all on one line with #'s and units,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units work # must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ant formula units/mole (Avocado’s #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84320" y="1027080"/>
            <a:ext cx="880236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 can do this on 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our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lab!! 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can look up lattice type (really space group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CC use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d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diagonal rather than fac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ith compounds, don't know what % of bondlength to which atom, but if know one can get oth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o can keep on as accumulate more &amp; more compounds from known se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lots of cations etc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84320" y="1027080"/>
            <a:ext cx="880236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owever there are variation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1)  Variations in related to % ionic or covalent character (or VdW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2)  Variations in # of closest neighbors (coordination #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Handout of Atomic and Ionic Radi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97000" y="1019160"/>
            <a:ext cx="86756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rrection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ons- usually for VI coordination (not 6-fold symm!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4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IV (Si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1.03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I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1.12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XII (metal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lic Atoms given for XII (most common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88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IV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6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8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I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valent bonds given for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ingl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rect for double, triple  (stronger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short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84320" y="1027080"/>
            <a:ext cx="880236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rue radius will vary with actual bond-type, resonance (1x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x in covalent), structural causes (Na in Ab), &amp; coordination #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urpose of all this radii stuff: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 understand &amp; predict behavior of atoms in crystalline solid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rticularly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Coordination Numb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rystals can be classified into 4 types: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1. Molecular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utral molecules held together by weak van der Waals bond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are as mineral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ostly organi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Weak and readliy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ecompose, melt, et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graphite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1" name="Picture 4" descr="PLOT022"/>
          <p:cNvPicPr/>
          <p:nvPr/>
        </p:nvPicPr>
        <p:blipFill>
          <a:blip r:embed="rId1"/>
          <a:srcRect l="9117" t="6104" r="8833" b="21309"/>
          <a:stretch/>
        </p:blipFill>
        <p:spPr>
          <a:xfrm>
            <a:off x="4108320" y="2901960"/>
            <a:ext cx="48024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2. Covalent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toms of similar high e-neg and toward right side of P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so uncommon as minerals (but less so than molecular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twork of strong covalen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onds with no weak link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irectional bonds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low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ymmetry and dens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iamond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4" name="Picture 6" descr="PLOT027"/>
          <p:cNvPicPr/>
          <p:nvPr/>
        </p:nvPicPr>
        <p:blipFill>
          <a:blip r:embed="rId1"/>
          <a:srcRect l="11392" t="5298" r="8833" b="3803"/>
          <a:stretch/>
        </p:blipFill>
        <p:spPr>
          <a:xfrm>
            <a:off x="4556160" y="2602080"/>
            <a:ext cx="45352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The diamond structur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l carbon atoms in IV coordination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7" name="Picture 5" descr="PLOT025"/>
          <p:cNvPicPr/>
          <p:nvPr/>
        </p:nvPicPr>
        <p:blipFill>
          <a:blip r:embed="rId1"/>
          <a:srcRect l="12251" t="4950" r="9117" b="3416"/>
          <a:stretch/>
        </p:blipFill>
        <p:spPr>
          <a:xfrm>
            <a:off x="247680" y="2243160"/>
            <a:ext cx="4838760" cy="4224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PLOT026"/>
          <p:cNvPicPr/>
          <p:nvPr/>
        </p:nvPicPr>
        <p:blipFill>
          <a:blip r:embed="rId2"/>
          <a:srcRect l="14265" t="7599" r="10818" b="5298"/>
          <a:stretch/>
        </p:blipFill>
        <p:spPr>
          <a:xfrm>
            <a:off x="5335560" y="3375000"/>
            <a:ext cx="3697200" cy="3220920"/>
          </a:xfrm>
          <a:prstGeom prst="rect">
            <a:avLst/>
          </a:prstGeom>
          <a:ln w="0">
            <a:noFill/>
          </a:ln>
        </p:spPr>
      </p:pic>
      <p:sp>
        <p:nvSpPr>
          <p:cNvPr id="409" name="Line 8"/>
          <p:cNvSpPr/>
          <p:nvPr/>
        </p:nvSpPr>
        <p:spPr>
          <a:xfrm>
            <a:off x="1090440" y="3792600"/>
            <a:ext cx="330480" cy="17319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0" name="Line 9"/>
          <p:cNvSpPr/>
          <p:nvPr/>
        </p:nvSpPr>
        <p:spPr>
          <a:xfrm flipV="1">
            <a:off x="1160640" y="3238200"/>
            <a:ext cx="726840" cy="415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1" name="Line 10"/>
          <p:cNvSpPr/>
          <p:nvPr/>
        </p:nvSpPr>
        <p:spPr>
          <a:xfrm flipV="1">
            <a:off x="2085840" y="304776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3714840" y="3152880"/>
            <a:ext cx="323640" cy="16858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3257640" y="4991040"/>
            <a:ext cx="714240" cy="4287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1542960" y="5486400"/>
            <a:ext cx="1486080" cy="1144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1533600" y="5124600"/>
            <a:ext cx="723960" cy="419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6" name="Line 15"/>
          <p:cNvSpPr/>
          <p:nvPr/>
        </p:nvSpPr>
        <p:spPr>
          <a:xfrm flipV="1">
            <a:off x="2457360" y="494316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7" name="Line 16"/>
          <p:cNvSpPr/>
          <p:nvPr/>
        </p:nvSpPr>
        <p:spPr>
          <a:xfrm>
            <a:off x="2000160" y="3286080"/>
            <a:ext cx="162000" cy="8193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2209680" y="4324320"/>
            <a:ext cx="123840" cy="638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9" name="Line 18"/>
          <p:cNvSpPr/>
          <p:nvPr/>
        </p:nvSpPr>
        <p:spPr>
          <a:xfrm>
            <a:off x="2809800" y="3686040"/>
            <a:ext cx="324000" cy="1619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0" name="Line 19"/>
          <p:cNvSpPr/>
          <p:nvPr/>
        </p:nvSpPr>
        <p:spPr>
          <a:xfrm flipV="1">
            <a:off x="1190520" y="359064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1" name="Line 20"/>
          <p:cNvSpPr/>
          <p:nvPr/>
        </p:nvSpPr>
        <p:spPr>
          <a:xfrm flipV="1">
            <a:off x="2886120" y="3105000"/>
            <a:ext cx="723960" cy="409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411480" y="64278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all-and-stick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5578200" y="642636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olyhedral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24" name="Picture 23" descr="PLOT028"/>
          <p:cNvPicPr/>
          <p:nvPr/>
        </p:nvPicPr>
        <p:blipFill>
          <a:blip r:embed="rId3"/>
          <a:srcRect l="9692" t="3803" r="9692" b="8753"/>
          <a:stretch/>
        </p:blipFill>
        <p:spPr>
          <a:xfrm>
            <a:off x="5935680" y="960480"/>
            <a:ext cx="2914560" cy="2368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4"/>
          <p:cNvSpPr/>
          <p:nvPr/>
        </p:nvSpPr>
        <p:spPr>
          <a:xfrm>
            <a:off x="7665120" y="64087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blue C onl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6739200" y="603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hard-sphere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3267000" y="613404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FCC unit cel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3. Metallic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toms of similar e-neg and toward left side of P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etallic bonds are directionless bonds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high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ymmetry and dens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ure metals have same sized atom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losest packing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12 nearest mutually-touching neighbor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ubic Closest Packing (CCP)   abcabcabc stacking = FCC cell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Hexagonal Closest Packing (HCP)  ababab  = hexagonal cell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so BCC in metals, but this is not CP  (VII coordination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More on coordination and closest packing a bit later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4. Ionic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ost mineral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irst approximation: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2" marL="1246320" indent="-2937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losest-packed array of oxygen atoms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2" marL="1246320" indent="-2937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ations fit into interstices between oxygen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ifferent types of interstitial sites available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Occupy only certain types where can fi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Occupy only enough of them to attain electric neutral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880" y="1159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omposition of the Earth’s Crus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52" name="Object 0"/>
          <p:cNvGraphicFramePr/>
          <p:nvPr/>
        </p:nvGraphicFramePr>
        <p:xfrm>
          <a:off x="1174680" y="965160"/>
          <a:ext cx="68518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965160"/>
                    <a:ext cx="68518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5"/>
          <p:cNvSpPr/>
          <p:nvPr/>
        </p:nvSpPr>
        <p:spPr>
          <a:xfrm>
            <a:off x="485640" y="4788000"/>
            <a:ext cx="8291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st common silicates are from thes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 alone = 94 vol. % of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rhaps good to think of crust as a packed O array with interspersed metal cations in the interstices!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alogy works for minerals too (they make up the crust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Bohr model for the ato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Nucleus = p + n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Z (Atomic #)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Gives elements their identity (properties)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 (~ all mass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 + n (variable)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atomic weight (isotopes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t. Wt. is real # due to average of isotop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spin around atom and give it it's size (statistical size) Atomic radii in the range 0.5-2.5 A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in special shells w/ particular Energy levels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Quantize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6014880" y="69840"/>
            <a:ext cx="2632320" cy="2685600"/>
            <a:chOff x="6014880" y="69840"/>
            <a:chExt cx="2632320" cy="2685600"/>
          </a:xfrm>
        </p:grpSpPr>
        <p:grpSp>
          <p:nvGrpSpPr>
            <p:cNvPr id="58" name="Group 5"/>
            <p:cNvGrpSpPr/>
            <p:nvPr/>
          </p:nvGrpSpPr>
          <p:grpSpPr>
            <a:xfrm>
              <a:off x="7182720" y="606240"/>
              <a:ext cx="444240" cy="195120"/>
              <a:chOff x="7182720" y="606240"/>
              <a:chExt cx="444240" cy="195120"/>
            </a:xfrm>
          </p:grpSpPr>
          <p:sp>
            <p:nvSpPr>
              <p:cNvPr id="59" name="Line 6"/>
              <p:cNvSpPr/>
              <p:nvPr/>
            </p:nvSpPr>
            <p:spPr>
              <a:xfrm flipH="1" flipV="1">
                <a:off x="7182720" y="606240"/>
                <a:ext cx="444240" cy="144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 flipH="1" flipV="1">
                <a:off x="7362000" y="728640"/>
                <a:ext cx="235440" cy="727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 flipH="1" flipV="1">
                <a:off x="7285680" y="671760"/>
                <a:ext cx="323280" cy="1011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9"/>
            <p:cNvGrpSpPr/>
            <p:nvPr/>
          </p:nvGrpSpPr>
          <p:grpSpPr>
            <a:xfrm>
              <a:off x="6618600" y="1712520"/>
              <a:ext cx="217080" cy="434880"/>
              <a:chOff x="6618600" y="1712520"/>
              <a:chExt cx="217080" cy="434880"/>
            </a:xfrm>
          </p:grpSpPr>
          <p:sp>
            <p:nvSpPr>
              <p:cNvPr id="63" name="Line 10"/>
              <p:cNvSpPr/>
              <p:nvPr/>
            </p:nvSpPr>
            <p:spPr>
              <a:xfrm>
                <a:off x="6618600" y="1727280"/>
                <a:ext cx="217080" cy="420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>
                <a:off x="6675120" y="1712520"/>
                <a:ext cx="117360" cy="220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>
                <a:off x="6647040" y="1724040"/>
                <a:ext cx="160920" cy="303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3"/>
            <p:cNvGrpSpPr/>
            <p:nvPr/>
          </p:nvGrpSpPr>
          <p:grpSpPr>
            <a:xfrm>
              <a:off x="8004600" y="2322360"/>
              <a:ext cx="411120" cy="267120"/>
              <a:chOff x="8004600" y="2322360"/>
              <a:chExt cx="411120" cy="267120"/>
            </a:xfrm>
          </p:grpSpPr>
          <p:sp>
            <p:nvSpPr>
              <p:cNvPr id="67" name="Line 14"/>
              <p:cNvSpPr/>
              <p:nvPr/>
            </p:nvSpPr>
            <p:spPr>
              <a:xfrm flipV="1">
                <a:off x="8025480" y="2322360"/>
                <a:ext cx="390240" cy="267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" name="Line 15"/>
              <p:cNvSpPr/>
              <p:nvPr/>
            </p:nvSpPr>
            <p:spPr>
              <a:xfrm flipV="1">
                <a:off x="8004600" y="2391840"/>
                <a:ext cx="203760" cy="143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" name="Line 16"/>
              <p:cNvSpPr/>
              <p:nvPr/>
            </p:nvSpPr>
            <p:spPr>
              <a:xfrm flipV="1">
                <a:off x="8019360" y="2365200"/>
                <a:ext cx="280800" cy="196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7"/>
            <p:cNvGrpSpPr/>
            <p:nvPr/>
          </p:nvGrpSpPr>
          <p:grpSpPr>
            <a:xfrm>
              <a:off x="7192800" y="69840"/>
              <a:ext cx="461880" cy="123120"/>
              <a:chOff x="7192800" y="69840"/>
              <a:chExt cx="461880" cy="123120"/>
            </a:xfrm>
          </p:grpSpPr>
          <p:sp>
            <p:nvSpPr>
              <p:cNvPr id="71" name="Line 18"/>
              <p:cNvSpPr/>
              <p:nvPr/>
            </p:nvSpPr>
            <p:spPr>
              <a:xfrm flipH="1" flipV="1">
                <a:off x="7192800" y="69840"/>
                <a:ext cx="461880" cy="68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 flipV="1">
                <a:off x="7390080" y="160200"/>
                <a:ext cx="244080" cy="32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H="1" flipV="1">
                <a:off x="7305480" y="117720"/>
                <a:ext cx="335160" cy="46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pic>
          <p:nvPicPr>
            <p:cNvPr id="74" name="Picture 21" descr=""/>
            <p:cNvPicPr/>
            <p:nvPr/>
          </p:nvPicPr>
          <p:blipFill>
            <a:blip r:embed="rId1"/>
            <a:stretch/>
          </p:blipFill>
          <p:spPr>
            <a:xfrm>
              <a:off x="7016760" y="1172520"/>
              <a:ext cx="5634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Oval 22"/>
            <p:cNvSpPr/>
            <p:nvPr/>
          </p:nvSpPr>
          <p:spPr>
            <a:xfrm>
              <a:off x="6597360" y="720000"/>
              <a:ext cx="1456560" cy="14799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6" name="Oval 23"/>
            <p:cNvSpPr/>
            <p:nvPr/>
          </p:nvSpPr>
          <p:spPr>
            <a:xfrm>
              <a:off x="6014880" y="133200"/>
              <a:ext cx="2632320" cy="262224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77" name="Picture 24" descr=""/>
            <p:cNvPicPr/>
            <p:nvPr/>
          </p:nvPicPr>
          <p:blipFill>
            <a:blip r:embed="rId2"/>
            <a:stretch/>
          </p:blipFill>
          <p:spPr>
            <a:xfrm>
              <a:off x="7603560" y="766440"/>
              <a:ext cx="81000" cy="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3"/>
            <a:stretch/>
          </p:blipFill>
          <p:spPr>
            <a:xfrm>
              <a:off x="6595920" y="1663920"/>
              <a:ext cx="8208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4"/>
            <a:stretch/>
          </p:blipFill>
          <p:spPr>
            <a:xfrm>
              <a:off x="7616880" y="133200"/>
              <a:ext cx="81000" cy="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Oval 27"/>
            <p:cNvSpPr/>
            <p:nvPr/>
          </p:nvSpPr>
          <p:spPr>
            <a:xfrm>
              <a:off x="6597360" y="720000"/>
              <a:ext cx="1456560" cy="14799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81" name="Picture 28" descr=""/>
            <p:cNvPicPr/>
            <p:nvPr/>
          </p:nvPicPr>
          <p:blipFill>
            <a:blip r:embed="rId5"/>
            <a:stretch/>
          </p:blipFill>
          <p:spPr>
            <a:xfrm>
              <a:off x="7944840" y="2549880"/>
              <a:ext cx="81000" cy="7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040" y="1168200"/>
            <a:ext cx="65343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Quantized energy levels    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Fig. 4.12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6188040" y="2949480"/>
            <a:ext cx="2840040" cy="2854440"/>
            <a:chOff x="6188040" y="2949480"/>
            <a:chExt cx="2840040" cy="2854440"/>
          </a:xfrm>
        </p:grpSpPr>
        <p:grpSp>
          <p:nvGrpSpPr>
            <p:cNvPr id="85" name="Group 2"/>
            <p:cNvGrpSpPr/>
            <p:nvPr/>
          </p:nvGrpSpPr>
          <p:grpSpPr>
            <a:xfrm>
              <a:off x="7448400" y="3519360"/>
              <a:ext cx="479520" cy="208080"/>
              <a:chOff x="7448400" y="3519360"/>
              <a:chExt cx="479520" cy="208080"/>
            </a:xfrm>
          </p:grpSpPr>
          <p:sp>
            <p:nvSpPr>
              <p:cNvPr id="86" name="Line 3"/>
              <p:cNvSpPr/>
              <p:nvPr/>
            </p:nvSpPr>
            <p:spPr>
              <a:xfrm flipH="1" flipV="1">
                <a:off x="7448400" y="3519360"/>
                <a:ext cx="479520" cy="1537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7" name="Line 4"/>
              <p:cNvSpPr/>
              <p:nvPr/>
            </p:nvSpPr>
            <p:spPr>
              <a:xfrm flipH="1" flipV="1">
                <a:off x="7642080" y="3649680"/>
                <a:ext cx="254160" cy="77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8" name="Line 5"/>
              <p:cNvSpPr/>
              <p:nvPr/>
            </p:nvSpPr>
            <p:spPr>
              <a:xfrm flipH="1" flipV="1">
                <a:off x="7559640" y="3589560"/>
                <a:ext cx="349200" cy="1080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6841800" y="4694400"/>
              <a:ext cx="229320" cy="464400"/>
              <a:chOff x="6841800" y="4694400"/>
              <a:chExt cx="229320" cy="464400"/>
            </a:xfrm>
          </p:grpSpPr>
          <p:sp>
            <p:nvSpPr>
              <p:cNvPr id="90" name="Line 7"/>
              <p:cNvSpPr/>
              <p:nvPr/>
            </p:nvSpPr>
            <p:spPr>
              <a:xfrm>
                <a:off x="6841800" y="4710240"/>
                <a:ext cx="229320" cy="448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1" name="Line 8"/>
              <p:cNvSpPr/>
              <p:nvPr/>
            </p:nvSpPr>
            <p:spPr>
              <a:xfrm>
                <a:off x="6903000" y="4694400"/>
                <a:ext cx="123840" cy="235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2" name="Line 9"/>
              <p:cNvSpPr/>
              <p:nvPr/>
            </p:nvSpPr>
            <p:spPr>
              <a:xfrm>
                <a:off x="6872760" y="4706640"/>
                <a:ext cx="169560" cy="323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0"/>
            <p:cNvGrpSpPr/>
            <p:nvPr/>
          </p:nvGrpSpPr>
          <p:grpSpPr>
            <a:xfrm>
              <a:off x="8335800" y="5344560"/>
              <a:ext cx="439920" cy="282600"/>
              <a:chOff x="8335800" y="5344560"/>
              <a:chExt cx="439920" cy="282600"/>
            </a:xfrm>
          </p:grpSpPr>
          <p:sp>
            <p:nvSpPr>
              <p:cNvPr id="94" name="Line 11"/>
              <p:cNvSpPr/>
              <p:nvPr/>
            </p:nvSpPr>
            <p:spPr>
              <a:xfrm flipV="1">
                <a:off x="8358840" y="5344560"/>
                <a:ext cx="416880" cy="2826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 flipV="1">
                <a:off x="8335800" y="5416560"/>
                <a:ext cx="218160" cy="15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 flipV="1">
                <a:off x="8351640" y="5388840"/>
                <a:ext cx="300240" cy="208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4"/>
            <p:cNvGrpSpPr/>
            <p:nvPr/>
          </p:nvGrpSpPr>
          <p:grpSpPr>
            <a:xfrm>
              <a:off x="7459560" y="2949480"/>
              <a:ext cx="498240" cy="130680"/>
              <a:chOff x="7459560" y="2949480"/>
              <a:chExt cx="498240" cy="130680"/>
            </a:xfrm>
          </p:grpSpPr>
          <p:sp>
            <p:nvSpPr>
              <p:cNvPr id="98" name="Line 15"/>
              <p:cNvSpPr/>
              <p:nvPr/>
            </p:nvSpPr>
            <p:spPr>
              <a:xfrm flipH="1" flipV="1">
                <a:off x="7459560" y="2949480"/>
                <a:ext cx="498240" cy="71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9" name="Line 16"/>
              <p:cNvSpPr/>
              <p:nvPr/>
            </p:nvSpPr>
            <p:spPr>
              <a:xfrm flipH="1" flipV="1">
                <a:off x="7671960" y="3045960"/>
                <a:ext cx="263160" cy="3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100" name="Line 17"/>
              <p:cNvSpPr/>
              <p:nvPr/>
            </p:nvSpPr>
            <p:spPr>
              <a:xfrm flipH="1" flipV="1">
                <a:off x="7580520" y="3000240"/>
                <a:ext cx="362160" cy="482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pic>
          <p:nvPicPr>
            <p:cNvPr id="101" name="Picture 20" descr=""/>
            <p:cNvPicPr/>
            <p:nvPr/>
          </p:nvPicPr>
          <p:blipFill>
            <a:blip r:embed="rId1"/>
            <a:stretch/>
          </p:blipFill>
          <p:spPr>
            <a:xfrm>
              <a:off x="7269120" y="4121280"/>
              <a:ext cx="6080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21"/>
            <p:cNvSpPr/>
            <p:nvPr/>
          </p:nvSpPr>
          <p:spPr>
            <a:xfrm>
              <a:off x="6816600" y="3640320"/>
              <a:ext cx="1571760" cy="15732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3" name="Oval 22"/>
            <p:cNvSpPr/>
            <p:nvPr/>
          </p:nvSpPr>
          <p:spPr>
            <a:xfrm>
              <a:off x="6188040" y="3016440"/>
              <a:ext cx="2840040" cy="278748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104" name="Picture 23" descr=""/>
            <p:cNvPicPr/>
            <p:nvPr/>
          </p:nvPicPr>
          <p:blipFill>
            <a:blip r:embed="rId2"/>
            <a:stretch/>
          </p:blipFill>
          <p:spPr>
            <a:xfrm>
              <a:off x="7902360" y="3689640"/>
              <a:ext cx="87480" cy="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4" descr=""/>
            <p:cNvPicPr/>
            <p:nvPr/>
          </p:nvPicPr>
          <p:blipFill>
            <a:blip r:embed="rId3"/>
            <a:stretch/>
          </p:blipFill>
          <p:spPr>
            <a:xfrm>
              <a:off x="6815160" y="4643640"/>
              <a:ext cx="88920" cy="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5" descr=""/>
            <p:cNvPicPr/>
            <p:nvPr/>
          </p:nvPicPr>
          <p:blipFill>
            <a:blip r:embed="rId4"/>
            <a:stretch/>
          </p:blipFill>
          <p:spPr>
            <a:xfrm>
              <a:off x="7916760" y="3016440"/>
              <a:ext cx="874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Oval 26"/>
            <p:cNvSpPr/>
            <p:nvPr/>
          </p:nvSpPr>
          <p:spPr>
            <a:xfrm>
              <a:off x="6816600" y="3640320"/>
              <a:ext cx="1571760" cy="15732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108" name="Picture 27" descr=""/>
            <p:cNvPicPr/>
            <p:nvPr/>
          </p:nvPicPr>
          <p:blipFill>
            <a:blip r:embed="rId5"/>
            <a:stretch/>
          </p:blipFill>
          <p:spPr>
            <a:xfrm>
              <a:off x="8270640" y="5585040"/>
              <a:ext cx="87480" cy="8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Freeform 50"/>
          <p:cNvSpPr/>
          <p:nvPr/>
        </p:nvSpPr>
        <p:spPr>
          <a:xfrm>
            <a:off x="1228680" y="2112840"/>
            <a:ext cx="4822920" cy="404352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4043520"/>
              <a:gd name="textAreaBottom" fmla="*/ 4043880 h 4043520"/>
            </a:gdLst>
            <a:ahLst/>
            <a:rect l="textAreaLeft" t="textAreaTop" r="textAreaRight" b="textAreaBottom"/>
            <a:pathLst>
              <a:path w="2493" h="2285">
                <a:moveTo>
                  <a:pt x="0" y="0"/>
                </a:moveTo>
                <a:lnTo>
                  <a:pt x="0" y="2285"/>
                </a:lnTo>
                <a:lnTo>
                  <a:pt x="2493" y="2285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51"/>
          <p:cNvSpPr/>
          <p:nvPr/>
        </p:nvSpPr>
        <p:spPr>
          <a:xfrm rot="16200000">
            <a:off x="-126720" y="366768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lative Energ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53"/>
          <p:cNvSpPr/>
          <p:nvPr/>
        </p:nvSpPr>
        <p:spPr>
          <a:xfrm>
            <a:off x="831960" y="618480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 =    1 K     2 L   3 M     4 N     5 O     6 P     7 Q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1242000" y="2063880"/>
            <a:ext cx="4420440" cy="3922920"/>
            <a:chOff x="1242000" y="2063880"/>
            <a:chExt cx="4420440" cy="3922920"/>
          </a:xfrm>
        </p:grpSpPr>
        <p:grpSp>
          <p:nvGrpSpPr>
            <p:cNvPr id="113" name="Group 60"/>
            <p:cNvGrpSpPr/>
            <p:nvPr/>
          </p:nvGrpSpPr>
          <p:grpSpPr>
            <a:xfrm>
              <a:off x="1540800" y="2293920"/>
              <a:ext cx="4121640" cy="3516480"/>
              <a:chOff x="1540800" y="2293920"/>
              <a:chExt cx="4121640" cy="3516480"/>
            </a:xfrm>
          </p:grpSpPr>
          <p:sp>
            <p:nvSpPr>
              <p:cNvPr id="114" name="Line 28"/>
              <p:cNvSpPr/>
              <p:nvPr/>
            </p:nvSpPr>
            <p:spPr>
              <a:xfrm>
                <a:off x="1540800" y="5810400"/>
                <a:ext cx="328320" cy="0"/>
              </a:xfrm>
              <a:prstGeom prst="line">
                <a:avLst/>
              </a:prstGeom>
              <a:ln w="1908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grpSp>
            <p:nvGrpSpPr>
              <p:cNvPr id="115" name="Group 54"/>
              <p:cNvGrpSpPr/>
              <p:nvPr/>
            </p:nvGrpSpPr>
            <p:grpSpPr>
              <a:xfrm>
                <a:off x="2171160" y="5049720"/>
                <a:ext cx="327960" cy="238320"/>
                <a:chOff x="2171160" y="5049720"/>
                <a:chExt cx="327960" cy="238320"/>
              </a:xfrm>
            </p:grpSpPr>
            <p:sp>
              <p:nvSpPr>
                <p:cNvPr id="116" name="Line 29"/>
                <p:cNvSpPr/>
                <p:nvPr/>
              </p:nvSpPr>
              <p:spPr>
                <a:xfrm>
                  <a:off x="2171160" y="52880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36"/>
                <p:cNvSpPr/>
                <p:nvPr/>
              </p:nvSpPr>
              <p:spPr>
                <a:xfrm>
                  <a:off x="2171160" y="50497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55"/>
              <p:cNvGrpSpPr/>
              <p:nvPr/>
            </p:nvGrpSpPr>
            <p:grpSpPr>
              <a:xfrm>
                <a:off x="2804040" y="4218120"/>
                <a:ext cx="327960" cy="531720"/>
                <a:chOff x="2804040" y="4218120"/>
                <a:chExt cx="327960" cy="531720"/>
              </a:xfrm>
            </p:grpSpPr>
            <p:sp>
              <p:nvSpPr>
                <p:cNvPr id="119" name="Line 30"/>
                <p:cNvSpPr/>
                <p:nvPr/>
              </p:nvSpPr>
              <p:spPr>
                <a:xfrm>
                  <a:off x="2804040" y="4749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7"/>
                <p:cNvSpPr/>
                <p:nvPr/>
              </p:nvSpPr>
              <p:spPr>
                <a:xfrm>
                  <a:off x="2804040" y="459108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38"/>
                <p:cNvSpPr/>
                <p:nvPr/>
              </p:nvSpPr>
              <p:spPr>
                <a:xfrm>
                  <a:off x="2804040" y="4218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56"/>
              <p:cNvGrpSpPr/>
              <p:nvPr/>
            </p:nvGrpSpPr>
            <p:grpSpPr>
              <a:xfrm>
                <a:off x="3434400" y="3171960"/>
                <a:ext cx="327960" cy="1172880"/>
                <a:chOff x="3434400" y="3171960"/>
                <a:chExt cx="327960" cy="1172880"/>
              </a:xfrm>
            </p:grpSpPr>
            <p:sp>
              <p:nvSpPr>
                <p:cNvPr id="123" name="Line 31"/>
                <p:cNvSpPr/>
                <p:nvPr/>
              </p:nvSpPr>
              <p:spPr>
                <a:xfrm>
                  <a:off x="3434400" y="4344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39"/>
                <p:cNvSpPr/>
                <p:nvPr/>
              </p:nvSpPr>
              <p:spPr>
                <a:xfrm>
                  <a:off x="3434400" y="41022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40"/>
                <p:cNvSpPr/>
                <p:nvPr/>
              </p:nvSpPr>
              <p:spPr>
                <a:xfrm>
                  <a:off x="3434400" y="3524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41"/>
                <p:cNvSpPr/>
                <p:nvPr/>
              </p:nvSpPr>
              <p:spPr>
                <a:xfrm>
                  <a:off x="3434400" y="317196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57"/>
              <p:cNvGrpSpPr/>
              <p:nvPr/>
            </p:nvGrpSpPr>
            <p:grpSpPr>
              <a:xfrm>
                <a:off x="4066920" y="2698920"/>
                <a:ext cx="330480" cy="952200"/>
                <a:chOff x="4066920" y="2698920"/>
                <a:chExt cx="330480" cy="952200"/>
              </a:xfrm>
            </p:grpSpPr>
            <p:sp>
              <p:nvSpPr>
                <p:cNvPr id="128" name="Line 32"/>
                <p:cNvSpPr/>
                <p:nvPr/>
              </p:nvSpPr>
              <p:spPr>
                <a:xfrm>
                  <a:off x="4069440" y="3651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42"/>
                <p:cNvSpPr/>
                <p:nvPr/>
              </p:nvSpPr>
              <p:spPr>
                <a:xfrm>
                  <a:off x="4069440" y="344808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43"/>
                <p:cNvSpPr/>
                <p:nvPr/>
              </p:nvSpPr>
              <p:spPr>
                <a:xfrm>
                  <a:off x="4069440" y="317196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4"/>
                <p:cNvSpPr/>
                <p:nvPr/>
              </p:nvSpPr>
              <p:spPr>
                <a:xfrm>
                  <a:off x="4066920" y="269892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4699800" y="2349360"/>
                <a:ext cx="327960" cy="960480"/>
                <a:chOff x="4699800" y="2349360"/>
                <a:chExt cx="327960" cy="960480"/>
              </a:xfrm>
            </p:grpSpPr>
            <p:sp>
              <p:nvSpPr>
                <p:cNvPr id="133" name="Line 33"/>
                <p:cNvSpPr/>
                <p:nvPr/>
              </p:nvSpPr>
              <p:spPr>
                <a:xfrm>
                  <a:off x="4699800" y="3309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45"/>
                <p:cNvSpPr/>
                <p:nvPr/>
              </p:nvSpPr>
              <p:spPr>
                <a:xfrm>
                  <a:off x="4699800" y="3065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6"/>
                <p:cNvSpPr/>
                <p:nvPr/>
              </p:nvSpPr>
              <p:spPr>
                <a:xfrm>
                  <a:off x="4699800" y="26989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7"/>
                <p:cNvSpPr/>
                <p:nvPr/>
              </p:nvSpPr>
              <p:spPr>
                <a:xfrm>
                  <a:off x="4699800" y="234936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59"/>
              <p:cNvGrpSpPr/>
              <p:nvPr/>
            </p:nvGrpSpPr>
            <p:grpSpPr>
              <a:xfrm>
                <a:off x="5332320" y="2293920"/>
                <a:ext cx="330120" cy="555480"/>
                <a:chOff x="5332320" y="2293920"/>
                <a:chExt cx="330120" cy="555480"/>
              </a:xfrm>
            </p:grpSpPr>
            <p:sp>
              <p:nvSpPr>
                <p:cNvPr id="138" name="Line 34"/>
                <p:cNvSpPr/>
                <p:nvPr/>
              </p:nvSpPr>
              <p:spPr>
                <a:xfrm>
                  <a:off x="5332320" y="2849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48"/>
                <p:cNvSpPr/>
                <p:nvPr/>
              </p:nvSpPr>
              <p:spPr>
                <a:xfrm>
                  <a:off x="5332320" y="2670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49"/>
                <p:cNvSpPr/>
                <p:nvPr/>
              </p:nvSpPr>
              <p:spPr>
                <a:xfrm>
                  <a:off x="5334120" y="2293920"/>
                  <a:ext cx="32832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Text Box 62"/>
            <p:cNvSpPr/>
            <p:nvPr/>
          </p:nvSpPr>
          <p:spPr>
            <a:xfrm>
              <a:off x="1242000" y="55879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2" name="Text Box 63"/>
            <p:cNvSpPr/>
            <p:nvPr/>
          </p:nvSpPr>
          <p:spPr>
            <a:xfrm>
              <a:off x="1848960" y="50594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3" name="Text Box 64"/>
            <p:cNvSpPr/>
            <p:nvPr/>
          </p:nvSpPr>
          <p:spPr>
            <a:xfrm>
              <a:off x="2472480" y="45226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4" name="Text Box 65"/>
            <p:cNvSpPr/>
            <p:nvPr/>
          </p:nvSpPr>
          <p:spPr>
            <a:xfrm>
              <a:off x="3129840" y="41241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5" name="Text Box 66"/>
            <p:cNvSpPr/>
            <p:nvPr/>
          </p:nvSpPr>
          <p:spPr>
            <a:xfrm>
              <a:off x="3780720" y="34304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6" name="Text Box 67"/>
            <p:cNvSpPr/>
            <p:nvPr/>
          </p:nvSpPr>
          <p:spPr>
            <a:xfrm>
              <a:off x="4393080" y="30844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7" name="Text Box 68"/>
            <p:cNvSpPr/>
            <p:nvPr/>
          </p:nvSpPr>
          <p:spPr>
            <a:xfrm>
              <a:off x="5031720" y="26082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8" name="Text Box 69"/>
            <p:cNvSpPr/>
            <p:nvPr/>
          </p:nvSpPr>
          <p:spPr>
            <a:xfrm>
              <a:off x="1837080" y="4781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9" name="Text Box 70"/>
            <p:cNvSpPr/>
            <p:nvPr/>
          </p:nvSpPr>
          <p:spPr>
            <a:xfrm>
              <a:off x="2454120" y="4313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0" name="Text Box 71"/>
            <p:cNvSpPr/>
            <p:nvPr/>
          </p:nvSpPr>
          <p:spPr>
            <a:xfrm>
              <a:off x="3112560" y="3890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1" name="Text Box 72"/>
            <p:cNvSpPr/>
            <p:nvPr/>
          </p:nvSpPr>
          <p:spPr>
            <a:xfrm>
              <a:off x="3763080" y="3198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2" name="Text Box 73"/>
            <p:cNvSpPr/>
            <p:nvPr/>
          </p:nvSpPr>
          <p:spPr>
            <a:xfrm>
              <a:off x="4376160" y="2844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3" name="Text Box 74"/>
            <p:cNvSpPr/>
            <p:nvPr/>
          </p:nvSpPr>
          <p:spPr>
            <a:xfrm>
              <a:off x="5014800" y="2405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4" name="Text Box 75"/>
            <p:cNvSpPr/>
            <p:nvPr/>
          </p:nvSpPr>
          <p:spPr>
            <a:xfrm>
              <a:off x="2454120" y="3973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5" name="Text Box 76"/>
            <p:cNvSpPr/>
            <p:nvPr/>
          </p:nvSpPr>
          <p:spPr>
            <a:xfrm>
              <a:off x="3112560" y="3309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6" name="Text Box 77"/>
            <p:cNvSpPr/>
            <p:nvPr/>
          </p:nvSpPr>
          <p:spPr>
            <a:xfrm>
              <a:off x="3763080" y="295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7" name="Text Box 78"/>
            <p:cNvSpPr/>
            <p:nvPr/>
          </p:nvSpPr>
          <p:spPr>
            <a:xfrm>
              <a:off x="4376160" y="2487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8" name="Text Box 79"/>
            <p:cNvSpPr/>
            <p:nvPr/>
          </p:nvSpPr>
          <p:spPr>
            <a:xfrm>
              <a:off x="5014800" y="206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9" name="Text Box 80"/>
            <p:cNvSpPr/>
            <p:nvPr/>
          </p:nvSpPr>
          <p:spPr>
            <a:xfrm>
              <a:off x="3138120" y="2955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0" name="Text Box 82"/>
            <p:cNvSpPr/>
            <p:nvPr/>
          </p:nvSpPr>
          <p:spPr>
            <a:xfrm>
              <a:off x="3790440" y="24620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01360" y="21416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62" name="Text Box 86"/>
          <p:cNvSpPr/>
          <p:nvPr/>
        </p:nvSpPr>
        <p:spPr>
          <a:xfrm>
            <a:off x="3863880" y="4343400"/>
            <a:ext cx="221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Note that the energy does not necessarily increase K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L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M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N etc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4s &lt; 3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nermost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1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lowest E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2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8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43676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3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8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, d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ute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4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32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, d, f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generally higher E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gher levels not fille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26680" y="1143000"/>
            <a:ext cx="83358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s 2s and 3s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7" name="Picture 5" descr="1s2s3s"/>
          <p:cNvPicPr/>
          <p:nvPr/>
        </p:nvPicPr>
        <p:blipFill>
          <a:blip r:embed="rId1"/>
          <a:stretch/>
        </p:blipFill>
        <p:spPr>
          <a:xfrm>
            <a:off x="1984320" y="2664000"/>
            <a:ext cx="56786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07720" y="285840"/>
            <a:ext cx="390348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 p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9" name="Picture 5" descr="px"/>
          <p:cNvPicPr/>
          <p:nvPr/>
        </p:nvPicPr>
        <p:blipFill>
          <a:blip r:embed="rId1"/>
          <a:srcRect l="13988" t="0" r="18305" b="0"/>
          <a:stretch/>
        </p:blipFill>
        <p:spPr>
          <a:xfrm>
            <a:off x="4305240" y="131760"/>
            <a:ext cx="3535560" cy="2882880"/>
          </a:xfrm>
          <a:prstGeom prst="rect">
            <a:avLst/>
          </a:prstGeom>
          <a:ln w="0">
            <a:noFill/>
          </a:ln>
        </p:spPr>
      </p:pic>
      <p:sp>
        <p:nvSpPr>
          <p:cNvPr id="170" name="Line 6"/>
          <p:cNvSpPr/>
          <p:nvPr/>
        </p:nvSpPr>
        <p:spPr>
          <a:xfrm flipH="1">
            <a:off x="4456080" y="1708200"/>
            <a:ext cx="417600" cy="54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7257960" y="1346040"/>
            <a:ext cx="417600" cy="54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5845320" y="269640"/>
            <a:ext cx="95040" cy="6476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6134040" y="2136600"/>
            <a:ext cx="120600" cy="8082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4778280" y="1633680"/>
            <a:ext cx="1106640" cy="422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7464600" y="90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873400" y="109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53200" y="194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8" name="Picture 16" descr="py"/>
          <p:cNvPicPr/>
          <p:nvPr/>
        </p:nvPicPr>
        <p:blipFill>
          <a:blip r:embed="rId2"/>
          <a:srcRect l="15746" t="0" r="19424" b="0"/>
          <a:stretch/>
        </p:blipFill>
        <p:spPr>
          <a:xfrm>
            <a:off x="322200" y="3252960"/>
            <a:ext cx="3389400" cy="3076560"/>
          </a:xfrm>
          <a:prstGeom prst="rect">
            <a:avLst/>
          </a:prstGeom>
          <a:ln w="0">
            <a:noFill/>
          </a:ln>
        </p:spPr>
      </p:pic>
      <p:sp>
        <p:nvSpPr>
          <p:cNvPr id="179" name="Line 17"/>
          <p:cNvSpPr/>
          <p:nvPr/>
        </p:nvSpPr>
        <p:spPr>
          <a:xfrm flipH="1">
            <a:off x="528480" y="5167440"/>
            <a:ext cx="578160" cy="222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87440" y="526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 flipH="1">
            <a:off x="2401920" y="4645080"/>
            <a:ext cx="1023840" cy="149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368880" y="460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300480" y="4222800"/>
            <a:ext cx="301680" cy="109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H="1" flipV="1">
            <a:off x="1860120" y="3395520"/>
            <a:ext cx="95400" cy="648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184480" y="5737320"/>
            <a:ext cx="75960" cy="4888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1898280" y="3225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7" name="Picture 25" descr="pz"/>
          <p:cNvPicPr/>
          <p:nvPr/>
        </p:nvPicPr>
        <p:blipFill>
          <a:blip r:embed="rId3"/>
          <a:srcRect l="14831" t="0" r="18012" b="0"/>
          <a:stretch/>
        </p:blipFill>
        <p:spPr>
          <a:xfrm>
            <a:off x="4324320" y="3252960"/>
            <a:ext cx="3503520" cy="3070080"/>
          </a:xfrm>
          <a:prstGeom prst="rect">
            <a:avLst/>
          </a:prstGeom>
          <a:ln w="0">
            <a:noFill/>
          </a:ln>
        </p:spPr>
      </p:pic>
      <p:sp>
        <p:nvSpPr>
          <p:cNvPr id="188" name="Line 26"/>
          <p:cNvSpPr/>
          <p:nvPr/>
        </p:nvSpPr>
        <p:spPr>
          <a:xfrm flipH="1" flipV="1">
            <a:off x="5948280" y="3127320"/>
            <a:ext cx="52560" cy="311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6408720" y="6121440"/>
            <a:ext cx="42840" cy="3049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5984640" y="298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 flipH="1">
            <a:off x="4694400" y="4889520"/>
            <a:ext cx="1139760" cy="473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4600800" y="528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Line 31"/>
          <p:cNvSpPr/>
          <p:nvPr/>
        </p:nvSpPr>
        <p:spPr>
          <a:xfrm flipH="1">
            <a:off x="6581880" y="4205160"/>
            <a:ext cx="1125360" cy="490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4" name="Line 32"/>
          <p:cNvSpPr/>
          <p:nvPr/>
        </p:nvSpPr>
        <p:spPr>
          <a:xfrm flipH="1">
            <a:off x="4793760" y="4867200"/>
            <a:ext cx="971640" cy="1224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Line 33"/>
          <p:cNvSpPr/>
          <p:nvPr/>
        </p:nvSpPr>
        <p:spPr>
          <a:xfrm flipH="1">
            <a:off x="6435720" y="4575240"/>
            <a:ext cx="1179360" cy="166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7404120" y="458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4323960" y="-31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487080" y="33624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4419000" y="3327480"/>
            <a:ext cx="48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Dell</cp:lastModifiedBy>
  <dcterms:modified xsi:type="dcterms:W3CDTF">2011-10-05T23:51:49Z</dcterms:modified>
  <cp:revision>87</cp:revision>
  <dc:subject/>
  <dc:title>Chapter 8: Major Elements</dc:title>
</cp:coreProperties>
</file>