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  <p:custShowLst>
    <p:custShow name="Custom Show 1" id="0">
      <p:sldLst>
        <p:sld r:id="rId3"/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6508800"/>
            <a:ext cx="695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D1C048D1-1CC9-48F8-BF3F-0E342EE63C0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045200" y="6553080"/>
            <a:ext cx="235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6 by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91120" y="127080"/>
            <a:ext cx="60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81880" y="165240"/>
            <a:ext cx="215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pte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3063960"/>
            <a:ext cx="579096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the Digital Firm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 Managing the Digital Fi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2120" y="1600200"/>
            <a:ext cx="7772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one of the most important tools managers have to increase productivity and efficiency of business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ccording to the Federal Reserve Bank, IT has reduced the rate of inflation by 0.5 to 1% in the last decade.  For firms this means IT is a major factor in reducing cos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estimated that IT has increased productivity in the economy by about 1% in the last decade.  For firms this means IT is a major source of labor and capital efficiency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733840" y="1066680"/>
            <a:ext cx="412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HY INFORMATION SYSTEM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840" y="1523880"/>
            <a:ext cx="20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Productiv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 Managing the Digital Fi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2120" y="1905120"/>
            <a:ext cx="77724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Create competitive advantag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T makes it possible to develop competitive advant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New Business Model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Dell Computer has built its competitive advantage on an IT enabled build-to-order business model that other firms have not been able to imita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733840" y="1066680"/>
            <a:ext cx="412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HY INFORMATION SYSTEM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1760" y="1600200"/>
            <a:ext cx="56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Strategic Opportunity and Advanta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 Managing the Digital Fi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1828800"/>
            <a:ext cx="7772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Create new service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eBay has developed the largest auction trading platform for millions of individuals and businesses. Competitors have not been able to imitate its su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Differentiate yourself from your competitor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mazon has become the largest book retailer in the United States on the strength of its huge online inventory and recommender system. It has no rivals in size and scop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33840" y="1066680"/>
            <a:ext cx="412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HY INFORMATION SYSTEM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1760" y="1600200"/>
            <a:ext cx="56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Strategic Opportunity and Advanta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 Managing the Digital Fi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90720" y="2133720"/>
            <a:ext cx="76197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rr has written that whatever advantages firms build using IT can be easily copied by competi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is view is not supported by the evidence: Amazon, eBay, Dell, Wal-Mart and Apple's iTunes are just a few firms that have built and maintained technology-based advantag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33840" y="1568520"/>
            <a:ext cx="41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How Much Does IT Matt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733840" y="1066680"/>
            <a:ext cx="412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HY INFORMATION SYSTEM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 Managing the Digital Fi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90720" y="2133720"/>
            <a:ext cx="76197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mmoditization of technology is typically a spur to innovation and new business models, products and servi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mpetitive advantage derives not from the technology, but on how businesses use the technolog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novations in business processes, management and organization are not easily copied from one firm to an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733840" y="1568520"/>
            <a:ext cx="41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How Much Does IT Matt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733840" y="1066680"/>
            <a:ext cx="412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HY INFORMATION SYSTEM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 Managing the Digital Fi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54080" y="3429000"/>
            <a:ext cx="76201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rnet growth and technology converg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ansformation of the business enterpri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1600200"/>
            <a:ext cx="663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Why IT Now? Digital Convergence and the Changing Business Environment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84240" y="2722680"/>
            <a:ext cx="694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rowing impact of IT in business firms can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ssessed from the following five facto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733840" y="1066680"/>
            <a:ext cx="412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HY INFORMATION SYSTEM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 Managing the Digital Fi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90720" y="2438280"/>
            <a:ext cx="761976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rowth of a globally connected econo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rowth of knowledge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on-bas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conom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mergence of the digital fir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733840" y="1066680"/>
            <a:ext cx="412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HY INFORMATION SYSTEM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71600" y="167652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Why IT Now? Digital Convergence and the Changing Business Environment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 Managing the Digital Fi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54080" y="1905120"/>
            <a:ext cx="7620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rowth of the Internet: 120 million online in the United States, 500 million global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Internet is bringing about a convergence of telecommunications and computing: VoIP telephone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733840" y="1066680"/>
            <a:ext cx="412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HY INFORMATION SYSTEM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67400" y="1600200"/>
            <a:ext cx="646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The Internet and Technology Converg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 Managing the Digital Fi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54080" y="1828800"/>
            <a:ext cx="76201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rowth in e-business, e-commerce, and e-gover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rnet is bringing about rapid changes in markets and market structure: financial services and banking such as eTrade.c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Internet is making many  traditional business models obsolete: the corner music store and video store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733840" y="1066680"/>
            <a:ext cx="412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HY INFORMATION SYSTEM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1600200"/>
            <a:ext cx="654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The Internet and Technology Convergenc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 Managing the Digital Fi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54080" y="1828800"/>
            <a:ext cx="76201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latte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centr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33840" y="1066680"/>
            <a:ext cx="412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HY INFORMATION SYSTEM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66680" y="1828800"/>
            <a:ext cx="646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Transformation of the Business Enterpri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886120" y="1066680"/>
            <a:ext cx="326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 Managing the Digital Fi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lain why information systems are so important today for business and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aluate the role of information systems in today’s competitive business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ssess the impact of the Internet and Internet technology on business and governm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 Managing the Digital Fi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54080" y="1828800"/>
            <a:ext cx="76201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cation indepen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w transaction and coordination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mpower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llaborative work and teamwor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733840" y="1066680"/>
            <a:ext cx="412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HY INFORMATION SYSTEM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8400" y="1905120"/>
            <a:ext cx="82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Transformation of the Business Enterprise (Continued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 Managing the Digital Fi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54080" y="1828800"/>
            <a:ext cx="76201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nagement and control in a global market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etition in world mar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lobal work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lobal delivery 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733840" y="1066680"/>
            <a:ext cx="412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HY INFORMATION SYSTEM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64880" y="1600200"/>
            <a:ext cx="228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Globaliza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 Managing the Digital Fi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54080" y="1828800"/>
            <a:ext cx="76201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nowledge and information-based econom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w products and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nowledge as a central productive and strategic as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733840" y="1066680"/>
            <a:ext cx="412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HY INFORMATION SYSTEM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36800" y="1828800"/>
            <a:ext cx="50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Rise of the Information Econom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 Managing the Digital Fi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54080" y="2057400"/>
            <a:ext cx="76201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me-based com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orter product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urbul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imited employee knowledge ba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733840" y="1066680"/>
            <a:ext cx="412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HY INFORMATION SYSTEM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87120" y="1752480"/>
            <a:ext cx="694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Rise of the Information Economy (Continued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 Managing the Digital Fi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796040" y="1627200"/>
            <a:ext cx="60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The Growth of the Information Econom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838080" y="2133720"/>
            <a:ext cx="7704360" cy="4503600"/>
            <a:chOff x="838080" y="2133720"/>
            <a:chExt cx="7704360" cy="4503600"/>
          </a:xfrm>
        </p:grpSpPr>
        <p:sp>
          <p:nvSpPr>
            <p:cNvPr id="139" name=""/>
            <p:cNvSpPr/>
            <p:nvPr/>
          </p:nvSpPr>
          <p:spPr>
            <a:xfrm>
              <a:off x="3733920" y="6269040"/>
              <a:ext cx="140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1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0" name="" descr=""/>
            <p:cNvPicPr/>
            <p:nvPr/>
          </p:nvPicPr>
          <p:blipFill>
            <a:blip r:embed="rId2"/>
            <a:stretch/>
          </p:blipFill>
          <p:spPr>
            <a:xfrm>
              <a:off x="838080" y="2133720"/>
              <a:ext cx="7704360" cy="390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"/>
          <p:cNvSpPr/>
          <p:nvPr/>
        </p:nvSpPr>
        <p:spPr>
          <a:xfrm>
            <a:off x="2733840" y="1066680"/>
            <a:ext cx="412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HY INFORMATION SYSTEM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608328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U.S. Department of Commerce, Bureau of the Census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tatistical Abstract of the United State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, 2003, Table 615; and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Historical Statistics of the United States, Colonial Times to 1970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, Vol. 1, Series D, pp. 182-232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 Managing the Digital Fi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1981080"/>
            <a:ext cx="808992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gitally enabled relationships with customers, suppliers, and employ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e business processes accomplished using digital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gital management of key corporate as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733840" y="1066680"/>
            <a:ext cx="412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HY INFORMATION SYSTEM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45840" y="1600200"/>
            <a:ext cx="46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Emergence of the Digital Fir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 Managing the Digital Fi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1600200"/>
            <a:ext cx="8089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gile sensing and responding to environmental chang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amless flow of information within the firm, and with strategic partn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33840" y="1066680"/>
            <a:ext cx="412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HY INFORMATION SYSTEM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2560" y="1612800"/>
            <a:ext cx="648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Emergence of the Digital Firm (Continued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 Managing the Digital Fi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707560" y="1627200"/>
            <a:ext cx="406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The Emerging Digital Fi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2335320" y="2050920"/>
            <a:ext cx="4522680" cy="4718160"/>
            <a:chOff x="2335320" y="2050920"/>
            <a:chExt cx="4522680" cy="4718160"/>
          </a:xfrm>
        </p:grpSpPr>
        <p:sp>
          <p:nvSpPr>
            <p:cNvPr id="154" name=""/>
            <p:cNvSpPr/>
            <p:nvPr/>
          </p:nvSpPr>
          <p:spPr>
            <a:xfrm>
              <a:off x="3733920" y="6400800"/>
              <a:ext cx="140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1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5" name="" descr=""/>
            <p:cNvPicPr/>
            <p:nvPr/>
          </p:nvPicPr>
          <p:blipFill>
            <a:blip r:embed="rId2"/>
            <a:stretch/>
          </p:blipFill>
          <p:spPr>
            <a:xfrm>
              <a:off x="2335320" y="2050920"/>
              <a:ext cx="4522680" cy="4426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6" name=""/>
          <p:cNvSpPr/>
          <p:nvPr/>
        </p:nvSpPr>
        <p:spPr>
          <a:xfrm>
            <a:off x="2733840" y="1066680"/>
            <a:ext cx="412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HY INFORMATION SYSTEM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514600" y="1066680"/>
            <a:ext cx="47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ERSPECTIVES ON INFORMATION SYSTE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 Managing the Digital Fi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438280" y="160020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What Is an Information System?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2286000"/>
            <a:ext cx="784872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Technology perspectiv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set of interrelated components that collect (or retrieve), process, store, and distribute information to support decision making and control in an organization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514600" y="1066680"/>
            <a:ext cx="47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ERSPECTIVES ON INFORMATION SYSTE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 Managing the Digital Fi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447920" y="160020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What is an Information System? (Continued)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47640" y="2590920"/>
            <a:ext cx="80899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Data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treams of raw facts representing events such as business trans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Information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Clusters of facts meaningful and useful to human beings in the processes such as making deci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2057400"/>
            <a:ext cx="77724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ine an information system from both a technical and business perspective and distinguish between computer literacy and information systems lite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 the major management challenges to building and using information system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86120" y="1066680"/>
            <a:ext cx="326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IVES (Continu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 Managing the Digital Fi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514600" y="1066680"/>
            <a:ext cx="47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ERSPECTIVES ON INFORMATION SYSTE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 Managing the Digital Fi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048120" y="16002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Data and Information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785880" y="2209680"/>
            <a:ext cx="7748640" cy="4559400"/>
            <a:chOff x="785880" y="2209680"/>
            <a:chExt cx="7748640" cy="4559400"/>
          </a:xfrm>
        </p:grpSpPr>
        <p:sp>
          <p:nvSpPr>
            <p:cNvPr id="169" name=""/>
            <p:cNvSpPr/>
            <p:nvPr/>
          </p:nvSpPr>
          <p:spPr>
            <a:xfrm>
              <a:off x="3733920" y="6400800"/>
              <a:ext cx="140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1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0" name="" descr=""/>
            <p:cNvPicPr/>
            <p:nvPr/>
          </p:nvPicPr>
          <p:blipFill>
            <a:blip r:embed="rId2"/>
            <a:stretch/>
          </p:blipFill>
          <p:spPr>
            <a:xfrm>
              <a:off x="785880" y="2209680"/>
              <a:ext cx="7748640" cy="3846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514600" y="1066680"/>
            <a:ext cx="47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ERSPECTIVES ON INFORMATION SYSTE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 Managing the Digital Fi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828800" y="16002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Functions of an Information System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825560" y="2057400"/>
            <a:ext cx="5794560" cy="4711680"/>
            <a:chOff x="1825560" y="2057400"/>
            <a:chExt cx="5794560" cy="4711680"/>
          </a:xfrm>
        </p:grpSpPr>
        <p:sp>
          <p:nvSpPr>
            <p:cNvPr id="175" name=""/>
            <p:cNvSpPr/>
            <p:nvPr/>
          </p:nvSpPr>
          <p:spPr>
            <a:xfrm>
              <a:off x="3733920" y="6400800"/>
              <a:ext cx="140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1-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6" name="" descr=""/>
            <p:cNvPicPr/>
            <p:nvPr/>
          </p:nvPicPr>
          <p:blipFill>
            <a:blip r:embed="rId2"/>
            <a:stretch/>
          </p:blipFill>
          <p:spPr>
            <a:xfrm>
              <a:off x="1825560" y="2057400"/>
              <a:ext cx="5794560" cy="4103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0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 Managing the Digital Fi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1828800"/>
            <a:ext cx="8089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ly on computer hardware and softw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cessing and disseminat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xed definitions of data and 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llecting, storing, and using inform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14600" y="1066680"/>
            <a:ext cx="47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ERSPECTIVES ON INFORMATION SYSTE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5680" y="1752480"/>
            <a:ext cx="65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Computer-Based Information System (CB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 Managing the Digital Fi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3429000"/>
            <a:ext cx="80899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on systems are an organizational and management solution to business challenges that arise from the business environ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514600" y="1066680"/>
            <a:ext cx="47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ERSPECTIVES ON INFORMATION SYSTE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520" y="22096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tion systems are more than just technology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usinesses invest in IS in order to create value and increase profitability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90720" y="160020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A Business Perspective on Information 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 Managing the Digital Fi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2209680"/>
            <a:ext cx="808992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ased on information technology but also require significant investment in organizational and management changes and innova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create value primarily by changing business processes and management decision mak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514600" y="1066680"/>
            <a:ext cx="47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ERSPECTIVES ON INFORMATION SYSTE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90720" y="160020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A Business Perspective on Information Systems (Continued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514600" y="1066680"/>
            <a:ext cx="47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ERSPECTIVES ON INFORMATION SYSTE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 Managing the Digital Fi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15685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The Business Information Value Chain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295280" y="2057400"/>
            <a:ext cx="7126560" cy="4711680"/>
            <a:chOff x="1295280" y="2057400"/>
            <a:chExt cx="7126560" cy="4711680"/>
          </a:xfrm>
        </p:grpSpPr>
        <p:sp>
          <p:nvSpPr>
            <p:cNvPr id="194" name=""/>
            <p:cNvSpPr/>
            <p:nvPr/>
          </p:nvSpPr>
          <p:spPr>
            <a:xfrm>
              <a:off x="3733920" y="6400800"/>
              <a:ext cx="140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1-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5" name="" descr=""/>
            <p:cNvPicPr/>
            <p:nvPr/>
          </p:nvPicPr>
          <p:blipFill>
            <a:blip r:embed="rId2"/>
            <a:stretch/>
          </p:blipFill>
          <p:spPr>
            <a:xfrm>
              <a:off x="1295280" y="2057400"/>
              <a:ext cx="7126560" cy="42354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0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514600" y="1066680"/>
            <a:ext cx="47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ERSPECTIVES ON INFORMATION SYSTE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 Managing the Digital Fi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16002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Information Systems Are More than Computers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752480" y="2057400"/>
            <a:ext cx="5402520" cy="4711680"/>
            <a:chOff x="1752480" y="2057400"/>
            <a:chExt cx="5402520" cy="4711680"/>
          </a:xfrm>
        </p:grpSpPr>
        <p:sp>
          <p:nvSpPr>
            <p:cNvPr id="200" name=""/>
            <p:cNvSpPr/>
            <p:nvPr/>
          </p:nvSpPr>
          <p:spPr>
            <a:xfrm>
              <a:off x="3733920" y="6400800"/>
              <a:ext cx="140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1-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1" name="" descr=""/>
            <p:cNvPicPr/>
            <p:nvPr/>
          </p:nvPicPr>
          <p:blipFill>
            <a:blip r:embed="rId2"/>
            <a:stretch/>
          </p:blipFill>
          <p:spPr>
            <a:xfrm>
              <a:off x="1752480" y="2057400"/>
              <a:ext cx="5402520" cy="43974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0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 Managing the Digital Fi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1828800"/>
            <a:ext cx="8089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Information systems literacy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road-based understanding of information systems that includes behavioral knowledge about organizations, management and individuals using information systems as well as technical knowledge about compu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Computer literacy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Knowledge about information technology, focusing on understanding how computer technologies wor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514600" y="1066680"/>
            <a:ext cx="47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ERSPECTIVES ON INFORMATION SYSTE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 Managing the Digital Fi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2362320"/>
            <a:ext cx="5257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les and 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nufactu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coun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uman resourc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514600" y="1066680"/>
            <a:ext cx="47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ERSPECTIVES ON INFORMATION SYSTE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1612800"/>
            <a:ext cx="8458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Major Business Functions Rely on Information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 Managing the Digital Fi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06440" y="1752480"/>
            <a:ext cx="84582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ree Important Dimensions of Information 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chnolog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14600" y="1066680"/>
            <a:ext cx="47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ERSPECTIVES ON INFORMATION SYSTE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92040" y="4876920"/>
            <a:ext cx="8371080" cy="10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ou will need to understand and balance these dimensions of information systems in order to create business valu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839240" y="1676520"/>
            <a:ext cx="5467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Dimensions of Information 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 Managing the Digital Fi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886120" y="1066680"/>
            <a:ext cx="326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imlerChrysler C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Challeng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04 plants, 37 countries, 14,000 suppl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Solutions: Integrated Volume Planning Sys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nects demand side of business with suppliers, reducing inventor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Powerw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lps 3,400 suppliers track parts and quality, reducing err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onstrates IT’s role in operational excellence, better quality products, and agility–time to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lustrates the emerging digital firm landscape where information can flow seamlessly among business partners to create a superior customer exper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 Managing the Digital Fi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33520" y="2362320"/>
            <a:ext cx="830556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op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siness 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litic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1066680"/>
            <a:ext cx="47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ERSPECTIVES ON INFORMATION SYSTE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600" y="1676520"/>
            <a:ext cx="80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The Organizational Dimension of Information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 Managing the Digital Fi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62120" y="2133720"/>
            <a:ext cx="74674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Managers ar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nse ma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cision ma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novators of new 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aders: set agenda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514600" y="1066680"/>
            <a:ext cx="47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ERSPECTIVES ON INFORMATION SYSTE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48440" y="1600200"/>
            <a:ext cx="77871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The Management Dimension of Information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 Managing the Digital Fi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514600" y="1066680"/>
            <a:ext cx="47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ERSPECTIVES ON INFORMATION SYSTE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47720" y="1600200"/>
            <a:ext cx="787248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The Management Dimension of Information 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62120" y="2549520"/>
            <a:ext cx="769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rs who can understand the role of information systems in creating business value are the key ingredient to success with systems, and cannot easily be replicated by your competi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 Managing the Digital Fi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62120" y="2971800"/>
            <a:ext cx="7848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Hardwar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hysical equi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Softwar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Detailed preprogrammed instruc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Storag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hysical media for storing data and the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514600" y="1066680"/>
            <a:ext cx="47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ERSPECTIVES ON INFORMATION SYSTE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2184480"/>
            <a:ext cx="807732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tion technology is one of the tools managers use to cope with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66000" y="1625760"/>
            <a:ext cx="77184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The Technology Dimension of Information System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 Managing the Digital Fi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62120" y="2590920"/>
            <a:ext cx="746748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Communications technology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ransfers data from one physical location to an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Network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Links computers to share data or resourc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514600" y="1066680"/>
            <a:ext cx="47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ERSPECTIVES ON INFORMATION SYSTE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" y="1668600"/>
            <a:ext cx="807732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The Technology Dimension of Information Systems (Continued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4952880"/>
            <a:ext cx="80773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rs need to know enough about information technology to make intelligent decisions about how to use it for creating business value.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 Managing the Digital Fi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9480" y="23623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Complementary asset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w business 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nagement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ganizational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ain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514600" y="1066680"/>
            <a:ext cx="47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ERSPECTIVES ON INFORMATION SYSTE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9480" y="15796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Complementary Assets and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Organizational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 Cap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 Managing the Digital Fi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" y="1828800"/>
            <a:ext cx="79246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rtive business culture that values efficiency and effectiv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icient business processes, decentralization of autho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ghly distributed decision r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strong information system (IS) development te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514600" y="1066680"/>
            <a:ext cx="47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ERSPECTIVES ON INFORMATION SYSTE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07320" y="1600200"/>
            <a:ext cx="35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Organizational capital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514600" y="1066680"/>
            <a:ext cx="47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ERSPECTIVES ON INFORMATION SYSTE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 Managing the Digital Fi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6320" y="1600200"/>
            <a:ext cx="90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Variation in Returns on Information Technology Investment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1752480" y="2133720"/>
            <a:ext cx="5715000" cy="4635360"/>
            <a:chOff x="1752480" y="2133720"/>
            <a:chExt cx="5715000" cy="4635360"/>
          </a:xfrm>
        </p:grpSpPr>
        <p:sp>
          <p:nvSpPr>
            <p:cNvPr id="248" name=""/>
            <p:cNvSpPr/>
            <p:nvPr/>
          </p:nvSpPr>
          <p:spPr>
            <a:xfrm>
              <a:off x="3733920" y="6400800"/>
              <a:ext cx="140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1-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9" name="" descr=""/>
            <p:cNvPicPr/>
            <p:nvPr/>
          </p:nvPicPr>
          <p:blipFill>
            <a:blip r:embed="rId2"/>
            <a:stretch/>
          </p:blipFill>
          <p:spPr>
            <a:xfrm>
              <a:off x="1752480" y="2133720"/>
              <a:ext cx="5715000" cy="396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0" name=""/>
          <p:cNvSpPr/>
          <p:nvPr/>
        </p:nvSpPr>
        <p:spPr>
          <a:xfrm>
            <a:off x="609480" y="579132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: Based on Erik Brynjolfsson and Lorin M. Hitt, “Beyond Computation: Information Technology, Organizational Transformation and Business Performance.”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Journal of Economic Perspective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14, no. 4 (Fall 2000).  Used with permission of the American Economic Association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0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828800" y="1066680"/>
            <a:ext cx="66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NTEMPORARY APPROACHES TO INFORMATION SYSTE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 Managing the Digital Fi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666880" y="16002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Sociotechnical Systems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990720" y="2438280"/>
            <a:ext cx="74674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timize systems performance: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chnology and organ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ations mutually adjust to one another until fit is satisfacto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828800" y="1066680"/>
            <a:ext cx="66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NTEMPORARY APPROACHES TO INFORMATION SYSTE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 Managing the Digital Fi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33520" y="16002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A Sociotechnical Perspective on Information Systems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066680" y="2666880"/>
            <a:ext cx="7132680" cy="4102200"/>
            <a:chOff x="1066680" y="2666880"/>
            <a:chExt cx="7132680" cy="4102200"/>
          </a:xfrm>
        </p:grpSpPr>
        <p:sp>
          <p:nvSpPr>
            <p:cNvPr id="259" name=""/>
            <p:cNvSpPr/>
            <p:nvPr/>
          </p:nvSpPr>
          <p:spPr>
            <a:xfrm>
              <a:off x="3733920" y="6400800"/>
              <a:ext cx="140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1-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0" name="" descr=""/>
            <p:cNvPicPr/>
            <p:nvPr/>
          </p:nvPicPr>
          <p:blipFill>
            <a:blip r:embed="rId2"/>
            <a:stretch/>
          </p:blipFill>
          <p:spPr>
            <a:xfrm>
              <a:off x="1066680" y="2666880"/>
              <a:ext cx="7132680" cy="30639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0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733840" y="1066680"/>
            <a:ext cx="412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HY INFORMATION SYSTEM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 Managing the Digital Fi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2819520"/>
            <a:ext cx="647712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pital managem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ation of doing busine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ductivi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ategic opportunity and advantag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50200" y="1627200"/>
            <a:ext cx="501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Why Information Systems Mat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07960" y="220968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are four reasons why IT makes a difference to the success of a busin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 Managing the Digital Fi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1892160"/>
            <a:ext cx="807732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the largest single component of capital investment in the United State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bout $1.8 trillion is spent each year by American busines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rs and business students need to know how to invest this capital wis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success of your business in the future may well depend on how you make IT investment decis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16128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Capital Managemen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733840" y="1066680"/>
            <a:ext cx="412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HY INFORMATION SYSTEM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 Managing the Digital Fi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451520" y="1627200"/>
            <a:ext cx="653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Information Technology Capital Invest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914400" y="2171880"/>
            <a:ext cx="7475400" cy="4597200"/>
            <a:chOff x="914400" y="2171880"/>
            <a:chExt cx="7475400" cy="4597200"/>
          </a:xfrm>
        </p:grpSpPr>
        <p:sp>
          <p:nvSpPr>
            <p:cNvPr id="65" name=""/>
            <p:cNvSpPr/>
            <p:nvPr/>
          </p:nvSpPr>
          <p:spPr>
            <a:xfrm>
              <a:off x="3733920" y="6400800"/>
              <a:ext cx="140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1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" name="" descr=""/>
            <p:cNvPicPr/>
            <p:nvPr/>
          </p:nvPicPr>
          <p:blipFill>
            <a:blip r:embed="rId2"/>
            <a:stretch/>
          </p:blipFill>
          <p:spPr>
            <a:xfrm>
              <a:off x="914400" y="2171880"/>
              <a:ext cx="7475400" cy="3771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" name=""/>
          <p:cNvSpPr/>
          <p:nvPr/>
        </p:nvSpPr>
        <p:spPr>
          <a:xfrm>
            <a:off x="2733840" y="1066680"/>
            <a:ext cx="412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HY INFORMATION SYSTEM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2120" y="60199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Based on the data in U.S. Department of Commerce, Bureau of Economic Analysis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National Income and Product Account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, Tables 5.2 and 5.8, 2004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 Managing the Digital Fi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2120" y="1790640"/>
            <a:ext cx="807696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st businesses today could not operate without extensive use of information systems and technologie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T can increase market share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T can help a business become a high-quality,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ow-cost produc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vital to the development of  new produc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2120" y="1600200"/>
            <a:ext cx="53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Foundation of doing busin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733840" y="1066680"/>
            <a:ext cx="412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HY INFORMATION SYSTEM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88596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 Managing the Digital Fi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61280" y="1627200"/>
            <a:ext cx="729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The Interdependence between Organizations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Information 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1981080" y="2467080"/>
            <a:ext cx="5305680" cy="4302000"/>
            <a:chOff x="1981080" y="2467080"/>
            <a:chExt cx="5305680" cy="4302000"/>
          </a:xfrm>
        </p:grpSpPr>
        <p:sp>
          <p:nvSpPr>
            <p:cNvPr id="76" name=""/>
            <p:cNvSpPr/>
            <p:nvPr/>
          </p:nvSpPr>
          <p:spPr>
            <a:xfrm>
              <a:off x="3733920" y="6400800"/>
              <a:ext cx="140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1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7" name="" descr=""/>
            <p:cNvPicPr/>
            <p:nvPr/>
          </p:nvPicPr>
          <p:blipFill>
            <a:blip r:embed="rId2"/>
            <a:stretch/>
          </p:blipFill>
          <p:spPr>
            <a:xfrm>
              <a:off x="1981080" y="2467080"/>
              <a:ext cx="5305680" cy="401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"/>
          <p:cNvSpPr/>
          <p:nvPr/>
        </p:nvSpPr>
        <p:spPr>
          <a:xfrm>
            <a:off x="2733840" y="1066680"/>
            <a:ext cx="412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HY INFORMATION SYSTEM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5T09:57:46Z</dcterms:created>
  <dc:creator>KL</dc:creator>
  <dc:description/>
  <dc:language>en-US</dc:language>
  <cp:lastModifiedBy>Pearson Education</cp:lastModifiedBy>
  <dcterms:modified xsi:type="dcterms:W3CDTF">2005-06-07T16:00:15Z</dcterms:modified>
  <cp:revision>20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780095926</vt:r8>
  </property>
  <property fmtid="{D5CDD505-2E9C-101B-9397-08002B2CF9AE}" pid="3" name="_AuthorEmail">
    <vt:lpwstr>Ana_Cordero@prenhall.com</vt:lpwstr>
  </property>
  <property fmtid="{D5CDD505-2E9C-101B-9397-08002B2CF9AE}" pid="4" name="_AuthorEmailDisplayName">
    <vt:lpwstr>Cordero, Ana</vt:lpwstr>
  </property>
  <property fmtid="{D5CDD505-2E9C-101B-9397-08002B2CF9AE}" pid="5" name="_EmailSubject">
    <vt:lpwstr>Laudon PPTs.</vt:lpwstr>
  </property>
</Properties>
</file>