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Custom Show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EB54768-ED0C-47AE-8901-D854B886E3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063960"/>
            <a:ext cx="57909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he Digital Fir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one of the most important tools managers have to increase productivity and efficiency of busin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ording to the Federal Reserve Bank, IT has reduced the rate of inflation by 0.5 to 1% in the last decade.  For firms this means IT is a major factor in reducing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estimated that IT has increased productivity in the economy by about 1% in the last decade.  For firms this means IT is a major source of labor and capital efficienc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840" y="15238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du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905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eate competitive advanta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T makes it possible to develop competitive 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w Business Mode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ll Computer has built its competitive advantage on an IT enabled build-to-order business model that other firms have not been able to imi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1760" y="16002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Opportunity and Advant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eate new servic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Bay has developed the largest auction trading platform for millions of individuals and businesses. Competitors have not been able to imitate its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ifferentiate yourself from your competitor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mazon has become the largest book retailer in the United States on the strength of its huge online inventory and recommender system. It has no rivals in size and scop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1760" y="16002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Opportunity and Advant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1337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r has written that whatever advantages firms build using IT can be easily copied by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iew is not supported by the evidence: Amazon, eBay, Dell, Wal-Mart and Apple's iTunes are just a few firms that have built and maintained technology-based advant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3840" y="15685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How Much Does IT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1337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ization of technology is typically a spur to innovation and new business models, products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advantage derives not from the technology, but on how businesses use th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tions in business processes, management and organization are not easily copied from one firm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33840" y="15685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How Much Does IT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4080" y="3429000"/>
            <a:ext cx="7620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 and technology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tion of the business enterpr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600200"/>
            <a:ext cx="66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y IT Now? Digital Convergence and the Changing Business Environmen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4240" y="2722680"/>
            <a:ext cx="694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wing impact of IT in business firms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ed from the following fiv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43828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a globally connected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knowledg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-b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e of the digital fi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6765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Why IT Now? Digital Convergence and the Changing Business Environment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54080" y="19051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the Internet: 120 million online in the United States, 500 million glob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ternet is bringing about a convergence of telecommunications and computing: VoIP telephon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7400" y="160020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rnet and Technology Converg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54080" y="1828800"/>
            <a:ext cx="762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in e-business, e-commerce, and e-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is bringing about rapid changes in markets and market structure: financial services and banking such as eTrade.c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net is making many  traditional business models obsolete: the corner music store and video stor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00200"/>
            <a:ext cx="65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rnet and Technology Converge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828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nsformation of the Business Enterpr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why information systems are so important today for business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role of information systems in today’s competitive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impact of the Internet and Internet technology on business and govern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action and coordin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ve work and team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8400" y="1905120"/>
            <a:ext cx="82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nsformation of the Business Enterprise 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and control in a global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ion in world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work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delivery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4880" y="16002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iz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and information-based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as a central productive and strategic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36800" y="182880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ise of the Information Econo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54080" y="20574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-b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er product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bul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mited employee knowledg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7120" y="175248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ise of the Information Economy (Continue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6040" y="16272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Growth of the Information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2133720"/>
            <a:ext cx="7704360" cy="4503600"/>
            <a:chOff x="838080" y="2133720"/>
            <a:chExt cx="7704360" cy="4503600"/>
          </a:xfrm>
        </p:grpSpPr>
        <p:sp>
          <p:nvSpPr>
            <p:cNvPr id="139" name=""/>
            <p:cNvSpPr/>
            <p:nvPr/>
          </p:nvSpPr>
          <p:spPr>
            <a:xfrm>
              <a:off x="3733920" y="626904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838080" y="2133720"/>
              <a:ext cx="7704360" cy="39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83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U.S. Department of Commerce, Bureau of the Censu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tistical Abstract of the United Stat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03, Table 615; and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istorical Statistics of the United States, Colonial Times to 197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1, Series D, pp. 182-23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981080"/>
            <a:ext cx="8089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ly enabled relationships with customers, suppliers, an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e business processes accomplished using digit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management of key corporat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40" y="160020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mergence of the Digital Fi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00200"/>
            <a:ext cx="808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ile sensing and responding to environment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mless flow of information within the firm, and with strategic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2560" y="161280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mergence of the Digital Firm (Continue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7560" y="162720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Emerging Digital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35320" y="2050920"/>
            <a:ext cx="4522680" cy="4718160"/>
            <a:chOff x="2335320" y="2050920"/>
            <a:chExt cx="4522680" cy="4718160"/>
          </a:xfrm>
        </p:grpSpPr>
        <p:sp>
          <p:nvSpPr>
            <p:cNvPr id="154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2335320" y="2050920"/>
              <a:ext cx="4522680" cy="442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Is an Information System?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286000"/>
            <a:ext cx="784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echnology perspectiv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t of interrelated components that collect (or retrieve), process, store, and distribute information to support decision making and control in an organizatio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00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is an Information System? (Continued)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640" y="2590920"/>
            <a:ext cx="8089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eams of raw facts representing events such as business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usters of facts meaningful and useful to human beings in the processes such as making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0574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n information system from both a technical and business perspective and distinguish between computer literacy and information systems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major management challenges to building and using information 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 and Informatio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85880" y="2209680"/>
            <a:ext cx="7748640" cy="4559400"/>
            <a:chOff x="785880" y="2209680"/>
            <a:chExt cx="7748640" cy="4559400"/>
          </a:xfrm>
        </p:grpSpPr>
        <p:sp>
          <p:nvSpPr>
            <p:cNvPr id="169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85880" y="2209680"/>
              <a:ext cx="7748640" cy="384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unctions of an Information System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25560" y="2057400"/>
            <a:ext cx="5794560" cy="4711680"/>
            <a:chOff x="1825560" y="2057400"/>
            <a:chExt cx="5794560" cy="4711680"/>
          </a:xfrm>
        </p:grpSpPr>
        <p:sp>
          <p:nvSpPr>
            <p:cNvPr id="175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1825560" y="2057400"/>
              <a:ext cx="5794560" cy="410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828800"/>
            <a:ext cx="808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y on computer hardware and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ing and dissemina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definitions of data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ing, storing, and using inform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680" y="175248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-Based Information System (CB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808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systems are an organizational and management solution to business challenges that arise from the busines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209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re more than just technolog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invest in IS in order to create value and increase profitabilit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600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Business Perspective on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209680"/>
            <a:ext cx="8089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information technology but also require significant investment in organizational and management changes and innov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create value primarily by changing business processes and management decision ma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Business Perspective on Information Systems 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56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Business Information Value Chai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295280" y="2057400"/>
            <a:ext cx="7126560" cy="4711680"/>
            <a:chOff x="1295280" y="2057400"/>
            <a:chExt cx="7126560" cy="4711680"/>
          </a:xfrm>
        </p:grpSpPr>
        <p:sp>
          <p:nvSpPr>
            <p:cNvPr id="194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1295280" y="2057400"/>
              <a:ext cx="7126560" cy="423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600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Are More than Computer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52480" y="2057400"/>
            <a:ext cx="5402520" cy="4711680"/>
            <a:chOff x="1752480" y="2057400"/>
            <a:chExt cx="5402520" cy="4711680"/>
          </a:xfrm>
        </p:grpSpPr>
        <p:sp>
          <p:nvSpPr>
            <p:cNvPr id="200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7400"/>
              <a:ext cx="5402520" cy="439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28800"/>
            <a:ext cx="808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formation systems lite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ad-based understanding of information systems that includes behavioral knowledge about organizations, management and individuals using information systems as well as technical knowledge about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 lite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nowledge about information technology, focusing on understanding how computer technologies 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362320"/>
            <a:ext cx="525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es and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resour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1280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jor Business Functions Rely on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440" y="1752480"/>
            <a:ext cx="8458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Important Dimensions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2040" y="4876920"/>
            <a:ext cx="83710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will need to understand and balance these dimensions of information systems in order to create business va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9240" y="1676520"/>
            <a:ext cx="546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imensions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mlerChrysler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4 plants, 37 countries, 14,000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olutions: Integrated Volume Plann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nects demand side of business with suppliers, reducing inven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ower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ps 3,400 suppliers track parts and quality, reduc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s IT’s role in operational excellence, better quality products, and agility–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es the emerging digital firm landscape where information can flow seamlessly among business partners to create a superior customer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362320"/>
            <a:ext cx="8305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600" y="167652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Organizational Dimension of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133720"/>
            <a:ext cx="7467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rs a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e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ors of new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: set agend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8440" y="1600200"/>
            <a:ext cx="7787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Management Dimension of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720" y="1600200"/>
            <a:ext cx="7872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Management Dimension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549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who can understand the role of information systems in creating business value are the key ingredient to success with systems, and cannot easily be replicated by your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97180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Hardwa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ysical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tailed preprogrammed instru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tora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ysical media for storing data and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84480"/>
            <a:ext cx="8077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technology is one of the tools managers use to cope with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000" y="1625760"/>
            <a:ext cx="7718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echnology Dimension of Information 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59092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ommunications technolog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ansfers data from one physical location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inks computers to share data or resour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668600"/>
            <a:ext cx="8077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echnology Dimension of Information Systems (Continued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9528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need to know enough about information technology to make intelligent decisions about how to use it for creating business value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3623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lementary asse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57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lementary Assets and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Organizational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ive business culture that values efficienc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business processes, decentralization of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ly distributed decision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rong information system (IS) development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16002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capi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6002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ariation in Returns on Information Technology Investmen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52480" y="2133720"/>
            <a:ext cx="5715000" cy="4635360"/>
            <a:chOff x="1752480" y="2133720"/>
            <a:chExt cx="5715000" cy="4635360"/>
          </a:xfrm>
        </p:grpSpPr>
        <p:sp>
          <p:nvSpPr>
            <p:cNvPr id="248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1752480" y="2133720"/>
              <a:ext cx="571500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/>
          <p:nvPr/>
        </p:nvSpPr>
        <p:spPr>
          <a:xfrm>
            <a:off x="609480" y="5791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Based on Erik Brynjolfsson and Lorin M. Hitt, “Beyond Computation: Information Technology, Organizational Transformation and Business Performance.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Economic Perspectiv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, no. 4 (Fall 2000).  Used with permission of the American Economic Associ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828800" y="10666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APPROACHES TO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ciotechnical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438280"/>
            <a:ext cx="7467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e systems performance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ology and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s mutually adjust to one another until fit is satisfac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828800" y="10666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APPROACHES TO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Sociotechnical Perspective on Information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066680" y="2666880"/>
            <a:ext cx="7132680" cy="4102200"/>
            <a:chOff x="1066680" y="2666880"/>
            <a:chExt cx="7132680" cy="4102200"/>
          </a:xfrm>
        </p:grpSpPr>
        <p:sp>
          <p:nvSpPr>
            <p:cNvPr id="259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1066680" y="2666880"/>
              <a:ext cx="7132680" cy="306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819520"/>
            <a:ext cx="6477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 manag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 of doing busi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opportunity and advant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0200" y="162720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y Information Systems Ma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2209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reasons why IT makes a difference to the success of a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92160"/>
            <a:ext cx="8077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largest single component of capital investment in the United Stat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$1.8 trillion is spent each year by American busi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and business students need to know how to invest this capital wis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ccess of your business in the future may well depend on how you make IT investment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12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ital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1520" y="162720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Capital 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2171880"/>
            <a:ext cx="7475400" cy="4597200"/>
            <a:chOff x="914400" y="2171880"/>
            <a:chExt cx="7475400" cy="4597200"/>
          </a:xfrm>
        </p:grpSpPr>
        <p:sp>
          <p:nvSpPr>
            <p:cNvPr id="65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914400" y="2171880"/>
              <a:ext cx="7475400" cy="37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1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ased on the data in U.S. Department of Commerce, Bureau of Economic Analysi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ables 5.2 and 5.8, 20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79064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businesses today could not operate without extensive use of information systems and technologi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increase market shar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help a business become a high-quality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-cost produ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vital to the development of  new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600200"/>
            <a:ext cx="53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ndation of doing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1280" y="1627200"/>
            <a:ext cx="72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rdependence between Organiz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1080" y="2467080"/>
            <a:ext cx="5305680" cy="4302000"/>
            <a:chOff x="1981080" y="2467080"/>
            <a:chExt cx="5305680" cy="4302000"/>
          </a:xfrm>
        </p:grpSpPr>
        <p:sp>
          <p:nvSpPr>
            <p:cNvPr id="76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981080" y="2467080"/>
              <a:ext cx="5305680" cy="40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7T16:00:15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0095926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.</vt:lpwstr>
  </property>
</Properties>
</file>