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  <p:custShowLst>
    <p:custShow name="Custom Show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AEB1ED6-5AEA-4A31-BF72-2A4397D7927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6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486160"/>
            <a:ext cx="67053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, Organizations, Management, and Strateg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374920"/>
            <a:ext cx="77724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organizations have some similar  “structural”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00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mon Features of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37492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ear division of lab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 rule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rtial jud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7000" y="160020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hared Features of all Organiz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3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514600"/>
            <a:ext cx="8153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qualifications for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um organizational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hared Features of all Organization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578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3-1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860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ines are patterns of individu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are a collection of rout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firms are a collection of business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processes enable organizations to cope with all recurring expected situation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1360" y="1612800"/>
            <a:ext cx="79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outines and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78960" y="152388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outines, Business Processes, and Firm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52480" y="2050920"/>
            <a:ext cx="5639040" cy="4718160"/>
            <a:chOff x="1752480" y="2050920"/>
            <a:chExt cx="5639040" cy="4718160"/>
          </a:xfrm>
        </p:grpSpPr>
        <p:sp>
          <p:nvSpPr>
            <p:cNvPr id="107" name=""/>
            <p:cNvSpPr/>
            <p:nvPr/>
          </p:nvSpPr>
          <p:spPr>
            <a:xfrm>
              <a:off x="369576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1752480" y="2050920"/>
              <a:ext cx="5639040" cy="434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5146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gent viewpoints lead to political struggle, competition, and confl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mper organization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960" y="161280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products the organization should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and where it should b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whom the products should b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12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rganizational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2860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it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rrounding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04560" y="167148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Unique Features of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28600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ntrepreneurial struc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all start-up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Machine bureauc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idsize manufacturing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Divisionalized bureauc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tune 500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Professional bureauc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 firms, school systems, 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Adhoc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ulting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600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5146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environments have a reciprocal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s are open to, and dependent on, the social and physical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s can influence their enviro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720" y="160020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s and Environ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and describe important features of organizations that managers need to know about in order to build and use information systems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the impact of information systems o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how information systems support the activities of managers i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6272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vironments and Organizations Hav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ciprocal Relationship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160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19320" y="2514600"/>
            <a:ext cx="6705360" cy="4254480"/>
            <a:chOff x="1219320" y="2514600"/>
            <a:chExt cx="6705360" cy="425448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1219320" y="2514600"/>
              <a:ext cx="6705360" cy="39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772080" y="6400800"/>
              <a:ext cx="140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362320"/>
            <a:ext cx="8305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ltimat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groups and constit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ure of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160" y="160020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ther Differences Among Organ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1000" y="162720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ing the I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9880" y="3083040"/>
            <a:ext cx="230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386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formation systems department is responsible for maintain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61000" y="160020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Information Technolog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90720" y="2075040"/>
            <a:ext cx="7086600" cy="4694040"/>
            <a:chOff x="990720" y="2075040"/>
            <a:chExt cx="7086600" cy="46940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990720" y="2075040"/>
              <a:ext cx="708660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772080" y="6400800"/>
              <a:ext cx="140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" y="16146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cludes Specialist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86000"/>
            <a:ext cx="7848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ogrammer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ghly trained, writers of the software instructions for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s analyst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late business problems into solutions, act as liaisons between the information systems department and rest of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system manager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ders of various speci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590920"/>
            <a:ext cx="78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ief Information Officer (CIO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ior manager in charge of infor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unction in the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d user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representatives outside the information system department for whom applications are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897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ncludes Specialist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3880" y="930240"/>
            <a:ext cx="769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hanges both the relative costs of capital and the costs of inform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technology is a factor of production, like capital and labor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5040" y="161280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conomic Impa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ransaction cost theory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ms seek to economize on the cost of participating in marke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transaction cos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market transaction costs for firm, making it worthwhile for firms to transact with other firms rather than grow the number of employe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600" y="1612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conomic Impact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00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Transaction Cost Theory of the Impac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Technology on the Organizatio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47920" y="2514600"/>
            <a:ext cx="5943600" cy="4073400"/>
            <a:chOff x="1447920" y="2514600"/>
            <a:chExt cx="5943600" cy="4073400"/>
          </a:xfrm>
        </p:grpSpPr>
        <p:sp>
          <p:nvSpPr>
            <p:cNvPr id="192" name=""/>
            <p:cNvSpPr/>
            <p:nvPr/>
          </p:nvSpPr>
          <p:spPr>
            <a:xfrm>
              <a:off x="3658680" y="6219720"/>
              <a:ext cx="13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1447920" y="2514600"/>
              <a:ext cx="5943600" cy="379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Agency theory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m is nexus of contracts among self-interested parties requiring super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ms experience agency costs (the cost of managing and supervis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reduce agency costs, making it possible for firms to grow without adding to the costs of supervising, and without adding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438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 how information systems support various business strategies for competitive advant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the challenges posed by strategic information systems and management solu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860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1600200"/>
            <a:ext cx="670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Agency Cost Theory of the Impact of Information Technology on the Organization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28800" y="2514600"/>
            <a:ext cx="5715000" cy="4284000"/>
            <a:chOff x="1828800" y="2514600"/>
            <a:chExt cx="5715000" cy="4284000"/>
          </a:xfrm>
        </p:grpSpPr>
        <p:sp>
          <p:nvSpPr>
            <p:cNvPr id="203" name=""/>
            <p:cNvSpPr/>
            <p:nvPr/>
          </p:nvSpPr>
          <p:spPr>
            <a:xfrm>
              <a:off x="3916800" y="6430320"/>
              <a:ext cx="13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828800" y="2514600"/>
              <a:ext cx="5715000" cy="385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62840" y="152388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and Behavioral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T Flattens Organ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743200"/>
            <a:ext cx="7620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ates flattening of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adens the distribution of timely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the speed of decision 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514600"/>
            <a:ext cx="7620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owers lower-level employees to make decisions without supervision and increase management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span of control (the number of employees supervised by each manager) will also g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52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T Flattens Organization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97480" y="162720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Flattening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523880" y="2178000"/>
            <a:ext cx="6096240" cy="4591080"/>
            <a:chOff x="1523880" y="2178000"/>
            <a:chExt cx="6096240" cy="4591080"/>
          </a:xfrm>
        </p:grpSpPr>
        <p:sp>
          <p:nvSpPr>
            <p:cNvPr id="226" name=""/>
            <p:cNvSpPr/>
            <p:nvPr/>
          </p:nvSpPr>
          <p:spPr>
            <a:xfrm>
              <a:off x="3772080" y="6400800"/>
              <a:ext cx="140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1523880" y="2178000"/>
              <a:ext cx="6096240" cy="41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39040" y="1627200"/>
            <a:ext cx="69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Postindustrial Organizations and Virtual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8040" y="25909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Postindustrial Organ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8120" y="3200400"/>
            <a:ext cx="738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increasingly relies on knowledg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8040" y="4282920"/>
            <a:ext cx="64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 encourages ta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ce-networked organ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905120"/>
            <a:ext cx="2239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irtual Firms: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9560" y="2514600"/>
            <a:ext cx="71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networks to link people, assets, an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5880" y="3292560"/>
            <a:ext cx="69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ally with suppliers, customers to cre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distribute new products and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43556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limited to traditional organizational bounda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physical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2590920"/>
            <a:ext cx="8153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mation systems give both large and small organizations additional flexibility to overcome the limitations posed by thei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l organizations use information systems to acquire some of the muscle and reach of larger organ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5160" y="1676520"/>
            <a:ext cx="57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Increasing Flexibility of Organ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2590920"/>
            <a:ext cx="8153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 organizations use information technology to achieve some of the agility and responsiveness of small organiz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ization and personaliz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T makes it possible to  tailor products and  services to individ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ncreasing Flexibility of Organization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251460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become bound up in organizational politics because they influence access to a key resour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systems potentially change an organization’s structure, culture, politics, and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common reason for failure of large projects is due to organizational and political resistance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760" y="1676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Understanding Organizational Resistance to Chan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Organizational Resistance and the Mutually Adjusting Relationship between Technology and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981080" y="2470320"/>
            <a:ext cx="5105520" cy="4298760"/>
            <a:chOff x="1981080" y="2470320"/>
            <a:chExt cx="5105520" cy="4298760"/>
          </a:xfrm>
        </p:grpSpPr>
        <p:sp>
          <p:nvSpPr>
            <p:cNvPr id="279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1981080" y="2470320"/>
              <a:ext cx="5105520" cy="38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617220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eprinted by permission of James G. M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ful competitors, price conscious consumers.  Manage 95 brands of w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olutions. Warehouse management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ordinates production, suppliers, inventory and sh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ns order-to-door cycle by 1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Gallo Ed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zes profitability by bottle for customers like Albertsons and Wal-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Gallo Wine Manager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zes price vs. tast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s the interdependence of business environments, management, culture, and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01680" y="105084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llo Winery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147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ternet increases the accessibility, storage, distribution of information and knowledge for business fir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ternet lowers the transaction and agency costs of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es are rapidly rebuilding their key business processes based on Internet technology.  Example: online order entry, customer service, and fulfillment of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Internet an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47360" y="162720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Role of Managers i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2514600"/>
            <a:ext cx="85341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Classical Descriptions of Manag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i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scription of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es on formal functions:  Plan, organize, coordinate, decide,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9051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ehavioral Models:</a:t>
            </a:r>
            <a:r>
              <a:rPr b="1" lang="en-US" sz="2400" spc="-1" strike="noStrike">
                <a:solidFill>
                  <a:srgbClr val="a50021"/>
                </a:solidFill>
                <a:latin typeface="Minion-Semibold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es management based on observations of what managers actually do on the jo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rial R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ation of activities that managers should           perform in an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2286000"/>
            <a:ext cx="7848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person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s act as figureheads and lead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al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s receive and disseminate critical information, nerve cen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cision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s initiate activities, allocate resources, and negotiate confli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7240" y="1627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Rol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21337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ational 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 manag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es goals, ranks all possible alternative actions and chooses the alternative that contributes most to thos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siders the structural and political characteristics of an organ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reaucratic 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ever organizations do is the result of routines and existing business processes honed over years of activ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1600" y="160164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odels of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2286000"/>
            <a:ext cx="7848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olitical 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n organization does is a result of political bargains struck among key leaders and interes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76520" y="1676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Models of Decision Making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3352680"/>
            <a:ext cx="8534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structure, hierarchy, specialization, routines, and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rganization’s culture and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9920" y="2711520"/>
            <a:ext cx="747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s to consider while planning a new system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752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lications for the Design and Understanding of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666880"/>
            <a:ext cx="8534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type of organization and its style of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affected by the system and the attitudes of workers who will be using the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kinds of tasks, decisions, and business processes that the information system is designed to ass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1676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mplications for the Design and Understanding of Information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8195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y and multiple options for handling data and evalua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bility to support a varie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yles, skills, and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27360" y="1627200"/>
            <a:ext cx="75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Characteristics to be kept in mind while Desig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29718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bility to keep track of many alternatives and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sitivity to the organization’s bureaucratic and politic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1752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racteristics to be kept in mind while Designing System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6400" y="1627200"/>
            <a:ext cx="75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Two-Way Relationship between Organiz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nd Information 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00200" y="2590920"/>
            <a:ext cx="5943600" cy="4178160"/>
            <a:chOff x="1600200" y="2590920"/>
            <a:chExt cx="5943600" cy="41781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1600200" y="2590920"/>
              <a:ext cx="5943600" cy="36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69576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627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Business strategy decisions of the firm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determin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25909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ducts and services a firm p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ustries in which the firm compe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etitors, suppliers, and customers of the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-term goals of the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86040" y="162720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-Level Strategy: The Value Ch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23623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common generic business level strategies are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ome the low-cost 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iate your product from competitors’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the scope of competition by enlarging the market or narrowing it to a specialized ni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alue Chain 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lights the primary or support activities that add business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good tool for understanding strategy at the business firm 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imary Activiti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ly related to the production and distribution of a firm’s product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2514600"/>
            <a:ext cx="8534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ort Activ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the delivery of primary activitie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ist of the organization’s infrastructure, human resources, technology, and procur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Firm Value Chain and the Industry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147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00200" y="2116080"/>
            <a:ext cx="6324480" cy="4743360"/>
            <a:chOff x="1600200" y="2116080"/>
            <a:chExt cx="6324480" cy="4743360"/>
          </a:xfrm>
        </p:grpSpPr>
        <p:sp>
          <p:nvSpPr>
            <p:cNvPr id="389" name=""/>
            <p:cNvSpPr/>
            <p:nvPr/>
          </p:nvSpPr>
          <p:spPr>
            <a:xfrm>
              <a:off x="3809880" y="649116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1600200" y="2116080"/>
              <a:ext cx="6324480" cy="437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25146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IT be used at each point in the value chain to lower costs, differentiate products, and change the scope of competition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82880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ategic ques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2286000"/>
            <a:ext cx="8534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-enabled Web of cooperating fi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-driven network of independent fi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technology to coordinate val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ins of separate fir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collectively producing a product or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880" y="16128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alue We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Valu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828800" y="1895400"/>
            <a:ext cx="5486400" cy="4873680"/>
            <a:chOff x="1828800" y="1895400"/>
            <a:chExt cx="5486400" cy="4873680"/>
          </a:xfrm>
        </p:grpSpPr>
        <p:sp>
          <p:nvSpPr>
            <p:cNvPr id="407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1828800" y="1895400"/>
              <a:ext cx="5486400" cy="450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228600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that Create Product Differentiation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ms can use IT to develop differentiated produc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brand loyalty by developing new and unique products and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 and services not easily duplicated by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Dell, Orb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612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Systems Products and Services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2362320"/>
            <a:ext cx="8534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intensive analysis of customer data to support new ways of contacting and serving the custo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ables development of new market niches for specialized product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Wyndam Hotels frequent guest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3120" y="160020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s that Support Focused Different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5240" y="162720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What Is an Organ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160" y="2286000"/>
            <a:ext cx="231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9718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ble, formal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s resources from the environment and processes them to produc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266688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k your firm’s value chain to the value chains of your suppliers and cust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ly links consumer behavior back to distribution, production, and supply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Wal-Mart directly links customer purchases to suppliers in nearly real time.   It is the suppliers’ job to ensure products are shipped to the store to replace purchased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6128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 and Efficient Customer Response System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228600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used at the firm level to discourage customers from switching to other suppliers, and “locking” them into a firm’s cha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witching cost is the expense incurred by a customer or company for changing from one supplier or system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Baxter Interna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1612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witching Costs and Lock-in Effect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5238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tockless Inventory compared to Traditional and Just-in-time Supply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432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057400" y="2301840"/>
            <a:ext cx="5105520" cy="4467240"/>
            <a:chOff x="2057400" y="2301840"/>
            <a:chExt cx="5105520" cy="4467240"/>
          </a:xfrm>
        </p:grpSpPr>
        <p:sp>
          <p:nvSpPr>
            <p:cNvPr id="442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2057400" y="2301840"/>
              <a:ext cx="5105520" cy="410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-level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432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219320" y="2057400"/>
            <a:ext cx="6553080" cy="4711680"/>
            <a:chOff x="1219320" y="2057400"/>
            <a:chExt cx="6553080" cy="4711680"/>
          </a:xfrm>
        </p:grpSpPr>
        <p:sp>
          <p:nvSpPr>
            <p:cNvPr id="452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219320" y="2057400"/>
              <a:ext cx="6553080" cy="434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0320" y="162720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irm-Level Strategy and Informati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23623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re Competenc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ity at which a firm excels as a world-class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encourage the sharing of knowledge across business units and therefore enhance firm competenc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2400" y="259092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ms operate in a larger environment compose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firms, governments, and 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920" y="342900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partnership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perative alliance formed between two or more corporations for sharing information to gain strategic advant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p firms gain access to new customers, creating new opportunities for cross-selling and targeting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dustry-Level Strategy and Information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etitive Forces and Network Econom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1320" y="192096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arger environment, there are five main forces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at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274320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 market ent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stitute product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firms competing direc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orter’s Five Forces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Porter’s Competitive Force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90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7168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85800" y="2133720"/>
            <a:ext cx="7696080" cy="4635360"/>
            <a:chOff x="685800" y="2133720"/>
            <a:chExt cx="7696080" cy="4635360"/>
          </a:xfrm>
        </p:grpSpPr>
        <p:sp>
          <p:nvSpPr>
            <p:cNvPr id="495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685800" y="2133720"/>
              <a:ext cx="7696080" cy="40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74320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e new entrants.  Example: NetFlix vs. Blockb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 customer bargaining power.  Example: Expedia.com and ot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0600" y="1616040"/>
            <a:ext cx="79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T and the Internet can greatly change the strength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se competitive for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4920" y="2819520"/>
            <a:ext cx="8534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rease in supplier power.  Example: eCampus.com increases the efficiency of used textbook market, reducing publisher prof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stitute products.  Example: online music lowers value of record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1676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T and the Internet can greatly change the strength of these competitive force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8960" y="1627200"/>
            <a:ext cx="70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Technical Microeconomic Defini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2895480"/>
            <a:ext cx="8229600" cy="3873600"/>
            <a:chOff x="457200" y="2895480"/>
            <a:chExt cx="8229600" cy="38736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57200" y="2895480"/>
              <a:ext cx="82296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69576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3581280"/>
            <a:ext cx="85341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ecosystems are interdependent networks of suppliers, distributors, outsourcing firms, transportation service firms, and technology manufactur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8720" y="2454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plays a powerful role in creating new forms of business eco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6760" y="16002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Eco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90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2209680"/>
            <a:ext cx="85341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: 1 billion PCs worldwide and hundreds of thousands of businesses rely on Microsoft’s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Bay: Millions of people and thousands of business firms use this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l-Mart: Enterprise systems used by suppliers to increase their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1600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An Ecosystem Strateg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7168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716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85800" y="2166840"/>
            <a:ext cx="7772400" cy="4602240"/>
            <a:chOff x="685800" y="2166840"/>
            <a:chExt cx="7772400" cy="4602240"/>
          </a:xfrm>
        </p:grpSpPr>
        <p:sp>
          <p:nvSpPr>
            <p:cNvPr id="548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2"/>
            <a:stretch/>
          </p:blipFill>
          <p:spPr>
            <a:xfrm>
              <a:off x="685800" y="2166840"/>
              <a:ext cx="7772400" cy="400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880" y="2133720"/>
            <a:ext cx="86108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products and services exhibit powerful network effects and create potential “winner take all”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effects occur when adding more resources to a process incurs little or zero cost, but large gains in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ry to the law of diminishing returns typical of industrial and agricultural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6000" y="16002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work Econom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90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2133720"/>
            <a:ext cx="8534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Value of the Internet grows exponentially with the linear increase in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Because certain software can become a standard (like Windows operating systems or Windows Office), people can get locked into that standard and the value of Windows grows as more and more people us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od strategy: Use IT to build products and services that exhibit network effec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160020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work Economics: 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ANAGEMENT OPPORTUNITIES, CHALLENGES 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490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28954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rms face a continuing stream of IT-based opportunities to achieve strategic advant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560" y="190512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 Unicode MS"/>
              </a:rPr>
              <a:t>Management Opportun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ANAGEMENT OPPORTUNITIES, CHALLENGES 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0880" y="24382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firms face big hurdles in implementing contemporary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nce an advantage is achieved, there are difficulties in sustaining the advan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rganizations often cannot change fast enough to accommodate new technologi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6000" y="169560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 Unicode MS"/>
              </a:rPr>
              <a:t>Management Challen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ANAGEMENT OPPORTUNITIES, CHALLENGES 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2286000"/>
            <a:ext cx="8534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 a strategic systems analysi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nderstand the structure and competitive dynamics of the industry where your firm ope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nderstand the business, firm, and industry value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how your firm can manage “strategic transitions” as it seeks to implement systems that provide competitive advant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1320" y="16956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ion of rights, privileges, obligations, and responsi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cately balanced over a period of time through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2560" y="161280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ehavioral Definition of Organ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2280" y="162720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Behavioral View of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80880" y="2286000"/>
            <a:ext cx="8077320" cy="4483080"/>
            <a:chOff x="380880" y="2286000"/>
            <a:chExt cx="8077320" cy="448308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380880" y="2286000"/>
              <a:ext cx="8077320" cy="36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69576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20:41:33Z</dcterms:modified>
  <cp:revision>2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39359489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.</vt:lpwstr>
  </property>
</Properties>
</file>