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A05EEE9-6A61-4142-BC0A-8E722EF7EC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hyperlink" Target="http://www.emarketer.com/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063960"/>
            <a:ext cx="5791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73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ras in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38400" y="1905120"/>
            <a:ext cx="3060720" cy="4878360"/>
            <a:chOff x="3038400" y="1905120"/>
            <a:chExt cx="3060720" cy="4878360"/>
          </a:xfrm>
        </p:grpSpPr>
        <p:sp>
          <p:nvSpPr>
            <p:cNvPr id="8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038400" y="1905120"/>
              <a:ext cx="3060720" cy="44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Multitiered Client/Server Network (N-tier)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2476440"/>
            <a:ext cx="7848720" cy="4307040"/>
            <a:chOff x="685800" y="2476440"/>
            <a:chExt cx="7848720" cy="4307040"/>
          </a:xfrm>
        </p:grpSpPr>
        <p:sp>
          <p:nvSpPr>
            <p:cNvPr id="87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85800" y="2476440"/>
              <a:ext cx="7848720" cy="323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ore’s law and microprocessing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aw of mass digital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calfe’s law and network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ining communications costs and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 and 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2720" y="1600200"/>
            <a:ext cx="693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echnology Drivers of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ore’s Law and Microprocessor Performanc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173320"/>
            <a:ext cx="5638680" cy="4610160"/>
            <a:chOff x="1828800" y="2173320"/>
            <a:chExt cx="5638680" cy="4610160"/>
          </a:xfrm>
        </p:grpSpPr>
        <p:sp>
          <p:nvSpPr>
            <p:cNvPr id="97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828800" y="2173320"/>
              <a:ext cx="5638680" cy="415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alling Cost of Chi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00200" y="2133720"/>
            <a:ext cx="5867280" cy="4649760"/>
            <a:chOff x="1600200" y="2133720"/>
            <a:chExt cx="5867280" cy="4649760"/>
          </a:xfrm>
        </p:grpSpPr>
        <p:sp>
          <p:nvSpPr>
            <p:cNvPr id="103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600200" y="2133720"/>
              <a:ext cx="5867280" cy="418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Nanotu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02040" y="2057400"/>
            <a:ext cx="3170160" cy="4726080"/>
            <a:chOff x="3002040" y="2057400"/>
            <a:chExt cx="3170160" cy="4726080"/>
          </a:xfrm>
        </p:grpSpPr>
        <p:sp>
          <p:nvSpPr>
            <p:cNvPr id="109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002040" y="2057400"/>
              <a:ext cx="317016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apacity of Hard Disk Drives Grows Exponentially, 1980–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2558880"/>
            <a:ext cx="8763120" cy="4224600"/>
            <a:chOff x="228600" y="2558880"/>
            <a:chExt cx="8763120" cy="4224600"/>
          </a:xfrm>
        </p:grpSpPr>
        <p:sp>
          <p:nvSpPr>
            <p:cNvPr id="115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28600" y="2558880"/>
              <a:ext cx="8763120" cy="35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990720" y="63244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ost of Storing Data Declines Exponentially,1950–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81080" y="2133720"/>
            <a:ext cx="4953240" cy="4486320"/>
            <a:chOff x="1981080" y="2133720"/>
            <a:chExt cx="4953240" cy="4486320"/>
          </a:xfrm>
        </p:grpSpPr>
        <p:sp>
          <p:nvSpPr>
            <p:cNvPr id="122" name=""/>
            <p:cNvSpPr/>
            <p:nvPr/>
          </p:nvSpPr>
          <p:spPr>
            <a:xfrm>
              <a:off x="3830760" y="6251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981080" y="2133720"/>
              <a:ext cx="495324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09480" y="621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“Exponential Growth an Illusion?: Response to Ilkka Tuomi,” by Ray Kurzweil, KurzweilAl.net, September 23, 2003. Us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ponential Declines in Internet Communication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2066760"/>
            <a:ext cx="6934320" cy="4716720"/>
            <a:chOff x="1066680" y="2066760"/>
            <a:chExt cx="6934320" cy="4716720"/>
          </a:xfrm>
        </p:grpSpPr>
        <p:sp>
          <p:nvSpPr>
            <p:cNvPr id="129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66680" y="2066760"/>
              <a:ext cx="6934320" cy="43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447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2590920"/>
            <a:ext cx="5943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Hardware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ng System Platfo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oftware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anagement and 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600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ven Key Infrastructure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IT infrastructure and describe the components and levels of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describe the stages of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describe the technology drivers of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ing/Telecommunications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lting and System Integration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even Key Infrastructure Component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T Infrastructure Ecosyste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2133720"/>
            <a:ext cx="5477040" cy="4649760"/>
            <a:chOff x="1981080" y="2133720"/>
            <a:chExt cx="5477040" cy="4649760"/>
          </a:xfrm>
        </p:grpSpPr>
        <p:sp>
          <p:nvSpPr>
            <p:cNvPr id="144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981080" y="2133720"/>
              <a:ext cx="5477040" cy="433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 Hardware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10 billion annually spent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inance of Intel, AMD, and IBM 32-bit processor chips at the cli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market increasingly dominated by inexpensive generic processors from the same manufactur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server market growth for 64 bit generic processors from AMD, Intel and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de servers replace box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frames continue as a presence working as very large serv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676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puter Hardware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752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ng System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00 billion annually spent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dominance of Microsoft OS in the client (95%) and handheld market (4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ing dominance of Linux (UNIX) in the corporate server market (8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2002 and 2003 Server remains strong in smaller enterprises and workgroup networ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oftware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65 billion annually spent in the United States for basic enterprise softwar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P, Oracle, PeopleSoft (now Oracle), and Siebel dominate this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dleware firms like BEA and JD Edwards serve smaller firms, and work also in the Web services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erprise market is consolidating around a few huge firms that have gained significant market share such as SAP and Ora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is expanding into smaller firm enterprise systems where it can build on its Windows server-installed bas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60020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oftware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600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Management and 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70 billion annually spent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acle and IBM continue to dominate the database software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(SQL Server) and Sybase tend to serve smaller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n source Linux MySQL now supported by HP and most consulting firms as an inexpensive, powerful database used mostly in small to mid-size firm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909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35 billion annually  spent in the United States for physical hard disk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hard disk market is consolidating around a few huge firms like EMC and smaller PC hard disk firms like Seagate, Maxtor, and Western Digi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ata Management and Stora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ing/Telecommunications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28600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50 billion annually spent on networking and telecommunications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700 billion annually spent on telecommunications services, e.g. phone and Internet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area networking still domina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Server (about 75%) but strong grow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Linux challenges this domin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09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contemporary computer hardware platform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contemporary software platform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challenges of managing IT infrastructure and management s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networking almost entirely Linux or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sco, Lucent, Nortel, and Juniper Networks continue to dominate networking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communications services market is highly dynamic with MCI, AT&amp;T, and Sprint providing most trunk line services for both phone and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wth of non-telephone Wi-Fi and Wi-Max services, and Internet telepho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Networking/Telecommunications Platfo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32 billion annually spent on Internet infrastructure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hardware server market concentrated in Dell, HP, and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ces falling rapidly by up to 50% in a single year for low-power serv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-source Apache remains the dominant Web server software, followed by Microsoft’s I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’s Java grows as the most widely used tool for interactive Web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and Sun settle a long-standing law suit and agree to support a common Jav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752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ternet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sulting and System Integration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irms today, even large firms, cannot develop their systems without significant outside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30 billion annually spent on computer system design, and related business services like business process redesign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85% of business consulting in the United States involves IT business consul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services involves integrating data, and applications in a fi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ng new applications and systems to legac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BM has transformed itself into a systems integration firm with IBM Global Services, the largest system integration fir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sulting and System Integration Servic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gration of Computing and Telecommunications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ly computing takes place over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 level: integration of cell phones and PDAs (Example: Palm T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, video, and radio move toward digital produ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6668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 level: The integration of voice telephone and the Internet bring together two historically separate and distinct globa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work in many respects is the source of computing powe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Integration of Computing and Telecommunications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600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id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s connecting geographically remote computers into a single network capable of working in parallel on business problems that require short-term access to large comput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purchase huge mainframes or super computers, firms can chain together thousands of smaller desktop clients into a single computing gri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puters in the world are loafing, and at night they are slee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estimated that from 25% - 50% of the computing power in the United States is un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id computing saves infrastructure spending, increases speed of computing, and increases the agility of fir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Royal Dutch/Shell Group and the National Digital Mammography Arch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523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rid Comput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n-Demand (Utility)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2860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off-loading peak demand for computing power to remote, large-scale data process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by IBM, SUN, and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pay only for the computing power they use, as with an electrical utilit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agmented, high-cost IT infrastructure slowed down market and customer response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grated storage area network to enable the flow of information among different types and brands of computer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number of servers from 107 to 7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the importance of IT infrastructure for achieving busines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8360" y="1050840"/>
            <a:ext cx="515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g Kong’s New World Telecommunications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3623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ellent for firms with spiked demand curves caused by seasonal variations in consumer demand, e.g. holiday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Harry and David use IBM’s On-Deman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ves firms from purchasing excessive levels of infrastru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n-Demand (Utility) Computing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utonomic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systems (both hardware and software) have become so complex that the cost of managing them has ri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rty to fifty percent of a company’s IT budget is spent preventing or recovering from system cr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 error is the most common cause of cras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nomic computing is an industry-wide effort to develop systems that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gure, optimize, and tun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 themselves when bro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 themselves from outside intruders and self-de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indows XP and Max X OS automatically download patches and updat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dge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860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ge computing is a multitier, load-balancing scheme for Web-based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load is distributed closer to the user and handled by lower-cost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s cos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s serv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firm greater flexibility in responding to service requ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sonal spikes in demand can be off-loaded to other edge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dge Computing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dge Computing Platfor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3000" y="2133720"/>
            <a:ext cx="7315200" cy="4649760"/>
            <a:chOff x="1143000" y="2133720"/>
            <a:chExt cx="7315200" cy="4649760"/>
          </a:xfrm>
        </p:grpSpPr>
        <p:sp>
          <p:nvSpPr>
            <p:cNvPr id="240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143000" y="2133720"/>
              <a:ext cx="7315200" cy="398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61604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four major themes in contemporary software platform ev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ux and open-sourc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ices and service-orient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ise of Linux and Open-Source Softwa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-source software is free and can be modifie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nd maintained by a worldwide network of programmers and designers under the management of user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ux is the most widely used open-source software program. Linux is an operating system derived from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zilla Firefox browser and Thunderbird mail clients are the most widely used open-source applications.  Others include MySQ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BM, HP, Intel, Dell, and Sun have adopted and support Linux. Linux is a major alternative to Windows server and even client operating system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44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Rise of Linux and Open-Source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Ja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erating system—Independent, processor-independent, object-oriented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written in Java can run on any hardware for which a Java virtual machine has been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 is embedded in PDAs, cell phones, and brow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va is a leading interactive programming environment for the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Java Is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32080" y="16002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efining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133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hardware, software,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t of physical devices and software applications that are required to operate the entire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r firm is largely dependent on its infrastructure for delivering services to customers, employees, and supplier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think of infrastructure as digital plumbing, but its much more than that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 for Enterprise Integra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of the most important software trends of the last decade is the growth of “enterprise in a box” or the purchase of enterprise-wide software systems by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build all their own software on a custom basis, large firms increasingly purchase enterprise applications prewritten by specialized software firms like SAP, Oracle, PeopleSoft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98108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chieve an integrated firm-wide information environment, reduce cost, increase reliability, and to adopt business best practices which are captured by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software firms achieve economies of scale by selling the same software to hundreds of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's enterprise systems are capable of integrating older legacy applications with ne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-based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oftware for Enterprise Integration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Application Integration (EAI) Software Versus Traditional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320" y="2556000"/>
            <a:ext cx="8915400" cy="4227480"/>
            <a:chOff x="76320" y="2556000"/>
            <a:chExt cx="8915400" cy="4227480"/>
          </a:xfrm>
        </p:grpSpPr>
        <p:sp>
          <p:nvSpPr>
            <p:cNvPr id="271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76320" y="2556000"/>
              <a:ext cx="8915400" cy="30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5867280"/>
            <a:ext cx="78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I software (a) creates a common platform through which all applications can freely communicate with each other. EAI requires much less programming than traditional point-to-point integration (b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616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Web Services and Service-Orient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213372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lternative to enterprise systems is to use new Web-based standards to create a communication platform allowing older applications to communicate with new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 refers to a set of loosely coupled software components that exchange information with each other using Web communication standards and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ices permit computer programs to communicate with one another and share information without rewriting applications, or disturbing older legac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 are based on XML, and standards like SOAP, WSDL, and UDDI to create this communication environmen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eb Services and Service-Oriented Architectu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-Oriented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2860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A refers to the use of Web services in a firm to achieve integration among disparate applications and plat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rm might have applications (payroll) running on older AS400 IBM machines, IBM mainframes (customer data and inventory) and newer applications running on client/server netwo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SOA, these applications are integrated so that information stored on various systems can be brought together and fed into newer applications running on more contemporary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A is generally less expensive than rebuilding all the older applications and adopting a new enterprise wid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ervice-Oriented Architectu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Dollar Rent a Car Uses Web Service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28800" y="2133720"/>
            <a:ext cx="5638680" cy="4649760"/>
            <a:chOff x="1828800" y="2133720"/>
            <a:chExt cx="5638680" cy="4649760"/>
          </a:xfrm>
        </p:grpSpPr>
        <p:sp>
          <p:nvSpPr>
            <p:cNvPr id="294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1828800" y="2133720"/>
              <a:ext cx="5638680" cy="418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oftware 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 large and small firms purchase most of their software from outside vend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kinds of outsourc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rchase of software pack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application service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outsou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pplication Service Provid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usiness that delivers and manages applications and computer services from remote computer centers to multiple users using the Internet or a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1495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oftware packages: prewritten off-the-shelf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" y="160020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rchase of Software Packages and Enterprise Softwa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523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Connection between the Firm, IT Infrastructure, and Business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19320" y="2362320"/>
            <a:ext cx="6629400" cy="4421160"/>
            <a:chOff x="1219320" y="2362320"/>
            <a:chExt cx="6629400" cy="4421160"/>
          </a:xfrm>
        </p:grpSpPr>
        <p:sp>
          <p:nvSpPr>
            <p:cNvPr id="6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1219320" y="2362320"/>
              <a:ext cx="6629400" cy="39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pplication Service Provi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purchase hardware and software, firms can go onto the Internet and find providers who offer the same functionality over the entertainment, and charge on a per-user or license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Salesforce.com provides customer relationship management and sales force management services to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urchase of Software Packages and Enterprise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 Outsourcing of Cust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rm contracts custom software development or maintenance of existing legacy programs to outside firms, often in low-wag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Dow Chemical hired IBM for $1.1 billion to create an integrated communication system for 50,000 Dow employees in 63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Dow not build this system itself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ing Sources of Firm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00200" y="1981080"/>
            <a:ext cx="5715000" cy="4280040"/>
            <a:chOff x="1600200" y="1981080"/>
            <a:chExt cx="5715000" cy="4280040"/>
          </a:xfrm>
        </p:grpSpPr>
        <p:sp>
          <p:nvSpPr>
            <p:cNvPr id="317" name=""/>
            <p:cNvSpPr/>
            <p:nvPr/>
          </p:nvSpPr>
          <p:spPr>
            <a:xfrm>
              <a:off x="3799800" y="589284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1600200" y="1981080"/>
              <a:ext cx="5715000" cy="396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943600"/>
            <a:ext cx="29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A National Income and Product Accounts, Forrester Research, December 2003; eMarketer Inc., “IT Spending 2004,”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marketer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; and author estim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1600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362320"/>
            <a:ext cx="8077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changes in hardware and software platforms, firms face significant new opportunities to obtain hardware and software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t are more reliable, less costly, and more flexible than in the pas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600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2860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ing wise infrastructure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ing and coordinating infrastructu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ling with infrastructur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and gover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your strategic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out small, develop one module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total cost of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800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6-16, “Competitive Forces Model for IT infrastructure” illustrates six strategic factors you should consider when making infrastructure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etitive Forces Model for IT Infrastructu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23880" y="2125800"/>
            <a:ext cx="6553440" cy="4657680"/>
            <a:chOff x="1523880" y="2125800"/>
            <a:chExt cx="6553440" cy="465768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1523880" y="2125800"/>
              <a:ext cx="6553440" cy="42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352680"/>
            <a:ext cx="8610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 with new technologies on a smaller scale before taking up a large-scale infrastructur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400" y="2876400"/>
            <a:ext cx="294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rting out sma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828800"/>
            <a:ext cx="8610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tal cost of ownership of technology asse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lculating the costs of systems, be sure to include all the cos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w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ace and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8400" y="19051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vels of IT Infrastructu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66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major levels of infra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Levels of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1981080"/>
            <a:ext cx="7086600" cy="4802400"/>
            <a:chOff x="1066680" y="1981080"/>
            <a:chExt cx="7086600" cy="4802400"/>
          </a:xfrm>
        </p:grpSpPr>
        <p:sp>
          <p:nvSpPr>
            <p:cNvPr id="7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066680" y="1981080"/>
              <a:ext cx="7086600" cy="429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accounting machine era: (1930–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-purpose mainframe and minicomputer era: (1959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omputer era: (1981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/server era: (1983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rnet computing era: (1992 to pres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90680" y="1600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olution of IT Infrastructure: 1950–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20:42:47Z</dcterms:modified>
  <cp:revision>2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6113847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