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  <p:custShowLst>
    <p:custShow name="Custom Show 1" id="0">
      <p:sldLst>
        <p:sld r:id="rId3"/>
        <p:sld r:id="rId4"/>
        <p:sld r:id="rId5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08800"/>
            <a:ext cx="69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DDEDB3EB-BBA2-4FF6-ADBC-5FBFAC326BC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45200" y="6553080"/>
            <a:ext cx="23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 by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hyperlink" Target="http://www.emarketer.com/" TargetMode="External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127080"/>
            <a:ext cx="6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81880" y="16524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3063960"/>
            <a:ext cx="57913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473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Eras in IT Infrastructure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038400" y="1905120"/>
            <a:ext cx="3060720" cy="4878360"/>
            <a:chOff x="3038400" y="1905120"/>
            <a:chExt cx="3060720" cy="4878360"/>
          </a:xfrm>
        </p:grpSpPr>
        <p:sp>
          <p:nvSpPr>
            <p:cNvPr id="81" name=""/>
            <p:cNvSpPr/>
            <p:nvPr/>
          </p:nvSpPr>
          <p:spPr>
            <a:xfrm>
              <a:off x="3887640" y="64152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3038400" y="1905120"/>
              <a:ext cx="3060720" cy="4486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 Multitiered Client/Server Network (N-tier)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5800" y="2476440"/>
            <a:ext cx="7848720" cy="4307040"/>
            <a:chOff x="685800" y="2476440"/>
            <a:chExt cx="7848720" cy="4307040"/>
          </a:xfrm>
        </p:grpSpPr>
        <p:sp>
          <p:nvSpPr>
            <p:cNvPr id="87" name=""/>
            <p:cNvSpPr/>
            <p:nvPr/>
          </p:nvSpPr>
          <p:spPr>
            <a:xfrm>
              <a:off x="3887640" y="64152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685800" y="2476440"/>
              <a:ext cx="7848720" cy="3238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ore’s law and microprocessing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aw of mass digital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calfe’s law and network 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lining communications costs and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s and network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2720" y="1600200"/>
            <a:ext cx="6939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Technology Drivers of Infrastructure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oore’s Law and Microprocessor Performance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2173320"/>
            <a:ext cx="5638680" cy="4610160"/>
            <a:chOff x="1828800" y="2173320"/>
            <a:chExt cx="5638680" cy="4610160"/>
          </a:xfrm>
        </p:grpSpPr>
        <p:sp>
          <p:nvSpPr>
            <p:cNvPr id="97" name=""/>
            <p:cNvSpPr/>
            <p:nvPr/>
          </p:nvSpPr>
          <p:spPr>
            <a:xfrm>
              <a:off x="3887640" y="64152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828800" y="2173320"/>
              <a:ext cx="5638680" cy="4159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alling Cost of Chi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00200" y="2133720"/>
            <a:ext cx="5867280" cy="4649760"/>
            <a:chOff x="1600200" y="2133720"/>
            <a:chExt cx="5867280" cy="4649760"/>
          </a:xfrm>
        </p:grpSpPr>
        <p:sp>
          <p:nvSpPr>
            <p:cNvPr id="103" name=""/>
            <p:cNvSpPr/>
            <p:nvPr/>
          </p:nvSpPr>
          <p:spPr>
            <a:xfrm>
              <a:off x="3887640" y="64152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1600200" y="2133720"/>
              <a:ext cx="5867280" cy="418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amples of Nanotub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02040" y="2057400"/>
            <a:ext cx="3170160" cy="4726080"/>
            <a:chOff x="3002040" y="2057400"/>
            <a:chExt cx="3170160" cy="4726080"/>
          </a:xfrm>
        </p:grpSpPr>
        <p:sp>
          <p:nvSpPr>
            <p:cNvPr id="109" name=""/>
            <p:cNvSpPr/>
            <p:nvPr/>
          </p:nvSpPr>
          <p:spPr>
            <a:xfrm>
              <a:off x="3887640" y="64152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3002040" y="2057400"/>
              <a:ext cx="3170160" cy="4343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600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Capacity of Hard Disk Drives Grows Exponentially, 1980–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8600" y="2558880"/>
            <a:ext cx="8763120" cy="4224600"/>
            <a:chOff x="228600" y="2558880"/>
            <a:chExt cx="8763120" cy="4224600"/>
          </a:xfrm>
        </p:grpSpPr>
        <p:sp>
          <p:nvSpPr>
            <p:cNvPr id="115" name=""/>
            <p:cNvSpPr/>
            <p:nvPr/>
          </p:nvSpPr>
          <p:spPr>
            <a:xfrm>
              <a:off x="3887640" y="64152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228600" y="2558880"/>
              <a:ext cx="8763120" cy="353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990720" y="63244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Cost of Storing Data Declines Exponentially,1950–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981080" y="2133720"/>
            <a:ext cx="4953240" cy="4486320"/>
            <a:chOff x="1981080" y="2133720"/>
            <a:chExt cx="4953240" cy="4486320"/>
          </a:xfrm>
        </p:grpSpPr>
        <p:sp>
          <p:nvSpPr>
            <p:cNvPr id="122" name=""/>
            <p:cNvSpPr/>
            <p:nvPr/>
          </p:nvSpPr>
          <p:spPr>
            <a:xfrm>
              <a:off x="3830760" y="6251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981080" y="2133720"/>
              <a:ext cx="495324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609480" y="6219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“Exponential Growth an Illusion?: Response to Ilkka Tuomi,” by Ray Kurzweil, KurzweilAl.net, September 23, 2003. Us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ponential Declines in Internet Communications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066680" y="2066760"/>
            <a:ext cx="6934320" cy="4716720"/>
            <a:chOff x="1066680" y="2066760"/>
            <a:chExt cx="6934320" cy="4716720"/>
          </a:xfrm>
        </p:grpSpPr>
        <p:sp>
          <p:nvSpPr>
            <p:cNvPr id="129" name=""/>
            <p:cNvSpPr/>
            <p:nvPr/>
          </p:nvSpPr>
          <p:spPr>
            <a:xfrm>
              <a:off x="3887640" y="641520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1066680" y="2066760"/>
              <a:ext cx="6934320" cy="432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1447920" y="62485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7920" y="2590920"/>
            <a:ext cx="5943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uter Hardware 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ng System Platfor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Software Appl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a Management and Stor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600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even Key Infrastructure Compon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8612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2096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IT infrastructure and describe the components and levels of I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and describe the stages of IT infrastructure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and describe the technology drivers of IT infrastructure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28954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working/Telecommunications 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ulting and System Integration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6765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even Key Infrastructure Component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IT Infrastructure Ecosystem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81080" y="2133720"/>
            <a:ext cx="5477040" cy="4649760"/>
            <a:chOff x="1981080" y="2133720"/>
            <a:chExt cx="5477040" cy="4649760"/>
          </a:xfrm>
        </p:grpSpPr>
        <p:sp>
          <p:nvSpPr>
            <p:cNvPr id="144" name=""/>
            <p:cNvSpPr/>
            <p:nvPr/>
          </p:nvSpPr>
          <p:spPr>
            <a:xfrm>
              <a:off x="3887640" y="641520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1981080" y="2133720"/>
              <a:ext cx="5477040" cy="4333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1676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puter Hardware Platf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243828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110 billion annually spent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inance of Intel, AMD, and IBM 32-bit processor chips at the cli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ver market increasingly dominated by inexpensive generic processors from the same manufactur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ong server market growth for 64 bit generic processors from AMD, Intel and I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ade servers replace box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inframes continue as a presence working as very large serv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16765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mputer Hardware Platfor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7524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perating System Platf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438280"/>
            <a:ext cx="7772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100 billion annually spent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d dominance of Microsoft OS in the client (95%) and handheld market (4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ing dominance of Linux (UNIX) in the corporate server market (8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ndows 2002 and 2003 Server remains strong in smaller enterprises and workgroup network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1600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nterprise Software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165 billion annually spent in the United States for basic enterprise software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P, Oracle, PeopleSoft (now Oracle), and Siebel dominate this mar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ddleware firms like BEA and JD Edwards serve smaller firms, and work also in the Web services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9718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nterprise market is consolidating around a few huge firms that have gained significant market share such as SAP and Ora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crosoft is expanding into smaller firm enterprise systems where it can build on its Windows server-installed bas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1600200"/>
            <a:ext cx="5867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nterprise Software Application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16002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ata Management and Stor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70 billion annually spent in the United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acle and IBM continue to dominate the database software mar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(SQL Server) and Sybase tend to serve smaller fi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n source Linux MySQL now supported by HP and most consulting firms as an inexpensive, powerful database used mostly in small to mid-size firm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590920"/>
            <a:ext cx="7772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35 billion annually  spent in the United States for physical hard disk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hard disk market is consolidating around a few huge firms like EMC and smaller PC hard disk firms like Seagate, Maxtor, and Western Digi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1752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Data Management and Storag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600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tworking/Telecommunications Platf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228600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150 billion annually spent on networking and telecommunications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700 billion annually spent on telecommunications services, e.g. phone and Internet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area networking still dominat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crosoft Server (about 75%) but strong grow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 Linux challenges this domin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8612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096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 contemporary computer hardware platform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 contemporary software platform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e the challenges of managing IT infrastructure and management solu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prise networking almost entirely Linux or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sco, Lucent, Nortel, and Juniper Networks continue to dominate networking hard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lecommunications services market is highly dynamic with MCI, AT&amp;T, and Sprint providing most trunk line services for both phone and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owth of non-telephone Wi-Fi and Wi-Max services, and Internet telepho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15238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Networking/Telecommunications Platform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1600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ternet Platf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32 billion annually spent on Internet infrastructure in the United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hardware server market concentrated in Dell, HP, and I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ices falling rapidly by up to 50% in a single year for low-power serv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n-source Apache remains the dominant Web server software, followed by Microsoft’s IIS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n’s Java grows as the most widely used tool for interactive Web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crosoft and Sun settle a long-standing law suit and agree to support a common Jav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1752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nternet Platfor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1600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nsulting and System Integration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firms today, even large firms, cannot develop their systems without significant outside hel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130 billion annually spent on computer system design, and related business services like business process redesign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out 85% of business consulting in the United States involves IT business consul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services involves integrating data, and applications in a fi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necting new applications and systems to legac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BM has transformed itself into a systems integration firm with IBM Global Services, the largest system integration fir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onsulting and System Integration Service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600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Integration of Computing and Telecommunications 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266688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ingly computing takes place over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ent level: integration of cell phones and PDAs (Example: Palm Tr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evision, video, and radio move toward digital produc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26668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 level: The integration of voice telephone and the Internet bring together two historically separate and distinct global net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twork in many respects is the source of computing power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he Integration of Computing and Telecommunications Platfor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16002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rid Comput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olves connecting geographically remote computers into a single network capable of working in parallel on business problems that require short-term access to large computational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ther than purchase huge mainframes or super computers, firms can chain together thousands of smaller desktop clients into a single computing grid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computers in the world are loafing, and at night they are slee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estimated that from 25% - 50% of the computing power in the United States is un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id computing saves infrastructure spending, increases speed of computing, and increases the agility of fir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 Royal Dutch/Shell Group and the National Digital Mammography Arch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15238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Grid Computing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1600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n-Demand (Utility) Comput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2286000"/>
            <a:ext cx="7772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ms off-loading peak demand for computing power to remote, large-scale data processing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d by IBM, SUN, and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rms pay only for the computing power they use, as with an electrical utilit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halleng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agmented, high-cost IT infrastructure slowed down market and customer response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olution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grated storage area network to enable the flow of information among different types and brands of computer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number of servers from 107 to 7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es the importance of IT infrastructure for achieving business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8360" y="1050840"/>
            <a:ext cx="515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ng Kong’s New World Telecommunications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23623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cellent for firms with spiked demand curves caused by seasonal variations in consumer demand, e.g. holiday sh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Harry and David use IBM’s On-Demand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ves firms from purchasing excessive levels of infrastru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16765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On-Demand (Utility) Computing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1600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utonomic Comput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systems (both hardware and software) have become so complex that the cost of managing them has ri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rty to fifty percent of a company’s IT budget is spent preventing or recovering from system cr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or error is the most common cause of crash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16765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nomic computing is an industry-wide effort to develop systems that c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igure, optimize, and tune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l themselves when bro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tect themselves from outside intruders and self-de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Windows XP and Max X OS automatically download patches and updat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600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dge Comput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2286000"/>
            <a:ext cx="7772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ge computing is a multitier, load-balancing scheme for Web-based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ing load is distributed closer to the user and handled by lower-cost serv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ers cost of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21337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s service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firm greater flexibility in responding to service reque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asonal spikes in demand can be off-loaded to other edge serv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1752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dge Computing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dge Computing Platform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143000" y="2133720"/>
            <a:ext cx="7315200" cy="4649760"/>
            <a:chOff x="1143000" y="2133720"/>
            <a:chExt cx="7315200" cy="4649760"/>
          </a:xfrm>
        </p:grpSpPr>
        <p:sp>
          <p:nvSpPr>
            <p:cNvPr id="240" name=""/>
            <p:cNvSpPr/>
            <p:nvPr/>
          </p:nvSpPr>
          <p:spPr>
            <a:xfrm>
              <a:off x="3887640" y="641520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1143000" y="2133720"/>
              <a:ext cx="7315200" cy="398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HARDWARE PLATFORM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61604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The four major themes in contemporary software platform ev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2666880"/>
            <a:ext cx="77724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nux and open-source softw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 services and service-oriented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outsourc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6002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Rise of Linux and Open-Source Software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n-source software is free and can be modified by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d and maintained by a worldwide network of programmers and designers under the management of user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2286000"/>
            <a:ext cx="80773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ux is the most widely used open-source software program. Linux is an operating system derived from Un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zilla Firefox browser and Thunderbird mail clients are the most widely used open-source applications.  Others include MySQ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BM, HP, Intel, Dell, and Sun have adopted and support Linux. Linux is a major alternative to Windows server and even client operating system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447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he Rise of Linux and Open-Source Softwar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1676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Jav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21337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operating system—Independent, processor-independent, object-oriented programm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written in Java can run on any hardware for which a Java virtual machine has been def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ava is embedded in PDAs, cell phones, and brow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ava is a leading interactive programming environment for the We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1447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Java Is Every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32080" y="160020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Defining I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133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s hardware, software,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et of physical devices and software applications that are required to operate the entire 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our firm is largely dependent on its infrastructure for delivering services to customers, employees, and supplier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ou can think of infrastructure as digital plumbing, but its much more than that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1676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ftware for Enterprise Integration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of the most important software trends of the last decade is the growth of “enterprise in a box” or the purchase of enterprise-wide software systems by fi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ther than build all their own software on a custom basis, large firms increasingly purchase enterprise applications prewritten by specialized software firms like SAP, Oracle, PeopleSoft, and oth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198108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al is to achieve an integrated firm-wide information environment, reduce cost, increase reliability, and to adopt business best practices which are captured by the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prise software firms achieve economies of scale by selling the same software to hundreds of fi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day's enterprise systems are capable of integrating older legacy applications with ne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b-based applic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oftware for Enterprise Integration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28600" y="1600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nterprise Application Integration (EAI) Software Versus Traditional Integ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320" y="2556000"/>
            <a:ext cx="8915400" cy="4227480"/>
            <a:chOff x="76320" y="2556000"/>
            <a:chExt cx="8915400" cy="4227480"/>
          </a:xfrm>
        </p:grpSpPr>
        <p:sp>
          <p:nvSpPr>
            <p:cNvPr id="271" name=""/>
            <p:cNvSpPr/>
            <p:nvPr/>
          </p:nvSpPr>
          <p:spPr>
            <a:xfrm>
              <a:off x="3887640" y="641520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76320" y="2556000"/>
              <a:ext cx="8915400" cy="300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5867280"/>
            <a:ext cx="784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I software (a) creates a common platform through which all applications can freely communicate with each other. EAI requires much less programming than traditional point-to-point integration (b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61604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Web Services and Service-Oriented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2133720"/>
            <a:ext cx="7924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b Service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alternative to enterprise systems is to use new Web-based standards to create a communication platform allowing older applications to communicate with newer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b services refers to a set of loosely coupled software components that exchange information with each other using Web communication standards and langu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 services permit computer programs to communicate with one another and share information without rewriting applications, or disturbing older legacy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b services are based on XML, and standards like SOAP, WSDL, and UDDI to create this communication environmen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38080" y="1600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Web Services and Service-Oriented Architectur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6765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ervice-Oriented Archite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22860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A refers to the use of Web services in a firm to achieve integration among disparate applications and plat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firm might have applications (payroll) running on older AS400 IBM machines, IBM mainframes (customer data and inventory) and newer applications running on client/server networ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SOA, these applications are integrated so that information stored on various systems can be brought together and fed into newer applications running on more contemporary equi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A is generally less expensive than rebuilding all the older applications and adopting a new enterprise wide sys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ervice-Oriented Architectur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ow Dollar Rent a Car Uses Web Service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828800" y="2133720"/>
            <a:ext cx="5638680" cy="4649760"/>
            <a:chOff x="1828800" y="2133720"/>
            <a:chExt cx="5638680" cy="4649760"/>
          </a:xfrm>
        </p:grpSpPr>
        <p:sp>
          <p:nvSpPr>
            <p:cNvPr id="294" name=""/>
            <p:cNvSpPr/>
            <p:nvPr/>
          </p:nvSpPr>
          <p:spPr>
            <a:xfrm>
              <a:off x="3887640" y="641520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2"/>
            <a:stretch/>
          </p:blipFill>
          <p:spPr>
            <a:xfrm>
              <a:off x="1828800" y="2133720"/>
              <a:ext cx="5638680" cy="418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6002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oftware Outsou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21337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day large and small firms purchase most of their software from outside vendo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kinds of outsourci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rchase of software pack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application service provi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 outsour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30481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pplication Service Provid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business that delivers and manages applications and computer services from remote computer centers to multiple users using the Internet or a privat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214956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software packages: prewritten off-the-shelf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960" y="1600200"/>
            <a:ext cx="84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urchase of Software Packages and Enterprise Software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523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The Connection between the Firm, IT Infrastructure, and Business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19320" y="2362320"/>
            <a:ext cx="6629400" cy="4421160"/>
            <a:chOff x="1219320" y="2362320"/>
            <a:chExt cx="6629400" cy="4421160"/>
          </a:xfrm>
        </p:grpSpPr>
        <p:sp>
          <p:nvSpPr>
            <p:cNvPr id="61" name=""/>
            <p:cNvSpPr/>
            <p:nvPr/>
          </p:nvSpPr>
          <p:spPr>
            <a:xfrm>
              <a:off x="3887640" y="64152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1219320" y="2362320"/>
              <a:ext cx="6629400" cy="3985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pplication Service Provid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ther than purchase hardware and software, firms can go onto the Internet and find providers who offer the same functionality over the entertainment, and charge on a per-user or license ba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Salesforce.com provides customer relationship management and sales force management services to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1447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Purchase of Software Packages and Enterprise Softwar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16765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ftware Outsourcing of Custom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firm contracts custom software development or maintenance of existing legacy programs to outside firms, often in low-wage coun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Dow Chemical hired IBM for $1.1 billion to create an integrated communication system for 50,000 Dow employees in 63 coun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y would Dow not build this system itself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28600" y="1523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hanging Sources of Firm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600200" y="1981080"/>
            <a:ext cx="5715000" cy="4280040"/>
            <a:chOff x="1600200" y="1981080"/>
            <a:chExt cx="5715000" cy="4280040"/>
          </a:xfrm>
        </p:grpSpPr>
        <p:sp>
          <p:nvSpPr>
            <p:cNvPr id="317" name=""/>
            <p:cNvSpPr/>
            <p:nvPr/>
          </p:nvSpPr>
          <p:spPr>
            <a:xfrm>
              <a:off x="3799800" y="589284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1600200" y="1981080"/>
              <a:ext cx="5715000" cy="396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"/>
          <p:cNvSpPr/>
          <p:nvPr/>
        </p:nvSpPr>
        <p:spPr>
          <a:xfrm>
            <a:off x="1905120" y="1066680"/>
            <a:ext cx="57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SOFTWARE PLATFORM TR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5943600"/>
            <a:ext cx="2971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EA National Income and Product Accounts, Forrester Research, December 2003; eMarketer Inc., “IT Spending 2004,”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emarketer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; and author estima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37160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OPPORTUNITIES, CHALLENGES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SOLU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16002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Opportuni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362320"/>
            <a:ext cx="80773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of changes in hardware and software platforms, firms face significant new opportunities to obtain hardware and software capabil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at are more reliable, less costly, and more flexible than in the pas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37160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OPPORTUNITIES, CHALLENGES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SOLU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6002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Challen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22860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ing wise infrastructure inve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oosing and coordinating infrastructu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aling with infrastructur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and govern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37160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OPPORTUNITIES, CHALLENGES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SOLU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60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2120" y="2133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your strategic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 out small, develop one module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total cost of ow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48006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gure 6-16, “Competitive Forces Model for IT infrastructure” illustrates six strategic factors you should consider when making infrastructure deci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petitive Forces Model for IT Infrastructure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523880" y="2125800"/>
            <a:ext cx="6553440" cy="4657680"/>
            <a:chOff x="1523880" y="2125800"/>
            <a:chExt cx="6553440" cy="4657680"/>
          </a:xfrm>
        </p:grpSpPr>
        <p:pic>
          <p:nvPicPr>
            <p:cNvPr id="337" name="" descr=""/>
            <p:cNvPicPr/>
            <p:nvPr/>
          </p:nvPicPr>
          <p:blipFill>
            <a:blip r:embed="rId2"/>
            <a:stretch/>
          </p:blipFill>
          <p:spPr>
            <a:xfrm>
              <a:off x="1523880" y="2125800"/>
              <a:ext cx="6553440" cy="422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3887640" y="641520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37160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OPPORTUNITIES, CHALLENGES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SOLU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0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3352680"/>
            <a:ext cx="86108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ment with new technologies on a smaller scale before taking up a large-scale infrastructure pro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OPPORTUNITIES, CHALLENGES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SOLU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5400" y="2876400"/>
            <a:ext cx="294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tarting out smal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1828800"/>
            <a:ext cx="86108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otal cost of ownership of technology asse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calculating the costs of systems, be sure to include all the cost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 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rastructur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w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ace and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OPPORTUNITIES, CHALLENGES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SOLU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08400" y="190512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Levels of IT Infrastructure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6668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major levels of infrastruc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23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Levels of I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066680" y="1981080"/>
            <a:ext cx="7086600" cy="4802400"/>
            <a:chOff x="1066680" y="1981080"/>
            <a:chExt cx="7086600" cy="4802400"/>
          </a:xfrm>
        </p:grpSpPr>
        <p:sp>
          <p:nvSpPr>
            <p:cNvPr id="71" name=""/>
            <p:cNvSpPr/>
            <p:nvPr/>
          </p:nvSpPr>
          <p:spPr>
            <a:xfrm>
              <a:off x="3887640" y="64152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6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066680" y="1981080"/>
              <a:ext cx="7086600" cy="4295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89000" y="10666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T Infrastructure and Platfo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ic accounting machine era: (1930–19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-purpose mainframe and minicomputer era: (1959 to pres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computer era: (1981 to pres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/server era: (1983 to pres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internet computing era: (1992 to presen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90680" y="160020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Evolution of IT Infrastructure: 1950–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9:57:46Z</dcterms:created>
  <dc:creator>KL</dc:creator>
  <dc:description/>
  <dc:language>en-US</dc:language>
  <cp:lastModifiedBy>Pearson Education</cp:lastModifiedBy>
  <dcterms:modified xsi:type="dcterms:W3CDTF">2005-06-09T20:42:47Z</dcterms:modified>
  <cp:revision>2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16113847</vt:r8>
  </property>
  <property fmtid="{D5CDD505-2E9C-101B-9397-08002B2CF9AE}" pid="3" name="_AuthorEmail">
    <vt:lpwstr>Ana_Cordero@prenhall.com</vt:lpwstr>
  </property>
  <property fmtid="{D5CDD505-2E9C-101B-9397-08002B2CF9AE}" pid="4" name="_AuthorEmailDisplayName">
    <vt:lpwstr>Cordero, Ana</vt:lpwstr>
  </property>
  <property fmtid="{D5CDD505-2E9C-101B-9397-08002B2CF9AE}" pid="5" name="_EmailSubject">
    <vt:lpwstr>Laudon PPTs</vt:lpwstr>
  </property>
</Properties>
</file>