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  <p:custShowLst>
    <p:custShow name="Custom Show 1" id="0">
      <p:sldLst>
        <p:sld r:id="rId3"/>
        <p:sld r:id="rId4"/>
        <p:sld r:id="rId5"/>
        <p:sld r:id="rId1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508800"/>
            <a:ext cx="69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.</a:t>
            </a:r>
            <a:fld id="{9BD1DFBC-24CE-442F-AE45-640273D5139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045200" y="6553080"/>
            <a:ext cx="235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6 by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1120" y="1270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81880" y="165240"/>
            <a:ext cx="215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666880"/>
            <a:ext cx="746748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 Applications and Business Process Integration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UPPLY CHAIN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twork of organizations and business processes for procuring raw materials, transforming into products, and distributing them to custom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terials, information, and payments flow through the supply chain in both dire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57400" y="16765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Supply Cha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220968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upply cha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UPPLY CHAIN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365760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ordination of business processes to speed information, product, and fund flows up and down a supply chain to reduce time, redundant effort, and inventory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590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upply chain management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7524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Supply Chain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16002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A Supply Cha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UPPLY CHAIN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752480" y="2057400"/>
            <a:ext cx="5867640" cy="4788000"/>
            <a:chOff x="1752480" y="2057400"/>
            <a:chExt cx="5867640" cy="4788000"/>
          </a:xfrm>
        </p:grpSpPr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1752480" y="2057400"/>
              <a:ext cx="5867640" cy="44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1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UPPLY CHAIN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8400" y="3429000"/>
            <a:ext cx="7848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Plan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alancing demand and supply to meet sourcing, production, and delivery requir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ource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urement of goods and services needed to create a product or serv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57400" y="16002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upply Chain Proce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8160" y="23018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COR (Chain Operations Reference Model) identifies five major supply chain proces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UPPLY CHAIN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2209680"/>
            <a:ext cx="8076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ke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ses that transform a product into a finished st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Deliver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ses to manage order transportation and distrib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Return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ses associated with product returns and post delivery customer support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1676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upply Chain Processes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UPPLY CHAIN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3526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lanning and control of all factors that have an impact on the supply cha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2743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Logistic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18288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upply Chain Processes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22280" y="16002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Key Supply Chain Management Proce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UPPLY CHAIN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990720" y="2133720"/>
            <a:ext cx="7238880" cy="4711680"/>
            <a:chOff x="990720" y="2133720"/>
            <a:chExt cx="7238880" cy="4711680"/>
          </a:xfrm>
        </p:grpSpPr>
        <p:sp>
          <p:nvSpPr>
            <p:cNvPr id="114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1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>
              <a:off x="990720" y="2133720"/>
              <a:ext cx="7238880" cy="412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UPPLY CHAIN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38862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cheduling system for minimizing inventory by having components arrive exactly at the moment they are needed and finished goods shipped as soon as they leave the assembly l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32767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Just-in-time strategy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formation and Supply Chain Manag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2209680"/>
            <a:ext cx="83818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accurate or untimely information causes inefficiencies in supply chain, such as shortages, excessive invent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UPPLY CHAIN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3276720"/>
            <a:ext cx="80769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stortion of information about the demand for a product as it passes from one entity to the next across the supply cha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2514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Bullwhip effec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16765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formation and Supply Chain Management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16002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Bullwhip Eff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UPPLY CHAIN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295280" y="2057400"/>
            <a:ext cx="6705720" cy="4788000"/>
            <a:chOff x="1295280" y="2057400"/>
            <a:chExt cx="6705720" cy="4788000"/>
          </a:xfrm>
        </p:grpSpPr>
        <p:sp>
          <p:nvSpPr>
            <p:cNvPr id="131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1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1295280" y="2057400"/>
              <a:ext cx="6705720" cy="438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18288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ess how enterprise systems provide value for businesses and describe how they 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ess how supply chain management systems provide value for businesses and describe how they 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ess how customer relationship management systems provide value for businesses and describe how they 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57480" y="1066680"/>
            <a:ext cx="32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57200" y="2209680"/>
            <a:ext cx="8229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upply chain management system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utomate flow of information between company and supply chain partn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UPPLY CHAIN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43434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62160" y="16002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upply Chain Management Applic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1360" y="3886200"/>
            <a:ext cx="816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upply chain planning system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Generate demand forecasts for a product (demand planning) and help develop sourcing and manufacturing plans for that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UPPLY CHAIN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22860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upply chain execution system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819520"/>
            <a:ext cx="77724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 the flow of products through distribution centers and warehouses to ensure that products are delivered to the right locations in the most efficient mann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16002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upply Chain Management Applications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UPPLY CHAIN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2280" y="20397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trics for measuring supply chain performanc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79440" y="15238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upply Chain Performance Measur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33320" y="25909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ll rate (the ability to fill orders by the due d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verage time from order to deli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number of days of supply in invento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ecast accu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cycle time for sourcing and mak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395360" y="16002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upply Chain Management and the Intern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9880" y="20574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tranets and Extranets for Supply Chain Manag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UPPLY CHAIN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981080" y="2514600"/>
            <a:ext cx="5410440" cy="4330800"/>
            <a:chOff x="1981080" y="2514600"/>
            <a:chExt cx="5410440" cy="4330800"/>
          </a:xfrm>
        </p:grpSpPr>
        <p:sp>
          <p:nvSpPr>
            <p:cNvPr id="154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1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1981080" y="2514600"/>
              <a:ext cx="5410440" cy="40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6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UPPLY CHAIN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3880" y="160020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ternet-based supply chain management application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2286000"/>
            <a:ext cx="77724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 standard set of to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acilitate global supply chai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duce co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able efficient customer respon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low concurrent supply chai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UPPLY CHAIN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19810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Push-based mode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2514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tion master schedules based on forecasts of demand for products, and products are “pushed” to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42670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Pull-based mode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pply chain driven by actual customer orders or purcha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7520" y="16002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Push-  versus Pull-Based Supply Chain Mod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UPPLY CHAIN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85800" y="2154240"/>
            <a:ext cx="7848720" cy="4691160"/>
            <a:chOff x="685800" y="2154240"/>
            <a:chExt cx="7848720" cy="4691160"/>
          </a:xfrm>
        </p:grpSpPr>
        <p:sp>
          <p:nvSpPr>
            <p:cNvPr id="170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1-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1" name="" descr=""/>
            <p:cNvPicPr/>
            <p:nvPr/>
          </p:nvPicPr>
          <p:blipFill>
            <a:blip r:embed="rId2"/>
            <a:stretch/>
          </p:blipFill>
          <p:spPr>
            <a:xfrm>
              <a:off x="685800" y="2154240"/>
              <a:ext cx="7848720" cy="432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34800" y="16002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Future Internet-Driven Supply Cha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UPPLY CHAIN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143000" y="2057400"/>
            <a:ext cx="6934320" cy="4788000"/>
            <a:chOff x="1143000" y="2057400"/>
            <a:chExt cx="6934320" cy="4788000"/>
          </a:xfrm>
        </p:grpSpPr>
        <p:sp>
          <p:nvSpPr>
            <p:cNvPr id="176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1-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1143000" y="2057400"/>
              <a:ext cx="6934320" cy="430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UPPLY CHAIN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1337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Business Value of Supply Chain Management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297180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ed customer service and responsiven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st redu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sh util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33520" y="17524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ustomer Relationship Management and Partner Relationship Manag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9800" y="28195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ustomer Relationship Management (CRM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1120" y="35053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usiness and technology discipline for managing customer relationships to optimize revenue, profitability, customer satisfaction, and customer reten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10666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 RELATIONSHIP MANAGEMENT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259092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 how enterprise applications can be used in platforms for new cross-functional servic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 the challenges posed by enterprise applications and management solu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57480" y="1066680"/>
            <a:ext cx="32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IVES (Continu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58640" y="22096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Partner Relationship Management (PRM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2920" y="3124080"/>
            <a:ext cx="83055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utomation of the firm’s relationships with its selling partners using customer data and analytical tools to improve coordination and customer sa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10666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 RELATIONSHIP MANAGEMENT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33520" y="16002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ustomer Relationship Management Applic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14400" y="2286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RM system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8080" y="2971800"/>
            <a:ext cx="76201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pture and integrate customer data from all over the orga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olidate and analyze the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stribute results to various systems and customer touch points across the enterpri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0666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 RELATIONSHIP MANAGEMENT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57200" y="3581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ouch poin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4191120"/>
            <a:ext cx="8305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method of interaction with a customer, such as telephone, e-mail, customer service desk, conventional mail, Web site, or retail st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00200" y="10666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 RELATIONSHIP MANAGEMENT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82880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ustomer Relationship Management Applications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46120" y="16002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ustomer Relationship Management (CRM)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4720" y="2286000"/>
            <a:ext cx="8153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n range from niche tools to large-scale enterprise applic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n link to other major enterprise applications, such as supply chain manag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n include modules for PRM and employee relationship management (ER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10666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 RELATIONSHIP MANAGEMENT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219320" y="3352680"/>
            <a:ext cx="70866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ales Force Automation (SF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 serv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10666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 RELATIONSHIP MANAGEMENT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4120" y="2590920"/>
            <a:ext cx="51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ypically include capabilities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6002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ustomer Relationship Management (CRM) Software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1828800" y="2057400"/>
            <a:ext cx="5715000" cy="4788000"/>
            <a:chOff x="1828800" y="2057400"/>
            <a:chExt cx="5715000" cy="4788000"/>
          </a:xfrm>
        </p:grpSpPr>
        <p:sp>
          <p:nvSpPr>
            <p:cNvPr id="212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1-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>
              <a:off x="1828800" y="2057400"/>
              <a:ext cx="5715000" cy="436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4" name=""/>
          <p:cNvSpPr/>
          <p:nvPr/>
        </p:nvSpPr>
        <p:spPr>
          <a:xfrm>
            <a:off x="317520" y="16002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RM Software Capabil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00200" y="10666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 RELATIONSHIP MANAGEMENT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34800" y="16002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ustomer Loyalty Management Process 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04920" y="2476440"/>
            <a:ext cx="8610480" cy="4368960"/>
            <a:chOff x="304920" y="2476440"/>
            <a:chExt cx="8610480" cy="4368960"/>
          </a:xfrm>
        </p:grpSpPr>
        <p:sp>
          <p:nvSpPr>
            <p:cNvPr id="219" name=""/>
            <p:cNvSpPr/>
            <p:nvPr/>
          </p:nvSpPr>
          <p:spPr>
            <a:xfrm>
              <a:off x="3888000" y="6477120"/>
              <a:ext cx="152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1-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304920" y="2476440"/>
              <a:ext cx="8610480" cy="300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1" name=""/>
          <p:cNvSpPr/>
          <p:nvPr/>
        </p:nvSpPr>
        <p:spPr>
          <a:xfrm>
            <a:off x="1600200" y="10666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 RELATIONSHIP MANAGEMENT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533520" y="16002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Operational and Analytical C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21337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Operational C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2666880"/>
            <a:ext cx="7620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-facing applications, such as sales force automation, call center and customer service support, and marketing auto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Example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ampaign management, e-marketing, account and contact management, lead management, telemarketing, teleselling, e-selling, field sa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0666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 RELATIONSHIP MANAGEMENT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600200" y="10666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 RELATIONSHIP MANAGEMENT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1600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Analytical C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2057400"/>
            <a:ext cx="76201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lications that analyze customer data generated by operational CRM applications to provide information for improving business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Example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evelop customer segmentation strategies and customer profiles; analyze customer or product profitability; identify trends in sales length cycle; analyze leads generated and conversion r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600200" y="10666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 RELATIONSHIP MANAGEMENT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4800" y="16002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Analytical CRM Data Warehou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685800" y="2133720"/>
            <a:ext cx="7772400" cy="4711680"/>
            <a:chOff x="685800" y="2133720"/>
            <a:chExt cx="7772400" cy="4711680"/>
          </a:xfrm>
        </p:grpSpPr>
        <p:sp>
          <p:nvSpPr>
            <p:cNvPr id="235" name=""/>
            <p:cNvSpPr/>
            <p:nvPr/>
          </p:nvSpPr>
          <p:spPr>
            <a:xfrm>
              <a:off x="3888000" y="6477120"/>
              <a:ext cx="152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1-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6" name="" descr=""/>
            <p:cNvPicPr/>
            <p:nvPr/>
          </p:nvPicPr>
          <p:blipFill>
            <a:blip r:embed="rId2"/>
            <a:stretch/>
          </p:blipFill>
          <p:spPr>
            <a:xfrm>
              <a:off x="685800" y="2133720"/>
              <a:ext cx="7772400" cy="418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Challen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velop a single view of corporate and private banking customers; overcome historic segmentation of customers by product and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olution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velop a customer relationship management system (CRM) and data warehouse to integrate customer data from diverse legacy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 a single view of corporate 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lustrates the role of enterprise systems in developing a holistic view of customers and achieving higher customer loyalty and profi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43280" y="102708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NC Bank 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533520" y="169236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Business Value of Customer Relationship Management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2743200"/>
            <a:ext cx="76201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ed customer satisfa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re effective marketing and reduced direct marketing co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wer costs for customer acquisition and reten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10666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 RELATIONSHIP MANAGEMENT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533520" y="39625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Reduce churn 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520" y="2438280"/>
            <a:ext cx="83055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ed revenue from identifying most profitable customers and segments for marketing, cross-selling, up-sel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10666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 RELATIONSHIP MANAGEMENT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520" y="4572000"/>
            <a:ext cx="8305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umber of customers who stop using or purchasing products or services from a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71600" y="15238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Business Value of Customer Relationship Management Systems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739800" y="1600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Importance of CRM Performance Measur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388620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etrics for CRM may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00200" y="10666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 RELATIONSHIP MANAGEMENT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160" y="2133720"/>
            <a:ext cx="8991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ccessful CRM implementations require that financial and operation goals, and metric for evaluation, are clearly defined at outset of pro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4572000"/>
            <a:ext cx="8305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st per le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st per s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600200" y="10666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 RELATIONSHIP MANAGEMENT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2438280"/>
            <a:ext cx="83059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umber of repeat custom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duction of chu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ales closing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ustomer Lifetime Value (CLTV)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ifference between revenues and expenses minus the cost of promotional marketing used to retain an ac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2120" y="15238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Importance of CRM Performance Measurement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33520" y="19051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ervice Platforms and Business Process Manag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2666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ervice Plat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38080" y="3352680"/>
            <a:ext cx="762012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ion of multiple applications from multiple business functions, business units, or business partners to deliver a seamless experience for the customer, employee, manager, or business partn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00200" y="10666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 INTEGRATION TREN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57360" y="19051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Business Process Managemen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8560" y="2743200"/>
            <a:ext cx="79250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methodology for dealing with the organization’s need to change its business processes continually to remain competi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Portal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Frameworks for building composite services, integrating information form enterprise applications and in-house legacy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10666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 INTEGRATION TREN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34800" y="16002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Order-to-Cash Serv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10666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 INTEGRATION TREN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209680" y="2133720"/>
            <a:ext cx="4953240" cy="4711680"/>
            <a:chOff x="2209680" y="2133720"/>
            <a:chExt cx="4953240" cy="4711680"/>
          </a:xfrm>
        </p:grpSpPr>
        <p:sp>
          <p:nvSpPr>
            <p:cNvPr id="270" name=""/>
            <p:cNvSpPr/>
            <p:nvPr/>
          </p:nvSpPr>
          <p:spPr>
            <a:xfrm>
              <a:off x="3888000" y="6477120"/>
              <a:ext cx="152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1-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1" name="" descr=""/>
            <p:cNvPicPr/>
            <p:nvPr/>
          </p:nvPicPr>
          <p:blipFill>
            <a:blip r:embed="rId2"/>
            <a:stretch/>
          </p:blipFill>
          <p:spPr>
            <a:xfrm>
              <a:off x="2209680" y="2133720"/>
              <a:ext cx="4953240" cy="435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2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53960" y="2514600"/>
            <a:ext cx="83059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ement of process coordination and management decision mak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ductions in inventory costs, order-to-delivery time, and more efficient customer response and higher product and customer profita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447920" y="106668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MENT OPPORTUNITIES, CHALLENGES AND S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8288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nagement Opportuniti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838080" y="2743200"/>
            <a:ext cx="83059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igh total cost of ownersh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tional change requir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lizing strategic val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2120" y="19810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nagement Challeng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47920" y="106668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MENT OPPORTUNITIES, CHALLENGES AND S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838080" y="2514600"/>
            <a:ext cx="83059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ok at business objectives fir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ttention to data and data manag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nior management commitment and employee supp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ducation and trai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17524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olution Guidelin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106668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MENT OPPORTUNITIES, CHALLENGES AND S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09680" y="16002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What Are Enterprise System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62320" y="2057400"/>
            <a:ext cx="48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 System Architectu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209680" y="2546280"/>
            <a:ext cx="5029200" cy="4299120"/>
            <a:chOff x="2209680" y="2546280"/>
            <a:chExt cx="5029200" cy="4299120"/>
          </a:xfrm>
        </p:grpSpPr>
        <p:sp>
          <p:nvSpPr>
            <p:cNvPr id="57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1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2209680" y="2546280"/>
              <a:ext cx="5029200" cy="393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133720" y="160020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How Enterprise Systems 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819520"/>
            <a:ext cx="77724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 Resource Planning (ERP)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dependent software modules with a common central database that support basic internal business processes for finance and accounting, human resources, manufacturing and production, and sales and market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21337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Enterprise Syst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2920" y="3008160"/>
            <a:ext cx="838188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ables data to be used by multiple functions and business processes for precise organizational coordination and control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1600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How Enterprise Systems Work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22860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Enterprise Systems: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15238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Process Map for Procuring New Equip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295280" y="1940040"/>
            <a:ext cx="6553440" cy="4905360"/>
            <a:chOff x="1295280" y="1940040"/>
            <a:chExt cx="6553440" cy="4905360"/>
          </a:xfrm>
        </p:grpSpPr>
        <p:sp>
          <p:nvSpPr>
            <p:cNvPr id="73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1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4" name=""/>
            <p:cNvGraphicFramePr/>
            <p:nvPr/>
          </p:nvGraphicFramePr>
          <p:xfrm>
            <a:off x="1295280" y="1940040"/>
            <a:ext cx="6553440" cy="4613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95280" y="1940040"/>
                      <a:ext cx="6553440" cy="461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6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33320" y="25909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more uniform orga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re efficient operations and customer-driven business proce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rmwide information for improved decision mak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9810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Business Value of Enterprise Systems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5T09:57:46Z</dcterms:created>
  <dc:creator>KL</dc:creator>
  <dc:description/>
  <dc:language>en-US</dc:language>
  <cp:lastModifiedBy>Pearson Education</cp:lastModifiedBy>
  <dcterms:modified xsi:type="dcterms:W3CDTF">2005-06-09T18:31:02Z</dcterms:modified>
  <cp:revision>3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45880945</vt:r8>
  </property>
  <property fmtid="{D5CDD505-2E9C-101B-9397-08002B2CF9AE}" pid="3" name="_AuthorEmail">
    <vt:lpwstr>Ana_Cordero@prenhall.com</vt:lpwstr>
  </property>
  <property fmtid="{D5CDD505-2E9C-101B-9397-08002B2CF9AE}" pid="4" name="_AuthorEmailDisplayName">
    <vt:lpwstr>Cordero, Ana</vt:lpwstr>
  </property>
  <property fmtid="{D5CDD505-2E9C-101B-9397-08002B2CF9AE}" pid="5" name="_EmailSubject">
    <vt:lpwstr>Laudon PPTs</vt:lpwstr>
  </property>
</Properties>
</file>