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F3FECCD5-1B7B-4556-99B8-1D1EDA7F24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666880"/>
            <a:ext cx="74674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Integratio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of organizations and business processes for procuring raw materials, transforming into products, and distributing them to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s, information, and payments flow through the supply chain in both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657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on of business processes to speed information, product, and fund flows up and down a supply chain to reduce time, redundant effort, and inventory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Supply Chai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52480" y="2057400"/>
            <a:ext cx="5867640" cy="4788000"/>
            <a:chOff x="1752480" y="2057400"/>
            <a:chExt cx="5867640" cy="47880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867640" cy="44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8400" y="342900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la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ing demand and supply to meet sourcing, production, and delivery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urc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urement of goods and services needed to create a product o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8160" y="2301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OR (Chain Operations Reference Model) identifies five major supply chain proces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2096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k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that transform a product into a finished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liv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to manage order transportation and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tur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es associated with product returns and post delivery customer suppor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676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352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and control of all factors that have an impact on 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og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8288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rocess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228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Key Supply Chain Management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90720" y="2133720"/>
            <a:ext cx="7238880" cy="4711680"/>
            <a:chOff x="990720" y="2133720"/>
            <a:chExt cx="7238880" cy="4711680"/>
          </a:xfrm>
        </p:grpSpPr>
        <p:sp>
          <p:nvSpPr>
            <p:cNvPr id="11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990720" y="2133720"/>
              <a:ext cx="7238880" cy="41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8862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eduling system for minimizing inventory by having components arrive exactly at the moment they are needed and finished goods shipped as soon as they leave the assembly 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276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Just-in-time strateg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and Supply Chai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09680"/>
            <a:ext cx="8381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accurate or untimely information causes inefficiencies in supply chain, such as shortages, excessive 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2767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ortion of information about the demand for a product as it passes from one entity to the next across the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llwhip eff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and Supply Chain Manage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Bullwhip E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95280" y="2057400"/>
            <a:ext cx="6705720" cy="4788000"/>
            <a:chOff x="1295280" y="2057400"/>
            <a:chExt cx="6705720" cy="4788000"/>
          </a:xfrm>
        </p:grpSpPr>
        <p:sp>
          <p:nvSpPr>
            <p:cNvPr id="13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6705720" cy="43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enterprise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supply chain management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customer relationship management systems provide value for businesses and describe how they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096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utomate flow of information between company and supply chain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216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360" y="388620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lanning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enerate demand forecasts for a product (demand planning) and help develop sourcing and manufacturing plans for tha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execution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195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 the flow of products through distribution centers and warehouses to ensure that products are delivered to the right locations in the most efficient ma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280" y="2039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rics for measuring supply chain performa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9440" y="15238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Performance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3320" y="25909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ll rate (the ability to fill orders by the due 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time from order to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days of supply in inven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ycle time for sourcing and mak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95360" y="1600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nd th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9880" y="20574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ets and Extranets for Supply Chain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2514600"/>
            <a:ext cx="5410440" cy="4330800"/>
            <a:chOff x="1981080" y="2514600"/>
            <a:chExt cx="5410440" cy="4330800"/>
          </a:xfrm>
        </p:grpSpPr>
        <p:sp>
          <p:nvSpPr>
            <p:cNvPr id="154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981080" y="2514600"/>
              <a:ext cx="5410440" cy="40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3880" y="1600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-based supply chain management applic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tandard se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e global supply ch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efficient custome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w concurrent supply ch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sh-based mod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514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on master schedules based on forecasts of demand for products, and products are “pushed” to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ll-based mod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driven by actual customer orders or purc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752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ush-  versus Pull-Based Supply Chain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154240"/>
            <a:ext cx="7848720" cy="4691160"/>
            <a:chOff x="685800" y="2154240"/>
            <a:chExt cx="7848720" cy="4691160"/>
          </a:xfrm>
        </p:grpSpPr>
        <p:sp>
          <p:nvSpPr>
            <p:cNvPr id="170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85800" y="2154240"/>
              <a:ext cx="7848720" cy="432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Future Internet-Driven Supply Ch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43000" y="2057400"/>
            <a:ext cx="6934320" cy="4788000"/>
            <a:chOff x="1143000" y="2057400"/>
            <a:chExt cx="6934320" cy="4788000"/>
          </a:xfrm>
        </p:grpSpPr>
        <p:sp>
          <p:nvSpPr>
            <p:cNvPr id="17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143000" y="2057400"/>
              <a:ext cx="6934320" cy="43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Supply Chain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9718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customer service and 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re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h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1752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nd Partner Relationship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800" y="2819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3505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nd technology discipline for managing customer relationships to optimize revenue, profitability, customer satisfaction, and customer ret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how enterprise applications can be used in platforms for new cross-functional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enterprise application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864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artner Relationship Management (PR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2920" y="3124080"/>
            <a:ext cx="8305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on of the firm’s relationships with its selling partners using customer data and analytical tools to improve coordination and customer 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M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971800"/>
            <a:ext cx="7620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ture and integrate customer data from all over the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te and analyze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e results to various systems and customer touch points across the enterpr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ouch poi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1911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of interaction with a customer, such as telephone, e-mail, customer service desk, conventional mail, Web site, or retail 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Applicat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61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228600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range from niche tools to large-scale enterprise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link to other major enterprise applications, such as supply chain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clude modules for PRM and employee relationship management (ER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19320" y="3352680"/>
            <a:ext cx="7086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es Force Automation (SF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2590920"/>
            <a:ext cx="51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clude capabiliti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Relationship Management (CRM) Softwar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828800" y="2057400"/>
            <a:ext cx="5715000" cy="4788000"/>
            <a:chOff x="1828800" y="2057400"/>
            <a:chExt cx="5715000" cy="4788000"/>
          </a:xfrm>
        </p:grpSpPr>
        <p:sp>
          <p:nvSpPr>
            <p:cNvPr id="21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828800" y="2057400"/>
              <a:ext cx="5715000" cy="436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31752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M Software Capa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Loyalty Management Process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2476440"/>
            <a:ext cx="8610480" cy="4368960"/>
            <a:chOff x="304920" y="2476440"/>
            <a:chExt cx="8610480" cy="4368960"/>
          </a:xfrm>
        </p:grpSpPr>
        <p:sp>
          <p:nvSpPr>
            <p:cNvPr id="219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04920" y="2476440"/>
              <a:ext cx="8610480" cy="300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600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al and Analytical C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perational C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666880"/>
            <a:ext cx="7620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-facing applications, such as sales force automation, call center and customer service support, and marketing auto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ampaign management, e-marketing, account and contact management, lead management, telemarketing, teleselling, e-selling, field s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alytical C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 that analyze customer data generated by operational CRM applications to provide information for improving business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 customer segmentation strategies and customer profiles; analyze customer or product profitability; identify trends in sales length cycle; analyze leads generated and conversion 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alytical CRM Data Wareho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2133720"/>
            <a:ext cx="7772400" cy="4711680"/>
            <a:chOff x="685800" y="2133720"/>
            <a:chExt cx="7772400" cy="4711680"/>
          </a:xfrm>
        </p:grpSpPr>
        <p:sp>
          <p:nvSpPr>
            <p:cNvPr id="235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772400" cy="418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single view of corporate and private banking customers; overcome historic segmentation of customers by product an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customer relationship management system (CRM) and data warehouse to integrate customer data from diverse legac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a single view of corporat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enterprise systems in developing a holistic view of customers and achieving higher customer loyalty an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3280" y="1027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NC Bank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3520" y="16923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Customer Relationship Managem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7432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customer satisf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ective marketing and reduced direct marketing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er costs for customer acquisition and reten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3962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duce churn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438280"/>
            <a:ext cx="8305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revenue from identifying most profitable customers and segments for marketing, cross-selling, up-se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572000"/>
            <a:ext cx="8305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customers who stop using or purchasing products or services from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Customer Relationship Managemen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3980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mportance of CRM Performance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886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etrics for CRM may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160" y="2133720"/>
            <a:ext cx="899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ful CRM implementations require that financial and operation goals, and metric for evaluation, are clearly defined at outset of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5720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per l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per s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43828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repeat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of chu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es clos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er Lifetime Value (CLTV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fference between revenues and expenses minus the cost of promotional marketing used to retain an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mportance of CRM Performance Measure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 Platforms and Business Process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rvice Plat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3352680"/>
            <a:ext cx="7620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multiple applications from multiple business functions, business units, or business partners to deliver a seamless experience for the customer, employee, manager, or business part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57360" y="1905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Process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8560" y="27432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ology for dealing with the organization’s need to change its business processes continually to remain competi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a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rameworks for building composite services, integrating information form enterprise applications and in-house legacy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3480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der-to-Cash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1066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INTEGRATION TRE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09680" y="2133720"/>
            <a:ext cx="4953240" cy="4711680"/>
            <a:chOff x="2209680" y="2133720"/>
            <a:chExt cx="4953240" cy="4711680"/>
          </a:xfrm>
        </p:grpSpPr>
        <p:sp>
          <p:nvSpPr>
            <p:cNvPr id="270" name=""/>
            <p:cNvSpPr/>
            <p:nvPr/>
          </p:nvSpPr>
          <p:spPr>
            <a:xfrm>
              <a:off x="3888000" y="647712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2209680" y="2133720"/>
              <a:ext cx="4953240" cy="435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3960" y="251460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ment of process coordination and management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s in inventory costs, order-to-delivery time, and more efficient customer response and higher product and customer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828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8080" y="27432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total cost of owne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change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ing strategic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981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514600"/>
            <a:ext cx="83059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business objectives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tention to data and data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ior management commitment and employee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 and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75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0666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OPPORTUNITIES, CHALLENGES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Are Enterprise Syste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20574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 Architec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09680" y="2546280"/>
            <a:ext cx="5029200" cy="4299120"/>
            <a:chOff x="2209680" y="2546280"/>
            <a:chExt cx="5029200" cy="4299120"/>
          </a:xfrm>
        </p:grpSpPr>
        <p:sp>
          <p:nvSpPr>
            <p:cNvPr id="5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209680" y="2546280"/>
              <a:ext cx="5029200" cy="39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1600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nterprise Systems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Resource Planning (ERP)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dependent software modules with a common central database that support basic internal business processes for finance and accounting, human resources, manufacturing and production, and sales and marke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133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3008160"/>
            <a:ext cx="8381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s data to be used by multiple functions and business processes for precise organizational coordination and contro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600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How Enterprise Systems Work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terprise System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523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cess Map for Procuring New Equi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940040"/>
            <a:ext cx="6553440" cy="4905360"/>
            <a:chOff x="1295280" y="1940040"/>
            <a:chExt cx="6553440" cy="4905360"/>
          </a:xfrm>
        </p:grpSpPr>
        <p:sp>
          <p:nvSpPr>
            <p:cNvPr id="7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1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1295280" y="1940040"/>
            <a:ext cx="6553440" cy="461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1940040"/>
                      <a:ext cx="6553440" cy="46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332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ore uniform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efficient operations and customer-driven business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wide information for improved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nterprise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0666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5960" y="15228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1 Enterprise Applications and 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8:31:02Z</dcterms:modified>
  <cp:revision>3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5880945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