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AC881D9F-7B71-4D4C-987F-746544C8C4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819520"/>
            <a:ext cx="62485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aging Knowledge in the Digital Fi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4960" y="2895480"/>
            <a:ext cx="80773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learni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djusting business processes and patterns of decision making to reflect knowledge gained through information and experience gath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5960" y="1981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Learning and Knowledge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2133720"/>
            <a:ext cx="8077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organizational and management capital: collaboration, communities of practice, and office environ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98440" y="1592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Knowledge Management 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Knowledge Management Value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2057400"/>
            <a:ext cx="7772400" cy="4788000"/>
            <a:chOff x="685800" y="2057400"/>
            <a:chExt cx="7772400" cy="4788000"/>
          </a:xfrm>
        </p:grpSpPr>
        <p:sp>
          <p:nvSpPr>
            <p:cNvPr id="89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685800" y="2057400"/>
              <a:ext cx="7772400" cy="440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ypes of Knowledge Managemen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2286000"/>
            <a:ext cx="9144000" cy="4559400"/>
            <a:chOff x="0" y="2286000"/>
            <a:chExt cx="9144000" cy="4559400"/>
          </a:xfrm>
        </p:grpSpPr>
        <p:sp>
          <p:nvSpPr>
            <p:cNvPr id="95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0" y="2286000"/>
              <a:ext cx="9144000" cy="378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1614600"/>
            <a:ext cx="6019560" cy="5230800"/>
            <a:chOff x="1676520" y="1614600"/>
            <a:chExt cx="6019560" cy="5230800"/>
          </a:xfrm>
        </p:grpSpPr>
        <p:sp>
          <p:nvSpPr>
            <p:cNvPr id="10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676520" y="1614600"/>
              <a:ext cx="6019560" cy="489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133720"/>
            <a:ext cx="8076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repository for formal, structured text documents and reports or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o known as content 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 appropriate database schema and tagging of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Database of case reports of consulting firms; tax law accounting databases of accounting fi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16128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ructured Knowledg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World’s Knowledge Doma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86000" y="2057400"/>
            <a:ext cx="4800600" cy="4788000"/>
            <a:chOff x="2286000" y="2057400"/>
            <a:chExt cx="4800600" cy="4788000"/>
          </a:xfrm>
        </p:grpSpPr>
        <p:sp>
          <p:nvSpPr>
            <p:cNvPr id="11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2286000" y="2057400"/>
              <a:ext cx="4800600" cy="448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PMG Knowledge System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320" y="2141640"/>
            <a:ext cx="8991360" cy="4703760"/>
            <a:chOff x="76320" y="2141640"/>
            <a:chExt cx="8991360" cy="4703760"/>
          </a:xfrm>
        </p:grpSpPr>
        <p:sp>
          <p:nvSpPr>
            <p:cNvPr id="117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76320" y="2141640"/>
              <a:ext cx="8991360" cy="42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213372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repository for less-structured documents, such as e-mail, voicemail, chat room exchanges, videos, digital images, brochures, bulletin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o known as digital asset managemen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axonom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cheme of classifying information and knowledge for easy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aggi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arking of documents according to knowledge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mistructured Knowled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ummingbird’s Integrated Knowledge Management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81080" y="2057400"/>
            <a:ext cx="5181840" cy="4788000"/>
            <a:chOff x="1981080" y="2057400"/>
            <a:chExt cx="5181840" cy="4788000"/>
          </a:xfrm>
        </p:grpSpPr>
        <p:sp>
          <p:nvSpPr>
            <p:cNvPr id="127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1981080" y="2057400"/>
              <a:ext cx="5181840" cy="448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the role of knowledge management and knowledge management programs in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and describe the types of systems used for enterprise-wide knowledge management and demonstrate how they provide value for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and describe the major types of knowledge work systems and assess how they provide value for fi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971800"/>
            <a:ext cx="807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840" y="2286000"/>
            <a:ext cx="8269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directory of corporate experts, solutions developed by in-house experts, best practices, FAQ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 and organize “tacit”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o known as expertise location and managemen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16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Network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971800"/>
            <a:ext cx="807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2819520"/>
            <a:ext cx="6553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exchange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ty of practice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toproofing capa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management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4960" y="2133720"/>
            <a:ext cx="39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ey features can includ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600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Network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Problem of Distributed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33520" y="2303640"/>
            <a:ext cx="8153280" cy="4541760"/>
            <a:chOff x="533520" y="2303640"/>
            <a:chExt cx="8153280" cy="4541760"/>
          </a:xfrm>
        </p:grpSpPr>
        <p:sp>
          <p:nvSpPr>
            <p:cNvPr id="144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533520" y="2303640"/>
              <a:ext cx="8153280" cy="35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736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skMe Enterprise Knowledge Network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057400" y="2057400"/>
            <a:ext cx="5029200" cy="4788000"/>
            <a:chOff x="2057400" y="2057400"/>
            <a:chExt cx="5029200" cy="4788000"/>
          </a:xfrm>
        </p:grpSpPr>
        <p:sp>
          <p:nvSpPr>
            <p:cNvPr id="150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2057400" y="2057400"/>
              <a:ext cx="5029200" cy="444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960" y="16160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orting Technologies: Portals, Collaboration Tools, and Learning Managemen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666880"/>
            <a:ext cx="80773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terprise knowledge port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 to external sources of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 to internal knowledge re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abilities for e-mail, chat, discussion groups, videoconferen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-WIDE KNOWLEDGE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2600" y="2286000"/>
            <a:ext cx="807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tools for the management, delivery, tracking, and assessment of various types of employee learning and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s systems from human resources, accounting, sales in order to identify and quantify business impact of employee learning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600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Learning Management System (LM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WORK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6002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Workers and Knowledge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8320" y="3733920"/>
            <a:ext cx="8077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workers key ro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eping the organization current in knowledge as it develops in the external world—in technology, science, social thought, and the a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30184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worker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reate knowledge and information for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WORK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28600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ing as internal consultants regarding the areas of their knowledge, the changes taking place, and opportun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ng as change agents, evaluating, initiating, and promoting change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676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Workers and Knowledge Work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quirements of Knowledge Work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447920" y="2057400"/>
            <a:ext cx="6400800" cy="4788000"/>
            <a:chOff x="1447920" y="2057400"/>
            <a:chExt cx="6400800" cy="4788000"/>
          </a:xfrm>
        </p:grpSpPr>
        <p:sp>
          <p:nvSpPr>
            <p:cNvPr id="172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1447920" y="2057400"/>
              <a:ext cx="6400800" cy="450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WORK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amples of Knowledge Work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8195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 that automates the creation and revision of industrial and manufacturing designs using sophisticated graphics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3840" y="2209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uter-Aided Design (CA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3840" y="4865760"/>
            <a:ext cx="8305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active graphics software and hardware that create computer-generated simulations that emulate real-world activities or photorealistic simu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267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Virtual Reality 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WORK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25909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the business benefits of using intelligent techniques for knowledg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challenges posed by knowledge management systems and managemen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2120" y="304812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werful desktop computer for financial specialists, which is optimized to access and manipulate massive amounts of financi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2362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vestment Workst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WORK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amples of Knowledge Work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213372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tion of underlying patterns, categories, and behaviors in large data sets, using techniques such as neural networks and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6002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Discover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3434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er-based systems based on human behavior, with the ability to learn languages, accomplish physical tasks, use a perceptual apparatus, and emulate human expertise and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3809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rtificial Intelligence (AI) technolo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144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apturing Knowledge: Exper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057400"/>
            <a:ext cx="8839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pert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lligent technique for capturing tacit knowledge in a very specific and limited domain of human expert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bas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of human knowledge that is used by exper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ies of 200-10,000 IF-THEN rules to form a rul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3840" y="5867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I shel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e programming environment of an exper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ow Expert Systems Work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0574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ules in an AI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09680" y="2514600"/>
            <a:ext cx="4724640" cy="4330800"/>
            <a:chOff x="2209680" y="2514600"/>
            <a:chExt cx="4724640" cy="4330800"/>
          </a:xfrm>
        </p:grpSpPr>
        <p:sp>
          <p:nvSpPr>
            <p:cNvPr id="202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2209680" y="2514600"/>
              <a:ext cx="4724640" cy="398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68440" y="213372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rategy used to search through the rule base in an expert system. Common strategies are forward chaining and back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600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erence engi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7520" y="434340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trategy for searching the rule base in an expert system that begins with the information entered by the user and searches the rule base to arrive at a conclu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809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orward chain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6040" y="2133720"/>
            <a:ext cx="8915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trategy for searching the rule base in an expert system that acts like a problem solver by beginning with hypothesis and seeking out more information until the hypothesis is either proved or dispro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600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ackward chain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920" y="4952880"/>
            <a:ext cx="914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pecialist who elicits information and expertise from other professionals and translates it into a set of rules for an expert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4343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engine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erence Engines in Exper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8600" y="2233440"/>
            <a:ext cx="8610480" cy="4611960"/>
            <a:chOff x="228600" y="2233440"/>
            <a:chExt cx="8610480" cy="4611960"/>
          </a:xfrm>
        </p:grpSpPr>
        <p:sp>
          <p:nvSpPr>
            <p:cNvPr id="221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228600" y="2233440"/>
              <a:ext cx="8610480" cy="355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144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4960" y="3200400"/>
            <a:ext cx="8077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system that represents knowledge as a database of cases and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rches for stored cases with problem characteristics similar to the new case and applies solutions of the old case to the new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9800" y="2438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ase-Based Reasoning (CBR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2120" y="2819520"/>
            <a:ext cx="80769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ule-based technology that can represent imprecise values or ranges of values by creating rules that use approximate or subjectiv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d for problems that are difficult to represent by IF-THEN r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2057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uzzy Logic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ow Case-based Reasoning 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870280" y="2057400"/>
            <a:ext cx="3606840" cy="4788000"/>
            <a:chOff x="2870280" y="2057400"/>
            <a:chExt cx="3606840" cy="4788000"/>
          </a:xfrm>
        </p:grpSpPr>
        <p:sp>
          <p:nvSpPr>
            <p:cNvPr id="236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2870280" y="2057400"/>
              <a:ext cx="3606840" cy="449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ing the flow of unstructured information and documents among multiple product developmen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olutio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cumentum eRoom software to manage product development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new business processes for document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s the role of knowledge and document management systems for coordinating teams and achieving operational excel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70520" y="100476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tt Corporation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lementing Fuzzy Logic Rules in Hard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2246400"/>
            <a:ext cx="8686800" cy="4599000"/>
            <a:chOff x="228600" y="2246400"/>
            <a:chExt cx="8686800" cy="4599000"/>
          </a:xfrm>
        </p:grpSpPr>
        <p:sp>
          <p:nvSpPr>
            <p:cNvPr id="242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228600" y="2246400"/>
              <a:ext cx="8686800" cy="346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5791320"/>
            <a:ext cx="81536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J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mes M. Sibigtroth, “Implementing Fuzzy Expert Rules in Hardware,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 Exper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pril 1992. copyright 1992 Miller Freeman, Inc. Reprinted with permissio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0769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rdware or software that emulates the processing patterns of the biological brain to discover patterns and relationships in massive amounts of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large numbers of sensing and processing nodes that interact with each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1752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ur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22860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ural Net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52600" y="2362320"/>
            <a:ext cx="8076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s rules it ‘learns” from patterns in data to construct a hidden layer of logic that can be applied to model new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s are found in medicine, science, and busi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1752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ural Network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8600" y="1523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ow a Neural Network 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1981080"/>
            <a:ext cx="8305200" cy="4415040"/>
            <a:chOff x="533520" y="1981080"/>
            <a:chExt cx="8305200" cy="4415040"/>
          </a:xfrm>
        </p:grpSpPr>
        <p:sp>
          <p:nvSpPr>
            <p:cNvPr id="258" name=""/>
            <p:cNvSpPr/>
            <p:nvPr/>
          </p:nvSpPr>
          <p:spPr>
            <a:xfrm>
              <a:off x="3919320" y="602784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533520" y="1981080"/>
              <a:ext cx="8305200" cy="41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6095880"/>
            <a:ext cx="3429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b Edelstein, “Technology How-To: Mining Data Warehouses,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Wee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January 8, 1996.  Copyright 1996 CMP Media, Inc., 600 Community Drive, Manhasset, NY 12030. Reprinted with permi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4960" y="2133720"/>
            <a:ext cx="8077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aptive computation that examines very large number of solutions for a problem to find optimal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ed to “evolve” by changing and reorganizing component parts using processes such as reproduction, mutation, and natural selection: worst solutions are discarded and better ones survive to produce even better solu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enetic Algorith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2860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Components of a Genetic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8600" y="2209680"/>
            <a:ext cx="8686800" cy="4635720"/>
            <a:chOff x="228600" y="2209680"/>
            <a:chExt cx="8686800" cy="4635720"/>
          </a:xfrm>
        </p:grpSpPr>
        <p:sp>
          <p:nvSpPr>
            <p:cNvPr id="269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228600" y="2209680"/>
              <a:ext cx="8686800" cy="378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867280"/>
            <a:ext cx="3733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Dhar, Stein, SEVEN METHODS FOR TRANSFORMING CORPORATE DATA INTO BUSINESS INTELLIGENCE (Trade Version), 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copyright 1997. Electronically reproduced by permission of Pearson Education, Inc., Upper Saddle River, New Jerse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69880" y="20574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multiple AI technologies (genetic algorithms, fuzzy logic, neural networks) into a single application to take advantage of the best features of these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lligent Agen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programs that work in the background without direct human intervention to carry out specific, repetitive, and predictable tasks for an individual user, business process, or softwar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4960" y="16002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ybrid AI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2860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lligent Agents in P&amp;G’s Supply Chain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LLIGENT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19320" y="2011320"/>
            <a:ext cx="7086600" cy="4834080"/>
            <a:chOff x="1219320" y="2011320"/>
            <a:chExt cx="7086600" cy="4834080"/>
          </a:xfrm>
        </p:grpSpPr>
        <p:sp>
          <p:nvSpPr>
            <p:cNvPr id="280" name=""/>
            <p:cNvSpPr/>
            <p:nvPr/>
          </p:nvSpPr>
          <p:spPr>
            <a:xfrm>
              <a:off x="3886200" y="64771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219320" y="2011320"/>
              <a:ext cx="7086600" cy="424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3808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rietary knowledge can create an “invisible competitive advantag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pportun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2480" y="10666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838080" y="25146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ufficient resources are available to structure and update the content in reposi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or quality and high variability of content quality results from insufficient validating mechanis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 in repositories lacks context, making documents difficult to understa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0666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600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U.S Enterprise Knowledge Management Software Revenues 2001-2006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711520" y="2362320"/>
            <a:ext cx="3994200" cy="4483080"/>
            <a:chOff x="2711520" y="2362320"/>
            <a:chExt cx="3994200" cy="4483080"/>
          </a:xfrm>
        </p:grpSpPr>
        <p:sp>
          <p:nvSpPr>
            <p:cNvPr id="56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711520" y="2362320"/>
              <a:ext cx="399420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5943600"/>
            <a:ext cx="1904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the data in eMarketer, “Portals and Content Management Solutions,” June 200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5800" y="31240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 employees are not rewarded for contributing content, and many fear sharing knowledge with others on th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rch engines return too much information, reflecting lack of knowledge structure or taxono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0666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8288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58720" y="3054240"/>
            <a:ext cx="807732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in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a high-value business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the right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ROI during initial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the preliminary ROI to project enterprise-wide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2280" y="1600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52480" y="10666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207324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ve important steps in developing a successful knowledge management proj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112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lementing Knowledge Management Projects in St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0200" y="2039760"/>
            <a:ext cx="6095880" cy="4805640"/>
            <a:chOff x="1600200" y="2039760"/>
            <a:chExt cx="6095880" cy="4805640"/>
          </a:xfrm>
        </p:grpSpPr>
        <p:sp>
          <p:nvSpPr>
            <p:cNvPr id="302" name=""/>
            <p:cNvSpPr/>
            <p:nvPr/>
          </p:nvSpPr>
          <p:spPr>
            <a:xfrm>
              <a:off x="3886200" y="64771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2-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1600200" y="2039760"/>
              <a:ext cx="6095880" cy="436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10666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SOLU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600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ortant Dimensions of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220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2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low of captured events o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ata organized into categories of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cepts, experience, and insight that provide a framework for creating, evaluating, and using information.  Can be tacit (undocumented) or explicit (docum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3962520"/>
            <a:ext cx="7848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is a Firm Asse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angible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s organiz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ue increases as more people shar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20968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isdo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e collective and individual experience of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applying knowledge to the solution of problem;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knowing when, where, and how to apply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ortant Dimensions of Knowledg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23623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cit or exp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-how, craft, and s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nowing how to follow procedures; why things hap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has a 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gnitive ev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 and individual bases of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icky, situated, contex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280" y="1981080"/>
            <a:ext cx="4872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has Different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523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ortant Dimensions of Knowledg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281952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85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Knowledge in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KNOWLEDGE MANAGEMENT LANDSC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7680" y="2362320"/>
            <a:ext cx="38916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nowledge is Situa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600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ortant Dimensions of Knowledg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18:36:55Z</dcterms:modified>
  <cp:revision>3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4521292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</vt:lpwstr>
  </property>
</Properties>
</file>