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AC5E4B2-32DF-4B9F-B8C8-C819A0D35C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819520"/>
            <a:ext cx="6248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ing Knowledge in the Digital Fi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4960" y="2895480"/>
            <a:ext cx="8077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learn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djusting business processes and patterns of decision making to reflect knowledge gained through information and experience ga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96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Learning and Knowledg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1337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organizational and management capital: collaboration, communities of practice, and office environ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98440" y="1592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Knowledge Management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Knowledge Management Value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2057400"/>
            <a:ext cx="7772400" cy="4788000"/>
            <a:chOff x="685800" y="2057400"/>
            <a:chExt cx="7772400" cy="4788000"/>
          </a:xfrm>
        </p:grpSpPr>
        <p:sp>
          <p:nvSpPr>
            <p:cNvPr id="89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85800" y="2057400"/>
              <a:ext cx="7772400" cy="440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Knowledge Manag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2286000"/>
            <a:ext cx="9144000" cy="4559400"/>
            <a:chOff x="0" y="2286000"/>
            <a:chExt cx="9144000" cy="4559400"/>
          </a:xfrm>
        </p:grpSpPr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9144000" cy="378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1614600"/>
            <a:ext cx="6019560" cy="5230800"/>
            <a:chOff x="1676520" y="1614600"/>
            <a:chExt cx="6019560" cy="5230800"/>
          </a:xfrm>
        </p:grpSpPr>
        <p:sp>
          <p:nvSpPr>
            <p:cNvPr id="10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676520" y="1614600"/>
              <a:ext cx="6019560" cy="489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1337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repository for formal, structured text documents and reports or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content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 appropriate database schema and tagging of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Database of case reports of consulting firms; tax law accounting databases of accounting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16128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uctured Knowledg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World’s Knowledge Dom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0" y="2057400"/>
            <a:ext cx="4800600" cy="4788000"/>
            <a:chOff x="2286000" y="2057400"/>
            <a:chExt cx="4800600" cy="4788000"/>
          </a:xfrm>
        </p:grpSpPr>
        <p:sp>
          <p:nvSpPr>
            <p:cNvPr id="11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2286000" y="2057400"/>
              <a:ext cx="4800600" cy="44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PMG Knowledge System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320" y="2141640"/>
            <a:ext cx="8991360" cy="4703760"/>
            <a:chOff x="76320" y="2141640"/>
            <a:chExt cx="8991360" cy="4703760"/>
          </a:xfrm>
        </p:grpSpPr>
        <p:sp>
          <p:nvSpPr>
            <p:cNvPr id="11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6320" y="2141640"/>
              <a:ext cx="8991360" cy="42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21337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repository for less-structured documents, such as e-mail, voicemail, chat room exchanges, videos, digital images, brochures, bulletin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digital asset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axonom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cheme of classifying information and knowledge for easy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agg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rking of documents according to knowledg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mistructured Knowled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ummingbird’s Integrated Knowledge Managemen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2057400"/>
            <a:ext cx="5181840" cy="4788000"/>
            <a:chOff x="1981080" y="2057400"/>
            <a:chExt cx="5181840" cy="4788000"/>
          </a:xfrm>
        </p:grpSpPr>
        <p:sp>
          <p:nvSpPr>
            <p:cNvPr id="12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981080" y="2057400"/>
              <a:ext cx="5181840" cy="448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role of knowledge management and knowledge management programs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and describe the types of systems used for enterprise-wide knowledge management and demonstrate how they provide value for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and describe the major types of knowledge work systems and assess how they provide value for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9718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2286000"/>
            <a:ext cx="8269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directory of corporate experts, solutions developed by in-house experts, best practices, FAQ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 and organize “tacit”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expertise location and manag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Net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9718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819520"/>
            <a:ext cx="6553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exchang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of practice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proofing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4960" y="213372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ey features can includ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600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Network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Problem of Distributed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3520" y="2303640"/>
            <a:ext cx="8153280" cy="4541760"/>
            <a:chOff x="533520" y="2303640"/>
            <a:chExt cx="8153280" cy="4541760"/>
          </a:xfrm>
        </p:grpSpPr>
        <p:sp>
          <p:nvSpPr>
            <p:cNvPr id="14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533520" y="2303640"/>
              <a:ext cx="8153280" cy="35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736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skMe Enterprise Knowledge Network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57400" y="2057400"/>
            <a:ext cx="5029200" cy="4788000"/>
            <a:chOff x="2057400" y="2057400"/>
            <a:chExt cx="5029200" cy="4788000"/>
          </a:xfrm>
        </p:grpSpPr>
        <p:sp>
          <p:nvSpPr>
            <p:cNvPr id="150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057400" y="2057400"/>
              <a:ext cx="5029200" cy="444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960" y="16160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orting Technologies: Portals, Collaboration Tools, and Learning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666880"/>
            <a:ext cx="80773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knowledge por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external sources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internal knowledge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abilities for e-mail, chat, discussion groups, videoconfere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2600" y="228600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ools for the management, delivery, tracking, and assessment of various types of employee learning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s systems from human resources, accounting, sales in order to identify and quantify business impact of employee learning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arning Management System (L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and Knowledge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8320" y="373392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key ro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eping the organization current in knowledge as it develops in the external world—in technology, science, social thought, and the 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30184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reate knowledge and information for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2860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ng as internal consultants regarding the areas of their knowledge, the changes taking place, and opportun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g as change agents, evaluating, initiating, and promoting chang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and Knowledge Work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quirements of Knowledge 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2057400"/>
            <a:ext cx="6400800" cy="4788000"/>
            <a:chOff x="1447920" y="2057400"/>
            <a:chExt cx="6400800" cy="4788000"/>
          </a:xfrm>
        </p:grpSpPr>
        <p:sp>
          <p:nvSpPr>
            <p:cNvPr id="17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6400800" cy="45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Knowledge Work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8195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 that automates the creation and revision of industrial and manufacturing designs using sophisticated graphic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384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-Aided Design (CA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3840" y="486576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ve graphics software and hardware that create computer-generated simulations that emulate real-world activities or photorealistic sim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irtual Reality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5909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business benefits of using intelligent techniques for 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knowledge management systems and managem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30481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werful desktop computer for financial specialists, which is optimized to access and manipulate massive amounts of financ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362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vestment Workst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Knowledge Work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1337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of underlying patterns, categories, and behaviors in large data sets, using techniques such as neural networks and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Discove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3434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-based systems based on human behavior, with the ability to learn languages, accomplish physical tasks, use a perceptual apparatus, and emulate human expertise and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809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rtificial Intelligence (AI)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turing Knowledge: Expe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057400"/>
            <a:ext cx="883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pert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lligent technique for capturing tacit knowledge in a very specific and limited domain of human exper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of human knowledge that is used by expe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of 200-10,000 IF-THEN rules to form a rul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840" y="5867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I shel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programming environment of an expe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xpert Systems Work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057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les in an AI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09680" y="2514600"/>
            <a:ext cx="4724640" cy="4330800"/>
            <a:chOff x="2209680" y="2514600"/>
            <a:chExt cx="4724640" cy="4330800"/>
          </a:xfrm>
        </p:grpSpPr>
        <p:sp>
          <p:nvSpPr>
            <p:cNvPr id="20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2209680" y="2514600"/>
              <a:ext cx="4724640" cy="39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68440" y="21337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ategy used to search through the rule base in an expert system. Common strategies are forward chaining and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00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erence eng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" y="43434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ategy for searching the rule base in an expert system that begins with the information entered by the user and searches the rule base to arrive at a 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80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rward ch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6040" y="21337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ategy for searching the rule base in an expert system that acts like a problem solver by beginning with hypothesis and seeking out more information until the hypothesis is either proved or dis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ackward ch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0" y="49528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pecialist who elicits information and expertise from other professionals and translates it into a set of rules for an exper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engine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erence Engines in Expe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2233440"/>
            <a:ext cx="8610480" cy="4611960"/>
            <a:chOff x="228600" y="2233440"/>
            <a:chExt cx="8610480" cy="4611960"/>
          </a:xfrm>
        </p:grpSpPr>
        <p:sp>
          <p:nvSpPr>
            <p:cNvPr id="221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228600" y="2233440"/>
              <a:ext cx="8610480" cy="355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960" y="320040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system that represents knowledge as a database of cases an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rches for stored cases with problem characteristics similar to the new case and applies solutions of the old case to the new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800" y="2438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se-Based Reasoning (CBR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2819520"/>
            <a:ext cx="80769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le-based technology that can represent imprecise values or ranges of values by creating rules that use approximate or subjectiv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for problems that are difficult to represent by IF-THEN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057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uzzy Log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Case-based Reasoning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870280" y="2057400"/>
            <a:ext cx="3606840" cy="4788000"/>
            <a:chOff x="2870280" y="2057400"/>
            <a:chExt cx="3606840" cy="4788000"/>
          </a:xfrm>
        </p:grpSpPr>
        <p:sp>
          <p:nvSpPr>
            <p:cNvPr id="236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2870280" y="2057400"/>
              <a:ext cx="3606840" cy="449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ing the flow of unstructured information and documents among multiple product develop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cumentum eRoom software to manage product develop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new business processes for document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knowledge and document management systems for coordinating teams and achieving operational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70520" y="10047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tt Corporation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ing Fuzzy Logic Rules in Hard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246400"/>
            <a:ext cx="8686800" cy="4599000"/>
            <a:chOff x="228600" y="2246400"/>
            <a:chExt cx="8686800" cy="4599000"/>
          </a:xfrm>
        </p:grpSpPr>
        <p:sp>
          <p:nvSpPr>
            <p:cNvPr id="24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28600" y="2246400"/>
              <a:ext cx="8686800" cy="34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791320"/>
            <a:ext cx="8153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mes M. Sibigtroth, “Implementing Fuzzy Expert Rules in Hardware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 Expe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pril 1992. copyright 1992 Miller Freeman, Inc. Reprinted with permi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or software that emulates the processing patterns of the biological brain to discover patterns and relationships in massive amounts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large numbers of sensing and processing nodes that interact with 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752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2286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52600" y="23623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rules it ‘learns” from patterns in data to construct a hidden layer of logic that can be applied to model new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 are found in medicine, science, and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a Neural Network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1981080"/>
            <a:ext cx="8305200" cy="4415040"/>
            <a:chOff x="533520" y="1981080"/>
            <a:chExt cx="8305200" cy="4415040"/>
          </a:xfrm>
        </p:grpSpPr>
        <p:sp>
          <p:nvSpPr>
            <p:cNvPr id="258" name=""/>
            <p:cNvSpPr/>
            <p:nvPr/>
          </p:nvSpPr>
          <p:spPr>
            <a:xfrm>
              <a:off x="3919320" y="602784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533520" y="1981080"/>
              <a:ext cx="8305200" cy="41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6095880"/>
            <a:ext cx="3429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b Edelstein, “Technology How-To: Mining Data Warehouses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Wee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January 8, 1996.  Copyright 1996 CMP Media, Inc., 600 Community Drive, Manhasset, NY 12030. Reprint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4960" y="21337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computation that examines very large number of solutions for a problem to find optim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ed to “evolve” by changing and reorganizing component parts using processes such as reproduction, mutation, and natural selection: worst solutions are discarded and better ones survive to produce even better solu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tic Algorith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omponents of a Genetic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8600" y="2209680"/>
            <a:ext cx="8686800" cy="4635720"/>
            <a:chOff x="228600" y="2209680"/>
            <a:chExt cx="8686800" cy="4635720"/>
          </a:xfrm>
        </p:grpSpPr>
        <p:sp>
          <p:nvSpPr>
            <p:cNvPr id="269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8686800" cy="37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67280"/>
            <a:ext cx="373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Dhar, Stein, SEVEN METHODS FOR TRANSFORMING CORPORATE DATA INTO BUSINESS INTELLIGENCE (Trade Version), 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pyright 1997. Electronically reproduced by permission of Pearson Education, Inc., Upper Saddle River, New Jers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69880" y="20574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multiple AI technologies (genetic algorithms, fuzzy logic, neural networks) into a single application to take advantage of the best features of these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lligent Agen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rograms that work in the background without direct human intervention to carry out specific, repetitive, and predictable tasks for an individual user, business process, or softwar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4960" y="16002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ybrid AI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lligent Agents in P&amp;G’s Supply Chain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2011320"/>
            <a:ext cx="7086600" cy="4834080"/>
            <a:chOff x="1219320" y="2011320"/>
            <a:chExt cx="7086600" cy="4834080"/>
          </a:xfrm>
        </p:grpSpPr>
        <p:sp>
          <p:nvSpPr>
            <p:cNvPr id="280" name=""/>
            <p:cNvSpPr/>
            <p:nvPr/>
          </p:nvSpPr>
          <p:spPr>
            <a:xfrm>
              <a:off x="3886200" y="6477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19320" y="2011320"/>
              <a:ext cx="7086600" cy="42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808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rietary knowledge can create an “invisible competitive advantag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25146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resources are available to structure and update the content in reposi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or quality and high variability of content quality results from insufficient validating mech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in repositories lacks context, making documents difficult to underst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600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.S Enterprise Knowledge Management Software Revenues 2001-2006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711520" y="2362320"/>
            <a:ext cx="3994200" cy="4483080"/>
            <a:chOff x="2711520" y="2362320"/>
            <a:chExt cx="3994200" cy="4483080"/>
          </a:xfrm>
        </p:grpSpPr>
        <p:sp>
          <p:nvSpPr>
            <p:cNvPr id="5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711520" y="2362320"/>
              <a:ext cx="399420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943600"/>
            <a:ext cx="190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e data in eMarketer, “Portals and Content Management Solutions,” June 20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3124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employees are not rewarded for contributing content, and many fear sharing knowledge with others on th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rch engines return too much information, reflecting lack of knowledge structure or tax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828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58720" y="3054240"/>
            <a:ext cx="80773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in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high-value business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the right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ROI during initi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preliminary ROI to project enterprise-wid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2280" y="1600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0732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important steps in developing a successful knowledge management proj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112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ing Knowledge Management Projects in S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0200" y="2039760"/>
            <a:ext cx="6095880" cy="4805640"/>
            <a:chOff x="1600200" y="2039760"/>
            <a:chExt cx="6095880" cy="4805640"/>
          </a:xfrm>
        </p:grpSpPr>
        <p:sp>
          <p:nvSpPr>
            <p:cNvPr id="302" name=""/>
            <p:cNvSpPr/>
            <p:nvPr/>
          </p:nvSpPr>
          <p:spPr>
            <a:xfrm>
              <a:off x="3886200" y="6477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1600200" y="2039760"/>
              <a:ext cx="6095880" cy="43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20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low of captured eve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ta organized into categories of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cepts, experience, and insight that provide a framework for creating, evaluating, and using information.  Can be tacit (undocumented) or explicit (docum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96252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is a Firm Asse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angible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organiz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increases as more people shar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20968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isd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collective and individual experience of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applying knowledge to the solution of problem;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knowing when, where, and how to apply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cit or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-how, craft, and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ing how to follow procedures; why things hap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has a 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gnitive e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and individual bases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icky, situated, contex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280" y="1981080"/>
            <a:ext cx="4872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has Different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281952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7680" y="2362320"/>
            <a:ext cx="3891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is Situ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8:36:55Z</dcterms:modified>
  <cp:revision>3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521292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