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fld id="{55153C81-9ACF-40D3-BD83-1144EB64AF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1360" y="2970360"/>
            <a:ext cx="76960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9810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uctured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4382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utine decisions with definite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ock inventory; determine special offers to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114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mistructured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y part of decision has clear-cut answers provided by accept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e resources to managers; develop a marketing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4800" y="3282840"/>
            <a:ext cx="8077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nformation Systems (M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Support Systems (D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Systems (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(GD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716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for Decis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880" y="2209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kinds of systems that support the different levels and types of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736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ges in 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52480" y="2057400"/>
            <a:ext cx="5639040" cy="4788000"/>
            <a:chOff x="1752480" y="2057400"/>
            <a:chExt cx="5639040" cy="4788000"/>
          </a:xfrm>
        </p:grpSpPr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639040" cy="45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7240" y="354636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qual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uracy, integrity, consistency, completeness, validity, timeliness, acces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Making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454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real world, investments in decision-support systems do not always work beca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43828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filter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es and bad decisions of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inert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ong forces within organization that resist chan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Making in the Real World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6840" y="374004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ix Major Tre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nterprise-wide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adening decision rights and responsibi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ends in Decision Support and Business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960" y="2239920"/>
            <a:ext cx="84582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ise of client/server computing, the Internet, and Web technologies made a major impact on systems that support decision ma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66688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ets and port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ization and customization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anets and collaborative comme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m support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ends in Decision Support and Business Intelligenc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7680" y="3124080"/>
            <a:ext cx="80769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arily address structured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ypically fixed, scheduled reports based on routine flows of data and assists in the general control of the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Difference between MIS and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6120" y="23385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Information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69880" y="2514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semistructured and unstructured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ater emphasis on models, assumptions, ad-hoc queries, display graph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sizes change, flexibility, and a rapi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400" y="1905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Support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4880" y="24382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-driven D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752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-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7680" y="3165480"/>
            <a:ext cx="807696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arily stand-alon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strong theory or model to perform “what-if” and similar analy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956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 different types of decisions and the decision-mak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role of information systems in helping people working individually and in a group make decisions more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 how executive support systems can help senior managers make better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28480" y="1676520"/>
            <a:ext cx="6705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-driven D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600" y="24163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with large pools of data in major enterprise systems and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decision making by enabling user to extract usefu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ining: Can obtain types of information such as associations, sequences, classifications, clusters, and forec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600" y="223992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data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collection of current or historical data from a number of applications o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software syste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tains the software tools for data analysis, with models, data mining, and other analytical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user interfa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raphical, flexible interaction between users of the system and the DSS software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720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onents of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al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ation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ing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vity analysis (“what-if” models)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880" y="1676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 abstract representation that illustrates the components or relationships of a phenomen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Decision-Suppor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98720" y="2057400"/>
            <a:ext cx="3502080" cy="4788000"/>
            <a:chOff x="2898720" y="2057400"/>
            <a:chExt cx="3502080" cy="4788000"/>
          </a:xfrm>
        </p:grpSpPr>
        <p:sp>
          <p:nvSpPr>
            <p:cNvPr id="14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2898720" y="2057400"/>
              <a:ext cx="3502080" cy="449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nsitivity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" y="2209680"/>
            <a:ext cx="8686800" cy="4635720"/>
            <a:chOff x="228600" y="2209680"/>
            <a:chExt cx="8686800" cy="4635720"/>
          </a:xfrm>
        </p:grpSpPr>
        <p:sp>
          <p:nvSpPr>
            <p:cNvPr id="15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8686800" cy="345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2520" y="2133720"/>
            <a:ext cx="8305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fine-grained information for decisions that enable the firm to coordinate both internal and external business processes much more precis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ing with decision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720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0574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cing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t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Visualiz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sentation of data in graphical forms, to help users see patterns an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ographic Information Systems (GIS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al category of DSS that display geographically referenced data in digitized ma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DS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0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DSS for Customer Analysis and Seg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0720" y="2073240"/>
            <a:ext cx="7238880" cy="4772160"/>
            <a:chOff x="990720" y="2073240"/>
            <a:chExt cx="7238880" cy="4772160"/>
          </a:xfrm>
        </p:grpSpPr>
        <p:sp>
          <p:nvSpPr>
            <p:cNvPr id="168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990720" y="2073240"/>
              <a:ext cx="7238880" cy="433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7600" y="236232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SS based on the Web and the Internet can support decision making by providing online access to various databases and information pools along with software for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f these DSS are targeted toward management, but many have been developed to attract custom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324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eb-Based Customer Decision-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2209680"/>
            <a:ext cx="8076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decision making has become increasingly information intensive, with Internet search engines, intelligent agents, online catalogs, Web directories, e-mail, and other tools used to help make purchasing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decision-support systems (CDSS) support the decision-making process of an existing or potential cust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eb-based Customer Decision-Suppor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7680" y="228600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systems that support decision making can provide value for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decision-support systems, group decision-support systems, and executive support systems and managem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4880" y="2590920"/>
            <a:ext cx="8305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oup Decision-Support System (GDS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interactive computer-based system used to facilitate the solution of unstructured problems by a set of decision makers working together as a gro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384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 GDS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22860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(conference facility, audiovisual equipment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tools (Electronic questionnaires, brainstorming tools, voting tools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(Participants, trained facilitator, support staf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ree Main Components of GD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2520" y="220968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GDSS electronic meeting, each attendee has a work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stations are networked and are connected to the facilitator’s console, which serves as the facilitator’s workstation and control panel, and to the meeting’s fil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data that the attendees forward from their workstations to the group are collected and saved on the fil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9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GDSS Mee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ilitator is able to project computer images onto the projection screen at the front of the ro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electronic meeting rooms have seating arrangements in semicircles and are tiered in legislative style to accommodate a large number of attend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ilitator controls the use of tools during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GDSS Meet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oup System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2023920"/>
            <a:ext cx="5029200" cy="4821480"/>
            <a:chOff x="2057400" y="2023920"/>
            <a:chExt cx="5029200" cy="4821480"/>
          </a:xfrm>
        </p:grpSpPr>
        <p:sp>
          <p:nvSpPr>
            <p:cNvPr id="19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2057400" y="2023920"/>
              <a:ext cx="5029200" cy="45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7913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Nunamaker et al., “Electronic Meeting Systems to Support Group Work,” Communication of the ACM, July 1991. Reprint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2399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decision-ma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etings support an optimal size of three to five attendees. GDSS allows a greater number of attend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collaborative atmosphere by guaranteeing contributor’s anonym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nonattendees to locate organized information after the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04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G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438280"/>
            <a:ext cx="830592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crease the number of ideas generated and the quality of decisions while producing the desired results in fewer meet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lead to more participative and democratic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752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GDS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2000" y="243828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can bring together data from all parts of the firm and enable managers to select, access, and tailor them as nee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tries to avoid the problem of data overload so common in paper repo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76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Executive Support Systems in the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133720"/>
            <a:ext cx="7848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ility to drill down is useful not only to senior executives but also to employees at lower levels of the firm who need to analyz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tegrate comprehensive firmwide information and external data in timely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f modeling and analysis tools usable with a minimum of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Executive Support Systems in the Fi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7240" y="2139840"/>
            <a:ext cx="769644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lity to analyze, compare, and highlight tre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phical interface enables users to review data more quickly and with more insight, speeding decision mak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liness and availability of data enables more timely decision making, help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move toward a “sense-and-respond” strateg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680" y="16239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xecutive 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the daily arrival of 70 rail cars and 500 trucks to ensure just-in-time delivery of car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opt Transportation Efficiency Support System (TESYS) to synchronize the deliveries with available loading docks and production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new business processes for coordinating logistics with produc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how IT enhances decision making and increases business process efficiency in a manufact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5240" y="10666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imlerChrysler Bremen Plant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upper management span of control, better monito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based on enterprise-wide 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used for decentralization of decision making or increase management centr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xecutive Suppor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95360" y="2843280"/>
            <a:ext cx="8229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Star Distribu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 intelligence; global buying trends can be shared with manufacturers, distributors, sales representatives to get latest products to customer before selling season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040" y="1905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ecutive Support Systems and the Digital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5909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erizon Communications and Pharmacia Corpo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nitoring corporate performance with Digital Dashboards and Balanced Scorecard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adway Ex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nterprise-Wide Reporting and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ecutive Support Systems and the Digital Fi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4720" y="2716200"/>
            <a:ext cx="769608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support systems provide opportunities for increasing precision, accuracy, and rapidity of decisions and thereby contributing directly to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960" y="2057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04880" y="259092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systems that can actually fulfill Executive Information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management thinking to make better use of systems for decision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re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840" y="19461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0280" y="2949480"/>
            <a:ext cx="8080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s must work with IS specialists to identify a problem and a specific set of capabilities that will help them arrive at decisions about the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 must be flexible, easy to use, and capable of supporting alternative decision op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276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lexible Design and Develop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320040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training, involvement, and experience; top management support; and length of use are the most important factors in the success of management support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ining and Management Suppo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intelligence enables firm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Intelligence and Decision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960" y="289548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ass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knowledge abou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decision-making behavior to achieve profitability and other business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2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and Technologies for Business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57400" y="2057400"/>
            <a:ext cx="5257800" cy="4788000"/>
            <a:chOff x="2057400" y="2057400"/>
            <a:chExt cx="5257800" cy="4788000"/>
          </a:xfrm>
        </p:grpSpPr>
        <p:sp>
          <p:nvSpPr>
            <p:cNvPr id="6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057400" y="2057400"/>
              <a:ext cx="5257800" cy="44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Decision Making and the Decision-Mak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12408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ior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ddle management and project t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management and project t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employ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Making Level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447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Requirements of Key Decision-Making Groups in a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2198520"/>
            <a:ext cx="6934320" cy="4660920"/>
            <a:chOff x="1295280" y="2198520"/>
            <a:chExt cx="6934320" cy="4660920"/>
          </a:xfrm>
        </p:grpSpPr>
        <p:sp>
          <p:nvSpPr>
            <p:cNvPr id="73" name=""/>
            <p:cNvSpPr/>
            <p:nvPr/>
          </p:nvSpPr>
          <p:spPr>
            <a:xfrm>
              <a:off x="4039920" y="649116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1295280" y="2198520"/>
              <a:ext cx="6934320" cy="42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7680" y="24382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nstructured dec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292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560" y="312408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vel, non-routine decisions requiring judgment and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Approve capital budget; decide corporate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01:46Z</dcterms:modified>
  <cp:revision>4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8574025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