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08800"/>
            <a:ext cx="69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fld id="{E15AF23D-6731-48F7-BD1E-8A0F6C5105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45200" y="655308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127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81880" y="1652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1360" y="2970360"/>
            <a:ext cx="76960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Decision Making for the Digital Fir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98108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ructured decis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4382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utine decisions with definite proced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tock inventory; determine special offers to custo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41148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mistructured decis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64832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y part of decision has clear-cut answers provided by accept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e resources to managers; develop a marketing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523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ypes of Decision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4800" y="3282840"/>
            <a:ext cx="8077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nformation Systems (M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-Support Systems (D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Systems (E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(GD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5716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s for Decisio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880" y="2209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four kinds of systems that support the different levels and types of decis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736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tages in  Decision 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752480" y="2057400"/>
            <a:ext cx="5639040" cy="4788000"/>
            <a:chOff x="1752480" y="2057400"/>
            <a:chExt cx="5639040" cy="4788000"/>
          </a:xfrm>
        </p:grpSpPr>
        <p:sp>
          <p:nvSpPr>
            <p:cNvPr id="95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1752480" y="2057400"/>
              <a:ext cx="5639040" cy="45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7240" y="354636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qualit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uracy, integrity, consistency, completeness, validity, timeliness, access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cision Making in the Re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454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real world, investments in decision-support systems do not always work becau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243828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filter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ases and bad decisions of mana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rganizational inerti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ong forces within organization that resist chan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cision Making in the Real World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6840" y="374004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ix Major Tre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enterprise-wide 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adening decision rights and responsibil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600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ends in Decision Support and Business Intellig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5960" y="2239920"/>
            <a:ext cx="84582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ise of client/server computing, the Internet, and Web technologies made a major impact on systems that support decision ma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266688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anets and port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alization and customization of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anets and collaborative comme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m support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ends in Decision Support and Business Intelligence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7680" y="3124080"/>
            <a:ext cx="80769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marily address structured probl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typically fixed, scheduled reports based on routine flows of data and assists in the general control of the busi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600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Difference between MIS and D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6120" y="23385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Information 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69880" y="2514600"/>
            <a:ext cx="8077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semistructured and unstructured probl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eater emphasis on models, assumptions, ad-hoc queries, display graph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hasizes change, flexibility, and a rapid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400" y="19051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ecision Support Syst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4880" y="243828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odel-driven DS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752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ypes of Decision-Suppor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7680" y="3165480"/>
            <a:ext cx="807696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marily stand-alone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a strong theory or model to perform “what-if” and similar analy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956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e different types of decisions and the decision-mak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the role of information systems in helping people working individually and in a group make decisions more e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onstrate how executive support systems can help senior managers make better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28480" y="1676520"/>
            <a:ext cx="6705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-driven D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2600" y="24163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with large pools of data in major enterprise systems and Web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decision making by enabling user to extract useful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a mining: Can obtain types of information such as associations, sequences, classifications, clusters, and foreca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2600" y="223992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SS databa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collection of current or historical data from a number of applications or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SS software syste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tains the software tools for data analysis, with models, data mining, and other analytical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SS user interfac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raphical, flexible interaction between users of the system and the DSS software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7200" y="1600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Components of D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666880"/>
            <a:ext cx="7086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tistical model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zation model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ing models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sitivity analysis (“what-if” models)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8880" y="16765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ode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 abstract representation that illustrates the components or relationships of a phenomeno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verview of a Decision-Support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898720" y="2057400"/>
            <a:ext cx="3502080" cy="4788000"/>
            <a:chOff x="2898720" y="2057400"/>
            <a:chExt cx="3502080" cy="4788000"/>
          </a:xfrm>
        </p:grpSpPr>
        <p:sp>
          <p:nvSpPr>
            <p:cNvPr id="146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2898720" y="2057400"/>
              <a:ext cx="3502080" cy="449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ensitivity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" y="2209680"/>
            <a:ext cx="8686800" cy="4635720"/>
            <a:chOff x="228600" y="2209680"/>
            <a:chExt cx="8686800" cy="4635720"/>
          </a:xfrm>
        </p:grpSpPr>
        <p:sp>
          <p:nvSpPr>
            <p:cNvPr id="153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8600" y="2209680"/>
              <a:ext cx="8686800" cy="345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2520" y="2133720"/>
            <a:ext cx="8305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ing fine-grained information for decisions that enable the firm to coordinate both internal and external business processes much more precis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ping with decision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7200" y="1600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D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3434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ply chain management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relationship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05740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cing Deci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t Uti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ata Visualiz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esentation of data in graphical forms, to help users see patterns and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eographic Information Systems (GIS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al category of DSS that display geographically referenced data in digitized map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DS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00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A DSS for Customer Analysis and Seg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90720" y="2073240"/>
            <a:ext cx="7238880" cy="4772160"/>
            <a:chOff x="990720" y="2073240"/>
            <a:chExt cx="7238880" cy="4772160"/>
          </a:xfrm>
        </p:grpSpPr>
        <p:sp>
          <p:nvSpPr>
            <p:cNvPr id="168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990720" y="2073240"/>
              <a:ext cx="7238880" cy="4332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7600" y="2362320"/>
            <a:ext cx="8305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SS based on the Web and the Internet can support decision making by providing online access to various databases and information pools along with software for data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of these DSS are targeted toward management, but many have been developed to attract custom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324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eb-Based Customer Decision-Suppor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2209680"/>
            <a:ext cx="80769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decision making has become increasingly information intensive, with Internet search engines, intelligent agents, online catalogs, Web directories, e-mail, and other tools used to help make purchasing dec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decision-support systems (CDSS) support the decision-making process of an existing or potential custo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FOR DECISION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eb-based Customer Decision-Support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7680" y="228600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 how systems that support decision making can provide value for the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the challenges posed by decision-support systems, group decision-support systems, and executive support systems and managemen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7480" y="106668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34880" y="2590920"/>
            <a:ext cx="83059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roup Decision-Support System (GDS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 interactive computer-based system used to facilitate the solution of unstructured problems by a set of decision makers working together as a grou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384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What Is a GDS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22860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rdware (conference facility, audiovisual equipment, etc.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tools (Electronic questionnaires, brainstorming tools, voting tools, etc.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ople (Participants, trained facilitator, support staf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ree Main Components of GDS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2520" y="2209680"/>
            <a:ext cx="8305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a GDSS electronic meeting, each attendee has a work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workstations are networked and are connected to the facilitator’s console, which serves as the facilitator’s workstation and control panel, and to the meeting’s file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data that the attendees forward from their workstations to the group are collected and saved on the file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9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verview of a GDSS Mee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acilitator is able to project computer images onto the projection screen at the front of the ro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electronic meeting rooms have seating arrangements in semicircles and are tiered in legislative style to accommodate a large number of attend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acilitator controls the use of tools during the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523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Overview of a GDSS Meeting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Group System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2023920"/>
            <a:ext cx="5029200" cy="4821480"/>
            <a:chOff x="2057400" y="2023920"/>
            <a:chExt cx="5029200" cy="4821480"/>
          </a:xfrm>
        </p:grpSpPr>
        <p:sp>
          <p:nvSpPr>
            <p:cNvPr id="197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2057400" y="2023920"/>
              <a:ext cx="5029200" cy="45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5791320"/>
            <a:ext cx="205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Nunamaker et al., “Electronic Meeting Systems to Support Group Work,” Communication of the ACM, July 1991. Reprinted with permi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22399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ditional decision-mak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eetings support an optimal size of three to five attendees. GDSS allows a greater number of attend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 collaborative atmosphere by guaranteeing contributor’s anonym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 nonattendees to locate organized information after the mee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04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GD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2438280"/>
            <a:ext cx="830592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increase the number of ideas generated and the quality of decisions while producing the desired results in fewer meet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lead to more participative and democratic decision ma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DECISION-SUPPORT 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752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GDS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92000" y="2438280"/>
            <a:ext cx="7696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S can bring together data from all parts of the firm and enable managers to select, access, and tailor them as nee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tries to avoid the problem of data overload so common in paper repor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676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Role of Executive Support Systems in the 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62120" y="2133720"/>
            <a:ext cx="7848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ility to drill down is useful not only to senior executives but also to employees at lower levels of the firm who need to analyz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integrate comprehensive firmwide information and external data in timely 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on of modeling and analysis tools usable with a minimum of 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he Role of Executive Support Systems in the Firm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7240" y="2139840"/>
            <a:ext cx="769644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lity to analyze, compare, and highlight tre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phical interface enables users to review data more quickly and with more insight, speeding decision makin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liness and availability of data enables more timely decision making, help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es move toward a “sense-and-respond” strateg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6680" y="16239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Executive Suppor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 the daily arrival of 70 rail cars and 500 trucks to ensure just-in-time delivery of car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olutio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opt Transportation Efficiency Support System (TESYS) to synchronize the deliveries with available loading docks and production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new business processes for coordinating logistics with production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s the how IT enhances decision making and increases business process efficiency in a manufactur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5240" y="106668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imlerChrysler Bremen Plant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upper management span of control, better monito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S based on enterprise-wide d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used for decentralization of decision making or increase management central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Value of Executive Support System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95360" y="2843280"/>
            <a:ext cx="82296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our Star Distribu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ve  intelligence; global buying trends can be shared with manufacturers, distributors, sales representatives to get latest products to customer before selling season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040" y="1905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ecutive Support Systems and the Digital 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106668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SUPPORT IN THE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5909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Verizon Communications and Pharmacia Corpor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onitoring corporate performance with Digital Dashboards and Balanced Scorecard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Roadway Exp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Enterprise-Wide Reporting and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Executive Support Systems and the Digital Firm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74720" y="2716200"/>
            <a:ext cx="769608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-support systems provide opportunities for increasing precision, accuracy, and rapidity of decisions and thereby contributing directly to profi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960" y="2057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Opportun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0666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DECI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04880" y="2590920"/>
            <a:ext cx="7696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systems that can actually fulfill Executive Information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ing management thinking to make better use of systems for decision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al res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840" y="19461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Management Challe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10666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DECI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0280" y="2949480"/>
            <a:ext cx="8080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s must work with IS specialists to identify a problem and a specific set of capabilities that will help them arrive at decisions about the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stem must be flexible, easy to use, and capable of supporting alternative decision op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76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0666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DECI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2760" y="2286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lexible Design and Develop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320040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training, involvement, and experience; top management support; and length of use are the most important factors in the success of management support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0666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PPORTUNITIES, CHALLENGES AND DECI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514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raining and Management Suppo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1752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olution Guidelines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337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intelligence enables firm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600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Intelligence and Decision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5960" y="289548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ass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knowledge abou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decision-making behavior to achieve profitability and other business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200" y="1600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Systems and Technologies for Business Intellig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057400" y="2057400"/>
            <a:ext cx="5257800" cy="4788000"/>
            <a:chOff x="2057400" y="2057400"/>
            <a:chExt cx="5257800" cy="4788000"/>
          </a:xfrm>
        </p:grpSpPr>
        <p:sp>
          <p:nvSpPr>
            <p:cNvPr id="62" name=""/>
            <p:cNvSpPr/>
            <p:nvPr/>
          </p:nvSpPr>
          <p:spPr>
            <a:xfrm>
              <a:off x="3887640" y="64771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2057400" y="2057400"/>
              <a:ext cx="5257800" cy="44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320" y="16002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Business Decision Making and the Decision-Making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124080"/>
            <a:ext cx="80769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ior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ddle management and project t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al management and project t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 employ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362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-Making Levels: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447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Information Requirements of Key Decision-Making Groups in a 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95280" y="2198520"/>
            <a:ext cx="6934320" cy="4660920"/>
            <a:chOff x="1295280" y="2198520"/>
            <a:chExt cx="6934320" cy="4660920"/>
          </a:xfrm>
        </p:grpSpPr>
        <p:sp>
          <p:nvSpPr>
            <p:cNvPr id="73" name=""/>
            <p:cNvSpPr/>
            <p:nvPr/>
          </p:nvSpPr>
          <p:spPr>
            <a:xfrm>
              <a:off x="4039920" y="649116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13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1295280" y="2198520"/>
              <a:ext cx="6934320" cy="42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7680" y="2438280"/>
            <a:ext cx="80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Unstructured dec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1292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ypes of Deci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10666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MAKING AND DECISION-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76320"/>
            <a:ext cx="7772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pter 13 Enhancing Decision Making for the Digital Fir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560" y="312408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vel, non-routine decisions requiring judgment and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Approve capital budget; decide corporate objec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57:46Z</dcterms:created>
  <dc:creator>KL</dc:creator>
  <dc:description/>
  <dc:language>en-US</dc:language>
  <cp:lastModifiedBy>Pearson Education</cp:lastModifiedBy>
  <dcterms:modified xsi:type="dcterms:W3CDTF">2005-06-09T19:01:46Z</dcterms:modified>
  <cp:revision>4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98574025</vt:r8>
  </property>
  <property fmtid="{D5CDD505-2E9C-101B-9397-08002B2CF9AE}" pid="3" name="_AuthorEmail">
    <vt:lpwstr>Ana_Cordero@prenhall.com</vt:lpwstr>
  </property>
  <property fmtid="{D5CDD505-2E9C-101B-9397-08002B2CF9AE}" pid="4" name="_AuthorEmailDisplayName">
    <vt:lpwstr>Cordero, Ana</vt:lpwstr>
  </property>
  <property fmtid="{D5CDD505-2E9C-101B-9397-08002B2CF9AE}" pid="5" name="_EmailSubject">
    <vt:lpwstr>Laudon PPTs</vt:lpwstr>
  </property>
</Properties>
</file>