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  <p:custShowLst>
    <p:custShow name="Custom Show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</a:t>
            </a:r>
            <a:fld id="{67C171F6-38B4-4D43-8D99-5AC1E201252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6040" y="2744640"/>
            <a:ext cx="830592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Systems and Managing Chan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27432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eartland St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6653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Case Example: Capital Budgeting for a New Supply Chain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Management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280" y="3276720"/>
            <a:ext cx="7924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merchandise retail chain in eight Midwestern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ve regional distribution centers, 377 stores, and about 14,000 different products in each st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286000"/>
            <a:ext cx="8381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 software and hardware to upgrade its supply chain 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inventory and inventory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labor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telecommunications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transportation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080" y="164160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Investment strategy and goal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16002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sts and Benefits of the New SCM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1981080"/>
            <a:ext cx="5029200" cy="4864320"/>
            <a:chOff x="2133720" y="1981080"/>
            <a:chExt cx="5029200" cy="4864320"/>
          </a:xfrm>
        </p:grpSpPr>
        <p:sp>
          <p:nvSpPr>
            <p:cNvPr id="9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133720" y="1981080"/>
              <a:ext cx="5029200" cy="4564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16002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inancial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2120" y="1981080"/>
            <a:ext cx="7848360" cy="4864320"/>
            <a:chOff x="762120" y="1981080"/>
            <a:chExt cx="7848360" cy="4864320"/>
          </a:xfrm>
        </p:grpSpPr>
        <p:sp>
          <p:nvSpPr>
            <p:cNvPr id="97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762120" y="1981080"/>
              <a:ext cx="7848360" cy="453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4160" y="231444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Payback metho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asures the time required to pay back the initial investment of a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360" y="170496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Payback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4280" y="3549600"/>
            <a:ext cx="8524800" cy="946800"/>
            <a:chOff x="314280" y="3549600"/>
            <a:chExt cx="8524800" cy="946800"/>
          </a:xfrm>
        </p:grpSpPr>
        <p:sp>
          <p:nvSpPr>
            <p:cNvPr id="104" name=""/>
            <p:cNvSpPr/>
            <p:nvPr/>
          </p:nvSpPr>
          <p:spPr>
            <a:xfrm>
              <a:off x="630720" y="3549600"/>
              <a:ext cx="3029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iginal Invest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4280" y="4041720"/>
              <a:ext cx="358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7360" y="4041720"/>
              <a:ext cx="350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nual net cash in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3800" y="377820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1000" y="3778200"/>
              <a:ext cx="434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umber of years to pay 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33520" y="48006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eartland Stor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More than 2 years to pay back initial inves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86000"/>
            <a:ext cx="85341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s rate of return by adjusting the cash inflow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d by the investment for de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701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net benef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" y="4495680"/>
            <a:ext cx="8852760" cy="1000080"/>
            <a:chOff x="228600" y="4495680"/>
            <a:chExt cx="8852760" cy="1000080"/>
          </a:xfrm>
        </p:grpSpPr>
        <p:sp>
          <p:nvSpPr>
            <p:cNvPr id="115" name=""/>
            <p:cNvSpPr/>
            <p:nvPr/>
          </p:nvSpPr>
          <p:spPr>
            <a:xfrm>
              <a:off x="559080" y="4495680"/>
              <a:ext cx="629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Total benefits - Total cost - Depreci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8600" y="5037120"/>
              <a:ext cx="662292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02080" y="5041080"/>
              <a:ext cx="1653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seful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0560" y="474912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24200" y="4787640"/>
              <a:ext cx="175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t benef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99880" y="1741320"/>
            <a:ext cx="853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ccounting Rate of Return on Investment (RO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520" y="22147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ROI by dividing net benefit by the total initial inves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3854520"/>
            <a:ext cx="6279480" cy="946800"/>
            <a:chOff x="1066680" y="3854520"/>
            <a:chExt cx="6279480" cy="946800"/>
          </a:xfrm>
        </p:grpSpPr>
        <p:sp>
          <p:nvSpPr>
            <p:cNvPr id="125" name=""/>
            <p:cNvSpPr/>
            <p:nvPr/>
          </p:nvSpPr>
          <p:spPr>
            <a:xfrm>
              <a:off x="1066680" y="3854520"/>
              <a:ext cx="607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t benef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43600" y="4346640"/>
              <a:ext cx="3488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tal initial invest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10080" y="408312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2200" y="4118040"/>
              <a:ext cx="72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O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95280" y="4388040"/>
              <a:ext cx="403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66680" y="5562720"/>
            <a:ext cx="716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rtland Stores ROI: 2.93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2860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resent valu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e value in current dollars of a payment or stream of payments to be received in the fu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be calculated by using the following formul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1280" y="16416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t Present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71600" y="4724280"/>
            <a:ext cx="7116120" cy="946800"/>
            <a:chOff x="1371600" y="4724280"/>
            <a:chExt cx="7116120" cy="946800"/>
          </a:xfrm>
        </p:grpSpPr>
        <p:sp>
          <p:nvSpPr>
            <p:cNvPr id="136" name=""/>
            <p:cNvSpPr/>
            <p:nvPr/>
          </p:nvSpPr>
          <p:spPr>
            <a:xfrm>
              <a:off x="1623960" y="4724280"/>
              <a:ext cx="6072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- (1+interest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5320" y="521640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73840" y="492588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4908240"/>
              <a:ext cx="182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yment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24440" y="521316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25200" y="490824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sent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520" y="160020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t present valu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mount of money an investment is worth, taking into account its cost, earnings, and the time value of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1200" y="538164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value of expected cash flows - Initial investment cost = Net present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" y="2894040"/>
            <a:ext cx="77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 present value of stream of benefit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71600" y="3625920"/>
            <a:ext cx="7116120" cy="946800"/>
            <a:chOff x="1371600" y="3625920"/>
            <a:chExt cx="7116120" cy="946800"/>
          </a:xfrm>
        </p:grpSpPr>
        <p:sp>
          <p:nvSpPr>
            <p:cNvPr id="148" name=""/>
            <p:cNvSpPr/>
            <p:nvPr/>
          </p:nvSpPr>
          <p:spPr>
            <a:xfrm>
              <a:off x="1623960" y="3625920"/>
              <a:ext cx="6072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- (1+Interest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95320" y="411804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73840" y="382752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1600" y="3809880"/>
              <a:ext cx="182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yment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440" y="411480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5200" y="380988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sent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28640" y="4800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  Calculate net present valu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2743200"/>
            <a:ext cx="7467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rtland Stores present value = $21,625,7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ment cost = $11,467,3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 Present value = $10,158,35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09560" y="21337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models for understanding the business value of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e the principal causes of information system fail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the change management requirements for building successful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320" y="1600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st-Benefit Ra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880" y="2057400"/>
            <a:ext cx="8281800" cy="946440"/>
            <a:chOff x="380880" y="2057400"/>
            <a:chExt cx="8281800" cy="946440"/>
          </a:xfrm>
        </p:grpSpPr>
        <p:sp>
          <p:nvSpPr>
            <p:cNvPr id="162" name=""/>
            <p:cNvSpPr/>
            <p:nvPr/>
          </p:nvSpPr>
          <p:spPr>
            <a:xfrm>
              <a:off x="380880" y="2057400"/>
              <a:ext cx="5234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tal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27960" y="2549160"/>
              <a:ext cx="179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tal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95600" y="228564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00520" y="232056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st-benefit rat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04680" y="254628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66680" y="3809880"/>
            <a:ext cx="88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rofitability Index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used to compare the profitability of alternative invest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36560" y="4687920"/>
            <a:ext cx="8853480" cy="946800"/>
            <a:chOff x="736560" y="4687920"/>
            <a:chExt cx="8853480" cy="946800"/>
          </a:xfrm>
        </p:grpSpPr>
        <p:sp>
          <p:nvSpPr>
            <p:cNvPr id="169" name=""/>
            <p:cNvSpPr/>
            <p:nvPr/>
          </p:nvSpPr>
          <p:spPr>
            <a:xfrm>
              <a:off x="826920" y="4687920"/>
              <a:ext cx="457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sent value of cash infl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60720" y="5180040"/>
              <a:ext cx="179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vest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51560" y="4916520"/>
              <a:ext cx="38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56120" y="4951440"/>
              <a:ext cx="373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fitability ind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6560" y="5221080"/>
              <a:ext cx="481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rtland Stores Profitability Index: 1.89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048120"/>
            <a:ext cx="830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rtland Stores Cost-Benefit Ratio: 1.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416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e of return or profit that an investment is expected to earn, taking into account the time value of mon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scount (interest) rate that will equate the present value of the project’s future cash flows to the initial cost of the pro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iscount rate) is such that Present value – Initial cost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4160" y="1600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nal Rate of Return (IRR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5715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rtland Stores IRR: 33%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8280" y="3048120"/>
            <a:ext cx="8169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overall understanding of where the firm is making information technology 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inventory of all information systems projects and assets, including infrastructure, outsourcing contracts, and licen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s risk and benefit profiles to IS investm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600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rategic Consid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057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ortfolio Analys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514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eks to devel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16002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System Portfo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295280" y="2057400"/>
            <a:ext cx="6782040" cy="4788000"/>
            <a:chOff x="1295280" y="2057400"/>
            <a:chExt cx="6782040" cy="4788000"/>
          </a:xfrm>
        </p:grpSpPr>
        <p:sp>
          <p:nvSpPr>
            <p:cNvPr id="19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1295280" y="2057400"/>
              <a:ext cx="6782040" cy="4429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520" y="2122560"/>
            <a:ext cx="8610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quick and sometimes compelling method for arriving at a decision on alternative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important outcome of a scoring model is not the score but agreement on the criteria used to judge a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st practice is to cycle through the scoring model several times, changing the criteria and weights, to see how sensitive the outcome is to reasonable changes in criter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520" y="1600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coring Mode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1440" y="2209680"/>
            <a:ext cx="8610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s the financial industry concept of options val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option is the right, but not obligation, to act at a future d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initial expenditure on IS technology creates the right, but not the obligation, to obtain the benefits associated with further development and deployment of the technolo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636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al Options Pricing Models (ROP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2743200"/>
            <a:ext cx="754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 invest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annot be traded on a market and differ in value based on the fi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s, such as prior expertise, skilled labor force, market conditions, and other facto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828800"/>
            <a:ext cx="7467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al Options Pricing Models (ROPM)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4760" y="1809720"/>
            <a:ext cx="9039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of IT project (real option) is a function of the follow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2560" y="253836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of underlying IT asset (present value of expected revenu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atility of value of asset (exercise pri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sk-free interest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tion time to maturity (length of project defer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520" y="2139840"/>
            <a:ext cx="8610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y program that uses information technology to change business processes requires knowledge 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 of the knowledge used to produce improved outputs of the new process can be used as a measure of the valu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inputs can be measured in terms of learning time to master a new process, and a return on knowledge can be estim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4160" y="15825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Value-Added Approa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2370240"/>
            <a:ext cx="754380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vity is a measure of the firm’s efficiency in converting inputs to outputs. It refers to the amount of capital and labor required to produce a unit of outp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technology has increased productivity in manufacturing, but productivity gains in service sector are uncle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8600" y="1695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Technology Investments and Produ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666880"/>
            <a:ext cx="7924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appropriate strategies to manage the system implementation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challenges posed by implementing new systems and management sol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5909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ibution of IT to productivity in information and knowledge industries is difficult to quantif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technology investments are more likely to improve firm performance if  accompanied by complementary investments in new business processes, organizational structures, and organizational lear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600200"/>
            <a:ext cx="876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Technology Investments and Productivity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1600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Systems Problem Ar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362320" y="2133720"/>
            <a:ext cx="4495680" cy="4711680"/>
            <a:chOff x="2362320" y="2133720"/>
            <a:chExt cx="4495680" cy="4711680"/>
          </a:xfrm>
        </p:grpSpPr>
        <p:sp>
          <p:nvSpPr>
            <p:cNvPr id="225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2362320" y="2133720"/>
              <a:ext cx="4495680" cy="4379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2120" y="253368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ay fail to capture essential business requirements or improve organizational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may not be timel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may be in a format that is difficult to understand or have a poor user interf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9065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sig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3520" y="2438280"/>
            <a:ext cx="8305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ata in the system may have a high level of inaccuracy or inconsistency, may be inaccessible or incomple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828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4495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systems operate quite smoothly, but their costs to implement and run on a production basis may be way over budge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886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243828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stem does not run well or breaks down and information is not provided in a timely and efficient mann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response time is too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 problems can be attributed to technical features, but most stem from organizational fact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1828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per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71440" y="3090960"/>
            <a:ext cx="8610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lement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ll organizational activities working toward the adoption, management, and routinization of a new system change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7280" y="2247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hange Management and the Concept of Imple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4920" y="2895480"/>
            <a:ext cx="8610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stems analyst who develops technical solutions and redefines the configurations, interactions, job activities, and power relationships of various organizational grou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s as catalyst for the entire change process and is responsible for ensuring that all parties involved accept the changes created by a new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828800"/>
            <a:ext cx="8610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hange Management and the Concept of Implementa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880" y="19810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Success or Failure Fa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133720" y="2428920"/>
            <a:ext cx="5029200" cy="4416480"/>
            <a:chOff x="2133720" y="2428920"/>
            <a:chExt cx="5029200" cy="4416480"/>
          </a:xfrm>
        </p:grpSpPr>
        <p:sp>
          <p:nvSpPr>
            <p:cNvPr id="253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2133720" y="2428920"/>
              <a:ext cx="5029200" cy="408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>
            <a:off x="380880" y="16002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auses of Implementation Success and Fail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68440" y="2398680"/>
            <a:ext cx="8034120" cy="36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users are heavily involved in systems design, they have more opportunities to mold the system according to their priorities and business requirements and control the outc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users are more likely to react positively to the completed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6120" y="17654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User Involvement and Influe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36520" y="22096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s can have limited understanding of other issues an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6120" y="16351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User-Designer Communications Ga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6280" y="32004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Support and Commit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3809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itment of manageme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4956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formation systems project usually results in a more positive perception and acceptance by users and the technical servic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 the organization and business processes at one of the world’s largest retail banking firms in order to support V-Bank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olutio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lop new business processes, retrain workforce, develop a customer-centric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 customers in the use of new digital banking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s the importance of changing the organization and culture in a business to support technology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57760" y="1066680"/>
            <a:ext cx="351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SBC Malaysia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4160" y="2496960"/>
            <a:ext cx="8610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backing also ensures that a systems project receives sufficient funding and resources to be successf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the changes in work habits and procedures and any organizational realignment associated with a new system depend on management ba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82880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Support and Commitment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2743200"/>
            <a:ext cx="8305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level of project risk is influen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981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Level of Complexity and Ris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8880" y="34290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vel of technical expertise of the information systems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f the Implementation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04920" y="3195720"/>
            <a:ext cx="8458200" cy="3649680"/>
            <a:chOff x="304920" y="3195720"/>
            <a:chExt cx="8458200" cy="3649680"/>
          </a:xfrm>
        </p:grpSpPr>
        <p:pic>
          <p:nvPicPr>
            <p:cNvPr id="280" name="" descr=""/>
            <p:cNvPicPr/>
            <p:nvPr/>
          </p:nvPicPr>
          <p:blipFill>
            <a:blip r:embed="rId2"/>
            <a:stretch/>
          </p:blipFill>
          <p:spPr>
            <a:xfrm>
              <a:off x="304920" y="3195720"/>
              <a:ext cx="845820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312920" y="2286000"/>
            <a:ext cx="6563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equences of Poor Projec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28600" y="2514600"/>
            <a:ext cx="8610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s that vastly exceed budg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expected time slipp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al shortfalls resulting in performance that is significantly below the estimated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440" y="189864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kely Consequences of Poor Project Managemen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25909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obtain anticipated benef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le reasons for poor manag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3657600"/>
            <a:ext cx="7543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gnorance and optim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ythical man-mon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lling behind: Bad news travels slowly up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676520"/>
            <a:ext cx="85345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kely Consequences of Poor Project Managemen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7280" y="15890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hange Management Challenges for Business Process Reengineering, Enterprise Applications, and Mergers and Acqui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3840" y="2824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ccessful implementation includes addressing employees’ concerns about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3520" y="388620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ce by key mana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ing job functions, career paths, recruitment pract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89080" y="3733920"/>
            <a:ext cx="8626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in market share and expertise very quick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al issues incl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e organizational characteristics of the merging companies and IT infrastru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4080" y="1835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ystem Implications of Mergers and Acquisitions (M&amp;A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120" y="2514600"/>
            <a:ext cx="8199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re major growth engines for businesses, enabling firm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251460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stic costs of inte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d benefits of economies in operation, scope, knowledge, and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atic systems that require major investments to integ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than 70 percent of all M&amp;As result in a decline in shareholder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99072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CHANGE MANAGEMENT IN INFORMATION SYSTEMS SUCCESS AND FAIL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600200"/>
            <a:ext cx="9144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ystem Implementation of Mergers and Acquisitions (M&amp;As)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technical complex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mal planning and contro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user involvement and overcoming user resistanc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9051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ntrolling Risk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106668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MPLEMEN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0880" y="23623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ternal integration tool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ays to link the work of the implementation team to users at all organizational lev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unter implement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liberate strategy to thwart the implementation of an information system or an innovation in an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1066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MPLEMEN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1752480"/>
            <a:ext cx="74818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technical complexity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8001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s with 12-24 month objec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nger periods infrastructure invest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600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wo kinds of IS invest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34340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ment in business processes to increase firm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ments in management decision m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733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wo ways for producing valu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1600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ormal Planning and Control Tools Help to Manage Information Systems Projects Successfu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819520" y="2438280"/>
            <a:ext cx="3732120" cy="4407120"/>
            <a:chOff x="2819520" y="2438280"/>
            <a:chExt cx="3732120" cy="4407120"/>
          </a:xfrm>
        </p:grpSpPr>
        <p:sp>
          <p:nvSpPr>
            <p:cNvPr id="317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5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2819520" y="2438280"/>
              <a:ext cx="373212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1219320" y="1066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MPLEMEN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09480" y="281952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development must address how the organization will change when the new system is installed, including installation of intranets, extranets, and Web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al impact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5960" y="1969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signing for the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19320" y="1066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MPLEMEN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33520" y="2590920"/>
            <a:ext cx="739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owing for the human 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35268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 performance stand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gonom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1066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MPLEMEN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1828800"/>
            <a:ext cx="792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signing for the Organization: 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251460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s workgroup organization and impacts from technical sol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ends technical efficiency with sensitivity to human and organizational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productivity without sacrificing human and social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752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ciotechnical Desig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1066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MPLEMEN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3520" y="32767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 the change proces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urately calculate the costs and benefits of the invest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1600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pportun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22096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 information systems can produce extraordinarily high returns if system builders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14400" y="2666880"/>
            <a:ext cx="7391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ing system benefits and costs when they are difficult to quantif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the complexity of large-scale systems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1981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3048120"/>
            <a:ext cx="7924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ll documentation of the firm’s applications and IT infrastructure and periodic reviews of the firm’s IT portfo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of appropriate metrics for monitoring project outco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1600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2133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ing more value from information technology investmen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762120" y="2438280"/>
            <a:ext cx="7848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sure IS investments are closely linked to business objectiv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ear identification of project risks and returns, with real options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business value throughout the duration of new system projects and weed out underperforming projects if necess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1828800"/>
            <a:ext cx="533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04920" y="25909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uming an enterprise-wide focus, driven by the firm’s strategic business vision and technology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ving problems and meeting challenges as they arise rather than simply meeting formal project milest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phasize learning as well as planning, seeking ways to adapt to unforeseen uncertainties and chaos that, if properly handled, could provide additional opportunities and benef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2057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w approaches to project manag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1600200"/>
            <a:ext cx="504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120" y="2666880"/>
            <a:ext cx="8305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engthening firm strategically (ties to partners, customers, increasing flexibility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abling future implementation of new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972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dditional IS value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440" y="22096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apital Budgeti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 of analyzing and selecting various proposals for capital expendi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aditional Capital Budgeting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520" y="3200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apital expendi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080" y="380988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and production to meet anticipated dem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rnize production equipment to reduce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noneconomic, e.g. installing pollution control equi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yback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ccounting rate of return on investment (RO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t present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st-benefit rat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fitability ind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ternal rate of return (IR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752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x capital budgeting models for evaluating capital projec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1066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THE BUSINESS VALUE OF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141640"/>
            <a:ext cx="815328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express the risks and uncertainty of their own costs and benefits estim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s and benefits do not occur in the same time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lation may affect costs and benefits different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angible benefits are difficult to quantif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6360" y="1612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Limitations of Financial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5 Understanding the Business Value of System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ing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19:50:31Z</dcterms:modified>
  <cp:revision>6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66168676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</vt:lpwstr>
  </property>
</Properties>
</file>