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.</a:t>
            </a:r>
            <a:fld id="{00661973-7492-4ABC-AA3A-4BCD5E342A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hyperlink" Target="http://www.cia.gov/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987640"/>
            <a:ext cx="83055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3623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mark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production and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ord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workfo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economies of sc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pecific business fac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1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Challe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3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ltural particularis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gionalism, nationalism, language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cial expectation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rand-name expectations, work h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litical law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ransborder data and privacy laws, commercial reg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98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r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63244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1337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andards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ic Data Interchange (EDI), telecommunications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liabil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networks not uniformly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peed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data transfer speeds, many slower than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ersonnel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ages of skilled consul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pecifi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6324480"/>
            <a:ext cx="335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2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5400" y="2336760"/>
            <a:ext cx="723888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kinds of organizational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zed (in the home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ed (to local foreign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ed (all units participate as equal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240" y="1654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Strategies and Business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2860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vy centralization of corporate activities in the home country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752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omestic exporter strate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133880"/>
            <a:ext cx="7619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zed financial management and control while decentralizing production, sales, and marketing operations to units in other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505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ultinational strate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06388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duct is financed and initially produced in the home country, but for product-specific reasons rely on foreign personnel for further production, marketing, and human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6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ranchis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7761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-adding activities are managed from a global perspective without reference to national borders, optimizing sources of supply and demand wherever they appear, and taking advantage of any local competitive 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809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nsnational strate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1600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Systems to Fit th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280" y="204156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Strategy and Systems Configu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2280" y="2743200"/>
            <a:ext cx="8839440" cy="4102200"/>
            <a:chOff x="152280" y="2743200"/>
            <a:chExt cx="8839440" cy="4102200"/>
          </a:xfrm>
        </p:grpSpPr>
        <p:sp>
          <p:nvSpPr>
            <p:cNvPr id="122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8839440" cy="302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9560" y="26668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entraliz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s development and operation occur totally at the domestic home 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uplicat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ment occurs at the home base but operations are handed over to autonomous units in foreign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828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r types of systems configur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43828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entraliz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foreign unit designs its own unique solutions and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4.   Network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s development and operations occur in an integrated and coordinated fashion across all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752480"/>
            <a:ext cx="761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r types of systems configuration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360" y="28954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value-adding activities along lines of comparative advan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and operate systems units at each level of corporate activity —regional, national, and 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at world headquar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organizing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velop a global company and information systems support struct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major factors driving the internationalization of bus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 strategies for developing global busin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 how information systems can support different global business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GLOBAL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23004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eeing on common user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ng changes in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application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software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ing local users to support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160" y="1652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 in Developing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6172200"/>
            <a:ext cx="182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GLOBAL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fine the core business process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duct workflow analysis, identify centers of excellence for these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dentify the core systems to coordinate centrall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quer the core systems and define these systems as truly trans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oose an approach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cremental, Grand Design, Evolutio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 the Benefits C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530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Systems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1600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ocal, Regional, and Glob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GLOBAL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47920" y="2071800"/>
            <a:ext cx="6095880" cy="4788000"/>
            <a:chOff x="1447920" y="2071800"/>
            <a:chExt cx="6095880" cy="4788000"/>
          </a:xfrm>
        </p:grpSpPr>
        <p:sp>
          <p:nvSpPr>
            <p:cNvPr id="150" name=""/>
            <p:cNvSpPr/>
            <p:nvPr/>
          </p:nvSpPr>
          <p:spPr>
            <a:xfrm>
              <a:off x="3735360" y="64915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1447920" y="2071800"/>
              <a:ext cx="6095880" cy="45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0" y="5486400"/>
            <a:ext cx="2666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formation Technology in Multinational Corpor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by Edard M. roche, copyright 199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98520"/>
            <a:ext cx="79246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ing platforms and systems integ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global, distributed, and integrated systems to support digital business processes spanning nation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same hardware and operating system does not guarantee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data and technical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90520" y="1565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echnology Challenges of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3124080"/>
            <a:ext cx="69339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disparate national technical standards, data exchange restrictions and servi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of Internet technology to create global intranets, extranets, virtual private networks (VP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743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nne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905120"/>
            <a:ext cx="822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echnology Challenges of Global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1512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et Population in Selected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3960" y="1981080"/>
            <a:ext cx="3759120" cy="4864320"/>
            <a:chOff x="2793960" y="1981080"/>
            <a:chExt cx="3759120" cy="4864320"/>
          </a:xfrm>
        </p:grpSpPr>
        <p:sp>
          <p:nvSpPr>
            <p:cNvPr id="16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793960" y="1981080"/>
              <a:ext cx="375912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715000"/>
            <a:ext cx="2514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s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IA World Factboo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2003;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 Industry Almana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 and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www.cia.g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ccessed November 9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of new interfac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ng new systems with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ces in language and conven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20356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 challenges for application softw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200400"/>
            <a:ext cx="7467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sourcing portions of new systems like development work or maintenance of existing systems to external vendors in another cou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ffshore software outsourc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671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ing Global Software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760" y="252108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dor selec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management and knowledge transfer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mestic human resources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752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jor cost components of offshore software develop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81952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of improving software develop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of adjusting to cultural differ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of managing an offshore contr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752480"/>
            <a:ext cx="899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jor cost components of offshore software development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2514600"/>
            <a:ext cx="8001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issues and technical alternatives to be considered when developing international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global information systems and management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1600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otal Cost of Outsour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0880" y="2133720"/>
            <a:ext cx="8458200" cy="4711680"/>
            <a:chOff x="380880" y="2133720"/>
            <a:chExt cx="8458200" cy="4711680"/>
          </a:xfrm>
        </p:grpSpPr>
        <p:sp>
          <p:nvSpPr>
            <p:cNvPr id="19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380880" y="2133720"/>
              <a:ext cx="8458200" cy="40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905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895480"/>
            <a:ext cx="75438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to lower costs through global scale economies by building international systems for producing and selling goods and services in different regions of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286000"/>
            <a:ext cx="739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the right global 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of managing change in a multicultural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of achieving global connectivity and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28600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eeing on common user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ng changes in business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applications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software rele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ing local users to support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lfill customer orders made to a network of forty subsidiaries in Europe, Asia, and North America whose systems could not share data with one an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a single corporate database and use middleware with standard interfaces to connect all the subsidiary’s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ingle worldwide data model with standard definitions and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role of systems in an international environment for reducing inventory and business process costs worldwi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83240" y="1028880"/>
            <a:ext cx="37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rager Safety AG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Product Development and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371600" y="2019240"/>
            <a:ext cx="6400800" cy="4826160"/>
            <a:chOff x="1371600" y="2019240"/>
            <a:chExt cx="6400800" cy="4826160"/>
          </a:xfrm>
        </p:grpSpPr>
        <p:sp>
          <p:nvSpPr>
            <p:cNvPr id="58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371600" y="2019240"/>
              <a:ext cx="6400800" cy="447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49160" y="3124080"/>
            <a:ext cx="7543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asic information systems required by organizations to coordinate worldwide trade and oth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4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veloping an International Information Systems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ational information systems architect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88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orce in the environment to which businesses must respond and that influences the direction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59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dri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5476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ational Information Systems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360520" y="2048040"/>
            <a:ext cx="4421160" cy="4797360"/>
            <a:chOff x="2360520" y="2048040"/>
            <a:chExt cx="4421160" cy="4797360"/>
          </a:xfrm>
        </p:grpSpPr>
        <p:sp>
          <p:nvSpPr>
            <p:cNvPr id="7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360520" y="2048040"/>
              <a:ext cx="4421160" cy="4505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7320" y="16178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Global Environment: Business Drivers and Challe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0640" y="2305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lobal business drivers can be divided into two grou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6800" y="4038480"/>
            <a:ext cx="77724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mmunication and transportation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global cul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0640" y="34592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ral cultural fac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6242040"/>
            <a:ext cx="25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2895480"/>
            <a:ext cx="6172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e of global social n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l s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knowledg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943600"/>
            <a:ext cx="365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1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905120"/>
            <a:ext cx="609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ral Cultural Factor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9:55:40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20891069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