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  <p:custShowLst>
    <p:custShow name="Custom Show 1" id="0">
      <p:sldLst>
        <p:sld r:id="rId3"/>
        <p:sld r:id="rId4"/>
        <p:sld r:id="rId5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08800"/>
            <a:ext cx="69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.</a:t>
            </a:r>
            <a:fld id="{14A27445-07D5-43AF-9804-7A6B0A130DB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45200" y="6553080"/>
            <a:ext cx="23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 by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hyperlink" Target="http://www.cia.gov/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127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81880" y="16524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987640"/>
            <a:ext cx="83055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OWTH OF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3623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mark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production and oper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coord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workfo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economies of sc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pecific business facto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19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6-1 (Continu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OWTH OF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1676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Challen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74320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ultural particularism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egionalism, nationalism, language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cial expectation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rand-name expectations, work hou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olitical law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ransborder data and privacy laws, commercial regul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1398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ener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6324480"/>
            <a:ext cx="167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6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OWTH OF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1337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tandards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nic Data Interchange (EDI), telecommunications standa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eliabilit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networks not uniformly re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peed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data transfer speeds, many slower than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ersonnel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ortages of skilled consul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pecific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6324480"/>
            <a:ext cx="3352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6-2 (Continu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5400" y="2336760"/>
            <a:ext cx="7238880" cy="32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kinds of organizational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ized (in the home coun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entralized (to local foreign un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ted (all units participate as equal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240" y="1654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lobal Strategies and Business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2860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avy centralization of corporate activities in the home country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752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omestic exporter strateg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133880"/>
            <a:ext cx="76197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ized financial management and control while decentralizing production, sales, and marketing operations to units in other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505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ultinational strateg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063880"/>
            <a:ext cx="7619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duct is financed and initially produced in the home country, but for product-specific reasons rely on foreign personnel for further production, marketing, and human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565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ranchis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343400"/>
            <a:ext cx="7761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value-adding activities are managed from a global perspective without reference to national borders, optimizing sources of supply and demand wherever they appear, and taking advantage of any local competitive advan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809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ransnational strateg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90720" y="1600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lobal Systems to Fit the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7280" y="204156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Strategy and Systems Configu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52280" y="2743200"/>
            <a:ext cx="8839440" cy="4102200"/>
            <a:chOff x="152280" y="2743200"/>
            <a:chExt cx="8839440" cy="4102200"/>
          </a:xfrm>
        </p:grpSpPr>
        <p:sp>
          <p:nvSpPr>
            <p:cNvPr id="122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6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52280" y="2743200"/>
              <a:ext cx="8839440" cy="3022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9560" y="2666880"/>
            <a:ext cx="784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entralized system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ystems development and operation occur totally at the domestic home b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uplicated system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velopment occurs at the home base but operations are handed over to autonomous units in foreign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8288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our types of systems configur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438280"/>
            <a:ext cx="7238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centralized system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ach foreign unit designs its own unique solutions and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4.   Networked system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ystems development and operations occur in an integrated and coordinated fashion across all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752480"/>
            <a:ext cx="761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our types of systems configuration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360" y="289548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value-adding activities along lines of comparative advant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and operate systems units at each level of corporate activity —regional, national, and intern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at world headquar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eorganizing th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9810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velop a global company and information systems support structu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2096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the major factors driving the internationalization of busi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e strategies for developing global busin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onstrate how information systems can support different global business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574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GLOBAL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23004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greeing on common user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ing changes in business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ting applications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ting software rel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couraging local users to support global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160" y="165276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Challenges in Developing Global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6172200"/>
            <a:ext cx="1828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6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GLOBAL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20574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fine the core business process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duct workflow analysis, identify centers of excellence for these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dentify the core systems to coordinate centrall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quer the core systems and define these systems as truly trans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hoose an approach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cremental, Grand Design, Evolution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ke the Benefits Cl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1530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lobal Systems Strate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90720" y="1600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Local, Regional, and Globa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GLOBAL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447920" y="2071800"/>
            <a:ext cx="6095880" cy="4788000"/>
            <a:chOff x="1447920" y="2071800"/>
            <a:chExt cx="6095880" cy="4788000"/>
          </a:xfrm>
        </p:grpSpPr>
        <p:sp>
          <p:nvSpPr>
            <p:cNvPr id="150" name=""/>
            <p:cNvSpPr/>
            <p:nvPr/>
          </p:nvSpPr>
          <p:spPr>
            <a:xfrm>
              <a:off x="3735360" y="64915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6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1447920" y="2071800"/>
              <a:ext cx="6095880" cy="450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>
            <a:off x="0" y="5486400"/>
            <a:ext cx="2666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apted fro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formation Technology in Multinational Corpora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by Edard M. roche, copyright 199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ISSUES AND OPPORTUNITIES FOR GLOBAL VALUE CH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198520"/>
            <a:ext cx="7924680" cy="41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uting platforms and systems integr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global, distributed, and integrated systems to support digital business processes spanning national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of same hardware and operating system does not guarantee integ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data and technical standa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90520" y="1565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echnology Challenges of Global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ISSUES AND OPPORTUNITIES FOR GLOBAL VALUE CH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3124080"/>
            <a:ext cx="69339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vercoming disparate national technical standards, data exchange restrictions and service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r of Internet technology to create global intranets, extranets, virtual private networks (VPN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2743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nnectiv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1905120"/>
            <a:ext cx="822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echnology Challenges of Global System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90720" y="15127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ternet Population in Selected Count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93960" y="1981080"/>
            <a:ext cx="3759120" cy="4864320"/>
            <a:chOff x="2793960" y="1981080"/>
            <a:chExt cx="3759120" cy="4864320"/>
          </a:xfrm>
        </p:grpSpPr>
        <p:sp>
          <p:nvSpPr>
            <p:cNvPr id="165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6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2793960" y="1981080"/>
              <a:ext cx="3759120" cy="45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ISSUES AND OPPORTUNITIES FOR GLOBAL VALUE CH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5715000"/>
            <a:ext cx="2514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s: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IA World Factboo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2003;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uter Industry Almana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; and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3"/>
              </a:rPr>
              <a:t>www.cia.go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ccessed November 9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ISSUES AND OPPORTUNITIES FOR GLOBAL VALUE CH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t of new interface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ng new systems with 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ces in language and conven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ftwa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20356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ique challenges for application softwa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ISSUES AND OPPORTUNITIES FOR GLOBAL VALUE CH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3200400"/>
            <a:ext cx="7467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tsourcing portions of new systems like development work or maintenance of existing systems to external vendors in another coun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514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ffshore software outsourc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6714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ing Global Software Develo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ISSUES AND OPPORTUNITIES FOR GLOBAL VALUE CH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2760" y="252108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ndor selection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ition management and knowledge transfer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mestic human resources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1752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jor cost components of offshore software develop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ISSUES AND OPPORTUNITIES FOR GLOBAL VALUE CH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2819520"/>
            <a:ext cx="8686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ts of improving software development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ts of adjusting to cultural differ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t of managing an offshore contr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1752480"/>
            <a:ext cx="899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jor cost components of offshore software development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2514600"/>
            <a:ext cx="8001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e the issues and technical alternatives to be considered when developing international information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the challenges posed by global information systems and management solu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74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90720" y="1600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otal Cost of Outsourc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ISSUES AND OPPORTUNITIES FOR GLOBAL VALUE CH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0880" y="2133720"/>
            <a:ext cx="8458200" cy="4711680"/>
            <a:chOff x="380880" y="2133720"/>
            <a:chExt cx="8458200" cy="4711680"/>
          </a:xfrm>
        </p:grpSpPr>
        <p:sp>
          <p:nvSpPr>
            <p:cNvPr id="191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6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380880" y="2133720"/>
              <a:ext cx="8458200" cy="4008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, AND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9051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Opportuni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895480"/>
            <a:ext cx="75438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ility to lower costs through global scale economies by building international systems for producing and selling goods and services in different regions of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286000"/>
            <a:ext cx="7391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the right global business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of managing change in a multicultural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of achieving global connectivity and integ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1600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Challen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, AND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286000"/>
            <a:ext cx="8305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greeing on common user 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ing changes in business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ting applications develo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ting software relea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couraging local users to support global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lution Guidelin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0666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, AND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hallen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lfill customer orders made to a network of forty subsidiaries in Europe, Asia, and North America whose systems could not share data with one an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olution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velop a single corporate database and use middleware with standard interfaces to connect all the subsidiary’s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single worldwide data model with standard definitions and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trates the role of systems in an international environment for reducing inventory and business process costs worldwid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83240" y="1028880"/>
            <a:ext cx="374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rager Safety AG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OWTH OF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600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lobal Product Development and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371600" y="2019240"/>
            <a:ext cx="6400800" cy="4826160"/>
            <a:chOff x="1371600" y="2019240"/>
            <a:chExt cx="6400800" cy="4826160"/>
          </a:xfrm>
        </p:grpSpPr>
        <p:sp>
          <p:nvSpPr>
            <p:cNvPr id="58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6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371600" y="2019240"/>
              <a:ext cx="6400800" cy="4476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49160" y="3124080"/>
            <a:ext cx="7543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basic information systems required by organizations to coordinate worldwide trade and other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47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veloping an International Information Systems Archite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514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ternational information systems architectu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OWTH OF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880" y="49528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force in the environment to which businesses must respond and that influences the direction of th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459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driv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15476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ternational Information Systems Archite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OWTH OF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360520" y="2048040"/>
            <a:ext cx="4421160" cy="4797360"/>
            <a:chOff x="2360520" y="2048040"/>
            <a:chExt cx="4421160" cy="4797360"/>
          </a:xfrm>
        </p:grpSpPr>
        <p:sp>
          <p:nvSpPr>
            <p:cNvPr id="71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6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2360520" y="2048040"/>
              <a:ext cx="4421160" cy="4505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7320" y="161784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Global Environment: Business Drivers and Challen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0640" y="2305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global business drivers can be divided into two group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OWTH OF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6800" y="4038480"/>
            <a:ext cx="77724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communication and transportation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of global cul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0640" y="34592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eneral cultural facto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6242040"/>
            <a:ext cx="259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6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6668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6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106668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OWTH OF INTERNATIONAL INFORMATION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2895480"/>
            <a:ext cx="6172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ergence of global social n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al s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knowledg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5943600"/>
            <a:ext cx="3657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6-1 (Continu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905120"/>
            <a:ext cx="609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eneral Cultural Factor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9:57:46Z</dcterms:created>
  <dc:creator>KL</dc:creator>
  <dc:description/>
  <dc:language>en-US</dc:language>
  <cp:lastModifiedBy>Pearson Education</cp:lastModifiedBy>
  <dcterms:modified xsi:type="dcterms:W3CDTF">2005-06-09T19:55:40Z</dcterms:modified>
  <cp:revision>4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20891069</vt:r8>
  </property>
  <property fmtid="{D5CDD505-2E9C-101B-9397-08002B2CF9AE}" pid="3" name="_AuthorEmail">
    <vt:lpwstr>Ana_Cordero@prenhall.com</vt:lpwstr>
  </property>
  <property fmtid="{D5CDD505-2E9C-101B-9397-08002B2CF9AE}" pid="4" name="_AuthorEmailDisplayName">
    <vt:lpwstr>Cordero, Ana</vt:lpwstr>
  </property>
  <property fmtid="{D5CDD505-2E9C-101B-9397-08002B2CF9AE}" pid="5" name="_EmailSubject">
    <vt:lpwstr>Laudon PPTs</vt:lpwstr>
  </property>
</Properties>
</file>