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4B6D-66EA-498E-AEA6-6203604C2F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2573-8B7A-4297-9F7A-5C94011DF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A8D9-5125-41BC-B63D-716DE2EBC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E5B4-FD0A-4D67-A839-E2B775F05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E886-69EA-459C-8D4E-B005325DE2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39B0-7025-414F-A2A8-04FB26BC7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094D-29D0-45CF-A661-AF3AFB0AED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7343-0239-44C3-889A-852DF4564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DF17-EB01-4B06-8557-DBAE8BB27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D758-ED13-4B1D-96A1-EB5100C61E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07E5-BDC2-4E98-989E-7B9330DFDF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F7DD-081D-4F4D-A684-FE5ED5828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23B7-2D57-482C-ABE5-79C5D0A3B2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E4FC-25A7-4625-AFBB-41A22D953F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0224-4559-4B8A-98E8-89DF06A2A5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D1E9-874F-4A01-A853-90323159F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3395-692B-4D05-A69D-FCC9509C5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083F-A386-48BC-AF0C-C9A8049A9B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87EE-638E-45AC-B844-1527851F3A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0946-281F-4CBD-9CCC-175D259C82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1EEF-D60C-4490-BFA4-741D9C0E4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2A56-9490-4AF1-A137-EC1670FC1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494C-803A-419F-B2A6-DE3331721E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59AC-9099-4D06-9B5E-5E2A2D5A1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A84D-11BB-4A23-BDAF-355BE1F6BF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2F65-AAC3-4F91-9EE4-3F688FDAA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DEF5-21D0-4048-9C9A-C0BA24E25F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B162-CEDF-42C5-B01B-EEBA0AB811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955A-A418-400E-9C67-042938492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A81A-14B3-403E-AF1E-14CA3A4CE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D718-97FB-4CD5-A3E3-60D67F866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BB17-43E5-4582-A83B-3CEC00015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7188-8F80-453A-9F94-88974FECA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3AED-4A05-4DC4-9380-A9FCB836B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97CC-DFB3-40D5-B351-8557C0741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FA13-F2D2-4D51-99F9-4D8BB08C9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83CC-611A-4314-B4CB-14EC58740B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ADEA-3E30-49AB-955A-322C96883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647E-4B39-4779-A6B6-8306A21EE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D589-1EC1-4701-9393-C208FDD2C0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98D7-EC9F-40A1-AE83-3AFE9ABEC9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F3CC-A54B-4DCB-8A8E-4B1A097770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107F-4F76-408C-B92A-7A45359065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D245-6053-4B1B-BAD4-8C4F5E30F3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13A3-A7AC-40A0-B6A3-15971FC40E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8727-29CE-41BD-8451-1A95246433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A7A8-B700-4434-A0B8-E92DE2293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8E20-328F-423A-9B9E-8FA28E00D2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0EFB-8A52-464C-88A8-C56F92631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222FF9B4-AFA0-4CF2-96D0-312BB7AB17F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03Z</dcterms:modified>
  <cp:revision>364</cp:revision>
  <dc:subject/>
  <dc:title>PowerPoint Presentation</dc:title>
</cp:coreProperties>
</file>