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39C9-04EC-43E8-BE40-2C21881904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463B-ABC7-48FA-A6A6-03E7C14ED4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2CE7-FE7B-4737-98F6-900F81BD4B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C111-2E94-48FB-813B-13F895D64C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0020-6DF3-47F0-A712-3DF72D3C94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C46E-74BC-4186-AA53-71C3084C14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056A-8D1E-48B8-8584-F296DCFB1D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6333-58CD-4AA1-91B3-F4DB2276C9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B495-9C34-484B-BE06-D44511FE7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E3AE-6136-4B0B-A812-99F14F01C4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1A6D-7799-4776-A2A2-8869DBA6BB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7252-1218-4A45-9C91-6D9DA985AE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7DC4-38D2-46E2-AE8E-D82783F1C5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575E-E547-4BFA-8C26-323734A0E3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1CDE-C4CE-44DD-B158-F358AB8267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C0AE-57F7-41B6-AC25-8B2E8A7344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DA8F-5F05-4359-8D04-7C9116C328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B27A-FEFF-486A-A9A3-B423AA5555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4468-3AEA-435D-BE96-D7A0672EF7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4CF4-D505-4F45-8619-B2BCB2369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3CB5-CAB4-4985-87C0-72D44D4794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309E-AE01-4705-BD43-E92811664A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79A0-78D6-4864-96B8-805D7B4E17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C745-A9A9-49EF-B58C-D64B86B2FE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7A88-F2F1-4D79-98AB-4981185700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DE57-89B9-4DDE-B1F4-9AA8C47185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7A2A-1FA9-4033-95CE-0FDF375376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18FB-D171-4177-B9C3-4F719F71F3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2003-76C6-4857-B20D-91AE227A70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355A-2690-44A5-8C29-511CBA92A2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BD90-4365-43F4-8F35-CC4462A10D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ADC0-177A-4F0E-A2AD-7006502A59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FD6C-038B-462A-8083-8619108DD5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B523-DBB9-41B9-BFD3-AF33CFC3E3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989B-1FAA-41F0-8C6C-B966C7BDF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2807-A056-471A-A0FB-F44574C8FC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2F60-47D4-4EF9-B60B-407BD5505B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6739-5783-4A86-8AB8-CA1C1AE290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DDDF-BAB2-4D63-B334-7156A93DC3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E69E4ADB-E905-4BE1-A499-120A88F2F39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192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5:19Z</dcterms:modified>
  <cp:revision>837</cp:revision>
  <dc:subject/>
  <dc:title>PowerPoint Presentation</dc:title>
</cp:coreProperties>
</file>