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13E2-C597-4AF5-8A69-5D3E4905DA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3212-1D69-44C0-9122-2440FD07C9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9343-D174-4728-A28C-ECB596F37F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5123-54CF-489A-8545-4669C46A5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69920-A6CF-419B-9868-902127A1EB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772C-EDC9-4FF1-9CDF-82447AB70A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AD42-0877-4656-9093-10CD088F13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89F4-335D-4AAD-BE03-BD7F2EADAB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DA50-CC6E-4ACF-A207-6C205562BF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E4DA7-CA7D-4698-9DFE-D8E325C2A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B299-AAB5-43B6-8FDF-C1B74423F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D6350-4E80-4F41-9D32-8070E91A5D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89609-D01A-446C-97CC-231E36B661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E70A-AE73-4E23-8D51-AEEAF85D2B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C781-FDF2-426F-8248-5618EDBABA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F6E7-FC41-4ED4-B360-F63D9FFD74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DA6F-F560-4F12-8737-D20E8E9E92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712B-9496-449F-818C-C48893A49F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806A-DCDE-4787-8FAB-1D4DC1B4C5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0A6B-2B30-495A-A9D2-F35E6046A8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2E1C-DFD4-4FB6-8063-FF707FC78A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962C-3FAA-408E-B52A-A9EF12C770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55BD-53AF-46BD-9907-9C3B06894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46E5-86C2-470F-B727-449C8A01FD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0308-D8E4-4688-9977-477E8E72B5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CA8DE-0CFA-482D-A08B-33BE762A58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CCA0-5A08-4736-B72E-910A614B8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C002-27B1-4E45-8DBC-EAA58DFF8C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4857-D192-4D2D-95F9-BD95253458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882B-C9E7-4F95-88C3-9B2C8A0CE6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40B2-08B2-4724-837C-B9745F2690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170A-A981-4542-A4AF-DA8B338934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5CF30-143C-41A2-BFDE-012F4DC69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6CBF-22E6-4CF9-93DA-8695ADDC08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8BEE-A8F8-4C91-A1C9-93C62297FC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1343B-B041-414B-92A4-418C27F8F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60F4-BE00-40EF-9AF5-6BE268C8E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CB9C-AA3E-4425-8A44-A437BD1781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B8F92-A39E-4DC6-B201-99C38169F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425B8697-9E72-40E9-828F-6C34FA4809C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1"/>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1"/>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1"/>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99192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1"/>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1"/>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p:cNvSpPr/>
          <p:nvPr/>
        </p:nvSpPr>
        <p:spPr>
          <a:xfrm>
            <a:off x="385812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1"/>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38509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1"/>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19Z</dcterms:modified>
  <cp:revision>837</cp:revision>
  <dc:subject/>
  <dc:title>PowerPoint Presentation</dc:title>
</cp:coreProperties>
</file>