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229D-595D-4294-A595-74C5B29B52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DA90-7E78-436D-86B9-C36DC79C40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A430-0771-4941-AA35-81957A4332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E40A-B170-4927-93DE-A298B8C3AD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703A-B062-4AE9-9146-A97A1ECCCE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0600-795A-4457-88A0-B95D83B691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B543-CFC5-49AB-ACAE-7800D26B7A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660A-1836-4BA9-819A-D27CBB4389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18CD-B05B-4DF8-B793-39FFAB5BC5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3C58-154F-46B4-8BF0-9E23A370F7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3901-9985-4507-B300-990802A1DA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798C-89C6-4C99-9B59-79237BA3DD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5042-23CF-411E-832E-28B722911D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627C-D301-49F0-830A-A8A769998A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671F-58C6-4F54-B441-AF608E3983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46BA-5236-4533-A67A-37C393AD2F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CACC-F0E8-4C9A-BBBF-D0FECCC923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ED5B-2E36-429B-8988-F4E07C9F55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6A57-0D91-4E5E-B40E-C812B75D6D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4FCE-7708-461E-8834-415778AA34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1805-0F7F-4445-A968-4B414F4673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F56B-13FA-47E3-9920-B24F11C35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422E-DDCE-4642-BDD8-94F983CB4F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F410-AF2C-476F-BCEB-3B05B5683D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4306-E5A0-4FEC-9E68-88BF28E648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04C3-8BAD-4205-83C2-3F5ED533D6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18A0-8437-4C2E-B38B-6359E662D5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B7A9-ED1C-4CCD-B353-32504491EA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08B4-B43A-46A1-9468-265045798A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28AE-BC0F-4927-8EB6-B804F04E39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8DAD-8F21-4F85-AD6F-F1FC4CBD17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7191-AF08-494F-A406-EAFD7E7E6B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FFE4-378F-4C6E-B2FA-D8C37A4BC7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301D-65F3-4921-AF94-65ECA3918A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8380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D67F-7B30-441B-8342-0C7FCEE304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1395-604D-4698-B8AC-281D459F90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39C0-2AE7-42C5-ACC1-849D644E08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806F-34F8-41AD-9251-237C64679E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8B5E-F3FD-4860-8015-0DC42AF29B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E568-1DA4-42B0-B67F-84176B6DDC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112B-5669-4BEF-B883-60BBD6BF9F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F08E-51AF-4EBB-865F-9915528CDA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934C-441E-4E1D-ABF4-6630731770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1B20-EE3F-4A4B-B561-E3865DBD8B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FEA2-E4C3-4D23-AD3C-9D0E7DE2A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D6BDF411-29D1-410B-B7DD-6872F125E538}"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5:42Z</dcterms:modified>
  <cp:revision>545</cp:revision>
  <dc:subject/>
  <dc:title>PowerPoint Presentation</dc:title>
</cp:coreProperties>
</file>