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08B6-1495-4B49-825A-FA53F636D0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618E-6464-4EB3-A3C2-50BC10D10E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0ECD-0A96-4FBF-8C81-8265CB4503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F5DD-8E16-4902-9771-71B168521F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EB07-C2ED-4E2B-B402-D7DA24BC8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0C95-9D99-4FB7-85E2-C9ED2CF0FB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DD5B-E1C0-46C5-8B37-1310E3CD18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DFA1-1ED1-4230-89F4-554C4807ED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CEC6-D0CF-4C96-9AD7-8E12002D45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FF41-ED8B-4A92-9625-3FDFA0D62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BC8B-959B-4CAD-9EF0-6BA83DE64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320D-60BF-4FD4-9232-B7CD0203E8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5009-0103-4A8E-82DA-0B372F0738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36A79-C980-4A11-864D-7027A8221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ABFF0-7FC4-4C43-930B-A8DCADB614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0783-E3EB-4CB3-B71D-72340461E0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E44E-1F7D-460F-BFCF-861C7B8313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5F9D-CB7A-4B43-A296-D43AD971E1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B7E1-F037-45B4-9D42-D33D2B0E36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C5DC-68EC-4AFD-A708-250F22AC62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D1C6-A455-47F4-9475-C051D56B1A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5279-82DA-4342-98C0-F56A3B3E4B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AF22-349E-40B4-AEEE-ABC6EA2B50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3BE5-3250-496E-A8BD-BA151B294F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FCA6-E89F-4D87-B464-38B986E71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47BC-C94C-430A-A335-8EAB48328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AAB1F-234F-4FC0-9D08-68EBD6983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4628-421C-4F2E-A120-1FE1F4B491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A7AB-9B3A-49E1-ACA8-7D197CC350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F254-B05B-4690-AF4F-469085DFC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78885-8C85-4D5B-803F-558D2A9631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1EF8-1969-493C-8ABA-BFE621115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4190B-2EF7-4BB7-80B5-D11A3574A3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785A-BF00-4464-8704-609D8D109D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1A58-ACFE-49CD-BA9C-F1837F9A65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CF11-CD8E-4D1F-B241-381D98C830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3F04-D085-4C46-AFDF-0534E0CD0B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7813-2171-4E2C-8CAF-7E3AFCA08A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358C-5F80-4763-AD34-93F08BCC1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7718-980A-4D4B-AAC8-9A7CE132E0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C9F6-E9B1-4B53-AC82-F907CFFF49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617F-BF71-496E-A314-A442FEA6C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3151-CEA9-41A4-91CF-5AD57EDCE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6FE8-72F0-46CE-A1BB-667A828BAF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5A5F-7DFD-4A23-B028-62C8F14AFD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BF08235F-B251-4B57-978F-C80A752EC45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1"/>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1"/>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6:09Z</dcterms:modified>
  <cp:revision>504</cp:revision>
  <dc:subject/>
  <dc:title>PowerPoint Presentation</dc:title>
</cp:coreProperties>
</file>